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B3C-B147-4EE9-9CA6-1CFCFE61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008-37BC-4DA3-A6A3-EDB9B0B7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9F5-B111-42D9-A25C-9CDD3FC2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E20-669D-4A14-8A76-C44289D1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3E03-4277-42A6-B49D-2FA6888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F919-1264-465A-84E0-17BE21CC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879F-A8F6-41AE-A4AA-35F1E9FA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74F4-CDD3-47A6-A207-0E48B8C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0F0E-F8DB-4B96-A9CD-26F719A8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C5E4-F9DA-4495-B04A-AC177C1B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670-48B8-4BA2-B838-16EDB4C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A46-2099-489C-BE07-888E3A1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AD17-0DD8-439C-9414-6CE76655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5A9D-019E-48FA-B76F-0D12ECD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DBFF-FE2E-4A83-95F5-2A76E39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94D-7750-4E5A-8E94-F7083A77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EB58-AD6C-476C-95F3-29963563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708E-027D-4D84-BCFE-B82EF7DC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E9A2-C571-4138-971F-17E0A14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1C5D-349D-4B8F-94B0-477122A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F539-34F3-47FB-9E2A-F1F084A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E25E-E120-439C-8404-AE4EC65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7DD-BDAC-45B3-AE29-81DC538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7CDD-BD51-4079-88B5-897F536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A96D-A3D4-4700-B340-3870520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C59A-0410-4756-B58B-225BD52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6CA6-69CD-43F1-A4FF-4BDFBC9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AD2A-BBF6-4316-89FC-64EA40DF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A663-96EB-41C4-9D48-AAF34E4D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3956-4961-40EE-B53C-D5D0FD76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A03A-564E-46B5-B905-22915546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A0F3-9992-433A-9291-7BB537E5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1181-E4AE-46F8-9E4F-EB0BB7EF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A21-E24B-4072-B4F3-623AE588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913A-2BA5-4BE0-9583-7BA86B4C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029F-912B-4BC5-A124-6D3B220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CFD0-A5E5-48E2-B19A-75AAD91A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E667-6C83-4576-B61D-FD8D6918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5759-B3A4-43B1-82D5-85386C8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B96A-DD1F-4F77-9724-3A78432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DA10-A5B9-4F6D-A742-B68D2CBB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F8C1-C5D0-407A-B4E0-4C363BCE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73247-846C-42AD-84B1-2C718486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319-7B8C-4444-A85F-0B376F50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842-4CB4-4DFE-9D95-AC7183E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F60-4302-4E80-8302-464860C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7EC-C7B7-4161-9035-89E1164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3C1-B9F7-4DCF-ABC0-8997EC9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8530-A9B4-4F45-9255-5D21EC759570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DF6-7448-4BEB-B48C-1EADBCF00E83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2852-7627-4D76-9F4A-E22994F21143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ECD-2E6A-4D95-95C5-6B9E3A5955A9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67880" y="406440"/>
            <a:ext cx="569592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Gene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2860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Huntington’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هنتنغت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28600" y="91440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’s disease is caused by a mutation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HD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D gene is locat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n chromoso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dominant lethal allele has no obvious phenotypic effect until an individual is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is an inherited condition that damages nerve cells in the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results in an losing of both mental and physic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minant trai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سائد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escribes a trait that is expressed when only one copy of the allele is present in the genotyp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م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cribes a trait that is masked by the dominant trait and is only expressed in the homozygous condi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utosom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وموسوم الجسد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y chromosome that is not a sex chromoso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umans hav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ir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air of sex chromosomes (the X and Y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dominant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, but i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rri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م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ummary of the human genet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960" y="1352160"/>
            <a:ext cx="883908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istics focused on onl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singl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onohybrid cross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الصف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 also analyzed the inheritance pattern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wo trai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the same time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For example, he examined plants that differed in both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ir pe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cross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ou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ith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rinkl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He founds tha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</a:t>
            </a:r>
            <a:r>
              <a:rPr b="0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un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wrinkle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9384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econd: The 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rcRect l="0" t="1823" r="2064" b="5287"/>
          <a:stretch/>
        </p:blipFill>
        <p:spPr>
          <a:xfrm>
            <a:off x="4724280" y="1523880"/>
            <a:ext cx="4300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tangle 2"/>
          <p:cNvSpPr/>
          <p:nvPr/>
        </p:nvSpPr>
        <p:spPr>
          <a:xfrm>
            <a:off x="101520" y="1066680"/>
            <a:ext cx="454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a mat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زاو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two parent plant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different in tw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pairs of alleles segregate independently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hen the F1 plants were self-fertilized, they produced an F2 generation of plants that had all fou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henotypic ratio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9:3:3:1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two seed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green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green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28600" y="1828440"/>
            <a:ext cx="847080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عتلالات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راث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ع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deadly genetic diseas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ية المُ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 tra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ُتنح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one “normal” allele produces enough of the required factors (for normal trai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omozygous 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carriers have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having a child with the disord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a carrier,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fre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ssive genetic disorders includ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binis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stic fibr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يس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ay-Sachs dise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ickle cell anemia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Genetic disorders in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) Recessive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متن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" y="380880"/>
            <a:ext cx="289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lbinism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914040"/>
            <a:ext cx="5715000" cy="31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X-linked recessive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مرتبط بكروموسوم اك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melanin pigme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بغة الميلاني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k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results from inherita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 alle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caused by an alteration of the gene that make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lan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ig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associated with 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ؤ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blems and skin canc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رطان الجل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DSC00192.JPG"/>
          <p:cNvPicPr/>
          <p:nvPr/>
        </p:nvPicPr>
        <p:blipFill>
          <a:blip r:embed="rId1"/>
          <a:srcRect l="0" t="10284" r="50004" b="0"/>
          <a:stretch/>
        </p:blipFill>
        <p:spPr>
          <a:xfrm>
            <a:off x="6066000" y="380880"/>
            <a:ext cx="3001680" cy="3729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286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ystic Fibrosi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 الكي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28600" y="449568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,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ocated i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prese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muta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both copies of the gene for the protein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stic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brosi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ransmembra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ductanc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gulator (CFT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FTR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rol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hlorid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on movement in and out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affects mostl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ut also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ancre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iv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kidney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out treatment, affected childr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i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efore five, but with treatment can live betwe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"/>
          <p:cNvPicPr/>
          <p:nvPr/>
        </p:nvPicPr>
        <p:blipFill>
          <a:blip r:embed="rId1"/>
          <a:srcRect l="0" t="2604" r="0" b="4184"/>
          <a:stretch/>
        </p:blipFill>
        <p:spPr>
          <a:xfrm>
            <a:off x="1574640" y="1065240"/>
            <a:ext cx="5969160" cy="55641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9" name="Line 6"/>
          <p:cNvSpPr/>
          <p:nvPr/>
        </p:nvSpPr>
        <p:spPr>
          <a:xfrm>
            <a:off x="393840" y="8380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nstantia"/>
                <a:ea typeface="Arial"/>
              </a:rPr>
              <a:t>Cystic fibrosis is inherited in the autosomal recessive patt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228600" y="380880"/>
            <a:ext cx="708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3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y-Sach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 أو البله المم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28600" y="91440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ay–Sachs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EXA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tation of HEXA gene leads to accumulate lipids in the brain's nerve cells leading to the death of the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symptom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عراض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gin with seizur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,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بة عص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lindnes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mental and physical disabiliti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عاقة عقلية وج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x months after birth and usually results in death by the age of f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3438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4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Sickle-cell anem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 </a:t>
            </a:r>
            <a:r>
              <a:rPr b="0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8600" y="392580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ckle cell anemia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BB ge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يموجلوبين بيت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substitu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ستبدال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a single amino acid in hemoglob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sickle-cell anemia have abnormal hemoglobin in their red bloo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emoglobin is a protein that carries oxygen throughout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octors can use regular blood transfus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قل الد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prevent brain damage and new drugs to prevent or treat other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324000" y="287280"/>
            <a:ext cx="8591400" cy="6356520"/>
            <a:chOff x="324000" y="287280"/>
            <a:chExt cx="8591400" cy="63565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rcRect l="2409" t="24416" r="3662" b="4466"/>
            <a:stretch/>
          </p:blipFill>
          <p:spPr>
            <a:xfrm>
              <a:off x="2819880" y="898920"/>
              <a:ext cx="6095520" cy="504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Group 4"/>
            <p:cNvGrpSpPr/>
            <p:nvPr/>
          </p:nvGrpSpPr>
          <p:grpSpPr>
            <a:xfrm>
              <a:off x="324000" y="287280"/>
              <a:ext cx="2343600" cy="6356520"/>
              <a:chOff x="324000" y="287280"/>
              <a:chExt cx="2343600" cy="6356520"/>
            </a:xfrm>
          </p:grpSpPr>
          <p:pic>
            <p:nvPicPr>
              <p:cNvPr id="230" name="Picture 6" descr="http://img.medscapestatic.com/pi/meds/ckb/10/36710.jpg"/>
              <p:cNvPicPr/>
              <p:nvPr/>
            </p:nvPicPr>
            <p:blipFill>
              <a:blip r:embed="rId2"/>
              <a:srcRect l="6268" t="1739" r="8076" b="47197"/>
              <a:stretch/>
            </p:blipFill>
            <p:spPr>
              <a:xfrm>
                <a:off x="337320" y="287280"/>
                <a:ext cx="2330280" cy="4361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31" name="Picture 12" descr="https://oncofertility.northwestern.edu/sites/oncofertility.northwestern.edu/files/sca01.jpg"/>
              <p:cNvPicPr/>
              <p:nvPr/>
            </p:nvPicPr>
            <p:blipFill>
              <a:blip r:embed="rId3"/>
              <a:stretch/>
            </p:blipFill>
            <p:spPr>
              <a:xfrm>
                <a:off x="324000" y="4648680"/>
                <a:ext cx="2343600" cy="199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40840" y="3047760"/>
            <a:ext cx="539748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just"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individuals have the dwarf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ز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enoty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thal dominant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سائدة المميت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uch less comm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قل شيوعاً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an lethal recessives, because if a lethal dominant kills an offspring before it can mature and reproduce, the allele will not be passed on future generat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جيال المستقب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) Dominant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سائ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144792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chondroplasia is caused by a mutation in fibroblast growth factor recept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GFR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gene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achondroplasia have short statu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صر القا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with a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ult heigh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male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8600" y="9237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chondroplas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ز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www.whatcausesthis.com/wp-content/uploads/2011/11/dwarfism1.jpg"/>
          <p:cNvPicPr/>
          <p:nvPr/>
        </p:nvPicPr>
        <p:blipFill>
          <a:blip r:embed="rId1"/>
          <a:stretch/>
        </p:blipFill>
        <p:spPr>
          <a:xfrm>
            <a:off x="5867280" y="3048120"/>
            <a:ext cx="3127320" cy="368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Dell</cp:lastModifiedBy>
  <dcterms:modified xsi:type="dcterms:W3CDTF">2015-10-10T08:26:22Z</dcterms:modified>
  <cp:revision>314</cp:revision>
  <dc:subject/>
  <dc:title>Slide 1</dc:title>
</cp:coreProperties>
</file>