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385-A98E-4E96-82F1-26C8582B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231-9AC5-487E-8AED-D4A962C7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2EF-8357-41EC-8931-4322EB45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1BC-8CA2-4B95-92B8-7332E7C2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293F-1123-4470-8076-0F4CF447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B490-6A92-4CE4-941D-E628A9F2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D681-B3D8-41C8-BE03-9DE4B9CC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5710-4373-441E-814C-6303D697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4114-14AA-438B-905A-B78EB530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5D68-B9A6-4FA0-ABDA-81F551BF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24DE-E925-419F-80D7-31EC2052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605-E517-47D3-9829-9ABD9AF0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A81E-E66D-4A9D-BCA6-5673D0E1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F0CF-7F94-470C-A899-27ECDA66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2900-4D16-4484-89F5-5EB435D1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2DFB-8EBC-4B20-B476-D5EA2ABC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6C56-0977-40D8-932C-042209F2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9CED-8A20-4AEA-99DB-9B84CA55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BEA7-C0CE-4A27-9A16-EFB9C6C1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FCAD-0628-40EE-BA75-01B73104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D11B-685C-438E-9C43-60BDD203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A83CF-BD2F-488D-9504-C7CC334A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F13-67D8-4CF4-8E3A-4FFA87ED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695F-AED0-4470-AD9C-25EE9B33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C4A7-6ABC-44A6-9D83-308952C2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8B3C-6E8F-4691-B60E-819837F2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DE04-1260-4135-9878-80730255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48EE-4015-4EE1-B1C9-0C2EDCCF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F16C-27E5-49A0-AD90-47292681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D1D52-15E0-4512-897E-128BA1CE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EC899-4969-461D-863D-BBB01BED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2CBF-BADF-4214-8ABB-5780F8D2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F561-68CE-4580-AA39-D06BD8B1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C10-2012-4ADE-98F4-7FD8F56D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5819-F4AC-4EBE-AD32-C1F254FC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A9F67-03BD-4372-B560-DB7C1E12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08DE-C72C-4A83-B748-E7E652F2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8B044-05E2-4423-8209-E09481D1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A38F-D4C1-44C2-88C8-3D55BB4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B568-9164-4664-A021-9BAA61C4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A2E3D-DC81-46C9-A521-4AE33C47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2DD10-20D3-44FA-AEC4-C365C4A2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CBCD-1041-4956-9A0D-CF5D8AC9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17E-3477-47B8-8A0F-D306D1B6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B33-A908-4A9B-9D6D-9AF91835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77B-2FE9-4FB4-8DE7-46A57FD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009-8C95-4F86-A933-3F61545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96D-0F8B-4862-ACF1-94C859E5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0FD6-C3B3-473E-AE4F-D3A7D67D1FFC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5E5A-0CE1-4FEA-A278-7A66B833B23D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3A70-92D5-4F69-840E-2B43597D6093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033E-2ABF-435A-AB29-56BDFEDC6C47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9"/>
          <p:cNvSpPr/>
          <p:nvPr/>
        </p:nvSpPr>
        <p:spPr>
          <a:xfrm>
            <a:off x="1905120" y="1523880"/>
            <a:ext cx="5257800" cy="947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667880" y="406440"/>
            <a:ext cx="569592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Gene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584280" y="2435400"/>
            <a:ext cx="7950240" cy="4270320"/>
            <a:chOff x="584280" y="2435400"/>
            <a:chExt cx="7950240" cy="4270320"/>
          </a:xfrm>
        </p:grpSpPr>
        <p:pic>
          <p:nvPicPr>
            <p:cNvPr id="198" name="Picture 18" descr=""/>
            <p:cNvPicPr/>
            <p:nvPr/>
          </p:nvPicPr>
          <p:blipFill>
            <a:blip r:embed="rId1"/>
            <a:srcRect l="9192" t="0" r="0" b="0"/>
            <a:stretch/>
          </p:blipFill>
          <p:spPr>
            <a:xfrm>
              <a:off x="749160" y="3019320"/>
              <a:ext cx="4318920" cy="30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7"/>
            <p:cNvSpPr/>
            <p:nvPr/>
          </p:nvSpPr>
          <p:spPr>
            <a:xfrm>
              <a:off x="584280" y="2435400"/>
              <a:ext cx="7950240" cy="4270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027" descr="hyd8760x_0201"/>
            <p:cNvPicPr/>
            <p:nvPr/>
          </p:nvPicPr>
          <p:blipFill>
            <a:blip r:embed="rId2"/>
            <a:srcRect l="0" t="6984" r="0" b="2679"/>
            <a:stretch/>
          </p:blipFill>
          <p:spPr>
            <a:xfrm>
              <a:off x="5142240" y="2543400"/>
              <a:ext cx="3144600" cy="40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2860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2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Huntington’s diseas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هنتنغت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28600" y="91440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Autosomal dominan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’s disease is caused by a mutation in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HD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D gene is locate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n chromoso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dominant lethal allele has no obvious phenotypic effect until an individual is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's disease is an inherited condition that damages nerve cells in the b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's disease results in an losing of both mental and physical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5228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minant trai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صفة السائد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escribes a trait that is expressed when only one copy of the allele is present in the genotyp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cessive 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صفة المتنح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scribes a trait that is masked by the dominant trait and is only expressed in the homozygous conditio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utosom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روموسوم الجسد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y chromosome that is not a sex chromoso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umans hav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irs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air of sex chromosomes (the X and Y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enetic disorders caused by genes on autosomes are called autosomal disord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genetic disorders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al dominant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genetic disorders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, but is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arrie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امل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ummary of the human genet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960" y="1352160"/>
            <a:ext cx="8839080" cy="57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del’s experiments that followed the inheritance of flower color or other characteristics focused on onl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 singl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 vi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onohybrid cross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أحا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الصف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del also analyzed the inheritance pattern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wo trait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 the same time vi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 dihybrid cro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ثنائي الصف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For example, he examined plants that differed in both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ir pe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cross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lants that produc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rou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eds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ith plants that produc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rinkl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eeds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 He founds tha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nstantia"/>
              </a:rPr>
              <a:t>Yellow see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as dominant to </a:t>
            </a:r>
            <a:r>
              <a:rPr b="0" lang="en-US" sz="2400" spc="-1" strike="noStrike">
                <a:solidFill>
                  <a:srgbClr val="009900"/>
                </a:solidFill>
                <a:latin typeface="Constantia"/>
              </a:rPr>
              <a:t>green see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und seeds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as dominant to wrinkled seeds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39384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econd: The law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rcRect l="0" t="1823" r="2064" b="5287"/>
          <a:stretch/>
        </p:blipFill>
        <p:spPr>
          <a:xfrm>
            <a:off x="4724280" y="1523880"/>
            <a:ext cx="4300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Rectangle 2"/>
          <p:cNvSpPr/>
          <p:nvPr/>
        </p:nvSpPr>
        <p:spPr>
          <a:xfrm>
            <a:off x="101520" y="1066680"/>
            <a:ext cx="454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a mat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زاوج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tween two parent plant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different in tw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two pairs of alleles segregate independently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hen the F1 plants were self-fertilized, they produced an F2 generation of plants that had all fou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henotypic ratios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9:3:3:1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the two seed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yellow, roun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green, roun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yellow, wrinkle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green, wrinkle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Dihybrid cro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ثنائي الص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28600" y="1828440"/>
            <a:ext cx="847080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ousands of genetic disorder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عتلالات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راث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ncluding disabling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عاق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deadly genetic diseas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راض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راثية المُميت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are inherited as simpl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ecessive trait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ات مُتنحي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eterozygotes have a normal phenotyp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ecause one “normal” allele produces enough of the required factors (for normal trai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us, individuals who lack the disorder are eithe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omozygous 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eterozyg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terozygous member may have no clear phenotypic effects, but is a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arri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ho may transmit a recessive allele to their offspr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0000" indent="-270000" algn="just">
              <a:lnSpc>
                <a:spcPct val="12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carriers have 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hance of having a child with the disorder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50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hance of a carrier,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fre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0000" indent="-270000" algn="just">
              <a:lnSpc>
                <a:spcPct val="12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cessive genetic disorders includ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binis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هاق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stic fibro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ليف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يس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ay-Sachs diseas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تاي ساكس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ickle cell anemia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يمياء المجل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Genetic disorders in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) Recessive genetic disorder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عتلالات الوراثية المتنح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28600" y="380880"/>
            <a:ext cx="2895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1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lbinism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ه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240" y="914040"/>
            <a:ext cx="5715000" cy="31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X-linked recessive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مرتبط بكروموسوم اك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bsen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melanin pigmen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بغة الميلانين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i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k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results from inheritanc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ecessi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gene alle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is caused by an alteration of the gene that makes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lan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ig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is associated with vis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ؤ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blems and skin cance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رطان الجل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6" descr="DSC00192.JPG"/>
          <p:cNvPicPr/>
          <p:nvPr/>
        </p:nvPicPr>
        <p:blipFill>
          <a:blip r:embed="rId1"/>
          <a:srcRect l="0" t="10284" r="50004" b="0"/>
          <a:stretch/>
        </p:blipFill>
        <p:spPr>
          <a:xfrm>
            <a:off x="6066000" y="380880"/>
            <a:ext cx="3001680" cy="37292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22860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2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Cystic Fibrosi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ليف الكي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228600" y="449568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,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located i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caused by the presenc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mutatio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n both copies of the gene for the protein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stic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brosi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ransmembra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ductanc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gulator (CFT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FTR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trol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hlorid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on movement in and out of the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affects mostl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lung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but also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ancrea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liv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kidney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out treatment, affected childre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i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before five, but with treatment can live betwee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"/>
          <p:cNvPicPr/>
          <p:nvPr/>
        </p:nvPicPr>
        <p:blipFill>
          <a:blip r:embed="rId1"/>
          <a:srcRect l="0" t="2604" r="0" b="4184"/>
          <a:stretch/>
        </p:blipFill>
        <p:spPr>
          <a:xfrm>
            <a:off x="1574640" y="1065240"/>
            <a:ext cx="5969160" cy="55641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9" name="Line 6"/>
          <p:cNvSpPr/>
          <p:nvPr/>
        </p:nvSpPr>
        <p:spPr>
          <a:xfrm>
            <a:off x="393840" y="8380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nstantia"/>
                <a:ea typeface="Arial"/>
              </a:rPr>
              <a:t>Cystic fibrosis is inherited in the autosomal recessive patter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228600" y="380880"/>
            <a:ext cx="708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3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Tay-Sachs diseas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تاي ساكس أو البله المم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28600" y="91440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ay–Sachs results from mutations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EXA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utation of HEXA gene leads to accumulate lipids in the brain's nerve cells leading to the death of the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symptom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عراض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gin with seizur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,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وبة عصب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lindnes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م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mental and physical disabiliti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عاقة عقلية وجسد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ix months after birth and usually results in death by the age of fo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34383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4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Sickle-cell anemia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 </a:t>
            </a:r>
            <a:r>
              <a:rPr b="0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يمياء المج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28600" y="3925800"/>
            <a:ext cx="864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ickle cell anemia results from mutations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BB gen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يموجلوبين بيت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caused by the substitu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ستبدال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a single amino acid in hemoglob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eople with sickle-cell anemia have abnormal hemoglobin in their red bloo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emoglobin is a protein that carries oxygen throughout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Doctors can use regular blood transfusi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قل الدم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prevent brain damage and new drugs to prevent or treat other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5"/>
          <p:cNvGrpSpPr/>
          <p:nvPr/>
        </p:nvGrpSpPr>
        <p:grpSpPr>
          <a:xfrm>
            <a:off x="324000" y="287280"/>
            <a:ext cx="8591400" cy="6356520"/>
            <a:chOff x="324000" y="287280"/>
            <a:chExt cx="8591400" cy="63565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rcRect l="2409" t="24416" r="3662" b="4466"/>
            <a:stretch/>
          </p:blipFill>
          <p:spPr>
            <a:xfrm>
              <a:off x="2819880" y="898920"/>
              <a:ext cx="6095520" cy="504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Group 4"/>
            <p:cNvGrpSpPr/>
            <p:nvPr/>
          </p:nvGrpSpPr>
          <p:grpSpPr>
            <a:xfrm>
              <a:off x="324000" y="287280"/>
              <a:ext cx="2343600" cy="6356520"/>
              <a:chOff x="324000" y="287280"/>
              <a:chExt cx="2343600" cy="6356520"/>
            </a:xfrm>
          </p:grpSpPr>
          <p:pic>
            <p:nvPicPr>
              <p:cNvPr id="230" name="Picture 6" descr="http://img.medscapestatic.com/pi/meds/ckb/10/36710.jpg"/>
              <p:cNvPicPr/>
              <p:nvPr/>
            </p:nvPicPr>
            <p:blipFill>
              <a:blip r:embed="rId2"/>
              <a:srcRect l="6268" t="1739" r="8076" b="47197"/>
              <a:stretch/>
            </p:blipFill>
            <p:spPr>
              <a:xfrm>
                <a:off x="337320" y="287280"/>
                <a:ext cx="2330280" cy="4361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31" name="Picture 12" descr="https://oncofertility.northwestern.edu/sites/oncofertility.northwestern.edu/files/sca01.jpg"/>
              <p:cNvPicPr/>
              <p:nvPr/>
            </p:nvPicPr>
            <p:blipFill>
              <a:blip r:embed="rId3"/>
              <a:stretch/>
            </p:blipFill>
            <p:spPr>
              <a:xfrm>
                <a:off x="324000" y="4648680"/>
                <a:ext cx="2343600" cy="1995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40840" y="3047760"/>
            <a:ext cx="5397480" cy="28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70000" indent="-270000" algn="just"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terozygous individuals have the dwarf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زم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henotyp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thal dominant alle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سائدة المميت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uch less comm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قل شيوعاً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an lethal recessives, because if a lethal dominant kills an offspring before it can mature and reproduce, the allele will not be passed on future generati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جيال المستقبل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B) Dominant genetic disorder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عتلالات الوراثية السائ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28600" y="1447920"/>
            <a:ext cx="86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dominan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chondroplasia is caused by a mutation in fibroblast growth factor recepto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GFR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 gene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eople with achondroplasia have short statur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صر القام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with a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dult height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centimeters for male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centimeters for fe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28600" y="9237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1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chondroplasia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ز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http://www.whatcausesthis.com/wp-content/uploads/2011/11/dwarfism1.jpg"/>
          <p:cNvPicPr/>
          <p:nvPr/>
        </p:nvPicPr>
        <p:blipFill>
          <a:blip r:embed="rId1"/>
          <a:stretch/>
        </p:blipFill>
        <p:spPr>
          <a:xfrm>
            <a:off x="5867280" y="3048120"/>
            <a:ext cx="3127320" cy="368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Dell</cp:lastModifiedBy>
  <dcterms:modified xsi:type="dcterms:W3CDTF">2015-10-10T08:26:22Z</dcterms:modified>
  <cp:revision>314</cp:revision>
  <dc:subject/>
  <dc:title>Slide 1</dc:title>
</cp:coreProperties>
</file>