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ADC-D33E-4B4A-A845-CF3545DB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F01-2252-4278-BA8A-C9A4B5DA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5A1-202F-4864-98A6-5A229288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381-35F2-40DB-A625-74964853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1C8-2C24-435E-98AF-6BAF10A4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072-9546-4A7A-86FC-BE03531B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5C7-31B2-4DF6-A807-1BC01AB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ECC-A829-4802-8266-D108C60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9C1F-55C2-4982-B95E-03B9799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E5C0-87FC-43BC-A61C-AF940A57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4584-5BB6-44C1-8657-C7870A4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797-736E-4072-A5CA-CCD181F0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805-410A-45C0-BADD-E050B01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4ABB-9AFF-4A27-BC62-B8F33EE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D7BA-47D2-4ED9-B996-713560E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D98A-08FE-4DF6-A757-82C5A86D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35FA-84E1-44CD-9AF7-0026E27C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3DA3-FD4D-4F2C-99BF-CBE00E86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533D-E440-45C3-B6A6-1BF0808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8BBC-C041-4355-92CA-16C4D8E0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3247-9136-4A5E-8773-28F70C7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7210-DB1A-43EC-B328-915BC313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ECA-1F5C-4026-B52F-7752662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751D-A68F-4893-80FE-465DC657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6B1E-938D-4387-835B-0C582C5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61C8-EB6F-4248-BC71-AC205B2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D553-7B7B-4BFB-9F0F-6B6EA25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FCA5-9207-4F04-A00D-7E58C11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81C0-C15B-4932-B50A-BC6ECD3E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29B7-30C8-4FE4-A9F1-2DFDEE21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1B8C7-35FD-4908-938E-04A41056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C2D3-3444-4DBD-AA33-62F8C3B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181F-BEA7-4E9E-87C6-67671D7D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AC2-4E22-4178-87D6-7EB82221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8E3D5-1117-44F5-93FE-B9E19B3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3FBB-C5C8-40A0-A872-77FC7F3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F01B-2AD7-42B0-941F-5869010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0208-04B0-4EEA-8F39-FCAF163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7C1E-EEBD-4CE3-8CCF-F390A394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1BB5-9E92-4459-8B48-8511CD2B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3245-9A57-489F-A25F-16835BDC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0495-E11F-4B1F-86BA-0086FB11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AA37-567E-4A04-AD12-25EC21A9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8FC-155A-43B0-951D-6A751B5F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249-273A-4576-B92D-F05CCBE6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B55-6CF3-44DC-B73D-4C99821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029-851F-4D31-8710-B825A6A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032-9005-471E-A203-D12C3BC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8BB-3B61-4084-A4EF-F55977388D28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7A43-86A8-4E04-AE30-62AAA93604B1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11D-F5FB-4D13-ACF7-FCB5C3E18159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981-77D3-42A0-BA3D-3BA342DD3BA9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67880" y="406440"/>
            <a:ext cx="569592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Gene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2860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Huntington’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هنتنغت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28600" y="91440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’s disease is caused by a mutation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HD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D gene is locat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n chromoso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dominant lethal allele has no obvious phenotypic effect until an individual is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is an inherited condition that damages nerve cells in the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results in an losing of both mental and physic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minant trai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سائد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escribes a trait that is expressed when only one copy of the allele is present in the genotyp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م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cribes a trait that is masked by the dominant trait and is only expressed in the homozygous condi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utosom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وموسوم الجسد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y chromosome that is not a sex chromoso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umans hav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ir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air of sex chromosomes (the X and Y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dominant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, but i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rri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م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ummary of the human genet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960" y="1352160"/>
            <a:ext cx="883908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istics focused on onl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singl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onohybrid cross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الصف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 also analyzed the inheritance pattern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wo trai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the same time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For example, he examined plants that differed in both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ir pe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cross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ou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ith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rinkl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He founds tha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</a:t>
            </a:r>
            <a:r>
              <a:rPr b="0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un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wrinkle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9384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econd: The 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rcRect l="0" t="1823" r="2064" b="5287"/>
          <a:stretch/>
        </p:blipFill>
        <p:spPr>
          <a:xfrm>
            <a:off x="4724280" y="1523880"/>
            <a:ext cx="4300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tangle 2"/>
          <p:cNvSpPr/>
          <p:nvPr/>
        </p:nvSpPr>
        <p:spPr>
          <a:xfrm>
            <a:off x="101520" y="1066680"/>
            <a:ext cx="454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a mat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زاو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two parent plant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different in tw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pairs of alleles segregate independently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hen the F1 plants were self-fertilized, they produced an F2 generation of plants that had all fou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henotypic ratio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9:3:3:1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two seed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green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green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28600" y="1828440"/>
            <a:ext cx="847080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عتلالات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راث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ع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deadly genetic diseas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ية المُ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 tra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ُتنح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one “normal” allele produces enough of the required factors (for normal trai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omozygous 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carriers have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having a child with the disord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a carrier,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fre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ssive genetic disorders includ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binis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stic fibr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يس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ay-Sachs dise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ickle cell anemia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Genetic disorders in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) Recessive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متن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" y="380880"/>
            <a:ext cx="289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lbinism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914040"/>
            <a:ext cx="5715000" cy="31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X-linked recessive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مرتبط بكروموسوم اك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melanin pigme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بغة الميلاني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k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results from inherita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 alle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caused by an alteration of the gene that make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lan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ig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associated with 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ؤ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blems and skin canc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رطان الجل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DSC00192.JPG"/>
          <p:cNvPicPr/>
          <p:nvPr/>
        </p:nvPicPr>
        <p:blipFill>
          <a:blip r:embed="rId1"/>
          <a:srcRect l="0" t="10284" r="50004" b="0"/>
          <a:stretch/>
        </p:blipFill>
        <p:spPr>
          <a:xfrm>
            <a:off x="6066000" y="380880"/>
            <a:ext cx="3001680" cy="3729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286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ystic Fibrosi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 الكي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28600" y="449568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,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ocated i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prese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muta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both copies of the gene for the protein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stic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brosi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ransmembra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ductanc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gulator (CFT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FTR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rol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hlorid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on movement in and out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affects mostl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ut also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ancre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iv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kidney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out treatment, affected childr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i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efore five, but with treatment can live betwe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"/>
          <p:cNvPicPr/>
          <p:nvPr/>
        </p:nvPicPr>
        <p:blipFill>
          <a:blip r:embed="rId1"/>
          <a:srcRect l="0" t="2604" r="0" b="4184"/>
          <a:stretch/>
        </p:blipFill>
        <p:spPr>
          <a:xfrm>
            <a:off x="1574640" y="1065240"/>
            <a:ext cx="5969160" cy="55641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9" name="Line 6"/>
          <p:cNvSpPr/>
          <p:nvPr/>
        </p:nvSpPr>
        <p:spPr>
          <a:xfrm>
            <a:off x="393840" y="8380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nstantia"/>
                <a:ea typeface="Arial"/>
              </a:rPr>
              <a:t>Cystic fibrosis is inherited in the autosomal recessive patt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228600" y="380880"/>
            <a:ext cx="708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3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y-Sach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 أو البله المم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28600" y="91440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ay–Sachs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EXA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tation of HEXA gene leads to accumulate lipids in the brain's nerve cells leading to the death of the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symptom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عراض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gin with seizur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,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بة عص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lindnes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mental and physical disabiliti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عاقة عقلية وج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x months after birth and usually results in death by the age of f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3438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4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Sickle-cell anem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 </a:t>
            </a:r>
            <a:r>
              <a:rPr b="0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8600" y="392580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ckle cell anemia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BB ge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يموجلوبين بيت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substitu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ستبدال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a single amino acid in hemoglob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sickle-cell anemia have abnormal hemoglobin in their red bloo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emoglobin is a protein that carries oxygen throughout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octors can use regular blood transfus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قل الد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prevent brain damage and new drugs to prevent or treat other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324000" y="287280"/>
            <a:ext cx="8591400" cy="6356520"/>
            <a:chOff x="324000" y="287280"/>
            <a:chExt cx="8591400" cy="63565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rcRect l="2409" t="24416" r="3662" b="4466"/>
            <a:stretch/>
          </p:blipFill>
          <p:spPr>
            <a:xfrm>
              <a:off x="2819880" y="898920"/>
              <a:ext cx="6095520" cy="504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Group 4"/>
            <p:cNvGrpSpPr/>
            <p:nvPr/>
          </p:nvGrpSpPr>
          <p:grpSpPr>
            <a:xfrm>
              <a:off x="324000" y="287280"/>
              <a:ext cx="2343600" cy="6356520"/>
              <a:chOff x="324000" y="287280"/>
              <a:chExt cx="2343600" cy="6356520"/>
            </a:xfrm>
          </p:grpSpPr>
          <p:pic>
            <p:nvPicPr>
              <p:cNvPr id="230" name="Picture 6" descr="http://img.medscapestatic.com/pi/meds/ckb/10/36710.jpg"/>
              <p:cNvPicPr/>
              <p:nvPr/>
            </p:nvPicPr>
            <p:blipFill>
              <a:blip r:embed="rId2"/>
              <a:srcRect l="6268" t="1739" r="8076" b="47197"/>
              <a:stretch/>
            </p:blipFill>
            <p:spPr>
              <a:xfrm>
                <a:off x="337320" y="287280"/>
                <a:ext cx="2330280" cy="4361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31" name="Picture 12" descr="https://oncofertility.northwestern.edu/sites/oncofertility.northwestern.edu/files/sca01.jpg"/>
              <p:cNvPicPr/>
              <p:nvPr/>
            </p:nvPicPr>
            <p:blipFill>
              <a:blip r:embed="rId3"/>
              <a:stretch/>
            </p:blipFill>
            <p:spPr>
              <a:xfrm>
                <a:off x="324000" y="4648680"/>
                <a:ext cx="2343600" cy="199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40840" y="3047760"/>
            <a:ext cx="539748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just"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individuals have the dwarf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ز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enoty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thal dominant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سائدة المميت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uch less comm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قل شيوعاً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an lethal recessives, because if a lethal dominant kills an offspring before it can mature and reproduce, the allele will not be passed on future generat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جيال المستقب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) Dominant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سائ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144792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chondroplasia is caused by a mutation in fibroblast growth factor recept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GFR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gene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achondroplasia have short statu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صر القا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with a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ult heigh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male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8600" y="9237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chondroplas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ز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www.whatcausesthis.com/wp-content/uploads/2011/11/dwarfism1.jpg"/>
          <p:cNvPicPr/>
          <p:nvPr/>
        </p:nvPicPr>
        <p:blipFill>
          <a:blip r:embed="rId1"/>
          <a:stretch/>
        </p:blipFill>
        <p:spPr>
          <a:xfrm>
            <a:off x="5867280" y="3048120"/>
            <a:ext cx="3127320" cy="368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Mohammed Albeshr</cp:lastModifiedBy>
  <dcterms:modified xsi:type="dcterms:W3CDTF">2017-10-23T17:35:14Z</dcterms:modified>
  <cp:revision>314</cp:revision>
  <dc:subject/>
  <dc:title>Slide 1</dc:title>
</cp:coreProperties>
</file>