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D70-D3EC-4241-9FE5-0FA06838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A1D-F49A-453B-885C-FFC67606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99E-5407-46F6-9BE7-3A09C095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8F4-C7F2-42BB-B649-572352BA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8D76-8085-4FEA-A53F-2D2F79F0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6C4A-41C6-4AE2-BE03-471CE093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3BF5-3C7B-4B78-90D4-974A1E87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0054-8E05-46DA-8CA0-5D7E1F71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828C-1D35-4A25-B101-6C801F01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2D8D-3DF1-4D3B-BB17-3DBBB659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B960-4C06-45F1-B870-CB986F7F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3FD-393F-4593-A677-F1989FCF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6BC8-32BF-4F24-8142-AB8DBB92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56B4-792B-44F6-ACF9-838DC4E2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FD04-6F68-455F-99F1-BC0D59FD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FE6E-0E38-4714-95C4-AFE38013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E1B1-9D59-4E37-8D49-2AD04018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70A6-585F-4446-A61C-B2710DCD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3A2B-D4E9-46C1-B4D4-721DA413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AF1B3-CABD-4CFD-8CE2-08009123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DC05-18C7-4C70-8146-1A85D7EC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D303-575A-4D3F-85D3-BB80D9C9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C90-228A-4C95-A667-AA5C65AD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FB81-4B19-49D0-A901-792EEE47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FB8C-CEE0-407B-813B-6ECAA73B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F2E94-85EE-4D8A-AED6-7D780E41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A4CD3-72F5-4A3A-8C23-76A3AFB1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069F-AFA0-4216-8C36-7A549CF5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B369-5065-455B-A5F9-19C255DB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F90E-C8D1-41A8-811A-EFEB6804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DC1A5-267A-4568-8228-928EE803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15058-4F12-4DB6-AF5A-4D580802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EA8C-3903-419F-99FE-CA3C461D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A27-94E3-4BD0-AE58-95EBCB95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A6A02-0B68-4B0C-9BAF-49D06268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018C-18B5-4E5D-8A8F-F8C30E1B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248A-5EBC-4038-AA7E-B5B72E68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05A83-E446-48DA-B06F-E3704603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FBC3A-2C5F-4809-A05D-324D3EF2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6965-A730-4982-BC2A-631A8CF1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45E9A-8CAD-47BA-ADAB-134219DF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8710-B888-484E-A3BE-A7E7CBB3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2E07-D3FD-4796-B631-6CB1C0D0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72F-BA12-4E8C-B987-7D8D5CA7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D2F-6183-4D7B-ADAA-2F9B2109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078-78A0-4A62-8E9D-B9E6A0DD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C4B-A3DE-46D1-977B-5A97CAF6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F8E-F885-415D-8EB4-DDE1102D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C2DF-685B-444D-98BF-68452AB68E40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BF77-65CB-4757-8A84-047A32CEC257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63FD-E10B-4710-8AC9-C31B12622683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ED7C-1076-41B7-8B33-0B8F992E23B6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9"/>
          <p:cNvSpPr/>
          <p:nvPr/>
        </p:nvSpPr>
        <p:spPr>
          <a:xfrm>
            <a:off x="1905120" y="1523880"/>
            <a:ext cx="5257800" cy="947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667880" y="406440"/>
            <a:ext cx="5695920" cy="764280"/>
          </a:xfrm>
          <a:prstGeom prst="rect">
            <a:avLst/>
          </a:prstGeom>
          <a:solidFill>
            <a:srgbClr val="b3e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Lectu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: Gene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584280" y="2435400"/>
            <a:ext cx="7950240" cy="4270320"/>
            <a:chOff x="584280" y="2435400"/>
            <a:chExt cx="7950240" cy="4270320"/>
          </a:xfrm>
        </p:grpSpPr>
        <p:pic>
          <p:nvPicPr>
            <p:cNvPr id="198" name="Picture 18" descr=""/>
            <p:cNvPicPr/>
            <p:nvPr/>
          </p:nvPicPr>
          <p:blipFill>
            <a:blip r:embed="rId1"/>
            <a:srcRect l="9192" t="0" r="0" b="0"/>
            <a:stretch/>
          </p:blipFill>
          <p:spPr>
            <a:xfrm>
              <a:off x="749160" y="3019320"/>
              <a:ext cx="4318920" cy="30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7"/>
            <p:cNvSpPr/>
            <p:nvPr/>
          </p:nvSpPr>
          <p:spPr>
            <a:xfrm>
              <a:off x="584280" y="2435400"/>
              <a:ext cx="7950240" cy="42703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027" descr="hyd8760x_0201"/>
            <p:cNvPicPr/>
            <p:nvPr/>
          </p:nvPicPr>
          <p:blipFill>
            <a:blip r:embed="rId2"/>
            <a:srcRect l="0" t="6984" r="0" b="2679"/>
            <a:stretch/>
          </p:blipFill>
          <p:spPr>
            <a:xfrm>
              <a:off x="5142240" y="2543400"/>
              <a:ext cx="3144600" cy="40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2860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2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Huntington’s diseas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هنتنغت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28600" y="91440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Autosomal dominant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ائد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untington’s disease is caused by a mutation in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Arial"/>
              </a:rPr>
              <a:t>HD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D gene is locate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n chromosom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The dominant lethal allele has no obvious phenotypic effect until an individual is abou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untington's disease is an inherited condition that damages nerve cells in the b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5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Huntington's disease results in an losing of both mental and physical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15228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minant trait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صفة السائد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escribes a trait that is expressed when only one copy of the allele is present in the genotyp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cessive trai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صفة المتنح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scribes a trait that is masked by the dominant trait and is only expressed in the homozygous conditio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utosom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كروموسوم الجسد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y chromosome that is not a sex chromoso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umans hav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airs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uto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air of sex chromosomes (the X and Y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enetic disorders caused by genes on autosomes are called autosomal disord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genetic disorders a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utosomal dominant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ائد جسد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oes not hav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genetic disorders ar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oes not hav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oes not have disorder, but is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arrier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حامل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8720" indent="-312120" algn="just">
              <a:buClr>
                <a:srgbClr val="00b05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individual with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a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has the disor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393840" y="990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52280" y="3808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Summary of the human genetic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960" y="1352160"/>
            <a:ext cx="8839080" cy="57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del’s experiments that followed the inheritance of flower color or other characteristics focused on only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 singl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 vi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onohybrid cross 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زاوج أحاد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ي</a:t>
            </a:r>
            <a:r>
              <a:rPr b="0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الصف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del also analyzed the inheritance pattern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two trait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t the same time via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 dihybrid cros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زاوج ثنائي الصفة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For example, he examined plants that differed in both the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ir pe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 cross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lants that produc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roun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eds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with plants that produced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wrinkl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eeds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 He founds tha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nstantia"/>
              </a:rPr>
              <a:t>Yellow see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was dominant to </a:t>
            </a:r>
            <a:r>
              <a:rPr b="0" lang="en-US" sz="2400" spc="-1" strike="noStrike">
                <a:solidFill>
                  <a:srgbClr val="009900"/>
                </a:solidFill>
                <a:latin typeface="Constantia"/>
              </a:rPr>
              <a:t>green see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120" indent="-343080" algn="just">
              <a:lnSpc>
                <a:spcPct val="120000"/>
              </a:lnSpc>
              <a:buClr>
                <a:srgbClr val="339933"/>
              </a:buClr>
              <a:buSzPct val="8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und seeds (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was dominant to wrinkled seeds (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39384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Second: The law of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rcRect l="0" t="1823" r="2064" b="5287"/>
          <a:stretch/>
        </p:blipFill>
        <p:spPr>
          <a:xfrm>
            <a:off x="4724280" y="1523880"/>
            <a:ext cx="43005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Rectangle 2"/>
          <p:cNvSpPr/>
          <p:nvPr/>
        </p:nvSpPr>
        <p:spPr>
          <a:xfrm>
            <a:off x="101520" y="1066680"/>
            <a:ext cx="454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is a mating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تزاوج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etween two parent plant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different in two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two pairs of alleles segregate independently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hen the F1 plants were self-fertilized, they produced an F2 generation of plants that had all fou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phenotypic ratios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9:3:3:1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f the two seed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with yellow, roun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with green, roun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with yellow, wrinkle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buClr>
                <a:srgbClr val="ff0000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plants green, wrinkled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393840" y="990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76320" y="3808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Dihybrid cross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زاوج ثنائي الص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28600" y="1828440"/>
            <a:ext cx="8470800" cy="52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ousands of genetic disorder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عتلالات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وراث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ncluding disabling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إعاق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 deadly genetic diseas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مراض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وراثية المُميت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are inherited as simpl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ecessive traits </a:t>
            </a:r>
            <a:r>
              <a:rPr b="0" lang="ar-EG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فات مُتنحية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Heterozygotes have a normal phenotyp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ecause one “normal” allele produces enough of the required factors (for normal trai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us, individuals who lack the disorder are eithe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omozygous domina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eterozyg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2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terozygous member may have no clear phenotypic effects, but is a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arri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who may transmit a recessive allele to their offspr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0000" indent="-270000" algn="just">
              <a:lnSpc>
                <a:spcPct val="12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o carriers have 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chance of having a child with the disorder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50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chance of a carrier,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 fre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0000" indent="-270000" algn="just">
              <a:lnSpc>
                <a:spcPct val="120000"/>
              </a:lnSpc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cessive genetic disorders includ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binism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هاق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ystic fibrosi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ليف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كيس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Tay-Sachs diseas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تاي ساكس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sickle cell anemia 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يمياء المجل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393840" y="990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3808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  <a:ea typeface="Arial"/>
              </a:rPr>
              <a:t>Genetic disorders in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A) Recessive genetic disorder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عتلالات الوراثية المتنح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28600" y="380880"/>
            <a:ext cx="2895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1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Albinism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بها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240" y="914040"/>
            <a:ext cx="5715000" cy="31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X-linked recessive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مرتبط بكروموسوم اك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bsen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melanin pigment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صبغة الميلانين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hai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k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binism results from inheritance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recessi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gene alle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binism is caused by an alteration of the gene that makes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melan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pig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binism is associated with vis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رؤ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blems and skin cancer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رطان الجلد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6" descr="DSC00192.JPG"/>
          <p:cNvPicPr/>
          <p:nvPr/>
        </p:nvPicPr>
        <p:blipFill>
          <a:blip r:embed="rId1"/>
          <a:srcRect l="0" t="10284" r="50004" b="0"/>
          <a:stretch/>
        </p:blipFill>
        <p:spPr>
          <a:xfrm>
            <a:off x="6066000" y="380880"/>
            <a:ext cx="3001680" cy="37292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22860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2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Cystic Fibrosi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تليف الكي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228600" y="4495680"/>
            <a:ext cx="86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, gen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located i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is caused by the presence of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mutatio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n both copies of the gene for the protein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stic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brosis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ransmembran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ductance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egulator (CFT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FTR gen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controls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chlorid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ion movement in and out of the c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affects mostly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lung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but also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pancrea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liv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kidney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Without treatment, affected children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di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before five, but with treatment can live betwee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7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"/>
          <p:cNvPicPr/>
          <p:nvPr/>
        </p:nvPicPr>
        <p:blipFill>
          <a:blip r:embed="rId1"/>
          <a:srcRect l="0" t="2604" r="0" b="4184"/>
          <a:stretch/>
        </p:blipFill>
        <p:spPr>
          <a:xfrm>
            <a:off x="1574640" y="1065240"/>
            <a:ext cx="5969160" cy="55641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19" name="Line 6"/>
          <p:cNvSpPr/>
          <p:nvPr/>
        </p:nvSpPr>
        <p:spPr>
          <a:xfrm>
            <a:off x="393840" y="8380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52280" y="380880"/>
            <a:ext cx="883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onstantia"/>
                <a:ea typeface="Arial"/>
              </a:rPr>
              <a:t>Cystic fibrosis is inherited in the autosomal recessive patter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228600" y="380880"/>
            <a:ext cx="708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3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Tay-Sachs diseas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مرض تاي ساكس أو البله المم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28600" y="914400"/>
            <a:ext cx="86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ay–Sachs results from mutations 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EXA gene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Mutation of HEXA gene leads to accumulate lipids in the brain's nerve cells leading to the death of the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 symptom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عراض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egin with seizur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,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وبة عصب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blindnes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عم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and mental and physical disabiliti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إعاقة عقلية وجسدي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ix months after birth and usually results in death by the age of fo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34383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4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Sickle-cell anemia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 </a:t>
            </a:r>
            <a:r>
              <a:rPr b="0" lang="ar-SA" sz="2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نيمياء المج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28600" y="3925800"/>
            <a:ext cx="864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recessiv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متنحي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Sickle cell anemia results from mutations in the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HBB gen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هيموجلوبين بيتا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It is caused by the substituti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ستبدال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f a single amino acid in hemoglob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eople with sickle-cell anemia have abnormal hemoglobin in their red bloo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Hemoglobin is a protein that carries oxygen throughout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Doctors can use regular blood transfusi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نقل الدم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o prevent brain damage and new drugs to prevent or treat other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5"/>
          <p:cNvGrpSpPr/>
          <p:nvPr/>
        </p:nvGrpSpPr>
        <p:grpSpPr>
          <a:xfrm>
            <a:off x="324000" y="287280"/>
            <a:ext cx="8591400" cy="6356520"/>
            <a:chOff x="324000" y="287280"/>
            <a:chExt cx="8591400" cy="63565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rcRect l="2409" t="24416" r="3662" b="4466"/>
            <a:stretch/>
          </p:blipFill>
          <p:spPr>
            <a:xfrm>
              <a:off x="2819880" y="898920"/>
              <a:ext cx="6095520" cy="504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" name="Group 4"/>
            <p:cNvGrpSpPr/>
            <p:nvPr/>
          </p:nvGrpSpPr>
          <p:grpSpPr>
            <a:xfrm>
              <a:off x="324000" y="287280"/>
              <a:ext cx="2343600" cy="6356520"/>
              <a:chOff x="324000" y="287280"/>
              <a:chExt cx="2343600" cy="6356520"/>
            </a:xfrm>
          </p:grpSpPr>
          <p:pic>
            <p:nvPicPr>
              <p:cNvPr id="230" name="Picture 6" descr="http://img.medscapestatic.com/pi/meds/ckb/10/36710.jpg"/>
              <p:cNvPicPr/>
              <p:nvPr/>
            </p:nvPicPr>
            <p:blipFill>
              <a:blip r:embed="rId2"/>
              <a:srcRect l="6268" t="1739" r="8076" b="47197"/>
              <a:stretch/>
            </p:blipFill>
            <p:spPr>
              <a:xfrm>
                <a:off x="337320" y="287280"/>
                <a:ext cx="2330280" cy="43614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31" name="Picture 12" descr="https://oncofertility.northwestern.edu/sites/oncofertility.northwestern.edu/files/sca01.jpg"/>
              <p:cNvPicPr/>
              <p:nvPr/>
            </p:nvPicPr>
            <p:blipFill>
              <a:blip r:embed="rId3"/>
              <a:stretch/>
            </p:blipFill>
            <p:spPr>
              <a:xfrm>
                <a:off x="324000" y="4648680"/>
                <a:ext cx="2343600" cy="1995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40840" y="3047760"/>
            <a:ext cx="5397480" cy="283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70000" indent="-270000" algn="just"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terozygous individuals have the dwarf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زم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henotyp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thal dominant allele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ليلات السائدة المميتة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uch less common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قل شيوعاً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an lethal recessives, because if a lethal dominant kills an offspring before it can mature and reproduce, the allele will not be passed on future generations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أجيال المستقبل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B) Dominant genetic disorders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الاعتلالات الوراثية السائ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28600" y="1447920"/>
            <a:ext cx="86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Autosomal dominant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سائد جسدي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chondroplasia is caused by a mutation in fibroblast growth factor recepto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FGFR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) gene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on chromosom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People with achondroplasia have short stature </a:t>
            </a:r>
            <a:r>
              <a:rPr b="0" lang="ar-SA" sz="2000" spc="-1" strike="noStrike">
                <a:solidFill>
                  <a:srgbClr val="ff0000"/>
                </a:solidFill>
                <a:latin typeface="Constantia"/>
                <a:cs typeface="Majalla UI"/>
              </a:rPr>
              <a:t>قصر القام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, with a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adult height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centimeters for males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2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centimeters for fe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28600" y="9237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1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  <a:ea typeface="Arial"/>
              </a:rPr>
              <a:t>Achondroplasia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  <a:cs typeface="Majalla UI"/>
              </a:rPr>
              <a:t>القز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http://www.whatcausesthis.com/wp-content/uploads/2011/11/dwarfism1.jpg"/>
          <p:cNvPicPr/>
          <p:nvPr/>
        </p:nvPicPr>
        <p:blipFill>
          <a:blip r:embed="rId1"/>
          <a:stretch/>
        </p:blipFill>
        <p:spPr>
          <a:xfrm>
            <a:off x="5867280" y="3048120"/>
            <a:ext cx="3127320" cy="3687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Mohammed Albeshr</cp:lastModifiedBy>
  <dcterms:modified xsi:type="dcterms:W3CDTF">2017-10-23T17:35:14Z</dcterms:modified>
  <cp:revision>314</cp:revision>
  <dc:subject/>
  <dc:title>Slide 1</dc:title>
</cp:coreProperties>
</file>