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77A-30DE-4363-AF74-5FBD356F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0CD-3346-4CD4-9F15-5654E5E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9B4-562E-4D12-829C-6DC795D0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0A9-2BE0-4660-B5E7-CF833C7D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B20D-AEAA-4419-80E5-2CC08839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836-F886-4FF2-A493-A7BF7BC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B71-A8EF-4D25-ACF2-441CCC9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A81D-DA9E-4315-8A96-F178B79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A3A-A74B-4EFA-9275-CFA7C98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8B2-5C48-46B9-981C-9CB2ABD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5850-7441-412F-B5AC-8DED408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088-C51B-4A83-AF2E-52AAFA3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89D-BF3E-4352-90AC-49EB36FF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4E0-E304-4E40-BA0F-0C07AA9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CD0-9E5D-4026-9D01-96E263B9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8F4-6A60-499F-AE77-5BDE2E37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DE6-EEA6-4B12-91C4-649DAC86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AA60-DB9C-43E1-B4D5-5E12773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359D-F82A-4F87-883F-8EFD3BB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C68A-AD39-45E5-A087-47983A5B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A7C0-966F-4184-93E5-E896E18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1D66-BDBE-45F0-BCED-6715B9C0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4FF-3E74-4C27-A619-8DB1A0E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3294-51FE-4CF6-AC0F-933D1AF2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35E7-2616-4843-8A95-D8B6A7A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5FB4-C9E5-4FF3-8CF1-84E9B43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92D3-EDFB-47C7-A72D-6F4CC661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6D01-BD12-462A-A736-9813C130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16D3-A183-4F24-8A91-A74A07B7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408B-17C2-4B6B-BD2A-D7DCEA51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93C5-6A40-40E2-B167-43BCDDC9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59AF-4B40-4B5D-982A-ECF81AE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991F-3747-4050-B243-BCFD28FF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0B8-EA78-4E10-931F-86CE3BE0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212D-73FC-4418-B2C9-DD158F8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A33C-08E3-4A16-A7A0-F163C96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E81F-812B-4FC0-846D-772E72B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CE57-9F81-4A7A-9A22-5318FFF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28D7-639D-4057-8557-7F902D2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858A-CB94-4F38-AA3E-13DD781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1142-5F07-4045-B034-658FBB1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B3D0-9958-447D-BA1D-AE1060FB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1BAA-FB36-4140-AF20-DA98E792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1C7-7E7F-4F8B-A5F1-46DE4DC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88F-6AD5-431B-826F-22332100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DEB-ACE7-472F-BE2E-68A0D079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77D-0B17-475C-B9B2-CE1B71A2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659-24A2-4637-A7B3-63E3B80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53CF-2EE1-45AE-BDD3-5211A4EFD508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BE64-2A42-43AC-87DE-C13B6AF17528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DB8C-0A72-4605-A663-E830CBD29D19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032C-4AA1-4528-837A-C7DAB141B68F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هو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nervous system is irreversibl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لا رجعة ف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هائ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7335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533520"/>
            <a:ext cx="8915400" cy="49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 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cs typeface="Majalla UI"/>
              </a:rPr>
              <a:t>الإنفصام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nd manic-depressive 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cs typeface="Majalla UI"/>
              </a:rPr>
              <a:t>الهوس الإكتئاب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, but is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se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28600" y="1260000"/>
            <a:ext cx="8763120" cy="47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  <a:cs typeface="Traditional Arabic"/>
              </a:rPr>
              <a:t>بشكل مستقل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92160" y="79200"/>
            <a:ext cx="9236160" cy="884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 أو خفي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هدد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cystic fibrosis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280200" y="1981080"/>
            <a:ext cx="26352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عم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and degeneration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تدهو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حتما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2280"/>
            <a:ext cx="8839080" cy="59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بدال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dividual are low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ckle-cell hemoglobi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rystallizes into lo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lood transfusions 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new drugs 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or treat other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724280" y="1143000"/>
            <a:ext cx="4280040" cy="44956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15-10-20T21:08:03Z</dcterms:modified>
  <cp:revision>157</cp:revision>
  <dc:subject/>
  <dc:title>Slide 1</dc:title>
</cp:coreProperties>
</file>