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8.jpeg" ContentType="image/jpeg"/>
  <Override PartName="/ppt/media/image20.png" ContentType="image/png"/>
  <Override PartName="/ppt/media/image2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E256-5A23-46A2-AB7D-FCC4DB22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8173-B8F9-4D3F-85C4-E1C2B9D6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5833B-F0C6-4743-A116-D9136B6A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483E9-D848-4AF2-A4BC-333A18BD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5B6EA-EB78-421E-9F50-3AF1AE91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F4265-2D7F-46A3-8D64-97D3B7F8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3AEF2-47AB-4F2E-96A2-F8860B55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5034E-A1F2-47AC-86C1-67CD261B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D6608-155D-4844-925B-C62E256C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B0979-318D-423A-9AB1-99228504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15855-1E97-484E-A8ED-1AE660B0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940C6-43B4-45E1-9771-B85D2B22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3DBD-4872-41EA-BD89-1D3C192A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0B786-E775-451F-BD9E-C786265B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B7CB5-67F8-426A-A220-C644FB46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182B6-6D7E-45AC-A427-5873711E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19AA0-BA2E-41A4-B38F-E71F7138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32362-44C9-4E34-B439-9C034CC1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62D6C-B7A7-43C5-BD2E-92112CFE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5F9FF-48C8-4A0D-A939-41F3BBDD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36B38-6075-42E8-946E-3DE22E08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AC543-901E-44A0-9B62-D56F58B9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CBEC9-7598-4A3C-BF1D-DDB5F5FF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9AE5-04C8-4CD2-9BF9-FE346E83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FA41F-29E6-475F-ADCD-AE8F461C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29FD0-3EB2-4CA7-A707-E2EB6FC8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23565-B6D1-4725-8568-0C5BFBD0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92A2F-E341-4878-AF7F-31CADB21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8069E-5088-4F86-91F7-39A93635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20D56-1024-4E06-B1ED-C8B4C95D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3FB44-F21D-4383-B9DA-B397DD4E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06F52-4C89-450D-89F8-99C79986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DEFE1-541F-4DC9-BAE3-A67A4DA1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17E6D-848F-4381-AAAA-F58E0D07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81A6-0F3A-4A84-BBB0-3A708A08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D1605-C4FC-43AB-882F-A62E5DA1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828A9-C6AC-45BA-A43E-D61C79EE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7AF5A-2926-4671-A14D-BC834CB5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476F5-3242-4751-A7F0-9C901C5F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A07F2-E54D-4C8D-8483-4B9362D0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83316-A4C7-4565-9A97-F4408B82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A9589-5436-4A69-8ABE-04488032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D4F3C-CD54-4F2F-AD4A-D141636A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75D4E-F458-456E-89C7-88596B27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A8FB2-E021-4C19-B21C-F85C96D6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6C0E-9C6B-46CE-828D-89236630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641D3-589C-46CD-8AD7-51482A5D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5ECEE-A608-4120-8AFD-96E304F6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AA67A-31FC-4181-9CA6-C0084C99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801CA-0856-4FA0-844A-224DE918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DD864-D267-4F1F-B00D-467B1D73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3012-414E-4761-95DB-A6CD422A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7432-2FB8-44B8-812E-EAB32BC0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2AA1-4AE2-4C24-B6BA-F2236CC2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0AA2-3FF3-4E06-9241-75CAD162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A95E-AD96-494F-87FF-78C46440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6E35-4088-4263-9DC3-303F565A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D2DE-7DF0-4734-801B-4F6B5EA3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F723-E837-4CD1-BE22-2E345F9D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0053-4B25-4BCA-8A86-1CF80179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AA25-63AB-4A1A-8C77-8AB35E38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9CA3-2A2F-4153-9EAE-99F07DAB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84F02-12E3-4094-B4CF-29D78751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94B0B-1400-43B7-820D-5E7EC345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1C093-EF1E-4BB1-B33F-CC33E512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81E76-82FE-4827-9970-D5805F3A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C2F0E-48FC-4F6D-B93E-3E5FFC84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B016-8899-482E-BD3C-54D56D7E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41CA6-BE63-465C-BE08-3E8A23D2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7A532-5541-4AD2-A4A0-64627195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80731-8086-4BA0-9B48-2002921A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7AE05-C64E-4EA9-8FDD-8B2E8D4A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66083-479F-472C-AFDE-2071763A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1E0E6-576B-4418-A1B8-07730BC4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23EC2-A4E1-42D5-B9D9-8600B532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07CDB-B20F-4575-8265-9949C31F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2EEDE-D4E0-4BB0-91C1-A528C3EA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089F6-B179-4A7E-8143-94EF4EC3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A3DE-9D6F-4B27-A452-5AF65981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04735-97C6-4E1A-8ABB-09D0E2DA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98B4B-891C-4A9F-975E-839F034B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2EEA5-BD5D-4E7C-AD76-DD6D2651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B2AEE-1221-4A29-B0AE-D39C795C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1A6D8-9115-4CA7-ACB0-D082DACD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88AAB-199D-4EAD-A829-45980154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5A13E-CD7B-4414-BBDB-9779AEB4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989E2-572B-4D1A-A72F-A60B00A4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E8117-9F27-4B2A-8E76-125D34D8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5F08C-277E-4D8D-8F8F-E06F15B4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229D-9C63-4309-A2C5-69B05211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71D22-878B-4BDC-AFA5-551812C2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71763-B8AC-4769-88AF-25A3F25A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1C3DE-F1A4-4847-B70A-248FD5C3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11B28-600E-4518-931A-C57C77D8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4222A-494A-4F58-98ED-C2C55A81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BE3B7-503B-4CCD-909B-899E2A6E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F2E24-C8C4-41FC-9BA5-58B0C9CC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21BE9-3EBE-42D0-9545-31429BFC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A6098-5479-45B9-8F24-BED2CCC6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52179-5309-49B1-B901-F257D6F1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DE13-6DFD-48BE-88E6-2FE4394A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09654-9460-425C-BB97-D826F3BF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4CDC9-623B-49FC-B575-EFB77AB6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9F2D1-33B2-4021-B2A2-E82A725B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6221C-3BD7-49CF-8A37-5576CF31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320EA-8E2C-46A4-B63C-C078CEB8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581CB-EEA8-4690-8A13-37C483FD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EF0B6-4A6E-4F43-8AE2-839809B0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4F826-A554-42DC-8995-776A3EB3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FF869-A788-40C5-9D71-56EB4351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A8E1E-F6E7-4F2F-9D3A-D9826995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E562-D441-4441-9174-1CB336D6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CBCC9-51F4-47CF-85FE-F998473D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C7F26-42C3-4ECD-9B22-03E01BCD4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1E73B-F24E-4B24-B457-97D3287A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035B1-4BFD-4CC1-97BB-E7A2610D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E534B-22A5-4B88-A961-CBEE8DDF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50CF7-CFCA-45B0-9473-40B80CC3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715AB-311B-4618-B94C-9CBEB40F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147A1-725C-4752-B42C-0D79DAFB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03230-A548-47EA-994B-A0E57504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6D6E5-5898-4BD5-943B-7ED0E439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E284-137B-4B5C-B573-4C59DB12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0A919-7FF6-4624-9D9D-C3C96712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A8094-EF47-4517-AF40-6246A748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4FE5C-C37E-4F92-9F62-5BF4C9DE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F544F-E9B3-4297-BD8F-05C98D08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64F5F-5820-49BC-8B20-92E1D870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F0A1A-DB17-49C4-A82B-A878FFF0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92800-2AB6-46D0-8133-EE25379A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CEF33-77DD-4E3E-8B5F-58A10A69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42064-E1D1-43EB-8BFB-273001C3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BB8D5-2EE6-4B74-A907-C38EE0F8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A158-9FB1-4104-88B4-45916F4F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D522D-1EDD-4D83-88C5-D92386A3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D67E3-C134-4B6B-A369-BBB839C0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0606B-0768-468D-B644-721F454C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95B1D-AA77-40AD-AC1E-1F994B15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7CEE2-2586-4FAD-92C7-C2B78D45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36711-C6D5-45BA-B2D9-EA7E5A69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5AC2E-75C2-4032-9363-D376E96E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48A2B-3708-40B7-82E2-68D4C640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B6033-DD91-4332-A092-5425D7DC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B2E6B-B23B-4820-8BE1-74E23403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FCD3-EFD6-4D10-9B39-3C308FAA381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3CB3-B1AB-4864-A3B6-0EF5B9BD3381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1C04-E59F-41B3-89C2-9927508CA41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6B70-9C28-4684-9A79-874DA75DC05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BE7B-4E9B-414B-A59C-3C1AAF1B91B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B37C-AFED-4FC1-9BA5-9631FF93454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5AF6-3B15-481A-B699-04981B949DE6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3075-0736-49EE-B2B3-11654E8A938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11E4-9F0A-4E46-A829-8D8281421FB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B7DE-9BDA-4626-823F-B96D5AE5E82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E599-BE13-4CF4-B4D6-A89622475D0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399E-4A7B-49A3-A164-F147A31D9F8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447560" y="37335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5b7e"/>
                </a:solidFill>
                <a:latin typeface="Bookman Old Style"/>
              </a:rPr>
              <a:t>Selecting a Research Problem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70" name="Picture 4" descr="target1"/>
          <p:cNvPicPr/>
          <p:nvPr/>
        </p:nvPicPr>
        <p:blipFill>
          <a:blip r:embed="rId1"/>
          <a:stretch/>
        </p:blipFill>
        <p:spPr>
          <a:xfrm>
            <a:off x="3352680" y="1219320"/>
            <a:ext cx="2438640" cy="1828800"/>
          </a:xfrm>
          <a:prstGeom prst="rect">
            <a:avLst/>
          </a:prstGeom>
          <a:ln w="0">
            <a:noFill/>
          </a:ln>
        </p:spPr>
      </p:pic>
      <p:sp>
        <p:nvSpPr>
          <p:cNvPr id="571" name="TextBox 4"/>
          <p:cNvSpPr/>
          <p:nvPr/>
        </p:nvSpPr>
        <p:spPr>
          <a:xfrm>
            <a:off x="2819520" y="5105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38cae"/>
                </a:solidFill>
                <a:latin typeface="Times New Roman"/>
              </a:rPr>
              <a:t>By: Sooad K. Al-Dai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64653"/>
                </a:solidFill>
                <a:latin typeface="Bookman Old Style"/>
              </a:rPr>
              <a:t>Continue</a:t>
            </a:r>
            <a:r>
              <a:rPr b="0" i="1" lang="en-US" sz="3200" spc="-1" strike="noStrike">
                <a:solidFill>
                  <a:srgbClr val="464653"/>
                </a:solidFill>
                <a:latin typeface="Bookman Old Style"/>
              </a:rPr>
              <a:t>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38088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be1"/>
                </a:solidFill>
                <a:latin typeface="Gill Sans MT"/>
              </a:rPr>
              <a:t>II. The second axis is </a:t>
            </a:r>
            <a:r>
              <a:rPr b="0" i="1" lang="en-US" sz="3200" spc="-1" strike="noStrike">
                <a:solidFill>
                  <a:srgbClr val="111be1"/>
                </a:solidFill>
                <a:latin typeface="Gill Sans MT"/>
              </a:rPr>
              <a:t>interest</a:t>
            </a:r>
            <a:r>
              <a:rPr b="0" lang="en-US" sz="3200" spc="-1" strike="noStrike">
                <a:solidFill>
                  <a:srgbClr val="111be1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increase in knowledge expected from the projec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1" name="Picture 7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23652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7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728640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64653"/>
                </a:solidFill>
                <a:latin typeface="Bookman Old Style"/>
              </a:rPr>
              <a:t>Continue</a:t>
            </a:r>
            <a:r>
              <a:rPr b="0" i="1" lang="en-US" sz="3200" spc="-1" strike="noStrike">
                <a:solidFill>
                  <a:srgbClr val="464653"/>
                </a:solidFill>
                <a:latin typeface="Bookman Old Style"/>
              </a:rPr>
              <a:t>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o decide which problem to select along the front depends on how we weigh the two ax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5" name="Picture 5" descr=""/>
          <p:cNvPicPr/>
          <p:nvPr/>
        </p:nvPicPr>
        <p:blipFill>
          <a:blip r:embed="rId1"/>
          <a:stretch/>
        </p:blipFill>
        <p:spPr>
          <a:xfrm>
            <a:off x="1523880" y="2100240"/>
            <a:ext cx="601992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he schema of research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common schema is expressed in the way papers are written: one starts at point A, which is the question, and proceeds by the shortest path to point B, the answe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08" name="Picture 4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3724200" cy="298116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"/>
          <p:cNvPicPr/>
          <p:nvPr/>
        </p:nvPicPr>
        <p:blipFill>
          <a:blip r:embed="rId2"/>
          <a:stretch/>
        </p:blipFill>
        <p:spPr>
          <a:xfrm>
            <a:off x="5181480" y="3048120"/>
            <a:ext cx="3743280" cy="3085920"/>
          </a:xfrm>
          <a:prstGeom prst="rect">
            <a:avLst/>
          </a:prstGeom>
          <a:ln w="0">
            <a:noFill/>
          </a:ln>
        </p:spPr>
      </p:pic>
      <p:cxnSp>
        <p:nvCxnSpPr>
          <p:cNvPr id="610" name="Straight Arrow Connector 8"/>
          <p:cNvCxnSpPr/>
          <p:nvPr/>
        </p:nvCxnSpPr>
        <p:spPr>
          <a:xfrm>
            <a:off x="3733560" y="4723920"/>
            <a:ext cx="1600920" cy="1080"/>
          </a:xfrm>
          <a:prstGeom prst="straightConnector1">
            <a:avLst/>
          </a:prstGeom>
          <a:ln w="57240">
            <a:solidFill>
              <a:srgbClr val="111be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fining the Topic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be1"/>
                </a:solidFill>
                <a:latin typeface="Gill Sans MT"/>
              </a:rPr>
              <a:t>The topic has to be “sized”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nerally this means reducing the scope of the topic, occasionally it might be expanded.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raduate students often select topics that are too broad.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613" name="Picture 1028" descr="funnel"/>
          <p:cNvPicPr/>
          <p:nvPr/>
        </p:nvPicPr>
        <p:blipFill>
          <a:blip r:embed="rId1"/>
          <a:stretch/>
        </p:blipFill>
        <p:spPr>
          <a:xfrm>
            <a:off x="7086600" y="3657600"/>
            <a:ext cx="1504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fining the Topic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be1"/>
                </a:solidFill>
                <a:latin typeface="Gill Sans MT"/>
              </a:rPr>
              <a:t>The topic has to be “clarified”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just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topic needs to reworded so that it states clearly and unambiguously the matter to be investigated, the variables to be investigated, and participants, if any, that will be involved.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616" name="Picture 4" descr="funnel2"/>
          <p:cNvPicPr/>
          <p:nvPr/>
        </p:nvPicPr>
        <p:blipFill>
          <a:blip r:embed="rId1"/>
          <a:stretch/>
        </p:blipFill>
        <p:spPr>
          <a:xfrm>
            <a:off x="7162920" y="3505320"/>
            <a:ext cx="1566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6"/>
          <p:cNvSpPr/>
          <p:nvPr/>
        </p:nvSpPr>
        <p:spPr>
          <a:xfrm>
            <a:off x="1143000" y="1676520"/>
            <a:ext cx="6248520" cy="419076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he Research Proces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19" name="Diagram 4" descr=""/>
          <p:cNvPicPr/>
          <p:nvPr/>
        </p:nvPicPr>
        <p:blipFill>
          <a:blip r:embed="rId1"/>
          <a:stretch/>
        </p:blipFill>
        <p:spPr>
          <a:xfrm>
            <a:off x="1158840" y="1663560"/>
            <a:ext cx="62168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he Research Proposal/Repor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3716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graduate students, the research proposal is presented to your committee for their approval 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you conduct the researc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research proposal is typically presented to a funding agency, for approval/fund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2" name="Picture 4" descr="done.jpg"/>
          <p:cNvPicPr/>
          <p:nvPr/>
        </p:nvPicPr>
        <p:blipFill>
          <a:blip r:embed="rId1"/>
          <a:stretch/>
        </p:blipFill>
        <p:spPr>
          <a:xfrm>
            <a:off x="6400800" y="5181480"/>
            <a:ext cx="23623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ferenc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ri Alon (2009).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How to choose a good scientific problem?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olecular Cell, Vol. 35, Issue 6,  726-728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obert Harris (1998).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ntroduction to Problem Solv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2" descr=""/>
          <p:cNvPicPr/>
          <p:nvPr/>
        </p:nvPicPr>
        <p:blipFill>
          <a:blip r:embed="rId1"/>
          <a:stretch/>
        </p:blipFill>
        <p:spPr>
          <a:xfrm>
            <a:off x="1752480" y="1324080"/>
            <a:ext cx="626292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ore Factors make the project “outstanding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”…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rst, it must ask question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, if possible, the project should have the potential to yield a seminal observatio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4" name="Picture 5" descr="outstanding.jpg"/>
          <p:cNvPicPr/>
          <p:nvPr/>
        </p:nvPicPr>
        <p:blipFill>
          <a:blip r:embed="rId1"/>
          <a:stretch/>
        </p:blipFill>
        <p:spPr>
          <a:xfrm>
            <a:off x="6781680" y="4003560"/>
            <a:ext cx="194328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What do we do with Problems</a:t>
            </a: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?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219320"/>
            <a:ext cx="4572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Ignore them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alk about them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ry to solve them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" name="Picture 4" descr="ignore"/>
          <p:cNvPicPr/>
          <p:nvPr/>
        </p:nvPicPr>
        <p:blipFill>
          <a:blip r:embed="rId1"/>
          <a:srcRect l="0" t="0" r="0" b="14286"/>
          <a:stretch/>
        </p:blipFill>
        <p:spPr>
          <a:xfrm>
            <a:off x="5410080" y="3809880"/>
            <a:ext cx="3276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What is a Research Problem</a:t>
            </a: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?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01600" indent="-201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is a problem that someone would like to investigat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0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01600" indent="-201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is considered a situation that needs to be changed or addresse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0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01600" indent="-201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educational research, the research problem is typically posed as a ques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0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1"/>
          <a:stretch/>
        </p:blipFill>
        <p:spPr>
          <a:xfrm>
            <a:off x="7620120" y="53341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6840" y="251424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lnSpc>
                <a:spcPct val="2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rugs used as cancer treatmen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23560" indent="-223560">
              <a:lnSpc>
                <a:spcPct val="2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urrent treatment used to destroyed cancerous cell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23560" indent="-223560">
              <a:lnSpc>
                <a:spcPct val="2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wareness of Saudi population toward the a obes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5d78"/>
                </a:solidFill>
                <a:latin typeface="Bookman Old Style"/>
              </a:rPr>
              <a:t>Problem</a:t>
            </a:r>
            <a:r>
              <a:rPr b="0" lang="en-US" sz="3600" spc="-1" strike="noStrike">
                <a:solidFill>
                  <a:srgbClr val="638cae"/>
                </a:solidFill>
                <a:latin typeface="Bookman Old Style"/>
              </a:rPr>
              <a:t>!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219320"/>
            <a:ext cx="4572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hoosing good problems is essential for being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 good scientist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578880" indent="-578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what is a good problem, and how to choose one?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85" name="Picture 5" descr="problem"/>
          <p:cNvPicPr/>
          <p:nvPr/>
        </p:nvPicPr>
        <p:blipFill>
          <a:blip r:embed="rId1"/>
          <a:srcRect l="0" t="0" r="0" b="10000"/>
          <a:stretch/>
        </p:blipFill>
        <p:spPr>
          <a:xfrm>
            <a:off x="6019920" y="2705040"/>
            <a:ext cx="22604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You should have a </a:t>
            </a:r>
            <a:r>
              <a:rPr b="0" i="1" lang="en-US" sz="3000" spc="-1" strike="noStrike">
                <a:solidFill>
                  <a:srgbClr val="000000"/>
                </a:solidFill>
                <a:latin typeface="Gill Sans MT"/>
              </a:rPr>
              <a:t>personal interest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in th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opic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ick a topic that you already have some expertise abou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Pick an area on the basis of the interest of the outcome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Go to talk and read papers outside your area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of interest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64653"/>
                </a:solidFill>
                <a:latin typeface="Bookman Old Style"/>
              </a:rPr>
              <a:t>Picking a research problem</a:t>
            </a:r>
            <a:r>
              <a:rPr b="0" i="1" lang="en-US" sz="3200" spc="-1" strike="noStrike">
                <a:solidFill>
                  <a:srgbClr val="464653"/>
                </a:solidFill>
                <a:latin typeface="Bookman Old Style"/>
              </a:rPr>
              <a:t>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1314720" cy="180000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2" descr=""/>
          <p:cNvPicPr/>
          <p:nvPr/>
        </p:nvPicPr>
        <p:blipFill>
          <a:blip r:embed="rId2"/>
          <a:stretch/>
        </p:blipFill>
        <p:spPr>
          <a:xfrm>
            <a:off x="7439040" y="3581280"/>
            <a:ext cx="170496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464653"/>
                </a:solidFill>
                <a:latin typeface="Bookman Old Style"/>
              </a:rPr>
              <a:t>Continue</a:t>
            </a:r>
            <a:r>
              <a:rPr b="0" i="1" lang="en-GB" sz="3200" spc="-1" strike="noStrike">
                <a:solidFill>
                  <a:srgbClr val="464653"/>
                </a:solidFill>
                <a:latin typeface="Bookman Old Style"/>
              </a:rPr>
              <a:t>..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ticipate the results before doing the first stud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oose research that is uniqu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nk Carefully before you choose a controversial topic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ick a manageable topic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d, listen, discuss and think criticall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cus, Focus, Focu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2" name="Picture 4" descr="detective2"/>
          <p:cNvPicPr/>
          <p:nvPr/>
        </p:nvPicPr>
        <p:blipFill>
          <a:blip r:embed="rId1"/>
          <a:stretch/>
        </p:blipFill>
        <p:spPr>
          <a:xfrm>
            <a:off x="6324480" y="4233960"/>
            <a:ext cx="2133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e will compare problems by imagining two axes: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533160" y="1523520"/>
            <a:ext cx="7391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be1"/>
                </a:solidFill>
                <a:latin typeface="Gill Sans MT"/>
              </a:rPr>
              <a:t>I.    The first is </a:t>
            </a:r>
            <a:r>
              <a:rPr b="0" i="1" lang="en-US" sz="3200" spc="-1" strike="noStrike">
                <a:solidFill>
                  <a:srgbClr val="111be1"/>
                </a:solidFill>
                <a:latin typeface="Gill Sans MT"/>
              </a:rPr>
              <a:t>feasibility ….</a:t>
            </a:r>
            <a:r>
              <a:rPr b="0" lang="en-US" sz="3200" spc="-1" strike="noStrike">
                <a:solidFill>
                  <a:srgbClr val="111be1"/>
                </a:solidFill>
                <a:latin typeface="Gill Sans MT"/>
              </a:rPr>
              <a:t>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axis is a function of the skills of the  researchers and of the technology in the   lab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spcBef>
                <a:spcPts val="601"/>
              </a:spcBef>
              <a:buClr>
                <a:srgbClr val="727ca3"/>
              </a:buClr>
              <a:buSzPct val="76000"/>
              <a:buFont typeface="Bookman Old Style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5" name="Picture 6" descr=""/>
          <p:cNvPicPr/>
          <p:nvPr/>
        </p:nvPicPr>
        <p:blipFill>
          <a:blip r:embed="rId1"/>
          <a:stretch/>
        </p:blipFill>
        <p:spPr>
          <a:xfrm>
            <a:off x="7343640" y="685800"/>
            <a:ext cx="1800360" cy="20858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8" descr=""/>
          <p:cNvPicPr/>
          <p:nvPr/>
        </p:nvPicPr>
        <p:blipFill>
          <a:blip r:embed="rId2"/>
          <a:stretch/>
        </p:blipFill>
        <p:spPr>
          <a:xfrm>
            <a:off x="3657600" y="4219560"/>
            <a:ext cx="1600200" cy="19526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9" descr=""/>
          <p:cNvPicPr/>
          <p:nvPr/>
        </p:nvPicPr>
        <p:blipFill>
          <a:blip r:embed="rId3"/>
          <a:stretch/>
        </p:blipFill>
        <p:spPr>
          <a:xfrm>
            <a:off x="990720" y="4335480"/>
            <a:ext cx="1600200" cy="16365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0" descr=""/>
          <p:cNvPicPr/>
          <p:nvPr/>
        </p:nvPicPr>
        <p:blipFill>
          <a:blip r:embed="rId4"/>
          <a:stretch/>
        </p:blipFill>
        <p:spPr>
          <a:xfrm>
            <a:off x="6172200" y="4343400"/>
            <a:ext cx="26766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9T02:16:35Z</dcterms:created>
  <dc:creator>Gary Moore</dc:creator>
  <dc:description/>
  <dc:language>en-US</dc:language>
  <cp:lastModifiedBy>Sooad</cp:lastModifiedBy>
  <dcterms:modified xsi:type="dcterms:W3CDTF">2011-12-02T09:46:09Z</dcterms:modified>
  <cp:revision>29</cp:revision>
  <dc:subject/>
  <dc:title>Selecting a Research Problem</dc:title>
</cp:coreProperties>
</file>