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283-2845-405A-A860-8ADE9E05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C7F-99AE-40C4-8FA6-E6B08E1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83D5-42BE-4D4E-8A0C-CF17F83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3CAE-69B3-4C7C-B048-2118E067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28E8F-20B3-4A7E-85A0-858885D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4624-2A73-4B1E-BFF7-5E9FCC77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BEAA-7C65-4C5C-B991-57276E7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37AA-6821-44A7-A2BD-9E6E27F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1C228-EF2F-4C8C-A082-189C449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16BE6-C5E9-421E-9292-052C183B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B7824-1770-457A-8A2C-E562F135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374A8-CB3A-48BC-9016-2E10ED22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9C7-E9E4-4109-BA1A-3592E853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089C1-3A7E-4167-8580-218D935E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B567-E893-4589-9718-2FC6E05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FB18D-2AA4-4A66-ADA6-7FE0924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CA66F-D885-474B-A735-A13A7A5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960C1-9BAA-47C4-A65A-ACF46A55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EBA98-790B-42A2-84AF-40AD27A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C4C71-BA07-4811-B502-2E4870D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DD287-D054-4B6A-9CD6-E79249D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25473-5FF3-406F-B372-CA60AE5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1FBAD-F2AA-4851-8018-826A1FC8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3F5-C615-42ED-BB89-51DC27D9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C75B-27F3-4D4D-87DC-8E886388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D9026-2532-4D87-A4DA-4110E936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083D1-F8C9-449D-BFD8-A689086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3542E-BE04-46FC-9A1A-D3B1E49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70ADE-AA08-4D5B-B107-C60923F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F72B0-AE22-47D6-8CEC-52A8C077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D493F-EF58-4F16-89AE-57C37D90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68ABF-DC2D-4CA6-BC4B-9FF3E2D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91E29-007F-45E3-A3CB-503865C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B9912-3CD3-44F3-AF76-4042204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90A8-B3D2-459F-B2AF-D5E0D546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3A282-26AB-4727-B24A-B092936C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C73AC-8226-4B6C-AED6-99BCD0E9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5A98C-06DB-4E89-A8C3-4A79BC8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7C20-D773-41CA-A86B-58D494ED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6300A-B044-4DC7-A264-6785DF3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D1171-EF3F-4754-96D7-52683790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7645C-F536-42B9-8E90-961717BE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5801A-3E8B-43C1-804D-70209479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5FE70-16C2-4B76-901E-8831F6D3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0BDFF-CB82-45C5-BB5C-49776ED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4A19-833C-47F8-B9C4-1C38DE7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FF60E-8F6B-46BD-9169-C8E424D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F04BC-C07E-414D-BB01-42CF420D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C541A-3912-4DA8-B1F6-88B2592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AAA36-01BC-4DC1-85EE-8B8CBCBD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8E01-B506-4A5A-AC0A-B0521AB7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74D-48AB-4B95-9889-3D46F8F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658-BD6D-4E1F-9BAA-783807BE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3D07-188B-4B21-85B1-7029C08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35EB-A0CB-45BE-9AFD-FCEB558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DD6C-E029-44E9-B62A-6081B91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B99-F80E-4F9D-BE49-7BAF386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A0E6-8F07-429C-A6D3-17E7097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1358-8F3F-47DB-95EA-56352F9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EA6F-7F8C-494A-A8E0-321C5D8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A7A9-F3A5-4BAD-AB82-137BC8D2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73DC-02A7-4228-8C78-B8FA9E95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24F3-7670-4912-8B77-73EB01FC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AF65-5506-469C-8C39-4968C3BF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D957-3996-48B5-BD81-0A699462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1590-7B35-4188-8DD9-5CB046AB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4F8B-2490-4AAE-8F6E-9F5B8E3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5C6-AE75-4C6C-BA20-487FA2B6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D63D-774A-4C4B-87B1-F21A59E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9531-F550-4671-B5FD-453C10D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F8AF-5987-4FDB-9519-FF9E1DA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C983-BEF3-455B-A896-C0B7D89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19FE-3D21-4CCD-BA69-67DF378C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6808-9048-43F3-BF14-FE2067F2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8E67-121F-4066-B89F-C6898974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9EF4-7145-4363-BA9D-74347B49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C844-B4A4-4A95-B37A-B7B32383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180C-1AAB-4A22-A5F2-A915CDB7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934-8188-4BE5-87A8-E931B1C9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D493-36DB-4748-8D12-F0C97F1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E2E2-AADD-4D97-A980-F2ACB77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203D-8E89-4564-8B37-FC15AE8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27F4-A845-496D-9043-507D1FE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6201-BFE1-4D70-87C4-745AFE2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FB43-B9B9-4D5F-80CD-2F852E6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DB65-12C4-4365-9653-DCBEA48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5286-117D-4B20-B42D-DB558E39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0EAC-5144-4127-BFDE-A624E7C1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9E88-5547-4CC4-B310-1FA52C9D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E6C-1E2F-4016-9DEF-52FCC19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C5BD-49F7-4BC1-886B-5829770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73D9-F133-4213-AC1C-38AA0688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2F8D-3284-4D89-B996-4D772912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E742-3825-4706-9818-5E9E6FE3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94A9-3BD7-4374-B314-CA630C0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467A-7DC1-49BD-BCAD-CDDBD3F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7EAA5-7E98-4A15-8F7A-7009151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77CA0-6FB7-4964-A741-9ED4B37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7BC7-882A-4F67-AF66-851E22FA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C7D7-DE95-4505-97EB-9524BBF3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803-565A-4B3E-AC5D-ADE74C9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A55D-D6BD-4F1B-8D2B-ED4F726E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FABF-FAF5-4B1D-8F17-18197C67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B936-7516-42A0-9EB3-F164B48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2A383-42AB-481E-9EC5-F04E2A2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20D68-0367-4AFF-BC2C-E51A623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A758-C0C8-4423-91BC-233BA1F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16012-4738-47AD-9822-DCA877D3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6B92D-5439-4BFE-9FCA-3F8D21B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19A4-D06A-4C06-BEB7-793E422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8CE55-6ECD-4E1C-A762-84CF462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0CD-55FE-48B3-867B-A025A75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B7D7-15DF-4BBA-A577-CEE1261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32B69-D284-4E0F-BFB0-4F5B2703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7D45-1865-4F55-9471-787DC5D7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29D70-514F-4B03-A2F4-EC0EF994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F27D-7257-46EE-B12B-4A316F6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7016-FE85-4BBE-8ED2-198AF4C5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C77E-2C9A-4F3B-9560-61C1A322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D1CDD-A2DA-4E90-994A-76E1DB4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CA5C-4B04-44BA-9657-5408EBB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DBEDF-AE47-4CB8-8FAA-F45D176E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817-1520-4A11-B77F-76AC94A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89299-F8AF-4A50-B09E-042A87D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C6FBA-519F-4DBA-A0DE-145E266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26AE-AE80-4EC8-8159-A3E40FFB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F5C55-CE44-4849-A33D-CAD7F2A5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358C-157B-40E8-84E9-F05454D2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1B96-3DBB-4BB6-963E-70D26CEC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640D1-AA53-449C-BF48-20D4987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08AF4-EB9B-43B9-89CC-C1740773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0C154-0817-448A-AD54-FC89DE1D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49B7F-D4A5-4ADA-8251-065879E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AD4-82F9-4F00-B2E4-F3DD749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1890B-56DA-4356-A476-8FB36E35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0993-A578-41AF-A15B-B4F1CCC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F8970-5879-4780-8903-F42498A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58AE-3F5C-4B69-874A-93239E8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8E493-A8DF-448B-9493-C433B2D8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A5A5D-00B6-4DD8-B443-F540A01C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CC21-ADF3-433F-B253-F6AF91FE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03BEA-6388-41D1-8C78-5100841A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70D4C-C024-4220-8C4F-C802F416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AD73E-08D3-4F3A-AC97-DCF4D77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984-6201-47BD-9369-427738E393B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966-9810-4254-ADE3-741CB7F37BD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FF1F-29CF-4329-B902-2BB6E0826F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CAB-763A-4220-9DC5-F76419AF89E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96C-240E-4F16-8C32-52B96FC63D6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E32-8E17-4C39-8D47-0504BD05036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99B-DBE8-45CB-8D84-DAF0BA2C3FC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8C9-DAB3-4237-966F-902E0616223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7018-C087-4150-A62B-E4833B131DB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374-06AB-4947-8AFD-AA3147A408C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5C5-9725-4B83-BFA8-2B66847CDA6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ABD0-7473-4F67-B80B-817DD191CCF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560" y="3733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5b7e"/>
                </a:solidFill>
                <a:latin typeface="Bookman Old Style"/>
              </a:rPr>
              <a:t>Selecting a Research Proble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0" name="Picture 4" descr="target1"/>
          <p:cNvPicPr/>
          <p:nvPr/>
        </p:nvPicPr>
        <p:blipFill>
          <a:blip r:embed="rId1"/>
          <a:stretch/>
        </p:blipFill>
        <p:spPr>
          <a:xfrm>
            <a:off x="3352680" y="12193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4"/>
          <p:cNvSpPr/>
          <p:nvPr/>
        </p:nvSpPr>
        <p:spPr>
          <a:xfrm>
            <a:off x="28195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8cae"/>
                </a:solidFill>
                <a:latin typeface="Times New Roman"/>
              </a:rPr>
              <a:t>By: Sooad K. Al-Dai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088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II. The second axis is </a:t>
            </a:r>
            <a:r>
              <a:rPr b="0" i="1" lang="en-US" sz="3200" spc="-1" strike="noStrike">
                <a:solidFill>
                  <a:srgbClr val="111be1"/>
                </a:solidFill>
                <a:latin typeface="Gill Sans MT"/>
              </a:rPr>
              <a:t>interest</a:t>
            </a: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crease in knowledge expected from the pro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1" name="Picture 7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365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2864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decide which problem to select along the front depends on how we weigh the two ax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5" name="Picture 5" descr=""/>
          <p:cNvPicPr/>
          <p:nvPr/>
        </p:nvPicPr>
        <p:blipFill>
          <a:blip r:embed="rId1"/>
          <a:stretch/>
        </p:blipFill>
        <p:spPr>
          <a:xfrm>
            <a:off x="1523880" y="2100240"/>
            <a:ext cx="6019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schema of researc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on schema is expressed in the way papers are written: one starts at point A, which is the question, and proceeds by the shortest path to point B, the answ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3724200" cy="2981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743280" cy="3085920"/>
          </a:xfrm>
          <a:prstGeom prst="rect">
            <a:avLst/>
          </a:prstGeom>
          <a:ln w="0">
            <a:noFill/>
          </a:ln>
        </p:spPr>
      </p:pic>
      <p:cxnSp>
        <p:nvCxnSpPr>
          <p:cNvPr id="610" name="Straight Arrow Connector 8"/>
          <p:cNvCxnSpPr/>
          <p:nvPr/>
        </p:nvCxnSpPr>
        <p:spPr>
          <a:xfrm>
            <a:off x="3733560" y="4723920"/>
            <a:ext cx="1600920" cy="1080"/>
          </a:xfrm>
          <a:prstGeom prst="straightConnector1">
            <a:avLst/>
          </a:prstGeom>
          <a:ln w="57240">
            <a:solidFill>
              <a:srgbClr val="111be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ining the Topic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The topic has to be “sized”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erally this means reducing the scope of the topic, occasionally it might be expanded.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aduate students often select topics that are too broad.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613" name="Picture 1028" descr="funnel"/>
          <p:cNvPicPr/>
          <p:nvPr/>
        </p:nvPicPr>
        <p:blipFill>
          <a:blip r:embed="rId1"/>
          <a:stretch/>
        </p:blipFill>
        <p:spPr>
          <a:xfrm>
            <a:off x="7086600" y="3657600"/>
            <a:ext cx="150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ining the Topic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be1"/>
                </a:solidFill>
                <a:latin typeface="Gill Sans MT"/>
              </a:rPr>
              <a:t>The topic has to be “clarified”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opic needs to reworded so that it states clearly and unambiguously the matter to be investigated, the variables to be investigated, and participants, if any, that will be involved.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616" name="Picture 4" descr="funnel2"/>
          <p:cNvPicPr/>
          <p:nvPr/>
        </p:nvPicPr>
        <p:blipFill>
          <a:blip r:embed="rId1"/>
          <a:stretch/>
        </p:blipFill>
        <p:spPr>
          <a:xfrm>
            <a:off x="7162920" y="3505320"/>
            <a:ext cx="156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6"/>
          <p:cNvSpPr/>
          <p:nvPr/>
        </p:nvSpPr>
        <p:spPr>
          <a:xfrm>
            <a:off x="1143000" y="1676520"/>
            <a:ext cx="6248520" cy="41907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esearch Proc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19" name="Diagram 4" descr=""/>
          <p:cNvPicPr/>
          <p:nvPr/>
        </p:nvPicPr>
        <p:blipFill>
          <a:blip r:embed="rId1"/>
          <a:stretch/>
        </p:blipFill>
        <p:spPr>
          <a:xfrm>
            <a:off x="1158840" y="1663560"/>
            <a:ext cx="6216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esearch Proposal/Repor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graduate students, the research proposal is presented to your committee for their approval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conduct the resear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search proposal is typically presented to a funding agency, for approval/fun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2" name="Picture 4" descr="done.jpg"/>
          <p:cNvPicPr/>
          <p:nvPr/>
        </p:nvPicPr>
        <p:blipFill>
          <a:blip r:embed="rId1"/>
          <a:stretch/>
        </p:blipFill>
        <p:spPr>
          <a:xfrm>
            <a:off x="6400800" y="5181480"/>
            <a:ext cx="2362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ri Alon (2009)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to choose a good scientific problem?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lecular Cell, Vol. 35, Issue 6,  726-728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bert Harris (1998)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roduction to Problem Solv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752480" y="1324080"/>
            <a:ext cx="6262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Factors make the project “outstanding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”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, it must ask ques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, if possible, the project should have the potential to yield a seminal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4" name="Picture 5" descr="outstanding.jpg"/>
          <p:cNvPicPr/>
          <p:nvPr/>
        </p:nvPicPr>
        <p:blipFill>
          <a:blip r:embed="rId1"/>
          <a:stretch/>
        </p:blipFill>
        <p:spPr>
          <a:xfrm>
            <a:off x="6781680" y="4003560"/>
            <a:ext cx="1943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What do we do with Problems</a:t>
            </a: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4572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gnore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alk about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ry to solve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Picture 4" descr="ignore"/>
          <p:cNvPicPr/>
          <p:nvPr/>
        </p:nvPicPr>
        <p:blipFill>
          <a:blip r:embed="rId1"/>
          <a:srcRect l="0" t="0" r="0" b="14286"/>
          <a:stretch/>
        </p:blipFill>
        <p:spPr>
          <a:xfrm>
            <a:off x="5410080" y="38098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What is a Research Problem</a:t>
            </a: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a problem that someone would like to investiga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considered a situation that needs to be changed or address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educational research, the research problem is typically posed as a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762012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25142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ugs used as cancer treat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rrent treatment used to destroyed cancerous cell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wareness of Saudi population toward the a obe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d78"/>
                </a:solidFill>
                <a:latin typeface="Bookman Old Style"/>
              </a:rPr>
              <a:t>Problem</a:t>
            </a:r>
            <a:r>
              <a:rPr b="0" lang="en-US" sz="3600" spc="-1" strike="noStrike">
                <a:solidFill>
                  <a:srgbClr val="638cae"/>
                </a:solidFill>
                <a:latin typeface="Bookman Old Style"/>
              </a:rPr>
              <a:t>!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19320"/>
            <a:ext cx="4572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hoosing good problems is essential for be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ood scientis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at is a good problem, and how to choose one?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5" name="Picture 5" descr="problem"/>
          <p:cNvPicPr/>
          <p:nvPr/>
        </p:nvPicPr>
        <p:blipFill>
          <a:blip r:embed="rId1"/>
          <a:srcRect l="0" t="0" r="0" b="10000"/>
          <a:stretch/>
        </p:blipFill>
        <p:spPr>
          <a:xfrm>
            <a:off x="6019920" y="2705040"/>
            <a:ext cx="2260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 should have a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personal interes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in th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ck a topic that you already have some expertise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ick an area on the basis of the interest of the outcom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Go to talk and read papers outside your area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interest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Picking a research problem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314720" cy="18000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7439040" y="3581280"/>
            <a:ext cx="17049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GB" sz="3200" spc="-1" strike="noStrike">
                <a:solidFill>
                  <a:srgbClr val="464653"/>
                </a:solidFill>
                <a:latin typeface="Bookman Old Style"/>
              </a:rPr>
              <a:t>.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ticipate the results before doing the first stud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research that is uniq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nk Carefully before you choose a controversial top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ick a manageable top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, listen, discuss and think critical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cus, Focus, Focu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4" descr="detective2"/>
          <p:cNvPicPr/>
          <p:nvPr/>
        </p:nvPicPr>
        <p:blipFill>
          <a:blip r:embed="rId1"/>
          <a:stretch/>
        </p:blipFill>
        <p:spPr>
          <a:xfrm>
            <a:off x="6324480" y="4233960"/>
            <a:ext cx="2133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e will compare problems by imagining two axes: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160" y="15235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I.    The first is </a:t>
            </a:r>
            <a:r>
              <a:rPr b="0" i="1" lang="en-US" sz="3200" spc="-1" strike="noStrike">
                <a:solidFill>
                  <a:srgbClr val="111be1"/>
                </a:solidFill>
                <a:latin typeface="Gill Sans MT"/>
              </a:rPr>
              <a:t>feasibility ….</a:t>
            </a: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axis is a function of the skills of the  researchers and of the technology in the   lab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7343640" y="685800"/>
            <a:ext cx="1800360" cy="2085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"/>
          <p:cNvPicPr/>
          <p:nvPr/>
        </p:nvPicPr>
        <p:blipFill>
          <a:blip r:embed="rId2"/>
          <a:stretch/>
        </p:blipFill>
        <p:spPr>
          <a:xfrm>
            <a:off x="3657600" y="4219560"/>
            <a:ext cx="1600200" cy="1952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"/>
          <p:cNvPicPr/>
          <p:nvPr/>
        </p:nvPicPr>
        <p:blipFill>
          <a:blip r:embed="rId3"/>
          <a:stretch/>
        </p:blipFill>
        <p:spPr>
          <a:xfrm>
            <a:off x="990720" y="4335480"/>
            <a:ext cx="1600200" cy="1636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"/>
          <p:cNvPicPr/>
          <p:nvPr/>
        </p:nvPicPr>
        <p:blipFill>
          <a:blip r:embed="rId4"/>
          <a:stretch/>
        </p:blipFill>
        <p:spPr>
          <a:xfrm>
            <a:off x="6172200" y="4343400"/>
            <a:ext cx="2676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2:16:35Z</dcterms:created>
  <dc:creator>Gary Moore</dc:creator>
  <dc:description/>
  <dc:language>en-US</dc:language>
  <cp:lastModifiedBy>Sooad</cp:lastModifiedBy>
  <dcterms:modified xsi:type="dcterms:W3CDTF">2011-12-02T09:46:09Z</dcterms:modified>
  <cp:revision>29</cp:revision>
  <dc:subject/>
  <dc:title>Selecting a Research Problem</dc:title>
</cp:coreProperties>
</file>