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4C899-10C7-43AC-A201-607E84190E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4038D-9DDD-4819-A7E3-A606E520D9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FF1B4-A4AC-4B9D-8066-A66B126275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CB59B-D8E8-45E2-BEBF-61E877AB7B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AC82A-3195-46AF-A61D-11480BD9D7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D357C-49DD-4247-9DA2-A826BAC515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74749-7CE3-428C-87E2-D0230FC830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4FD060-D54D-46C2-971D-700390CB4D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4D850-CAD2-48BA-83AE-7EC1462BC8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E0E962-4142-4BE7-A306-A0FC817AFC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578C8-7F52-473D-A80D-1DB020DBCB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04185-1FA5-4C3E-9665-0F68A5540B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04ED1-EBB1-441A-85F8-6CA175F75E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20F2F-F8F5-4D1B-8524-4D5451E84E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EDB1E-015E-4C43-8B89-6B7212CE69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85DB16-D546-4193-89BF-FBED23B174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3C41B-E63F-4220-821F-B91B8CE77D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1206F-8EB5-457D-B186-4AA23D7A22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E3C60-FB51-4A5F-9717-29F2A56CEC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31560-B02B-429B-9B0B-4FCD5DB545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21A96-5AFF-468E-A0D9-E2A8C63DC5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D2828-5BA5-44AC-82EC-49308E874A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37535-473B-43F1-BB80-D30078B425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52C10-0EA8-4CE2-B015-15E73A79A1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3A912-FEF5-4EA1-8B45-BD1B78F78E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56F228-A632-4A3B-A407-07036B5F04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09D64-DF3F-48D7-AEE7-387F9FDCFC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9E7C4-7242-4979-B43E-BDC7A1E8FE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1CD12E-4C9F-4BAC-961C-3CF145F302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7F7005-F745-40E0-9216-F7F7FBC3AD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8D4FB-E422-4F1B-9E9B-3394589AEF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DAEDAD-1DEF-4DB8-BC79-F7F2CA6212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6B65D-1903-49F2-B6B8-5A0E123A2F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E197A-B6FB-4525-9619-66908E9878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4282A-C0E4-48CD-AC67-105B93F1EE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E426D-1EAE-44FC-A843-09D47C1F31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90DB8-D374-45B0-8C2D-117469F18B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57AA8A-1C66-4B5D-9027-4CC6A8897F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64AFAB-9DAD-4CE7-9FF6-B6DDC7E618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93DF6-5846-4C04-939D-C6ACD60561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1B6BE-3580-4D36-B460-38519D4E36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0BC6C-FA14-4472-9A5D-AF1E689A71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619B92-04B2-4752-8611-CD56085D49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300880-D215-49ED-A860-CD82CF7449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6A2EE-25B3-4585-847C-38E852D4DB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33CF78-FEF0-4410-B5DE-245EC88CEA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9B765-9F20-43DD-B2A2-D56108DE46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EE45A-652A-4DB1-AFFA-C33D5F4DC1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43871-BDA3-4F7D-ABB2-831E92A930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A0B632-1FC9-4506-882D-FDB1E94877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F8CDB-9422-49E1-A8E4-001ADFBDE8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03FC8-7980-41A9-97A2-03361C3F1E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6CA15D-C66A-4D18-A557-E59A43F5EF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388C8B-0510-4682-AD46-B803BB2B0A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A133E-427E-4B90-B38A-792FAF1624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F9CF5-C742-409D-B72B-31CDB15BBD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D567A3-5CB6-491F-B5C4-B844C59549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CFA5D-7666-44FB-BACA-A47C796E5E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D6EEA-EE03-4F62-9551-C732D1D913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725B9-4BD7-4340-8291-0B543D45FE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6C2B6F-66B0-423D-822F-897022F658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584E9-855E-4D82-8D35-37DA1C668E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100E8-7284-4808-9F75-6A696A7002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F2191-C40A-4D53-A35D-FBB89C799A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E6B0B-ED9F-4FA9-B23A-1E91BD9B4B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5510A-1FDB-44DE-8F7F-4073752C35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0768F-E973-4C01-B3F0-FD61EC8508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35636-1F26-4BA8-A66F-84C7433FB6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E358F-F7A6-441F-9D1D-75AE535990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176CB-9A54-42EA-BDD3-D356313F74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7A69A-E570-48DD-A7EC-5075C51286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78A-FD37-450E-AEA6-88A8DE2D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A1A-340B-4BA9-B7F8-AB3E99AD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8B5-09AF-47F2-ABC4-61FEEFC9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480-8D3C-4679-9E8B-54196F48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463-A07B-4D7C-A659-813115C2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941-9478-4703-92A1-9D64F7D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7B3-F8CD-4DD0-A496-AA326D00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B98E-FC75-4AEB-A664-AE48853D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9851-9CA2-408D-B179-CC9E5EA8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9C2F-B879-4052-9DF5-F390814D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13BF-05C2-4EAF-99AB-08FA1B7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B97-2845-4A24-912E-3FEBCC68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423D-D61E-4D78-B293-2ED2A7A4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823D-92BB-4423-A84F-609A314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3C47-5261-49DB-8AFD-1C2BE1F4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384B-EB9D-4615-8549-5C171AD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BA26-473B-494B-A40F-5739F7AC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D26-D9DF-4B12-8B0C-12AA49B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18C-4488-4C57-B258-46E477D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835-0758-4AD3-82F7-0BBF4CE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F5F-9C69-4992-8733-BA85471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F4B-D705-4AE5-B62A-7C48122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040-95BC-43F8-ACD3-AC77194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6A3-4CDF-4232-904F-30483DFF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FUPM - T101 - Section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FFC-BCD0-4D7F-BE08-AF415F2F2D3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FUPM - T101 - Section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AB4-625B-4B2D-8D19-508DE276799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055A-E890-4EA6-8DC2-90E23DD768D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Numerical Methods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3700" spc="-1" strike="noStrike">
                <a:solidFill>
                  <a:srgbClr val="999900"/>
                </a:solidFill>
                <a:latin typeface="Garamond"/>
              </a:rPr>
              <a:t>Solution of Systems of Linear Equation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167652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291-CE5E-4DAB-840D-CF881C6D478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t of equations is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consist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there exists no solution to the system of equations: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914400" y="2590920"/>
                <a:ext cx="692640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se equations are inconsist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7B3-29E1-4BB8-9C35-032F2E400F3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ystems of equations may hav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finite number of solu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838080" y="2362320"/>
                <a:ext cx="655344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have infinite number of solutions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 for all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CF81-57CD-47D9-AAAD-0CAC55D0555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Graphical Solution of Systems of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inear Equati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685800" y="1600200"/>
                <a:ext cx="19954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Line 4"/>
          <p:cNvSpPr/>
          <p:nvPr/>
        </p:nvSpPr>
        <p:spPr>
          <a:xfrm flipV="1">
            <a:off x="464832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71800" y="4952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3"/>
          <p:cNvSpPr/>
          <p:nvPr/>
        </p:nvSpPr>
        <p:spPr>
          <a:xfrm flipH="1" flipV="1">
            <a:off x="3962520" y="2895120"/>
            <a:ext cx="30477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6"/>
          <p:cNvSpPr/>
          <p:nvPr/>
        </p:nvSpPr>
        <p:spPr>
          <a:xfrm flipH="1" flipV="1">
            <a:off x="3428640" y="3200040"/>
            <a:ext cx="4343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5181480" y="33526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791320" y="2819520"/>
            <a:ext cx="2438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traight Connector 22"/>
          <p:cNvSpPr/>
          <p:nvPr/>
        </p:nvSpPr>
        <p:spPr>
          <a:xfrm>
            <a:off x="5105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5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traight Connector 26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traight Connector 27"/>
          <p:cNvSpPr/>
          <p:nvPr/>
        </p:nvSpPr>
        <p:spPr>
          <a:xfrm>
            <a:off x="64771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28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29"/>
          <p:cNvSpPr/>
          <p:nvPr/>
        </p:nvSpPr>
        <p:spPr>
          <a:xfrm flipH="1">
            <a:off x="457164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30"/>
          <p:cNvSpPr/>
          <p:nvPr/>
        </p:nvSpPr>
        <p:spPr>
          <a:xfrm flipH="1">
            <a:off x="45716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31"/>
          <p:cNvSpPr/>
          <p:nvPr/>
        </p:nvSpPr>
        <p:spPr>
          <a:xfrm flipH="1">
            <a:off x="457164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32"/>
          <p:cNvSpPr/>
          <p:nvPr/>
        </p:nvSpPr>
        <p:spPr>
          <a:xfrm flipH="1">
            <a:off x="457164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BBB-8912-4792-BC77-1BDE62AD2B6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amer’s Rule is Not Practi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717480" y="1600200"/>
                <a:ext cx="7969320" cy="45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ramer's Rule can be used to solve the system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</m:m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ramer's Rule is not practical for large systems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olve N</m:t>
                        </m:r>
                        <m:r>
                          <m:rPr>
                            <m:lit/>
                            <m:nor/>
                          </m:rPr>
                          <m:t xml:space="preserve"> by N</m:t>
                        </m:r>
                        <m:r>
                          <m:rPr>
                            <m:lit/>
                            <m:nor/>
                          </m:rPr>
                          <m:t xml:space="preserve"> system requires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! multiplicatio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olve a 30 by 30 system,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ultiplications are need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can be used if the determinants are computed in efficient way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Rectangle 4"/>
          <p:cNvSpPr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BB8-400F-42BE-A3E8-1701AEB2966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ive Gaussian Eli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cture 13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6FCB-F285-4980-9C81-976DB66CEA9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thod consists of two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ward Elimin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system is reduced to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upper triangular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sequence of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elementary oper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ckward Substitu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olve the system starting from the last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219320" y="4343400"/>
                <a:ext cx="684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5"/>
          <p:cNvSpPr/>
          <p:nvPr/>
        </p:nvSpPr>
        <p:spPr>
          <a:xfrm>
            <a:off x="4952880" y="4724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33520" y="1523880"/>
            <a:ext cx="8076960" cy="449604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5D45-20A0-4E10-84FE-F276FEC288C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lementary Row Oper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0010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a multiple of one row to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 any row by a non-zero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E38-EF0C-40FE-AFC5-085E618230B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790560" y="1600200"/>
                <a:ext cx="5229360" cy="45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  <m:e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 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ward Elim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tep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, 3, 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D5E-50A1-44EE-BD81-D6106F2479E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923760" y="1600200"/>
                <a:ext cx="4783320" cy="45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2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tep3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 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860D-D4AE-4241-91A5-D7484B0A184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380880" y="2133720"/>
                <a:ext cx="845532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mmary of the Forward  Elimination: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  <m:e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BFA0-8420-4640-A240-E3B74E71EFD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Vector, Matrices, and</a:t>
            </a:r>
            <a:br>
              <a:rPr sz="3600"/>
            </a:b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Linear Equation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29B-A6C9-4B23-85AF-078D5468989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990720" y="1828800"/>
                <a:ext cx="7192800" cy="39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ve  for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ve  for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lve f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40B8-83C3-4FE9-92DE-6F683CFECEF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685800" y="1828800"/>
                <a:ext cx="7742160" cy="42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←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To eliminate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←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5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7770-D4B6-45DB-811A-A6CDA2BEC64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533520" y="2286000"/>
                <a:ext cx="8080200" cy="27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←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k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Continue until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eliminat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380880" y="1828800"/>
            <a:ext cx="8382240" cy="3809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558-AE6D-4778-9B0F-A0E755FC3DA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838080" y="1752480"/>
                <a:ext cx="4662720" cy="424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Rectangle 5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2FF-C09C-4DE8-BA4A-F1586D9A38C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mmary of the Naive Gaussian Elim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s with Naive Gaussian Elim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Failure due to zero pivot el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seudo-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21B5-9586-415C-84AE-982D2D9884A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thod consists of two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ward Elimin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system is reduced t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upper triangular 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A sequence of </a:t>
            </a: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elementary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ckward Substit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olve the system starting from the last variable. Solve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47920" y="3352680"/>
                <a:ext cx="684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066E-036E-4FA3-AA9B-4D130CFA845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512640" y="1600200"/>
                <a:ext cx="8479080" cy="428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sing  Naive  Gaussian  Elimin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 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ward  Elimin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___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p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hange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7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079-E336-417B-8B76-690E8641135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93640" y="1447920"/>
                <a:ext cx="7954920" cy="40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 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ward Elimin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p2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hanged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hange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7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351-2AF9-48FF-8C7E-99DFC91A9C8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762120" y="1765440"/>
                <a:ext cx="5486400" cy="45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,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 is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7625-7AAD-4709-A000-3EAB86A2D7B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rmina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677880" y="2197080"/>
                <a:ext cx="7786800" cy="31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lementary operations do not affect the determin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: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mentary operations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A'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34E-0A74-4E31-848C-5CA95DEB0D7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ECT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1"/>
              <p:cNvSpPr txBox="1"/>
              <p:nvPr/>
            </p:nvSpPr>
            <p:spPr>
              <a:xfrm>
                <a:off x="797040" y="1828800"/>
                <a:ext cx="73166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 one dimensional array of numb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w vector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lumn vector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dentit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ctor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Rectangle 42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55F0-A514-4B0D-88F2-0FB1064A735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How Many Solutions Does a System of Equations AX=B Have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39640" y="1700280"/>
                <a:ext cx="7559640" cy="35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 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fini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duced 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duced 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duced matri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no zero row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 one or more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 one or more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ero row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ero row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ing 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ing 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elements 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ents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Line 4"/>
          <p:cNvSpPr/>
          <p:nvPr/>
        </p:nvSpPr>
        <p:spPr>
          <a:xfrm>
            <a:off x="2916360" y="1700280"/>
            <a:ext cx="71280" cy="3600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508720" y="1773360"/>
            <a:ext cx="71280" cy="3600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0C44-3FFC-4073-B54E-91A252F6209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798480" y="1789200"/>
                <a:ext cx="7518600" cy="39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 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finte # of solutions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finite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s</m:t>
                        </m:r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ssible</m:t>
                    </m:r>
                    <m:r>
                      <m:t xml:space="preserve">!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4"/>
          <p:cNvSpPr/>
          <p:nvPr/>
        </p:nvSpPr>
        <p:spPr>
          <a:xfrm>
            <a:off x="3048120" y="1676520"/>
            <a:ext cx="0" cy="4249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5635800" y="1676520"/>
            <a:ext cx="2880" cy="4176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seudo-Code: Forward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k = 1 to n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= k+1 to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or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,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j = k+1 to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factor *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,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factor *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09D5-2D77-49A4-85B2-F92805410FA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seudo-Code: Back Substit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,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= n-1 downto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j = i+1 to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 = sum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*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sum /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ECF7-C5C7-43C9-BD95-BE75887F206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E3B-3694-467B-9C94-3B65E96A179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9900"/>
                </a:solidFill>
                <a:latin typeface="Garamond"/>
              </a:rPr>
              <a:t>Gaussian Elimination with Scaled Partial Pivoting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s with Naive Gaussian Elimi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itions and Initial st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ward Elimi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ward sub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72DA-78C5-480F-A2E9-49D2854DD81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Problems with Naive Gaussian Elimina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Naive Gaussian Elimination may fail for very simple ca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ivoting element is zero)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Verdana"/>
              </a:rPr>
              <a:t>Very small pivoting element may result in serious computation err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73200" y="2514600"/>
                <a:ext cx="27702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600200" y="4827600"/>
                <a:ext cx="3041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C640-28F0-4D12-865C-13C7DC6111C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533520" y="1882800"/>
                <a:ext cx="8089920" cy="37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ve the following system using Gaussian Elim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Scaled Partial Pivoting:</m:t>
                        </m:r>
                      </m:e>
                      <m:e/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EEE-EAB3-4967-90CE-CF742C8D220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Initialization step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212840" y="1905120"/>
                <a:ext cx="5721480" cy="41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 vector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ex Vector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Oval 4"/>
          <p:cNvSpPr/>
          <p:nvPr/>
        </p:nvSpPr>
        <p:spPr>
          <a:xfrm>
            <a:off x="3124080" y="1981080"/>
            <a:ext cx="381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3809880" y="2666880"/>
            <a:ext cx="381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2362320" y="3352680"/>
            <a:ext cx="38088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3124080" y="3962520"/>
            <a:ext cx="38124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086600" y="1676520"/>
            <a:ext cx="20574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cale ve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disregard 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find largest in magnitude in each 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E5B5-88D5-4592-947E-CCDA2B830AB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y Index Vector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x vectors are used because it is much easier to exchange a single index element compared to exchanging the values of a complete r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actical problems with very large N, exchanging the contents of rows may not be pract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7145-D169-4BD5-A98A-512862D0EF0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404640" y="1852560"/>
                <a:ext cx="8496360" cy="41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lection of the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tio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5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4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s to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 4 is the first pivot equation  Exchange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Rectangle 4"/>
          <p:cNvSpPr/>
          <p:nvPr/>
        </p:nvSpPr>
        <p:spPr>
          <a:xfrm flipH="1">
            <a:off x="5181480" y="4038480"/>
            <a:ext cx="4572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6F2-BBE2-4E76-8182-A653165E5F0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914400" y="1828800"/>
                <a:ext cx="70660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 two dimensional array of numb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matrix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  <m:r>
                              <m:t xml:space="preserve"> </m:t>
                            </m:r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dentity matrix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agonal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diagonal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Line 4"/>
          <p:cNvSpPr/>
          <p:nvPr/>
        </p:nvSpPr>
        <p:spPr>
          <a:xfrm>
            <a:off x="2286000" y="4267080"/>
            <a:ext cx="144792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590920" y="4038480"/>
            <a:ext cx="144756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6172200" y="480060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6934320" y="403848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7CB3-B8FC-47D4-8F3C-E71E184E221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684360" y="1752480"/>
                <a:ext cx="5864040" cy="42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pdate A and 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Rectangle 4"/>
          <p:cNvSpPr/>
          <p:nvPr/>
        </p:nvSpPr>
        <p:spPr>
          <a:xfrm>
            <a:off x="1447920" y="3657600"/>
            <a:ext cx="175248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343400" y="3657600"/>
            <a:ext cx="3808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447920" y="5562720"/>
            <a:ext cx="304776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867280" y="5562720"/>
            <a:ext cx="4572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5638680" y="28195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rst pivot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4952880" y="380988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2C58-59B4-478C-ACBD-C41FB38A07A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2: eliminate x2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731880" y="1855800"/>
                <a:ext cx="8137440" cy="45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ion of the second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atios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5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8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Line 4"/>
          <p:cNvSpPr/>
          <p:nvPr/>
        </p:nvSpPr>
        <p:spPr>
          <a:xfrm flipH="1">
            <a:off x="4495680" y="4648320"/>
            <a:ext cx="763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5105520" y="4648320"/>
            <a:ext cx="75960" cy="6094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5715000" y="4648320"/>
            <a:ext cx="304920" cy="68580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562720" y="5334120"/>
            <a:ext cx="685800" cy="9144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5867280" y="5943600"/>
            <a:ext cx="2133720" cy="4572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248" h="480">
                <a:moveTo>
                  <a:pt x="0" y="288"/>
                </a:moveTo>
                <a:cubicBezTo>
                  <a:pt x="232" y="384"/>
                  <a:pt x="464" y="480"/>
                  <a:pt x="672" y="432"/>
                </a:cubicBezTo>
                <a:cubicBezTo>
                  <a:pt x="880" y="384"/>
                  <a:pt x="1152" y="72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97AF-9DCA-470A-A43A-BB2C2827D4B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3: eliminate x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533520" y="1963800"/>
                <a:ext cx="5333760" cy="41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Rectangle 4"/>
          <p:cNvSpPr/>
          <p:nvPr/>
        </p:nvSpPr>
        <p:spPr>
          <a:xfrm>
            <a:off x="1905120" y="2438280"/>
            <a:ext cx="1828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400800" y="16444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pivot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6"/>
          <p:cNvSpPr/>
          <p:nvPr/>
        </p:nvSpPr>
        <p:spPr>
          <a:xfrm flipH="1">
            <a:off x="5943600" y="266688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3D07-7090-4796-B3E1-5CF7783B80C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800"/>
            </a:b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917640" y="1808280"/>
                <a:ext cx="7413480" cy="41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[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,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6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3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27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3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B7F3-52A2-44C3-B98C-E931CA6FE23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85800" y="1752480"/>
                <a:ext cx="768816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ve the following sytstem using Gaussian Elim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Scaled Partial Pivoting</m:t>
                        </m:r>
                      </m:e>
                      <m:e/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B7D-CF3A-4866-BCE0-64919CC0B77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Initialization step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1212840" y="1905120"/>
                <a:ext cx="5721480" cy="41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 vector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ex Vector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Oval 4"/>
          <p:cNvSpPr/>
          <p:nvPr/>
        </p:nvSpPr>
        <p:spPr>
          <a:xfrm>
            <a:off x="3124080" y="1981080"/>
            <a:ext cx="381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3733920" y="2666880"/>
            <a:ext cx="4572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2133720" y="3352680"/>
            <a:ext cx="9144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Oval 7"/>
          <p:cNvSpPr/>
          <p:nvPr/>
        </p:nvSpPr>
        <p:spPr>
          <a:xfrm>
            <a:off x="3124080" y="3962520"/>
            <a:ext cx="45720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AA7C-4305-4B91-8AB0-AB9FD9946B1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380880" y="1828800"/>
                <a:ext cx="8545680" cy="42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lection of the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tio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5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4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s to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 4 is the first pivot equation  Exchange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Rectangle 4"/>
          <p:cNvSpPr/>
          <p:nvPr/>
        </p:nvSpPr>
        <p:spPr>
          <a:xfrm flipH="1">
            <a:off x="5181480" y="4038480"/>
            <a:ext cx="4572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70BB-9FB3-40E3-9ECB-934C2183E3E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609480" y="1752480"/>
                <a:ext cx="6018480" cy="42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pdate A and 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4"/>
          <p:cNvSpPr/>
          <p:nvPr/>
        </p:nvSpPr>
        <p:spPr>
          <a:xfrm>
            <a:off x="1371600" y="3657600"/>
            <a:ext cx="1828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43400" y="3657600"/>
            <a:ext cx="3808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371600" y="5562720"/>
            <a:ext cx="32004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5867280" y="5486400"/>
            <a:ext cx="6098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6838-64A4-4411-A3FE-2BDFDB9CE87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2: eliminate x2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95160" y="1752480"/>
                <a:ext cx="8058240" cy="464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ion of the second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atios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8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4"/>
          <p:cNvSpPr/>
          <p:nvPr/>
        </p:nvSpPr>
        <p:spPr>
          <a:xfrm flipH="1">
            <a:off x="4572000" y="457200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5257800" y="4572000"/>
            <a:ext cx="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5791320" y="4572000"/>
            <a:ext cx="228600" cy="76212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876920" y="5105520"/>
            <a:ext cx="838080" cy="10666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E911-2130-4EF0-8DE4-ED6B3141C96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2: eliminate x2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838080" y="1523880"/>
                <a:ext cx="5994360" cy="466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pdating A and 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5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8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1523880" y="2819520"/>
            <a:ext cx="2819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5CFE-9505-42FD-A3CE-10D994AFA68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762120" y="1828800"/>
                <a:ext cx="776124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ymmetric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pper triangular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Rectangle 5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7"/>
          <p:cNvSpPr/>
          <p:nvPr/>
        </p:nvSpPr>
        <p:spPr>
          <a:xfrm flipH="1" flipV="1">
            <a:off x="6476400" y="2361600"/>
            <a:ext cx="1904760" cy="2057400"/>
          </a:xfrm>
          <a:prstGeom prst="rtTriangle">
            <a:avLst/>
          </a:pr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BA90-89D1-430D-B5E6-20D524E0228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3: eliminate x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380880" y="1523880"/>
                <a:ext cx="8434440" cy="463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ion of the third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5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8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atios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619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857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Line 4"/>
          <p:cNvSpPr/>
          <p:nvPr/>
        </p:nvSpPr>
        <p:spPr>
          <a:xfrm flipH="1">
            <a:off x="4876560" y="4267080"/>
            <a:ext cx="75960" cy="6858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5562720" y="4343400"/>
            <a:ext cx="304560" cy="76212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4114800" y="5029200"/>
            <a:ext cx="1219320" cy="9144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363-99BE-4D65-A951-5336186D8D6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3: eliminate x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533520" y="1676520"/>
                <a:ext cx="5908680" cy="41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5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8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4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6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9DB9-AC40-4F8F-BBC3-80424184982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800"/>
            </a:b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554040" y="1685880"/>
                <a:ext cx="8059680" cy="40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4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6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[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69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4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4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7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4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8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6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7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02D-A613-4286-A3EA-C8182634848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How Do We Know If a Solution is Good or Not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n AX=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a solution if AX-B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 the residual vector R= AX-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rounding error, R may not be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71680" y="4495680"/>
                <a:ext cx="789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solution is acceptable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7FA-6D93-4116-BA6E-0F33E6C3E87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Good is the Solutio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-49320" y="1523880"/>
                <a:ext cx="9193320" cy="42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7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6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8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24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due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857-F962-471D-A64A-E57C1F38C56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marks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use index vector to avoid the need to move the rows which may not be practical for larg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order the equation as in the last value of the index vector, we have a triangular for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vector is formed by taking maximum in magnitude in each ro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vector does not cha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iginal matrices A and B are used in checking the residua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F835-3136-4F11-A9E0-793806D0599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7816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999900"/>
                </a:solidFill>
                <a:latin typeface="Garamond"/>
              </a:rPr>
              <a:t>Tridiagonal &amp; Banded Systems</a:t>
            </a:r>
            <a:br>
              <a:rPr sz="3500"/>
            </a:br>
            <a:r>
              <a:rPr b="1" lang="en-US" sz="3500" spc="-1" strike="noStrike">
                <a:solidFill>
                  <a:srgbClr val="999900"/>
                </a:solidFill>
                <a:latin typeface="Garamond"/>
              </a:rPr>
              <a:t> and Gauss-Jordan Method</a:t>
            </a:r>
            <a:endParaRPr b="0" lang="en-US" sz="3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diagonal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gonal Domi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diagonal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uss-Jordan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2C8-07C3-4A22-B63B-2043B032CD8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diagonal System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on-zero elements are in 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ain diag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uper diag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subdiag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=0  if   |i-j| &gt;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1600200" y="2362320"/>
            <a:ext cx="2057400" cy="304560"/>
          </a:xfrm>
          <a:prstGeom prst="roundRect">
            <a:avLst>
              <a:gd name="adj" fmla="val 16667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4572000" y="2060640"/>
                <a:ext cx="4321080" cy="27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AutoShape 5"/>
          <p:cNvSpPr/>
          <p:nvPr/>
        </p:nvSpPr>
        <p:spPr>
          <a:xfrm rot="2685000">
            <a:off x="4284360" y="3500280"/>
            <a:ext cx="2881080" cy="360360"/>
          </a:xfrm>
          <a:prstGeom prst="roundRect">
            <a:avLst>
              <a:gd name="adj" fmla="val 16667"/>
            </a:avLst>
          </a:prstGeom>
          <a:solidFill>
            <a:srgbClr val="8000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idiagonal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2" name="AutoShape 7"/>
          <p:cNvSpPr/>
          <p:nvPr/>
        </p:nvSpPr>
        <p:spPr>
          <a:xfrm rot="2685000">
            <a:off x="4806720" y="2975040"/>
            <a:ext cx="2711160" cy="287280"/>
          </a:xfrm>
          <a:prstGeom prst="roundRect">
            <a:avLst>
              <a:gd name="adj" fmla="val 16667"/>
            </a:avLst>
          </a:prstGeom>
          <a:solidFill>
            <a:srgbClr val="00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AutoShape 8"/>
          <p:cNvSpPr/>
          <p:nvPr/>
        </p:nvSpPr>
        <p:spPr>
          <a:xfrm rot="2685000">
            <a:off x="4215960" y="3196800"/>
            <a:ext cx="3384720" cy="320760"/>
          </a:xfrm>
          <a:prstGeom prst="roundRect">
            <a:avLst>
              <a:gd name="adj" fmla="val 1666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838080" y="3048120"/>
            <a:ext cx="1524240" cy="304560"/>
          </a:xfrm>
          <a:prstGeom prst="roundRect">
            <a:avLst>
              <a:gd name="adj" fmla="val 16667"/>
            </a:avLst>
          </a:prstGeom>
          <a:solidFill>
            <a:srgbClr val="8000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914400" y="2666880"/>
            <a:ext cx="1905120" cy="381240"/>
          </a:xfrm>
          <a:prstGeom prst="roundRect">
            <a:avLst>
              <a:gd name="adj" fmla="val 16667"/>
            </a:avLst>
          </a:prstGeom>
          <a:solidFill>
            <a:srgbClr val="0000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130-A673-47C2-A485-C78615D156A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9152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 in many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ess stor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4n-2   compared to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+n for the general cas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ion of pivoting rows is unnecessary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under some condi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fficient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lved by Gaussian eli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idiagonal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EA5-50EE-4333-A41F-80847BEAE09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Naive Gaussian elimin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n previous Gaussian elimination algorith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elimination st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ward substitution st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in th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uper diago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not affec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in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in diago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eed upd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gorithm to Solve Tridiagonal System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D07-B642-4DF9-B014-B1E5A25CA0E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Determinant of a 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685800" y="1981080"/>
                <a:ext cx="586908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d for square matrices on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27E2-BECC-403C-B21C-A9046D91ADB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idiagonal Syst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609480" y="2286000"/>
                <a:ext cx="7971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ll the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elements will be zeros, need to update the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eleme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lements are not updated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</m:mr>
                              <m:mr>
                                <m:e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</m:mr>
                              <m:mr>
                                <m:e/>
                                <m:e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9147-7150-487A-9793-EAD70EBC6B2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agonal Domina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468360" y="1692360"/>
                <a:ext cx="7920000" cy="40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he magnitude of each diagonal element is larger than</m:t>
                    </m:r>
                    <m:r>
                      <m:rPr>
                        <m:lit/>
                        <m:nor/>
                      </m:rPr>
                      <m:t xml:space="preserve">the sum of elements in the corresponding ro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805-6562-4F73-900A-4F7E83651E6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agonal Domina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457200" y="1819440"/>
                <a:ext cx="8064360" cy="32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agon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domin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  Diagonally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min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1" name="Rectangle 4"/>
          <p:cNvSpPr/>
          <p:nvPr/>
        </p:nvSpPr>
        <p:spPr>
          <a:xfrm>
            <a:off x="5651640" y="3500280"/>
            <a:ext cx="1587240" cy="3859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562720" y="4038480"/>
            <a:ext cx="1676160" cy="38124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4AE-D3F7-4EEA-B9B9-4A40AEE7C4D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Diagonally Dominant Tridiagonal System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idiagonal system is diagonally dominant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ward Elimination preserves diagonal domin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1258920" y="2374920"/>
                <a:ext cx="6335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8524-585C-41B3-B600-3AF89A0846E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ving Tridiagonal Syst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641600" y="1655640"/>
                <a:ext cx="4921200" cy="43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  Elimination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ckward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bstit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7CC-8811-4520-A4BA-2E7600E5D0A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6560" y="1676520"/>
                <a:ext cx="7416720" cy="45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6CBC-DDBD-4702-9D5A-1AA487D3DAE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684360" y="1655640"/>
                <a:ext cx="7848360" cy="40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DF4C-CAC3-4ADF-AD7E-3C5B820F459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the Forward Elimin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ckward Substitu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560600" y="1779480"/>
                <a:ext cx="6211800" cy="44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5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19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5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19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19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5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5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97C9-4B35-476A-BFBA-A8CF85EDC14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thod reduces the general system of equations AX=B to IX=B where I is an identity matri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Forward elimination is done and no backward substitution is nee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he same problems as Naive Gaussian elimination and can be modified to do partial scaled pivo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akes 50% more time than Naive Gaussian meth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29D8-FA80-4475-820C-00E2D1C4B60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814320" y="1676520"/>
                <a:ext cx="612000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inat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4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4A6-7DA9-4020-89CD-350E82A56B9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dding and Multiplying 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762120" y="1752480"/>
                <a:ext cx="7122960" cy="39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addition of two matrices A and 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Defined only if they have the same si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ultiplication of two matrices 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B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The product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 is defined only if m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450-7154-46C5-BB73-E4D6F56AFDF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739800" y="1676520"/>
                <a:ext cx="7489800" cy="44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inat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6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0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0ECF-9801-445C-9A11-1C509B40835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893880" y="1676520"/>
                <a:ext cx="6192720" cy="40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inat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667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8333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7566-4967-428C-A5A7-CC83C13A0BA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11280" y="1773360"/>
                <a:ext cx="7993080" cy="43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orm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1CAA-ADD9-47EC-A914-59B647967AB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ystem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52520" y="1527120"/>
                <a:ext cx="85392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A system of linear equations can be presen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different forms</m:t>
                        </m:r>
                      </m:e>
                      <m:e/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Standard form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             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        Matrix for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90D-44BC-4D2C-8BFF-4655110710D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762120" y="2057400"/>
                <a:ext cx="7543800" cy="22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a solution to the following equations: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PHILIPS</dc:creator>
  <dc:description/>
  <dc:language>en-US</dc:language>
  <cp:lastModifiedBy>PHILIPS</cp:lastModifiedBy>
  <dcterms:modified xsi:type="dcterms:W3CDTF">2016-03-21T07:03:01Z</dcterms:modified>
  <cp:revision>146</cp:revision>
  <dc:subject/>
  <dc:title>Slide 1</dc:title>
</cp:coreProperties>
</file>