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55F924-ADD5-4019-BAD6-8392338323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96649-9A89-4216-988F-04DE312142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E3DD6D-DD11-49AD-B046-A72BCF6AF8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4E3E85-F6CF-4EBA-8570-35B9FB6F5A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E62D1D-68B2-4E78-BD2E-AB0F8B4E0E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7B0193-4209-431E-AE3E-81F2A641AF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268C09-A4F8-4848-8AE2-D7F80C0982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A8B1E2-A147-42D3-A3EA-FBC5D935F8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21A6E-5134-4EE5-A05F-D72A6E7FB7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663147-8115-4EEF-BFEE-F5DBDFB829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5B4B76-0FCD-438E-8F17-6FC55F3766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6C80FC-E227-49B2-AD41-C58ADA44F7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11A341-6F3E-4208-95CC-45F3095DA6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BF8666-C85A-41BB-B808-730DB4AEC7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3A7DA-D372-4DD1-B635-9BA80264B4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8F0CF6-314F-46E4-AA07-B6249FA29D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EAE953-C3A1-42D1-82F4-08BA109D84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D5B83A-3138-4EBE-A586-4DFD807636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A002E1-B897-4860-81AB-EE3AEA6337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49CF47-A6F1-400D-B528-4EA91D114D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E8F6B-BCFB-4814-9133-7F370E3635F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55AFA4-A8CF-4EC6-95D5-29E449910C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228664-7B97-499D-8278-C741FCC485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AB3C7E-8AFE-4825-9C72-4CF7C87FE5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2830C4-73AC-4318-A5D6-1E5B0E364B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57AF4B-4D3C-4F2E-9341-4D4ACFE693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3170B3-7D11-4EE3-8F67-FC004E35F7E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00370B-DD5E-4DDD-9CA1-C4E7AF44FDF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BF4D2C-4AF3-427D-B7CE-ED1AC5DFEA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EFF695-22AE-4204-B098-FE15603E2A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E49F63-C22D-4D09-8BDF-446741B20B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EB7FCD-151C-4F42-9846-04ED1838E6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7CA2B8-E362-4F38-A95C-D94C6269FC1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C8099-C482-47C1-A771-D6CF5D8A5E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65AB63-F50E-4379-854C-089AB8B242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869EB-4EF4-4D14-9703-EBDE6B62DB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BE3BBF-4718-4270-87C6-DC48972647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FD7E5A-1FA7-4109-973E-B6A5E07E8D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1447D-D40F-4971-B505-703794DD73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5D965D-92A8-4E65-8787-C35F286710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9E5C95-079C-4747-904E-7B383951C0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E4E393-F34C-4ED7-9B05-48454E0781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F36E98-903B-4D6B-B4A4-6E23176A40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1C59BE-09D2-4E12-9EAD-EE69D18D0C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7CB480-29BD-4771-94DD-2CCF3E2F0C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B30D1C-DC3B-4E94-9757-9A700D3DC6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CD3907-034D-48F5-A0DF-7C3C29BA46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1F258D-D4FD-458A-A9FE-0AB917DD88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581624-60BF-4F55-AF44-0AA2BB3C03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35EE9D-E66B-44CB-8877-CDCF6D68E3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660131-E152-40A4-A879-FBEA93BF55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AB034A-181F-4591-90BA-F421263090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F2FAD7-A0F6-450B-BFED-7E2FDACE84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BC039-34F8-43D9-92D2-6B2638576E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91A117-D50B-4684-8D2A-394E20A21B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20F272-6120-4B5C-987F-2B7890B32C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8017AC-08A1-4BEC-B83B-5C9EAD36AC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AB92B2-5B42-4842-AC59-B4EC5CCA19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DDC3C8-228D-4FDB-B221-54B42C9E64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C08F1-2478-48C4-AB65-EE3701FB6A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3DF39-C78C-414C-B561-8523128CD5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8475BE-F201-42E4-92F8-3D34158EA8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1FD467-415B-40A1-842F-40F92B4D25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9BA2C8-3605-4CF0-8ED4-B591DBB46A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083952-E8C1-4178-B151-AD791D2062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5A51D-ECF5-4496-BA87-C13C9FAFA1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BB000C-02DE-4A8D-B75B-9AC286A7D0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58A3BC-D7D1-4B43-8CA4-F57DD86365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40B547-1F34-4E82-89DD-49907518EA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B0640A-CC8F-4469-B9AA-9156732CA3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C383B7-8459-448B-AEF1-EE50C5D5E7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08D-D314-4ABE-89A3-6D9C807C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0BA-10D1-49D3-83C1-49893BCC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9D7-8586-4040-99B8-6618E1DB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8FC-056A-46DD-B615-CD364E84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EE0A-C4C0-4FB6-9C00-51090AED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805F-6CA3-4003-9068-39494BB0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8612-6577-4892-BCBF-73E3A4C4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9A51-E465-4B14-8A4F-B2BDF9D9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D87C-64B4-4E63-AA5D-3E6D3D12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1387-10D1-4F85-8C9B-8AA96146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F609-F557-4953-B805-F63E5AD4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1B8-C334-49A4-A44B-441D487E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6164-33B9-4250-B131-4A65FB74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3FB6-B2F0-404C-8344-BCD2B59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359E-BE18-40D8-91C8-BF61B6AA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1C6B-2EE3-45AF-BDDE-65E79A9F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B3A5-B4BF-4012-9D72-48E2985C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2FD-26E2-4C82-8644-A908E4F1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4F7-BE8C-43CD-9217-8691B86E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C4F-3568-48E6-B9B0-37B14531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F4A-D4E0-4B7F-9B64-E92A71AC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162-0D45-493E-B628-8C1D7EAF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E24-6B2E-4AE9-B0FE-2D2C354A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087-48ED-46EF-97EF-697456D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FUPM - T101 - Section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F9BD-3A1F-47A7-9C92-5957BDD4045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SE301_Topic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FUPM - T101 - Section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1AA9-5B7C-4702-A212-2768017F260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B3A1-C1FE-4392-A6BE-AB3F32E6123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04920" y="685800"/>
            <a:ext cx="84582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9900"/>
                </a:solidFill>
                <a:latin typeface="Garamond"/>
              </a:rPr>
              <a:t>Numerical Methods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3700" spc="-1" strike="noStrike">
                <a:solidFill>
                  <a:srgbClr val="999900"/>
                </a:solidFill>
                <a:latin typeface="Garamond"/>
              </a:rPr>
              <a:t>Solution of Systems of Linear Equation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57200" y="1676520"/>
            <a:ext cx="8229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28600" y="3124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9C8F-E638-4390-A911-910A19E9BD9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s of Linear Equ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t of equations is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consist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there exists no solution to the system of equations: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914400" y="2590920"/>
                <a:ext cx="6926400" cy="23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se equations are inconsist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9AC1-A3F0-440F-992A-CA33EF73A1D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s of Linear Equ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ystems of equations may hav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finite number of solu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838080" y="2362320"/>
                <a:ext cx="655344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have infinite number of solutions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 for all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DE6C-3665-422D-BF8C-3A312FAC8F9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Graphical Solution of Systems of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Linear Equati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685800" y="1600200"/>
                <a:ext cx="19954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Line 4"/>
          <p:cNvSpPr/>
          <p:nvPr/>
        </p:nvSpPr>
        <p:spPr>
          <a:xfrm flipV="1">
            <a:off x="464832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71800" y="49528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3"/>
          <p:cNvSpPr/>
          <p:nvPr/>
        </p:nvSpPr>
        <p:spPr>
          <a:xfrm flipH="1" flipV="1">
            <a:off x="3962520" y="2895120"/>
            <a:ext cx="30477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6"/>
          <p:cNvSpPr/>
          <p:nvPr/>
        </p:nvSpPr>
        <p:spPr>
          <a:xfrm flipH="1" flipV="1">
            <a:off x="3428640" y="3200040"/>
            <a:ext cx="43434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7"/>
          <p:cNvSpPr/>
          <p:nvPr/>
        </p:nvSpPr>
        <p:spPr>
          <a:xfrm flipH="1">
            <a:off x="5181480" y="33526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5791320" y="2819520"/>
            <a:ext cx="24382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1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traight Connector 22"/>
          <p:cNvSpPr/>
          <p:nvPr/>
        </p:nvSpPr>
        <p:spPr>
          <a:xfrm>
            <a:off x="51055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traight Connector 25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traight Connector 26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traight Connector 27"/>
          <p:cNvSpPr/>
          <p:nvPr/>
        </p:nvSpPr>
        <p:spPr>
          <a:xfrm>
            <a:off x="64771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traight Connector 28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traight Connector 29"/>
          <p:cNvSpPr/>
          <p:nvPr/>
        </p:nvSpPr>
        <p:spPr>
          <a:xfrm flipH="1">
            <a:off x="457164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traight Connector 30"/>
          <p:cNvSpPr/>
          <p:nvPr/>
        </p:nvSpPr>
        <p:spPr>
          <a:xfrm flipH="1">
            <a:off x="457164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31"/>
          <p:cNvSpPr/>
          <p:nvPr/>
        </p:nvSpPr>
        <p:spPr>
          <a:xfrm flipH="1">
            <a:off x="4571640" y="3581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traight Connector 32"/>
          <p:cNvSpPr/>
          <p:nvPr/>
        </p:nvSpPr>
        <p:spPr>
          <a:xfrm flipH="1">
            <a:off x="457164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7D2D-D9FF-4533-8CD6-A4F4D7BDA77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amer’s Rule is Not Practi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717480" y="1600200"/>
                <a:ext cx="7969320" cy="45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ramer's Rule can be used to solve the system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</m:m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</m:m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mr>
                                </m:m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</m:m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ramer's Rule is not practical for large systems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solve N</m:t>
                        </m:r>
                        <m:r>
                          <m:rPr>
                            <m:lit/>
                            <m:nor/>
                          </m:rPr>
                          <m:t xml:space="preserve"> by N</m:t>
                        </m:r>
                        <m:r>
                          <m:rPr>
                            <m:lit/>
                            <m:nor/>
                          </m:rPr>
                          <m:t xml:space="preserve"> system requires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N! multiplicatio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solve a 30 by 30 system,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ultiplications are need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can be used if the determinants are computed in efficient way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Rectangle 4"/>
          <p:cNvSpPr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634-6B51-40FB-BE3A-209A81998E9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ive Gaussian Elimi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cture 13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ive Gaussian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2CE4-8FEA-48F5-A44C-361087BBFCA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ive Gaussian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thod consists of two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ward Elimin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system is reduced to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upper triangular for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sequence of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elementary oper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us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ckward Substitu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olve the system starting from the last vari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219320" y="4343400"/>
                <a:ext cx="684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Line 5"/>
          <p:cNvSpPr/>
          <p:nvPr/>
        </p:nvSpPr>
        <p:spPr>
          <a:xfrm>
            <a:off x="4952880" y="4724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33520" y="1523880"/>
            <a:ext cx="8076960" cy="449604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3E83-576E-4FF4-BD10-2BC20E9DAA5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lementary Row Oper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0010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a multiple of one row to an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 any row by a non-zero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1F18-C6DF-4174-9392-058D5143BCA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790560" y="1600200"/>
                <a:ext cx="5229360" cy="45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  <m:e>
                                  <m:r>
                                    <m:t xml:space="preserve">9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 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ward Elimin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tep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, 3, 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3F9D-8D7E-4450-8217-AE555985733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923760" y="1600200"/>
                <a:ext cx="4783320" cy="45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p2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tep3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 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6B15-604C-4EA6-A82C-A36B1847587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380880" y="2133720"/>
                <a:ext cx="845532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mmary of the Forward  Elimination: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  <m:e>
                                  <m:r>
                                    <m:t xml:space="preserve">9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A1BB-6AE1-42B0-A3D6-5E3E8164190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Vector, Matrices, and</a:t>
            </a:r>
            <a:br>
              <a:rPr sz="3600"/>
            </a:b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Linear Equation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CACF-D6D4-448A-BAA7-1C332161E69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990720" y="1828800"/>
                <a:ext cx="7192800" cy="39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ve  for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ve  for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olve f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064A-5EF2-468A-9329-4C0502363F6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685800" y="1828800"/>
                <a:ext cx="7742160" cy="42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←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To eliminate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←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5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BF80-88EB-48A8-9551-C2F3964760A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ward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533520" y="2286000"/>
                <a:ext cx="8080200" cy="27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←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k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Continue until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eliminat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380880" y="1828800"/>
            <a:ext cx="8382240" cy="3809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C834-ECA3-4C7A-9BF8-D9FE4F416A1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838080" y="1752480"/>
                <a:ext cx="4662720" cy="424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Rectangle 5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F2DB-43CD-4F7D-86C3-4E7F227D3D9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mmary of the Naive Gaussian Elim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blems with Naive Gaussian Elim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Failure due to zero pivot el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seudo-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ive Gaussian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8906-CF18-4D3B-8667-68DD9B0081E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aive Gaussian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thod consists of two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ward Elimin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system is reduced to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upper triangular 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A sequence of </a:t>
            </a: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elementary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ckward Substit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olve the system starting from the last variable. Solve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47920" y="3352680"/>
                <a:ext cx="684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8F53-95AE-4651-8A9E-516F120D3EE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512640" y="1600200"/>
                <a:ext cx="8479080" cy="428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sing  Naive  Gaussian  Elimin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 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ward  Elimin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___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ep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change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v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2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3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7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509C-D3D7-48B0-951A-9791CF46224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593640" y="1447920"/>
                <a:ext cx="7954920" cy="40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 1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ward Elimin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ep2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iminat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changed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change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v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7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3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2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131D-74E2-4A8C-96DE-05245E09211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762120" y="1765440"/>
                <a:ext cx="5486400" cy="45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,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,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 is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8A8D-AAA5-4766-9547-3A931DDBE1F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rmina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677880" y="2197080"/>
                <a:ext cx="7786800" cy="313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lementary operations do not affect the determin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: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mentary operations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A'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'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05E6-DAEC-42E1-85BC-5B847715665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VECT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1"/>
              <p:cNvSpPr txBox="1"/>
              <p:nvPr/>
            </p:nvSpPr>
            <p:spPr>
              <a:xfrm>
                <a:off x="797040" y="1828800"/>
                <a:ext cx="73166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 one dimensional array of numb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w vector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lumn vector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dentit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ctor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Rectangle 42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B20D-2A98-4CA1-BB17-82D12F6B959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How Many Solutions Does a System of Equations AX=B Have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539640" y="1700280"/>
                <a:ext cx="7559640" cy="35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i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 solu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fini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duced matri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duced matri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duced matri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no zero row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s one or more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s one or more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zero row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zero rows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sponding B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sponding 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elements 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ents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Line 4"/>
          <p:cNvSpPr/>
          <p:nvPr/>
        </p:nvSpPr>
        <p:spPr>
          <a:xfrm>
            <a:off x="2916360" y="1700280"/>
            <a:ext cx="71280" cy="360036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508720" y="1773360"/>
            <a:ext cx="71280" cy="360036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08A4-5129-49E6-A8D2-055AA4FB986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798480" y="1789200"/>
                <a:ext cx="7518600" cy="39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i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 solu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finte # of solutions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finite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s</m:t>
                        </m:r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ssible</m:t>
                    </m:r>
                    <m:r>
                      <m:t xml:space="preserve">!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α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Line 4"/>
          <p:cNvSpPr/>
          <p:nvPr/>
        </p:nvSpPr>
        <p:spPr>
          <a:xfrm>
            <a:off x="3048120" y="1676520"/>
            <a:ext cx="0" cy="4249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5635800" y="1676520"/>
            <a:ext cx="2880" cy="41767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seudo-Code: Forward Elimin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k = 1 to n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i = k+1 to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or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/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k,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j = k+1 to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factor *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k,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factor *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CD9A-B34D-471F-B3E4-9CC5D63253B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seudo-Code: Back Substitu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/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n,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i = n-1 downto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j = i+1 to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 = sum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*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sum /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,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C181-0067-47EE-90C7-515E9AF13FF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52A-D410-4770-AA49-209DA70A287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9900"/>
                </a:solidFill>
                <a:latin typeface="Garamond"/>
              </a:rPr>
              <a:t>Gaussian Elimination with Scaled Partial Pivoting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s with Naive Gaussian Elimi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itions and Initial st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ward Elimi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ward substit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E568-2533-44AC-B14C-96D1D1B7D51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Problems with Naive Gaussian Eliminat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Naive Gaussian Elimination may fail for very simple ca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ivoting element is zero)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Verdana"/>
              </a:rPr>
              <a:t>Very small pivoting element may result in serious computation err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573200" y="2514600"/>
                <a:ext cx="27702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1600200" y="4827600"/>
                <a:ext cx="3041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B13D-6864-42B9-B2BA-281E91F891C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533520" y="1882800"/>
                <a:ext cx="8089920" cy="37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ve the following system using Gaussian Elimin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Scaled Partial Pivoting:</m:t>
                        </m:r>
                      </m:e>
                      <m:e/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FD4D-E658-48B8-85F1-712ED2A0FB8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Initialization step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1212840" y="1905120"/>
                <a:ext cx="5721480" cy="41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 vector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ex Vector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Oval 4"/>
          <p:cNvSpPr/>
          <p:nvPr/>
        </p:nvSpPr>
        <p:spPr>
          <a:xfrm>
            <a:off x="3124080" y="1981080"/>
            <a:ext cx="381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3809880" y="2666880"/>
            <a:ext cx="381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2362320" y="3352680"/>
            <a:ext cx="38088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3124080" y="3962520"/>
            <a:ext cx="38124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086600" y="1676520"/>
            <a:ext cx="20574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cale ve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disregard sig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find largest in magnitude in each 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3E74-E0B8-44B5-8D80-81548B47B76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y Index Vector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x vectors are used because it is much easier to exchange a single index element compared to exchanging the values of a complete r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actical problems with very large N, exchanging the contents of rows may not be practi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ACF6-90C2-4863-88FD-7E9C5DD9000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1: eliminate x1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404640" y="1852560"/>
                <a:ext cx="8496360" cy="416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lection of the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]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L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]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atios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,2,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5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4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sponds to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 4 is the first pivot equation  Exchange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Rectangle 4"/>
          <p:cNvSpPr/>
          <p:nvPr/>
        </p:nvSpPr>
        <p:spPr>
          <a:xfrm flipH="1">
            <a:off x="5181480" y="4038480"/>
            <a:ext cx="457200" cy="106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BBC8-27CF-4D1D-BB64-4623A571BA1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TR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914400" y="1828800"/>
                <a:ext cx="70660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ri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 two dimensional array of numb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matrix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  <m:r>
                              <m:t xml:space="preserve"> </m:t>
                            </m:r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dentity matrix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agonal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diagonal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Line 4"/>
          <p:cNvSpPr/>
          <p:nvPr/>
        </p:nvSpPr>
        <p:spPr>
          <a:xfrm>
            <a:off x="2286000" y="4267080"/>
            <a:ext cx="144792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590920" y="4038480"/>
            <a:ext cx="144756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6172200" y="4800600"/>
            <a:ext cx="91440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6934320" y="4038480"/>
            <a:ext cx="91440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41CA-3839-422D-82FC-C40C27E6825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1: eliminate x1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684360" y="1752480"/>
                <a:ext cx="5864040" cy="42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pdate A and B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Rectangle 4"/>
          <p:cNvSpPr/>
          <p:nvPr/>
        </p:nvSpPr>
        <p:spPr>
          <a:xfrm>
            <a:off x="1447920" y="3657600"/>
            <a:ext cx="175248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343400" y="3657600"/>
            <a:ext cx="38088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447920" y="5562720"/>
            <a:ext cx="304776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867280" y="5562720"/>
            <a:ext cx="4572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5638680" y="28195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rst pivot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9"/>
          <p:cNvSpPr/>
          <p:nvPr/>
        </p:nvSpPr>
        <p:spPr>
          <a:xfrm flipH="1">
            <a:off x="4952880" y="380988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0779-BBF8-4CBD-8C82-7C68CB95BCC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2: eliminate x2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731880" y="1855800"/>
                <a:ext cx="8137440" cy="45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ion of the second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atios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,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5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8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Line 4"/>
          <p:cNvSpPr/>
          <p:nvPr/>
        </p:nvSpPr>
        <p:spPr>
          <a:xfrm flipH="1">
            <a:off x="4495680" y="4648320"/>
            <a:ext cx="763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5105520" y="4648320"/>
            <a:ext cx="75960" cy="6094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5715000" y="4648320"/>
            <a:ext cx="304920" cy="685800"/>
          </a:xfrm>
          <a:prstGeom prst="line">
            <a:avLst/>
          </a:prstGeom>
          <a:ln w="284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5562720" y="5334120"/>
            <a:ext cx="685800" cy="9144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5867280" y="5943600"/>
            <a:ext cx="2133720" cy="4572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248" h="480">
                <a:moveTo>
                  <a:pt x="0" y="288"/>
                </a:moveTo>
                <a:cubicBezTo>
                  <a:pt x="232" y="384"/>
                  <a:pt x="464" y="480"/>
                  <a:pt x="672" y="432"/>
                </a:cubicBezTo>
                <a:cubicBezTo>
                  <a:pt x="880" y="384"/>
                  <a:pt x="1152" y="72"/>
                  <a:pt x="12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717-612B-480D-908E-DA5996892CA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3: eliminate x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533520" y="1963800"/>
                <a:ext cx="5333760" cy="41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Rectangle 4"/>
          <p:cNvSpPr/>
          <p:nvPr/>
        </p:nvSpPr>
        <p:spPr>
          <a:xfrm>
            <a:off x="1905120" y="2438280"/>
            <a:ext cx="18288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400800" y="16444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pivot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6"/>
          <p:cNvSpPr/>
          <p:nvPr/>
        </p:nvSpPr>
        <p:spPr>
          <a:xfrm flipH="1">
            <a:off x="5943600" y="266688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089A-4441-4D50-9070-71DD06DBC9D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Example 2</a:t>
            </a:r>
            <a:br>
              <a:rPr sz="4800"/>
            </a:b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917640" y="1808280"/>
                <a:ext cx="7413480" cy="41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L</m:t>
                              </m:r>
                              <m:r>
                                <m:t xml:space="preserve">=</m:t>
                              </m:r>
                              <m:r>
                                <m:t xml:space="preserve"> </m:t>
                              </m:r>
                              <m:r>
                                <m:t xml:space="preserve">[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</m: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,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,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,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67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3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27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3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,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6828-4229-463E-BE64-6C1ED499497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685800" y="1752480"/>
                <a:ext cx="7688160" cy="35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ve the following sytstem using Gaussian Elimin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Scaled Partial Pivoting</m:t>
                        </m:r>
                      </m:e>
                      <m:e/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6548-6787-47B6-AF57-234A5C54FFD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Initialization step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1212840" y="1905120"/>
                <a:ext cx="5721480" cy="41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 vector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ex Vector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Oval 4"/>
          <p:cNvSpPr/>
          <p:nvPr/>
        </p:nvSpPr>
        <p:spPr>
          <a:xfrm>
            <a:off x="3124080" y="1981080"/>
            <a:ext cx="3812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3733920" y="2666880"/>
            <a:ext cx="45720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2133720" y="3352680"/>
            <a:ext cx="91440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Oval 7"/>
          <p:cNvSpPr/>
          <p:nvPr/>
        </p:nvSpPr>
        <p:spPr>
          <a:xfrm>
            <a:off x="3124080" y="3962520"/>
            <a:ext cx="45720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F1E7-A9E5-4DCE-9C21-A5AAEEB06B2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1: eliminate x1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380880" y="1828800"/>
                <a:ext cx="8545680" cy="42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lection of the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]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L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]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atios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,2,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5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4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sponds to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 4 is the first pivot equation  Exchange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Rectangle 4"/>
          <p:cNvSpPr/>
          <p:nvPr/>
        </p:nvSpPr>
        <p:spPr>
          <a:xfrm flipH="1">
            <a:off x="5181480" y="4038480"/>
            <a:ext cx="457200" cy="106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625-74F0-4196-A4FF-8D6BC884D9B8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1: eliminate x1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609480" y="1752480"/>
                <a:ext cx="6018480" cy="42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pdate A and B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4"/>
          <p:cNvSpPr/>
          <p:nvPr/>
        </p:nvSpPr>
        <p:spPr>
          <a:xfrm>
            <a:off x="1371600" y="3657600"/>
            <a:ext cx="18288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43400" y="3657600"/>
            <a:ext cx="38088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371600" y="5562720"/>
            <a:ext cx="32004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Oval 7"/>
          <p:cNvSpPr/>
          <p:nvPr/>
        </p:nvSpPr>
        <p:spPr>
          <a:xfrm>
            <a:off x="5867280" y="5486400"/>
            <a:ext cx="6098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7C42-4420-4037-938B-095C038E90B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2: eliminate x2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95160" y="1752480"/>
                <a:ext cx="8058240" cy="464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ion of the second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atios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,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8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Line 4"/>
          <p:cNvSpPr/>
          <p:nvPr/>
        </p:nvSpPr>
        <p:spPr>
          <a:xfrm flipH="1">
            <a:off x="4572000" y="4572000"/>
            <a:ext cx="763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5257800" y="4572000"/>
            <a:ext cx="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5791320" y="4572000"/>
            <a:ext cx="228600" cy="762120"/>
          </a:xfrm>
          <a:prstGeom prst="line">
            <a:avLst/>
          </a:prstGeom>
          <a:ln w="284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876920" y="5105520"/>
            <a:ext cx="838080" cy="10666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97D4-6C4A-4F15-8850-4A26426B4DA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2: eliminate x2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838080" y="1523880"/>
                <a:ext cx="5994360" cy="466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pdating A and B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57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28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1523880" y="2819520"/>
            <a:ext cx="2819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4DA7-0A0F-490D-832A-8F040EB0EE0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TR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762120" y="1828800"/>
                <a:ext cx="776124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ymmetric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pper triangular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Rectangle 5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7"/>
          <p:cNvSpPr/>
          <p:nvPr/>
        </p:nvSpPr>
        <p:spPr>
          <a:xfrm flipH="1" flipV="1">
            <a:off x="6476400" y="2361600"/>
            <a:ext cx="1904760" cy="2057400"/>
          </a:xfrm>
          <a:prstGeom prst="rtTriangle">
            <a:avLst/>
          </a:pr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4DFB-21A5-4C0E-AE6D-C75D8102212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3: eliminate x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380880" y="1523880"/>
                <a:ext cx="8434440" cy="463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ion of the third pivot equation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57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28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atios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3,4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619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857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Line 4"/>
          <p:cNvSpPr/>
          <p:nvPr/>
        </p:nvSpPr>
        <p:spPr>
          <a:xfrm flipH="1">
            <a:off x="4876560" y="4267080"/>
            <a:ext cx="75960" cy="6858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5562720" y="4343400"/>
            <a:ext cx="304560" cy="762120"/>
          </a:xfrm>
          <a:prstGeom prst="line">
            <a:avLst/>
          </a:prstGeom>
          <a:ln w="284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4114800" y="5029200"/>
            <a:ext cx="1219320" cy="9144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453B-376D-445C-BB6A-F7FB651C7E3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400"/>
            </a:b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Forward Elimination--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Step 3: eliminate x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533520" y="1676520"/>
                <a:ext cx="5908680" cy="41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57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28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]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44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6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1480-D446-4FAE-B325-F5FF917C912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Example 3</a:t>
            </a:r>
            <a:br>
              <a:rPr sz="4800"/>
            </a:b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554040" y="1685880"/>
                <a:ext cx="8059680" cy="40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44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19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14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6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7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L</m:t>
                              </m:r>
                              <m:r>
                                <m:t xml:space="preserve">=</m:t>
                              </m:r>
                              <m:r>
                                <m:t xml:space="preserve"> </m:t>
                              </m:r>
                              <m:r>
                                <m:t xml:space="preserve">[</m:t>
                              </m:r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/>
                          </m:mr>
                        </m: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69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4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4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7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4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8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69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7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4379-26B3-43F5-AB33-FD14D8D062B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How Do We Know If a Solution is Good or Not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n AX=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is a solution if AX-B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 the residual vector R= AX-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rounding error, R may not be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571680" y="4495680"/>
                <a:ext cx="789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solution is acceptable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f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6CFB-5BD4-4AA1-9A7E-C5508D97B10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Good is the Solution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-49320" y="1523880"/>
                <a:ext cx="9193320" cy="42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7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6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8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24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due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DEBA-192B-4F8F-BD84-6743FF54F19E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marks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use index vector to avoid the need to move the rows which may not be practical for larg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order the equation as in the last value of the index vector, we have a triangular for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e vector is formed by taking maximum in magnitude in each row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e vector does not chan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iginal matrices A and B are used in checking the residua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782E-EB60-49CD-8E23-02DB4CB80D1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7816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5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999900"/>
                </a:solidFill>
                <a:latin typeface="Garamond"/>
              </a:rPr>
              <a:t>Tridiagonal &amp; Banded Systems</a:t>
            </a:r>
            <a:br>
              <a:rPr sz="3500"/>
            </a:br>
            <a:r>
              <a:rPr b="1" lang="en-US" sz="3500" spc="-1" strike="noStrike">
                <a:solidFill>
                  <a:srgbClr val="999900"/>
                </a:solidFill>
                <a:latin typeface="Garamond"/>
              </a:rPr>
              <a:t> and Gauss-Jordan Method</a:t>
            </a:r>
            <a:endParaRPr b="0" lang="en-US" sz="35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diagonal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gonal Domi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diagonal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uss-Jordan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3246-9772-4DBE-9506-BEACEAE4FC8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diagonal System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on-zero elements are in th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ain diag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 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uper diag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subdiag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=0  if   |i-j| &gt;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1600200" y="2362320"/>
            <a:ext cx="2057400" cy="304560"/>
          </a:xfrm>
          <a:prstGeom prst="roundRect">
            <a:avLst>
              <a:gd name="adj" fmla="val 16667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4572000" y="2060640"/>
                <a:ext cx="4321080" cy="27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AutoShape 5"/>
          <p:cNvSpPr/>
          <p:nvPr/>
        </p:nvSpPr>
        <p:spPr>
          <a:xfrm rot="2685000">
            <a:off x="4284360" y="3500280"/>
            <a:ext cx="2881080" cy="360360"/>
          </a:xfrm>
          <a:prstGeom prst="roundRect">
            <a:avLst>
              <a:gd name="adj" fmla="val 16667"/>
            </a:avLst>
          </a:prstGeom>
          <a:solidFill>
            <a:srgbClr val="8000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idiagonal Syste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2" name="AutoShape 7"/>
          <p:cNvSpPr/>
          <p:nvPr/>
        </p:nvSpPr>
        <p:spPr>
          <a:xfrm rot="2685000">
            <a:off x="4806720" y="2975040"/>
            <a:ext cx="2711160" cy="287280"/>
          </a:xfrm>
          <a:prstGeom prst="roundRect">
            <a:avLst>
              <a:gd name="adj" fmla="val 16667"/>
            </a:avLst>
          </a:prstGeom>
          <a:solidFill>
            <a:srgbClr val="00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AutoShape 8"/>
          <p:cNvSpPr/>
          <p:nvPr/>
        </p:nvSpPr>
        <p:spPr>
          <a:xfrm rot="2685000">
            <a:off x="4215960" y="3196800"/>
            <a:ext cx="3384720" cy="320760"/>
          </a:xfrm>
          <a:prstGeom prst="roundRect">
            <a:avLst>
              <a:gd name="adj" fmla="val 1666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838080" y="3048120"/>
            <a:ext cx="1524240" cy="304560"/>
          </a:xfrm>
          <a:prstGeom prst="roundRect">
            <a:avLst>
              <a:gd name="adj" fmla="val 16667"/>
            </a:avLst>
          </a:prstGeom>
          <a:solidFill>
            <a:srgbClr val="8000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914400" y="2666880"/>
            <a:ext cx="1905120" cy="381240"/>
          </a:xfrm>
          <a:prstGeom prst="roundRect">
            <a:avLst>
              <a:gd name="adj" fmla="val 16667"/>
            </a:avLst>
          </a:prstGeom>
          <a:solidFill>
            <a:srgbClr val="0000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00D4-F409-48DA-8DC2-C311FBE49C1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9152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r in many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ess stora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4n-2   compared to 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+n for the general cas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ion of pivoting rows is unnecessary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under some condi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fficient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lved by Gaussian eli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idiagonal Syste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CD6C-802D-4EDC-B659-ACFBCE49BDD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3818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Naive Gaussian elimin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in previous Gaussian elimination algorith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elimination st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ward substitution st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in the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uper diagon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not affect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in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ain diagon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eed upda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lgorithm to Solve Tridiagonal System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4C5E-856F-4EFB-924E-570415B3818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Determinant of a MATR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685800" y="1981080"/>
                <a:ext cx="586908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ed for square matrices on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Rectangle 4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F59A-6FC9-4E5D-93AA-AB916100D0F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idiagonal Syst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609480" y="2286000"/>
                <a:ext cx="79711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ll the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elements will be zeros, need to update the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elemen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lements are not updated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</m:mr>
                              <m:mr>
                                <m:e/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/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  <m:e/>
                              </m:mr>
                              <m:mr>
                                <m:e/>
                                <m:e>
                                  <m:sSub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</m:mr>
                              <m:mr>
                                <m:e/>
                                <m:e/>
                                <m:e>
                                  <m:sSub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/>
                              </m:mr>
                              <m:mr>
                                <m:e/>
                                <m:e/>
                                <m:e/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>
                                  <m:sSub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D85E-5860-4308-A1B3-371E0DC69D9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agonal Domina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468360" y="1692360"/>
                <a:ext cx="7920000" cy="40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he magnitude of each diagonal element is larger than</m:t>
                    </m:r>
                    <m:r>
                      <m:rPr>
                        <m:lit/>
                        <m:nor/>
                      </m:rPr>
                      <m:t xml:space="preserve">the sum of elements in the corresponding ro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ED67-7B87-43A2-954E-AB9A7E81799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agonal Domina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457200" y="1819440"/>
                <a:ext cx="8064360" cy="32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s:</m:t>
                        </m:r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agonal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domina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  Diagonally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mina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1" name="Rectangle 4"/>
          <p:cNvSpPr/>
          <p:nvPr/>
        </p:nvSpPr>
        <p:spPr>
          <a:xfrm>
            <a:off x="5651640" y="3500280"/>
            <a:ext cx="1587240" cy="3859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5562720" y="4038480"/>
            <a:ext cx="1676160" cy="38124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FF8A-6A3C-4E26-B2DB-3555B76EF6D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Diagonally Dominant Tridiagonal System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ridiagonal system is diagonally dominant 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ward Elimination preserves diagonal domin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1258920" y="2374920"/>
                <a:ext cx="6335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261F-4621-49AF-833A-8ECE82066B3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ving Tridiagonal Syst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641600" y="1655640"/>
                <a:ext cx="4921200" cy="43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ward  Elimination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ckward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bstit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CC10-72A3-429F-8E01-DC5BDC2538D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36560" y="1676520"/>
                <a:ext cx="7416720" cy="45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/>
                              </m:mr>
                              <m:mr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282C-229C-4E06-B487-2E469E42E36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684360" y="1655640"/>
                <a:ext cx="7848360" cy="40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2B1F-3A1D-4D62-AC33-74FAB68E9756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br>
              <a:rPr sz="4400"/>
            </a:b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Backward Substitutio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the Forward Elimin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ckward Substitu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1560600" y="1779480"/>
                <a:ext cx="6211800" cy="44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5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19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5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19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19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5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5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ABBA-B367-4EF3-9246-71F67D79B7A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thod reduces the general system of equations AX=B to IX=B where I is an identity matri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Forward elimination is done and no backward substitution is nee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the same problems as Naive Gaussian elimination and can be modified to do partial scaled pivot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takes 50% more time than Naive Gaussian meth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10C8-82FC-4F03-A1DE-420CB89912C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814320" y="1676520"/>
                <a:ext cx="612000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p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inat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4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2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1891-15A1-433B-BF53-1E1E20D232D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dding and Multiplying Matric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3"/>
              <p:cNvSpPr txBox="1"/>
              <p:nvPr/>
            </p:nvSpPr>
            <p:spPr>
              <a:xfrm>
                <a:off x="762120" y="1752480"/>
                <a:ext cx="7122960" cy="397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addition of two matrices A and 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 Defined only if they have the same si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 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ultiplication of two matrices 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B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 The product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 is defined only if m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   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Rectangle 4"/>
          <p:cNvSpPr/>
          <p:nvPr/>
        </p:nvSpPr>
        <p:spPr>
          <a:xfrm>
            <a:off x="533520" y="1676520"/>
            <a:ext cx="8076960" cy="44956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77EB-03C4-41C1-933E-16D7131EC2F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739800" y="1676520"/>
                <a:ext cx="7489800" cy="44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p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inat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6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0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8E80-AFF6-4C18-8BE8-5D988AAF6030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893880" y="1676520"/>
                <a:ext cx="6192720" cy="40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3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6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p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inat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667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←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8333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q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20B2-36F1-4721-B546-159ED801480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uss-Jordan Method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11280" y="1773360"/>
                <a:ext cx="7993080" cy="43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form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3A09-1228-45C9-876C-CE619801506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ystems of Linear Equ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452520" y="1527120"/>
                <a:ext cx="853920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A system of linear equations can be present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different forms</m:t>
                        </m:r>
                      </m:e>
                      <m:e/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Standard form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             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        Matrix for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5263-2440-4FBD-9750-F75DCB9272B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s of Linear Equa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762120" y="2057400"/>
                <a:ext cx="7543800" cy="22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a solution to the following equations: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PHILIPS</dc:creator>
  <dc:description/>
  <dc:language>en-US</dc:language>
  <cp:lastModifiedBy>PHILIPS</cp:lastModifiedBy>
  <dcterms:modified xsi:type="dcterms:W3CDTF">2016-03-21T07:03:01Z</dcterms:modified>
  <cp:revision>146</cp:revision>
  <dc:subject/>
  <dc:title>Slide 1</dc:title>
</cp:coreProperties>
</file>