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E16-7078-49CD-962F-F53C00A3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227-0FD1-4BDF-9A23-B5C1B2A7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20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0A9-CAE2-4D13-9949-36432475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6448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580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6448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580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6C4-B7C7-498D-A76A-7009171F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FEA9-7CCE-4614-8387-0BB6A1D5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C361-FDFB-46D2-9C5F-6CBF6C8F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2A3D-B8A2-4BD6-AFA0-E2D16922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870A-0371-4D66-9A03-323F347A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C15F-940F-43A6-863E-02963699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115920"/>
            <a:ext cx="806472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125F-B180-4ED3-A6E6-2CDABE46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FC9C-3255-4CDF-9439-D9D2B3F5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915-AFF4-46B9-B275-5FED2D6D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20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3C50-7275-4AC0-9E06-FA98FD61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6C1D-1507-42B1-8D32-DFBC1A53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52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984B-1ACC-4BAB-BFD8-C7D53E9C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20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082E-E5D6-4294-AD65-C8C0B3AE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448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9580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52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448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9580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0E6C-A5DA-44D3-BD0E-B928C329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313-2EB5-4A0A-BB3F-958BD8DC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C4A-C91B-487F-B4F5-0CBDF74A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A0B-DBD4-4AE3-98C8-AB632F22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9640" y="115920"/>
            <a:ext cx="806472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484-98E5-4692-9EAC-591183ED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98E4-9BD2-4400-B0B5-BC4604D6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20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BE54-C2BF-4BD6-931A-CD58F77F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0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9D2-15EC-4F01-9308-89FEFBFB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073160" indent="-17316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434960" indent="-182520"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795320" indent="-180720">
              <a:spcBef>
                <a:spcPts val="60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795320" indent="-180720">
              <a:spcBef>
                <a:spcPts val="60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795320" indent="-180720">
              <a:spcBef>
                <a:spcPts val="60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148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8677-4E96-4B4D-B1F8-0934CADAA8C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Line 7"/>
          <p:cNvSpPr/>
          <p:nvPr/>
        </p:nvSpPr>
        <p:spPr>
          <a:xfrm>
            <a:off x="457200" y="22860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Line 8"/>
          <p:cNvSpPr/>
          <p:nvPr/>
        </p:nvSpPr>
        <p:spPr>
          <a:xfrm>
            <a:off x="331920" y="1143000"/>
            <a:ext cx="84582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Line 9"/>
          <p:cNvSpPr/>
          <p:nvPr/>
        </p:nvSpPr>
        <p:spPr>
          <a:xfrm>
            <a:off x="8686800" y="762120"/>
            <a:ext cx="0" cy="37335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Line 10"/>
          <p:cNvSpPr/>
          <p:nvPr/>
        </p:nvSpPr>
        <p:spPr>
          <a:xfrm>
            <a:off x="330120" y="6248520"/>
            <a:ext cx="8458200" cy="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" name="Picture 13" descr="고대2"/>
          <p:cNvPicPr/>
          <p:nvPr/>
        </p:nvPicPr>
        <p:blipFill>
          <a:blip r:embed="rId2"/>
          <a:stretch/>
        </p:blipFill>
        <p:spPr>
          <a:xfrm>
            <a:off x="6804000" y="6202440"/>
            <a:ext cx="2340000" cy="65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B_17"/>
          <p:cNvPicPr/>
          <p:nvPr/>
        </p:nvPicPr>
        <p:blipFill>
          <a:blip r:embed="rId2"/>
          <a:stretch/>
        </p:blipFill>
        <p:spPr>
          <a:xfrm>
            <a:off x="2595600" y="2978280"/>
            <a:ext cx="3952800" cy="2898720"/>
          </a:xfrm>
          <a:prstGeom prst="rect">
            <a:avLst/>
          </a:prstGeom>
          <a:ln w="0">
            <a:noFill/>
          </a:ln>
        </p:spPr>
      </p:pic>
      <p:sp>
        <p:nvSpPr>
          <p:cNvPr id="47" name="Line 8"/>
          <p:cNvSpPr/>
          <p:nvPr/>
        </p:nvSpPr>
        <p:spPr>
          <a:xfrm>
            <a:off x="685800" y="838080"/>
            <a:ext cx="0" cy="289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Line 9"/>
          <p:cNvSpPr/>
          <p:nvPr/>
        </p:nvSpPr>
        <p:spPr>
          <a:xfrm>
            <a:off x="304920" y="2666880"/>
            <a:ext cx="84582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8458200" y="1676520"/>
            <a:ext cx="0" cy="37335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324000" y="6093000"/>
            <a:ext cx="8458200" cy="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772160" y="6124680"/>
            <a:ext cx="40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Lucida Bright"/>
              </a:rPr>
              <a:t>Korea Universit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7160" y="612468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Lucida Bright"/>
              </a:rPr>
              <a:t>Computer Networks Research Lab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073160" indent="-17316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434960" indent="-182520"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795320" indent="-180720">
              <a:spcBef>
                <a:spcPts val="60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795320" indent="-180720">
              <a:spcBef>
                <a:spcPts val="60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795320" indent="-180720">
              <a:spcBef>
                <a:spcPts val="60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85800" y="6175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175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175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77AF-C2B9-450A-AB05-541909FF188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2565000"/>
            <a:ext cx="8064360" cy="100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Solving Systems of Linear Equations: Iterative Methods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E12F-6CD0-41EC-9AB7-9AFE52FB295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F5F4-5D17-4CEA-880C-4F6475E7EBD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Jacobi Method (5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280" y="129492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 necessary and sufficient condition for the convergence of the Jacobi metho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he magnitude of the largest eigenvalue of the iteration matrix C be less than 1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62" name="Group 8"/>
          <p:cNvGrpSpPr/>
          <p:nvPr/>
        </p:nvGrpSpPr>
        <p:grpSpPr>
          <a:xfrm>
            <a:off x="1163520" y="1844640"/>
            <a:ext cx="3121200" cy="752040"/>
            <a:chOff x="1163520" y="1844640"/>
            <a:chExt cx="3121200" cy="752040"/>
          </a:xfrm>
        </p:grpSpPr>
        <mc:AlternateContent>
          <mc:Choice xmlns:a14="http://schemas.microsoft.com/office/drawing/2010/main" Requires="a14">
            <p:sp>
              <p:nvSpPr>
                <p:cNvPr id="163" name="Object 9"/>
                <p:cNvSpPr txBox="1"/>
                <p:nvPr/>
              </p:nvSpPr>
              <p:spPr>
                <a:xfrm>
                  <a:off x="1163520" y="1844640"/>
                  <a:ext cx="1119240" cy="73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Object 10"/>
                <p:cNvSpPr txBox="1"/>
                <p:nvPr/>
              </p:nvSpPr>
              <p:spPr>
                <a:xfrm>
                  <a:off x="3014640" y="1860120"/>
                  <a:ext cx="12700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AutoShape 11"/>
            <p:cNvSpPr/>
            <p:nvPr/>
          </p:nvSpPr>
          <p:spPr>
            <a:xfrm>
              <a:off x="2460600" y="1989000"/>
              <a:ext cx="431640" cy="431280"/>
            </a:xfrm>
            <a:prstGeom prst="rightArrow">
              <a:avLst>
                <a:gd name="adj1" fmla="val 50000"/>
                <a:gd name="adj2" fmla="val 2502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66" name="Group 26"/>
          <p:cNvGrpSpPr/>
          <p:nvPr/>
        </p:nvGrpSpPr>
        <p:grpSpPr>
          <a:xfrm>
            <a:off x="4645080" y="1114560"/>
            <a:ext cx="4319640" cy="3826800"/>
            <a:chOff x="4645080" y="1114560"/>
            <a:chExt cx="4319640" cy="3826800"/>
          </a:xfrm>
        </p:grpSpPr>
        <p:pic>
          <p:nvPicPr>
            <p:cNvPr id="167" name="Picture 6" descr="fi4_2"/>
            <p:cNvPicPr/>
            <p:nvPr/>
          </p:nvPicPr>
          <p:blipFill>
            <a:blip r:embed="rId1"/>
            <a:stretch/>
          </p:blipFill>
          <p:spPr>
            <a:xfrm>
              <a:off x="4645080" y="1761840"/>
              <a:ext cx="3962520" cy="31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Line 13"/>
            <p:cNvSpPr/>
            <p:nvPr/>
          </p:nvSpPr>
          <p:spPr>
            <a:xfrm flipV="1">
              <a:off x="5869080" y="1474560"/>
              <a:ext cx="0" cy="331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5653080" y="11145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0" name="Line 16"/>
            <p:cNvSpPr/>
            <p:nvPr/>
          </p:nvSpPr>
          <p:spPr>
            <a:xfrm flipV="1">
              <a:off x="6157800" y="29142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1" name="Line 17"/>
            <p:cNvSpPr/>
            <p:nvPr/>
          </p:nvSpPr>
          <p:spPr>
            <a:xfrm flipH="1">
              <a:off x="5869080" y="291420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2" name="Line 18"/>
            <p:cNvSpPr/>
            <p:nvPr/>
          </p:nvSpPr>
          <p:spPr>
            <a:xfrm>
              <a:off x="5869080" y="377784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19"/>
            <p:cNvSpPr/>
            <p:nvPr/>
          </p:nvSpPr>
          <p:spPr>
            <a:xfrm>
              <a:off x="8317080" y="37778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4" name="Line 20"/>
            <p:cNvSpPr/>
            <p:nvPr/>
          </p:nvSpPr>
          <p:spPr>
            <a:xfrm>
              <a:off x="4861080" y="3922560"/>
              <a:ext cx="396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5" name="Text Box 21"/>
            <p:cNvSpPr/>
            <p:nvPr/>
          </p:nvSpPr>
          <p:spPr>
            <a:xfrm>
              <a:off x="8532720" y="3850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Object 22"/>
                <p:cNvSpPr txBox="1"/>
                <p:nvPr/>
              </p:nvSpPr>
              <p:spPr>
                <a:xfrm>
                  <a:off x="5940360" y="3922560"/>
                  <a:ext cx="43200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23"/>
                <p:cNvSpPr txBox="1"/>
                <p:nvPr/>
              </p:nvSpPr>
              <p:spPr>
                <a:xfrm>
                  <a:off x="5437080" y="3563640"/>
                  <a:ext cx="457200" cy="43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Object 24"/>
                <p:cNvSpPr txBox="1"/>
                <p:nvPr/>
              </p:nvSpPr>
              <p:spPr>
                <a:xfrm>
                  <a:off x="5365800" y="2698560"/>
                  <a:ext cx="482760" cy="43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9" name="Object 25"/>
                <p:cNvSpPr txBox="1"/>
                <p:nvPr/>
              </p:nvSpPr>
              <p:spPr>
                <a:xfrm>
                  <a:off x="8075520" y="3922560"/>
                  <a:ext cx="45720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2149-38C0-4EDB-908C-2C63E552022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Gauss-Seidel Method (1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89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nsider the two-by-two system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tart with 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quential updating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New values of the variables are updated immediately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5"/>
              <p:cNvSpPr txBox="1"/>
              <p:nvPr/>
            </p:nvSpPr>
            <p:spPr>
              <a:xfrm>
                <a:off x="2195640" y="3068640"/>
                <a:ext cx="1726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1976400" y="1577880"/>
                <a:ext cx="137160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755640" y="4724280"/>
                <a:ext cx="348156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6" name="Group 36"/>
          <p:cNvGrpSpPr/>
          <p:nvPr/>
        </p:nvGrpSpPr>
        <p:grpSpPr>
          <a:xfrm>
            <a:off x="4211640" y="2060640"/>
            <a:ext cx="4708440" cy="3744720"/>
            <a:chOff x="4211640" y="2060640"/>
            <a:chExt cx="4708440" cy="3744720"/>
          </a:xfrm>
        </p:grpSpPr>
        <p:grpSp>
          <p:nvGrpSpPr>
            <p:cNvPr id="187" name="Group 32"/>
            <p:cNvGrpSpPr/>
            <p:nvPr/>
          </p:nvGrpSpPr>
          <p:grpSpPr>
            <a:xfrm>
              <a:off x="4500720" y="2060640"/>
              <a:ext cx="4419360" cy="3571920"/>
              <a:chOff x="4500720" y="2060640"/>
              <a:chExt cx="4419360" cy="3571920"/>
            </a:xfrm>
          </p:grpSpPr>
          <p:pic>
            <p:nvPicPr>
              <p:cNvPr id="188" name="Picture 18" descr="fi4_3"/>
              <p:cNvPicPr/>
              <p:nvPr/>
            </p:nvPicPr>
            <p:blipFill>
              <a:blip r:embed="rId1"/>
              <a:stretch/>
            </p:blipFill>
            <p:spPr>
              <a:xfrm>
                <a:off x="4500720" y="2060640"/>
                <a:ext cx="4419360" cy="3571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9" name="Group 31"/>
              <p:cNvGrpSpPr/>
              <p:nvPr/>
            </p:nvGrpSpPr>
            <p:grpSpPr>
              <a:xfrm>
                <a:off x="4642920" y="4508280"/>
                <a:ext cx="3816720" cy="936720"/>
                <a:chOff x="4642920" y="4508280"/>
                <a:chExt cx="3816720" cy="936720"/>
              </a:xfrm>
            </p:grpSpPr>
            <p:sp>
              <p:nvSpPr>
                <p:cNvPr id="190" name="Line 23"/>
                <p:cNvSpPr/>
                <p:nvPr/>
              </p:nvSpPr>
              <p:spPr>
                <a:xfrm>
                  <a:off x="4643280" y="5157720"/>
                  <a:ext cx="381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91" name="Line 24"/>
                <p:cNvSpPr/>
                <p:nvPr/>
              </p:nvSpPr>
              <p:spPr>
                <a:xfrm>
                  <a:off x="8459640" y="5157720"/>
                  <a:ext cx="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92" name="Line 29"/>
                <p:cNvSpPr/>
                <p:nvPr/>
              </p:nvSpPr>
              <p:spPr>
                <a:xfrm flipV="1">
                  <a:off x="8459640" y="4508280"/>
                  <a:ext cx="0" cy="64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93" name="Line 30"/>
                <p:cNvSpPr/>
                <p:nvPr/>
              </p:nvSpPr>
              <p:spPr>
                <a:xfrm flipH="1">
                  <a:off x="4642920" y="4581360"/>
                  <a:ext cx="381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94" name="Object 33"/>
                <p:cNvSpPr txBox="1"/>
                <p:nvPr/>
              </p:nvSpPr>
              <p:spPr>
                <a:xfrm>
                  <a:off x="4284720" y="5013360"/>
                  <a:ext cx="4572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Object 34"/>
                <p:cNvSpPr txBox="1"/>
                <p:nvPr/>
              </p:nvSpPr>
              <p:spPr>
                <a:xfrm>
                  <a:off x="4211640" y="4437000"/>
                  <a:ext cx="482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Object 35"/>
                <p:cNvSpPr txBox="1"/>
                <p:nvPr/>
              </p:nvSpPr>
              <p:spPr>
                <a:xfrm>
                  <a:off x="8317080" y="5424480"/>
                  <a:ext cx="457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36AF-2519-4F61-A5B9-4D48BBE9230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Gauss-Seidel Method (2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89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n’t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00" name="Picture 8" descr="ex4_4"/>
          <p:cNvPicPr/>
          <p:nvPr/>
        </p:nvPicPr>
        <p:blipFill>
          <a:blip r:embed="rId1"/>
          <a:stretch/>
        </p:blipFill>
        <p:spPr>
          <a:xfrm>
            <a:off x="5364000" y="1700280"/>
            <a:ext cx="2476800" cy="3168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1" name="Object 10"/>
              <p:cNvSpPr txBox="1"/>
              <p:nvPr/>
            </p:nvSpPr>
            <p:spPr>
              <a:xfrm>
                <a:off x="977760" y="1773360"/>
                <a:ext cx="35229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6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256E-9196-4BC3-8CBD-AC80AFFE749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Gauss-Seidel Method (3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14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nsider the three-by-three system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tart with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1655640" y="1844640"/>
                <a:ext cx="190836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6" name="Group 10"/>
          <p:cNvGrpSpPr/>
          <p:nvPr/>
        </p:nvGrpSpPr>
        <p:grpSpPr>
          <a:xfrm>
            <a:off x="635040" y="3213000"/>
            <a:ext cx="4728960" cy="1270080"/>
            <a:chOff x="635040" y="3213000"/>
            <a:chExt cx="4728960" cy="1270080"/>
          </a:xfrm>
        </p:grpSpPr>
        <mc:AlternateContent>
          <mc:Choice xmlns:a14="http://schemas.microsoft.com/office/drawing/2010/main" Requires="a14">
            <p:sp>
              <p:nvSpPr>
                <p:cNvPr id="207" name="Object 6"/>
                <p:cNvSpPr txBox="1"/>
                <p:nvPr/>
              </p:nvSpPr>
              <p:spPr>
                <a:xfrm>
                  <a:off x="635040" y="3213000"/>
                  <a:ext cx="3097080" cy="12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ew</m:t>
                                      </m:r>
                                    </m:e>
                                  </m:d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ew</m:t>
                                      </m:r>
                                    </m:e>
                                  </m:d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ew</m:t>
                                      </m:r>
                                    </m:e>
                                  </m:d>
                                </m:sup>
                              </m:sSup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ew</m:t>
                                      </m:r>
                                    </m:e>
                                  </m:d>
                                </m:sup>
                              </m:sSup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ew</m:t>
                                      </m:r>
                                    </m:e>
                                  </m:d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ew</m:t>
                                      </m:r>
                                    </m:e>
                                  </m:d>
                                </m:sup>
                              </m:sSup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Object 7"/>
                <p:cNvSpPr txBox="1"/>
                <p:nvPr/>
              </p:nvSpPr>
              <p:spPr>
                <a:xfrm>
                  <a:off x="2577960" y="3247920"/>
                  <a:ext cx="2786040" cy="11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9" name="Object 9"/>
              <p:cNvSpPr txBox="1"/>
              <p:nvPr/>
            </p:nvSpPr>
            <p:spPr>
              <a:xfrm>
                <a:off x="2143080" y="4869000"/>
                <a:ext cx="1420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,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0" name="Picture 11" descr="ex4_5"/>
          <p:cNvPicPr/>
          <p:nvPr/>
        </p:nvPicPr>
        <p:blipFill>
          <a:blip r:embed="rId1"/>
          <a:stretch/>
        </p:blipFill>
        <p:spPr>
          <a:xfrm>
            <a:off x="5668920" y="1341360"/>
            <a:ext cx="2863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A5BB-DDFC-4AA1-9326-B5AF103F52F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Gauss-Seidel Method (4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7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atlab function for gauss-seidel metho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214" name="Group 11"/>
          <p:cNvGrpSpPr/>
          <p:nvPr/>
        </p:nvGrpSpPr>
        <p:grpSpPr>
          <a:xfrm>
            <a:off x="900000" y="1916280"/>
            <a:ext cx="7775640" cy="3930480"/>
            <a:chOff x="900000" y="1916280"/>
            <a:chExt cx="7775640" cy="3930480"/>
          </a:xfrm>
        </p:grpSpPr>
        <p:pic>
          <p:nvPicPr>
            <p:cNvPr id="215" name="Picture 7" descr="seidel1"/>
            <p:cNvPicPr/>
            <p:nvPr/>
          </p:nvPicPr>
          <p:blipFill>
            <a:blip r:embed="rId1"/>
            <a:stretch/>
          </p:blipFill>
          <p:spPr>
            <a:xfrm>
              <a:off x="900000" y="1916280"/>
              <a:ext cx="4032360" cy="38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9" descr="seidel2"/>
            <p:cNvPicPr/>
            <p:nvPr/>
          </p:nvPicPr>
          <p:blipFill>
            <a:blip r:embed="rId2"/>
            <a:stretch/>
          </p:blipFill>
          <p:spPr>
            <a:xfrm>
              <a:off x="4716360" y="1916280"/>
              <a:ext cx="3959280" cy="393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6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37B6-57C6-4F34-9EC3-57D5D3DC465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Gauss-Seidel Method (5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14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he Gauss-Seidel method is sensitive to the form of the co-efficient matrix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he Gauss-Seidel method typically converges more rapidly than the Jacobi method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he Gauss-Seidel method is more difficult to use for parallel computation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6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10EA-419D-4CC2-AAD0-69593AA89CB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Successive Over Relaxation (SOR) (1/5)</a:t>
            </a:r>
            <a:endParaRPr b="1" lang="en-US" sz="32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7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ntroduce an additional parameter, </a:t>
            </a:r>
            <a:r>
              <a:rPr b="0" lang="el-GR" sz="2000" spc="-1" strike="noStrike">
                <a:solidFill>
                  <a:srgbClr val="000000"/>
                </a:solidFill>
                <a:latin typeface="Bookman Old Style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that may accelerate the convergence of the iteration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8"/>
              <p:cNvSpPr txBox="1"/>
              <p:nvPr/>
            </p:nvSpPr>
            <p:spPr>
              <a:xfrm>
                <a:off x="1371600" y="2276640"/>
                <a:ext cx="26956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1"/>
              <p:cNvSpPr txBox="1"/>
              <p:nvPr/>
            </p:nvSpPr>
            <p:spPr>
              <a:xfrm>
                <a:off x="4788000" y="2276640"/>
                <a:ext cx="33256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4"/>
              <p:cNvSpPr txBox="1"/>
              <p:nvPr/>
            </p:nvSpPr>
            <p:spPr>
              <a:xfrm>
                <a:off x="1762200" y="3933720"/>
                <a:ext cx="540216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AutoShape 16"/>
          <p:cNvSpPr/>
          <p:nvPr/>
        </p:nvSpPr>
        <p:spPr>
          <a:xfrm>
            <a:off x="4211640" y="2637000"/>
            <a:ext cx="504720" cy="431640"/>
          </a:xfrm>
          <a:prstGeom prst="rightArrow">
            <a:avLst>
              <a:gd name="adj1" fmla="val 50000"/>
              <a:gd name="adj2" fmla="val 292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D808-61AA-42EB-ABFF-680C5BE6722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Successive Over Relaxation (SOR) (2/5)</a:t>
            </a:r>
            <a:endParaRPr b="1" lang="en-US" sz="32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14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nsider the three-by-three system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30" name="Picture 4" descr="ex4_7"/>
          <p:cNvPicPr/>
          <p:nvPr/>
        </p:nvPicPr>
        <p:blipFill>
          <a:blip r:embed="rId1"/>
          <a:stretch/>
        </p:blipFill>
        <p:spPr>
          <a:xfrm>
            <a:off x="6227640" y="2060640"/>
            <a:ext cx="2646360" cy="3529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1332000" y="1773360"/>
                <a:ext cx="216216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7"/>
              <p:cNvSpPr txBox="1"/>
              <p:nvPr/>
            </p:nvSpPr>
            <p:spPr>
              <a:xfrm>
                <a:off x="4140360" y="1773360"/>
                <a:ext cx="114444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9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8"/>
              <p:cNvSpPr txBox="1"/>
              <p:nvPr/>
            </p:nvSpPr>
            <p:spPr>
              <a:xfrm>
                <a:off x="5364000" y="1341360"/>
                <a:ext cx="787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779400" y="3500280"/>
                <a:ext cx="5305320" cy="20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F591-5405-441A-9E65-9BD642D1105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Successive Over Relaxation (SOR) (3/5)</a:t>
            </a:r>
            <a:endParaRPr b="1" lang="en-US" sz="32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7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Required number of iterations for different values of the relaxation parameter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Start with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olerance = 0.00001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87280" y="3284640"/>
          <a:ext cx="6840720" cy="834840"/>
        </p:xfrm>
        <a:graphic>
          <a:graphicData uri="http://schemas.openxmlformats.org/drawingml/2006/table">
            <a:tbl>
              <a:tblPr/>
              <a:tblGrid>
                <a:gridCol w="2224080"/>
                <a:gridCol w="584280"/>
                <a:gridCol w="649440"/>
                <a:gridCol w="647640"/>
                <a:gridCol w="647640"/>
                <a:gridCol w="792360"/>
                <a:gridCol w="647640"/>
                <a:gridCol w="6476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o. of iter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39" name="Object 69"/>
              <p:cNvSpPr txBox="1"/>
              <p:nvPr/>
            </p:nvSpPr>
            <p:spPr>
              <a:xfrm>
                <a:off x="2557440" y="2205000"/>
                <a:ext cx="1727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70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9669-9D2F-453F-A009-A1F2EF2DB3F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Successive Over Relaxation (SOR) (4/5)</a:t>
            </a:r>
            <a:endParaRPr b="1" lang="en-US" sz="32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atlab function for SOR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244" name="Group 11"/>
          <p:cNvGrpSpPr/>
          <p:nvPr/>
        </p:nvGrpSpPr>
        <p:grpSpPr>
          <a:xfrm>
            <a:off x="898560" y="1843200"/>
            <a:ext cx="7705800" cy="4249800"/>
            <a:chOff x="898560" y="1843200"/>
            <a:chExt cx="7705800" cy="4249800"/>
          </a:xfrm>
        </p:grpSpPr>
        <p:pic>
          <p:nvPicPr>
            <p:cNvPr id="245" name="Picture 7" descr="SOR1"/>
            <p:cNvPicPr/>
            <p:nvPr/>
          </p:nvPicPr>
          <p:blipFill>
            <a:blip r:embed="rId1"/>
            <a:stretch/>
          </p:blipFill>
          <p:spPr>
            <a:xfrm>
              <a:off x="898560" y="1914840"/>
              <a:ext cx="3689640" cy="41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9" descr="SOR2"/>
            <p:cNvPicPr/>
            <p:nvPr/>
          </p:nvPicPr>
          <p:blipFill>
            <a:blip r:embed="rId2"/>
            <a:stretch/>
          </p:blipFill>
          <p:spPr>
            <a:xfrm>
              <a:off x="4942080" y="1843200"/>
              <a:ext cx="3662280" cy="424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F7E9-2315-425E-9996-185E3823C2A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Contents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Basic Idea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Jacobi Method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Gauss-Seidel Method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uccessive Over Relaxation (SOR)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6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DEE5-9ED4-4AB7-9EAF-E63B80F5A97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Successive Over Relaxation (SOR) (5/5)</a:t>
            </a:r>
            <a:endParaRPr b="1" lang="en-US" sz="32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7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he SOR method can be derived by multiplying the decomposed system obtained from the Gauss-Seidel method by the relaxation parameter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he iterative parameter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should always be chosen such  tha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0 &lt;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&lt; 2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F537-D828-4CA0-97F3-63A2538A91A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Summary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acobi metho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OR metho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5003640" y="1773360"/>
                <a:ext cx="3488040" cy="20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116000" y="4292640"/>
                <a:ext cx="515304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8"/>
              <p:cNvSpPr txBox="1"/>
              <p:nvPr/>
            </p:nvSpPr>
            <p:spPr>
              <a:xfrm>
                <a:off x="826920" y="1755720"/>
                <a:ext cx="3559320" cy="20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Rectangle 9"/>
          <p:cNvSpPr/>
          <p:nvPr/>
        </p:nvSpPr>
        <p:spPr>
          <a:xfrm>
            <a:off x="4643280" y="1289160"/>
            <a:ext cx="3962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Gauss-seidel method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AE98-72CA-4848-BC72-26981FDEA7B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Introduction (1/2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f systems of linear equations are very large,  the computational effort of direct methods is  prohibitively expensive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ree common classical iterative techniques for linear system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he Jacobi metho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Gauss-Seidel metho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uccessive Over Relaxation (SOR) metho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atlab’s built-in functi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BD4E-AE84-4A99-87CF-EF3AF50C6FD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Introduction (2/2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1908000" y="2924280"/>
                <a:ext cx="5112000" cy="32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7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8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9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8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Rectangle 6"/>
          <p:cNvSpPr/>
          <p:nvPr/>
        </p:nvSpPr>
        <p:spPr>
          <a:xfrm>
            <a:off x="533520" y="1295280"/>
            <a:ext cx="80769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or systems that have coefficient matrices with the appropriate structure – especially large, sparse systems (many coefficients whose value is zero) – iterative techniques may be preferabl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5CA9-9F57-418E-B665-456FF3AD12F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Basic Idea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7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nvert the system            into the equivalent system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Generate a sequence of approximation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where 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3348000" y="1341360"/>
                <a:ext cx="841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6"/>
              <p:cNvSpPr txBox="1"/>
              <p:nvPr/>
            </p:nvSpPr>
            <p:spPr>
              <a:xfrm>
                <a:off x="7596360" y="1298520"/>
                <a:ext cx="116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3193920" y="5157720"/>
                <a:ext cx="1882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4"/>
              <p:cNvSpPr txBox="1"/>
              <p:nvPr/>
            </p:nvSpPr>
            <p:spPr>
              <a:xfrm>
                <a:off x="5796000" y="4581360"/>
                <a:ext cx="1195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" name="Group 20"/>
          <p:cNvGrpSpPr/>
          <p:nvPr/>
        </p:nvGrpSpPr>
        <p:grpSpPr>
          <a:xfrm>
            <a:off x="971640" y="1844640"/>
            <a:ext cx="7303680" cy="2259000"/>
            <a:chOff x="971640" y="1844640"/>
            <a:chExt cx="7303680" cy="2259000"/>
          </a:xfrm>
        </p:grpSpPr>
        <mc:AlternateContent>
          <mc:Choice xmlns:a14="http://schemas.microsoft.com/office/drawing/2010/main" Requires="a14">
            <p:sp>
              <p:nvSpPr>
                <p:cNvPr id="114" name="Object 9"/>
                <p:cNvSpPr txBox="1"/>
                <p:nvPr/>
              </p:nvSpPr>
              <p:spPr>
                <a:xfrm>
                  <a:off x="971640" y="2349360"/>
                  <a:ext cx="2695320" cy="114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Object 10"/>
                <p:cNvSpPr txBox="1"/>
                <p:nvPr/>
              </p:nvSpPr>
              <p:spPr>
                <a:xfrm>
                  <a:off x="4583160" y="1844640"/>
                  <a:ext cx="3692160" cy="22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m>
                            <m:mr>
                              <m:e/>
                              <m:e/>
                              <m:e/>
                            </m:mr>
                          </m:m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m>
                            <m:mr>
                              <m:e>
                                <m:m>
                                  <m:mr>
                                    <m:e/>
                                    <m:e/>
                                  </m:mr>
                                </m:m>
                              </m:e>
                              <m:e/>
                            </m:mr>
                          </m:m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m>
                            <m:mr>
                              <m:e/>
                              <m:e/>
                              <m:e/>
                            </m:mr>
                          </m:m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AutoShape 18"/>
            <p:cNvSpPr/>
            <p:nvPr/>
          </p:nvSpPr>
          <p:spPr>
            <a:xfrm>
              <a:off x="3954240" y="2637000"/>
              <a:ext cx="431640" cy="431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81D5-8B78-482D-A82A-34ED8BE4A49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Jacobi Method (1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nsider the two-by-two system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tart with              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imultaneous updating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20720" indent="-272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New values of the variables are not used until a new iteration step is begun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8"/>
              <p:cNvSpPr txBox="1"/>
              <p:nvPr/>
            </p:nvSpPr>
            <p:spPr>
              <a:xfrm>
                <a:off x="2193840" y="3068640"/>
                <a:ext cx="1730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3"/>
              <p:cNvSpPr txBox="1"/>
              <p:nvPr/>
            </p:nvSpPr>
            <p:spPr>
              <a:xfrm>
                <a:off x="900000" y="4724280"/>
                <a:ext cx="33544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2" name="Group 15"/>
          <p:cNvGrpSpPr/>
          <p:nvPr/>
        </p:nvGrpSpPr>
        <p:grpSpPr>
          <a:xfrm>
            <a:off x="968400" y="1795320"/>
            <a:ext cx="3171960" cy="1346040"/>
            <a:chOff x="968400" y="1795320"/>
            <a:chExt cx="3171960" cy="1346040"/>
          </a:xfrm>
        </p:grpSpPr>
        <mc:AlternateContent>
          <mc:Choice xmlns:a14="http://schemas.microsoft.com/office/drawing/2010/main" Requires="a14">
            <p:sp>
              <p:nvSpPr>
                <p:cNvPr id="123" name="Object 4"/>
                <p:cNvSpPr txBox="1"/>
                <p:nvPr/>
              </p:nvSpPr>
              <p:spPr>
                <a:xfrm>
                  <a:off x="968400" y="2084040"/>
                  <a:ext cx="111924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Object 12"/>
                <p:cNvSpPr txBox="1"/>
                <p:nvPr/>
              </p:nvSpPr>
              <p:spPr>
                <a:xfrm>
                  <a:off x="2768760" y="1795320"/>
                  <a:ext cx="137160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5" name="AutoShape 14"/>
            <p:cNvSpPr/>
            <p:nvPr/>
          </p:nvSpPr>
          <p:spPr>
            <a:xfrm>
              <a:off x="2265480" y="2228760"/>
              <a:ext cx="431640" cy="431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26" name="Group 30"/>
          <p:cNvGrpSpPr/>
          <p:nvPr/>
        </p:nvGrpSpPr>
        <p:grpSpPr>
          <a:xfrm>
            <a:off x="4305240" y="2349360"/>
            <a:ext cx="4686480" cy="3908520"/>
            <a:chOff x="4305240" y="2349360"/>
            <a:chExt cx="4686480" cy="3908520"/>
          </a:xfrm>
        </p:grpSpPr>
        <p:grpSp>
          <p:nvGrpSpPr>
            <p:cNvPr id="127" name="Group 29"/>
            <p:cNvGrpSpPr/>
            <p:nvPr/>
          </p:nvGrpSpPr>
          <p:grpSpPr>
            <a:xfrm>
              <a:off x="4572000" y="2349360"/>
              <a:ext cx="4419720" cy="3571920"/>
              <a:chOff x="4572000" y="2349360"/>
              <a:chExt cx="4419720" cy="3571920"/>
            </a:xfrm>
          </p:grpSpPr>
          <p:pic>
            <p:nvPicPr>
              <p:cNvPr id="128" name="Picture 17" descr="fi4_1"/>
              <p:cNvPicPr/>
              <p:nvPr/>
            </p:nvPicPr>
            <p:blipFill>
              <a:blip r:embed="rId1"/>
              <a:stretch/>
            </p:blipFill>
            <p:spPr>
              <a:xfrm>
                <a:off x="4572000" y="2349360"/>
                <a:ext cx="4419720" cy="3571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9" name="Group 28"/>
              <p:cNvGrpSpPr/>
              <p:nvPr/>
            </p:nvGrpSpPr>
            <p:grpSpPr>
              <a:xfrm>
                <a:off x="4716360" y="4221000"/>
                <a:ext cx="3816360" cy="1512720"/>
                <a:chOff x="4716360" y="4221000"/>
                <a:chExt cx="3816360" cy="1512720"/>
              </a:xfrm>
            </p:grpSpPr>
            <p:sp>
              <p:nvSpPr>
                <p:cNvPr id="130" name="Line 19"/>
                <p:cNvSpPr/>
                <p:nvPr/>
              </p:nvSpPr>
              <p:spPr>
                <a:xfrm>
                  <a:off x="4788000" y="5446440"/>
                  <a:ext cx="3744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31" name="Line 20"/>
                <p:cNvSpPr/>
                <p:nvPr/>
              </p:nvSpPr>
              <p:spPr>
                <a:xfrm>
                  <a:off x="8532720" y="5446440"/>
                  <a:ext cx="0" cy="28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32" name="Line 21"/>
                <p:cNvSpPr/>
                <p:nvPr/>
              </p:nvSpPr>
              <p:spPr>
                <a:xfrm flipV="1">
                  <a:off x="5435640" y="4221000"/>
                  <a:ext cx="0" cy="151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33" name="Line 22"/>
                <p:cNvSpPr/>
                <p:nvPr/>
              </p:nvSpPr>
              <p:spPr>
                <a:xfrm flipH="1">
                  <a:off x="4716360" y="4221000"/>
                  <a:ext cx="71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34" name="Object 24"/>
                <p:cNvSpPr txBox="1"/>
                <p:nvPr/>
              </p:nvSpPr>
              <p:spPr>
                <a:xfrm>
                  <a:off x="5219640" y="5877000"/>
                  <a:ext cx="4320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Object 25"/>
                <p:cNvSpPr txBox="1"/>
                <p:nvPr/>
              </p:nvSpPr>
              <p:spPr>
                <a:xfrm>
                  <a:off x="4356000" y="5302080"/>
                  <a:ext cx="45720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" name="Object 26"/>
                <p:cNvSpPr txBox="1"/>
                <p:nvPr/>
              </p:nvSpPr>
              <p:spPr>
                <a:xfrm>
                  <a:off x="4305240" y="4221000"/>
                  <a:ext cx="482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Object 27"/>
                <p:cNvSpPr txBox="1"/>
                <p:nvPr/>
              </p:nvSpPr>
              <p:spPr>
                <a:xfrm>
                  <a:off x="8317080" y="5805360"/>
                  <a:ext cx="457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FB29-0530-43D1-A869-DA64C33ED92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Jacobi Method (2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n’t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41" name="Picture 11" descr="ex4_1"/>
          <p:cNvPicPr/>
          <p:nvPr/>
        </p:nvPicPr>
        <p:blipFill>
          <a:blip r:embed="rId1"/>
          <a:stretch/>
        </p:blipFill>
        <p:spPr>
          <a:xfrm>
            <a:off x="5219640" y="1197000"/>
            <a:ext cx="2448000" cy="504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Object 13"/>
              <p:cNvSpPr txBox="1"/>
              <p:nvPr/>
            </p:nvSpPr>
            <p:spPr>
              <a:xfrm>
                <a:off x="1098720" y="1773360"/>
                <a:ext cx="332892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344B-F6A6-471B-A0BD-3A4A1DB428B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Jacobi Method (3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7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nsider the three-by-three system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tart with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943280" y="1708200"/>
                <a:ext cx="190800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7" name="Group 10"/>
          <p:cNvGrpSpPr/>
          <p:nvPr/>
        </p:nvGrpSpPr>
        <p:grpSpPr>
          <a:xfrm>
            <a:off x="1332000" y="3068640"/>
            <a:ext cx="3155400" cy="1079640"/>
            <a:chOff x="1332000" y="3068640"/>
            <a:chExt cx="3155400" cy="1079640"/>
          </a:xfrm>
        </p:grpSpPr>
        <mc:AlternateContent>
          <mc:Choice xmlns:a14="http://schemas.microsoft.com/office/drawing/2010/main" Requires="a14">
            <p:sp>
              <p:nvSpPr>
                <p:cNvPr id="148" name="Object 8"/>
                <p:cNvSpPr txBox="1"/>
                <p:nvPr/>
              </p:nvSpPr>
              <p:spPr>
                <a:xfrm>
                  <a:off x="1332000" y="3068640"/>
                  <a:ext cx="192060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9"/>
                <p:cNvSpPr txBox="1"/>
                <p:nvPr/>
              </p:nvSpPr>
              <p:spPr>
                <a:xfrm>
                  <a:off x="2493720" y="3079800"/>
                  <a:ext cx="1993680" cy="103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" name="Object 13"/>
              <p:cNvSpPr txBox="1"/>
              <p:nvPr/>
            </p:nvSpPr>
            <p:spPr>
              <a:xfrm>
                <a:off x="755640" y="4292640"/>
                <a:ext cx="503064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5"/>
              <p:cNvSpPr txBox="1"/>
              <p:nvPr/>
            </p:nvSpPr>
            <p:spPr>
              <a:xfrm>
                <a:off x="2214720" y="5661000"/>
                <a:ext cx="1420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,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2" name="Picture 16" descr="ex4_2"/>
          <p:cNvPicPr/>
          <p:nvPr/>
        </p:nvPicPr>
        <p:blipFill>
          <a:blip r:embed="rId1"/>
          <a:stretch/>
        </p:blipFill>
        <p:spPr>
          <a:xfrm>
            <a:off x="6156360" y="1268280"/>
            <a:ext cx="2233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7"/>
          <p:cNvSpPr/>
          <p:nvPr/>
        </p:nvSpPr>
        <p:spPr>
          <a:xfrm>
            <a:off x="69152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CDFB-F6B1-40C0-9B78-327557D5923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Jacobi Method (4/5)</a:t>
            </a:r>
            <a:endParaRPr b="1" lang="en-US" sz="36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7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atlab function for jacobi metho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56" name="Group 18"/>
          <p:cNvGrpSpPr/>
          <p:nvPr/>
        </p:nvGrpSpPr>
        <p:grpSpPr>
          <a:xfrm>
            <a:off x="755640" y="1844640"/>
            <a:ext cx="7777080" cy="4032360"/>
            <a:chOff x="755640" y="1844640"/>
            <a:chExt cx="7777080" cy="4032360"/>
          </a:xfrm>
        </p:grpSpPr>
        <p:pic>
          <p:nvPicPr>
            <p:cNvPr id="157" name="Picture 14" descr="jacobi1"/>
            <p:cNvPicPr/>
            <p:nvPr/>
          </p:nvPicPr>
          <p:blipFill>
            <a:blip r:embed="rId1"/>
            <a:stretch/>
          </p:blipFill>
          <p:spPr>
            <a:xfrm>
              <a:off x="755640" y="1844640"/>
              <a:ext cx="3803760" cy="40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6" descr="jacobi2"/>
            <p:cNvPicPr/>
            <p:nvPr/>
          </p:nvPicPr>
          <p:blipFill>
            <a:blip r:embed="rId2"/>
            <a:stretch/>
          </p:blipFill>
          <p:spPr>
            <a:xfrm>
              <a:off x="4429080" y="1844640"/>
              <a:ext cx="4103640" cy="3832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08:35:12Z</dcterms:created>
  <dc:creator>컴퓨터 네트워크 연구실</dc:creator>
  <dc:description/>
  <dc:language>en-US</dc:language>
  <cp:lastModifiedBy>PHILIPS</cp:lastModifiedBy>
  <dcterms:modified xsi:type="dcterms:W3CDTF">2016-03-28T06:53:32Z</dcterms:modified>
  <cp:revision>49</cp:revision>
  <dc:subject/>
  <dc:title>PowerPoint 프레젠테이션</dc:title>
</cp:coreProperties>
</file>