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8D4A-1E12-4B2B-BE05-A26DAE21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520" y="384228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FB01-AC97-485D-A8BB-8F81747E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208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208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8306-0432-4BA4-9B34-ECB87CD2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64480" y="12949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95800" y="12949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520" y="3842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64480" y="3842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95800" y="3842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A5FC-E170-47C8-9348-376ED363D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D26C-749E-4ADE-A020-E87683DD4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52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CAC3-F4DC-4FED-A317-505CB3FB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4417-30D5-4AD5-BAF2-A054AAAC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E86E-2054-42F6-A1B0-F8C3409E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2B22-0806-49A9-948A-CE1BE8B3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115920"/>
            <a:ext cx="8064720" cy="46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66F2-BB23-4300-AB0D-7409C046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208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B211-E568-4FE5-844C-B420DA26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52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9C65-034B-48E3-A579-5A1E220E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208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208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0958-C18F-4EF3-AB21-F9110CB8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08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520" y="384228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EDE4-228E-4E7F-92F6-39E63EBF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520" y="384228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4502-E0CC-4133-B641-06C9BFBE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208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52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208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9B02-A04C-4A98-9C97-600C550F8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4480" y="12949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95800" y="12949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520" y="3842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4480" y="3842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95800" y="3842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C4F9-4F9F-4C6A-AC5F-8254D16FA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D3AB-3DD0-4277-BD8D-705CF553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38F8-BA21-4AF5-A224-0AA1A520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48E6-8C7F-4987-9C9F-97C038F9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9640" y="115920"/>
            <a:ext cx="8064720" cy="46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1C0A-A20F-4EF4-9931-B5030DC4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08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52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8008-F78E-4980-8BDF-F057E1FA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08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208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328E-1DAD-45AB-A090-D9422D3E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08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384228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1DC4-FA11-4D8A-8385-6A783E9B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20720" indent="-2728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073160" indent="-17316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434960" indent="-182520"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4" marL="1795320" indent="-180720">
              <a:spcBef>
                <a:spcPts val="601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5" marL="1795320" indent="-180720">
              <a:spcBef>
                <a:spcPts val="601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6" marL="1795320" indent="-180720">
              <a:spcBef>
                <a:spcPts val="601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6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148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CA0C-7F98-455E-A0AE-E295A2102ED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Line 7"/>
          <p:cNvSpPr/>
          <p:nvPr/>
        </p:nvSpPr>
        <p:spPr>
          <a:xfrm>
            <a:off x="457200" y="228600"/>
            <a:ext cx="0" cy="243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Line 8"/>
          <p:cNvSpPr/>
          <p:nvPr/>
        </p:nvSpPr>
        <p:spPr>
          <a:xfrm>
            <a:off x="331920" y="1143000"/>
            <a:ext cx="84582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Line 9"/>
          <p:cNvSpPr/>
          <p:nvPr/>
        </p:nvSpPr>
        <p:spPr>
          <a:xfrm>
            <a:off x="8686800" y="762120"/>
            <a:ext cx="0" cy="37335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Line 10"/>
          <p:cNvSpPr/>
          <p:nvPr/>
        </p:nvSpPr>
        <p:spPr>
          <a:xfrm>
            <a:off x="330120" y="6248520"/>
            <a:ext cx="8458200" cy="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" name="Picture 13" descr="고대2"/>
          <p:cNvPicPr/>
          <p:nvPr/>
        </p:nvPicPr>
        <p:blipFill>
          <a:blip r:embed="rId2"/>
          <a:stretch/>
        </p:blipFill>
        <p:spPr>
          <a:xfrm>
            <a:off x="6804000" y="6202440"/>
            <a:ext cx="2340000" cy="65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5" descr="B_17"/>
          <p:cNvPicPr/>
          <p:nvPr/>
        </p:nvPicPr>
        <p:blipFill>
          <a:blip r:embed="rId2"/>
          <a:stretch/>
        </p:blipFill>
        <p:spPr>
          <a:xfrm>
            <a:off x="2595600" y="2978280"/>
            <a:ext cx="3952800" cy="2898720"/>
          </a:xfrm>
          <a:prstGeom prst="rect">
            <a:avLst/>
          </a:prstGeom>
          <a:ln w="0">
            <a:noFill/>
          </a:ln>
        </p:spPr>
      </p:pic>
      <p:sp>
        <p:nvSpPr>
          <p:cNvPr id="47" name="Line 8"/>
          <p:cNvSpPr/>
          <p:nvPr/>
        </p:nvSpPr>
        <p:spPr>
          <a:xfrm>
            <a:off x="685800" y="838080"/>
            <a:ext cx="0" cy="2895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Line 9"/>
          <p:cNvSpPr/>
          <p:nvPr/>
        </p:nvSpPr>
        <p:spPr>
          <a:xfrm>
            <a:off x="304920" y="2666880"/>
            <a:ext cx="84582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8458200" y="1676520"/>
            <a:ext cx="0" cy="37335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324000" y="6093000"/>
            <a:ext cx="8458200" cy="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772160" y="6124680"/>
            <a:ext cx="40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Lucida Bright"/>
              </a:rPr>
              <a:t>Korea University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227160" y="612468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Lucida Bright"/>
              </a:rPr>
              <a:t>Computer Networks Research Lab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52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20720" indent="-2728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073160" indent="-17316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434960" indent="-182520"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4" marL="1795320" indent="-180720">
              <a:spcBef>
                <a:spcPts val="601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5" marL="1795320" indent="-180720">
              <a:spcBef>
                <a:spcPts val="601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6" marL="1795320" indent="-180720">
              <a:spcBef>
                <a:spcPts val="601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85800" y="6175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175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3080" y="6175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6685-C37E-461F-BA79-BD2BCCF272B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2565000"/>
            <a:ext cx="8064360" cy="100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Solving Systems of Linear Equations: Iterative Methods</a:t>
            </a: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9152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DD28-8AB5-498B-9CEC-A858A5A436E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6"/>
          <p:cNvSpPr/>
          <p:nvPr/>
        </p:nvSpPr>
        <p:spPr>
          <a:xfrm>
            <a:off x="69152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133A-328E-45F1-AF17-E8FD23ABB7B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Jacobi Method (5/5)</a:t>
            </a: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9280" y="1294920"/>
            <a:ext cx="431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Discussion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 necessary and sufficient condition for the convergence of the Jacobi method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20720" indent="-2728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The magnitude of the largest eigenvalue of the iteration matrix C be less than 1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62" name="Group 8"/>
          <p:cNvGrpSpPr/>
          <p:nvPr/>
        </p:nvGrpSpPr>
        <p:grpSpPr>
          <a:xfrm>
            <a:off x="1163520" y="1844640"/>
            <a:ext cx="3121200" cy="752040"/>
            <a:chOff x="1163520" y="1844640"/>
            <a:chExt cx="3121200" cy="752040"/>
          </a:xfrm>
        </p:grpSpPr>
        <mc:AlternateContent>
          <mc:Choice xmlns:a14="http://schemas.microsoft.com/office/drawing/2010/main" Requires="a14">
            <p:sp>
              <p:nvSpPr>
                <p:cNvPr id="163" name="Object 9"/>
                <p:cNvSpPr txBox="1"/>
                <p:nvPr/>
              </p:nvSpPr>
              <p:spPr>
                <a:xfrm>
                  <a:off x="1163520" y="1844640"/>
                  <a:ext cx="1119240" cy="73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</m:e>
                        <m:e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4" name="Object 10"/>
                <p:cNvSpPr txBox="1"/>
                <p:nvPr/>
              </p:nvSpPr>
              <p:spPr>
                <a:xfrm>
                  <a:off x="3014640" y="1860120"/>
                  <a:ext cx="127008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y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</m:e>
                        <m:e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AutoShape 11"/>
            <p:cNvSpPr/>
            <p:nvPr/>
          </p:nvSpPr>
          <p:spPr>
            <a:xfrm>
              <a:off x="2460600" y="1989000"/>
              <a:ext cx="431640" cy="431280"/>
            </a:xfrm>
            <a:prstGeom prst="rightArrow">
              <a:avLst>
                <a:gd name="adj1" fmla="val 50000"/>
                <a:gd name="adj2" fmla="val 2502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66" name="Group 26"/>
          <p:cNvGrpSpPr/>
          <p:nvPr/>
        </p:nvGrpSpPr>
        <p:grpSpPr>
          <a:xfrm>
            <a:off x="4645080" y="1114560"/>
            <a:ext cx="4319640" cy="3826800"/>
            <a:chOff x="4645080" y="1114560"/>
            <a:chExt cx="4319640" cy="3826800"/>
          </a:xfrm>
        </p:grpSpPr>
        <p:pic>
          <p:nvPicPr>
            <p:cNvPr id="167" name="Picture 6" descr="fi4_2"/>
            <p:cNvPicPr/>
            <p:nvPr/>
          </p:nvPicPr>
          <p:blipFill>
            <a:blip r:embed="rId1"/>
            <a:stretch/>
          </p:blipFill>
          <p:spPr>
            <a:xfrm>
              <a:off x="4645080" y="1761840"/>
              <a:ext cx="3962520" cy="31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Line 13"/>
            <p:cNvSpPr/>
            <p:nvPr/>
          </p:nvSpPr>
          <p:spPr>
            <a:xfrm flipV="1">
              <a:off x="5869080" y="1474560"/>
              <a:ext cx="0" cy="331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9" name="Text Box 14"/>
            <p:cNvSpPr/>
            <p:nvPr/>
          </p:nvSpPr>
          <p:spPr>
            <a:xfrm>
              <a:off x="5653080" y="111456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0" name="Line 16"/>
            <p:cNvSpPr/>
            <p:nvPr/>
          </p:nvSpPr>
          <p:spPr>
            <a:xfrm flipV="1">
              <a:off x="6157800" y="29142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1" name="Line 17"/>
            <p:cNvSpPr/>
            <p:nvPr/>
          </p:nvSpPr>
          <p:spPr>
            <a:xfrm flipH="1">
              <a:off x="5869080" y="291420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2" name="Line 18"/>
            <p:cNvSpPr/>
            <p:nvPr/>
          </p:nvSpPr>
          <p:spPr>
            <a:xfrm>
              <a:off x="5869080" y="3777840"/>
              <a:ext cx="24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3" name="Line 19"/>
            <p:cNvSpPr/>
            <p:nvPr/>
          </p:nvSpPr>
          <p:spPr>
            <a:xfrm>
              <a:off x="8317080" y="37778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4" name="Line 20"/>
            <p:cNvSpPr/>
            <p:nvPr/>
          </p:nvSpPr>
          <p:spPr>
            <a:xfrm>
              <a:off x="4861080" y="3922560"/>
              <a:ext cx="396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5" name="Text Box 21"/>
            <p:cNvSpPr/>
            <p:nvPr/>
          </p:nvSpPr>
          <p:spPr>
            <a:xfrm>
              <a:off x="8532720" y="3850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6" name="Object 22"/>
                <p:cNvSpPr txBox="1"/>
                <p:nvPr/>
              </p:nvSpPr>
              <p:spPr>
                <a:xfrm>
                  <a:off x="5940360" y="3922560"/>
                  <a:ext cx="432000" cy="38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Object 23"/>
                <p:cNvSpPr txBox="1"/>
                <p:nvPr/>
              </p:nvSpPr>
              <p:spPr>
                <a:xfrm>
                  <a:off x="5437080" y="3563640"/>
                  <a:ext cx="457200" cy="43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8" name="Object 24"/>
                <p:cNvSpPr txBox="1"/>
                <p:nvPr/>
              </p:nvSpPr>
              <p:spPr>
                <a:xfrm>
                  <a:off x="5365800" y="2698560"/>
                  <a:ext cx="482760" cy="43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9" name="Object 25"/>
                <p:cNvSpPr txBox="1"/>
                <p:nvPr/>
              </p:nvSpPr>
              <p:spPr>
                <a:xfrm>
                  <a:off x="8075520" y="3922560"/>
                  <a:ext cx="457200" cy="38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7"/>
          <p:cNvSpPr/>
          <p:nvPr/>
        </p:nvSpPr>
        <p:spPr>
          <a:xfrm>
            <a:off x="69152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CEB3-467A-4FEC-9AEF-5E150DA409A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Gauss-Seidel Method (1/5)</a:t>
            </a: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89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onsider the two-by-two system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tart with 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quential updating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20720" indent="-2728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New values of the variables are updated immediately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15"/>
              <p:cNvSpPr txBox="1"/>
              <p:nvPr/>
            </p:nvSpPr>
            <p:spPr>
              <a:xfrm>
                <a:off x="2195640" y="3068640"/>
                <a:ext cx="1726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7"/>
              <p:cNvSpPr txBox="1"/>
              <p:nvPr/>
            </p:nvSpPr>
            <p:spPr>
              <a:xfrm>
                <a:off x="1976400" y="1577880"/>
                <a:ext cx="137160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8"/>
              <p:cNvSpPr txBox="1"/>
              <p:nvPr/>
            </p:nvSpPr>
            <p:spPr>
              <a:xfrm>
                <a:off x="755640" y="4724280"/>
                <a:ext cx="348156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86" name="Group 36"/>
          <p:cNvGrpSpPr/>
          <p:nvPr/>
        </p:nvGrpSpPr>
        <p:grpSpPr>
          <a:xfrm>
            <a:off x="4211640" y="2060640"/>
            <a:ext cx="4708440" cy="3744720"/>
            <a:chOff x="4211640" y="2060640"/>
            <a:chExt cx="4708440" cy="3744720"/>
          </a:xfrm>
        </p:grpSpPr>
        <p:grpSp>
          <p:nvGrpSpPr>
            <p:cNvPr id="187" name="Group 32"/>
            <p:cNvGrpSpPr/>
            <p:nvPr/>
          </p:nvGrpSpPr>
          <p:grpSpPr>
            <a:xfrm>
              <a:off x="4500720" y="2060640"/>
              <a:ext cx="4419360" cy="3571920"/>
              <a:chOff x="4500720" y="2060640"/>
              <a:chExt cx="4419360" cy="3571920"/>
            </a:xfrm>
          </p:grpSpPr>
          <p:pic>
            <p:nvPicPr>
              <p:cNvPr id="188" name="Picture 18" descr="fi4_3"/>
              <p:cNvPicPr/>
              <p:nvPr/>
            </p:nvPicPr>
            <p:blipFill>
              <a:blip r:embed="rId1"/>
              <a:stretch/>
            </p:blipFill>
            <p:spPr>
              <a:xfrm>
                <a:off x="4500720" y="2060640"/>
                <a:ext cx="4419360" cy="3571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9" name="Group 31"/>
              <p:cNvGrpSpPr/>
              <p:nvPr/>
            </p:nvGrpSpPr>
            <p:grpSpPr>
              <a:xfrm>
                <a:off x="4642920" y="4508280"/>
                <a:ext cx="3816720" cy="936720"/>
                <a:chOff x="4642920" y="4508280"/>
                <a:chExt cx="3816720" cy="936720"/>
              </a:xfrm>
            </p:grpSpPr>
            <p:sp>
              <p:nvSpPr>
                <p:cNvPr id="190" name="Line 23"/>
                <p:cNvSpPr/>
                <p:nvPr/>
              </p:nvSpPr>
              <p:spPr>
                <a:xfrm>
                  <a:off x="4643280" y="5157720"/>
                  <a:ext cx="3816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191" name="Line 24"/>
                <p:cNvSpPr/>
                <p:nvPr/>
              </p:nvSpPr>
              <p:spPr>
                <a:xfrm>
                  <a:off x="8459640" y="5157720"/>
                  <a:ext cx="0" cy="28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192" name="Line 29"/>
                <p:cNvSpPr/>
                <p:nvPr/>
              </p:nvSpPr>
              <p:spPr>
                <a:xfrm flipV="1">
                  <a:off x="8459640" y="4508280"/>
                  <a:ext cx="0" cy="64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193" name="Line 30"/>
                <p:cNvSpPr/>
                <p:nvPr/>
              </p:nvSpPr>
              <p:spPr>
                <a:xfrm flipH="1">
                  <a:off x="4642920" y="4581360"/>
                  <a:ext cx="3816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194" name="Object 33"/>
                <p:cNvSpPr txBox="1"/>
                <p:nvPr/>
              </p:nvSpPr>
              <p:spPr>
                <a:xfrm>
                  <a:off x="4284720" y="5013360"/>
                  <a:ext cx="45720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5" name="Object 34"/>
                <p:cNvSpPr txBox="1"/>
                <p:nvPr/>
              </p:nvSpPr>
              <p:spPr>
                <a:xfrm>
                  <a:off x="4211640" y="4437000"/>
                  <a:ext cx="48276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6" name="Object 35"/>
                <p:cNvSpPr txBox="1"/>
                <p:nvPr/>
              </p:nvSpPr>
              <p:spPr>
                <a:xfrm>
                  <a:off x="8317080" y="5424480"/>
                  <a:ext cx="457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7"/>
          <p:cNvSpPr/>
          <p:nvPr/>
        </p:nvSpPr>
        <p:spPr>
          <a:xfrm>
            <a:off x="69152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0109-D3C6-415A-A6CB-9888D34678D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Gauss-Seidel Method (2/5)</a:t>
            </a: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89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on’t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00" name="Picture 8" descr="ex4_4"/>
          <p:cNvPicPr/>
          <p:nvPr/>
        </p:nvPicPr>
        <p:blipFill>
          <a:blip r:embed="rId1"/>
          <a:stretch/>
        </p:blipFill>
        <p:spPr>
          <a:xfrm>
            <a:off x="5364000" y="1700280"/>
            <a:ext cx="2476800" cy="3168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1" name="Object 10"/>
              <p:cNvSpPr txBox="1"/>
              <p:nvPr/>
            </p:nvSpPr>
            <p:spPr>
              <a:xfrm>
                <a:off x="977760" y="1773360"/>
                <a:ext cx="352296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6"/>
          <p:cNvSpPr/>
          <p:nvPr/>
        </p:nvSpPr>
        <p:spPr>
          <a:xfrm>
            <a:off x="69152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6917-B212-40D5-96F7-0B2DC5DFB48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Gauss-Seidel Method (3/5)</a:t>
            </a: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14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onsider the three-by-three system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tart with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1655640" y="1844640"/>
                <a:ext cx="1908360" cy="11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6" name="Group 10"/>
          <p:cNvGrpSpPr/>
          <p:nvPr/>
        </p:nvGrpSpPr>
        <p:grpSpPr>
          <a:xfrm>
            <a:off x="635040" y="3213000"/>
            <a:ext cx="4728960" cy="1270080"/>
            <a:chOff x="635040" y="3213000"/>
            <a:chExt cx="4728960" cy="1270080"/>
          </a:xfrm>
        </p:grpSpPr>
        <mc:AlternateContent>
          <mc:Choice xmlns:a14="http://schemas.microsoft.com/office/drawing/2010/main" Requires="a14">
            <p:sp>
              <p:nvSpPr>
                <p:cNvPr id="207" name="Object 6"/>
                <p:cNvSpPr txBox="1"/>
                <p:nvPr/>
              </p:nvSpPr>
              <p:spPr>
                <a:xfrm>
                  <a:off x="635040" y="3213000"/>
                  <a:ext cx="3097080" cy="127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1</m:t>
                                  </m:r>
                                </m:e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new</m:t>
                                      </m:r>
                                    </m:e>
                                  </m:d>
                                </m:sup>
                              </m:sSup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new</m:t>
                                      </m:r>
                                    </m:e>
                                  </m:d>
                                </m:sup>
                              </m:sSup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1</m:t>
                                  </m:r>
                                </m:e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new</m:t>
                                      </m:r>
                                    </m:e>
                                  </m:d>
                                </m:sup>
                              </m:sSup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3</m:t>
                                  </m:r>
                                </m:e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new</m:t>
                                      </m:r>
                                    </m:e>
                                  </m:d>
                                </m:sup>
                              </m:sSup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1</m:t>
                                  </m:r>
                                </m:e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new</m:t>
                                      </m:r>
                                    </m:e>
                                  </m:d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new</m:t>
                                      </m:r>
                                    </m:e>
                                  </m:d>
                                </m:sup>
                              </m:sSup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8" name="Object 7"/>
                <p:cNvSpPr txBox="1"/>
                <p:nvPr/>
              </p:nvSpPr>
              <p:spPr>
                <a:xfrm>
                  <a:off x="2577960" y="3247920"/>
                  <a:ext cx="2786040" cy="117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3</m:t>
                                  </m:r>
                                </m:e>
                                <m:sup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</m:e>
                        <m:e>
                          <m:r>
                            <m:t xml:space="preserve">+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3</m:t>
                                  </m:r>
                                </m:e>
                                <m:sup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9" name="Object 9"/>
              <p:cNvSpPr txBox="1"/>
              <p:nvPr/>
            </p:nvSpPr>
            <p:spPr>
              <a:xfrm>
                <a:off x="2143080" y="4869000"/>
                <a:ext cx="1420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,0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0" name="Picture 11" descr="ex4_5"/>
          <p:cNvPicPr/>
          <p:nvPr/>
        </p:nvPicPr>
        <p:blipFill>
          <a:blip r:embed="rId1"/>
          <a:stretch/>
        </p:blipFill>
        <p:spPr>
          <a:xfrm>
            <a:off x="5668920" y="1341360"/>
            <a:ext cx="28638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7"/>
          <p:cNvSpPr/>
          <p:nvPr/>
        </p:nvSpPr>
        <p:spPr>
          <a:xfrm>
            <a:off x="69152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F61F-C951-4247-8F29-F5ACEE0DA97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Gauss-Seidel Method (4/5)</a:t>
            </a: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7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Matlab function for gauss-seidel method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214" name="Group 11"/>
          <p:cNvGrpSpPr/>
          <p:nvPr/>
        </p:nvGrpSpPr>
        <p:grpSpPr>
          <a:xfrm>
            <a:off x="900000" y="1916280"/>
            <a:ext cx="7775640" cy="3930480"/>
            <a:chOff x="900000" y="1916280"/>
            <a:chExt cx="7775640" cy="3930480"/>
          </a:xfrm>
        </p:grpSpPr>
        <p:pic>
          <p:nvPicPr>
            <p:cNvPr id="215" name="Picture 7" descr="seidel1"/>
            <p:cNvPicPr/>
            <p:nvPr/>
          </p:nvPicPr>
          <p:blipFill>
            <a:blip r:embed="rId1"/>
            <a:stretch/>
          </p:blipFill>
          <p:spPr>
            <a:xfrm>
              <a:off x="900000" y="1916280"/>
              <a:ext cx="4032360" cy="38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9" descr="seidel2"/>
            <p:cNvPicPr/>
            <p:nvPr/>
          </p:nvPicPr>
          <p:blipFill>
            <a:blip r:embed="rId2"/>
            <a:stretch/>
          </p:blipFill>
          <p:spPr>
            <a:xfrm>
              <a:off x="4716360" y="1916280"/>
              <a:ext cx="3959280" cy="393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6"/>
          <p:cNvSpPr/>
          <p:nvPr/>
        </p:nvSpPr>
        <p:spPr>
          <a:xfrm>
            <a:off x="69152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51F0-A759-4563-BA97-FF3104C0425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Gauss-Seidel Method (5/5)</a:t>
            </a: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14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Discussion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20720" indent="-2728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The Gauss-Seidel method is sensitive to the form of the co-efficient matrix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20720" indent="-2728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The Gauss-Seidel method typically converges more rapidly than the Jacobi method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20720" indent="-2728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The Gauss-Seidel method is more difficult to use for parallel computation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6"/>
          <p:cNvSpPr/>
          <p:nvPr/>
        </p:nvSpPr>
        <p:spPr>
          <a:xfrm>
            <a:off x="69152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BE5C-8B2A-4109-A17F-7C2B8ABF70A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Successive Over Relaxation (SOR) (1/5)</a:t>
            </a:r>
            <a:endParaRPr b="1" lang="en-US" sz="32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7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Introduce an additional parameter, </a:t>
            </a:r>
            <a:r>
              <a:rPr b="0" lang="el-GR" sz="2000" spc="-1" strike="noStrike">
                <a:solidFill>
                  <a:srgbClr val="000000"/>
                </a:solidFill>
                <a:latin typeface="Bookman Old Style"/>
              </a:rPr>
              <a:t>ω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that may accelerate the convergence of the iterations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8"/>
              <p:cNvSpPr txBox="1"/>
              <p:nvPr/>
            </p:nvSpPr>
            <p:spPr>
              <a:xfrm>
                <a:off x="1371600" y="2276640"/>
                <a:ext cx="269568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11"/>
              <p:cNvSpPr txBox="1"/>
              <p:nvPr/>
            </p:nvSpPr>
            <p:spPr>
              <a:xfrm>
                <a:off x="4788000" y="2276640"/>
                <a:ext cx="332568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ω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ω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14"/>
              <p:cNvSpPr txBox="1"/>
              <p:nvPr/>
            </p:nvSpPr>
            <p:spPr>
              <a:xfrm>
                <a:off x="1762200" y="3933720"/>
                <a:ext cx="5402160" cy="21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3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6" name="AutoShape 16"/>
          <p:cNvSpPr/>
          <p:nvPr/>
        </p:nvSpPr>
        <p:spPr>
          <a:xfrm>
            <a:off x="4211640" y="2637000"/>
            <a:ext cx="504720" cy="431640"/>
          </a:xfrm>
          <a:prstGeom prst="rightArrow">
            <a:avLst>
              <a:gd name="adj1" fmla="val 50000"/>
              <a:gd name="adj2" fmla="val 2923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7"/>
          <p:cNvSpPr/>
          <p:nvPr/>
        </p:nvSpPr>
        <p:spPr>
          <a:xfrm>
            <a:off x="69152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19AC-ECE2-4293-B65C-E7B2931FAF6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Successive Over Relaxation (SOR) (2/5)</a:t>
            </a:r>
            <a:endParaRPr b="1" lang="en-US" sz="32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14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onsider the three-by-three system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30" name="Picture 4" descr="ex4_7"/>
          <p:cNvPicPr/>
          <p:nvPr/>
        </p:nvPicPr>
        <p:blipFill>
          <a:blip r:embed="rId1"/>
          <a:stretch/>
        </p:blipFill>
        <p:spPr>
          <a:xfrm>
            <a:off x="6227640" y="2060640"/>
            <a:ext cx="2646360" cy="3529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1" name="Object 5"/>
              <p:cNvSpPr txBox="1"/>
              <p:nvPr/>
            </p:nvSpPr>
            <p:spPr>
              <a:xfrm>
                <a:off x="1332000" y="1773360"/>
                <a:ext cx="216216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7"/>
              <p:cNvSpPr txBox="1"/>
              <p:nvPr/>
            </p:nvSpPr>
            <p:spPr>
              <a:xfrm>
                <a:off x="4140360" y="1773360"/>
                <a:ext cx="114444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9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4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8"/>
              <p:cNvSpPr txBox="1"/>
              <p:nvPr/>
            </p:nvSpPr>
            <p:spPr>
              <a:xfrm>
                <a:off x="5364000" y="1341360"/>
                <a:ext cx="787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779400" y="3500280"/>
                <a:ext cx="5305320" cy="20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ω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ω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9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ω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7"/>
          <p:cNvSpPr/>
          <p:nvPr/>
        </p:nvSpPr>
        <p:spPr>
          <a:xfrm>
            <a:off x="69152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ED14-30BD-4185-9F4D-AD853C60B45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Successive Over Relaxation (SOR) (3/5)</a:t>
            </a:r>
            <a:endParaRPr b="1" lang="en-US" sz="32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7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Required number of iterations for different values of the relaxation parameter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20720" indent="-2728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Start with 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20720" indent="-2728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Tolerance = 0.00001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87280" y="3284640"/>
          <a:ext cx="6840720" cy="834840"/>
        </p:xfrm>
        <a:graphic>
          <a:graphicData uri="http://schemas.openxmlformats.org/drawingml/2006/table">
            <a:tbl>
              <a:tblPr/>
              <a:tblGrid>
                <a:gridCol w="2224080"/>
                <a:gridCol w="584280"/>
                <a:gridCol w="649440"/>
                <a:gridCol w="647640"/>
                <a:gridCol w="647640"/>
                <a:gridCol w="792360"/>
                <a:gridCol w="647640"/>
                <a:gridCol w="6476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No. of iter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39" name="Object 69"/>
              <p:cNvSpPr txBox="1"/>
              <p:nvPr/>
            </p:nvSpPr>
            <p:spPr>
              <a:xfrm>
                <a:off x="2557440" y="2205000"/>
                <a:ext cx="17272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]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70"/>
              <p:cNvSpPr txBox="1"/>
              <p:nvPr/>
            </p:nvSpPr>
            <p:spPr>
              <a:xfrm>
                <a:off x="4521240" y="3333600"/>
                <a:ext cx="1015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7"/>
          <p:cNvSpPr/>
          <p:nvPr/>
        </p:nvSpPr>
        <p:spPr>
          <a:xfrm>
            <a:off x="69152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D278-0F30-496D-993A-05E3100C113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Successive Over Relaxation (SOR) (4/5)</a:t>
            </a:r>
            <a:endParaRPr b="1" lang="en-US" sz="32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6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Matlab function for SOR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244" name="Group 11"/>
          <p:cNvGrpSpPr/>
          <p:nvPr/>
        </p:nvGrpSpPr>
        <p:grpSpPr>
          <a:xfrm>
            <a:off x="898560" y="1843200"/>
            <a:ext cx="7705800" cy="4249800"/>
            <a:chOff x="898560" y="1843200"/>
            <a:chExt cx="7705800" cy="4249800"/>
          </a:xfrm>
        </p:grpSpPr>
        <p:pic>
          <p:nvPicPr>
            <p:cNvPr id="245" name="Picture 7" descr="SOR1"/>
            <p:cNvPicPr/>
            <p:nvPr/>
          </p:nvPicPr>
          <p:blipFill>
            <a:blip r:embed="rId1"/>
            <a:stretch/>
          </p:blipFill>
          <p:spPr>
            <a:xfrm>
              <a:off x="898560" y="1914840"/>
              <a:ext cx="3689640" cy="41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9" descr="SOR2"/>
            <p:cNvPicPr/>
            <p:nvPr/>
          </p:nvPicPr>
          <p:blipFill>
            <a:blip r:embed="rId2"/>
            <a:stretch/>
          </p:blipFill>
          <p:spPr>
            <a:xfrm>
              <a:off x="4942080" y="1843200"/>
              <a:ext cx="3662280" cy="4249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9152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9F92-8342-4066-A564-0725630A7FF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Contents</a:t>
            </a: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-268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Basic Idea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-268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Jacobi Method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-268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Gauss-Seidel Method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-268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uccessive Over Relaxation (SOR)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-268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6"/>
          <p:cNvSpPr/>
          <p:nvPr/>
        </p:nvSpPr>
        <p:spPr>
          <a:xfrm>
            <a:off x="69152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3519-ACD7-44B7-BFBE-E1E97025435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Successive Over Relaxation (SOR) (5/5)</a:t>
            </a:r>
            <a:endParaRPr b="1" lang="en-US" sz="32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7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Discussion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20720" indent="-2728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The SOR method can be derived by multiplying the decomposed system obtained from the Gauss-Seidel method by the relaxation parameter </a:t>
            </a: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20720" indent="-2728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The iterative parameter </a:t>
            </a: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should always be chosen such  tha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0 &lt; </a:t>
            </a: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&lt; 2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7"/>
          <p:cNvSpPr/>
          <p:nvPr/>
        </p:nvSpPr>
        <p:spPr>
          <a:xfrm>
            <a:off x="69152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2425-4D1A-4231-AFF3-2BF638A3F60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Summary</a:t>
            </a: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6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Jacobi method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OR method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4"/>
              <p:cNvSpPr txBox="1"/>
              <p:nvPr/>
            </p:nvSpPr>
            <p:spPr>
              <a:xfrm>
                <a:off x="5003640" y="1773360"/>
                <a:ext cx="3488040" cy="20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3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3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3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6"/>
              <p:cNvSpPr txBox="1"/>
              <p:nvPr/>
            </p:nvSpPr>
            <p:spPr>
              <a:xfrm>
                <a:off x="1116000" y="4292640"/>
                <a:ext cx="515304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3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8"/>
              <p:cNvSpPr txBox="1"/>
              <p:nvPr/>
            </p:nvSpPr>
            <p:spPr>
              <a:xfrm>
                <a:off x="826920" y="1755720"/>
                <a:ext cx="3559320" cy="20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3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3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3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6" name="Rectangle 9"/>
          <p:cNvSpPr/>
          <p:nvPr/>
        </p:nvSpPr>
        <p:spPr>
          <a:xfrm>
            <a:off x="4643280" y="1289160"/>
            <a:ext cx="39625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Gauss-seidel method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9152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8548-25E1-44F1-A6FE-5869B0778F5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Introduction (1/2)</a:t>
            </a: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If systems of linear equations are very large,  the computational effort of direct methods is  prohibitively expensive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-268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hree common classical iterative techniques for linear system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2072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The Jacobi method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2072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Gauss-Seidel method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2072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uccessive Over Relaxation (SOR) method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-268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Matlab’s built-in function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9152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E350-234E-4449-A5E9-F10016D63FF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Introduction (2/2)</a:t>
            </a: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1908000" y="2924280"/>
                <a:ext cx="5112000" cy="32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7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8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9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5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8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4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5" name="Rectangle 6"/>
          <p:cNvSpPr/>
          <p:nvPr/>
        </p:nvSpPr>
        <p:spPr>
          <a:xfrm>
            <a:off x="533520" y="1295280"/>
            <a:ext cx="80769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For systems that have coefficient matrices with the appropriate structure – especially large, sparse systems (many coefficients whose value is zero) – iterative techniques may be preferabl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7"/>
          <p:cNvSpPr/>
          <p:nvPr/>
        </p:nvSpPr>
        <p:spPr>
          <a:xfrm>
            <a:off x="69152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4651-6DBC-41D5-823D-A3D8E6CEFEC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Basic Idea</a:t>
            </a: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7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onvert the system            into the equivalent system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Generate a sequence of approximation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where 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4"/>
              <p:cNvSpPr txBox="1"/>
              <p:nvPr/>
            </p:nvSpPr>
            <p:spPr>
              <a:xfrm>
                <a:off x="3348000" y="1341360"/>
                <a:ext cx="8413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6"/>
              <p:cNvSpPr txBox="1"/>
              <p:nvPr/>
            </p:nvSpPr>
            <p:spPr>
              <a:xfrm>
                <a:off x="7596360" y="1298520"/>
                <a:ext cx="1169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x</m:t>
                    </m:r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8"/>
              <p:cNvSpPr txBox="1"/>
              <p:nvPr/>
            </p:nvSpPr>
            <p:spPr>
              <a:xfrm>
                <a:off x="3193920" y="5157720"/>
                <a:ext cx="1882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14"/>
              <p:cNvSpPr txBox="1"/>
              <p:nvPr/>
            </p:nvSpPr>
            <p:spPr>
              <a:xfrm>
                <a:off x="5796000" y="4581360"/>
                <a:ext cx="1195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3" name="Group 20"/>
          <p:cNvGrpSpPr/>
          <p:nvPr/>
        </p:nvGrpSpPr>
        <p:grpSpPr>
          <a:xfrm>
            <a:off x="971640" y="1844640"/>
            <a:ext cx="7303680" cy="2259000"/>
            <a:chOff x="971640" y="1844640"/>
            <a:chExt cx="7303680" cy="2259000"/>
          </a:xfrm>
        </p:grpSpPr>
        <mc:AlternateContent>
          <mc:Choice xmlns:a14="http://schemas.microsoft.com/office/drawing/2010/main" Requires="a14">
            <p:sp>
              <p:nvSpPr>
                <p:cNvPr id="114" name="Object 9"/>
                <p:cNvSpPr txBox="1"/>
                <p:nvPr/>
              </p:nvSpPr>
              <p:spPr>
                <a:xfrm>
                  <a:off x="971640" y="2349360"/>
                  <a:ext cx="2695320" cy="114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3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" name="Object 10"/>
                <p:cNvSpPr txBox="1"/>
                <p:nvPr/>
              </p:nvSpPr>
              <p:spPr>
                <a:xfrm>
                  <a:off x="4583160" y="1844640"/>
                  <a:ext cx="3692160" cy="225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m>
                            <m:mr>
                              <m:e/>
                              <m:e/>
                              <m:e/>
                            </m:mr>
                          </m:m>
                          <m:r>
                            <m:t xml:space="preserve">−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den>
                          </m:f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den>
                          </m:f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den>
                          </m:f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m>
                            <m:mr>
                              <m:e>
                                <m:m>
                                  <m:mr>
                                    <m:e/>
                                    <m:e/>
                                  </m:mr>
                                </m:m>
                              </m:e>
                              <m:e/>
                            </m:mr>
                          </m:m>
                          <m:r>
                            <m:t xml:space="preserve">−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den>
                          </m:f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den>
                          </m:f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den>
                          </m:f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m>
                            <m:mr>
                              <m:e/>
                              <m:e/>
                              <m:e/>
                            </m:mr>
                          </m:m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16" name="AutoShape 18"/>
            <p:cNvSpPr/>
            <p:nvPr/>
          </p:nvSpPr>
          <p:spPr>
            <a:xfrm>
              <a:off x="3954240" y="2637000"/>
              <a:ext cx="431640" cy="4316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7"/>
          <p:cNvSpPr/>
          <p:nvPr/>
        </p:nvSpPr>
        <p:spPr>
          <a:xfrm>
            <a:off x="69152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4D38-577A-4B85-A74C-66BB07B0A60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Jacobi Method (1/5)</a:t>
            </a: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onsider the two-by-two system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tart with              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imultaneous updating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20720" indent="-2728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New values of the variables are not used until a new iteration step is begun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8"/>
              <p:cNvSpPr txBox="1"/>
              <p:nvPr/>
            </p:nvSpPr>
            <p:spPr>
              <a:xfrm>
                <a:off x="2193840" y="3068640"/>
                <a:ext cx="1730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3"/>
              <p:cNvSpPr txBox="1"/>
              <p:nvPr/>
            </p:nvSpPr>
            <p:spPr>
              <a:xfrm>
                <a:off x="900000" y="4724280"/>
                <a:ext cx="335448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2" name="Group 15"/>
          <p:cNvGrpSpPr/>
          <p:nvPr/>
        </p:nvGrpSpPr>
        <p:grpSpPr>
          <a:xfrm>
            <a:off x="968400" y="1795320"/>
            <a:ext cx="3171960" cy="1346040"/>
            <a:chOff x="968400" y="1795320"/>
            <a:chExt cx="3171960" cy="1346040"/>
          </a:xfrm>
        </p:grpSpPr>
        <mc:AlternateContent>
          <mc:Choice xmlns:a14="http://schemas.microsoft.com/office/drawing/2010/main" Requires="a14">
            <p:sp>
              <p:nvSpPr>
                <p:cNvPr id="123" name="Object 4"/>
                <p:cNvSpPr txBox="1"/>
                <p:nvPr/>
              </p:nvSpPr>
              <p:spPr>
                <a:xfrm>
                  <a:off x="968400" y="2084040"/>
                  <a:ext cx="111924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" name="Object 12"/>
                <p:cNvSpPr txBox="1"/>
                <p:nvPr/>
              </p:nvSpPr>
              <p:spPr>
                <a:xfrm>
                  <a:off x="2768760" y="1795320"/>
                  <a:ext cx="1371600" cy="13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y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e>
                        <m:e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25" name="AutoShape 14"/>
            <p:cNvSpPr/>
            <p:nvPr/>
          </p:nvSpPr>
          <p:spPr>
            <a:xfrm>
              <a:off x="2265480" y="2228760"/>
              <a:ext cx="431640" cy="4316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26" name="Group 30"/>
          <p:cNvGrpSpPr/>
          <p:nvPr/>
        </p:nvGrpSpPr>
        <p:grpSpPr>
          <a:xfrm>
            <a:off x="4305240" y="2349360"/>
            <a:ext cx="4686480" cy="3908520"/>
            <a:chOff x="4305240" y="2349360"/>
            <a:chExt cx="4686480" cy="3908520"/>
          </a:xfrm>
        </p:grpSpPr>
        <p:grpSp>
          <p:nvGrpSpPr>
            <p:cNvPr id="127" name="Group 29"/>
            <p:cNvGrpSpPr/>
            <p:nvPr/>
          </p:nvGrpSpPr>
          <p:grpSpPr>
            <a:xfrm>
              <a:off x="4572000" y="2349360"/>
              <a:ext cx="4419720" cy="3571920"/>
              <a:chOff x="4572000" y="2349360"/>
              <a:chExt cx="4419720" cy="3571920"/>
            </a:xfrm>
          </p:grpSpPr>
          <p:pic>
            <p:nvPicPr>
              <p:cNvPr id="128" name="Picture 17" descr="fi4_1"/>
              <p:cNvPicPr/>
              <p:nvPr/>
            </p:nvPicPr>
            <p:blipFill>
              <a:blip r:embed="rId1"/>
              <a:stretch/>
            </p:blipFill>
            <p:spPr>
              <a:xfrm>
                <a:off x="4572000" y="2349360"/>
                <a:ext cx="4419720" cy="3571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9" name="Group 28"/>
              <p:cNvGrpSpPr/>
              <p:nvPr/>
            </p:nvGrpSpPr>
            <p:grpSpPr>
              <a:xfrm>
                <a:off x="4716360" y="4221000"/>
                <a:ext cx="3816360" cy="1512720"/>
                <a:chOff x="4716360" y="4221000"/>
                <a:chExt cx="3816360" cy="1512720"/>
              </a:xfrm>
            </p:grpSpPr>
            <p:sp>
              <p:nvSpPr>
                <p:cNvPr id="130" name="Line 19"/>
                <p:cNvSpPr/>
                <p:nvPr/>
              </p:nvSpPr>
              <p:spPr>
                <a:xfrm>
                  <a:off x="4788000" y="5446440"/>
                  <a:ext cx="3744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131" name="Line 20"/>
                <p:cNvSpPr/>
                <p:nvPr/>
              </p:nvSpPr>
              <p:spPr>
                <a:xfrm>
                  <a:off x="8532720" y="5446440"/>
                  <a:ext cx="0" cy="28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132" name="Line 21"/>
                <p:cNvSpPr/>
                <p:nvPr/>
              </p:nvSpPr>
              <p:spPr>
                <a:xfrm flipV="1">
                  <a:off x="5435640" y="4221000"/>
                  <a:ext cx="0" cy="151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133" name="Line 22"/>
                <p:cNvSpPr/>
                <p:nvPr/>
              </p:nvSpPr>
              <p:spPr>
                <a:xfrm flipH="1">
                  <a:off x="4716360" y="4221000"/>
                  <a:ext cx="71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134" name="Object 24"/>
                <p:cNvSpPr txBox="1"/>
                <p:nvPr/>
              </p:nvSpPr>
              <p:spPr>
                <a:xfrm>
                  <a:off x="5219640" y="5877000"/>
                  <a:ext cx="4320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5" name="Object 25"/>
                <p:cNvSpPr txBox="1"/>
                <p:nvPr/>
              </p:nvSpPr>
              <p:spPr>
                <a:xfrm>
                  <a:off x="4356000" y="5302080"/>
                  <a:ext cx="45720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6" name="Object 26"/>
                <p:cNvSpPr txBox="1"/>
                <p:nvPr/>
              </p:nvSpPr>
              <p:spPr>
                <a:xfrm>
                  <a:off x="4305240" y="4221000"/>
                  <a:ext cx="48276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7" name="Object 27"/>
                <p:cNvSpPr txBox="1"/>
                <p:nvPr/>
              </p:nvSpPr>
              <p:spPr>
                <a:xfrm>
                  <a:off x="8317080" y="5805360"/>
                  <a:ext cx="45720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6"/>
          <p:cNvSpPr/>
          <p:nvPr/>
        </p:nvSpPr>
        <p:spPr>
          <a:xfrm>
            <a:off x="69152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E763-C63A-437A-9897-4C84494DC14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Jacobi Method (2/5)</a:t>
            </a: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6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on’t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41" name="Picture 11" descr="ex4_1"/>
          <p:cNvPicPr/>
          <p:nvPr/>
        </p:nvPicPr>
        <p:blipFill>
          <a:blip r:embed="rId1"/>
          <a:stretch/>
        </p:blipFill>
        <p:spPr>
          <a:xfrm>
            <a:off x="5219640" y="1197000"/>
            <a:ext cx="2448000" cy="5040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2" name="Object 13"/>
              <p:cNvSpPr txBox="1"/>
              <p:nvPr/>
            </p:nvSpPr>
            <p:spPr>
              <a:xfrm>
                <a:off x="1098720" y="1773360"/>
                <a:ext cx="332892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7"/>
          <p:cNvSpPr/>
          <p:nvPr/>
        </p:nvSpPr>
        <p:spPr>
          <a:xfrm>
            <a:off x="69152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BF2C-EAE8-4954-90AC-06973F1EAC5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Jacobi Method (3/5)</a:t>
            </a: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7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onsider the three-by-three system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tart with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1943280" y="1708200"/>
                <a:ext cx="190800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7" name="Group 10"/>
          <p:cNvGrpSpPr/>
          <p:nvPr/>
        </p:nvGrpSpPr>
        <p:grpSpPr>
          <a:xfrm>
            <a:off x="1332000" y="3068640"/>
            <a:ext cx="3155400" cy="1079640"/>
            <a:chOff x="1332000" y="3068640"/>
            <a:chExt cx="3155400" cy="1079640"/>
          </a:xfrm>
        </p:grpSpPr>
        <mc:AlternateContent>
          <mc:Choice xmlns:a14="http://schemas.microsoft.com/office/drawing/2010/main" Requires="a14">
            <p:sp>
              <p:nvSpPr>
                <p:cNvPr id="148" name="Object 8"/>
                <p:cNvSpPr txBox="1"/>
                <p:nvPr/>
              </p:nvSpPr>
              <p:spPr>
                <a:xfrm>
                  <a:off x="1332000" y="3068640"/>
                  <a:ext cx="1920600" cy="107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Object 9"/>
                <p:cNvSpPr txBox="1"/>
                <p:nvPr/>
              </p:nvSpPr>
              <p:spPr>
                <a:xfrm>
                  <a:off x="2493720" y="3079800"/>
                  <a:ext cx="1993680" cy="103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</m:e>
                        <m:e>
                          <m:r>
                            <m:t xml:space="preserve">+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0" name="Object 13"/>
              <p:cNvSpPr txBox="1"/>
              <p:nvPr/>
            </p:nvSpPr>
            <p:spPr>
              <a:xfrm>
                <a:off x="755640" y="4292640"/>
                <a:ext cx="503064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5"/>
              <p:cNvSpPr txBox="1"/>
              <p:nvPr/>
            </p:nvSpPr>
            <p:spPr>
              <a:xfrm>
                <a:off x="2214720" y="5661000"/>
                <a:ext cx="14205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,0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2" name="Picture 16" descr="ex4_2"/>
          <p:cNvPicPr/>
          <p:nvPr/>
        </p:nvPicPr>
        <p:blipFill>
          <a:blip r:embed="rId1"/>
          <a:stretch/>
        </p:blipFill>
        <p:spPr>
          <a:xfrm>
            <a:off x="6156360" y="1268280"/>
            <a:ext cx="22334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7"/>
          <p:cNvSpPr/>
          <p:nvPr/>
        </p:nvSpPr>
        <p:spPr>
          <a:xfrm>
            <a:off x="69152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078E-1D6C-4EC0-A8C5-3675C0BAD6D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Jacobi Method (4/5)</a:t>
            </a: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7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Matlab function for jacobi method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56" name="Group 18"/>
          <p:cNvGrpSpPr/>
          <p:nvPr/>
        </p:nvGrpSpPr>
        <p:grpSpPr>
          <a:xfrm>
            <a:off x="755640" y="1844640"/>
            <a:ext cx="7777080" cy="4032360"/>
            <a:chOff x="755640" y="1844640"/>
            <a:chExt cx="7777080" cy="4032360"/>
          </a:xfrm>
        </p:grpSpPr>
        <p:pic>
          <p:nvPicPr>
            <p:cNvPr id="157" name="Picture 14" descr="jacobi1"/>
            <p:cNvPicPr/>
            <p:nvPr/>
          </p:nvPicPr>
          <p:blipFill>
            <a:blip r:embed="rId1"/>
            <a:stretch/>
          </p:blipFill>
          <p:spPr>
            <a:xfrm>
              <a:off x="755640" y="1844640"/>
              <a:ext cx="3803760" cy="40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16" descr="jacobi2"/>
            <p:cNvPicPr/>
            <p:nvPr/>
          </p:nvPicPr>
          <p:blipFill>
            <a:blip r:embed="rId2"/>
            <a:stretch/>
          </p:blipFill>
          <p:spPr>
            <a:xfrm>
              <a:off x="4429080" y="1844640"/>
              <a:ext cx="4103640" cy="3832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3T08:35:12Z</dcterms:created>
  <dc:creator>컴퓨터 네트워크 연구실</dc:creator>
  <dc:description/>
  <dc:language>en-US</dc:language>
  <cp:lastModifiedBy>PHILIPS</cp:lastModifiedBy>
  <dcterms:modified xsi:type="dcterms:W3CDTF">2016-03-28T06:53:32Z</dcterms:modified>
  <cp:revision>49</cp:revision>
  <dc:subject/>
  <dc:title>PowerPoint 프레젠테이션</dc:title>
</cp:coreProperties>
</file>