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291-3F85-4C71-9674-FA797232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C3D-3A7D-4F10-A3B2-523D6028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AF2-A86A-4301-AEFC-062D119B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3DE-E2C8-4ACF-A2C5-42BECA62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52E3-7541-43FC-8D2B-02EF0923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5D6C-A84F-43F4-ACBE-4C82A08E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E13C-F67B-4646-839F-0AE8E827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E99A-B721-4A9B-939C-BE597403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4E26-B4B8-40B2-8809-2F552038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F3FF-054E-491D-B9D1-11767C92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B7F2-484B-4B73-9DFC-624C44B9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F786-63A5-4B71-87BE-FDA6E644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86C1-624F-45E8-B818-4EAE15C1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E17A-A369-481A-9996-30A5C5E7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3FC4-4FB7-448C-9ED2-3E0C0653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9F45-8856-491F-BE9C-2EA57326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713B-47C8-4644-8E42-55F30B8C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54A6E-FB49-433C-9F8F-A8A6F325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86DAE-D233-4A41-844C-FC9EEB75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C5BCA-DED2-4467-8DE0-93F76BC2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7443C-0484-4893-AEA9-8DF5E4FD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B8C8E-09F1-43BA-808A-A84A133D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8714-C289-4644-A73D-F5DCA78D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E80B5-5905-46F1-AD85-7192F7F4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7A002-69C8-4EC3-B679-798B519E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ABB10-BCCE-4175-86DA-ABBAE9B9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10E7-7F69-4544-ADE8-6FD754AF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02F7-4BA0-49FF-A7FA-E7C8B374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6F057-1519-4C2E-A4D4-5BB19FF4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71CE-345C-4A35-91CC-5DAA8E06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A45A9-7539-489B-A217-5CCA4B81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40CB8-4420-4C60-AADD-791FEBDC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4AA3F-7093-419C-9912-4509EAF3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400-5A66-4A48-A0EB-5985D9E1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9F24E-487A-40C9-BA69-F3CE897A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4DA9C-F4B5-4F0B-8F8A-6EC03BA6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2BFA3-C5CF-4DCF-93FD-18DBC236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A4A31-D507-4845-8589-D75DB04E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7277F-9393-4243-858C-F7C7AA9E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B0624-2E5F-4888-877C-0AAF04FD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474F6-B041-4F33-A6AF-8CE71CEE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025A3-232B-4394-A2F5-54E27A6A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74C35-E0E1-4FB6-B15A-DBDCF800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B94-50EF-4AA6-9C48-577014EF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A23-07B3-48B4-B72F-322F3258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F83-B6E8-4358-867B-CDCD3194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3CA-6ABC-4D82-A820-20F4FF74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922-8FE0-4B3D-92EE-2AC42E65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0/30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Slide 13- </a:t>
            </a:r>
            <a:fld id="{8D6B6113-5073-48A7-827E-FD1499C5045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15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17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046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6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66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68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db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7"/>
          <p:cNvSpPr/>
          <p:nvPr/>
        </p:nvSpPr>
        <p:spPr>
          <a:xfrm rot="16200000">
            <a:off x="3500280" y="-986040"/>
            <a:ext cx="2143080" cy="9144000"/>
          </a:xfrm>
          <a:prstGeom prst="rect">
            <a:avLst/>
          </a:prstGeom>
          <a:solidFill>
            <a:srgbClr val="677228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8"/>
          <p:cNvSpPr/>
          <p:nvPr/>
        </p:nvSpPr>
        <p:spPr>
          <a:xfrm>
            <a:off x="7315200" y="2438280"/>
            <a:ext cx="1828800" cy="229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6" descr="elmasri_thumb"/>
          <p:cNvPicPr/>
          <p:nvPr/>
        </p:nvPicPr>
        <p:blipFill>
          <a:blip r:embed="rId5"/>
          <a:stretch/>
        </p:blipFill>
        <p:spPr>
          <a:xfrm>
            <a:off x="7419960" y="2514600"/>
            <a:ext cx="1724040" cy="2143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0/30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FBC5-9EFE-456A-9C74-BC849ED4BFB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1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125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127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db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0/30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Slide 13- </a:t>
            </a:r>
            <a:fld id="{E09E4593-ACDB-4FE7-80AE-124A2730150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nip and Round Single Corner Rectangle 20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Triangle 22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3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4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0/30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Slide 13- </a:t>
            </a:r>
            <a:fld id="{095E1F70-42E0-4A00-8C66-3FDD73D4004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8522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1c6f7"/>
                </a:solidFill>
                <a:latin typeface="Constantia"/>
              </a:rPr>
              <a:t>Lec 7:Disk Storage, Basic File Structures, and Hash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0E44-9379-48B4-B1E2-91389814E271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7" descr=""/>
          <p:cNvPicPr/>
          <p:nvPr/>
        </p:nvPicPr>
        <p:blipFill>
          <a:blip r:embed="rId1"/>
          <a:stretch/>
        </p:blipFill>
        <p:spPr>
          <a:xfrm>
            <a:off x="73080" y="12852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fig13_01"/>
          <p:cNvPicPr/>
          <p:nvPr/>
        </p:nvPicPr>
        <p:blipFill>
          <a:blip r:embed="rId2"/>
          <a:stretch/>
        </p:blipFill>
        <p:spPr>
          <a:xfrm>
            <a:off x="1447920" y="1546200"/>
            <a:ext cx="6172200" cy="485460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EB179003-A421-4535-BCB1-DBEF9C001B7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7" descr=""/>
          <p:cNvPicPr/>
          <p:nvPr/>
        </p:nvPicPr>
        <p:blipFill>
          <a:blip r:embed="rId1"/>
          <a:stretch/>
        </p:blipFill>
        <p:spPr>
          <a:xfrm>
            <a:off x="-49320" y="298440"/>
            <a:ext cx="7675560" cy="1006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tbl13_01a"/>
          <p:cNvPicPr/>
          <p:nvPr/>
        </p:nvPicPr>
        <p:blipFill>
          <a:blip r:embed="rId2"/>
          <a:stretch/>
        </p:blipFill>
        <p:spPr>
          <a:xfrm>
            <a:off x="1600200" y="1523880"/>
            <a:ext cx="3956040" cy="50292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1"/>
          <p:cNvSpPr/>
          <p:nvPr/>
        </p:nvSpPr>
        <p:spPr>
          <a:xfrm>
            <a:off x="5511960" y="6094440"/>
            <a:ext cx="3124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(Courtesy of Seagate Technolo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1BC166E6-B5A1-44F0-9279-0C77A70E5AA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cor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xed and variable length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rds contain fields which have values of a particular ty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.g., amount, date, time, 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s themselves may be fixed length or variable leng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riable length fields can be mixed into one recor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parator characters or length fields are needed so that the record can be “parsed.”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2ABC7303-3BC9-4048-8A40-4B2B9A3A124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ock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lock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fers to storing a number of records in one block on the dis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cking factor (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f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 refers to the number of records per bloc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may be empty space in a block if an integral number of records do not fit in one bloc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panned Record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fers to records that exceed the size of one or more blocks and hence span a number of bloc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32A55D93-DAE5-4AB6-A889-1EC3E0B3645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iles of Recor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a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records, where each record is a collection of data values (or data item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ile descript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ile head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includes information that describes the file, such as th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field nam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their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ata typ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the addresses of the file blocks on dis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ords are stored on disk block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locking fact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f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a file is the (average) number of file records stored in a disk bloc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file can hav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ixed-leng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cords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ariable-leng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cor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CDDDAFC6-9C93-42C4-8EB4-F5E0C08843D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iles of Record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le records can b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nspann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pann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Unspanned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 no record can span two block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Spanned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 a record can be stored in more than one bloc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hysical disk blocks that are allocated to hold the records of a file can b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ontiguous, linked, or index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a file of fixed-length records, all records have the same format. Usually, unspanned blocking is used with such fi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les of variable-length records require additional information to be stored in each record, such a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parat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ield typ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sually spanned blocking is used with such fil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0CDF4607-A778-48D2-8F37-729C3151EF6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peration on Fi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ypical file operations includ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OPEN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Readies the file for access, and associates a pointer that will refer to a </a:t>
            </a:r>
            <a:r>
              <a:rPr b="0" i="1" lang="en-US" sz="1700" spc="-1" strike="noStrike">
                <a:solidFill>
                  <a:srgbClr val="000000"/>
                </a:solidFill>
                <a:latin typeface="Constantia"/>
              </a:rPr>
              <a:t>current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file record at each point in time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FIND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Searches for the first file record that satisfies a certain condition, and makes it the current file recor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FINDNEXT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Searches for the next file record (from the current record) that satisfies a certain condition, and makes it the current file recor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EAD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Reads the current file record into a program variable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NSERT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Inserts a new record into the file &amp; makes it the current file record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DELETE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Removes the current file record from the file, usually by marking the record to indicate that it is no longer vali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ODIFY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Changes the values of some fields of the current file recor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CLOSE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Terminates access to the file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EORGANIZE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Reorganizes the file record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or example, the records marked deleted are physically removed from the file or a new organization of the file records is created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EAD_ORDERED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Read the file blocks in order of a specific field of the file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F32832CC-864C-4BDB-B339-6AE8B0774F1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ordered Fi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so called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ea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i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i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records are inserted at the end of the fi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inear searc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rough the file records is necessary to search for a recor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requires reading and searching half the file blocks on the average, and is hence quite expensi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rd insertion is quite effici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ing the records in order of a particular field requires sorting the file record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E6457FB5-0735-415A-B4A4-BDE8A09B349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dered Fi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 called a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equentia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fi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le records are kept sorted by the values of an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order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fiel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rtion is expensive: records must be inserted in the correct ord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is common to keep a separate unordered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overflow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or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ransac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file for new records to improve insertion efficiency; this is periodically merged with the main ordered fi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inary searc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can be used to search for a record on its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ordering fiel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valu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requires reading and searching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he file blocks on the average, an improvement over linear search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ding the records in order of the ordering field is quite effici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AEB08E6D-9831-482E-89C1-D9127B49BD8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7" descr=""/>
          <p:cNvPicPr/>
          <p:nvPr/>
        </p:nvPicPr>
        <p:blipFill>
          <a:blip r:embed="rId1"/>
          <a:stretch/>
        </p:blipFill>
        <p:spPr>
          <a:xfrm>
            <a:off x="-49320" y="298440"/>
            <a:ext cx="4565880" cy="1006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3048120" y="1523880"/>
            <a:ext cx="3143160" cy="5029200"/>
          </a:xfrm>
          <a:prstGeom prst="rect">
            <a:avLst/>
          </a:prstGeom>
          <a:ln w="0">
            <a:noFill/>
          </a:ln>
        </p:spPr>
      </p:pic>
      <p:sp>
        <p:nvSpPr>
          <p:cNvPr id="27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6BBCB0D5-6251-48E3-8D64-4B35667BF48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pter Out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k Storage De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es of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rations on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order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sh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ynamic and Extendible Hashing Techniqu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ID Technolo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14A747A9-C0B8-459F-B4E5-AF26A7D6634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verage Access Ti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following table shows the average access time to access a specific record for a given type of f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878040" y="3246480"/>
            <a:ext cx="7548480" cy="1884240"/>
          </a:xfrm>
          <a:prstGeom prst="rect">
            <a:avLst/>
          </a:prstGeom>
          <a:ln w="0">
            <a:noFill/>
          </a:ln>
        </p:spPr>
      </p:pic>
      <p:sp>
        <p:nvSpPr>
          <p:cNvPr id="276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778035DF-3737-4131-92AB-A1AC671BD84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shed Fi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ashing for disk files is call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xternal Ha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le blocks are divided into M equal-siz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ucket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numbered buck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buck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..., buck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M-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ypically, a bucket corresponds to one (or a fixed number of) disk block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ne of the file fields is designated to be the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ash key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he fi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record with hash key value K is stored in bucket i, where i=h(K), and h is the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ashing func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arch is very efficient on the hash k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llisions occur when a new record hashes to a bucket that is already fu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overflow file is kept for storing such recor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verflow records that hash to each bucket can be linked togeth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13DC0E4D-053B-4A5E-9F34-3E36A261C24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shed File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e are numerous methods for collision resolution, including the following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pen address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Proceeding from the occupied position specified by the hash address, the program checks the subsequent positions in order until an unused (empty) position is foun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hain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For this method, various overflow locations are kept, usually by extending the array with a number of overflow positions. In addition, a pointer field is added to each record location. A collision is resolved by placing the new record in an unused overflow location and setting the pointer of the occupied hash address location to the address of that overflow location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ultiple hash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The program applies a second hash function if the first results in a collision. If another collision results, the program uses open addressing or applies a third hash function and then uses open addressing if necessar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D1C27810-5D1A-41D4-96A1-F4139E30E2F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7" descr=""/>
          <p:cNvPicPr/>
          <p:nvPr/>
        </p:nvPicPr>
        <p:blipFill>
          <a:blip r:embed="rId1"/>
          <a:stretch/>
        </p:blipFill>
        <p:spPr>
          <a:xfrm>
            <a:off x="73080" y="12852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fig13_09"/>
          <p:cNvPicPr/>
          <p:nvPr/>
        </p:nvPicPr>
        <p:blipFill>
          <a:blip r:embed="rId2"/>
          <a:stretch/>
        </p:blipFill>
        <p:spPr>
          <a:xfrm>
            <a:off x="228600" y="2057400"/>
            <a:ext cx="8458200" cy="4030560"/>
          </a:xfrm>
          <a:prstGeom prst="rect">
            <a:avLst/>
          </a:prstGeom>
          <a:ln w="0">
            <a:noFill/>
          </a:ln>
        </p:spPr>
      </p:pic>
      <p:sp>
        <p:nvSpPr>
          <p:cNvPr id="285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85695E56-2B17-4C38-8E46-192122553D3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shed File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reduce overflow records, a hash file is typically kept 70-80% fu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hash function h should distribute the records uniformly among the buck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wise, search time will be increased because many overflow records will exis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in disadvantages of static external hash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xed number of buckets M is a problem if the number of records in the file grows or shrin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dered access on the hash key is quite inefficient (requires  sorting the record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58B2557C-1AFB-44CD-8522-BA05F2C29B7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7" descr=""/>
          <p:cNvPicPr/>
          <p:nvPr/>
        </p:nvPicPr>
        <p:blipFill>
          <a:blip r:embed="rId1"/>
          <a:stretch/>
        </p:blipFill>
        <p:spPr>
          <a:xfrm>
            <a:off x="109440" y="128520"/>
            <a:ext cx="8663040" cy="1157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fig13_10"/>
          <p:cNvPicPr/>
          <p:nvPr/>
        </p:nvPicPr>
        <p:blipFill>
          <a:blip r:embed="rId2"/>
          <a:stretch/>
        </p:blipFill>
        <p:spPr>
          <a:xfrm>
            <a:off x="1676520" y="1590840"/>
            <a:ext cx="5943600" cy="488628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DCFF74B7-92BE-48FB-AE3F-72E01ABA444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Dynamic And Extendible Hashed Fil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ynamic and Extendible Hashing Techniq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shing techniques are adapted to allow the dynamic growth and shrinking of the number of file record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se techniques include the following: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dynamic hashing, extendible hashi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and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linear hash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th dynamic and extendible hashing use 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inary represent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hash value h(K) in order to access 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rector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dynamic hashing the directory is a binary tre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extendible hashing the directory is an array of size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where d is called the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global depth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7D206392-0E3A-4CDD-8B89-DF7AEE4DE6C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Dynamic And Extendible Hashing (contd.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rectories can be stored on disk, and they expand or shrink dynamical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rectory entries point to the disk blocks that contain the stored record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insertion in a disk block that is full causes the block to split into two blocks and the records are redistributed among the two bloc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directory is updated appropriately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ynamic and extendible hashing do not require an overflow are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near hashing does require an overflow area but does not use a director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cks are split in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linear orde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s the file expand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5D57DB86-0899-4C19-912A-3248F1284C4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7" descr=""/>
          <p:cNvPicPr/>
          <p:nvPr/>
        </p:nvPicPr>
        <p:blipFill>
          <a:blip r:embed="rId1"/>
          <a:stretch/>
        </p:blipFill>
        <p:spPr>
          <a:xfrm>
            <a:off x="73080" y="12852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fig13_11"/>
          <p:cNvPicPr/>
          <p:nvPr/>
        </p:nvPicPr>
        <p:blipFill>
          <a:blip r:embed="rId2"/>
          <a:stretch/>
        </p:blipFill>
        <p:spPr>
          <a:xfrm>
            <a:off x="2057400" y="1576440"/>
            <a:ext cx="4976640" cy="497664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40E983FA-DE96-4340-985D-C98D0F637DC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arallelizing Disk Access using RAID Technology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ary storage technology must take steps to keep up in performance and reliability with processor technolog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major advance in secondary storage technology is represented by the development of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AI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which originally stood for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dundant Arrays of Inexpensive Disk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main goal of RAID is to even out the widely different rates of performance improvement of disks against those in memory and microprocesso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6A3E0896-55B2-476F-BB6F-E5FBBEAA62A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orage Hierarc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3" descr="Pink tissue paper"/>
          <p:cNvPicPr/>
          <p:nvPr/>
        </p:nvPicPr>
        <p:blipFill>
          <a:blip r:embed="rId1"/>
          <a:srcRect l="21029" t="28974" r="30738" b="22204"/>
          <a:stretch/>
        </p:blipFill>
        <p:spPr>
          <a:xfrm>
            <a:off x="684360" y="1695600"/>
            <a:ext cx="6837120" cy="4325760"/>
          </a:xfrm>
          <a:prstGeom prst="rect">
            <a:avLst/>
          </a:prstGeom>
          <a:ln w="0">
            <a:noFill/>
          </a:ln>
        </p:spPr>
      </p:pic>
      <p:sp>
        <p:nvSpPr>
          <p:cNvPr id="223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D842F649-6209-4C29-8534-DB8373E70E0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AID Technology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39400" y="1599840"/>
            <a:ext cx="8294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natural solution is a large array of small independent disks acting as a single higher-performance logical dis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oncept called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ata strip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used, which utilizes parallelism to improve disk perform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striping distributes data transparently over multiple disks to make them appear as a single large, fast dis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6" name="Picture 9" descr="fig13_12"/>
          <p:cNvPicPr/>
          <p:nvPr/>
        </p:nvPicPr>
        <p:blipFill>
          <a:blip r:embed="rId1"/>
          <a:stretch/>
        </p:blipFill>
        <p:spPr>
          <a:xfrm>
            <a:off x="792000" y="5040360"/>
            <a:ext cx="7742520" cy="136044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6E7ADE65-D918-4FEC-92A4-13826963B64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AID Technology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fferent raid organizations were defined based on different combinations of the two factors of granularity of data interleaving (striping) and pattern used to compute redundant inform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id level 0 has no redundant data and hence has the best write performance at the risk of data los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id level 1 uses mirrored disk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id level 2 uses memory-style redundancy by using Hamming codes, which contain parity bits for distinct overlapping subsets of components. Level 2 includes both error detection and corre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id level 3 uses a single parity disk relying on the disk controller to figure out which disk has fail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id Levels 4 and 5 use block-level data striping, with level 5 distributing data and parity information across all disk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id level 6 applies the so-called P + Q redundancy scheme using Reed-Soloman codes to protect against up to two disk failures by using just two redundant disks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55AA981C-BAD1-4DD4-8AD9-B330AEE924D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 of RAID Technology (contd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fferent raid organizations are being used under different situa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aid level 1 (mirrored disks) is the easiest for rebuild of a disk from other disk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t is used for critical applications like log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aid level 2 uses memory-style redundancy by using Hamming codes, which contain parity bits for distinct overlapping subsets of component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evel 2 includes both error detection and correctio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aid level 3 (single parity disks relying on the disk controller to figure out which disk has failed) and level 5 (block-level data striping) are preferred for Large volume storage, with level 3 giving higher transfer rate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ost popular uses of the RAID technology currently ar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Level 0 (with striping), Level 1 (with mirroring) and Level 5 with an extra drive for parity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sign Decisions for RAID includ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Level of RAID, number of disks, choice of parity schemes, and grouping of disks for block-level striping.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9DD1EF55-B7A8-4A0B-97F5-CB10CC68C1C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7" descr=""/>
          <p:cNvPicPr/>
          <p:nvPr/>
        </p:nvPicPr>
        <p:blipFill>
          <a:blip r:embed="rId1"/>
          <a:stretch/>
        </p:blipFill>
        <p:spPr>
          <a:xfrm>
            <a:off x="-49320" y="298440"/>
            <a:ext cx="7577280" cy="1006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3822840" cy="4708440"/>
          </a:xfrm>
          <a:prstGeom prst="rect">
            <a:avLst/>
          </a:prstGeom>
          <a:ln w="0">
            <a:noFill/>
          </a:ln>
        </p:spPr>
      </p:pic>
      <p:sp>
        <p:nvSpPr>
          <p:cNvPr id="316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9C934D6B-3087-4C31-AA29-E94600B9E07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7" descr=""/>
          <p:cNvPicPr/>
          <p:nvPr/>
        </p:nvPicPr>
        <p:blipFill>
          <a:blip r:embed="rId1"/>
          <a:stretch/>
        </p:blipFill>
        <p:spPr>
          <a:xfrm>
            <a:off x="73080" y="12852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830160" y="1481040"/>
            <a:ext cx="7699320" cy="3281400"/>
          </a:xfrm>
          <a:prstGeom prst="rect">
            <a:avLst/>
          </a:prstGeom>
          <a:ln w="0">
            <a:noFill/>
          </a:ln>
        </p:spPr>
      </p:pic>
      <p:sp>
        <p:nvSpPr>
          <p:cNvPr id="31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45A4AAD7-261A-46C6-A96A-9EA13A70B11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orage Area Networ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emand for higher storage has risen considerably in recent ti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ations have a need to move from a static fixed data center oriented operation to a more flexible and dynamic infrastructure for information process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us they are moving to a concept of Storage Area Networks (SAN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a SAN, online storage peripherals are configured as nodes on a high-speed network and can be attached and detached from servers in a very flexible mann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allows storage systems to be placed at longer distances from the servers and provide different performance and connectivity op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16393498-31C0-437E-AEB5-551E7AFBB29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orage Area Network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vantages of SANs a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lexible many-to-many connectivity among servers and storage devices using fiber channel hubs and switch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p to 10km separation between a server and a storage system using appropriate fiber optic cabl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tter isolation capabilities allowing non-disruptive addition of new peripherals and server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Ns face the problem of combining storage options from multiple vendors and dealing with evolving standards of storage management software and hardw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9BEB897E-AEF7-437B-9245-84FB3195474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mma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k Storage De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es of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rations on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order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sh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ynamic and Extendible Hashing Techniqu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ID Technolo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E9D3B28F-57BD-4ABF-A991-823031F0985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orage of Databa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BMS stores information on (‘hard’) dis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has major implications for DBMS design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READ: transfer data from disk to main mem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(RAM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WRITE: transfer data from RAM to dis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Both are high-cost operations, relative to in memor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operations, so must be planned carefully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B4DCBB93-6B37-47F4-94C2-6E4E1D25023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orage of Databases (Con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y not store everything in main memor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osts too muc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Main memory is volatile. We want data 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 saved between ru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ypical storage hierarch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Main memory (RAM) for currently used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Disk for the main databa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Tapes for archiving older versions of the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9743FAC9-7637-4EAF-8AB2-550D1B0C2AF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sk Storage Dev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ferred secondary storage device for high storage capacity and low co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stored as magnetized areas on magnetic disk surfa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isk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ac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contains several magnetic disks connected to a rotating spind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ks are divided into concentric circular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rack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on each disk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urfa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k capacities vary typically from 4 to 50 Kbytes or mo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B5B7D34D-9B7D-4D04-BA90-68F9801AA99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sk Storage Device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track is divided into smalle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lock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cause it usually contains a large amount of informa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vision of a track into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ctor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hard-coded on the disk surface and cannot be chang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ne type of sector organization calls a portion of a track that subtends a fixed angle at the center as a secto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track is divided into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lock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block size B is fixed for each syste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ypical block sizes range from B=512 bytes to B=4096 by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ole blocks are transferred between disk and main memory for process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06668F57-17AC-4FF4-B665-072E3C75152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7" descr=""/>
          <p:cNvPicPr/>
          <p:nvPr/>
        </p:nvPicPr>
        <p:blipFill>
          <a:blip r:embed="rId1"/>
          <a:stretch/>
        </p:blipFill>
        <p:spPr>
          <a:xfrm>
            <a:off x="0" y="328680"/>
            <a:ext cx="8693280" cy="1152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fig13_02"/>
          <p:cNvPicPr/>
          <p:nvPr/>
        </p:nvPicPr>
        <p:blipFill>
          <a:blip r:embed="rId2"/>
          <a:stretch/>
        </p:blipFill>
        <p:spPr>
          <a:xfrm>
            <a:off x="380880" y="2278080"/>
            <a:ext cx="8305920" cy="2982960"/>
          </a:xfrm>
          <a:prstGeom prst="rect">
            <a:avLst/>
          </a:prstGeom>
          <a:ln w="0">
            <a:noFill/>
          </a:ln>
        </p:spPr>
      </p:pic>
      <p:sp>
        <p:nvSpPr>
          <p:cNvPr id="238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4D83E708-60AB-4C2D-AD69-8B062023678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sk Storage Device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ad-write hea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oves to the track that contains the block to be transfer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sk rotation moves the block under the read-write head for reading or writ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physical disk block (hardware) address consists of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cylinder number (imaginary collection of tracks of same radius from all recorded surface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track number or surface number (within the cylinder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d block number (within track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ading or writing a disk block is time consuming because of the seek time s and rotational delay (latency)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uble buffering can be used to speed up the transfer of contiguous disk bloc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D591349F-FCFC-4D97-AD1C-623A4F65FF0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6:41Z</dcterms:created>
  <dc:creator>Elmasri/Navathe</dc:creator>
  <dc:description/>
  <dc:language>en-US</dc:language>
  <cp:lastModifiedBy>User</cp:lastModifiedBy>
  <cp:lastPrinted>2001-11-04T00:51:13Z</cp:lastPrinted>
  <dcterms:modified xsi:type="dcterms:W3CDTF">2016-10-30T17:53:09Z</dcterms:modified>
  <cp:revision>74</cp:revision>
  <dc:subject>Disk Storage, Basic File Structures, and Hashing</dc:subject>
  <dc:title>Chapter 13</dc:title>
</cp:coreProperties>
</file>