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273-25D3-4320-A77F-BF22AAEC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BF6-BC59-41ED-9A44-62EC12E9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134-58B4-4893-AC46-94C85652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1FB-2BE0-4C47-B32C-38E01532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E7CB-8D06-4F47-9EC4-7AC944D4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9C7E-E6EA-4E17-90EC-2B7300FC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BEE5-0231-4EFF-ACE0-D92A3B98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6E4-8D7E-44EB-99C6-A07D20A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6D3E-1942-4C31-BEF7-92025DBD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9BB6-2E8D-4A80-BF8C-891071AB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4DD7-2E52-4FF9-B12E-66625716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B59-AE0D-492E-999B-9BD51AE2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8477-6F76-4CD1-BA93-F739B180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B06B-60B1-4EB0-AA63-74797DF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1C28-335E-4C57-B511-A44DD3AB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BF77-43DD-4268-ABFB-701A81B9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B86F-CF33-403D-86E6-7A1CD9B9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B7C6-0F90-41EE-98B3-598AFE9C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466B-E1A8-4F23-ADDA-92BA9A4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D2C9-D404-40D1-AA43-96F72442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0F35-A5DA-4E8E-8411-6095F9B3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55EB-8D2E-4F3A-B6EA-921E9AF7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B1A-4E8B-4726-8561-25FA40EA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4778-AC14-4023-956C-53847520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55E8-EE74-4C1C-95FB-9D8FB2CB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E7B0A-D82A-4DB8-8968-72751BFB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F087-8B0F-43DD-9321-29B2976A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4273-DFFD-48A5-AA1C-9036667E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40D9-61EF-4961-8A67-0E5342CF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086D-71E9-48BB-BC2B-72910DEB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6A52-A784-4B9B-AD43-2A85E3AA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85247-50B2-4F1F-AB90-87F28BD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4113-5FFA-479F-8C71-995A130C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573-8AB5-4E82-B611-90CA3D77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51FB8-EABE-4BE0-93C2-E57EBE4D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32BB2-916B-4C5A-8356-C223ECD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482E-A8DE-4877-AB49-BD2B2082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24050-ED7E-45F1-B9F5-F968DA3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F405-5B42-4FE2-840B-063DD9AD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ECF2-3B2B-4EBF-8911-E1CD3CA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1036-709C-4949-BE7A-85989935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809B-59E9-4758-84D0-DA935802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272A-5963-4B53-9E5E-68530437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2F1-37C8-4582-B717-A9096E9E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481-2A64-43D4-9671-31D65A1F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BC8-F5E6-47AE-84E5-2F8F4665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3F2-3A86-4C4B-B7DC-F2DD5F1C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988-134C-4C56-846E-75EE3AB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Slide 13- </a:t>
            </a:r>
            <a:fld id="{D33DFCB1-9997-4F63-9E7E-AEEFAF331A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046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66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68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6" descr="elmasri_thumb"/>
          <p:cNvPicPr/>
          <p:nvPr/>
        </p:nvPicPr>
        <p:blipFill>
          <a:blip r:embed="rId5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B36-E183-4DB5-996E-5F6675A2BA9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2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2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Slide 13- </a:t>
            </a:r>
            <a:fld id="{58973255-DA22-4FBE-8C05-CF179791FF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nip and Round Single Corner Rectangle 20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Triangle 2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3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Slide 13- </a:t>
            </a:r>
            <a:fld id="{FAAF4C80-AACA-4985-BC7C-975D06EC46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8522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1c6f7"/>
                </a:solidFill>
                <a:latin typeface="Constantia"/>
              </a:rPr>
              <a:t>Lec 7:Disk Storage, Basic File Structures, and Has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A769-585F-4F74-A690-BBAA0DBB68D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7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fig13_01"/>
          <p:cNvPicPr/>
          <p:nvPr/>
        </p:nvPicPr>
        <p:blipFill>
          <a:blip r:embed="rId2"/>
          <a:stretch/>
        </p:blipFill>
        <p:spPr>
          <a:xfrm>
            <a:off x="1447920" y="1546200"/>
            <a:ext cx="6172200" cy="48546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160D36E8-4363-4886-91FF-10F1FDA794C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7" descr=""/>
          <p:cNvPicPr/>
          <p:nvPr/>
        </p:nvPicPr>
        <p:blipFill>
          <a:blip r:embed="rId1"/>
          <a:stretch/>
        </p:blipFill>
        <p:spPr>
          <a:xfrm>
            <a:off x="-49320" y="298440"/>
            <a:ext cx="7675560" cy="1006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tbl13_01a"/>
          <p:cNvPicPr/>
          <p:nvPr/>
        </p:nvPicPr>
        <p:blipFill>
          <a:blip r:embed="rId2"/>
          <a:stretch/>
        </p:blipFill>
        <p:spPr>
          <a:xfrm>
            <a:off x="1600200" y="1523880"/>
            <a:ext cx="3956040" cy="50292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5511960" y="6094440"/>
            <a:ext cx="3124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(Courtesy of Seagate Technolo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6D27CC2A-A48A-44AE-A3C8-0C6D57371A9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o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xed and variable length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rds contain fields which have values of a particular ty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.g., amount, date, time, 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s themselves may be fixed length or variable leng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 length fields can be mixed into one recor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parator characters or length fields are needed so that the record can be “parsed.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411269F5-A91E-4BC0-BDD7-27D56259BB7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ock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fers to storing a number of records in one block on the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cking factor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f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refers to the number of records per bloc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may be empty space in a block if an integral number of records do not fit in one bloc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anned Record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fers to records that exceed the size of one or more blocks and hence span a number of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DCA8B476-87CE-482B-99B3-108BB814115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les of Reco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records, where each record is a collection of data values (or data item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le descrip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le head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ncludes information that describes the file, such as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field nam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their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ata typ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the addresses of the file blocks on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rds are stored on disk block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locking fac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f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a file is the (average) number of file records stored in a disk blo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file can hav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xed-l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ords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ariable-l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87820305-BF2A-49EC-97CC-DE67A6FC273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les of Record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le records can b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spann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ann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Unspanne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no record can span two block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Spanne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a record can be stored in more than one blo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hysical disk blocks that are allocated to hold the records of a file can b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ontiguous, linked, or index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 file of fixed-length records, all records have the same format. Usually, unspanned blocking is used with such fi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les of variable-length records require additional information to be stored in each record, such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para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eld typ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ually spanned blocking is used with such fil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16509962-48DE-4797-BD4F-E66A3A43AB0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peration on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ypical file operations includ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OPEN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adies the file for access, and associates a pointer that will refer to a </a:t>
            </a:r>
            <a:r>
              <a:rPr b="0" i="1" lang="en-US" sz="1700" spc="-1" strike="noStrike">
                <a:solidFill>
                  <a:srgbClr val="000000"/>
                </a:solidFill>
                <a:latin typeface="Constantia"/>
              </a:rPr>
              <a:t>curren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file record at each point in tim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FIN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Searches for the first file record that satisfies a certain condition, and makes it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FINDNEX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Searches for the next file record (from the current record) that satisfies a certain condition, and makes it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EA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ads the current file record into a program variabl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SER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Inserts a new record into the file &amp; makes it the current file record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LET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moves the current file record from the file, usually by marking the record to indicate that it is no longer vali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ODIFY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Changes the values of some fields of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CLOS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Terminates access to the fil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EORGANIZ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organizes the file record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 example, the records marked deleted are physically removed from the file or a new organization of the file records is created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EAD_ORDERE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 Read the file blocks in order of a specific field of the fil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00E1D0E4-B02C-451B-8DD2-6D3B3CBC768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order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so called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ea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records are inserted at the end of the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near searc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rough the file records is necessary to search for a recor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requires reading and searching half the file blocks on the average, and is hence quite expens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rd insertion is quite effic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ing the records in order of a particular field requires sorting the file record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F74A3CC8-E814-42F3-A5C8-0A8CF9A6B04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called a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equentia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le records are kept sorted by the values of a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order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fiel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rtion is expensive: records must be inserted in the correct ord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common to keep a separate unordered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overflow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or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ransa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file for new records to improve insertion efficiency; this is periodically merged with the main ordered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inary searc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an be used to search for a record on its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ordering fiel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requires reading and searching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file blocks on the average, an improvement over linear searc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ing the records in order of the ordering field is quite effici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B8C31A9D-2A62-4E8F-8FA8-6CD0A63AB34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7" descr=""/>
          <p:cNvPicPr/>
          <p:nvPr/>
        </p:nvPicPr>
        <p:blipFill>
          <a:blip r:embed="rId1"/>
          <a:stretch/>
        </p:blipFill>
        <p:spPr>
          <a:xfrm>
            <a:off x="-49320" y="298440"/>
            <a:ext cx="4565880" cy="1006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3048120" y="1523880"/>
            <a:ext cx="3143160" cy="50292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51E2E054-6696-47E1-AADE-F1E3654C185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k Storage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es of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rations on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sh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and Extendible Hashing Techniqu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ID Techn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447CCC75-0915-47F1-A3E8-C03986B0C4A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verage Access Ti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ollowing table shows the average access time to access a specific record for a given type of 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878040" y="3246480"/>
            <a:ext cx="7548480" cy="188424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675A8435-EF86-416F-980F-F7D026BC0F3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sh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ashing for disk files is call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xternal Ha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le blocks are divided into M equal-siz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cke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numbered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...,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ypically, a bucket corresponds to one (or a fixed number of) disk bloc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e of the file fields is designated to be th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ash ke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record with hash key value K is stored in bucket i, where i=h(K), and h is th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ashing fun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rch is very efficient on the hash k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llisions occur when a new record hashes to a bucket that is already fu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overflow file is kept for storing such recor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verflow records that hash to each bucket can be linked togeth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42BAB94B-2E26-4220-9EA8-E6BFAD139A3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shed Fil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numerous methods for collision resolution, including the follow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pen address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Proceeding from the occupied position specified by the hash address, the program checks the subsequent positions in order until an unused (empty) position is foun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For this method, various overflow locations are kept, usually by extending the array with a number of overflow positions. In addition, a pointer field is added to each record location. A collision is resolved by placing the new record in an unused overflow location and setting the pointer of the occupied hash address location to the address of that overflow locatio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ultiple hash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The program applies a second hash function if the first results in a collision. If another collision results, the program uses open addressing or applies a third hash function and then uses open addressing if necessar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0295697B-8D70-46E6-BA90-9FC429D9EE9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7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fig13_09"/>
          <p:cNvPicPr/>
          <p:nvPr/>
        </p:nvPicPr>
        <p:blipFill>
          <a:blip r:embed="rId2"/>
          <a:stretch/>
        </p:blipFill>
        <p:spPr>
          <a:xfrm>
            <a:off x="228600" y="2057400"/>
            <a:ext cx="8458200" cy="403056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16479FDA-BE17-4706-925C-AF0E1AD3D24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shed Fil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reduce overflow records, a hash file is typically kept 70-80% fu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hash function h should distribute the records uniformly among the buc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wise, search time will be increased because many overflow records will exi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n disadvantages of static external hash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xed number of buckets M is a problem if the number of records in the file grows or shrin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dered access on the hash key is quite inefficient (requires  sorting the record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FAAAE5E0-73CB-4917-A232-F706D0FD19E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7" descr=""/>
          <p:cNvPicPr/>
          <p:nvPr/>
        </p:nvPicPr>
        <p:blipFill>
          <a:blip r:embed="rId1"/>
          <a:stretch/>
        </p:blipFill>
        <p:spPr>
          <a:xfrm>
            <a:off x="109440" y="128520"/>
            <a:ext cx="8663040" cy="1157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fig13_10"/>
          <p:cNvPicPr/>
          <p:nvPr/>
        </p:nvPicPr>
        <p:blipFill>
          <a:blip r:embed="rId2"/>
          <a:stretch/>
        </p:blipFill>
        <p:spPr>
          <a:xfrm>
            <a:off x="1676520" y="1590840"/>
            <a:ext cx="5943600" cy="488628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FCE0D263-9412-46BD-8E4F-B08DEF0EC60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ynamic And Extendible Hashed Fil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and Extendible Hashing Techniq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shing techniques are adapted to allow the dynamic growth and shrinking of the number of file recor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se techniques include the following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dynamic hashing, extendible hashi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and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linear hash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dynamic and extendible hashing use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inary represent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hash value h(K) in order to access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rect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dynamic hashing the directory is a binary tre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extendible hashing the directory is an array of siz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where d is called th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global depth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8441443E-925B-428F-83CD-96AC668EA1E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ynamic And Extendible Hashing 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rectories can be stored on disk, and they expand or shrink dynamical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rectory entries point to the disk blocks that contain the stored recor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sertion in a disk block that is full causes the block to split into two blocks and the records are redistributed among the two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directory is updated appropriatel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and extendible hashing do not require an overflow are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ear hashing does require an overflow area but does not use a director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cks are split in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linear orde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s the file expan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F9F2A91C-78E8-46F0-AACB-3AE183EC563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7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fig13_11"/>
          <p:cNvPicPr/>
          <p:nvPr/>
        </p:nvPicPr>
        <p:blipFill>
          <a:blip r:embed="rId2"/>
          <a:stretch/>
        </p:blipFill>
        <p:spPr>
          <a:xfrm>
            <a:off x="2057400" y="1576440"/>
            <a:ext cx="4976640" cy="497664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508CC8AD-A885-4AE2-8C34-8DEA2E72010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arallelizing Disk Access using RAID Technology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ary storage technology must take steps to keep up in performance and reliability with processor technolo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major advance in secondary storage technology is represented by the development of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AI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which originally stood for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dundant Arrays of Inexpensive Disk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ain goal of RAID is to even out the widely different rates of performance improvement of disks against those in memory and microprocess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5DBED9C6-B0FD-42AB-BD5A-74C729D8418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Hierarc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3" descr="Pink tissue paper"/>
          <p:cNvPicPr/>
          <p:nvPr/>
        </p:nvPicPr>
        <p:blipFill>
          <a:blip r:embed="rId1"/>
          <a:srcRect l="21029" t="28974" r="30738" b="22204"/>
          <a:stretch/>
        </p:blipFill>
        <p:spPr>
          <a:xfrm>
            <a:off x="684360" y="1695600"/>
            <a:ext cx="6837120" cy="432576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FDB678B0-3180-4A10-8EE1-A374813003C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ID Technology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39400" y="1599840"/>
            <a:ext cx="8294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natural solution is a large array of small independent disks acting as a single higher-performance logical dis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oncept called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ata strip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used, which utilizes parallelism to improve disk perform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striping distributes data transparently over multiple disks to make them appear as a single large, fast dis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Picture 9" descr="fig13_12"/>
          <p:cNvPicPr/>
          <p:nvPr/>
        </p:nvPicPr>
        <p:blipFill>
          <a:blip r:embed="rId1"/>
          <a:stretch/>
        </p:blipFill>
        <p:spPr>
          <a:xfrm>
            <a:off x="792000" y="5040360"/>
            <a:ext cx="7742520" cy="136044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A6E53D87-F5D3-4EFD-9644-612724D3F6A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ID Technology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fferent raid organizations were defined based on different combinations of the two factors of granularity of data interleaving (striping) and pattern used to compute redundant inform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0 has no redundant data and hence has the best write performance at the risk of data los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1 uses mirrored disk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2 uses memory-style redundancy by using Hamming codes, which contain parity bits for distinct overlapping subsets of components. Level 2 includes both error detection and corre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3 uses a single parity disk relying on the disk controller to figure out which disk has fail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s 4 and 5 use block-level data striping, with level 5 distributing data and parity information across all disk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id level 6 applies the so-called P + Q redundancy scheme using Reed-Soloman codes to protect against up to two disk failures by using just two redundant disk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5019A421-3BA0-43D5-9F0E-0B1F8531D33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 of RAID Technology (contd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 raid organizations are being used under different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aid level 1 (mirrored disks) is the easiest for rebuild of a disk from other disk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t is used for critical applications like log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aid level 2 uses memory-style redundancy by using Hamming codes, which contain parity bits for distinct overlapping subsets of component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vel 2 includes both error detection and correctio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aid level 3 (single parity disks relying on the disk controller to figure out which disk has failed) and level 5 (block-level data striping) are preferred for Large volume storage, with level 3 giving higher transfer rate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popular uses of the RAID technology currently ar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evel 0 (with striping), Level 1 (with mirroring) and Level 5 with an extra drive for parity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sign Decisions for RAID includ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evel of RAID, number of disks, choice of parity schemes, and grouping of disks for block-level striping.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0400725B-C008-4E5F-82E3-CA614D9285A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7" descr=""/>
          <p:cNvPicPr/>
          <p:nvPr/>
        </p:nvPicPr>
        <p:blipFill>
          <a:blip r:embed="rId1"/>
          <a:stretch/>
        </p:blipFill>
        <p:spPr>
          <a:xfrm>
            <a:off x="-49320" y="298440"/>
            <a:ext cx="7577280" cy="1006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3822840" cy="4708440"/>
          </a:xfrm>
          <a:prstGeom prst="rect">
            <a:avLst/>
          </a:prstGeom>
          <a:ln w="0">
            <a:noFill/>
          </a:ln>
        </p:spPr>
      </p:pic>
      <p:sp>
        <p:nvSpPr>
          <p:cNvPr id="31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E4DB4608-4F27-4429-980B-387E74DE6E6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7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830160" y="1481040"/>
            <a:ext cx="7699320" cy="3281400"/>
          </a:xfrm>
          <a:prstGeom prst="rect">
            <a:avLst/>
          </a:prstGeom>
          <a:ln w="0">
            <a:noFill/>
          </a:ln>
        </p:spPr>
      </p:pic>
      <p:sp>
        <p:nvSpPr>
          <p:cNvPr id="31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833D39A0-D1D5-44A8-A370-C70E3EB99D4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Area Networ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emand for higher storage has risen considerably in recent ti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ations have a need to move from a static fixed data center oriented operation to a more flexible and dynamic infrastructure for information process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us they are moving to a concept of Storage Area Networks (SA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a SAN, online storage peripherals are configured as nodes on a high-speed network and can be attached and detached from servers in a very flexible mann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allows storage systems to be placed at longer distances from the servers and provide different performance and connectivity op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573D4652-E50D-4350-B222-3D31B1E10C0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Area Network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vantages of SAN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lexible many-to-many connectivity among servers and storage devices using fiber channel hubs and switch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p to 10km separation between a server and a storage system using appropriate fiber optic cabl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tter isolation capabilities allowing non-disruptive addition of new peripherals and server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Ns face the problem of combining storage options from multiple vendors and dealing with evolving standards of storage management software and hardw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2E621386-1B4B-4F8B-A9EE-282806EA733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mm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k Storage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es of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rations on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sh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and Extendible Hashing Techniqu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ID Techn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D9B8FDB5-CAFE-4570-B2DB-5DEDB4F2BE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of Datab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BMS stores information on (‘hard’) dis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has major implications for DBMS design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READ: transfer data from disk to main mem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(RAM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WRITE: transfer data from RAM to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Both are high-cost operations, relative to in mem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operations, so must be planned careful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11C4B96F-613E-46A1-B775-8F95A2D62F5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orage of Databases (Con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y not store everything in main memor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sts too mu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Main memory is volatile. We want data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saved between r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ypical storage hierarch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Main memory (RAM) for currently used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Disk for the main data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apes for archiving older versions of the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2A7E6EA9-5309-4103-9306-372A717FD78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k Storage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ferred secondary storage device for high storage capacity and low co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stored as magnetized areas on magnetic disk surfa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isk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c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ontains several magnetic disks connected to a rotating spind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ks are divided into concentric circular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rack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on each disk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rf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k capacities vary typically from 4 to 50 Kbytes or mo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C28BAC9D-38C8-4C36-9A82-2AC8BD037BF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k Storage Devic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track is divided into smalle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cause it usually contains a large amount of inform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vision of a track int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cto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hard-coded on the disk surface and cannot be chang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e type of sector organization calls a portion of a track that subtends a fixed angle at the center as a secto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track is divided int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ck size B is fixed for each syste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ypical block sizes range from B=512 bytes to B=4096 by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ole blocks are transferred between disk and main memory for process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DD670CC1-119C-4AA9-9B75-CA2AD5D474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7" descr=""/>
          <p:cNvPicPr/>
          <p:nvPr/>
        </p:nvPicPr>
        <p:blipFill>
          <a:blip r:embed="rId1"/>
          <a:stretch/>
        </p:blipFill>
        <p:spPr>
          <a:xfrm>
            <a:off x="0" y="328680"/>
            <a:ext cx="8693280" cy="115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fig13_02"/>
          <p:cNvPicPr/>
          <p:nvPr/>
        </p:nvPicPr>
        <p:blipFill>
          <a:blip r:embed="rId2"/>
          <a:stretch/>
        </p:blipFill>
        <p:spPr>
          <a:xfrm>
            <a:off x="380880" y="2278080"/>
            <a:ext cx="8305920" cy="298296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A165D7FD-FFCF-4C08-9876-6642CC587C0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k Storage Devic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ad-write hea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ves to the track that contains the block to be transfer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sk rotation moves the block under the read-write head for reading or writ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hysical disk block (hardware) address consists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cylinder number (imaginary collection of tracks of same radius from all recorded surface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track number or surface number (within the cylinder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d block number (within track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ding or writing a disk block is time consuming because of the seek time s and rotational delay (latency)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uble buffering can be used to speed up the transfer of contiguous disk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Slide 13- </a:t>
            </a:r>
            <a:fld id="{0D4F6F1E-F360-4789-BECF-B91D117E326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User</cp:lastModifiedBy>
  <cp:lastPrinted>2001-11-04T00:51:13Z</cp:lastPrinted>
  <dcterms:modified xsi:type="dcterms:W3CDTF">2016-10-30T17:53:09Z</dcterms:modified>
  <cp:revision>74</cp:revision>
  <dc:subject>Disk Storage, Basic File Structures, and Hashing</dc:subject>
  <dc:title>Chapter 13</dc:title>
</cp:coreProperties>
</file>