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6134-5A6C-499D-83C6-6493BB2EE01C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E06C-BB6A-4785-91B4-24A18ABE55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98C2-C7A2-4E91-AEBD-E8F7E0281662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7A44-5E48-4C4F-AA3C-A764022540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F381-7CC5-49F2-9F9E-97B1DA60CFDB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60B1-622A-408B-A520-0AFCD77D08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F6BB-E848-4FA0-AA9C-A48504304E1E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C488-26D0-447F-B472-A06ACF80BF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13D1-361E-45D7-9AF3-D929D833A705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16EE-26E9-40E2-B6F7-C5C94097D3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1B7A-9A5A-4737-83AA-B90E96E5A7EC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EED1-D217-4D39-B337-2F8918B8B9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698D-E23B-49E4-B1D9-76DDC356DB0A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DE10-6C65-485B-A3AA-883D4959DF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8004-4C1F-4B7C-9FB2-E5E51956A5C2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EA98-946B-4355-8F6E-A8CF952469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E778-D8E2-4D6E-BBFF-F41DABFF28C6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D0D6-BF90-4BBA-8C6C-84161DC6AD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F1D9-B35E-43CF-985A-EB3E0AB9C4E1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70A5-4EA3-4037-A568-2A11748F07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0986-23EA-4D8F-89B7-7EE219BC9B2C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3FBB-682B-4D8D-B602-7233EFF2F4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8121-E579-40BE-B3C6-8FA8EF11E817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10B3-EED5-4E03-A0D8-F4F055E75C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449C-DC7B-4AB2-A4A9-E622834DDBAA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CD91-40F0-47BA-ADFB-4F53A567B3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017C-D5A8-4FEE-AF16-587F822171A4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E13E-FF2A-4320-9130-3BA681E076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A427-0C66-4DFD-92B4-BB0DC441CEBD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A042-1904-4865-8D42-22F53F6565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37F4-39AC-43D1-ACE7-3D0E8FDE1E5E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C004-7602-4D5A-BA4C-2E30C3E347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0F0C-15C4-4657-9AD1-AC54166BFDBA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6B2F-95FA-458D-8AC4-1B0ACF1040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FB93-21DF-4DAA-A232-53F1E86170FB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7D41-7B0B-4832-9753-E8FB7BED6D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04C4-4C7A-4F50-8D86-2C9A80A06491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62AF-8FA9-420C-8DE0-2723DAE3AB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8944-0984-45F6-9527-04D7BBCEF999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95BD-B894-4386-AA02-1E0BAE95EF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E75C-A879-4BB7-8D87-684B9AF2B172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E803-F1EF-4A0D-9D88-C1E106EE08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5DD9-63CF-49FB-9C6C-5AC63C50DED6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5724-38E4-4250-A63A-881B5518CC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B206-4C18-46C5-8514-8E31898963D4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8814-54B2-46BE-B47D-41960442DD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A002-DBE2-4067-AA1E-6F3606FE03C8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CCF6-CB12-4768-A075-627C1E2A72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F86C-DE75-4AD1-87F3-9E4ED1E227B3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875C-A03C-4663-9467-AFC47FCE3D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CCE1-D870-42C0-A2F3-A503B72D51A1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B112-3156-4F4B-BE33-5AC0FDD38E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4A6B-5270-4E14-9F08-F0650AD4FB77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A7A6-2933-40F9-877D-73D74CD706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0531-2ED2-4003-9B46-6DD8FB9D9F71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69F0-1788-4310-A823-A7AD279265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CF83-BE72-420F-B9CB-83E01140A209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184F-740A-4D59-8F12-B0A5DFF268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5DE6-0C83-4B0D-910E-4A17A75FE061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D0B1-D0BA-4FE9-A5C4-C0BDE0859D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5DF7-C311-4D31-9D73-E959C41F998F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17CA-78EB-428E-A8D6-FA678B3768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B0FF-B941-480B-9C33-6DF27CC0C499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E3A6-98DB-46A8-9F10-4A63BFD945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BA9D-7867-408C-90DB-9275B7F5B3BB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D509-6E55-4993-8917-23B9FD18B8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765B-5B2F-4C74-AF6D-E47276412962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E186-A2B8-4B15-9F88-E626E5C1AF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7A7B-C325-4170-B581-EF52D902EE70}" type="datetime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47F8-6FEC-4398-AF8B-F414390FEB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756-6B4B-45FF-8FFB-035E960F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9A4-0C0A-41FE-9577-BE054313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A7D-5013-470A-A40A-284FDD07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39FB-8B6E-4DDF-92F9-6FE619BA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4C41-F5FC-4469-A585-1BEA7862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7208-0FFE-4B5B-AE52-2AD72F5B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10C0-1713-4616-8B10-7809394B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D5D3-AD6F-4BB1-B2FD-D18D736E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213F-AFA2-407D-94D6-377C78BF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72E6-DDDD-4DEF-9644-9C1B784F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BC7C-CB4A-41C5-9886-21295379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EE8-E3D1-49BE-BCDD-7276C5A2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D534-4BA5-41F5-9636-9C4501E7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0090-72A8-4B13-A0A9-9054EDDB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43B4-F0B3-4274-A0F7-69C618BB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FB5E-186D-4976-810D-2F639603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7493-5E44-453D-91D5-652A8D29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B9D78-849E-434B-8E03-908ACD4B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47AF-8CC1-45EC-9199-E5B47FF2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C612D-30CA-459A-97F6-D560238E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AEAFA-B05F-4729-B5E6-A0C3BE55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1407-C6E4-439D-AF06-BE062996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347-21CE-48FB-ABA7-1FC1C847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A2453-7673-4B2B-BC60-FB4A9FF2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36141-4476-4E2B-BCD3-9B8A9EDB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650E9-4C19-4B28-A7A8-986A2750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BA76D-DA1A-48AE-BD0B-88D4B621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0748D-8CAA-4F7D-8621-C755A4D1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D5BBB-0729-4338-9731-82AB2926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8633B-01C7-4473-B0FB-804F35E7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048E3-01AC-4E1F-AF0F-74E9399D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AF624-8C4D-4E47-8B2B-A143EA8D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80A48-C5C0-47AA-B849-2A8A3F07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8FC-0EBA-4D2C-9D28-6178B6A5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F4C7F-ACB6-4003-8F4A-680A82C3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2AA07-0911-4648-BA13-8109BCEB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8AB97-0E8F-4270-A121-656FEABD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B3A9A-4684-45AE-9A0D-9F67166C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9A24D-4088-4977-ADF2-778839B1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1153B-8C96-43E8-99A1-B352A50C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F721B-41C0-41F8-AF92-E9AE5312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5D008-9380-4D45-AC5D-A56A107A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A2EAB-7FB4-47F5-9679-81EEF042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3408-73A9-43BB-9B47-A0F38595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3C5-569F-4C97-B1E1-392B8A20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DFF-EFB6-4DEB-B1D6-2BB9D214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67D-E3A4-459D-96AF-BE35ADC0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C88-468F-4570-AC9D-374DB7F5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HY신명조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HY신명조"/>
              </a:rPr>
              <a:t>Chapter 14-</a:t>
            </a:r>
            <a:fld id="{13079788-6D29-4AC6-8645-C77E47AA0951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HY신명조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HY신명조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  <a:ea typeface="HY신명조"/>
              </a:rPr>
              <a:t>© Shamkant B. Nava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1eaee"/>
                </a:solidFill>
                <a:latin typeface="Times New Roman"/>
                <a:ea typeface="HY신명조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8DD9-090A-4C90-8C26-5A08B6AD5580}" type="slidenum">
              <a:rPr b="0" lang="ko-KR" sz="1200" spc="-1" strike="noStrike">
                <a:solidFill>
                  <a:srgbClr val="d1eaee"/>
                </a:solidFill>
                <a:latin typeface="Times New Roman"/>
                <a:ea typeface="HY신명조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HY신명조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  <a:ea typeface="HY신명조"/>
              </a:rPr>
              <a:t>Chapter 14-</a:t>
            </a:r>
            <a:fld id="{A919D3B8-BD92-4B78-9DF8-670F82A2E8B3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HY신명조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HY신명조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HY신명조"/>
              </a:rPr>
              <a:t>Chapter 14-</a:t>
            </a:r>
            <a:fld id="{01AEF043-3576-477F-871D-6B89E50E699A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HY신명조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3" descr=""/>
          <p:cNvPicPr/>
          <p:nvPr/>
        </p:nvPicPr>
        <p:blipFill>
          <a:blip r:embed="rId1"/>
          <a:stretch/>
        </p:blipFill>
        <p:spPr>
          <a:xfrm>
            <a:off x="328680" y="3213000"/>
            <a:ext cx="8010360" cy="968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2635200" y="6408720"/>
            <a:ext cx="406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  <a:ea typeface="Gulim"/>
              </a:rPr>
              <a:t>Copyright © 2004 Ramez Elmasri and Shamkant Nava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301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FIGURE 14.3</a:t>
            </a: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Clustering index with a separate block cluster for each group of records that share the same value for the clustering field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340160" cy="6140520"/>
          </a:xfrm>
          <a:prstGeom prst="rect">
            <a:avLst/>
          </a:prstGeom>
          <a:ln w="0">
            <a:noFill/>
          </a:ln>
        </p:spPr>
      </p:pic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0DBD3E5E-4684-4B63-A671-9DDA621E6405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4760" y="342720"/>
            <a:ext cx="7174080" cy="711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  <a:ea typeface="Gulim"/>
              </a:rPr>
              <a:t>Types of Single-Level Index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42720" y="1231560"/>
            <a:ext cx="88009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Gulim"/>
              </a:rPr>
              <a:t>Secondary Index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A secondary index provides a secondary means of accessing a file for which some primary access already exi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The secondary index may be on a field which is a candidate key and has a unique value in every record, or a nonkey with duplicate val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The index is an ordered file with two fiel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The first field is of the same data type as some </a:t>
            </a:r>
            <a:r>
              <a:rPr b="0" i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nonordering field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of the data file that is an </a:t>
            </a:r>
            <a:r>
              <a:rPr b="0" i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indexing field.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The second field is either a </a:t>
            </a:r>
            <a:r>
              <a:rPr b="0" i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block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pointer or a </a:t>
            </a:r>
            <a:r>
              <a:rPr b="0" i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record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pointer. There can be </a:t>
            </a:r>
            <a:r>
              <a:rPr b="0" i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many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secondary indexes (and hence, indexing fields) for the same fil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80000"/>
              </a:lnSpc>
              <a:spcBef>
                <a:spcPts val="2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Includes one entry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for each reco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  in the data file; hence, it is a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dense inde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2C8F93F6-D47E-40CE-B15B-42FDB21C7616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27687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FIGURE 14.4</a:t>
            </a: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A dense secondary index (with block pointers) on a nonordering key field of a file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3538440" y="228600"/>
            <a:ext cx="5354640" cy="609588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31941E69-F6B1-4AC3-949B-906A34B329A8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0520" y="906480"/>
            <a:ext cx="857268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nstantia"/>
                <a:ea typeface="Gulim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Given the following data fil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MPLOYEE(NAME, SSN, ADDRESS, JOB, SAL, ... 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Suppose that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cord size R=100 byt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lock size B=1024 byt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=30000 rec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Then, we get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locking factor bfr= B / R= 1024 / 100 = 10 records/blo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umber of file blocks b= (r/bfr)= (30000/10)= 3000 bloc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or an index on the JOB field, assume the field siz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JO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9 byte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ssume the record pointer siz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6 bytes. Then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dex entry size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JO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+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=(9+6)=15 byt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dex blocking factor bf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/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1024 / 15= 68 entries/blo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umber of index blocks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(r/ bf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= (30000/68)= 442 bloc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inary search needs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442= 9 block accesses, total 9+1=10 block acces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is is compared to an average linear search cost of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(b/2)= 3000/2= 1500 block acces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D46CB001-D2C6-47A0-89C8-409D99FFF1BC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685800" y="38088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  <a:ea typeface="Gulim"/>
              </a:rPr>
              <a:t>Secondary Ind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844200"/>
            <a:ext cx="850896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FIGURE : 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A secondary index (with recored pointers) on a nonkey field implemented using one level of indirection so that index entries are of fixed length and have unique field values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2019240" y="1935000"/>
            <a:ext cx="5105520" cy="4389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0F039523-92E9-4626-837A-21D24980AEEB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7CA88962-5C76-4FD7-8888-3F24BE984133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307800" y="1359000"/>
            <a:ext cx="883620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04760" y="628560"/>
            <a:ext cx="71740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  <a:ea typeface="Gulim"/>
              </a:rPr>
              <a:t>Multi-Level Indexe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44600" y="1510920"/>
            <a:ext cx="8508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Because a single-level index is an ordered file, we can create a primary inde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to the index itsel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; in this case, the original index file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first-level ind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 and the index to the index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second-level index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We can repeat the process, creating a third, fourth, ..., top level until all entrie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top lev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 fit in one disk blo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A multi-level index can be created for any type of first-level index (primary, secondary, clustering) as long as the first-level index consis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more than 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 disk blo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F5139714-9920-4512-9305-E54E009D660C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9120" y="1044720"/>
            <a:ext cx="274032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FIGURE : A two-level primary index resembling ISAM (Indexed Sequential Access Method) organization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2989440" y="565200"/>
            <a:ext cx="5824440" cy="553068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72E62410-BC4F-49E0-9961-1EA0CED6A03C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0520" y="906480"/>
            <a:ext cx="857268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nstantia"/>
                <a:ea typeface="Gulim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Given the following data fil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MPLOYEE(NAME, SSN, ADDRESS, JOB, SAL, ... 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Suppose that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previous example is converted into a multilevel index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Then, we get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dex blocking factor Bf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68 entries/blo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umber of first-level index blocks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(r/ Bf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= (30000/68)= 442 bloc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umber of second-level index blocks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(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/ Bf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= (442/68)= 7 bloc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umber of third-level index blocks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(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/ Bf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= (7/68)= 1 blo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(the third level is the top level of the index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multilevel index search needs 1+1+1=3 block accesses, total 3+1=4 block acces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is is compared to secondary index search cost of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10 block acces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2C86F770-8F78-482D-80CE-00186E168D5B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685800" y="38088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  <a:ea typeface="Gulim"/>
              </a:rPr>
              <a:t>Multi-Level Ind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04760" y="342720"/>
            <a:ext cx="717408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  <a:ea typeface="Gulim"/>
              </a:rPr>
              <a:t>Multi-Level Indexe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44600" y="1231560"/>
            <a:ext cx="8508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uch a multi-level index is a form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earch tre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 ; however, insertion and deletion of new index entries is a severe problem because every level of the index i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ordered fi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403F9C87-12AD-4726-821D-502A3315B0EE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303120"/>
            <a:ext cx="853416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Gulim"/>
              </a:rPr>
              <a:t>Chapter Out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389240"/>
            <a:ext cx="826776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Gulim"/>
              </a:rPr>
              <a:t>Types of Single-level Ordered Index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  <a:ea typeface="Gulim"/>
              </a:rPr>
              <a:t>Primary Index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  <a:ea typeface="Gulim"/>
              </a:rPr>
              <a:t>Clustering Index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  <a:ea typeface="Gulim"/>
              </a:rPr>
              <a:t>Secondary Index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Gulim"/>
              </a:rPr>
              <a:t>Multilevel Index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Gulim"/>
              </a:rPr>
              <a:t>Dynamic Multilevel Indexes Using B-Trees      and B+-Tre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Gulim"/>
              </a:rPr>
              <a:t>Indexes on Multiple Ke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06E000A4-891A-48A0-B77A-9E0805D8F08E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5248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A tree data structure that shows an unbalanced tre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rcRect l="23306" t="25733" r="22582" b="30689"/>
          <a:stretch/>
        </p:blipFill>
        <p:spPr>
          <a:xfrm>
            <a:off x="852480" y="1962000"/>
            <a:ext cx="7284960" cy="3667320"/>
          </a:xfrm>
          <a:prstGeom prst="rect">
            <a:avLst/>
          </a:prstGeom>
          <a:ln w="0">
            <a:noFill/>
          </a:ln>
        </p:spPr>
      </p:pic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F5198301-8360-4217-9664-FC973609D2AF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FIGURE : A node in a search tree with pointers to subtrees below it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685800" y="2432160"/>
            <a:ext cx="7772400" cy="2170080"/>
          </a:xfrm>
          <a:prstGeom prst="rect">
            <a:avLst/>
          </a:prstGeom>
          <a:ln w="0">
            <a:noFill/>
          </a:ln>
        </p:spPr>
      </p:pic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BD32CE98-8E9B-4363-8964-DCC0CB5C7185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FIGURE: A search tree of order p = 3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685800" y="2387520"/>
            <a:ext cx="8048520" cy="3191040"/>
          </a:xfrm>
          <a:prstGeom prst="rect">
            <a:avLst/>
          </a:prstGeom>
          <a:ln w="0">
            <a:noFill/>
          </a:ln>
        </p:spPr>
      </p:pic>
      <p:sp>
        <p:nvSpPr>
          <p:cNvPr id="26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D768A7F9-E55D-418F-BBA7-D7ADF32DD09C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2440" y="1079640"/>
            <a:ext cx="83311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  <a:ea typeface="Gulim"/>
              </a:rPr>
              <a:t>Dynamic Multilevel Indexes Using B-Trees and B+-Trees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739880"/>
            <a:ext cx="84963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Because of the insertion and deletion problem, most multi-level indexes use B-tree or B+-tree data structures, which leave space in each tree node (disk block) to allow for new index entr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These data structures are variations of search trees that allow efficient insertion and deletion of new search valu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In B-Tree and B+-Tree data structures, each node corresponds to a disk blo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Each node is kept between half-full and completely fu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6A94D350-4D13-40A7-8008-1056F1044E17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2440" y="1181160"/>
            <a:ext cx="83311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  <a:ea typeface="Gulim"/>
              </a:rPr>
              <a:t>Dynamic Multilevel Indexes Using B-Trees and B+-Trees (contd.)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2440" y="1765080"/>
            <a:ext cx="833112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An insertion into a node that is not full is quite efficient; if a node is full the insertion causes a split into two nod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Splitting may propagate to other tree leve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A deletion is quite efficient if a node does not become less than half fu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If a deletion causes a node to become less than half full, it must be merged with neighboring nod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F3EB26C9-3D46-4331-820C-CB303454292D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2440" y="685800"/>
            <a:ext cx="83311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  <a:ea typeface="Gulim"/>
              </a:rPr>
              <a:t>Difference between B-tree and B+-tre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2440" y="1752120"/>
            <a:ext cx="83311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In a B-tree, pointers to data records exist at all levels of the tre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In a B+-tree, all pointers to data records exists at the leaf-level nod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A B+-tree can have less levels (or higher capacity of search values) than the corresponding B-tre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B36A1284-FA47-4223-BC3F-0AB02FCEBDDB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25240" y="609480"/>
            <a:ext cx="838188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libri"/>
                <a:ea typeface="Gulim"/>
              </a:rPr>
              <a:t>FIGURE : B-tree structures. (a) A node in a B-tree with q – 1 search  values. (b) A B-tree of order p = 3. The values were inserted in the order 8, 5, 1, 7, 3, 12, 9, 6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457200" y="2076480"/>
            <a:ext cx="8229600" cy="4106880"/>
          </a:xfrm>
          <a:prstGeom prst="rect">
            <a:avLst/>
          </a:prstGeom>
          <a:ln w="0">
            <a:noFill/>
          </a:ln>
        </p:spPr>
      </p:pic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D825E949-065B-42AB-8031-F7ED7252F61E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266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FIGURE :</a:t>
            </a:r>
            <a:r>
              <a:rPr b="0" lang="en-US" sz="1800" spc="-1" strike="noStrike">
                <a:solidFill>
                  <a:srgbClr val="04617b"/>
                </a:solidFill>
                <a:latin typeface="Calibri"/>
                <a:ea typeface="Gulim"/>
              </a:rPr>
              <a:t>The nodes of a B+-tree. (a) Internal node of a B+-tree with q –1 search values. (b) Leaf node of a B+-tree with q – 1 search values and q – 1 data pointers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457200" y="2063880"/>
            <a:ext cx="8229600" cy="4132080"/>
          </a:xfrm>
          <a:prstGeom prst="rect">
            <a:avLst/>
          </a:prstGeom>
          <a:ln w="0">
            <a:noFill/>
          </a:ln>
        </p:spPr>
      </p:pic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4983E36D-12EF-436E-810C-2EDCEA481419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4772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FIGURE : An example of insertion in a B+-tree with q = 3 and p</a:t>
            </a:r>
            <a:r>
              <a:rPr b="0" lang="en-US" sz="2000" spc="-1" strike="noStrike" baseline="-25000">
                <a:solidFill>
                  <a:srgbClr val="04617b"/>
                </a:solidFill>
                <a:latin typeface="Calibri"/>
                <a:ea typeface="Gulim"/>
              </a:rPr>
              <a:t>leaf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 = 2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rcRect l="0" t="0" r="0" b="58903"/>
          <a:stretch/>
        </p:blipFill>
        <p:spPr>
          <a:xfrm>
            <a:off x="744480" y="1428840"/>
            <a:ext cx="7942320" cy="5214960"/>
          </a:xfrm>
          <a:prstGeom prst="rect">
            <a:avLst/>
          </a:prstGeom>
          <a:ln w="0">
            <a:noFill/>
          </a:ln>
        </p:spPr>
      </p:pic>
      <p:sp>
        <p:nvSpPr>
          <p:cNvPr id="28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11E884DB-D36A-4362-AD45-0209A988F974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47480"/>
            <a:ext cx="84772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FIGURE :An example of insertion in a B+-tree with q = 3 and p</a:t>
            </a:r>
            <a:r>
              <a:rPr b="0" lang="en-US" sz="2000" spc="-1" strike="noStrike" baseline="-25000">
                <a:solidFill>
                  <a:srgbClr val="04617b"/>
                </a:solidFill>
                <a:latin typeface="Calibri"/>
                <a:ea typeface="Gulim"/>
              </a:rPr>
              <a:t>leaf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 = 2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rcRect l="0" t="29425" r="0" b="39061"/>
          <a:stretch/>
        </p:blipFill>
        <p:spPr>
          <a:xfrm>
            <a:off x="992160" y="1467000"/>
            <a:ext cx="7942320" cy="399888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64FA662C-9A53-45B9-AD7B-230BFBAFB161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  <a:ea typeface="Gulim"/>
              </a:rPr>
              <a:t>Indexes as Access Path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3840" y="1587240"/>
            <a:ext cx="83692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A single-level index is an auxiliary file that makes it more efficient to search for a record in the data fi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The index is usually specified on one field of the file (although it could be specified on several field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One form of an index is a file of entrie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&lt;field value, pointer to record&gt;,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 which is ordered by field val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The index is called an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access pa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 on the fiel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B09F7B15-BAED-40C2-B2D1-B9EF6178D423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61440"/>
            <a:ext cx="84772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FIGURE : An example of insertion in a B+-tree with q = 3 and p</a:t>
            </a:r>
            <a:r>
              <a:rPr b="0" lang="en-US" sz="2000" spc="-1" strike="noStrike" baseline="-25000">
                <a:solidFill>
                  <a:srgbClr val="04617b"/>
                </a:solidFill>
                <a:latin typeface="Calibri"/>
                <a:ea typeface="Gulim"/>
              </a:rPr>
              <a:t>leaf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 = 2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rcRect l="0" t="40960" r="0" b="19633"/>
          <a:stretch/>
        </p:blipFill>
        <p:spPr>
          <a:xfrm>
            <a:off x="992160" y="1125360"/>
            <a:ext cx="7942320" cy="500076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4AC299AF-EE65-4B0E-B3DA-25B4F5F13B93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4772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FIGURE : An example of insertion in a B+-tree with q = 3 and p</a:t>
            </a:r>
            <a:r>
              <a:rPr b="0" lang="en-US" sz="2000" spc="-1" strike="noStrike" baseline="-25000">
                <a:solidFill>
                  <a:srgbClr val="04617b"/>
                </a:solidFill>
                <a:latin typeface="Calibri"/>
                <a:ea typeface="Gulim"/>
              </a:rPr>
              <a:t>leaf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 = 2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rcRect l="0" t="60827" r="0" b="-1371"/>
          <a:stretch/>
        </p:blipFill>
        <p:spPr>
          <a:xfrm>
            <a:off x="992160" y="1166760"/>
            <a:ext cx="7942320" cy="514512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54FED2FB-8989-41B3-9C32-C84EEB132539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3" descr=""/>
          <p:cNvPicPr/>
          <p:nvPr/>
        </p:nvPicPr>
        <p:blipFill>
          <a:blip r:embed="rId1"/>
          <a:srcRect l="0" t="0" r="0" b="43578"/>
          <a:stretch/>
        </p:blipFill>
        <p:spPr>
          <a:xfrm>
            <a:off x="1482840" y="892080"/>
            <a:ext cx="7105680" cy="54975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720" y="1295280"/>
            <a:ext cx="21985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FIGURE : An example of deletion from a B+-tree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16D6D53A-DFF9-4DA0-AD06-988A78020A4B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"/>
          <p:cNvPicPr/>
          <p:nvPr/>
        </p:nvPicPr>
        <p:blipFill>
          <a:blip r:embed="rId1"/>
          <a:srcRect l="0" t="32001" r="0" b="14395"/>
          <a:stretch/>
        </p:blipFill>
        <p:spPr>
          <a:xfrm>
            <a:off x="1482840" y="1068480"/>
            <a:ext cx="7105680" cy="52228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1000" y="1490400"/>
            <a:ext cx="242892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Calibri"/>
                <a:ea typeface="Gulim"/>
              </a:rPr>
              <a:t>FIGURE : An example of deletion from a B+-tree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7A070049-B60A-428D-8C71-EF462F2C49A8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1360" y="560160"/>
            <a:ext cx="8245440" cy="663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libri"/>
                <a:ea typeface="Gulim"/>
              </a:rPr>
              <a:t>FIGURE: An example of deletion from a B+-tree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rcRect l="0" t="59944" r="0" b="-3020"/>
          <a:stretch/>
        </p:blipFill>
        <p:spPr>
          <a:xfrm>
            <a:off x="1482840" y="1663560"/>
            <a:ext cx="7105680" cy="4197600"/>
          </a:xfrm>
          <a:prstGeom prst="rect">
            <a:avLst/>
          </a:prstGeom>
          <a:ln w="0">
            <a:noFill/>
          </a:ln>
        </p:spPr>
      </p:pic>
      <p:sp>
        <p:nvSpPr>
          <p:cNvPr id="30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A0DAB920-7A73-4274-A1CC-BC97C47C891A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2440" y="685800"/>
            <a:ext cx="83311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  <a:ea typeface="Gulim"/>
              </a:rPr>
              <a:t>And, 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22440" y="1752120"/>
            <a:ext cx="83311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Indexes on Multiple Key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Ordered index on multiple attrib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Partitioned has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Grid Fi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Other types of index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Using hashing and other data structures as index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Logical versus physical index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24F24127-5F80-47B3-83D8-E174B94377B9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  <a:ea typeface="Gulim"/>
              </a:rPr>
              <a:t>Indexes as Access Paths (contd.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10920"/>
            <a:ext cx="830592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The index file usually occupies considerably less disk blocks than the data file because its entries are much small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A binary search on the index yields a pointer to the file rec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Indexes can also be characterized as dense or spars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A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dense index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has an index entry for </a:t>
            </a:r>
            <a:r>
              <a:rPr b="0" i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every search key value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(and hence every record) in the data file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A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sparse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 (or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nondense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)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index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Gulim"/>
              </a:rPr>
              <a:t>, on the other hand, has index entries for only some of the search value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AF18798B-37EA-44C5-881F-952B3E615CBC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04760" y="342720"/>
            <a:ext cx="7174080" cy="711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  <a:ea typeface="Gulim"/>
              </a:rPr>
              <a:t>Types of Single-Level Index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44600" y="1384200"/>
            <a:ext cx="850896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Gulim"/>
              </a:rPr>
              <a:t>Primary Index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Defined on an ordered data fi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The data file is ordered on a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key fie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Includes one index entry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for each block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  in the data file; the index entry has the key field value for th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first reco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  in the block, which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block anch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A similar scheme can use th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last reco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  in a bloc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A primary index is a nondense (sparse) index, since it includes an entry for each disk block of the data file and the keys of its anchor record rather than for every search val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DB6BFA80-AF7C-4EF5-9662-F2D5E5DCF2F3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218592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FIGURE 14.1</a:t>
            </a: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Gulim"/>
              </a:rPr>
              <a:t>Primary index on the ordering key field of the file shown in Figure 13.7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3301920" y="304920"/>
            <a:ext cx="5351400" cy="594180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7B491830-7133-4AB9-80E4-2FCC138F8882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0520" y="906480"/>
            <a:ext cx="857268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nstantia"/>
                <a:ea typeface="Gulim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Given the following data fil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MPLOYEE(NAME, SSN, ADDRESS, JOB, SAL, ... 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Suppose that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cord size R=100 byt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lock size B=1024 byt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=30000 rec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Then, we get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locking factor bfr= B / R= 1024 / 100= 10 records/blo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umber of file blocks b= (r/bfr)= (30000/10)= 3000 bloc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or an index on the SSN key field, assume the field siz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SS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9 byte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ssume the record pointer siz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6 bytes. Then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dex entry size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SS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+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=(9+6)=15 byt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ndex blocking factor bf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/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1024 / 15= 68 entries/blo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umber of index blocks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(b/ bf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= (3000/68)= 45 bloc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inary search needs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=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45= 6 block accesses, total 6+1=7 block acces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is is compared to the binary search cost of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= 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3000= 12 block acces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EB15EBD0-FE5C-4D39-952D-86348CC0A8E1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685800" y="38088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  <a:ea typeface="Gulim"/>
              </a:rPr>
              <a:t>Primary Ind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4760" y="342720"/>
            <a:ext cx="7174080" cy="711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  <a:ea typeface="Gulim"/>
              </a:rPr>
              <a:t>Types of Single-Level Index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44600" y="1384200"/>
            <a:ext cx="850896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Gulim"/>
              </a:rPr>
              <a:t>Clustering Index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Defined on an ordered data fi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The data file is ordered on a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non-key fiel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unlike primary index, which requires that the ordering field of the data file have a distinct value for each recor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Includes one index entry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for each distinct valu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  of the field; the index entry points to the first data block that contains records with that field val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It is another example of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nondens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Gulim"/>
              </a:rPr>
              <a:t> index where Insertion and Deletion is relatively straightforward with a clustering index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E083F8C0-3FFE-4121-81F7-4DE176EBC9B0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882880" y="158760"/>
            <a:ext cx="6083280" cy="59371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4520" y="228240"/>
            <a:ext cx="48942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libri"/>
                <a:ea typeface="Gulim"/>
              </a:rPr>
              <a:t>FIGURE 14.2</a:t>
            </a:r>
            <a:br>
              <a:rPr sz="2200"/>
            </a:br>
            <a:r>
              <a:rPr b="0" lang="en-US" sz="2200" spc="-1" strike="noStrike">
                <a:solidFill>
                  <a:srgbClr val="04617b"/>
                </a:solidFill>
                <a:latin typeface="Calibri"/>
                <a:ea typeface="Gulim"/>
              </a:rPr>
              <a:t>A clustering index on the DEPTNUMBER ordering nonkey field of an EMPLOYEE file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Chapter 14-</a:t>
            </a:r>
            <a:fld id="{21997D13-007D-4CE2-A7D9-2265FB89E511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8T17:10:54Z</dcterms:created>
  <dc:creator>Shamkant B. Navathe</dc:creator>
  <dc:description/>
  <dc:language>en-US</dc:language>
  <cp:lastModifiedBy>User</cp:lastModifiedBy>
  <cp:lastPrinted>2001-05-28T10:10:18Z</cp:lastPrinted>
  <dcterms:modified xsi:type="dcterms:W3CDTF">2016-11-06T07:47:22Z</dcterms:modified>
  <cp:revision>395</cp:revision>
  <dc:subject/>
  <dc:title>Fundamentals of Database Systems</dc:title>
</cp:coreProperties>
</file>