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jpeg" ContentType="image/jpeg"/>
  <Override PartName="/ppt/media/image2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Gulim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D1F6C-5AC2-4D0A-A701-A2CB967BAC0D}" type="datetime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26年 7月 31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Gulim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28BFE-C23F-41D2-9A29-071951DDC4C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C9C8B-6060-4C60-AB46-87C27565F95E}" type="datetime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26年 7月 31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8476D-7895-4548-A352-342A56184DC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126A7-AC06-4BFB-A924-252E4FE1CC58}" type="datetime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26年 7月 31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C6620-960C-44D7-8428-4E749518A09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3A3BB-4451-4042-92CD-64CC2A6E14B2}" type="datetime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26年 7月 31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4E126-4E49-4346-B69E-FEF082D58BA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34838-6CBD-470C-9D7A-A0CFDB953052}" type="datetime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26年 7月 31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48DB4-D449-4920-8794-8FDBAD3440E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BAC47-930E-4EE3-94CC-1CFF86A1C6C7}" type="datetime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26年 7月 31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F929A-F69A-43DB-A887-D14BC92996E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5D94D-0BEC-4283-B27C-B4ED1101122D}" type="datetime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26年 7月 31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D9DED-5B97-4851-BD8E-296ADCED544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69C98-E95E-4C8B-8D32-812A63D1C06F}" type="datetime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26年 7月 31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DD06A-6892-4A76-8FE7-55A26A78164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08BC7-BA79-4AA7-9788-908F06FAC634}" type="datetime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26年 7月 31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C06DF-53AC-46ED-8DE6-748C472AFA4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1B1E8-B835-45CE-9277-39C88B9F7C75}" type="datetime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26年 7月 31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944A4-5A49-4FCA-90DE-E2434443AD5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55C24-8243-4BC3-A25C-F26D6001354F}" type="datetime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26年 7月 31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E828B-EE0E-4408-811C-3543826566A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68D8F-AA58-460A-9718-C0BAC40193CB}" type="datetime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26年 7月 31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5FA6B-2899-48CC-B29C-E12846602D7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E11B9-A67F-47E8-8EC0-7C5B42425631}" type="datetime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26年 7月 31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0D2C0-3204-465C-B311-29FC8016F81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8D1DF-AE4D-4881-868B-ABC8B8595438}" type="datetime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26年 7月 31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274FB-8918-4475-AEFC-62C294CF1E1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7C746-FBFB-42BE-AE43-14502F8589E7}" type="datetime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26年 7月 31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10825-3299-42E2-831D-7EAED64E5C6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BDF10-E953-40A0-B471-2E68BBA81A85}" type="datetime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26年 7月 31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3D924-B03D-4362-9D1B-3E3304FA697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AE239-C3D7-483A-9D61-0BFD743D53C9}" type="datetime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26年 7月 31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EA06E-75F3-4421-AF6A-21A52B1C616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447C5-001A-4913-A04D-700B2482DD5C}" type="datetime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26年 7月 31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78CF0-9A67-4AC4-AAEF-A3A7294F5AF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22686-07FD-461D-9CAC-0E1B417A06F5}" type="datetime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26年 7月 31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C5136-424D-4987-805E-4D34F28EF49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3710E-0F2B-4F6D-8356-2EC1DB8C22DC}" type="datetime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26年 7月 31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02C77-6314-4DD8-9FE5-FD0F1E72E8B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5ACD0-C4CD-4931-9202-E032977078D3}" type="datetime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26年 7月 31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05CC0-A15D-445D-B27F-36392959B96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ADF1E-9FEF-4C0B-9933-36DA41FF8B83}" type="datetime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26年 7月 31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22274-6E19-4DFB-A0B9-2265BB1E70B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70976-8219-487E-9478-6A1658006B2A}" type="datetime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26年 7月 31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D4F6E-2CE6-4CCF-BE43-A302AF3389E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B29A1-9745-4EF6-A8F6-9F5ACA9EA9AB}" type="datetime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26年 7月 31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AD324-6626-4123-A809-5147308CEFF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98DB1-5EDB-482A-8216-97B144E6F80D}" type="datetime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26年 7月 31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1C64F-D6AC-44B5-AA04-BB1E57E3943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EB472-23E8-4187-8590-6FD755429954}" type="datetime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26年 7月 31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F6AAA-A2B6-41BA-8C9C-7E636C5132F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54DC7-9ED4-419B-93C8-4C3C52D47CD5}" type="datetime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26年 7月 31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4073A-A1EF-4F02-9CEA-4D77BC59BB2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CA7EA-308C-4399-86A1-5242D35C0293}" type="datetime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26年 7月 31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995EC-17AB-474C-95D1-85D07907AF7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57751-9762-40AC-9DE3-1AB314885A26}" type="datetime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26年 7月 31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87CAF-0A59-4DA8-BDE1-B83BBCB6D8F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A4FBD-EB71-4693-96A3-3155E9B11149}" type="datetime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26年 7月 31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ED166-7E99-4F69-B4C6-F64A61EE2B1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82AC4-8A40-4FF5-ABAC-384C50579CE8}" type="datetime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26年 7月 31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478CF-7EFC-4B63-A43E-B9847C59436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7CAA3-6549-4EF1-A24D-7ED5E1B9695E}" type="datetime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26年 7月 31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49029-B0FF-4953-BD3D-FD4744D04DF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221E5-1C29-4E1C-8883-460038AEEB76}" type="datetime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26年 7月 31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0517D-5A22-4266-85FE-212022D4352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9D54E-9177-418B-9A76-54D1BA5A5D6F}" type="datetime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26年 7月 31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954C9-9355-48B2-8069-32D57FB3542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F1A3B-9B41-4971-8916-9EAB0C481578}" type="datetime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26年 7月 31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68F39-9C13-4799-B597-378116B85F7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3AB2-8EEC-4B8B-B80F-283098CFD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CBBB-16CA-4099-BA26-D61FF5E62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F7F2-DCB4-4AC4-8DDD-7D969562F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8E04-5960-44AA-BB3F-2E42C6B8D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AD14B-93C1-4AEE-8FDA-56038ACBF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FD089-62C9-447E-B659-651EEF9CF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A14EB-C774-431A-B2AD-FC410E417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0DC05-7DAB-4F64-8CD8-DB3D1B940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40CFE-BB94-418B-B453-85BCCDDB0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BE219-7281-49CD-B8E6-E30220048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0800C-A3A7-4B91-B32B-102B27BD4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8A58-A9E4-4E08-8F6F-8EDBB95A4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A52FC-0FEA-4B4A-8652-B22B43CC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AA089-60C1-4C9C-AF84-85CE69357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6B86E-2127-4499-BFC8-052D44757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4D7D4-DE17-4362-B225-491AECA8D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F0E85-5CEE-4D5D-B105-5AAFF3AA4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62805-E0EF-4E22-9AD0-E7411FAC0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2AB20-A65B-470A-AC0D-CFDB08633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B7301-5ADC-4C4A-A4F9-35F950575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BB647-F609-4635-A834-15720ED93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3EDF9-1E48-4B2B-901E-EAA1444F2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4337-081F-47CD-9F97-E34A2ADAC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2416B-5FB3-43F4-BBC8-D015A937C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F5114-767E-493F-9520-555123DE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7F72F-B828-4B3B-BAD9-4C66F8CF2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9609C-3404-48C7-B2D4-ED6D757B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AD6E1-D9A1-422A-BEF1-7AE8E8B73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3CADE-9447-45A6-AB55-F067761AE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55C37-E584-4D19-A1B0-40DDC393E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8F41B-D6E5-4D79-B0DD-5D3CEB49C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B2018-9DD1-46E3-90D0-5C1AE0AD2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423C2-37EE-4F3E-98A1-5C22628B8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A443-43F1-4ED5-9DAC-FDFF6A649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0D5D2-3FB2-4559-8F5B-75AA37DBD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A1CCF-6345-4B3E-98E8-80B216632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652B9-25D7-493E-ACB0-8B8C86816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EECE9-8950-4FF7-AACB-C2673E385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78811-23CD-42B1-BA8D-D265EB36B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57864-5466-4D03-9144-90D7CD41A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1992E-B2DE-49B8-990F-F1F57B1ED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55504-A897-477B-BCE9-7258B8578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97E4A-576E-453F-A25C-2C2927FF4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93AC-721E-4817-B26E-BD2AE4C00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7F55-731B-4EAE-A0B7-837F74330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2E4D-E8E1-4758-9C96-B84E30FE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5040-AFAF-403F-846A-F5AAA986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EC89-1BE2-48B6-BFD8-C9500B1DE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  <a:ea typeface="HY신명조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  <a:ea typeface="HY신명조"/>
              </a:rPr>
              <a:t>Chapter 14-</a:t>
            </a:r>
            <a:fld id="{3357137B-2A1A-4D09-ADA0-9BCBC84B9B8A}" type="slidenum">
              <a:rPr b="0" lang="en-US" sz="1200" spc="-1" strike="noStrike">
                <a:solidFill>
                  <a:srgbClr val="045c75"/>
                </a:solidFill>
                <a:latin typeface="Times New Roman"/>
                <a:ea typeface="HY신명조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  <a:ea typeface="HY신명조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  <a:ea typeface="HY신명조"/>
              </a:rPr>
              <a:t>© Shamkant B. Nava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d1eaee"/>
                </a:solidFill>
                <a:latin typeface="Times New Roman"/>
                <a:ea typeface="HY신명조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A0624-7A3B-4AC7-849B-9F404D37B5D2}" type="slidenum">
              <a:rPr b="0" lang="ko-KR" sz="1200" spc="-1" strike="noStrike">
                <a:solidFill>
                  <a:srgbClr val="d1eaee"/>
                </a:solidFill>
                <a:latin typeface="Times New Roman"/>
                <a:ea typeface="HY신명조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  <a:ea typeface="HY신명조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  <a:ea typeface="HY신명조"/>
              </a:rPr>
              <a:t>Chapter 14-</a:t>
            </a:r>
            <a:fld id="{92BA80CF-BF31-4DB9-9344-8EF0D3F35D5B}" type="slidenum">
              <a:rPr b="0" lang="en-US" sz="1200" spc="-1" strike="noStrike">
                <a:solidFill>
                  <a:srgbClr val="d1eaee"/>
                </a:solidFill>
                <a:latin typeface="Times New Roman"/>
                <a:ea typeface="HY신명조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  <a:ea typeface="HY신명조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  <a:ea typeface="HY신명조"/>
              </a:rPr>
              <a:t>Chapter 14-</a:t>
            </a:r>
            <a:fld id="{E9E34A34-F343-4003-82DD-E820365716D8}" type="slidenum">
              <a:rPr b="0" lang="en-US" sz="1200" spc="-1" strike="noStrike">
                <a:solidFill>
                  <a:srgbClr val="045c75"/>
                </a:solidFill>
                <a:latin typeface="Times New Roman"/>
                <a:ea typeface="HY신명조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3" descr=""/>
          <p:cNvPicPr/>
          <p:nvPr/>
        </p:nvPicPr>
        <p:blipFill>
          <a:blip r:embed="rId1"/>
          <a:stretch/>
        </p:blipFill>
        <p:spPr>
          <a:xfrm>
            <a:off x="328680" y="3213000"/>
            <a:ext cx="8010360" cy="9684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2635200" y="6408720"/>
            <a:ext cx="406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4617b"/>
                </a:solidFill>
                <a:latin typeface="Times New Roman"/>
                <a:ea typeface="Gulim"/>
              </a:rPr>
              <a:t>Copyright © 2004 Ramez Elmasri and Shamkant Navath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3301920" cy="3784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Gulim"/>
              </a:rPr>
              <a:t>FIGURE 14.3</a:t>
            </a:r>
            <a:br>
              <a:rPr sz="2400"/>
            </a:b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Gulim"/>
              </a:rPr>
              <a:t>Clustering index with a separate block cluster for each group of records that share the same value for the clustering field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9" name="Picture 3" descr=""/>
          <p:cNvPicPr/>
          <p:nvPr/>
        </p:nvPicPr>
        <p:blipFill>
          <a:blip r:embed="rId1"/>
          <a:stretch/>
        </p:blipFill>
        <p:spPr>
          <a:xfrm>
            <a:off x="4191120" y="228600"/>
            <a:ext cx="4340160" cy="6140520"/>
          </a:xfrm>
          <a:prstGeom prst="rect">
            <a:avLst/>
          </a:prstGeom>
          <a:ln w="0">
            <a:noFill/>
          </a:ln>
        </p:spPr>
      </p:pic>
      <p:sp>
        <p:nvSpPr>
          <p:cNvPr id="230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Chapter 14-</a:t>
            </a:r>
            <a:fld id="{70E9424E-5250-4188-B34F-9145F49F776B}" type="slidenum"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04760" y="342720"/>
            <a:ext cx="7174080" cy="711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  <a:ea typeface="Gulim"/>
              </a:rPr>
              <a:t>Types of Single-Level Indexe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42720" y="1231560"/>
            <a:ext cx="880092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  <a:ea typeface="Gulim"/>
              </a:rPr>
              <a:t>Secondary Index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2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Gulim"/>
              </a:rPr>
              <a:t>A secondary index provides a secondary means of accessing a file for which some primary access already exist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80000"/>
              </a:lnSpc>
              <a:spcBef>
                <a:spcPts val="2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Gulim"/>
              </a:rPr>
              <a:t>The secondary index may be on a field which is a candidate key and has a unique value in every record, or a nonkey with duplicate val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80000"/>
              </a:lnSpc>
              <a:spcBef>
                <a:spcPts val="2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Gulim"/>
              </a:rPr>
              <a:t>The index is an ordered file with two field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80000"/>
              </a:lnSpc>
              <a:spcBef>
                <a:spcPts val="2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lnSpc>
                <a:spcPct val="8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  <a:ea typeface="Gulim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  <a:ea typeface="Gulim"/>
              </a:rPr>
              <a:t>The first field is of the same data type as some </a:t>
            </a:r>
            <a:r>
              <a:rPr b="0" i="1" lang="en-US" sz="2100" spc="-1" strike="noStrike">
                <a:solidFill>
                  <a:srgbClr val="000000"/>
                </a:solidFill>
                <a:latin typeface="Constantia"/>
                <a:ea typeface="Gulim"/>
              </a:rPr>
              <a:t>nonordering field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  <a:ea typeface="Gulim"/>
              </a:rPr>
              <a:t> of the data file that is an </a:t>
            </a:r>
            <a:r>
              <a:rPr b="0" i="1" lang="en-US" sz="2100" spc="-1" strike="noStrike">
                <a:solidFill>
                  <a:srgbClr val="000000"/>
                </a:solidFill>
                <a:latin typeface="Constantia"/>
                <a:ea typeface="Gulim"/>
              </a:rPr>
              <a:t>indexing field.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  <a:ea typeface="Gulim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lnSpc>
                <a:spcPct val="8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  <a:ea typeface="Gulim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  <a:ea typeface="Gulim"/>
              </a:rPr>
              <a:t>The second field is either a </a:t>
            </a:r>
            <a:r>
              <a:rPr b="0" i="1" lang="en-US" sz="2100" spc="-1" strike="noStrike">
                <a:solidFill>
                  <a:srgbClr val="000000"/>
                </a:solidFill>
                <a:latin typeface="Constantia"/>
                <a:ea typeface="Gulim"/>
              </a:rPr>
              <a:t>block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  <a:ea typeface="Gulim"/>
              </a:rPr>
              <a:t> pointer or a </a:t>
            </a:r>
            <a:r>
              <a:rPr b="0" i="1" lang="en-US" sz="2100" spc="-1" strike="noStrike">
                <a:solidFill>
                  <a:srgbClr val="000000"/>
                </a:solidFill>
                <a:latin typeface="Constantia"/>
                <a:ea typeface="Gulim"/>
              </a:rPr>
              <a:t>record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  <a:ea typeface="Gulim"/>
              </a:rPr>
              <a:t> pointer. There can be </a:t>
            </a:r>
            <a:r>
              <a:rPr b="0" i="1" lang="en-US" sz="2100" spc="-1" strike="noStrike">
                <a:solidFill>
                  <a:srgbClr val="000000"/>
                </a:solidFill>
                <a:latin typeface="Constantia"/>
                <a:ea typeface="Gulim"/>
              </a:rPr>
              <a:t>many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  <a:ea typeface="Gulim"/>
              </a:rPr>
              <a:t> secondary indexes (and hence, indexing fields) for the same file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lnSpc>
                <a:spcPct val="80000"/>
              </a:lnSpc>
              <a:spcBef>
                <a:spcPts val="2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Gulim"/>
              </a:rPr>
              <a:t>Includes one entry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  <a:ea typeface="Gulim"/>
              </a:rPr>
              <a:t>for each record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Gulim"/>
              </a:rPr>
              <a:t>  in the data file; hence, it is a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  <a:ea typeface="Gulim"/>
              </a:rPr>
              <a:t>dense index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Chapter 14-</a:t>
            </a:r>
            <a:fld id="{635AF52C-3651-4497-B4B6-AC064EF7A5FD}" type="slidenum"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276876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Gulim"/>
              </a:rPr>
              <a:t>FIGURE 14.4</a:t>
            </a:r>
            <a:br>
              <a:rPr sz="2400"/>
            </a:b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Gulim"/>
              </a:rPr>
              <a:t>A dense secondary index (with block pointers) on a nonordering key field of a file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5" name="Picture 3" descr=""/>
          <p:cNvPicPr/>
          <p:nvPr/>
        </p:nvPicPr>
        <p:blipFill>
          <a:blip r:embed="rId1"/>
          <a:stretch/>
        </p:blipFill>
        <p:spPr>
          <a:xfrm>
            <a:off x="3538440" y="228600"/>
            <a:ext cx="5354640" cy="6095880"/>
          </a:xfrm>
          <a:prstGeom prst="rect">
            <a:avLst/>
          </a:prstGeom>
          <a:ln w="0">
            <a:noFill/>
          </a:ln>
        </p:spPr>
      </p:pic>
      <p:sp>
        <p:nvSpPr>
          <p:cNvPr id="236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Chapter 14-</a:t>
            </a:r>
            <a:fld id="{037FF8B7-6A30-4988-B4FD-2C06C4770B3D}" type="slidenum"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380520" y="906480"/>
            <a:ext cx="8572680" cy="54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nstantia"/>
                <a:ea typeface="Gulim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Example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Given the following data file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EMPLOYEE(NAME, SSN, ADDRESS, JOB, SAL, ... 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Suppose that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record size R=100 byt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block size B=1024 byt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r=30000 record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Then, we get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blocking factor bfr= B / R= 1024 / 100 = 10 records/bloc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number of file blocks b= (r/bfr)= (30000/10)= 3000 block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For an index on the JOB field, assume the field size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JO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=9 bytes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ssume the record pointer size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=6 bytes. Then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index entry size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=(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JO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+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)=(9+6)=15 byt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index blocking factor bf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=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/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= 1024 / 15= 68 entries/bloc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number of index blocks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= (r/ bf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)= (30000/68)= 442 block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binary search needs lo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= lo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442= 9 block accesses, total 9+1=10 block access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This is compared to an average linear search cost of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(b/2)= 3000/2= 1500 block access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Chapter 14-</a:t>
            </a:r>
            <a:fld id="{C84B3424-6AED-4DFC-8901-01CB2E6C5F9E}" type="slidenum"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685800" y="38088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  <a:ea typeface="Gulim"/>
              </a:rPr>
              <a:t>Secondary Inde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844200"/>
            <a:ext cx="850896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Gulim"/>
              </a:rPr>
              <a:t>FIGURE : </a:t>
            </a:r>
            <a:r>
              <a:rPr b="0" lang="en-US" sz="2000" spc="-1" strike="noStrike">
                <a:solidFill>
                  <a:srgbClr val="04617b"/>
                </a:solidFill>
                <a:latin typeface="Calibri"/>
                <a:ea typeface="Gulim"/>
              </a:rPr>
              <a:t>A secondary index (with recored pointers) on a nonkey field implemented using one level of indirection so that index entries are of fixed length and have unique field values.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1" name="Picture 3" descr=""/>
          <p:cNvPicPr/>
          <p:nvPr/>
        </p:nvPicPr>
        <p:blipFill>
          <a:blip r:embed="rId1"/>
          <a:stretch/>
        </p:blipFill>
        <p:spPr>
          <a:xfrm>
            <a:off x="2019240" y="1935000"/>
            <a:ext cx="5105520" cy="4389480"/>
          </a:xfrm>
          <a:prstGeom prst="rect">
            <a:avLst/>
          </a:prstGeom>
          <a:ln w="0">
            <a:noFill/>
          </a:ln>
        </p:spPr>
      </p:pic>
      <p:sp>
        <p:nvSpPr>
          <p:cNvPr id="24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Chapter 14-</a:t>
            </a:r>
            <a:fld id="{F0735884-75DB-41C2-9C20-59BA9FE31DA6}" type="slidenum"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Chapter 14-</a:t>
            </a:r>
            <a:fld id="{39DB6AF8-27FB-43B8-8B89-225A24A4F3C7}" type="slidenum"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Picture 4" descr=""/>
          <p:cNvPicPr/>
          <p:nvPr/>
        </p:nvPicPr>
        <p:blipFill>
          <a:blip r:embed="rId1"/>
          <a:stretch/>
        </p:blipFill>
        <p:spPr>
          <a:xfrm>
            <a:off x="307800" y="1359000"/>
            <a:ext cx="8836200" cy="39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04760" y="628560"/>
            <a:ext cx="717408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  <a:ea typeface="Gulim"/>
              </a:rPr>
              <a:t>Multi-Level Indexes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44600" y="1510920"/>
            <a:ext cx="850896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Gulim"/>
              </a:rPr>
              <a:t>Because a single-level index is an ordered file, we can create a primary index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Gulim"/>
              </a:rPr>
              <a:t>to the index itsel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Gulim"/>
              </a:rPr>
              <a:t> ; in this case, the original index file is calle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Gulim"/>
              </a:rPr>
              <a:t>first-level inde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Gulim"/>
              </a:rPr>
              <a:t>  and the index to the index is calle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Gulim"/>
              </a:rPr>
              <a:t>second-level index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Gulim"/>
              </a:rPr>
              <a:t>We can repeat the process, creating a third, fourth, ..., top level until all entrie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Gulim"/>
              </a:rPr>
              <a:t>top leve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Gulim"/>
              </a:rPr>
              <a:t>  fit in one disk block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Gulim"/>
              </a:rPr>
              <a:t>A multi-level index can be created for any type of first-level index (primary, secondary, clustering) as long as the first-level index consis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Gulim"/>
              </a:rPr>
              <a:t>more than o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Gulim"/>
              </a:rPr>
              <a:t>  disk block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Chapter 14-</a:t>
            </a:r>
            <a:fld id="{A7CBFE6E-EF09-484A-B6C7-B50C400DAA7E}" type="slidenum"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49120" y="1044720"/>
            <a:ext cx="2740320" cy="2589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Gulim"/>
              </a:rPr>
              <a:t>FIGURE : A two-level primary index resembling ISAM (Indexed Sequential Access Method) organization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9" name="Picture 3" descr=""/>
          <p:cNvPicPr/>
          <p:nvPr/>
        </p:nvPicPr>
        <p:blipFill>
          <a:blip r:embed="rId1"/>
          <a:stretch/>
        </p:blipFill>
        <p:spPr>
          <a:xfrm>
            <a:off x="2989440" y="565200"/>
            <a:ext cx="5824440" cy="5530680"/>
          </a:xfrm>
          <a:prstGeom prst="rect">
            <a:avLst/>
          </a:prstGeom>
          <a:ln w="0">
            <a:noFill/>
          </a:ln>
        </p:spPr>
      </p:pic>
      <p:sp>
        <p:nvSpPr>
          <p:cNvPr id="250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Chapter 14-</a:t>
            </a:r>
            <a:fld id="{BAE449F7-93A5-48EC-8622-C9C7961FE4BE}" type="slidenum"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80520" y="906480"/>
            <a:ext cx="8572680" cy="54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nstantia"/>
                <a:ea typeface="Gulim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Example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Given the following data file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EMPLOYEE(NAME, SSN, ADDRESS, JOB, SAL, ... 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Suppose that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The previous example is converted into a multilevel index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Then, we get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Index blocking factor Bf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= 68 entries/bloc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number of first-level index blocks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= (r/ Bf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)= (30000/68)= 442 block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number of second-level index blocks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= (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/ Bf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)= (442/68)= 7 block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number of third-level index blocks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= (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/ Bf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)= (7/68)= 1 bloc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(the third level is the top level of the index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multilevel index search needs 1+1+1=3 block accesses, total 3+1=4 block access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This is compared to secondary index search cost of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10 block access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Chapter 14-</a:t>
            </a:r>
            <a:fld id="{3696C744-E080-4796-803C-ECB57DF183F2}" type="slidenum"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685800" y="38088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  <a:ea typeface="Gulim"/>
              </a:rPr>
              <a:t>Multi-Level Index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04760" y="342720"/>
            <a:ext cx="7174080" cy="571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  <a:ea typeface="Gulim"/>
              </a:rPr>
              <a:t>Multi-Level Indexes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44600" y="1231560"/>
            <a:ext cx="850896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Gulim"/>
              </a:rPr>
              <a:t>Such a multi-level index is a form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Gulim"/>
              </a:rPr>
              <a:t>search tre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Gulim"/>
              </a:rPr>
              <a:t> ; however, insertion and deletion of new index entries is a severe problem because every level of the index is a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Gulim"/>
              </a:rPr>
              <a:t>ordered fil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Chapter 14-</a:t>
            </a:r>
            <a:fld id="{61EB5C69-4113-45E7-9456-3596C8661DA9}" type="slidenum"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0920" y="303120"/>
            <a:ext cx="853416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  <a:ea typeface="Gulim"/>
              </a:rPr>
              <a:t>Chapter Outlin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1389240"/>
            <a:ext cx="826776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Gulim"/>
              </a:rPr>
              <a:t>Types of Single-level Ordered Index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  <a:ea typeface="Gulim"/>
              </a:rPr>
              <a:t>Primary Indexe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  <a:ea typeface="Gulim"/>
              </a:rPr>
              <a:t>Clustering Indexe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  <a:ea typeface="Gulim"/>
              </a:rPr>
              <a:t>Secondary Indexe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Gulim"/>
              </a:rPr>
              <a:t>Multilevel Index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Gulim"/>
              </a:rPr>
              <a:t>Dynamic Multilevel Indexes Using B-Trees      and B+-Tre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Gulim"/>
              </a:rPr>
              <a:t>Indexes on Multiple Key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Chapter 14-</a:t>
            </a:r>
            <a:fld id="{451F90EA-0A59-4339-A06B-C258CFE864C7}" type="slidenum"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52480" y="609120"/>
            <a:ext cx="7174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A tree data structure that shows an unbalanced tre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rcRect l="23306" t="25733" r="22582" b="30689"/>
          <a:stretch/>
        </p:blipFill>
        <p:spPr>
          <a:xfrm>
            <a:off x="852480" y="1962000"/>
            <a:ext cx="7284960" cy="3667320"/>
          </a:xfrm>
          <a:prstGeom prst="rect">
            <a:avLst/>
          </a:prstGeom>
          <a:ln w="0">
            <a:noFill/>
          </a:ln>
        </p:spPr>
      </p:pic>
      <p:sp>
        <p:nvSpPr>
          <p:cNvPr id="259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Chapter 14-</a:t>
            </a:r>
            <a:fld id="{B17998A8-AA35-45DF-A1EB-EFBB2206A022}" type="slidenum"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Gulim"/>
              </a:rPr>
              <a:t>FIGURE : A node in a search tree with pointers to subtrees below it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1" name="Picture 3" descr=""/>
          <p:cNvPicPr/>
          <p:nvPr/>
        </p:nvPicPr>
        <p:blipFill>
          <a:blip r:embed="rId1"/>
          <a:stretch/>
        </p:blipFill>
        <p:spPr>
          <a:xfrm>
            <a:off x="685800" y="2432160"/>
            <a:ext cx="7772400" cy="2170080"/>
          </a:xfrm>
          <a:prstGeom prst="rect">
            <a:avLst/>
          </a:prstGeom>
          <a:ln w="0">
            <a:noFill/>
          </a:ln>
        </p:spPr>
      </p:pic>
      <p:sp>
        <p:nvSpPr>
          <p:cNvPr id="26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Chapter 14-</a:t>
            </a:r>
            <a:fld id="{6E5BCD86-3E6E-43FF-BB3A-9569D4EC7C1B}" type="slidenum"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Gulim"/>
              </a:rPr>
              <a:t>FIGURE: A search tree of order p = 3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4" name="Picture 3" descr=""/>
          <p:cNvPicPr/>
          <p:nvPr/>
        </p:nvPicPr>
        <p:blipFill>
          <a:blip r:embed="rId1"/>
          <a:stretch/>
        </p:blipFill>
        <p:spPr>
          <a:xfrm>
            <a:off x="685800" y="2387520"/>
            <a:ext cx="8048520" cy="3191040"/>
          </a:xfrm>
          <a:prstGeom prst="rect">
            <a:avLst/>
          </a:prstGeom>
          <a:ln w="0">
            <a:noFill/>
          </a:ln>
        </p:spPr>
      </p:pic>
      <p:sp>
        <p:nvSpPr>
          <p:cNvPr id="265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Chapter 14-</a:t>
            </a:r>
            <a:fld id="{5B73E54D-9992-43DA-81B9-EF79EBB71550}" type="slidenum"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22440" y="1079640"/>
            <a:ext cx="833112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4617b"/>
                </a:solidFill>
                <a:latin typeface="Calibri"/>
                <a:ea typeface="Gulim"/>
              </a:rPr>
              <a:t>Dynamic Multilevel Indexes Using B-Trees and B+-Trees</a:t>
            </a:r>
            <a:br>
              <a:rPr sz="2900"/>
            </a:b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6840" y="1739880"/>
            <a:ext cx="84963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Gulim"/>
              </a:rPr>
              <a:t>Because of the insertion and deletion problem, most multi-level indexes use B-tree or B+-tree data structures, which leave space in each tree node (disk block) to allow for new index entri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Gulim"/>
              </a:rPr>
              <a:t>These data structures are variations of search trees that allow efficient insertion and deletion of new search value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Gulim"/>
              </a:rPr>
              <a:t>In B-Tree and B+-Tree data structures, each node corresponds to a disk block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Gulim"/>
              </a:rPr>
              <a:t>Each node is kept between half-full and completely ful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Chapter 14-</a:t>
            </a:r>
            <a:fld id="{4367ACF2-C291-40A7-82CD-3049A1E2487D}" type="slidenum"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22440" y="1181160"/>
            <a:ext cx="833112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4617b"/>
                </a:solidFill>
                <a:latin typeface="Calibri"/>
                <a:ea typeface="Gulim"/>
              </a:rPr>
              <a:t>Dynamic Multilevel Indexes Using B-Trees and B+-Trees (contd.)</a:t>
            </a:r>
            <a:br>
              <a:rPr sz="2900"/>
            </a:b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22440" y="1765080"/>
            <a:ext cx="8331120" cy="45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Gulim"/>
              </a:rPr>
              <a:t>An insertion into a node that is not full is quite efficient; if a node is full the insertion causes a split into two nod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2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Gulim"/>
              </a:rPr>
              <a:t>Splitting may propagate to other tree leve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2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Gulim"/>
              </a:rPr>
              <a:t>A deletion is quite efficient if a node does not become less than half ful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2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Gulim"/>
              </a:rPr>
              <a:t>If a deletion causes a node to become less than half full, it must be merged with neighboring nod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Chapter 14-</a:t>
            </a:r>
            <a:fld id="{B023051D-0164-4DAB-BE1E-F1EE6B126CDA}" type="slidenum"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22440" y="685800"/>
            <a:ext cx="833112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  <a:ea typeface="Gulim"/>
              </a:rPr>
              <a:t>Difference between B-tree and B+-tre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22440" y="1752120"/>
            <a:ext cx="83311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  <a:ea typeface="Gulim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Gulim"/>
              </a:rPr>
              <a:t>In a B-tree, pointers to data records exist at all levels of the tre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Gulim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Gulim"/>
              </a:rPr>
              <a:t>In a B+-tree, all pointers to data records exists at the leaf-level nod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Gulim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Gulim"/>
              </a:rPr>
              <a:t>A B+-tree can have less levels (or higher capacity of search values) than the corresponding B-tre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Chapter 14-</a:t>
            </a:r>
            <a:fld id="{4C41186C-2708-47C1-B347-9B4144C86E2D}" type="slidenum"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25240" y="609480"/>
            <a:ext cx="8381880" cy="820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17b"/>
                </a:solidFill>
                <a:latin typeface="Calibri"/>
                <a:ea typeface="Gulim"/>
              </a:rPr>
              <a:t>FIGURE : B-tree structures. (a) A node in a B-tree with q – 1 search  values. (b) A B-tree of order p = 3. The values were inserted in the order 8, 5, 1, 7, 3, 12, 9, 6.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6" name="Picture 3" descr=""/>
          <p:cNvPicPr/>
          <p:nvPr/>
        </p:nvPicPr>
        <p:blipFill>
          <a:blip r:embed="rId1"/>
          <a:stretch/>
        </p:blipFill>
        <p:spPr>
          <a:xfrm>
            <a:off x="457200" y="2076480"/>
            <a:ext cx="8229600" cy="4106880"/>
          </a:xfrm>
          <a:prstGeom prst="rect">
            <a:avLst/>
          </a:prstGeom>
          <a:ln w="0">
            <a:noFill/>
          </a:ln>
        </p:spPr>
      </p:pic>
      <p:sp>
        <p:nvSpPr>
          <p:cNvPr id="277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Chapter 14-</a:t>
            </a:r>
            <a:fld id="{6B63DFBF-677E-4885-800D-172624F0DBF5}" type="slidenum"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3520" y="426600"/>
            <a:ext cx="8331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Gulim"/>
              </a:rPr>
              <a:t>FIGURE :</a:t>
            </a:r>
            <a:r>
              <a:rPr b="0" lang="en-US" sz="1800" spc="-1" strike="noStrike">
                <a:solidFill>
                  <a:srgbClr val="04617b"/>
                </a:solidFill>
                <a:latin typeface="Calibri"/>
                <a:ea typeface="Gulim"/>
              </a:rPr>
              <a:t>The nodes of a B+-tree. (a) Internal node of a B+-tree with q –1 search values. (b) Leaf node of a B+-tree with q – 1 search values and q – 1 data pointers.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9" name="Picture 3" descr=""/>
          <p:cNvPicPr/>
          <p:nvPr/>
        </p:nvPicPr>
        <p:blipFill>
          <a:blip r:embed="rId1"/>
          <a:stretch/>
        </p:blipFill>
        <p:spPr>
          <a:xfrm>
            <a:off x="457200" y="2063880"/>
            <a:ext cx="8229600" cy="4132080"/>
          </a:xfrm>
          <a:prstGeom prst="rect">
            <a:avLst/>
          </a:prstGeom>
          <a:ln w="0">
            <a:noFill/>
          </a:ln>
        </p:spPr>
      </p:pic>
      <p:sp>
        <p:nvSpPr>
          <p:cNvPr id="280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Chapter 14-</a:t>
            </a:r>
            <a:fld id="{1C44409B-F985-4ECA-84BD-6F414BCA3F1A}" type="slidenum"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477280" cy="763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17b"/>
                </a:solidFill>
                <a:latin typeface="Calibri"/>
                <a:ea typeface="Gulim"/>
              </a:rPr>
              <a:t>FIGURE : An example of insertion in a B+-tree with q = 3 and p</a:t>
            </a:r>
            <a:r>
              <a:rPr b="0" lang="en-US" sz="2000" spc="-1" strike="noStrike" baseline="-25000">
                <a:solidFill>
                  <a:srgbClr val="04617b"/>
                </a:solidFill>
                <a:latin typeface="Calibri"/>
                <a:ea typeface="Gulim"/>
              </a:rPr>
              <a:t>leaf</a:t>
            </a:r>
            <a:r>
              <a:rPr b="0" lang="en-US" sz="2000" spc="-1" strike="noStrike">
                <a:solidFill>
                  <a:srgbClr val="04617b"/>
                </a:solidFill>
                <a:latin typeface="Calibri"/>
                <a:ea typeface="Gulim"/>
              </a:rPr>
              <a:t> = 2.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2" name="Picture 3" descr=""/>
          <p:cNvPicPr/>
          <p:nvPr/>
        </p:nvPicPr>
        <p:blipFill>
          <a:blip r:embed="rId1"/>
          <a:srcRect l="0" t="0" r="0" b="58903"/>
          <a:stretch/>
        </p:blipFill>
        <p:spPr>
          <a:xfrm>
            <a:off x="744480" y="1428840"/>
            <a:ext cx="7942320" cy="5214960"/>
          </a:xfrm>
          <a:prstGeom prst="rect">
            <a:avLst/>
          </a:prstGeom>
          <a:ln w="0">
            <a:noFill/>
          </a:ln>
        </p:spPr>
      </p:pic>
      <p:sp>
        <p:nvSpPr>
          <p:cNvPr id="283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Chapter 14-</a:t>
            </a:r>
            <a:fld id="{31F6AAA4-02A0-4573-9593-19D64284D8FD}" type="slidenum"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47480"/>
            <a:ext cx="8477280" cy="763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17b"/>
                </a:solidFill>
                <a:latin typeface="Calibri"/>
                <a:ea typeface="Gulim"/>
              </a:rPr>
              <a:t>FIGURE :An example of insertion in a B+-tree with q = 3 and p</a:t>
            </a:r>
            <a:r>
              <a:rPr b="0" lang="en-US" sz="2000" spc="-1" strike="noStrike" baseline="-25000">
                <a:solidFill>
                  <a:srgbClr val="04617b"/>
                </a:solidFill>
                <a:latin typeface="Calibri"/>
                <a:ea typeface="Gulim"/>
              </a:rPr>
              <a:t>leaf</a:t>
            </a:r>
            <a:r>
              <a:rPr b="0" lang="en-US" sz="2000" spc="-1" strike="noStrike">
                <a:solidFill>
                  <a:srgbClr val="04617b"/>
                </a:solidFill>
                <a:latin typeface="Calibri"/>
                <a:ea typeface="Gulim"/>
              </a:rPr>
              <a:t> = 2.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5" name="Picture 3" descr=""/>
          <p:cNvPicPr/>
          <p:nvPr/>
        </p:nvPicPr>
        <p:blipFill>
          <a:blip r:embed="rId1"/>
          <a:srcRect l="0" t="29425" r="0" b="39061"/>
          <a:stretch/>
        </p:blipFill>
        <p:spPr>
          <a:xfrm>
            <a:off x="992160" y="1467000"/>
            <a:ext cx="7942320" cy="3998880"/>
          </a:xfrm>
          <a:prstGeom prst="rect">
            <a:avLst/>
          </a:prstGeom>
          <a:ln w="0">
            <a:noFill/>
          </a:ln>
        </p:spPr>
      </p:pic>
      <p:sp>
        <p:nvSpPr>
          <p:cNvPr id="286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Chapter 14-</a:t>
            </a:r>
            <a:fld id="{017D03F2-5886-4D1D-8FB7-236F4AF9A505}" type="slidenum"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54120"/>
            <a:ext cx="7772400" cy="419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4617b"/>
                </a:solidFill>
                <a:latin typeface="Calibri"/>
                <a:ea typeface="Gulim"/>
              </a:rPr>
              <a:t>Indexes as Access Paths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93840" y="1587240"/>
            <a:ext cx="8369280" cy="46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Gulim"/>
              </a:rPr>
              <a:t>A single-level index is an auxiliary file that makes it more efficient to search for a record in the data fil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Gulim"/>
              </a:rPr>
              <a:t>The index is usually specified on one field of the file (although it could be specified on several field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3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Gulim"/>
              </a:rPr>
              <a:t>One form of an index is a file of entries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  <a:ea typeface="Gulim"/>
              </a:rPr>
              <a:t>&lt;field value, pointer to record&gt;,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Gulim"/>
              </a:rPr>
              <a:t> which is ordered by field valu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3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Gulim"/>
              </a:rPr>
              <a:t>The index is called an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  <a:ea typeface="Gulim"/>
              </a:rPr>
              <a:t>access path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Gulim"/>
              </a:rPr>
              <a:t> on the fiel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Chapter 14-</a:t>
            </a:r>
            <a:fld id="{221772E1-ECBD-4044-850F-BD391CC78B20}" type="slidenum"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361440"/>
            <a:ext cx="8477280" cy="763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17b"/>
                </a:solidFill>
                <a:latin typeface="Calibri"/>
                <a:ea typeface="Gulim"/>
              </a:rPr>
              <a:t>FIGURE : An example of insertion in a B+-tree with q = 3 and p</a:t>
            </a:r>
            <a:r>
              <a:rPr b="0" lang="en-US" sz="2000" spc="-1" strike="noStrike" baseline="-25000">
                <a:solidFill>
                  <a:srgbClr val="04617b"/>
                </a:solidFill>
                <a:latin typeface="Calibri"/>
                <a:ea typeface="Gulim"/>
              </a:rPr>
              <a:t>leaf</a:t>
            </a:r>
            <a:r>
              <a:rPr b="0" lang="en-US" sz="2000" spc="-1" strike="noStrike">
                <a:solidFill>
                  <a:srgbClr val="04617b"/>
                </a:solidFill>
                <a:latin typeface="Calibri"/>
                <a:ea typeface="Gulim"/>
              </a:rPr>
              <a:t> = 2.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8" name="Picture 3" descr=""/>
          <p:cNvPicPr/>
          <p:nvPr/>
        </p:nvPicPr>
        <p:blipFill>
          <a:blip r:embed="rId1"/>
          <a:srcRect l="0" t="40960" r="0" b="19633"/>
          <a:stretch/>
        </p:blipFill>
        <p:spPr>
          <a:xfrm>
            <a:off x="992160" y="1125360"/>
            <a:ext cx="7942320" cy="5000760"/>
          </a:xfrm>
          <a:prstGeom prst="rect">
            <a:avLst/>
          </a:prstGeom>
          <a:ln w="0">
            <a:noFill/>
          </a:ln>
        </p:spPr>
      </p:pic>
      <p:sp>
        <p:nvSpPr>
          <p:cNvPr id="289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Chapter 14-</a:t>
            </a:r>
            <a:fld id="{52AEDDBF-99F0-4431-BAEF-347A7F073569}" type="slidenum"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402840"/>
            <a:ext cx="8477280" cy="763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17b"/>
                </a:solidFill>
                <a:latin typeface="Calibri"/>
                <a:ea typeface="Gulim"/>
              </a:rPr>
              <a:t>FIGURE : An example of insertion in a B+-tree with q = 3 and p</a:t>
            </a:r>
            <a:r>
              <a:rPr b="0" lang="en-US" sz="2000" spc="-1" strike="noStrike" baseline="-25000">
                <a:solidFill>
                  <a:srgbClr val="04617b"/>
                </a:solidFill>
                <a:latin typeface="Calibri"/>
                <a:ea typeface="Gulim"/>
              </a:rPr>
              <a:t>leaf</a:t>
            </a:r>
            <a:r>
              <a:rPr b="0" lang="en-US" sz="2000" spc="-1" strike="noStrike">
                <a:solidFill>
                  <a:srgbClr val="04617b"/>
                </a:solidFill>
                <a:latin typeface="Calibri"/>
                <a:ea typeface="Gulim"/>
              </a:rPr>
              <a:t> = 2.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1" name="Picture 3" descr=""/>
          <p:cNvPicPr/>
          <p:nvPr/>
        </p:nvPicPr>
        <p:blipFill>
          <a:blip r:embed="rId1"/>
          <a:srcRect l="0" t="60827" r="0" b="-1371"/>
          <a:stretch/>
        </p:blipFill>
        <p:spPr>
          <a:xfrm>
            <a:off x="992160" y="1166760"/>
            <a:ext cx="7942320" cy="5145120"/>
          </a:xfrm>
          <a:prstGeom prst="rect">
            <a:avLst/>
          </a:prstGeom>
          <a:ln w="0">
            <a:noFill/>
          </a:ln>
        </p:spPr>
      </p:pic>
      <p:sp>
        <p:nvSpPr>
          <p:cNvPr id="29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Chapter 14-</a:t>
            </a:r>
            <a:fld id="{00541DD9-270B-42FC-ADB5-F0B7DE3D9A00}" type="slidenum"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3" descr=""/>
          <p:cNvPicPr/>
          <p:nvPr/>
        </p:nvPicPr>
        <p:blipFill>
          <a:blip r:embed="rId1"/>
          <a:srcRect l="0" t="0" r="0" b="43578"/>
          <a:stretch/>
        </p:blipFill>
        <p:spPr>
          <a:xfrm>
            <a:off x="1482840" y="892080"/>
            <a:ext cx="7105680" cy="549756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42720" y="1295280"/>
            <a:ext cx="21985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17b"/>
                </a:solidFill>
                <a:latin typeface="Calibri"/>
                <a:ea typeface="Gulim"/>
              </a:rPr>
              <a:t>FIGURE : An example of deletion from a B+-tree.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Chapter 14-</a:t>
            </a:r>
            <a:fld id="{E1141895-DD2C-4684-BD5A-D1AC1A6C5AE3}" type="slidenum"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3" descr=""/>
          <p:cNvPicPr/>
          <p:nvPr/>
        </p:nvPicPr>
        <p:blipFill>
          <a:blip r:embed="rId1"/>
          <a:srcRect l="0" t="32001" r="0" b="14395"/>
          <a:stretch/>
        </p:blipFill>
        <p:spPr>
          <a:xfrm>
            <a:off x="1482840" y="1068480"/>
            <a:ext cx="7105680" cy="522288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71000" y="1490400"/>
            <a:ext cx="2428920" cy="788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17b"/>
                </a:solidFill>
                <a:latin typeface="Calibri"/>
                <a:ea typeface="Gulim"/>
              </a:rPr>
              <a:t>FIGURE : An example of deletion from a B+-tree.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Chapter 14-</a:t>
            </a:r>
            <a:fld id="{835FB678-5B6B-4153-B0B8-B67D5F08EAF6}" type="slidenum"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41360" y="560160"/>
            <a:ext cx="8245440" cy="663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17b"/>
                </a:solidFill>
                <a:latin typeface="Calibri"/>
                <a:ea typeface="Gulim"/>
              </a:rPr>
              <a:t>FIGURE: An example of deletion from a B+-tree.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00" name="Picture 3" descr=""/>
          <p:cNvPicPr/>
          <p:nvPr/>
        </p:nvPicPr>
        <p:blipFill>
          <a:blip r:embed="rId1"/>
          <a:srcRect l="0" t="59944" r="0" b="-3020"/>
          <a:stretch/>
        </p:blipFill>
        <p:spPr>
          <a:xfrm>
            <a:off x="1482840" y="1663560"/>
            <a:ext cx="7105680" cy="4197600"/>
          </a:xfrm>
          <a:prstGeom prst="rect">
            <a:avLst/>
          </a:prstGeom>
          <a:ln w="0">
            <a:noFill/>
          </a:ln>
        </p:spPr>
      </p:pic>
      <p:sp>
        <p:nvSpPr>
          <p:cNvPr id="301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Chapter 14-</a:t>
            </a:r>
            <a:fld id="{F95EA0B4-7002-4F5E-8682-0F5025BC6D3C}" type="slidenum"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22440" y="685800"/>
            <a:ext cx="833112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  <a:ea typeface="Gulim"/>
              </a:rPr>
              <a:t>And, …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22440" y="1752120"/>
            <a:ext cx="83311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  <a:ea typeface="Gulim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Gulim"/>
              </a:rPr>
              <a:t>Indexes on Multiple Key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Gulim"/>
              </a:rPr>
              <a:t>Ordered index on multiple attribu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Gulim"/>
              </a:rPr>
              <a:t>Partitioned hash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Gulim"/>
              </a:rPr>
              <a:t>Grid Fi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Gulim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Gulim"/>
              </a:rPr>
              <a:t>Other types of index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Gulim"/>
              </a:rPr>
              <a:t>Using hashing and other data structures as index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Gulim"/>
              </a:rPr>
              <a:t>Logical versus physical index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Chapter 14-</a:t>
            </a:r>
            <a:fld id="{9C506046-47F5-4A2F-9DD1-18C727281FD6}" type="slidenum"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54120"/>
            <a:ext cx="7772400" cy="419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4617b"/>
                </a:solidFill>
                <a:latin typeface="Calibri"/>
                <a:ea typeface="Gulim"/>
              </a:rPr>
              <a:t>Indexes as Access Paths (contd.)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510920"/>
            <a:ext cx="8305920" cy="47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Gulim"/>
              </a:rPr>
              <a:t>The index file usually occupies considerably less disk blocks than the data file because its entries are much small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3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Gulim"/>
              </a:rPr>
              <a:t>A binary search on the index yields a pointer to the file recor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3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Gulim"/>
              </a:rPr>
              <a:t>Indexes can also be characterized as dense or sparse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  <a:ea typeface="Gulim"/>
              </a:rPr>
              <a:t>A </a:t>
            </a:r>
            <a:r>
              <a:rPr b="1" lang="en-US" sz="2100" spc="-1" strike="noStrike">
                <a:solidFill>
                  <a:srgbClr val="000000"/>
                </a:solidFill>
                <a:latin typeface="Constantia"/>
                <a:ea typeface="Gulim"/>
              </a:rPr>
              <a:t>dense index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  <a:ea typeface="Gulim"/>
              </a:rPr>
              <a:t> has an index entry for </a:t>
            </a:r>
            <a:r>
              <a:rPr b="0" i="1" lang="en-US" sz="2100" spc="-1" strike="noStrike">
                <a:solidFill>
                  <a:srgbClr val="000000"/>
                </a:solidFill>
                <a:latin typeface="Constantia"/>
                <a:ea typeface="Gulim"/>
              </a:rPr>
              <a:t>every search key value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  <a:ea typeface="Gulim"/>
              </a:rPr>
              <a:t> (and hence every record) in the data file.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  <a:ea typeface="Gulim"/>
              </a:rPr>
              <a:t>A </a:t>
            </a:r>
            <a:r>
              <a:rPr b="1" lang="en-US" sz="2100" spc="-1" strike="noStrike">
                <a:solidFill>
                  <a:srgbClr val="000000"/>
                </a:solidFill>
                <a:latin typeface="Constantia"/>
                <a:ea typeface="Gulim"/>
              </a:rPr>
              <a:t>sparse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  <a:ea typeface="Gulim"/>
              </a:rPr>
              <a:t> (or </a:t>
            </a:r>
            <a:r>
              <a:rPr b="1" lang="en-US" sz="2100" spc="-1" strike="noStrike">
                <a:solidFill>
                  <a:srgbClr val="000000"/>
                </a:solidFill>
                <a:latin typeface="Constantia"/>
                <a:ea typeface="Gulim"/>
              </a:rPr>
              <a:t>nondense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  <a:ea typeface="Gulim"/>
              </a:rPr>
              <a:t>) </a:t>
            </a:r>
            <a:r>
              <a:rPr b="1" lang="en-US" sz="2100" spc="-1" strike="noStrike">
                <a:solidFill>
                  <a:srgbClr val="000000"/>
                </a:solidFill>
                <a:latin typeface="Constantia"/>
                <a:ea typeface="Gulim"/>
              </a:rPr>
              <a:t>index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  <a:ea typeface="Gulim"/>
              </a:rPr>
              <a:t>, on the other hand, has index entries for only some of the search values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Chapter 14-</a:t>
            </a:r>
            <a:fld id="{C776DC4C-A7CC-4729-9AEA-F873DD5BAE5B}" type="slidenum"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04760" y="342720"/>
            <a:ext cx="7174080" cy="711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  <a:ea typeface="Gulim"/>
              </a:rPr>
              <a:t>Types of Single-Level Indexe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44600" y="1384200"/>
            <a:ext cx="850896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  <a:ea typeface="Gulim"/>
              </a:rPr>
              <a:t>Primary Index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Gulim"/>
              </a:rPr>
              <a:t>Defined on an ordered data fi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2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Gulim"/>
              </a:rPr>
              <a:t>The data file is ordered on a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  <a:ea typeface="Gulim"/>
              </a:rPr>
              <a:t>key fiel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2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Gulim"/>
              </a:rPr>
              <a:t>Includes one index entry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  <a:ea typeface="Gulim"/>
              </a:rPr>
              <a:t>for each block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Gulim"/>
              </a:rPr>
              <a:t>  in the data file; the index entry has the key field value for the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  <a:ea typeface="Gulim"/>
              </a:rPr>
              <a:t>first record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Gulim"/>
              </a:rPr>
              <a:t>  in the block, which is called the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  <a:ea typeface="Gulim"/>
              </a:rPr>
              <a:t>block ancho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2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Gulim"/>
              </a:rPr>
              <a:t>A similar scheme can use the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  <a:ea typeface="Gulim"/>
              </a:rPr>
              <a:t>last record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Gulim"/>
              </a:rPr>
              <a:t>  in a block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2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Gulim"/>
              </a:rPr>
              <a:t>A primary index is a nondense (sparse) index, since it includes an entry for each disk block of the data file and the keys of its anchor record rather than for every search valu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Chapter 14-</a:t>
            </a:r>
            <a:fld id="{6EDD4F4E-80F0-47C0-9933-8577A820FB57}" type="slidenum"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218592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Gulim"/>
              </a:rPr>
              <a:t>FIGURE 14.1</a:t>
            </a:r>
            <a:br>
              <a:rPr sz="2400"/>
            </a:b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Gulim"/>
              </a:rPr>
              <a:t>Primary index on the ordering key field of the file shown in Figure 13.7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3301920" y="304920"/>
            <a:ext cx="5351400" cy="5941800"/>
          </a:xfrm>
          <a:prstGeom prst="rect">
            <a:avLst/>
          </a:prstGeom>
          <a:ln w="0">
            <a:noFill/>
          </a:ln>
        </p:spPr>
      </p:pic>
      <p:sp>
        <p:nvSpPr>
          <p:cNvPr id="218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Chapter 14-</a:t>
            </a:r>
            <a:fld id="{C934041A-881D-4923-93E8-14B85966CBEE}" type="slidenum"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80520" y="906480"/>
            <a:ext cx="8572680" cy="54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nstantia"/>
                <a:ea typeface="Gulim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Example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Given the following data file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EMPLOYEE(NAME, SSN, ADDRESS, JOB, SAL, ... 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Suppose that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record size R=100 byt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block size B=1024 byt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r=30000 record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Then, we get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blocking factor bfr= B / R= 1024 / 100= 10 records/bloc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number of file blocks b= (r/bfr)= (30000/10)= 3000 block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For an index on the SSN key field, assume the field size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SS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=9 bytes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ssume the record pointer size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=6 bytes. Then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index entry size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=(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SS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+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)=(9+6)=15 byt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index blocking factor bf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=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/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= 1024 / 15= 68 entries/bloc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number of index blocks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= (b/ bf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)= (3000/68)= 45 block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binary search needs lo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= lo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45= 6 block accesses, total 6+1=7 block access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This is compared to the binary search cost of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lo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b=  lo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3000= 12 block access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Chapter 14-</a:t>
            </a:r>
            <a:fld id="{C06ABE3D-A24D-4939-AC39-6B8CA11D2800}" type="slidenum"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685800" y="38088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  <a:ea typeface="Gulim"/>
              </a:rPr>
              <a:t>Primary Inde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04760" y="342720"/>
            <a:ext cx="7174080" cy="711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  <a:ea typeface="Gulim"/>
              </a:rPr>
              <a:t>Types of Single-Level Indexe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44600" y="1384200"/>
            <a:ext cx="850896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  <a:ea typeface="Gulim"/>
              </a:rPr>
              <a:t>Clustering Index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Gulim"/>
              </a:rPr>
              <a:t>Defined on an ordered data fi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2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Gulim"/>
              </a:rPr>
              <a:t>The data file is ordered on a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  <a:ea typeface="Gulim"/>
              </a:rPr>
              <a:t>non-key field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Gulim"/>
              </a:rPr>
              <a:t>unlike primary index, which requires that the ordering field of the data file have a distinct value for each recor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2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Gulim"/>
              </a:rPr>
              <a:t>Includes one index entry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  <a:ea typeface="Gulim"/>
              </a:rPr>
              <a:t>for each distinct valu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Gulim"/>
              </a:rPr>
              <a:t>  of the field; the index entry points to the first data block that contains records with that field valu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2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Gulim"/>
              </a:rPr>
              <a:t>It is another example of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  <a:ea typeface="Gulim"/>
              </a:rPr>
              <a:t>nondens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Gulim"/>
              </a:rPr>
              <a:t> index where Insertion and Deletion is relatively straightforward with a clustering index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Chapter 14-</a:t>
            </a:r>
            <a:fld id="{2E668D18-5F00-4C0C-9585-6C448E1829B6}" type="slidenum"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2882880" y="158760"/>
            <a:ext cx="6083280" cy="593712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34520" y="228240"/>
            <a:ext cx="489420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17b"/>
                </a:solidFill>
                <a:latin typeface="Calibri"/>
                <a:ea typeface="Gulim"/>
              </a:rPr>
              <a:t>FIGURE 14.2</a:t>
            </a:r>
            <a:br>
              <a:rPr sz="2200"/>
            </a:br>
            <a:r>
              <a:rPr b="0" lang="en-US" sz="2200" spc="-1" strike="noStrike">
                <a:solidFill>
                  <a:srgbClr val="04617b"/>
                </a:solidFill>
                <a:latin typeface="Calibri"/>
                <a:ea typeface="Gulim"/>
              </a:rPr>
              <a:t>A clustering index on the DEPTNUMBER ordering nonkey field of an EMPLOYEE file.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Chapter 14-</a:t>
            </a:r>
            <a:fld id="{22DB890F-5452-4D67-8BC2-09A843A63A2E}" type="slidenum"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18T17:10:54Z</dcterms:created>
  <dc:creator>Shamkant B. Navathe</dc:creator>
  <dc:description/>
  <dc:language>en-US</dc:language>
  <cp:lastModifiedBy>User</cp:lastModifiedBy>
  <cp:lastPrinted>2001-05-28T10:10:18Z</cp:lastPrinted>
  <dcterms:modified xsi:type="dcterms:W3CDTF">2016-11-06T07:47:22Z</dcterms:modified>
  <cp:revision>395</cp:revision>
  <dc:subject/>
  <dc:title>Fundamentals of Database Systems</dc:title>
</cp:coreProperties>
</file>