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00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049640" y="0"/>
            <a:ext cx="3100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11040" y="707760"/>
            <a:ext cx="4725720" cy="354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7C8D3F-6CC0-4C63-91CC-131428E40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5365FE-B154-4B99-AEFD-7DCE47366281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50C8B5-BD2C-4B74-8D3D-F7269F75341B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B1B0D3-B7ED-4343-85D9-5BF7DD3BBFC0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E9C387-96D5-4E3B-BDF1-2045BFF3FB8A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581AE7-B5AC-48EE-B278-DFEF3493E1CA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0FD95F-4B38-4ADA-BE2B-DB39856E3CF4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44B87F-E542-464C-AE69-9AC7BCD34F95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B58DA9A-E2D3-496D-9EFE-399E5C80CCC1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411395D-38F0-4FF1-8652-0A580D9F4AA8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31DAA4-49AC-4543-B389-6824895614E2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DBA-5D18-41CB-94CF-0F236F4E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49B-D200-4F7D-B823-5EB9F4F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685-9791-48CC-85B8-9E7C9510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105-3765-47FD-A3ED-5163A7CF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C913-6481-4898-B46B-FE231D1D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052F-A364-4953-989E-1E9D129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0DF0-EE31-4A2E-811F-C5BC135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4BC2-0283-48F7-8526-8E9AAADF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6751-0598-43EE-B49D-04BFB126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6960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6E1F-FEAE-49B5-B0E0-5A52E64D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2677-EE1A-4DBE-AA8B-F56F2E1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771-7376-4994-96F3-F74F220E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E7F2-75D9-4771-9BF3-0E113611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5D9B-9425-479A-BC2D-AEC760B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D756-D186-4EC6-9471-D345EB98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4786-A0AD-4A5D-B91A-4C2A16EB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C6EE-9668-43F8-A166-51B5476D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747-3E31-4752-ABFA-2D5897A8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D98-C706-4F0A-92D6-AA627403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B48-BEED-464B-BC6E-C572ED4D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6960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4CF-299B-4FBF-8DD4-795B1209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990-AAD3-4BD1-AA81-A43E1CA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F23-25E7-43D0-986F-5D36053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13C-247B-4244-B57F-A9501D3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A6A0-0D4F-4F45-91BB-1A7B4F56A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Object 8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47560" cy="10317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C86-B45D-4DC6-A06C-BE8A5864EA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2654-5D6A-4FE3-A5B1-17FEE8B757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rst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R 42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1711440" y="990720"/>
            <a:ext cx="5711760" cy="364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-The third element is students learning to challenge themselves to their best possible perform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involves reaching for a new level of performance in a familiar field or launching an adventure into a new field of interest. It means setting the standard of achievement a step higher than one can readily achi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عنصر نائب لرقم الشريحة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6CA8-DB89-443A-8642-F6C12B120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fourth element is student self-management, management of themselves and of their learning enterpr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tudents develop the following attrib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hey become skilled in managing thei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They manage their effort and th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They learn  to face obstacles and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They develop confidence, courag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عنصر نائب لرقم الشريحة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931E-DC2A-49CF-9B84-4969B8BFC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-The fifth element is that students motivate and assess their own eff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ince the responsibility for proving that they have achieved their goals lies with students, they gather their proofs and/or products in a portfolio, which becomes the focus of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Just as self-motivation energizes students to produce the achievements that are evaluated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lf-assessment motivates students to seek the best possible achiev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عنصر نائب لرقم الشريحة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4B7B-0D77-4C95-8E89-612911EE6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429A-E29F-4687-8D92-AA7A1D27F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704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1425600"/>
            <a:ext cx="81057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nursing, Independent study course is designed to allow an in-depth exploration of the literature regarding a nursing or health care topic that is related to the student's research interests. Under the guidance of a faculty member, the student will conduct a critical evaluation of the extensive literature in a given topic area. Nursing builds on knowledge and content drawn from many disciplines and the topic areas that can be explored are var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6DF9-544B-4AC9-B58D-1BB4C4F72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715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ffd1"/>
                </a:solidFill>
                <a:latin typeface="Arial"/>
              </a:rPr>
              <a:t>Benefit of independent learn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enable students to feel in control of their academic studies, hence reducing stress, increasing wellbeing, and leading to improved academic perform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enhance student organization and the ability to set tangible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increase student motivation and confi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6400800" y="762120"/>
          <a:ext cx="265104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762120"/>
                    <a:ext cx="26510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47C0-66C2-4E7B-8D40-B57C35281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47f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ffd1"/>
                </a:solidFill>
                <a:latin typeface="Arial"/>
              </a:rPr>
              <a:t>Benefit of independent learn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enable teachers to provide differentiated ta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develop resilience for academic purposes and beyo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academic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r student awareness of their limitations and their ability to manage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ing teachers to provide differentiated tasks for stu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16FB-44C6-4EA9-99C0-780AA0CB1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7ffd1"/>
                </a:solidFill>
                <a:latin typeface="Arial"/>
              </a:rPr>
              <a:t>successful Independent learner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have a positive relationship with their teachers and tutors and ask for help and guidance when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have developed a robust set of digital skills to enable them to use technology and navigate the Internet in a discerning and critical man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focus less on poor revision techniques such as the storage of information (re-reading/highlighting) and more on the generation of questions and answers themselves through self-quizzing/regular low stakes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D21-8F59-4595-8DB5-4A02B0166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7ffd1"/>
                </a:solidFill>
                <a:latin typeface="Arial"/>
              </a:rPr>
              <a:t>successful Independent learner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9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are able to evaluate exemplar material from their peers or from the exam board to reflect and improve on their own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9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have a sense of agency over their future. They have strong self-regulation and metacognitive skills and are deeply reflective about their individual strengths and weakn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9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have an intellectual curiosity bolstered by a wide range of extra-curricular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501A-843F-4E85-821B-346DAB011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47f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ffd1"/>
                </a:solidFill>
                <a:latin typeface="Arial"/>
              </a:rPr>
              <a:t>successful Independent learner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learners have a well-developed capacity for intrinsic questioning as opposed to extrinsic questi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learners are empowered, unstressed, and in control have curiosity, passion, inspiration, discernment, self-motivation, self-examination, accountability, critical thinking and persist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72B4-F975-4E06-A755-BDBE21976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ay carry out independent studies or projects related to the theory or practic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, under the direction of a faculty facilitator. Students are encourag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ally identify, plan, execute and evaluate a learning project that is relevant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prac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uidelines for Individual Learner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A69-8207-43F9-8D46-AF0F57727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BJECTIVES 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lecture, the student will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independent stud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major concepts in self-directe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various stages of SD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the essential elements of S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enefit of independent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successful Independent learn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 type of learning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9FAF-6FBA-4B55-ABA7-12262DE66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There is a need to complete a learning contract using the following guide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ully Structured Guide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he student must follow the steps as outlin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-Students meet with their faculty advisor to discuss the merits of individual study for this particular student and review potential faculty mentors for content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-Select a faculty member to be a course mentor, preferably someone who is a content specialist in the student’s chosen area of stu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56EA-9BA1-4FEB-BA2D-9994431D3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With the completion of a learning plan with a faculty mentor, the student will develop goals, objectives, and evaluation requirements for the cou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f a clinical placement is desired: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 have an identified resource person in the clinical area that can assist with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The student will contact the Associate Director, Student Affairs for registration appr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..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3EFC-556B-467C-9A34-1F56C9B35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B. Semi-Structured Guideli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hese are required, but the method by which they are fulfilled is the responsibility of the studen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ntract is required and must be signed by the student and the faculty course men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is expected that students will be familiar with principles of Adult Learning and Self-Directed Lea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45B-7EC3-4982-B81D-BFE431B55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010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. Unstructured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student may make decisions independently about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. Choices re: topic and clinical placement (if desired, and where possi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 Choices of faculty course mentor, although this must be mutually agreed up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. Choice of resource person for clinical placement (if desired, and where possi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1EBF-3FD8-46BC-9C7A-604348888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.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ype and variety of human and material resources needed during th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5. Duration of the project within the term, and number of clinical hour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6. How fulfillment of the contract is demonst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DBC5-7024-495D-99F7-39D26DD3F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OBJECTIVES &amp; PROC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tudent wi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a working contra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dentify learning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mulate objectives that address learning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elop activities that meet the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elp to organize, with faculty course mentor, their own clinical experiences,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red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DD8D-F247-45C7-8A90-F0AACCCB7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Follow the established objectives and complete tasks as outl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Negotiate evaluation methods and grade distrib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Negotiate methods of self evaluation with the faculty course men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Apply concepts from nursing courses taken to date and include cultu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considerations, community and health care needs of today’s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09F0-CD1E-498F-8323-D9C496C16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finition of independen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study is an alternative instructional strategy  that offers the flexibility to meet individual student needs, interests, and styles of learn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enables students to most fully realize their potenti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encouraged to systematically identif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, execute and evaluate a learning project that is relevant to nursing pract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Independent study is self-directed learning (SD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مستطيل 1"/>
          <p:cNvSpPr/>
          <p:nvPr/>
        </p:nvSpPr>
        <p:spPr>
          <a:xfrm>
            <a:off x="1600200" y="380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dependence studies in Nursing Educ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7872-D7F7-40F2-92C6-C4BD3D39D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مستطيل 1"/>
          <p:cNvSpPr/>
          <p:nvPr/>
        </p:nvSpPr>
        <p:spPr>
          <a:xfrm>
            <a:off x="1600200" y="24591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مستطيل 1"/>
          <p:cNvSpPr/>
          <p:nvPr/>
        </p:nvSpPr>
        <p:spPr>
          <a:xfrm>
            <a:off x="622440" y="1225440"/>
            <a:ext cx="8369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 u="sng">
                <a:solidFill>
                  <a:srgbClr val="ffff00"/>
                </a:solidFill>
                <a:uFillTx/>
                <a:latin typeface="Times New Roman"/>
              </a:rPr>
              <a:t>About Self-Directed Lea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lf-Directed Learning (SDL) is any increase in knowledge, skill or performance pursued by any individual for personal reasons employing any means, in any place at any time at any ag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Moving from Teacher-Directed Learning to Self-Directed Lea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84836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A7CB-4260-4B08-8E40-A0FDB6104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SDL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ectrum refers to degrees of SDL ranging from entirely teacher-directed learning (TDL) to SD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includes the following stages of movement toward SD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Arial"/>
              </a:rPr>
              <a:t>1-Incidental Self-Directed Learning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occasional introduction of SDL activities into courses or programs that are otherwise teacher-direc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.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114B-AD63-4292-94B3-984CDA60C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SDL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c99c"/>
                </a:solidFill>
                <a:latin typeface="Arial"/>
              </a:rPr>
              <a:t>2-Teaching Students to Think Independent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s or programs that emphasize the personal pursuit of meaning through exploration, inquiry, problem solving and creative activity (e.g. debates, case studies, investigations, trials, dramatizations, fieldwork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90720" y="17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مستطيل 2"/>
          <p:cNvSpPr/>
          <p:nvPr/>
        </p:nvSpPr>
        <p:spPr>
          <a:xfrm>
            <a:off x="1825200" y="74304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400" spc="-1" strike="noStrike">
                <a:solidFill>
                  <a:srgbClr val="ffff00"/>
                </a:solidFill>
                <a:latin typeface="Times New Roman"/>
              </a:rPr>
              <a:t>CO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60F-596A-49CF-A56A-A1E03443D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.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مستطيل 1"/>
          <p:cNvSpPr/>
          <p:nvPr/>
        </p:nvSpPr>
        <p:spPr>
          <a:xfrm>
            <a:off x="380880" y="16002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 u="sng">
                <a:solidFill>
                  <a:srgbClr val="60c99c"/>
                </a:solidFill>
                <a:uFillTx/>
                <a:latin typeface="Arial"/>
              </a:rPr>
              <a:t>3-</a:t>
            </a:r>
            <a:r>
              <a:rPr b="0" lang="en-US" sz="2400" spc="-1" strike="noStrike" u="sng">
                <a:solidFill>
                  <a:srgbClr val="60c99c"/>
                </a:solidFill>
                <a:uFillTx/>
                <a:latin typeface="Arial"/>
              </a:rPr>
              <a:t>Self-Managed Learn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urses or programs presented through learning guides that students complete independently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4. Self-Planned Learn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urses or programs in which students pursue course outcomes through activities they design themselve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5. Self-Directed Learn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urses or programs in which students choose the outcomes, design their own activities and pursue them in their own way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316-408D-4866-996D-AD8A6CDE5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1722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-The first element is student control over as much of the learning experience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ing students with the task of developing their own learning, turns them to their own resources, which develops their emerging individuality and helps them to rehearse more adult ro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6C4F-A554-4536-84F7-2A64BC1D9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econd element of SDL is skill development. Inner control is aimless unless students learn to focus and apply their talents and energies intens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or this reason the emphasis in SDL is on the development of skills and processes that lead to productive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tudents learn to achieve course outcomes, to think independently and to plan and execute their own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2:35:29Z</dcterms:created>
  <dc:creator>Myrtle Turner</dc:creator>
  <dc:description/>
  <dc:language>en-US</dc:language>
  <cp:lastModifiedBy>المستخدم</cp:lastModifiedBy>
  <cp:lastPrinted>2017-02-16T16:43:04Z</cp:lastPrinted>
  <dcterms:modified xsi:type="dcterms:W3CDTF">2017-02-17T12:48:01Z</dcterms:modified>
  <cp:revision>291</cp:revision>
  <dc:subject/>
  <dc:title>PowerPoint Presentation  -  Adult Learners</dc:title>
</cp:coreProperties>
</file>