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_rels/notesSlide2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5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00320" cy="4716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7"/>
          </p:nvPr>
        </p:nvSpPr>
        <p:spPr>
          <a:xfrm>
            <a:off x="4049640" y="0"/>
            <a:ext cx="3100320" cy="4716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211040" y="707760"/>
            <a:ext cx="4725720" cy="354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Comic Sans MS"/>
              </a:rPr>
              <a:t>Click to move the slide</a:t>
            </a:r>
            <a:endParaRPr b="1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8"/>
          </p:nvPr>
        </p:nvSpPr>
        <p:spPr>
          <a:xfrm>
            <a:off x="0" y="8977320"/>
            <a:ext cx="3100320" cy="4716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9"/>
          </p:nvPr>
        </p:nvSpPr>
        <p:spPr>
          <a:xfrm>
            <a:off x="4049640" y="8977320"/>
            <a:ext cx="3100320" cy="4716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60164ACD-5A8F-44B7-BB98-7D44DB0ECFC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049640" y="8977320"/>
            <a:ext cx="31003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687249CC-503F-4A05-8D4F-95605ED87139}" type="slidenum">
              <a:rPr b="0" lang="en-US" sz="13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211400" y="708120"/>
            <a:ext cx="4725720" cy="354492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049640" y="8977320"/>
            <a:ext cx="31003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D680519C-DA5E-4BE4-906B-AE89C7C3580C}" type="slidenum">
              <a:rPr b="0" lang="en-US" sz="13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211400" y="708120"/>
            <a:ext cx="4725720" cy="354492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049640" y="8977320"/>
            <a:ext cx="31003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E82956DA-4F3C-43DD-BE7D-E4AAF32F9C07}" type="slidenum">
              <a:rPr b="0" lang="en-US" sz="13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211400" y="708120"/>
            <a:ext cx="4725720" cy="354492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049640" y="8977320"/>
            <a:ext cx="31003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B95B4F35-F705-498B-AF35-F9519393172B}" type="slidenum">
              <a:rPr b="0" lang="en-US" sz="13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211400" y="708120"/>
            <a:ext cx="4725720" cy="354492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4049640" y="8977320"/>
            <a:ext cx="31003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BC38ED9B-91DA-41F7-AF8B-992A5E4671C1}" type="slidenum">
              <a:rPr b="0" lang="en-US" sz="13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211400" y="708120"/>
            <a:ext cx="4725720" cy="354492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4049640" y="8977320"/>
            <a:ext cx="31003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D5842B0B-B8B9-48DC-BABC-42BCFF7A100C}" type="slidenum">
              <a:rPr b="0" lang="en-US" sz="13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211400" y="708120"/>
            <a:ext cx="4725720" cy="354492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211400" y="708120"/>
            <a:ext cx="4725720" cy="354492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عنصر نائب لرقم الشريحة 3"/>
          <p:cNvSpPr/>
          <p:nvPr/>
        </p:nvSpPr>
        <p:spPr>
          <a:xfrm>
            <a:off x="4049640" y="8977320"/>
            <a:ext cx="31003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FDBDCA87-D62E-40E9-9DDB-47DB5410D58E}" type="slidenum">
              <a:rPr b="0" lang="en-US" sz="13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049640" y="8977320"/>
            <a:ext cx="31003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1BCBAED7-CDA5-43A7-8406-9F3516A8E60C}" type="slidenum">
              <a:rPr b="0" lang="en-US" sz="13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211400" y="708120"/>
            <a:ext cx="4725720" cy="354492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049640" y="8977320"/>
            <a:ext cx="31003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2DCA80C4-9E9A-4A51-A305-9E66E821DC94}" type="slidenum">
              <a:rPr b="0" lang="en-US" sz="13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211400" y="708120"/>
            <a:ext cx="4725720" cy="354492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049640" y="8977320"/>
            <a:ext cx="31003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7D0329D5-FA2A-4A13-8097-19C2566C196D}" type="slidenum">
              <a:rPr b="0" lang="en-US" sz="13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211400" y="708120"/>
            <a:ext cx="4725720" cy="354492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57563-F30F-4A16-904F-838FB4021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76960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597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E9C6D-4DD6-47F1-9823-250FF5D78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76960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597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597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D24F4-7177-437D-8C24-7E5B67BDB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76960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447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447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597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597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597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F1D61-7F4F-4066-A06A-494007B3E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1E648-D346-4E43-80EE-462F6EC75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76960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F559C-E08E-482F-9672-20748FC0B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76960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71E1C-7D52-4391-80ED-EA105CCFB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76960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4479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BA570-5C7E-4B45-ACB8-70E4209C0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76960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60734-3F7F-4B63-B9FA-C61E45C8A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143000" y="304560"/>
            <a:ext cx="769608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4B71A-C9AD-4F92-9984-D21A06D13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76960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4479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597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BB026-203B-4A98-AFA4-61E2B73FD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76960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437AA-2039-442F-8E46-49D9B04E3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76960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3597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C3C57-0754-4F4D-849D-7AF04E7F9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76960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597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43364-B667-4EE6-951B-977856838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76960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597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1C5F8-5EE7-4C57-A699-6318F8804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76960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597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3597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9D98E-766A-428D-9C50-18A6AC5B8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76960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447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447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597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3597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3597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C1A7F-FA4C-4811-962B-7C218FE03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76960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7CEB7-1E97-442A-95A5-9EC83F646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76960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4479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3D4E5-8215-4F08-8EB1-96E12F330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76960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E6E72-6B76-422A-AAD2-C3BAF5370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143000" y="304560"/>
            <a:ext cx="769608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091BC-0345-43FE-B50F-86A91BFDC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76960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4479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597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39FF4-18DA-4FB8-819C-5E5735D88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76960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597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AFF3C-2577-44D6-B523-569895717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76960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597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5EFEB-7B1F-40CE-8C0F-4FA3572EF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76960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Comic Sans MS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ADE08-9C81-4DE0-9313-C835E6454C4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Object 8" descr=""/>
          <p:cNvPicPr/>
          <p:nvPr/>
        </p:nvPicPr>
        <p:blipFill>
          <a:blip r:embed="rId2"/>
          <a:stretch/>
        </p:blipFill>
        <p:spPr>
          <a:xfrm>
            <a:off x="304920" y="228600"/>
            <a:ext cx="1447560" cy="1031760"/>
          </a:xfrm>
          <a:prstGeom prst="rect">
            <a:avLst/>
          </a:prstGeom>
          <a:ln w="0">
            <a:noFill/>
          </a:ln>
        </p:spPr>
      </p:pic>
      <p:sp>
        <p:nvSpPr>
          <p:cNvPr id="6" name="Rectangle 10"/>
          <p:cNvSpPr/>
          <p:nvPr/>
        </p:nvSpPr>
        <p:spPr>
          <a:xfrm>
            <a:off x="0" y="0"/>
            <a:ext cx="304920" cy="68580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Rectangle 11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8"/>
          <p:cNvSpPr/>
          <p:nvPr/>
        </p:nvSpPr>
        <p:spPr>
          <a:xfrm>
            <a:off x="0" y="0"/>
            <a:ext cx="304920" cy="68580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76960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Comic Sans MS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E1F07-EBC0-468C-8805-635FAAF133F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5F6F9-F99B-497E-8ACE-EB9DC3598A4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Independence studies in Nursing Education</a:t>
            </a:r>
            <a:endParaRPr b="1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4648320"/>
            <a:ext cx="6400800" cy="167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irst lec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NUR 420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7" name="Picture 8" descr=""/>
          <p:cNvPicPr/>
          <p:nvPr/>
        </p:nvPicPr>
        <p:blipFill>
          <a:blip r:embed="rId1"/>
          <a:stretch/>
        </p:blipFill>
        <p:spPr>
          <a:xfrm>
            <a:off x="1711440" y="990720"/>
            <a:ext cx="5711760" cy="36464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769608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The Essential Elements of SDL</a:t>
            </a: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0948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3-The third element is students learning to challenge themselves to their best possible performanc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allenge involves reaching for a new level of performance in a familiar field or launching an adventure into a new field of interest. It means setting the standard of achievement a step higher than one can readily achiev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عنصر نائب لرقم الشريحة 3"/>
          <p:cNvSpPr/>
          <p:nvPr/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0A807-CA1C-4B6E-A413-E5561471545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769608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The Essential Elements of SDL</a:t>
            </a: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14479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. The fourth element is student self-management, management of themselves and of their learning enterpris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Students develop the following attribut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. They become skilled in managing their ti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. They manage their effort and the resour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. They learn  to face obstacles and difficul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. They develop confidence, courage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عنصر نائب لرقم الشريحة 3"/>
          <p:cNvSpPr/>
          <p:nvPr/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3019E-68FB-4E92-9ABA-2AFBABA6CEC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769608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The Essential Elements of SDL</a:t>
            </a: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685800" y="144792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5-The fifth element is that students motivate and assess their own effor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Since the responsibility for proving that they have achieved their goals lies with students, they gather their proofs and/or products in a portfolio, which becomes the focus of evalua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Just as self-motivation energizes students to produce the achievements that are evaluated, 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self-assessment motivates students to seek the best possible achievemen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عنصر نائب لرقم الشريحة 3"/>
          <p:cNvSpPr/>
          <p:nvPr/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D27C8-01EC-4097-A686-65255302991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Slide Number Placeholder 5"/>
          <p:cNvSpPr/>
          <p:nvPr/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D51A2-E421-4DD1-900A-8A6AEB576AF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17040" y="380880"/>
            <a:ext cx="85345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Independence studies in Nursing Education</a:t>
            </a: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9280" y="1425600"/>
            <a:ext cx="8105760" cy="44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spcAft>
                <a:spcPts val="1576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nursing, Independent study course is designed to allow an in-depth exploration of the literature regarding a nursing or health care topic that is related to the student's research interests. Under the guidance of a faculty member, the student will conduct a critical evaluation of the extensive literature in a given topic area. Nursing builds on knowledge and content drawn from many disciplines and the topic areas that can be explored are vari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Slide Number Placeholder 5"/>
          <p:cNvSpPr/>
          <p:nvPr/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4C1EF-08A7-432E-BA53-7787462FC34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99840" y="533520"/>
            <a:ext cx="7543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Independence studies in Nursing Education</a:t>
            </a:r>
            <a:br>
              <a:rPr sz="2800"/>
            </a:b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57150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7ffd1"/>
                </a:solidFill>
                <a:latin typeface="Arial"/>
              </a:rPr>
              <a:t>Benefit of independent learning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t will enable students to feel in control of their academic studies, hence reducing stress, increasing wellbeing, and leading to improved academic performanc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t will enhance student organization and the ability to set tangible goal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t will increase student motivation and confidenc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1" name="Object 4"/>
          <p:cNvGraphicFramePr/>
          <p:nvPr/>
        </p:nvGraphicFramePr>
        <p:xfrm>
          <a:off x="6400800" y="762120"/>
          <a:ext cx="2651040" cy="2543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00800" y="762120"/>
                    <a:ext cx="2651040" cy="25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Slide Number Placeholder 5"/>
          <p:cNvSpPr/>
          <p:nvPr/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C3A96-BAA3-4E5E-8838-1FFEC03621A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52120" y="457200"/>
            <a:ext cx="7086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Independence studies in Nursing Education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66680" y="1523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500"/>
              </a:spcAft>
              <a:buClr>
                <a:srgbClr val="47ffd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7ffd1"/>
                </a:solidFill>
                <a:latin typeface="Arial"/>
              </a:rPr>
              <a:t>Benefit of independent learning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t will enable teachers to provide differentiated task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t will develop resilience for academic purposes and beyon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mproved academic performa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reater student awareness of their limitations and their ability to manage the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abling teachers to provide differentiated tasks for studen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Slide Number Placeholder 5"/>
          <p:cNvSpPr/>
          <p:nvPr/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CE422-CB73-4012-8FE9-4CED81058DF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7ffd1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47ffd1"/>
                </a:solidFill>
                <a:latin typeface="Arial"/>
              </a:rPr>
              <a:t>successful Independent learner characteristic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dependent learners have a positive relationship with their teachers and tutors and ask for help and guidance when nee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dependent learners have developed a robust set of digital skills to enable them to use technology and navigate the Internet in a discerning and critical manne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dependent learners focus less on poor revision techniques such as the storage of information (re-reading/highlighting) and more on the generation of questions and answers themselves through self-quizzing/regular low stakes tes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1143000" y="304560"/>
            <a:ext cx="769608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 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Independence studies in Nursing Education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p:transition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Slide Number Placeholder 5"/>
          <p:cNvSpPr/>
          <p:nvPr/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30A56-19D3-41F6-8B23-B561339DD87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769608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Independence studies in Nursing Education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762120" y="12952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spcAft>
                <a:spcPts val="22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7ffd1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47ffd1"/>
                </a:solidFill>
                <a:latin typeface="Arial"/>
              </a:rPr>
              <a:t>successful Independent learner characteris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195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dependent learners are able to evaluate exemplar material from their peers or from the exam board to reflect and improve on their own work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195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dependent learners have a sense of agency over their future. They have strong self-regulation and metacognitive skills and are deeply reflective about their individual strengths and weakness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195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dependent learners have an intellectual curiosity bolstered by a wide range of extra-curricular activiti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lide Number Placeholder 5"/>
          <p:cNvSpPr/>
          <p:nvPr/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477A8-9E05-40D0-8D53-1E293E3994F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 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Independence studies in Nursing Education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532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spcAft>
                <a:spcPts val="1749"/>
              </a:spcAft>
              <a:buClr>
                <a:srgbClr val="47ffd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7ffd1"/>
                </a:solidFill>
                <a:latin typeface="Arial"/>
              </a:rPr>
              <a:t>successful Independent learner characteris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spcAft>
                <a:spcPts val="17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dependent learners have a well-developed capacity for intrinsic questioning as opposed to extrinsic questionin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spcAft>
                <a:spcPts val="17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dependent learners are empowered, unstressed, and in control have curiosity, passion, inspiration, discernment, self-motivation, self-examination, accountability, critical thinking and persistence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Slide Number Placeholder 5"/>
          <p:cNvSpPr/>
          <p:nvPr/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85C30-7797-4F52-8909-ADDF1D3C2F3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udents may carry out independent studies or projects related to the theory or practice o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ursing, under the direction of a faculty facilitator. Students are encouraged t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ystematically identify, plan, execute and evaluate a learning project that is relevant t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ursing practi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title"/>
          </p:nvPr>
        </p:nvSpPr>
        <p:spPr>
          <a:xfrm>
            <a:off x="99072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Guidelines for Individual Learners</a:t>
            </a: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Slide Number Placeholder 5"/>
          <p:cNvSpPr/>
          <p:nvPr/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EC730-6137-43BB-B61E-F275DC1ABDD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OBJECTIVES </a:t>
            </a:r>
            <a:br>
              <a:rPr sz="3600"/>
            </a:br>
            <a:endParaRPr b="1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90720" y="144792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876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y the end of lecture, the student will be able to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876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dentify independent study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876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fine major concepts in self-directed learn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876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uss various stages of SDL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876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st the essential elements of SD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876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dentify benefit of independent learn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876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st successful Independent learn characteris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876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are and contrast type of learning contra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Slide Number Placeholder 5"/>
          <p:cNvSpPr/>
          <p:nvPr/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DBEE4-F01F-4D26-AFBA-B988166C76C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609120" y="1523880"/>
            <a:ext cx="85345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NewRomanPSMT"/>
              </a:rPr>
              <a:t>There is a need to complete a learning contract using the following guidelin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Arial"/>
              </a:rPr>
              <a:t>Fully Structured Guidelin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Arial"/>
              </a:rPr>
              <a:t>The student must follow the steps as outlined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1-Students meet with their faculty advisor to discuss the merits of individual study for this particular student and review potential faculty mentors for content are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2-Select a faculty member to be a course mentor, preferably someone who is a content specialist in the student’s chosen area of stud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title"/>
          </p:nvPr>
        </p:nvSpPr>
        <p:spPr>
          <a:xfrm>
            <a:off x="1752120" y="304560"/>
            <a:ext cx="7086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learning contract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p:transition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Slide Number Placeholder 5"/>
          <p:cNvSpPr/>
          <p:nvPr/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DA840-39A7-409C-BA86-0A7F643C127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457200" y="144756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spcAft>
                <a:spcPts val="22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-With the completion of a learning plan with a faculty mentor, the student will develop goals, objectives, and evaluation requirements for the cours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. If a clinical placement is desired:</a:t>
            </a:r>
            <a:r>
              <a:rPr b="0" lang="en-US" sz="2800" spc="-1" strike="noStrike">
                <a:solidFill>
                  <a:srgbClr val="ffffff"/>
                </a:solidFill>
                <a:latin typeface="TimesNewRomanPSMT"/>
              </a:rPr>
              <a:t> have an identified resource person in the clinical area that can assist with evalua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.The student will contact the Associate Director, Student Affairs for registration approva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spcAft>
                <a:spcPts val="22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spcAft>
                <a:spcPts val="22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spcAft>
                <a:spcPts val="22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title"/>
          </p:nvPr>
        </p:nvSpPr>
        <p:spPr>
          <a:xfrm>
            <a:off x="1143000" y="304560"/>
            <a:ext cx="769608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Comic Sans MS"/>
              </a:rPr>
              <a:t>  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CON..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p:transition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Slide Number Placeholder 5"/>
          <p:cNvSpPr/>
          <p:nvPr/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2437D-1043-4D95-8D0B-894498A4E59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67616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learning contract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0773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000"/>
                </a:solidFill>
                <a:latin typeface="Arial"/>
              </a:rPr>
              <a:t>B. Semi-Structured Guidelin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000"/>
                </a:solidFill>
                <a:latin typeface="Arial"/>
              </a:rPr>
              <a:t>These are required, but the method by which they are fulfilled is the responsibility of the student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Clr>
                <a:srgbClr val="ffff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A contract is required and must be signed by the student and the faculty course mento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Clr>
                <a:srgbClr val="ffff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It is expected that students will be familiar with principles of Adult Learning and Self-Directed Learning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Slide Number Placeholder 5"/>
          <p:cNvSpPr/>
          <p:nvPr/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DC4D6-3B75-4FF2-A377-75286D8C7EA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599840" y="380880"/>
            <a:ext cx="701028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learning contract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830592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spcAft>
                <a:spcPts val="12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Arial"/>
              </a:rPr>
              <a:t>C. Unstructured Guideli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The student may make decisions independently about the following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1. Choices re: topic and clinical placement (if desired, and where possible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2. Choices of faculty course mentor, although this must be mutually agreed up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3. Choice of resource person for clinical placement (if desired, and where possible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Slide Number Placeholder 5"/>
          <p:cNvSpPr/>
          <p:nvPr/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1A141-5CC2-4FC2-9EC9-33A7E942964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            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cont. 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83055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spcAft>
                <a:spcPts val="17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. Type and variety of human and material resources needed during the projec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NewRomanPSMT"/>
              </a:rPr>
              <a:t>5. Duration of the project within the term, and number of clinical hours requir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NewRomanPSMT"/>
              </a:rPr>
              <a:t>6. How fulfillment of the contract is demonstated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Slide Number Placeholder 5"/>
          <p:cNvSpPr/>
          <p:nvPr/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F5B3A-1E4E-4455-87C3-B3A12343987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7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Learning contract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99"/>
                </a:solidFill>
                <a:latin typeface="Arial"/>
              </a:rPr>
              <a:t>OBJECTIVES &amp; PROCES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The Student will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• 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Design a working contract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identify learning nee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formulate objectives that address learning nee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develop activities that meet the objectiv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• 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Help to organize, with faculty course mentor, their own clinical experiences, i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Desired</a:t>
            </a:r>
            <a:r>
              <a:rPr b="1" lang="en-US" sz="2800" spc="-1" strike="noStrike">
                <a:solidFill>
                  <a:srgbClr val="00cc99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Slide Number Placeholder 5"/>
          <p:cNvSpPr/>
          <p:nvPr/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8A7C8-E89E-414C-A3A4-809C7919EC6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769608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Learning contract</a:t>
            </a: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761760" y="1447920"/>
            <a:ext cx="784836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NewRomanPSMT"/>
              </a:rPr>
              <a:t>Follow the established objectives and complete tasks as outlin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NewRomanPSMT"/>
              </a:rPr>
              <a:t>Negotiate evaluation methods and grade distribu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NewRomanPSMT"/>
              </a:rPr>
              <a:t>Negotiate methods of self evaluation with the faculty course mento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Symbol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ymbolMT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NewRomanPSMT"/>
              </a:rPr>
              <a:t>Apply concepts from nursing courses taken to date and include cultura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NewRomanPSMT"/>
              </a:rPr>
              <a:t>considerations, community and health care needs of today’s popul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Slide Number Placeholder 5"/>
          <p:cNvSpPr/>
          <p:nvPr/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CABF8-C73F-44B0-BD1A-9A584F7C756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609480" y="1219320"/>
            <a:ext cx="830592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Definition of independent stud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dependent study is an alternative instructional strategy  that offers the flexibility to meet individual student needs, interests, and styles of learning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t enables students to most fully realize their potential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udents are encouraged to systematically identify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lan, execute and evaluate a learning project that is relevant to nursing practic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000"/>
                </a:solidFill>
                <a:latin typeface="Arial"/>
              </a:rPr>
              <a:t>Independent study is self-directed learning (SDL 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1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04" name="مستطيل 1"/>
          <p:cNvSpPr/>
          <p:nvPr/>
        </p:nvSpPr>
        <p:spPr>
          <a:xfrm>
            <a:off x="1600200" y="380880"/>
            <a:ext cx="693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Independence studies in Nursing Education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Slide Number Placeholder 5"/>
          <p:cNvSpPr/>
          <p:nvPr/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8F94F-53B2-40B9-A2D8-6D43880179F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769608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Independence studies in Nursing Education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07" name="مستطيل 1"/>
          <p:cNvSpPr/>
          <p:nvPr/>
        </p:nvSpPr>
        <p:spPr>
          <a:xfrm>
            <a:off x="1600200" y="2459160"/>
            <a:ext cx="525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8" name="مستطيل 1"/>
          <p:cNvSpPr/>
          <p:nvPr/>
        </p:nvSpPr>
        <p:spPr>
          <a:xfrm>
            <a:off x="622440" y="1225440"/>
            <a:ext cx="836928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BZ" sz="2400" spc="-1" strike="noStrike" u="sng">
                <a:solidFill>
                  <a:srgbClr val="ffff00"/>
                </a:solidFill>
                <a:uFillTx/>
                <a:latin typeface="Times New Roman"/>
              </a:rPr>
              <a:t>About Self-Directed Learning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Self-Directed Learning (SDL) is any increase in knowledge, skill or performance pursued by any individual for personal reasons employing any means, in any place at any time at any age.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000"/>
                </a:solidFill>
                <a:latin typeface="Times New Roman"/>
              </a:rPr>
              <a:t>Moving from Teacher-Directed Learning to Self-Directed Learning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BZ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09" name="Picture 5" descr=""/>
          <p:cNvPicPr/>
          <p:nvPr/>
        </p:nvPicPr>
        <p:blipFill>
          <a:blip r:embed="rId1"/>
          <a:stretch/>
        </p:blipFill>
        <p:spPr>
          <a:xfrm>
            <a:off x="762120" y="3962520"/>
            <a:ext cx="7848360" cy="27432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Slide Number Placeholder 5"/>
          <p:cNvSpPr/>
          <p:nvPr/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636A2-D5F7-42DE-A3C3-9117C8C5B54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533160" y="1294920"/>
            <a:ext cx="838188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spcAft>
                <a:spcPts val="22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The SDL Spectru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pectrum refers to degrees of SDL ranging from entirely teacher-directed learning (TDL) to SDL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000"/>
                </a:solidFill>
                <a:latin typeface="Arial"/>
              </a:rPr>
              <a:t>includes the following stages of movement toward SDL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0c99c"/>
                </a:solidFill>
                <a:latin typeface="Arial"/>
              </a:rPr>
              <a:t>1-Incidental Self-Directed Learning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The occasional introduction of SDL activities into courses or programs that are otherwise teacher-directed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title"/>
          </p:nvPr>
        </p:nvSpPr>
        <p:spPr>
          <a:xfrm>
            <a:off x="1600200" y="53316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CONT.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Slide Number Placeholder 5"/>
          <p:cNvSpPr/>
          <p:nvPr/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8DE46-F593-4771-A9F8-49B79D8E29E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609120" y="144792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12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The SDL Spectru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12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c99c"/>
                </a:solidFill>
                <a:latin typeface="Arial"/>
              </a:rPr>
              <a:t>2-Teaching Students to Think Independently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12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urses or programs that emphasize the personal pursuit of meaning through exploration, inquiry, problem solving and creative activity (e.g. debates, case studies, investigations, trials, dramatizations, fieldwork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12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12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12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Rectangle 3"/>
          <p:cNvSpPr/>
          <p:nvPr/>
        </p:nvSpPr>
        <p:spPr>
          <a:xfrm>
            <a:off x="990720" y="171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6" name="مستطيل 2"/>
          <p:cNvSpPr/>
          <p:nvPr/>
        </p:nvSpPr>
        <p:spPr>
          <a:xfrm>
            <a:off x="1825200" y="743040"/>
            <a:ext cx="113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BZ" sz="2400" spc="-1" strike="noStrike">
                <a:solidFill>
                  <a:srgbClr val="ffff00"/>
                </a:solidFill>
                <a:latin typeface="Times New Roman"/>
              </a:rPr>
              <a:t>CONT.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Slide Number Placeholder 5"/>
          <p:cNvSpPr/>
          <p:nvPr/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85F8F-C088-4A6B-AF06-66523506C76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676160" y="533160"/>
            <a:ext cx="7086600" cy="78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CONT.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9" name="مستطيل 1"/>
          <p:cNvSpPr/>
          <p:nvPr/>
        </p:nvSpPr>
        <p:spPr>
          <a:xfrm>
            <a:off x="380880" y="1600200"/>
            <a:ext cx="83059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BZ" sz="2400" spc="-1" strike="noStrike" u="sng">
                <a:solidFill>
                  <a:srgbClr val="60c99c"/>
                </a:solidFill>
                <a:uFillTx/>
                <a:latin typeface="Arial"/>
              </a:rPr>
              <a:t>3-</a:t>
            </a:r>
            <a:r>
              <a:rPr b="0" lang="en-US" sz="2400" spc="-1" strike="noStrike" u="sng">
                <a:solidFill>
                  <a:srgbClr val="60c99c"/>
                </a:solidFill>
                <a:uFillTx/>
                <a:latin typeface="Arial"/>
              </a:rPr>
              <a:t>Self-Managed Learning.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Courses or programs presented through learning guides that students complete independently. 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Arial"/>
              </a:rPr>
              <a:t>4. Self-Planned Learning.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Courses or programs in which students pursue course outcomes through activities they design themselves.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Arial"/>
              </a:rPr>
              <a:t>5. Self-Directed Learning.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Courses or programs in which students choose the outcomes, design their own activities and pursue them in their own way. 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lide Number Placeholder 5"/>
          <p:cNvSpPr/>
          <p:nvPr/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46948-94A4-4736-8225-EF1A3E1FB0D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676160" y="685800"/>
            <a:ext cx="6172200" cy="62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The Essential Elements of SDL</a:t>
            </a:r>
            <a:br>
              <a:rPr sz="2800"/>
            </a:b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spcAft>
                <a:spcPts val="19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1-The first element is student control over as much of the learning experience as 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arging students with the task of developing their own learning, turns them to their own resources, which develops their emerging individuality and helps them to rehearse more adult rol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Slide Number Placeholder 5"/>
          <p:cNvSpPr/>
          <p:nvPr/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53821-8BC3-4B97-9AF7-533E8A0E796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2-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he second element of SDL is skill development. Inner control is aimless unless students learn to focus and apply their talents and energies intense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For this reason the emphasis in SDL is on the development of skills and processes that lead to productive activit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Students learn to achieve course outcomes, to think independently and to plan and execute their own activit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1523880" y="533520"/>
            <a:ext cx="73152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The Essential Elements of SDL</a:t>
            </a: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7T12:35:29Z</dcterms:created>
  <dc:creator>Myrtle Turner</dc:creator>
  <dc:description/>
  <dc:language>en-US</dc:language>
  <cp:lastModifiedBy>المستخدم</cp:lastModifiedBy>
  <cp:lastPrinted>2017-02-16T16:43:04Z</cp:lastPrinted>
  <dcterms:modified xsi:type="dcterms:W3CDTF">2017-02-17T12:48:01Z</dcterms:modified>
  <cp:revision>291</cp:revision>
  <dc:subject/>
  <dc:title>PowerPoint Presentation  -  Adult Learners</dc:title>
</cp:coreProperties>
</file>