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4EB4-F570-40C5-9C1A-A77E306F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AA67-B117-4BE4-A04D-CAD1FDF3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0F34-1F52-48F7-921E-E05B6347B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B36C-CCE4-4EC3-8ECE-741501E4C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FEF8-555C-4E31-A9BB-7190B5371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1D32-46E0-49D8-BF97-9D1B8D5C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1787-5645-4441-9F4A-E4F478D7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F987-A64E-4091-8144-5A12BA55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004C-D423-4738-ADFE-1DF12A33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2167-4700-4A08-9A93-CDD77978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372F-8C3C-4C26-AEEB-E0C85C85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314A-B39E-439C-A202-138A127C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D68A-B99C-4E9D-9B71-C6A3393C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42D1-17EF-4A4B-864F-D26758DC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801C-0E32-40E1-9ECE-6F8EB624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1D25-6576-43B3-9451-D5B73952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9E7D-1D3C-4297-A361-4E38DA6C7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C813-10C5-4107-8522-504E1A10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B6F1-3C93-4812-8B01-F209E6F2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663D-01F1-46EC-BEE7-402E44C2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5A79-A6F6-42AE-A672-88D9EC28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A47B-7024-4AAE-B745-C9AAA4B5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9E54-7C60-45C8-BA08-81B43969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480F-AC28-4E47-BCA6-8B485ED6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EB76-71CF-4EC5-922D-F897C0CC28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03C9-8D24-4775-9D5E-4FFEA872BA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Where’s the Lesion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952720"/>
            <a:ext cx="82296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euroscience Core Lecture Se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3 October 200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avid Roman Renner, M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epartment of Neur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Divisions of the Neurax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358128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ortical B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Subcortical B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Brain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Cerebell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Spinal Co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Ro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Peripheral Ner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1886040"/>
            <a:ext cx="358128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Neuromuscular 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Mus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Cortical Brai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epends upon hemispheric domi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on-neurologists generaliz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right:  visual/spatial, perception and mem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eft:  language and language dependent mem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Look for </a:t>
            </a: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aphasias, apraxias,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nd </a:t>
            </a: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agnosi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Neurologic Examination when Cortical Brain is Lesione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5328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er Cortical Function: 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aphasia, apraxia, agnos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anial Nerves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 nor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rebellar Function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 nor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tor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 weakness if you hit the motor homoncul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nsory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 sensory abnormalities if you hit the sensory homoncul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ep Tendon Reflexes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 hemi-hyper-reflex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thologic Reflexes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 possibly Babinski’s reflex or frontal release sig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Divisions of the Neurax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358128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Cortical B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ubcortical B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Brain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Cerebell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Spinal Co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Ro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Peripheral Ner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5257800" y="1886040"/>
            <a:ext cx="358128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Neuromuscular 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Mus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Subcortical Brai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ep white radiating fibers produce equal involvement of face/arm/l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ak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sory abnorm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sual radiating fibers are interrupte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ep parietal:  pie on the flo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ep temporal:  pie in the s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Neurologic Examination when Subcortical Brain is Lesione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190600"/>
            <a:ext cx="82296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er Cortical Function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 nor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anial Nerves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 visual field c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rebellar Function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 usually nor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tor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 weakness in face=arm=leg, UM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nsory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 sensory abnormalities in face=arm=le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ep Tendon Reflexes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 hemi-hyper-reflex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thologic Reflexes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 Babinski’s reflex and possibly frontal release sig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Divisions of the Neurax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358128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Cortical B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Subcortical B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rain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Cerebell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Spinal Co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Ro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Peripheral Ner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5257800" y="1886040"/>
            <a:ext cx="358128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Neuromuscular 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Mus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Brainste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rainstem is basically spinal cord with embedded cranial nerves, producing the following abnorm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anial nerve abnorm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ssic spinal cord compla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wel and bladder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ng tract signs:  (bilateral and cross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rticospinal (pyramidal):  mo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inothalamic:  pain/temp to the thalam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rsal columns:  prioprioception/vibration to th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Neurologic Examination when Brainstem is Lesioned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1532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igher Cortical Function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:  norm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ranial Nerves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III, IV, VI:  diplop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V:  decreased facial sens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VII:  droop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VIII:  deaf and dizz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IX, X, XII:  dysarthria and dysphag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XI:  decreased strength in neck and should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erebellar Function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:  norm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tor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:  hemi-paresis, UM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nsory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:  hemi-dysesthesi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ep Tendon Reflexes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:  hemi-hyper-reflex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thologic Reflexes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:  Babinski’s reflex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Divisions of the Neurax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358128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Cortical B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Subcortical B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Brain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erebell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Spinal Co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Ro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Peripheral Ner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5257800" y="1886040"/>
            <a:ext cx="358128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Neuromuscular 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Mus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Scott’s CC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“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My balance is off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Multiple ER visits for fall-related trau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“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I’m losing the fine control of my finger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oss of manual dexte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“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I’ve had pneumonia three time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ysphagia to liquids&gt;soli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Cerebellar Fun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30592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people believe that one can not test specifically for cerebellar abnorm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 one test on examination reliably evaluates the cerebell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: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ypoton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: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ynergy of (ant)agonist musc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: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ystagm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: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ysmetria, dysarth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: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nce and ga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: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em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Neurologic Examination when the Cerebellum is Lesione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15328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igher Cortical Function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:  norm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ranial Nerves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:  norm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erebellar Function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nystagm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staccato dysarthria (abnormality of prosod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tor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hemi-hypoton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intention &gt; positional trem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axial instability with dysmetr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nsory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:  norm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ep Tendon Reflexes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:  norm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thologic Reflexes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:  n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Divisions of the Neurax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358128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Cortical B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Subcortical B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Brain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Cerebell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pinal Co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Ro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Peripheral Ner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1886040"/>
            <a:ext cx="358128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Neuromuscular 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Mus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Spinal Cor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22960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Sensory level (horizont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Weakness below the lesion (paraparesi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UMN signs below the les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Bowel and bladder incontin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Neurologic Examination when the Spinal Cord is Lesione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1532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er Cortical Function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:  n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anial Nerves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:  n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rebellar Function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:  n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tor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:  weakness below the l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sory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:  horizont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ep Tendon Reflexes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:  hyper-reflexia below the l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hologic Reflexes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:  Babinski’s ref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Divisions of the Neurax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358128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Cortical B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Subcortical B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Brain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Cerebell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Spinal Co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Ro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Peripheral Ner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5257800" y="1886040"/>
            <a:ext cx="358128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Neuromuscular 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Mus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Root/Radiculopath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2190240"/>
            <a:ext cx="80010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Pain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 hallmark of a radiculopat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Sensory abnormalities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 dermato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ocative maneuvres exacerbate the p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Weakness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 myotome (assymetri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MN find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Neurologic Examination when a Root is Lesione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er Cortical Function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:  n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anial Nerves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:  n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rebellar Function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:  n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tor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:  assymetric weakness in a myot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sory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:  pain and dysesthesia confined to a dermat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ep Tendon Reflexes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:  hypo- to a-reflexia if the root carries a ref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hologic Reflexes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:  n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Divisions of the Neurax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358128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Cortical B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Subcortical B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Brain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Cerebell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Spinal Co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Ro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eripheral Ner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5257800" y="1886040"/>
            <a:ext cx="358128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Neuromuscular 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Mus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Peripheral Nerve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(presuming nonfocality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Weaknes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distal predomin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Sensory Dysesthesia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distal predomin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All of Scott’s Complaints Sounded Neurologic in Origi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00200" y="2437920"/>
            <a:ext cx="60199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His lesion should lie somewhere in the neuraxis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Neurologic Examination with Diffuse PN Lesion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er Cortical Function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:  n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anial Nerves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:  n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rebellar Function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:  n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tor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:  weakness is distal predomin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sory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:  dysesthesias are distal predomin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ep Tendon Reflexes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:  loss of distal refl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hologic Reflexes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:  mute responses to plantar sti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Divisions of the Neurax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358128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Cortical B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Subcortical B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Brain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Cerebell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Spinal Co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Ro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Peripheral Ner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1886040"/>
            <a:ext cx="358128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euromuscular 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Mus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Neuromuscular Jun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Fatiguability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 hallma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Weaknes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proximal and sym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cerbated with use, recovers with r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ten affects facial muscles (ptosis, dysconjugate gaze, slack jaw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Sens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preser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Neurologic Examination in Disorders of the NMJ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er Cortical Function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 nor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anial Nerves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 fatiguabile ptosis, dysconjugate gaze, slack ja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rebellar Function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 nor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tor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 fatiguable proximal weakness in both UE’s and LE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nsory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 nor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ep Tendon Reflexes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 nor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thologic Reflexes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 n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Divisions of the Neurax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358128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Cortical B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Subcortical B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Brain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Cerebell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Spinal Co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Ro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Peripheral Ner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1886040"/>
            <a:ext cx="358128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Neuromuscular 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us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Musc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Weaknes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proximal arm and leg musc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Sens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n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ough patients complain of cramping and  a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Neurologic Examination in Disorders of Musc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er Cortical Function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 nor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anial Nerves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 ptosis, dysconjugate gaze, dysphagia, dysphonia, (dysarthri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rebellar Function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 nor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tor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proximal weakness in both UE’s and LE’s, atrophy and fasiculations, hypoton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nsory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 nor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ep Tendon Reflexes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preserved until late in the dise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thologic Reflexes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 n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Scott’s Lesion Localizes to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lmost exclusively the Cerebellum, though to a minor degree the BS and PN are involv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solated heritable cerebellar dysfunction is rare, so we would expect to see other parts of the CNS involv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SpinoCerebellar Ataxia (SCA4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rior to Scott’s diagnosis, his cousin was the proband for this ent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82760" indent="-1857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cott has a 38-family member, 5 generation pedigree of this dis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2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2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is family entered into a study, and his family led to the classification of SCA4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2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taxia with axonal sensory neuropat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2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2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2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2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Divisions of the Neurax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358128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ortical B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ubcortical B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rain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erebell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pinal Co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Ro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eripheral Ner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1886040"/>
            <a:ext cx="358128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euromuscular 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us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Off the Top of my Head . . 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1788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mbalance = Cerebell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neumonia = Brainstem (related dysphagi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oss of Dexterity = Peripheral Ner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Neurologic Examin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Higher Cortical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ranial Ner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erebellar Fun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Mo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ns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Deep Tendon Refl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athologic Refl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The Neuro Exam Should 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Evaluate the Entire Neurax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22960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Higher Cortical Function: </a:t>
            </a:r>
            <a:r>
              <a:rPr b="0" lang="en-US" sz="2800" spc="-1" strike="noStrike">
                <a:solidFill>
                  <a:srgbClr val="808000"/>
                </a:solidFill>
                <a:latin typeface="Tahoma"/>
              </a:rPr>
              <a:t>cort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ranial Nerves: </a:t>
            </a:r>
            <a:r>
              <a:rPr b="0" lang="en-US" sz="2800" spc="-1" strike="noStrike">
                <a:solidFill>
                  <a:srgbClr val="808000"/>
                </a:solidFill>
                <a:latin typeface="Tahoma"/>
              </a:rPr>
              <a:t>subcortex, brain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erebellar Function: </a:t>
            </a:r>
            <a:r>
              <a:rPr b="0" lang="en-US" sz="2800" spc="-1" strike="noStrike">
                <a:solidFill>
                  <a:srgbClr val="808000"/>
                </a:solidFill>
                <a:latin typeface="Tahoma"/>
              </a:rPr>
              <a:t>cerebell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Motor: </a:t>
            </a:r>
            <a:r>
              <a:rPr b="0" lang="en-US" sz="2800" spc="-1" strike="noStrike">
                <a:solidFill>
                  <a:srgbClr val="808000"/>
                </a:solidFill>
                <a:latin typeface="Tahoma"/>
              </a:rPr>
              <a:t>motor homonculous, subcortical pyramidal tracts, BS, cord, radicle, PN, mus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nsory: </a:t>
            </a:r>
            <a:r>
              <a:rPr b="0" lang="en-US" sz="2800" spc="-1" strike="noStrike">
                <a:solidFill>
                  <a:srgbClr val="808000"/>
                </a:solidFill>
                <a:latin typeface="Tahoma"/>
              </a:rPr>
              <a:t>ascending tracts, thalamus, subcortical tracts, sensory hononcul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Deep Tendon Reflexes: </a:t>
            </a:r>
            <a:r>
              <a:rPr b="0" lang="en-US" sz="2800" spc="-1" strike="noStrike">
                <a:solidFill>
                  <a:srgbClr val="808000"/>
                </a:solidFill>
                <a:latin typeface="Tahoma"/>
              </a:rPr>
              <a:t>afferent PN, radicle, cord, efferent PN, mus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athologic Reflex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Scott’s Exam Showed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ahoma"/>
              </a:rPr>
              <a:t>Higher Cortical Function:  n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ahoma"/>
              </a:rPr>
              <a:t>Cranial Nerves: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oropharyngeal dysarth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ahoma"/>
              </a:rPr>
              <a:t>Cerebellar Function: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hypotonia, assynergy, dysmetria, staccato dysarthria, intention tremor, appendicular atax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ahoma"/>
              </a:rPr>
              <a:t>Motor: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hypotonia, normal str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ahoma"/>
              </a:rPr>
              <a:t>Sensory: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decreased vibration and tempera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ahoma"/>
              </a:rPr>
              <a:t>Deep Tendon Reflexes: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areflex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ahoma"/>
              </a:rPr>
              <a:t>Pathologic Reflexes: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plantar f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So Where’s the Lesion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David</cp:lastModifiedBy>
  <dcterms:modified xsi:type="dcterms:W3CDTF">2002-10-23T03:52:25Z</dcterms:modified>
  <cp:revision>13</cp:revision>
  <dc:subject/>
  <dc:title>Localization in the Neuraxis</dc:title>
</cp:coreProperties>
</file>