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AB3-DF73-42FB-9BF2-6D8FB99D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8A0-073D-470B-ADA6-074EC57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C17-B31B-4CDA-9CC2-C24616A4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4D2-8EA5-47F1-9F52-E33C844B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273-6560-445E-BBD3-31330994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6B3-E321-404E-9AD6-8083D6D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0FC7-E73F-42B3-95E4-3D9055A4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14E-96B5-42E2-ABA9-B2725D2A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87FC-7D19-485E-A4CC-C66DAAEB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032-4DA1-4FAB-B0BD-42C38BD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A381-9164-4060-97A9-3ABA183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A58-A907-4D1B-9F32-0744F41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52BE-E44C-4C9B-BD0B-EF9B303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BD9-849A-4CB3-87BE-401094A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A8EA-9926-4770-83EC-0627D3DA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78CC-6C7D-4F84-AA81-7607C454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8175-708C-4AD6-8720-8184CC61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00B-1660-455A-901D-69E4EA02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D22-F9D9-4D7F-A5A0-C64C3D9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B28-EC75-4592-B82A-E630B5AB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8F0-F28A-460F-B6FF-697C570B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49E-C309-418D-8349-2581BC81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B86-B07D-4618-BEC1-196D412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E2F-926A-477C-9DAB-18FB292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6C3-4670-4E6A-8054-1ABC9FC63E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648-2795-4602-9A89-33D544D5CB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Where’s the Lesion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52720"/>
            <a:ext cx="82296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roscience Core Lecture S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3 October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vid Roman Renner, M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partment of Neur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Cortical Bra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epends upon hemispheric domi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n-neurologists general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ight:  visual/spatial, perception an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ft:  language and language dependent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ook for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aphasias, apraxias,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d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agnos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Cortical Brain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1532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: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phasia, apraxia, agno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weakness if you hit the motor homoncul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sensory abnormalities if you hit the sensory homoncul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possibly Babinski’s reflex or frontal release 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ubcortical Bra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white radiating fibers produce equal involvement of face/arm/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 abnorm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 radiating fibers are interrup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parietal:  pie on the flo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mporal:  pie in the 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Subcortical Brain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visual field c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usually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weakness in face=arm=leg, 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sensory abnormalities in face=arm=l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Babinski’s reflex and possibly frontal release 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Brain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ainstem is basically spinal cord with embedded cranial nerves, producing the following abnorm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 abnorm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c spinal cor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wel and bladder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ract signs:  (bilateral and cros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ticospinal (pyramidal):  mo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inothalamic:  pain/temp to the thalam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al columns:  prioprioception/vibration to th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Brainstem is Lesioned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II, IV, VI:  diplop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:  decreased facial sens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II:  droo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VIII:  deaf and dizz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X, X, XII:  dysarthria and dysphag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I:  decreased strength in neck and should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paresis, 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dysesthes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hemi-hyper-reflex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Babinski’s refle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cott’s CC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y balance is off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ultiple ER visits for fall-related tra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I’m losing the fine control of my finger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ss of manual dexte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I’ve had pneumonia three tim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ysphagia to liquids&gt;sol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Cerebellar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eople believe that one can not test specifically for cerebellar abnorm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one test on examination reliably evaluates the cerebel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oton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ynergy of (ant)agonist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ystag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smetria, dysarth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ce and ga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the Cerebellum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nystagm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taccato dysarthria (abnormality of pros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hemi-hypoto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ntention &gt; positional trem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xial instability with dysmet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pinal C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level (horizont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 below the lesion (parapares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UMN signs below the le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Bowel and bladder incontin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the Spinal Cord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weakness below the l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orizont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yper-reflexia below the l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Babinski’s ref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Root/Radiculopat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190240"/>
            <a:ext cx="8001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Pain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hallmark of a radiculopat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abnormaliti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dermat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ocative maneuvres exacerbate the p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myotome (assymetr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MN fin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hen a Root is Lesio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assymetric weakness in a myot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pain and dysesthesia confined to a dermat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hypo- to a-reflexia if the root carries a ref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Peripheral Nerve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(presuming nonfocality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istal predomi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ory Dysesthesi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distal predomin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ll of Scott’s Complaints Sounded Neurologic in Origi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60199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s lesion should lie somewhere in the neuraxi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with Diffuse PN Lesio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weakness is distal predomin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dysesthesias are distal predomin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loss of distal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:  mute responses to plantar st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muscular J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Fatiguability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hall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proximal and sym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cerbated with use, recovers with 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affects facial muscles (ptosis, dysconjugate gaze, slack ja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pre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in Disorders of the NM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fatiguabile ptosis, dysconjugate gaze, slack j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fatiguable proximal weakness in both UE’s and LE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74e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Mus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Weak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roximal arm and leg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Sens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n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 patients complain of cramping and  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 in Disorders of Musc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Cortical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nial Nerv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ptosis, dysconjugate gaze, dysphagia, dysphonia, (dysarth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ebellar Function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oximal weakness in both UE’s and LE’s, atrophy and fasiculations, hypot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y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Tendon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preserved until late in th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hologic Reflexe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: 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cott’s Lesion Localizes t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most exclusively the Cerebellum, though to a minor degree the BS and PN are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olated heritable cerebellar dysfunction is rare, so we would expect to see other parts of the CNS invol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pinoCerebellar Ataxia (SCA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or to Scott’s diagnosis, his cousin was the proband for this ent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cott has a 38-family member, 5 generation pedigree of this dis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s family entered into a study, and his family led to the classification of SCA4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axia with axonal sensory neuropat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Divisions of th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5812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bcortical B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ain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ripheral Ne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1886040"/>
            <a:ext cx="35812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uromuscular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ff the Top of my Head . . 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balance = Cereb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neumonia = Brainstem (related dysphag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s of Dexterity = Peripheral Ner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Neurologic Exa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gher Cortical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anial N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rebellar Fun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o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ep Tendon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hologic Refl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The Neuro Exam Should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Evaluate the Entire Neurax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igher Cortical Function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anial Nerves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subcortex, brain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rebellar Function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otor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motor homonculous, subcortical pyramidal tracts, BS, cord, radicle, PN,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nsory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ascending tracts, thalamus, subcortical tracts, sensory hononcul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ep Tendon Reflexes: 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afferent PN, radicle, cord, efferent PN,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hologic Reflex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cott’s Exam Showed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Higher Cortical Function: 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ranial Nerv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oropharyngeal dysarth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Cerebellar Function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hypotonia, assynergy, dysmetria, staccato dysarthria, intention tremor, appendicular atax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Motor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hypotonia, normal str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Sensory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decreased vibration and temper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Deep Tendon Reflex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areflex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Pathologic Reflexes: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plantar f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o Where’s the Lesion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avid</cp:lastModifiedBy>
  <dcterms:modified xsi:type="dcterms:W3CDTF">2002-10-23T03:52:25Z</dcterms:modified>
  <cp:revision>13</cp:revision>
  <dc:subject/>
  <dc:title>Localization in the Neuraxis</dc:title>
</cp:coreProperties>
</file>