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31D-974D-4CF6-A0D4-61B71F93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126-F3D1-4079-8821-208C82A8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0CE-CA3F-4E26-8B6E-403CB55A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DDA5-DEFE-4D28-90B9-4CA49C87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295E-D32F-431C-A3FE-226803B2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CE94-99DF-4AD1-B632-60BF081F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AFF8-D449-4755-832C-B46ECEDA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0A81-14C4-42B0-B6F4-6A91B459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394E-574C-4EE7-A6AA-101BB8AF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8735-993B-4F21-B526-C7232FCC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32F0-BF48-4731-A238-EAC96987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7C4-BE47-493B-88AE-49DCB094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61DE-1996-4EF8-B7C9-5C317F5A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753D-9813-45D1-AA15-D844CD06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4C9E-A716-4C54-851D-4AFDEF75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C81E-69DA-4D08-86BF-D420CA97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0025-B5DC-4F94-BD08-4A072A64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D6E7E-8E0C-4ABE-9C59-405C5FC0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6FD2-E63A-47D1-98AB-DD279D35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30EBD-90A6-4368-B9C5-8900B599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A96CA-A585-4326-9326-4B3AF3B4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DA703-D6A5-40D5-AC6A-E0DB0A32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725-28BB-4793-AFB8-4266D67F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374AC-9CFA-4F1A-8F6F-171E64CE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C8862-5A5F-4ED8-AFCD-541711A7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44BDF-9B77-4405-9703-64A6825A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7A82A-A7CE-4644-A45A-AC5434AC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F1D07-913F-42F4-B164-77B85A9F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E2949-B6FD-4F7C-98ED-97BBD0F9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6FDDB-3BBD-4616-A38C-52A55B0C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02E45-068E-4A68-887B-0D9561EC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A6E45-9498-452A-808B-AD2933E6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A03D7-D6CB-4EF0-BE40-8500B9D2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EE3-62CB-4AF1-AB0F-E5ECE63E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0BC31-1D0B-40B5-B013-CD479324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8FABF-121F-4FD5-AB3C-D4BCC1FD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1B243-A6A1-4F0E-B604-6979FFE0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E696D-1F2B-4EE3-962B-D7F25238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0B0D4-E2D6-488E-A8BD-66317B5B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782C0-42A0-42FD-AE42-F61A818A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C7E2D-C9CD-4882-BF3B-C9CC7965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25567-24B6-4DA8-8666-A3C73926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1F2E2-1C89-4ECF-AB0A-0CA89550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13F8-692F-468D-A8A7-6C74C865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94A-E81A-4A19-A782-884476F1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E470-CE58-4983-829D-CEFCBBE5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3858-9063-4B53-AFD4-3DF0E25C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0B1-9ECD-4FA9-A6D0-14ECF2AE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E330-3BF7-47A3-A2B1-4650B0EB51B0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3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37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5311-5E54-4A95-9918-C72C52DC38D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A28D-40D4-497A-A2E0-2DBBA0B61D7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1496-CC97-4D09-8F97-7170A58BCE18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500120" y="3676680"/>
            <a:ext cx="7783560" cy="9874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506240" y="4651200"/>
            <a:ext cx="7767720" cy="10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3f7819"/>
                </a:solidFill>
                <a:latin typeface="Trebuchet MS"/>
              </a:rPr>
              <a:t>Dr. Essmat Mansour/ DR. IRENE ROCO 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1506600" y="257040"/>
            <a:ext cx="77677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1322640"/>
          </a:xfrm>
          <a:prstGeom prst="rect">
            <a:avLst/>
          </a:prstGeom>
          <a:ln w="0">
            <a:noFill/>
          </a:ln>
        </p:spPr>
      </p:pic>
      <p:pic>
        <p:nvPicPr>
          <p:cNvPr id="232" name="Content Placeholder 2" descr=""/>
          <p:cNvPicPr/>
          <p:nvPr/>
        </p:nvPicPr>
        <p:blipFill>
          <a:blip r:embed="rId2"/>
          <a:stretch/>
        </p:blipFill>
        <p:spPr>
          <a:xfrm>
            <a:off x="615960" y="1279440"/>
            <a:ext cx="877716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1322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677520" y="1517760"/>
            <a:ext cx="8596440" cy="534024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s a vital component of the surgical experience , it may be offered through conversation , discussion , the use of audiovisual materials , demonstration and re-demonstration 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t may be initiated before hospitalization to minimize anxiety , promote full recovery and decrease postoperative complications and discomfort 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The preoperative nurse can assess the patient’s knowledge base and use this information in developing a plan for an uneventful perioperative period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1322640"/>
          </a:xfrm>
          <a:prstGeom prst="rect">
            <a:avLst/>
          </a:prstGeom>
          <a:ln w="0">
            <a:noFill/>
          </a:ln>
        </p:spPr>
      </p:pic>
      <p:pic>
        <p:nvPicPr>
          <p:cNvPr id="236" name="Content Placeholder 2" descr=""/>
          <p:cNvPicPr/>
          <p:nvPr/>
        </p:nvPicPr>
        <p:blipFill>
          <a:blip r:embed="rId2"/>
          <a:stretch/>
        </p:blipFill>
        <p:spPr>
          <a:xfrm>
            <a:off x="628560" y="2157480"/>
            <a:ext cx="864396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1322640"/>
          </a:xfrm>
          <a:prstGeom prst="rect">
            <a:avLst/>
          </a:prstGeom>
          <a:ln w="0">
            <a:noFill/>
          </a:ln>
        </p:spPr>
      </p:pic>
      <p:sp>
        <p:nvSpPr>
          <p:cNvPr id="238" name="Content Placeholder 2"/>
          <p:cNvSpPr/>
          <p:nvPr/>
        </p:nvSpPr>
        <p:spPr>
          <a:xfrm>
            <a:off x="1600200" y="2249640"/>
            <a:ext cx="6386400" cy="388116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aphragmatic breath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ugh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eg exercis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urning to si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Getting out of b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1322640"/>
          </a:xfrm>
          <a:prstGeom prst="rect">
            <a:avLst/>
          </a:prstGeom>
          <a:ln w="0">
            <a:noFill/>
          </a:ln>
        </p:spPr>
      </p:pic>
      <p:pic>
        <p:nvPicPr>
          <p:cNvPr id="240" name="Content Placeholder 2" descr=""/>
          <p:cNvPicPr/>
          <p:nvPr/>
        </p:nvPicPr>
        <p:blipFill>
          <a:blip r:embed="rId2"/>
          <a:stretch/>
        </p:blipFill>
        <p:spPr>
          <a:xfrm>
            <a:off x="652320" y="1749600"/>
            <a:ext cx="862488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1322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677520" y="1569960"/>
            <a:ext cx="8596440" cy="447192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Trebuchet MS"/>
              </a:rPr>
              <a:t>Preparation of the bowel is imperative for intestinal surgery because escaping bacteria can invade adjacent tissue and cause sepsis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4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Trebuchet MS"/>
              </a:rPr>
              <a:t>Cathartics and enema remove gross collection of stool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4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Trebuchet MS"/>
              </a:rPr>
              <a:t>Oral antimicrobial agents (neomycin ) suppress the colon’s potent microflora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4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Trebuchet MS"/>
              </a:rPr>
              <a:t>Enema until clear are prescribed the evening the night before surgery .No more than 3 enemas should be given because of the adverse effect of fluid &amp;electrolytes disturbances 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4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Trebuchet MS"/>
              </a:rPr>
              <a:t>DIET:  Solid food is withheld from the patient for 6 hours before surgery . Patient having morning surgery is kept NPO overnight . Water can be given 4 hours before surgery to help the patient swallow medications if ordered 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1322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A medicated douche may be prescribed preoperatively if the patient is to have a gynecologic or urologic operations 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1322640"/>
          </a:xfrm>
          <a:prstGeom prst="rect">
            <a:avLst/>
          </a:prstGeom>
          <a:ln w="0">
            <a:noFill/>
          </a:ln>
        </p:spPr>
      </p:pic>
      <p:pic>
        <p:nvPicPr>
          <p:cNvPr id="246" name="Content Placeholder 2" descr=""/>
          <p:cNvPicPr/>
          <p:nvPr/>
        </p:nvPicPr>
        <p:blipFill>
          <a:blip r:embed="rId2"/>
          <a:stretch/>
        </p:blipFill>
        <p:spPr>
          <a:xfrm>
            <a:off x="781200" y="1573200"/>
            <a:ext cx="4748040" cy="4840200"/>
          </a:xfrm>
          <a:prstGeom prst="rect">
            <a:avLst/>
          </a:prstGeom>
          <a:ln w="0">
            <a:noFill/>
          </a:ln>
        </p:spPr>
      </p:pic>
      <p:pic>
        <p:nvPicPr>
          <p:cNvPr id="247" name="Content Placeholder 2" descr=""/>
          <p:cNvPicPr/>
          <p:nvPr/>
        </p:nvPicPr>
        <p:blipFill>
          <a:blip r:embed="rId3"/>
          <a:stretch/>
        </p:blipFill>
        <p:spPr>
          <a:xfrm>
            <a:off x="6004080" y="1573200"/>
            <a:ext cx="5346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Admitting the patient to surgery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77880" y="1353960"/>
            <a:ext cx="4965840" cy="5127840"/>
          </a:xfrm>
          <a:prstGeom prst="rect">
            <a:avLst/>
          </a:prstGeom>
          <a:solidFill>
            <a:srgbClr val="eae8dc"/>
          </a:solidFill>
          <a:ln w="9360">
            <a:solidFill>
              <a:srgbClr val="90c22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404040"/>
                </a:solidFill>
                <a:uFillTx/>
                <a:latin typeface="Trebuchet MS"/>
              </a:rPr>
              <a:t>Final checklist 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e preoperative checklist is the last procedure before taking the patient to the operating room 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Most facilities have a standard form for this check 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Verification &amp; identificatio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eview of patient’s record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onsent form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Content Placeholder 2"/>
          <p:cNvSpPr/>
          <p:nvPr/>
        </p:nvSpPr>
        <p:spPr>
          <a:xfrm>
            <a:off x="6345360" y="1471680"/>
            <a:ext cx="4965480" cy="5010120"/>
          </a:xfrm>
          <a:prstGeom prst="rect">
            <a:avLst/>
          </a:prstGeom>
          <a:solidFill>
            <a:srgbClr val="ea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Patient’s preparedness 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NPO statu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Proper attire ( hospital gown 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kin prepar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IV started with correct gauge needl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Dentures removed if present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Jewelry , contact lenses ,glasses removed and secured in locked area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llow patient to void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Ques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103400" y="2052360"/>
            <a:ext cx="5021280" cy="419580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ell whether the following statement is true or fals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imary goal in withholding food before surgery is to prevent aspir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Content Placeholder 2"/>
          <p:cNvSpPr/>
          <p:nvPr/>
        </p:nvSpPr>
        <p:spPr>
          <a:xfrm>
            <a:off x="6647040" y="2052720"/>
            <a:ext cx="3403440" cy="419580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u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ationale: The primary goal in withholding food before surgery is to prevent aspiratio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1322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785520" y="1492200"/>
            <a:ext cx="8488440" cy="478008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Trebuchet MS"/>
              </a:rPr>
              <a:t>At the end of this lecture the students will be able to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Know the different types of surgerie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Recognize the surgical risk factor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Discuss &amp; apply the nursing roles in the different distinct phases of surgery (preoperative , intraoperative &amp; postoperative 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Recognize &amp; apply concept related health teaching to be used during preoperative patient’s teaching 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Discuss the pharmacological aspects of preoperative medicatio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Predict&amp; differentiate between the postoperative discomfort and complica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Formulate a comprehensive care plan to be used &amp; apply for patient undergoing surgical procedure 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71520" y="399600"/>
            <a:ext cx="568656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Intraoperative Car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23920" y="1771200"/>
            <a:ext cx="9050400" cy="361476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esthesia and related complication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goals of anesthesia are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o provide analgesia ,sedation and muscle relaxation ,   appropriate for the type of operative procedur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o control the autonomic nervous system 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Members of the Surgical Team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Patien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Circulating nurs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crub rol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urge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Registered nurse first assistan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Anesthesiologist, anesthetis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Ques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03400" y="2052360"/>
            <a:ext cx="4324320" cy="419580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ell whether the following statement is true or false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circulating nurse is responsible for monitoring the surgical team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Content Placeholder 2"/>
          <p:cNvSpPr/>
          <p:nvPr/>
        </p:nvSpPr>
        <p:spPr>
          <a:xfrm>
            <a:off x="5630760" y="2052720"/>
            <a:ext cx="4419720" cy="419580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u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ationale: The circulating nurse is responsible for monitoring the surgical team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Basic Guidelines for Surgical Asepsi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854000" y="2066400"/>
            <a:ext cx="8613720" cy="428004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ll materials in contact with wound, within sterile field must be steril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Gowns sterile in front from chest to level of sterile field, sleeves from 2 inches above elbow to cuf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Only top of draped tables considered steril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uring draping, drape held well above area, placed from front to bac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Items dispensed by methods to preserve sterilit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Movements of surgical team are from sterile to sterile, from unsterile to sterile onl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Basic Guidelines for Surgical Asepsis (cont’d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Movement around sterile field must not cause contamination of fiel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t least 1-foot distance from sterile field must be maintain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When sterile barrier is breached, area is considered contaminat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very sterile field is constantly maintained, monitor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ems of doubtful sterility considered unster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terile fields prepared as close as possible to time of u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7432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Intraoperative Car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23920" y="1399680"/>
            <a:ext cx="6276960" cy="545796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Trebuchet MS"/>
              </a:rPr>
              <a:t>1. Conscious sedation 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atient remain conscious with some alteration of moo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otective reflexes remains intact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Trebuchet MS"/>
              </a:rPr>
              <a:t>2. Deep sedation 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atient is sleep but easily arousal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otective reflexes remain intact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oduced by IV or inhaled anesthesia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6943680" y="2486160"/>
            <a:ext cx="4657680" cy="228852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Trebuchet MS"/>
              </a:rPr>
              <a:t>3. General anesthesia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40404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mplete loss of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nsciousnes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40404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otective reflexes are lost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40404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oduced by IV or inhale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esthesia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3874680" y="893880"/>
            <a:ext cx="5484240" cy="520560"/>
          </a:xfrm>
          <a:prstGeom prst="rect">
            <a:avLst/>
          </a:prstGeom>
          <a:solidFill>
            <a:srgbClr val="94de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Trebuchet MS"/>
              </a:rPr>
              <a:t>Common anesthetic technique 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743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Intraoperative Care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83680" y="1180800"/>
            <a:ext cx="7473960" cy="547668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Regional Aesthesia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Production of anesthesia in special body part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chieved by injecting local anesthesia to appropriate nerv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pinal anesthesi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Local anesthesia is injected into lumber intrathecal spac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nesthetics blocks conduction in spinal nerve roots , paralysis and analgesia occur below level of injection 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Epidural anesthesia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chieved by injecting local anesthetic into epidural space by way of a lumber puncture 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esults similar to spinal anesthesi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8042400" y="1616040"/>
            <a:ext cx="3458880" cy="47466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3874680" y="657360"/>
            <a:ext cx="5484240" cy="520560"/>
          </a:xfrm>
          <a:prstGeom prst="rect">
            <a:avLst/>
          </a:prstGeom>
          <a:solidFill>
            <a:srgbClr val="94de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Trebuchet MS"/>
              </a:rPr>
              <a:t>Common anesthetic technique 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1322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677520" y="1535040"/>
            <a:ext cx="4799160" cy="505152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Hypoventilation ----- after paralysis of respiratory syste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Oral trauma -------due to difficult endotracheal intubatio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Hypotension --------due to preoperative hypovolemia &amp; /or as a reaction to anesthesi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Cardiac dysrhythmia ----- preexisting CVD, F&amp;E disturbances or as a reaction to anesthesi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Content Placeholder 2"/>
          <p:cNvSpPr/>
          <p:nvPr/>
        </p:nvSpPr>
        <p:spPr>
          <a:xfrm>
            <a:off x="6600960" y="1415880"/>
            <a:ext cx="4786200" cy="532296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Hypothermia ------exposure to cool ambient operating room environment or loss of thermoregulation capacity as a reaction to anesthesia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eripheral nerve damage ---- due to improper positioning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Malignant hyperthermia ---- rare reaction due to abnormal intracellular accumulation of calcium with resulting hypermetabolic &amp; muscle contraction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1" descr=""/>
          <p:cNvPicPr/>
          <p:nvPr/>
        </p:nvPicPr>
        <p:blipFill>
          <a:blip r:embed="rId1"/>
          <a:stretch/>
        </p:blipFill>
        <p:spPr>
          <a:xfrm>
            <a:off x="695160" y="96840"/>
            <a:ext cx="8595000" cy="824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266760" y="1000080"/>
            <a:ext cx="9455040" cy="585792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o ensure continuity of care from the intraoperative phase to the immediate postoperative , the circulating nurse anesthesiologist ,will give a through report to the PACU nurse 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This should include the following 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Type of surgery performed and an intraoperative complication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Type of anesthesia (general , local or sedation ….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Drains and type of dressin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Presence of endotracheal tube or type oxyg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Types of lines and locations (IV, arterial line 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Catheters or tubes as Foley , T-tub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Administration of blood , colloids &amp; fluid , electrolyte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Drug allergie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Pre-existing medical conditions (DM, HTN, ….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272520" cy="8352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1071360" y="836640"/>
            <a:ext cx="8202600" cy="6021360"/>
          </a:xfrm>
          <a:prstGeom prst="rect">
            <a:avLst/>
          </a:prstGeom>
          <a:solidFill>
            <a:srgbClr val="eae8dc"/>
          </a:solidFill>
          <a:ln w="9360">
            <a:solidFill>
              <a:srgbClr val="90c22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Before receiving the patient , note proper functioning of monitoring and suctioning devices , oxygen therapy equipment and all other equipment 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NITIAL ASSESSMENT  MADE BY THE NURSE IN PACU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Trebuchet MS"/>
              </a:rPr>
              <a:t>Verify the patient’s , the operative procedure and the surgeon who performed the procedur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Trebuchet MS"/>
              </a:rPr>
              <a:t>Evaluate the following signs and verify their level of stability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espiratory statu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irculatory statu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Pulse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emperatur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Oxygen saturation level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Hemodynamic value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 u="sng">
                <a:solidFill>
                  <a:srgbClr val="90c226"/>
                </a:solidFill>
                <a:uFillTx/>
                <a:latin typeface="Trebuchet MS"/>
              </a:rPr>
              <a:t>Out line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22280" y="1414080"/>
            <a:ext cx="9693360" cy="425772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Perioperative overview (types of surgery , surgical risk factors 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Preoperative care (informed consent , patient education, patient preparation ,preoperative medication &amp; transferring the patient to surgery 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ntraoperative care ( common types of anesthetics technique, intraoperative complication 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Post operative (initial assessment , intervention , postoperative discomfort and complications 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272520" cy="8352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1285920" y="836280"/>
            <a:ext cx="7988400" cy="5235480"/>
          </a:xfrm>
          <a:prstGeom prst="rect">
            <a:avLst/>
          </a:prstGeom>
          <a:solidFill>
            <a:srgbClr val="eae8dc"/>
          </a:solidFill>
          <a:ln w="9360">
            <a:solidFill>
              <a:srgbClr val="90c226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NITIAL ASSESSMENT  MADE BY THE NURSE IN PACU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Determine swallowing , gag reflexes and level of consciousnes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Evaluate any lines ,tubes or drains, estimated blood los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Perform safety checks to verify that bedside rails are in place and restrains properly applied , as needed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Evaluate activity status , movement of extremitie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Review health care provider’s orders 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272520" cy="1932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85280" y="1110960"/>
            <a:ext cx="4372200" cy="373212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 fontScale="97000"/>
          </a:bodyPr>
          <a:p>
            <a:pPr marL="387720" indent="-38772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87720" indent="-38772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404040"/>
                </a:solidFill>
                <a:uFillTx/>
                <a:latin typeface="Trebuchet MS"/>
              </a:rPr>
              <a:t>Managing a patent Airway 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87720" indent="-38772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llow metal , rubber , or plastic air way to remain in place until the patient begins to waken and trying to eject it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87720" indent="-38772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spirate excessive secretions when they are heard 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87720" indent="-38772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87720" indent="-38772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87720" indent="-38772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87720" indent="-38772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Content Placeholder 2"/>
          <p:cNvSpPr/>
          <p:nvPr/>
        </p:nvSpPr>
        <p:spPr>
          <a:xfrm>
            <a:off x="5681520" y="1111320"/>
            <a:ext cx="5672160" cy="488952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roman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 u="sng">
                <a:solidFill>
                  <a:srgbClr val="404040"/>
                </a:solidFill>
                <a:uFillTx/>
                <a:latin typeface="Trebuchet MS"/>
              </a:rPr>
              <a:t>Maintain adequate respiratory function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Place the patient in the lateral position with neck extended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ncourage patient to take deep breath to aerate lung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uscultate the lung to detect any abnormal lung sounds &amp; air entry and air exit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ssess patient’s consciousness because any alteration in consciousness may indicate impaired oxygen delivery to tissues and brain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dminister humidifiers oxygen if requested 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>
            <a:off x="358920" y="4843440"/>
            <a:ext cx="50418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272520" cy="6890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599760" y="914400"/>
            <a:ext cx="5329080" cy="588312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Trebuchet MS"/>
              </a:rPr>
              <a:t>III. Assessing status of circulatory system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ake vital signs per protocol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Monitor Intake &amp; Out Put closely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404040"/>
                </a:solidFill>
                <a:uFillTx/>
                <a:latin typeface="Trebuchet MS"/>
              </a:rPr>
              <a:t>Recognize early signs of shock or hemorrhage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cool extremities  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Lowering blood pressur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decrease urine output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Narrowing pulse pressur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low capillary refill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creased heart rat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2"/>
          <a:stretch/>
        </p:blipFill>
        <p:spPr>
          <a:xfrm>
            <a:off x="5783400" y="5114880"/>
            <a:ext cx="4952880" cy="1438200"/>
          </a:xfrm>
          <a:prstGeom prst="rect">
            <a:avLst/>
          </a:prstGeom>
          <a:ln w="0">
            <a:noFill/>
          </a:ln>
        </p:spPr>
      </p:pic>
      <p:sp>
        <p:nvSpPr>
          <p:cNvPr id="289" name="Rounded Rectangle 4"/>
          <p:cNvSpPr/>
          <p:nvPr/>
        </p:nvSpPr>
        <p:spPr>
          <a:xfrm>
            <a:off x="9701280" y="6134040"/>
            <a:ext cx="1673280" cy="541440"/>
          </a:xfrm>
          <a:prstGeom prst="roundRect">
            <a:avLst>
              <a:gd name="adj" fmla="val 16667"/>
            </a:avLst>
          </a:prstGeom>
          <a:solidFill>
            <a:srgbClr val="eae8dc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911d"/>
                </a:solidFill>
                <a:latin typeface="Trebuchet MS"/>
              </a:rPr>
              <a:t>Shock Position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850080" y="1413000"/>
            <a:ext cx="5175360" cy="3753000"/>
          </a:xfrm>
          <a:prstGeom prst="rect">
            <a:avLst/>
          </a:prstGeom>
          <a:solidFill>
            <a:srgbClr val="eae8dc"/>
          </a:solidFill>
          <a:ln w="936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7819"/>
                </a:solidFill>
                <a:latin typeface="Trebuchet MS"/>
              </a:rPr>
              <a:t>N.B.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i="1" lang="en-US" sz="2000" spc="-1" strike="noStrike" u="sng">
                <a:solidFill>
                  <a:srgbClr val="404040"/>
                </a:solidFill>
                <a:uFillTx/>
                <a:latin typeface="Trebuchet MS"/>
              </a:rPr>
              <a:t>Nursing intervention in case of shock 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Initiate oxygen therapy to increase oxygen availability from the circulating blood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Increase parenteral fluid infusion as prescribed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Place the patient in shock position with feet elevated unless it is contraindicated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1" descr=""/>
          <p:cNvPicPr/>
          <p:nvPr/>
        </p:nvPicPr>
        <p:blipFill>
          <a:blip r:embed="rId1"/>
          <a:stretch/>
        </p:blipFill>
        <p:spPr>
          <a:xfrm>
            <a:off x="79200" y="0"/>
            <a:ext cx="9193320" cy="8478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198000" y="1122480"/>
            <a:ext cx="5659560" cy="5478480"/>
          </a:xfrm>
          <a:prstGeom prst="rect">
            <a:avLst/>
          </a:prstGeom>
          <a:solidFill>
            <a:srgbClr val="eae8dc"/>
          </a:solidFill>
          <a:ln w="9360">
            <a:solidFill>
              <a:srgbClr val="90c226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404040"/>
                </a:solidFill>
                <a:uFillTx/>
                <a:latin typeface="Trebuchet MS"/>
              </a:rPr>
              <a:t>IV - Assessing thermoregulatory statu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Monitor temperature hourly to be alert for malignant hyperthermi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emperature over 37.7 ºc or under 36.1 ºc must be reported 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Monitor for postanesthesia shivering (PAS). It  occurs 30-45 minutes after admission to PACU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Provide  therapeutic environment with proper temperature and humidity 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Content Placeholder 2"/>
          <p:cNvSpPr/>
          <p:nvPr/>
        </p:nvSpPr>
        <p:spPr>
          <a:xfrm>
            <a:off x="6543720" y="1003320"/>
            <a:ext cx="5124240" cy="5478480"/>
          </a:xfrm>
          <a:prstGeom prst="rect">
            <a:avLst/>
          </a:prstGeom>
          <a:solidFill>
            <a:srgbClr val="eae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404040"/>
                </a:solidFill>
                <a:uFillTx/>
                <a:latin typeface="Trebuchet MS"/>
              </a:rPr>
              <a:t>V - Maintain adequate fluid volume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dminister IV solutions as ordered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Monitor electrolytes balanc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Evaluate mental status , skin color , &amp; body temperatur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Monitor fluid imbalanc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Monitor I &amp; O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le 1" descr=""/>
          <p:cNvPicPr/>
          <p:nvPr/>
        </p:nvPicPr>
        <p:blipFill>
          <a:blip r:embed="rId1"/>
          <a:stretch/>
        </p:blipFill>
        <p:spPr>
          <a:xfrm>
            <a:off x="128520" y="-6048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275760" y="966600"/>
            <a:ext cx="8998200" cy="552924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3f7819"/>
                </a:solidFill>
                <a:uFillTx/>
                <a:latin typeface="Trebuchet MS"/>
              </a:rPr>
              <a:t>Promote comfort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sess pai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dminister analgesic as order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osition the patient to maximum comfor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3f7819"/>
                </a:solidFill>
                <a:uFillTx/>
                <a:latin typeface="Trebuchet MS"/>
              </a:rPr>
              <a:t>Minimize complications &amp; skin impairment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f7819"/>
                </a:solidFill>
                <a:latin typeface="Trebuchet MS"/>
              </a:rPr>
              <a:t>Perform hand washing before patient’s car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f7819"/>
                </a:solidFill>
                <a:latin typeface="Trebuchet MS"/>
              </a:rPr>
              <a:t>Inspect dressing dail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f7819"/>
                </a:solidFill>
                <a:latin typeface="Trebuchet MS"/>
              </a:rPr>
              <a:t>Record amount &amp; type of wound discharg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f7819"/>
                </a:solidFill>
                <a:latin typeface="Trebuchet MS"/>
              </a:rPr>
              <a:t>Turn the patient frequentl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3f7819"/>
                </a:solidFill>
                <a:uFillTx/>
                <a:latin typeface="Trebuchet MS"/>
              </a:rPr>
              <a:t>Maintain safety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3f7819"/>
                </a:solidFill>
                <a:latin typeface="Trebuchet MS"/>
              </a:rPr>
              <a:t>Minimize stress factor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74320" cy="10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ransferring the patient from PACU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73000" y="1180800"/>
            <a:ext cx="9058320" cy="530532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3f7819"/>
                </a:solidFill>
                <a:uFillTx/>
                <a:latin typeface="Trebuchet MS"/>
              </a:rPr>
              <a:t>The patient will be transferred from th PACU depending on the following criteria :( transferre criteria 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f7819"/>
                </a:solidFill>
                <a:latin typeface="Trebuchet MS"/>
              </a:rPr>
              <a:t>Uncompromised cardiopulmonary statu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f7819"/>
                </a:solidFill>
                <a:latin typeface="Trebuchet MS"/>
              </a:rPr>
              <a:t>Stable vital sign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f7819"/>
                </a:solidFill>
                <a:latin typeface="Trebuchet MS"/>
              </a:rPr>
              <a:t>Adequate urine output (at least 30ml/ hour 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f7819"/>
                </a:solidFill>
                <a:latin typeface="Trebuchet MS"/>
              </a:rPr>
              <a:t>Oriented to person , place and tim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f7819"/>
                </a:solidFill>
                <a:latin typeface="Trebuchet MS"/>
              </a:rPr>
              <a:t>Satisfactory response to command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f7819"/>
                </a:solidFill>
                <a:latin typeface="Trebuchet MS"/>
              </a:rPr>
              <a:t>Movement of extremities after regional anesthesi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f7819"/>
                </a:solidFill>
                <a:latin typeface="Trebuchet MS"/>
              </a:rPr>
              <a:t>Pain controlled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f7819"/>
                </a:solidFill>
                <a:latin typeface="Trebuchet MS"/>
              </a:rPr>
              <a:t>Control or absence of vomiting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Ques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103040" y="2052360"/>
            <a:ext cx="5167080" cy="419580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ell whether the following statement is true or false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most important nursing intervention when vomiting occurs postoperatively is to turn the patient’s head to prevent aspiration of vomitus into the lung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6958080" y="1852560"/>
            <a:ext cx="4159080" cy="302004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ru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ationale: The most important nursing intervention when vomiting occurs postoperatively is to turn the patient’s head to prevent aspiration of vomitus into the lung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Postoperative discomfort 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Nausea &amp; vomiting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Thirst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Constipation &amp; gas cramp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Postoperative pain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Postoperative complication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77880" y="1414440"/>
            <a:ext cx="895176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404040"/>
                </a:solidFill>
                <a:uFillTx/>
                <a:latin typeface="Trebuchet MS"/>
              </a:rPr>
              <a:t>Shock 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hock is a response of the body to a decrease in the circulating volume of blood , tissue perfusion is impaired cellular hypoxia and death can result if untreated 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404040"/>
                </a:solidFill>
                <a:uFillTx/>
                <a:latin typeface="Trebuchet MS"/>
              </a:rPr>
              <a:t>Hemorrhage 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s copious escape of blood from a blood vessels , It may be 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imary :  at the time of operatio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termediary : occurs within the first few hours of operatio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ary :  occurs sometime after surgery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Postoperative complication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77880" y="1509480"/>
            <a:ext cx="7323120" cy="457668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404040"/>
                </a:solidFill>
                <a:uFillTx/>
                <a:latin typeface="Trebuchet MS"/>
              </a:rPr>
              <a:t>Deep vein thrombosis (DVT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Occurs in pelvic veins or in deep vein of the lower limbs in postoperative patient , It can occur as a result of injury to intimal layer of the vein wall , or venous stasis 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404040"/>
                </a:solidFill>
                <a:uFillTx/>
                <a:latin typeface="Trebuchet MS"/>
              </a:rPr>
              <a:t>Pulmonary complications 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1- atelectasi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2- aspiratio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3- pneumonia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7" name="Picture 1" descr=""/>
          <p:cNvPicPr/>
          <p:nvPr/>
        </p:nvPicPr>
        <p:blipFill>
          <a:blip r:embed="rId1"/>
          <a:stretch/>
        </p:blipFill>
        <p:spPr>
          <a:xfrm>
            <a:off x="8158320" y="399960"/>
            <a:ext cx="3600360" cy="5686560"/>
          </a:xfrm>
          <a:prstGeom prst="rect">
            <a:avLst/>
          </a:prstGeom>
          <a:ln w="28440">
            <a:solidFill>
              <a:srgbClr val="90c2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858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677520" y="1336680"/>
            <a:ext cx="8596440" cy="439272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erioperative nursing is a term used to describe the nursing care provided in the total surgical experiences of the patient . It include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6c911d"/>
                </a:solidFill>
                <a:latin typeface="Trebuchet MS"/>
              </a:rPr>
              <a:t>Preoperative phase </a:t>
            </a:r>
            <a:r>
              <a:rPr b="1" lang="en-US" sz="2000" spc="-1" strike="noStrike">
                <a:solidFill>
                  <a:srgbClr val="6c911d"/>
                </a:solidFill>
                <a:latin typeface="Trebuchet MS"/>
              </a:rPr>
              <a:t>: 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begins with the time the decision is made for surgical intervention to the transfer of the patient to the operating room 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6c911d"/>
                </a:solidFill>
                <a:latin typeface="Trebuchet MS"/>
              </a:rPr>
              <a:t>Intraoperative phase 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: started from the time the patient is received in the operating room till admitted to recovery room 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6c911d"/>
                </a:solidFill>
                <a:latin typeface="Trebuchet MS"/>
              </a:rPr>
              <a:t>Postoperative phase </a:t>
            </a:r>
            <a:r>
              <a:rPr b="1" lang="en-US" sz="2000" spc="-1" strike="noStrike">
                <a:solidFill>
                  <a:srgbClr val="6c911d"/>
                </a:solidFill>
                <a:latin typeface="Trebuchet MS"/>
              </a:rPr>
              <a:t>: 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from the time of admission to the recovery room to the follow up home /clinic evaluatio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Postoperative complication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77880" y="1509480"/>
            <a:ext cx="7323120" cy="474804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 u="sng">
                <a:solidFill>
                  <a:srgbClr val="404040"/>
                </a:solidFill>
                <a:uFillTx/>
                <a:latin typeface="Trebuchet MS"/>
              </a:rPr>
              <a:t>Pulmonary embolism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Is caused by the obstruction of one or more pulmonary arterioles by an embolus originating somewhere in the venous system or in the right side of the heart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Urinary retentio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testinal obstructio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Hiccups : are intermittent spasm of the diaphragm causing the sound (hic ) the results from the vibration of closed vocal cords as air rushes suddenly into the lung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Wound infectio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8335800" y="1081080"/>
            <a:ext cx="3357720" cy="54910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4"/>
          <p:cNvSpPr/>
          <p:nvPr/>
        </p:nvSpPr>
        <p:spPr>
          <a:xfrm>
            <a:off x="8218080" y="609480"/>
            <a:ext cx="2723760" cy="36828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Pulmonary embolism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" descr=""/>
          <p:cNvPicPr/>
          <p:nvPr/>
        </p:nvPicPr>
        <p:blipFill>
          <a:blip r:embed="rId1"/>
          <a:stretch/>
        </p:blipFill>
        <p:spPr>
          <a:xfrm>
            <a:off x="1932120" y="3352680"/>
            <a:ext cx="7850160" cy="30862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Postoperative complication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004480" y="1432080"/>
            <a:ext cx="67294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Wound dehiscence / evisceration 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commonly occurs between 5</a:t>
            </a:r>
            <a:r>
              <a:rPr b="1" lang="en-US" sz="2000" spc="-1" strike="noStrike" baseline="30000">
                <a:solidFill>
                  <a:srgbClr val="404040"/>
                </a:solidFill>
                <a:latin typeface="Trebuchet MS"/>
              </a:rPr>
              <a:t>th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and 8</a:t>
            </a:r>
            <a:r>
              <a:rPr b="1" lang="en-US" sz="2000" spc="-1" strike="noStrike" baseline="30000">
                <a:solidFill>
                  <a:srgbClr val="404040"/>
                </a:solidFill>
                <a:latin typeface="Trebuchet MS"/>
              </a:rPr>
              <a:t>th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day of operation when the incision has weakest strength , the highest strength is found between the 1</a:t>
            </a:r>
            <a:r>
              <a:rPr b="1" lang="en-US" sz="2000" spc="-1" strike="noStrike" baseline="30000">
                <a:solidFill>
                  <a:srgbClr val="404040"/>
                </a:solidFill>
                <a:latin typeface="Trebuchet MS"/>
              </a:rPr>
              <a:t>st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&amp; 3</a:t>
            </a:r>
            <a:r>
              <a:rPr b="1" lang="en-US" sz="2000" spc="-1" strike="noStrike" baseline="30000">
                <a:solidFill>
                  <a:srgbClr val="404040"/>
                </a:solidFill>
                <a:latin typeface="Trebuchet MS"/>
              </a:rPr>
              <a:t>rd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postoperative da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Rounded Rectangle 4"/>
          <p:cNvSpPr/>
          <p:nvPr/>
        </p:nvSpPr>
        <p:spPr>
          <a:xfrm>
            <a:off x="2371680" y="6060960"/>
            <a:ext cx="2544840" cy="67176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ound dehiscence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16" name="Straight Arrow Connector 6"/>
          <p:cNvCxnSpPr>
            <a:stCxn id="315" idx="3"/>
          </p:cNvCxnSpPr>
          <p:nvPr/>
        </p:nvCxnSpPr>
        <p:spPr>
          <a:xfrm>
            <a:off x="4916160" y="6395760"/>
            <a:ext cx="756360" cy="122400"/>
          </a:xfrm>
          <a:prstGeom prst="straightConnector1">
            <a:avLst/>
          </a:prstGeom>
          <a:ln cap="rnd" w="12600">
            <a:solidFill>
              <a:srgbClr val="90c226"/>
            </a:solidFill>
            <a:miter/>
            <a:tailEnd len="med" type="triangle" w="med"/>
          </a:ln>
        </p:spPr>
      </p:cxnSp>
      <p:sp>
        <p:nvSpPr>
          <p:cNvPr id="317" name="Rounded Rectangle 10"/>
          <p:cNvSpPr/>
          <p:nvPr/>
        </p:nvSpPr>
        <p:spPr>
          <a:xfrm>
            <a:off x="6556320" y="5997600"/>
            <a:ext cx="2544840" cy="6714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Eviscer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Diagno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ctivity intoleranc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Impaired skin integrit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Ineffective thermoregulatio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isk for imbalanced nutritio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isk for constipatio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isk for urinary retentio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isk for injur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nxiet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isk for ineffective management or therapeutic regi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21" name="Content Placeholder 3" descr=""/>
          <p:cNvPicPr/>
          <p:nvPr/>
        </p:nvPicPr>
        <p:blipFill>
          <a:blip r:embed="rId1"/>
          <a:stretch/>
        </p:blipFill>
        <p:spPr>
          <a:xfrm>
            <a:off x="474840" y="-60480"/>
            <a:ext cx="843588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890640"/>
          </a:xfrm>
          <a:prstGeom prst="rect">
            <a:avLst/>
          </a:prstGeom>
          <a:ln w="0">
            <a:noFill/>
          </a:ln>
        </p:spPr>
      </p:pic>
      <p:pic>
        <p:nvPicPr>
          <p:cNvPr id="222" name="Content Placeholder 2" descr=""/>
          <p:cNvPicPr/>
          <p:nvPr/>
        </p:nvPicPr>
        <p:blipFill>
          <a:blip r:embed="rId2"/>
          <a:stretch/>
        </p:blipFill>
        <p:spPr>
          <a:xfrm>
            <a:off x="1073160" y="1523880"/>
            <a:ext cx="82962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901800"/>
          </a:xfrm>
          <a:prstGeom prst="rect">
            <a:avLst/>
          </a:prstGeom>
          <a:ln w="0">
            <a:noFill/>
          </a:ln>
        </p:spPr>
      </p:pic>
      <p:pic>
        <p:nvPicPr>
          <p:cNvPr id="224" name="Content Placeholder 2" descr=""/>
          <p:cNvPicPr/>
          <p:nvPr/>
        </p:nvPicPr>
        <p:blipFill>
          <a:blip r:embed="rId2"/>
          <a:stretch/>
        </p:blipFill>
        <p:spPr>
          <a:xfrm>
            <a:off x="1603440" y="1468440"/>
            <a:ext cx="835164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822600"/>
          </a:xfrm>
          <a:prstGeom prst="rect">
            <a:avLst/>
          </a:prstGeom>
          <a:ln w="0">
            <a:noFill/>
          </a:ln>
        </p:spPr>
      </p:pic>
      <p:pic>
        <p:nvPicPr>
          <p:cNvPr id="226" name="Content Placeholder 2" descr=""/>
          <p:cNvPicPr/>
          <p:nvPr/>
        </p:nvPicPr>
        <p:blipFill>
          <a:blip r:embed="rId2"/>
          <a:stretch/>
        </p:blipFill>
        <p:spPr>
          <a:xfrm>
            <a:off x="1060560" y="1463760"/>
            <a:ext cx="90342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743040"/>
          </a:xfrm>
          <a:prstGeom prst="rect">
            <a:avLst/>
          </a:prstGeom>
          <a:ln w="0">
            <a:noFill/>
          </a:ln>
        </p:spPr>
      </p:pic>
      <p:pic>
        <p:nvPicPr>
          <p:cNvPr id="228" name="Content Placeholder 2" descr=""/>
          <p:cNvPicPr/>
          <p:nvPr/>
        </p:nvPicPr>
        <p:blipFill>
          <a:blip r:embed="rId2"/>
          <a:stretch/>
        </p:blipFill>
        <p:spPr>
          <a:xfrm>
            <a:off x="665280" y="1352520"/>
            <a:ext cx="8607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676440" y="609480"/>
            <a:ext cx="8596080" cy="1322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rebuchet MS"/>
              </a:rPr>
              <a:t>Informed consent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rebuchet MS"/>
              </a:rPr>
              <a:t>Preoperative patient educati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rebuchet MS"/>
              </a:rPr>
              <a:t>Patient’s preparation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rebuchet MS"/>
              </a:rPr>
              <a:t>Preoperative medication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rebuchet MS"/>
              </a:rPr>
              <a:t>Transferring the patient to surgery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9T08:02:49Z</dcterms:created>
  <dc:creator>OmaR sherif</dc:creator>
  <dc:description/>
  <dc:language>en-US</dc:language>
  <cp:lastModifiedBy>IRENE ROCO</cp:lastModifiedBy>
  <dcterms:modified xsi:type="dcterms:W3CDTF">2016-10-10T21:37:20Z</dcterms:modified>
  <cp:revision>69</cp:revision>
  <dc:subject/>
  <dc:title>Periooperaive care</dc:title>
</cp:coreProperties>
</file>