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6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2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1BF7-C007-461B-9D38-764B5B285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8BC4-67BA-4A6F-A7AC-80BFD6E5D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3E2E-5A4F-4180-A4F9-4D7179FCB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EA9D-02E5-4C88-9A40-A057A41EF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9D946-5B0E-4303-92E9-A4D80CDDD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DB155-F567-44F2-BC46-A97EF61D1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570EC-3C5C-4482-8A9D-7088F2BC3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56F61-06D6-43CC-B391-23EEB460B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C49D3-9F1A-481C-A826-CAF9AD369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A1B42-A9AC-4AC9-9775-C72DDA061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FBAA4-C46A-4CB7-BE1E-721AE9514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64CE-4CD1-42BE-B31D-882A5B76F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3DC12-EFF0-4880-8F5B-75BFB02C7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80B7B-433E-4B1E-AD49-D887E6F12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44BEB-D686-4041-AF1F-128ED4996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D32CF-FAD8-44E4-8C9E-B75E660A9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A6CCF-147E-455D-BC4A-D24197D9D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471D4-720D-40B4-9702-0F77A863C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2F6F2-B5F9-43F7-83B6-7015006F9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28D72-9A3D-42B7-ABDE-659E57A09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A89A5-6047-461D-B5F2-C4CA4A57E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2E424-DE42-453C-A9A2-74E3C0EA3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8FAE-54D1-452F-934E-B03FD42EE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0E2D1-B8C3-4AD9-9C30-F87A674B9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CC615-FA7F-4493-A0C6-88F94080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3B8F9-86FB-480D-9828-45D69C5B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3B8B8-A5F4-4AEA-B1F3-54846E322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6B15E-FE38-4557-967A-CF1BD8F9D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5F5AA-0D70-4C01-AD8C-4DB8C083E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9B368-29AF-4842-A132-EE632088D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D09F3-C86F-48C4-9533-8A6872CC2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4932C-33AA-4A80-ADBC-6E5CE1D28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3CB50-CECE-4F7A-8FD7-B1870EFAF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E468-55E9-4FF4-BB88-5C5CBDE7B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AD684-CA48-472C-B12D-CEE39794C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2E145-C893-4407-BEBE-68EA4B7BD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F3C5B-6071-49F0-A034-BA90662F8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B0A9F-A6B7-4363-B67F-30D9713C9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BC671-4060-4393-898B-BD0723F17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86AA2-8C94-4441-8644-42AC4652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8BE40-D233-4B1F-B33E-518A881E1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BDF2E-7C6A-46A2-9C68-2075D9B06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252D9-81D9-41F8-A9F0-74943B873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8093-1A4E-4663-85ED-F8C886412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0AD4-5A5C-4444-BA90-DBC4137A5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7144-B5B0-4B9E-8B4D-1865B980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1BF0-9CD1-4470-AD54-36300DF2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B678-B0C4-43D0-8CCB-AC6A9F64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3E92C-1D6D-4272-B0EF-55DAF519B172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7"/>
          <p:cNvGrpSpPr/>
          <p:nvPr/>
        </p:nvGrpSpPr>
        <p:grpSpPr>
          <a:xfrm>
            <a:off x="-360" y="-7920"/>
            <a:ext cx="12192480" cy="6865920"/>
            <a:chOff x="-360" y="-7920"/>
            <a:chExt cx="12192480" cy="6865920"/>
          </a:xfrm>
        </p:grpSpPr>
        <p:sp>
          <p:nvSpPr>
            <p:cNvPr id="53" name="Straight Connector 18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9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Isosceles Triangle 32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Isosceles Triangle 36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Isosceles Triangle 37"/>
            <p:cNvSpPr/>
            <p:nvPr/>
          </p:nvSpPr>
          <p:spPr>
            <a:xfrm rot="10800000">
              <a:off x="0" y="-360"/>
              <a:ext cx="842760" cy="566604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3ECC7-1003-4A7A-AA94-92C5F917C6EA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AC4B6-32BC-4128-9445-BDAF13B57A4D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9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8D167-F9BA-41E4-B250-D59CBC6D4A0F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Title 1" descr=""/>
          <p:cNvPicPr/>
          <p:nvPr/>
        </p:nvPicPr>
        <p:blipFill>
          <a:blip r:embed="rId1"/>
          <a:stretch/>
        </p:blipFill>
        <p:spPr>
          <a:xfrm>
            <a:off x="1500120" y="3676680"/>
            <a:ext cx="7783560" cy="98748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506240" y="4651200"/>
            <a:ext cx="7767720" cy="10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900" spc="-1" strike="noStrike">
                <a:solidFill>
                  <a:srgbClr val="3f7819"/>
                </a:solidFill>
                <a:latin typeface="Trebuchet MS"/>
              </a:rPr>
              <a:t>Dr. Essmat Mansour/ DR. IRENE ROCO </a:t>
            </a:r>
            <a:endParaRPr b="0" lang="en-US" sz="29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4" name="Picture 3" descr=""/>
          <p:cNvPicPr/>
          <p:nvPr/>
        </p:nvPicPr>
        <p:blipFill>
          <a:blip r:embed="rId2"/>
          <a:stretch/>
        </p:blipFill>
        <p:spPr>
          <a:xfrm>
            <a:off x="1506600" y="257040"/>
            <a:ext cx="776772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Title 1" descr=""/>
          <p:cNvPicPr/>
          <p:nvPr/>
        </p:nvPicPr>
        <p:blipFill>
          <a:blip r:embed="rId1"/>
          <a:stretch/>
        </p:blipFill>
        <p:spPr>
          <a:xfrm>
            <a:off x="676440" y="609480"/>
            <a:ext cx="8596080" cy="1322640"/>
          </a:xfrm>
          <a:prstGeom prst="rect">
            <a:avLst/>
          </a:prstGeom>
          <a:ln w="0">
            <a:noFill/>
          </a:ln>
        </p:spPr>
      </p:pic>
      <p:pic>
        <p:nvPicPr>
          <p:cNvPr id="232" name="Content Placeholder 2" descr=""/>
          <p:cNvPicPr/>
          <p:nvPr/>
        </p:nvPicPr>
        <p:blipFill>
          <a:blip r:embed="rId2"/>
          <a:stretch/>
        </p:blipFill>
        <p:spPr>
          <a:xfrm>
            <a:off x="615960" y="1279440"/>
            <a:ext cx="8777160" cy="47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1" descr=""/>
          <p:cNvPicPr/>
          <p:nvPr/>
        </p:nvPicPr>
        <p:blipFill>
          <a:blip r:embed="rId1"/>
          <a:stretch/>
        </p:blipFill>
        <p:spPr>
          <a:xfrm>
            <a:off x="676440" y="609480"/>
            <a:ext cx="8596080" cy="13226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677520" y="1517760"/>
            <a:ext cx="8596440" cy="5340240"/>
          </a:xfrm>
          <a:prstGeom prst="rect">
            <a:avLst/>
          </a:prstGeom>
          <a:solidFill>
            <a:srgbClr val="eae8d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Is a vital component of the surgical experience , it may be offered through conversation , discussion , the use of audiovisual materials , demonstration and re-demonstration 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It may be initiated before hospitalization to minimize anxiety , promote full recovery and decrease postoperative complications and discomfort 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The preoperative nurse can assess the patient’s knowledge base and use this information in developing a plan for an uneventful perioperative period 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Title 1" descr=""/>
          <p:cNvPicPr/>
          <p:nvPr/>
        </p:nvPicPr>
        <p:blipFill>
          <a:blip r:embed="rId1"/>
          <a:stretch/>
        </p:blipFill>
        <p:spPr>
          <a:xfrm>
            <a:off x="676440" y="609480"/>
            <a:ext cx="8596080" cy="1322640"/>
          </a:xfrm>
          <a:prstGeom prst="rect">
            <a:avLst/>
          </a:prstGeom>
          <a:ln w="0">
            <a:noFill/>
          </a:ln>
        </p:spPr>
      </p:pic>
      <p:pic>
        <p:nvPicPr>
          <p:cNvPr id="236" name="Content Placeholder 2" descr=""/>
          <p:cNvPicPr/>
          <p:nvPr/>
        </p:nvPicPr>
        <p:blipFill>
          <a:blip r:embed="rId2"/>
          <a:stretch/>
        </p:blipFill>
        <p:spPr>
          <a:xfrm>
            <a:off x="628560" y="2157480"/>
            <a:ext cx="8643960" cy="38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Title 1" descr=""/>
          <p:cNvPicPr/>
          <p:nvPr/>
        </p:nvPicPr>
        <p:blipFill>
          <a:blip r:embed="rId1"/>
          <a:stretch/>
        </p:blipFill>
        <p:spPr>
          <a:xfrm>
            <a:off x="676440" y="609480"/>
            <a:ext cx="8596080" cy="1322640"/>
          </a:xfrm>
          <a:prstGeom prst="rect">
            <a:avLst/>
          </a:prstGeom>
          <a:ln w="0">
            <a:noFill/>
          </a:ln>
        </p:spPr>
      </p:pic>
      <p:sp>
        <p:nvSpPr>
          <p:cNvPr id="238" name="Content Placeholder 2"/>
          <p:cNvSpPr/>
          <p:nvPr/>
        </p:nvSpPr>
        <p:spPr>
          <a:xfrm>
            <a:off x="1600200" y="2249640"/>
            <a:ext cx="6386400" cy="3881160"/>
          </a:xfrm>
          <a:prstGeom prst="rect">
            <a:avLst/>
          </a:prstGeom>
          <a:solidFill>
            <a:srgbClr val="eae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Diaphragmatic breathin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Coughin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Leg exercis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urning to sid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Getting out of be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Title 1" descr=""/>
          <p:cNvPicPr/>
          <p:nvPr/>
        </p:nvPicPr>
        <p:blipFill>
          <a:blip r:embed="rId1"/>
          <a:stretch/>
        </p:blipFill>
        <p:spPr>
          <a:xfrm>
            <a:off x="676440" y="609480"/>
            <a:ext cx="8596080" cy="1322640"/>
          </a:xfrm>
          <a:prstGeom prst="rect">
            <a:avLst/>
          </a:prstGeom>
          <a:ln w="0">
            <a:noFill/>
          </a:ln>
        </p:spPr>
      </p:pic>
      <p:pic>
        <p:nvPicPr>
          <p:cNvPr id="240" name="Content Placeholder 2" descr=""/>
          <p:cNvPicPr/>
          <p:nvPr/>
        </p:nvPicPr>
        <p:blipFill>
          <a:blip r:embed="rId2"/>
          <a:stretch/>
        </p:blipFill>
        <p:spPr>
          <a:xfrm>
            <a:off x="652320" y="1749600"/>
            <a:ext cx="8624880" cy="51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Title 1" descr=""/>
          <p:cNvPicPr/>
          <p:nvPr/>
        </p:nvPicPr>
        <p:blipFill>
          <a:blip r:embed="rId1"/>
          <a:stretch/>
        </p:blipFill>
        <p:spPr>
          <a:xfrm>
            <a:off x="676440" y="609480"/>
            <a:ext cx="8596080" cy="13226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677520" y="1569960"/>
            <a:ext cx="8596440" cy="4471920"/>
          </a:xfrm>
          <a:prstGeom prst="rect">
            <a:avLst/>
          </a:prstGeom>
          <a:solidFill>
            <a:srgbClr val="eae8dc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4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700" spc="-1" strike="noStrike">
                <a:solidFill>
                  <a:srgbClr val="404040"/>
                </a:solidFill>
                <a:latin typeface="Trebuchet MS"/>
              </a:rPr>
              <a:t>Preparation of the bowel is imperative for intestinal surgery because escaping bacteria can invade adjacent tissue and cause sepsis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14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700" spc="-1" strike="noStrike">
                <a:solidFill>
                  <a:srgbClr val="404040"/>
                </a:solidFill>
                <a:latin typeface="Trebuchet MS"/>
              </a:rPr>
              <a:t>Cathartics and enema remove gross collection of stool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14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700" spc="-1" strike="noStrike">
                <a:solidFill>
                  <a:srgbClr val="404040"/>
                </a:solidFill>
                <a:latin typeface="Trebuchet MS"/>
              </a:rPr>
              <a:t>Oral antimicrobial agents (neomycin ) suppress the colon’s potent microflora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14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700" spc="-1" strike="noStrike">
                <a:solidFill>
                  <a:srgbClr val="404040"/>
                </a:solidFill>
                <a:latin typeface="Trebuchet MS"/>
              </a:rPr>
              <a:t>Enema until clear are prescribed the evening the night before surgery .No more than 3 enemas should be given because of the adverse effect of fluid &amp;electrolytes disturbances 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14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700" spc="-1" strike="noStrike">
                <a:solidFill>
                  <a:srgbClr val="404040"/>
                </a:solidFill>
                <a:latin typeface="Trebuchet MS"/>
              </a:rPr>
              <a:t>DIET:  Solid food is withheld from the patient for 6 hours before surgery . Patient having morning surgery is kept NPO overnight . Water can be given 4 hours before surgery to help the patient swallow medications if ordered 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Title 1" descr=""/>
          <p:cNvPicPr/>
          <p:nvPr/>
        </p:nvPicPr>
        <p:blipFill>
          <a:blip r:embed="rId1"/>
          <a:stretch/>
        </p:blipFill>
        <p:spPr>
          <a:xfrm>
            <a:off x="676440" y="609480"/>
            <a:ext cx="8596080" cy="132264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A medicated douche may be prescribed preoperatively if the patient is to have a gynecologic or urologic operations 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Title 1" descr=""/>
          <p:cNvPicPr/>
          <p:nvPr/>
        </p:nvPicPr>
        <p:blipFill>
          <a:blip r:embed="rId1"/>
          <a:stretch/>
        </p:blipFill>
        <p:spPr>
          <a:xfrm>
            <a:off x="676440" y="609480"/>
            <a:ext cx="8596080" cy="1322640"/>
          </a:xfrm>
          <a:prstGeom prst="rect">
            <a:avLst/>
          </a:prstGeom>
          <a:ln w="0">
            <a:noFill/>
          </a:ln>
        </p:spPr>
      </p:pic>
      <p:pic>
        <p:nvPicPr>
          <p:cNvPr id="246" name="Content Placeholder 2" descr=""/>
          <p:cNvPicPr/>
          <p:nvPr/>
        </p:nvPicPr>
        <p:blipFill>
          <a:blip r:embed="rId2"/>
          <a:stretch/>
        </p:blipFill>
        <p:spPr>
          <a:xfrm>
            <a:off x="781200" y="1573200"/>
            <a:ext cx="4748040" cy="4840200"/>
          </a:xfrm>
          <a:prstGeom prst="rect">
            <a:avLst/>
          </a:prstGeom>
          <a:ln w="0">
            <a:noFill/>
          </a:ln>
        </p:spPr>
      </p:pic>
      <p:pic>
        <p:nvPicPr>
          <p:cNvPr id="247" name="Content Placeholder 2" descr=""/>
          <p:cNvPicPr/>
          <p:nvPr/>
        </p:nvPicPr>
        <p:blipFill>
          <a:blip r:embed="rId3"/>
          <a:stretch/>
        </p:blipFill>
        <p:spPr>
          <a:xfrm>
            <a:off x="6004080" y="1573200"/>
            <a:ext cx="534672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90c226"/>
                </a:solidFill>
                <a:latin typeface="Trebuchet MS"/>
              </a:rPr>
              <a:t>Admitting the patient to surgery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77880" y="1353960"/>
            <a:ext cx="4965840" cy="5127840"/>
          </a:xfrm>
          <a:prstGeom prst="rect">
            <a:avLst/>
          </a:prstGeom>
          <a:solidFill>
            <a:srgbClr val="eae8dc"/>
          </a:solidFill>
          <a:ln w="9360">
            <a:solidFill>
              <a:srgbClr val="90c22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 u="sng">
                <a:solidFill>
                  <a:srgbClr val="404040"/>
                </a:solidFill>
                <a:uFillTx/>
                <a:latin typeface="Trebuchet MS"/>
              </a:rPr>
              <a:t>Final checklist 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The preoperative checklist is the last procedure before taking the patient to the operating room 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Most facilities have a standard form for this check 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Verification &amp; identification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Review of patient’s record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Consent form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" name="Content Placeholder 2"/>
          <p:cNvSpPr/>
          <p:nvPr/>
        </p:nvSpPr>
        <p:spPr>
          <a:xfrm>
            <a:off x="6345360" y="1471680"/>
            <a:ext cx="4965480" cy="5010120"/>
          </a:xfrm>
          <a:prstGeom prst="rect">
            <a:avLst/>
          </a:prstGeom>
          <a:solidFill>
            <a:srgbClr val="eae8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Patient’s preparedness 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NPO status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Proper attire ( hospital gown 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kin prepara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IV started with correct gauge needle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Dentures removed if present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Jewelry , contact lenses ,glasses removed and secured in locked area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Allow patient to void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Questio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103400" y="2052360"/>
            <a:ext cx="5021280" cy="4195800"/>
          </a:xfrm>
          <a:prstGeom prst="rect">
            <a:avLst/>
          </a:prstGeom>
          <a:solidFill>
            <a:srgbClr val="eae8d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ell whether the following statement is true or false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primary goal in withholding food before surgery is to prevent aspiratio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3" name="Content Placeholder 2"/>
          <p:cNvSpPr/>
          <p:nvPr/>
        </p:nvSpPr>
        <p:spPr>
          <a:xfrm>
            <a:off x="6647040" y="2052720"/>
            <a:ext cx="3403440" cy="4195800"/>
          </a:xfrm>
          <a:prstGeom prst="rect">
            <a:avLst/>
          </a:prstGeom>
          <a:solidFill>
            <a:srgbClr val="eae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rue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ationale: The primary goal in withholding food before surgery is to prevent aspiration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Title 1" descr=""/>
          <p:cNvPicPr/>
          <p:nvPr/>
        </p:nvPicPr>
        <p:blipFill>
          <a:blip r:embed="rId1"/>
          <a:stretch/>
        </p:blipFill>
        <p:spPr>
          <a:xfrm>
            <a:off x="676440" y="609480"/>
            <a:ext cx="8596080" cy="132264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 txBox="1"/>
          <p:nvPr/>
        </p:nvSpPr>
        <p:spPr>
          <a:xfrm>
            <a:off x="785520" y="1492200"/>
            <a:ext cx="8488440" cy="4780080"/>
          </a:xfrm>
          <a:prstGeom prst="rect">
            <a:avLst/>
          </a:prstGeom>
          <a:solidFill>
            <a:srgbClr val="eae8dc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404040"/>
                </a:solidFill>
                <a:latin typeface="Trebuchet MS"/>
              </a:rPr>
              <a:t>At the end of this lecture the students will be able to 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Trebuchet MS"/>
              </a:rPr>
              <a:t>Know the different types of surgeries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Trebuchet MS"/>
              </a:rPr>
              <a:t>Recognize the surgical risk factors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Trebuchet MS"/>
              </a:rPr>
              <a:t>Discuss &amp; apply the nursing roles in the different distinct phases of surgery (preoperative , intraoperative &amp; postoperative 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Trebuchet MS"/>
              </a:rPr>
              <a:t>Recognize &amp; apply concept related health teaching to be used during preoperative patient’s teaching 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Trebuchet MS"/>
              </a:rPr>
              <a:t>Discuss the pharmacological aspects of preoperative medication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Trebuchet MS"/>
              </a:rPr>
              <a:t>Predict&amp; differentiate between the postoperative discomfort and complication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Trebuchet MS"/>
              </a:rPr>
              <a:t>Formulate a comprehensive care plan to be used &amp; apply for patient undergoing surgical procedure 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71520" y="399600"/>
            <a:ext cx="5686560" cy="8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90c226"/>
                </a:solidFill>
                <a:latin typeface="Trebuchet MS"/>
              </a:rPr>
              <a:t>Intraoperative Care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223920" y="1771200"/>
            <a:ext cx="9050400" cy="3614760"/>
          </a:xfrm>
          <a:prstGeom prst="rect">
            <a:avLst/>
          </a:prstGeom>
          <a:solidFill>
            <a:srgbClr val="eae8d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Anesthesia and related complications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   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e goals of anesthesia are: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o provide analgesia ,sedation and muscle relaxation ,   appropriate for the type of operative procedur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o control the autonomic nervous system 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Members of the Surgical Team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solidFill>
            <a:srgbClr val="eae8d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Patient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Circulating nurse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Scrub role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Surgeon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Registered nurse first assistant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Anesthesiologist, anesthetist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Questio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103400" y="2052360"/>
            <a:ext cx="4324320" cy="4195800"/>
          </a:xfrm>
          <a:prstGeom prst="rect">
            <a:avLst/>
          </a:prstGeom>
          <a:solidFill>
            <a:srgbClr val="eae8d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ell whether the following statement is true or false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e circulating nurse is responsible for monitoring the surgical team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Content Placeholder 2"/>
          <p:cNvSpPr/>
          <p:nvPr/>
        </p:nvSpPr>
        <p:spPr>
          <a:xfrm>
            <a:off x="5630760" y="2052720"/>
            <a:ext cx="4419720" cy="4195800"/>
          </a:xfrm>
          <a:prstGeom prst="rect">
            <a:avLst/>
          </a:prstGeom>
          <a:solidFill>
            <a:srgbClr val="eae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rue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ationale: The circulating nurse is responsible for monitoring the surgical team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Basic Guidelines for Surgical Asepsi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854000" y="2066400"/>
            <a:ext cx="8613720" cy="4280040"/>
          </a:xfrm>
          <a:prstGeom prst="rect">
            <a:avLst/>
          </a:prstGeom>
          <a:solidFill>
            <a:srgbClr val="eae8d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All materials in contact with wound, within sterile field must be steril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Gowns sterile in front from chest to level of sterile field, sleeves from 2 inches above elbow to cuff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Only top of draped tables considered steril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uring draping, drape held well above area, placed from front to bac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Items dispensed by methods to preserve sterility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Movements of surgical team are from sterile to sterile, from unsterile to sterile only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Basic Guidelines for Surgical Asepsis (cont’d)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solidFill>
            <a:srgbClr val="eae8d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Movement around sterile field must not cause contamination of field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t least 1-foot distance from sterile field must be maintaine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When sterile barrier is breached, area is considered contaminated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Every sterile field is constantly maintained, monitored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tems of doubtful sterility considered unsteril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terile fields prepared as close as possible to time of us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274320" cy="8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90c226"/>
                </a:solidFill>
                <a:latin typeface="Trebuchet MS"/>
              </a:rPr>
              <a:t>Intraoperative Care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223920" y="1399680"/>
            <a:ext cx="6276960" cy="5457960"/>
          </a:xfrm>
          <a:prstGeom prst="rect">
            <a:avLst/>
          </a:prstGeom>
          <a:solidFill>
            <a:srgbClr val="eae8dc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404040"/>
                </a:solidFill>
                <a:latin typeface="Trebuchet MS"/>
              </a:rPr>
              <a:t>1. Conscious sedation 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Patient remain conscious with some alteration of mood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Protective reflexes remains intact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404040"/>
                </a:solidFill>
                <a:latin typeface="Trebuchet MS"/>
              </a:rPr>
              <a:t>2. Deep sedation 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Patient is sleep but easily arousal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Protective reflexes remain intact 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Produced by IV or inhaled anesthesia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7" name="Rectangle 1"/>
          <p:cNvSpPr/>
          <p:nvPr/>
        </p:nvSpPr>
        <p:spPr>
          <a:xfrm>
            <a:off x="6943680" y="2486160"/>
            <a:ext cx="4657680" cy="2288520"/>
          </a:xfrm>
          <a:prstGeom prst="rect">
            <a:avLst/>
          </a:prstGeom>
          <a:solidFill>
            <a:srgbClr val="eae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4040"/>
                </a:solidFill>
                <a:latin typeface="Trebuchet MS"/>
              </a:rPr>
              <a:t>3. General anesthesia 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buClr>
                <a:srgbClr val="40404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  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Complete loss of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      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consciousnes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buClr>
                <a:srgbClr val="40404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   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Protective reflexes are lost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buClr>
                <a:srgbClr val="40404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  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Produced by IV or inhaled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    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anesthesia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3874680" y="893880"/>
            <a:ext cx="5484240" cy="520560"/>
          </a:xfrm>
          <a:prstGeom prst="rect">
            <a:avLst/>
          </a:prstGeom>
          <a:solidFill>
            <a:srgbClr val="94de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04040"/>
                </a:solidFill>
                <a:uFillTx/>
                <a:latin typeface="Trebuchet MS"/>
              </a:rPr>
              <a:t>Common anesthetic technique 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27432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0c226"/>
                </a:solidFill>
                <a:latin typeface="Trebuchet MS"/>
              </a:rPr>
              <a:t>Intraoperative Care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283680" y="1180800"/>
            <a:ext cx="7473960" cy="5476680"/>
          </a:xfrm>
          <a:prstGeom prst="rect">
            <a:avLst/>
          </a:prstGeom>
          <a:solidFill>
            <a:srgbClr val="eae8dc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Regional Aesthesia 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Production of anesthesia in special body part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Achieved by injecting local anesthesia to appropriate nerve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Spinal anesthesia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Local anesthesia is injected into lumber intrathecal space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Anesthetics blocks conduction in spinal nerve roots , paralysis and analgesia occur below level of injection 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Epidural anesthesia 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Achieved by injecting local anesthetic into epidural space by way of a lumber puncture 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Results similar to spinal anesthesia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71" name="Picture 3" descr=""/>
          <p:cNvPicPr/>
          <p:nvPr/>
        </p:nvPicPr>
        <p:blipFill>
          <a:blip r:embed="rId1"/>
          <a:stretch/>
        </p:blipFill>
        <p:spPr>
          <a:xfrm>
            <a:off x="8042400" y="1616040"/>
            <a:ext cx="3458880" cy="474660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4"/>
          <p:cNvSpPr/>
          <p:nvPr/>
        </p:nvSpPr>
        <p:spPr>
          <a:xfrm>
            <a:off x="3874680" y="657360"/>
            <a:ext cx="5484240" cy="520560"/>
          </a:xfrm>
          <a:prstGeom prst="rect">
            <a:avLst/>
          </a:prstGeom>
          <a:solidFill>
            <a:srgbClr val="94de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04040"/>
                </a:solidFill>
                <a:uFillTx/>
                <a:latin typeface="Trebuchet MS"/>
              </a:rPr>
              <a:t>Common anesthetic technique 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Title 1" descr=""/>
          <p:cNvPicPr/>
          <p:nvPr/>
        </p:nvPicPr>
        <p:blipFill>
          <a:blip r:embed="rId1"/>
          <a:stretch/>
        </p:blipFill>
        <p:spPr>
          <a:xfrm>
            <a:off x="676440" y="609480"/>
            <a:ext cx="8596080" cy="132264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 txBox="1"/>
          <p:nvPr/>
        </p:nvSpPr>
        <p:spPr>
          <a:xfrm>
            <a:off x="677520" y="1535040"/>
            <a:ext cx="4799160" cy="5051520"/>
          </a:xfrm>
          <a:prstGeom prst="rect">
            <a:avLst/>
          </a:prstGeom>
          <a:solidFill>
            <a:srgbClr val="eae8d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Hypoventilation ----- after paralysis of respiratory system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Oral trauma -------due to difficult endotracheal intubation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Hypotension --------due to preoperative hypovolemia &amp; /or as a reaction to anesthesia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Cardiac dysrhythmia ----- preexisting CVD, F&amp;E disturbances or as a reaction to anesthesia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" name="Content Placeholder 2"/>
          <p:cNvSpPr/>
          <p:nvPr/>
        </p:nvSpPr>
        <p:spPr>
          <a:xfrm>
            <a:off x="6600960" y="1415880"/>
            <a:ext cx="4786200" cy="5322960"/>
          </a:xfrm>
          <a:prstGeom prst="rect">
            <a:avLst/>
          </a:prstGeom>
          <a:solidFill>
            <a:srgbClr val="eae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Hypothermia ------exposure to cool ambient operating room environment or loss of thermoregulation capacity as a reaction to anesthesia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Peripheral nerve damage ---- due to improper positioning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Malignant hyperthermia ---- rare reaction due to abnormal intracellular accumulation of calcium with resulting hypermetabolic &amp; muscle contraction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Title 1" descr=""/>
          <p:cNvPicPr/>
          <p:nvPr/>
        </p:nvPicPr>
        <p:blipFill>
          <a:blip r:embed="rId1"/>
          <a:stretch/>
        </p:blipFill>
        <p:spPr>
          <a:xfrm>
            <a:off x="695160" y="96840"/>
            <a:ext cx="8595000" cy="8240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 txBox="1"/>
          <p:nvPr/>
        </p:nvSpPr>
        <p:spPr>
          <a:xfrm>
            <a:off x="266760" y="1000080"/>
            <a:ext cx="9455040" cy="5857920"/>
          </a:xfrm>
          <a:prstGeom prst="rect">
            <a:avLst/>
          </a:prstGeom>
          <a:solidFill>
            <a:srgbClr val="eae8d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To ensure continuity of care from the intraoperative phase to the immediate postoperative , the circulating nurse anesthesiologist ,will give a through report to the PACU nurse </a:t>
            </a: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This should include the following 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Trebuchet MS"/>
              </a:rPr>
              <a:t>Type of surgery performed and an intraoperative complications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Trebuchet MS"/>
              </a:rPr>
              <a:t>Type of anesthesia (general , local or sedation ….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Trebuchet MS"/>
              </a:rPr>
              <a:t>Drains and type of dressing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Trebuchet MS"/>
              </a:rPr>
              <a:t>Presence of endotracheal tube or type oxygen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Trebuchet MS"/>
              </a:rPr>
              <a:t>Types of lines and locations (IV, arterial line 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Trebuchet MS"/>
              </a:rPr>
              <a:t>Catheters or tubes as Foley , T-tube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Trebuchet MS"/>
              </a:rPr>
              <a:t>Administration of blood , colloids &amp; fluid , electrolytes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Trebuchet MS"/>
              </a:rPr>
              <a:t>Drug allergies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Trebuchet MS"/>
              </a:rPr>
              <a:t>Pre-existing medical conditions (DM, HTN, ….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Title 1" descr=""/>
          <p:cNvPicPr/>
          <p:nvPr/>
        </p:nvPicPr>
        <p:blipFill>
          <a:blip r:embed="rId1"/>
          <a:stretch/>
        </p:blipFill>
        <p:spPr>
          <a:xfrm>
            <a:off x="0" y="0"/>
            <a:ext cx="9272520" cy="83520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 txBox="1"/>
          <p:nvPr/>
        </p:nvSpPr>
        <p:spPr>
          <a:xfrm>
            <a:off x="1071360" y="836640"/>
            <a:ext cx="8202600" cy="6021360"/>
          </a:xfrm>
          <a:prstGeom prst="rect">
            <a:avLst/>
          </a:prstGeom>
          <a:solidFill>
            <a:srgbClr val="eae8dc"/>
          </a:solidFill>
          <a:ln w="9360">
            <a:solidFill>
              <a:srgbClr val="90c22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Before receiving the patient , note proper functioning of monitoring and suctioning devices , oxygen therapy equipment and all other equipment 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INITIAL ASSESSMENT  MADE BY THE NURSE IN PACU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404040"/>
                </a:solidFill>
                <a:latin typeface="Trebuchet MS"/>
              </a:rPr>
              <a:t>Verify the patient’s , the operative procedure and the surgeon who performed the procedur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404040"/>
                </a:solidFill>
                <a:latin typeface="Trebuchet MS"/>
              </a:rPr>
              <a:t>Evaluate the following signs and verify their level of stability 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Respiratory status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Circulatory status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Pulses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Temperature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Oxygen saturation level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Hemodynamic values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600" spc="-1" strike="noStrike" u="sng">
                <a:solidFill>
                  <a:srgbClr val="90c226"/>
                </a:solidFill>
                <a:uFillTx/>
                <a:latin typeface="Trebuchet MS"/>
              </a:rPr>
              <a:t>Out lines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22280" y="1414080"/>
            <a:ext cx="9693360" cy="4257720"/>
          </a:xfrm>
          <a:prstGeom prst="rect">
            <a:avLst/>
          </a:prstGeom>
          <a:solidFill>
            <a:srgbClr val="eae8d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Perioperative overview (types of surgery , surgical risk factors )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Preoperative care (informed consent , patient education, patient preparation ,preoperative medication &amp; transferring the patient to surgery )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Intraoperative care ( common types of anesthetics technique, intraoperative complication 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Post operative (initial assessment , intervention , postoperative discomfort and complications 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Title 1" descr=""/>
          <p:cNvPicPr/>
          <p:nvPr/>
        </p:nvPicPr>
        <p:blipFill>
          <a:blip r:embed="rId1"/>
          <a:stretch/>
        </p:blipFill>
        <p:spPr>
          <a:xfrm>
            <a:off x="0" y="0"/>
            <a:ext cx="9272520" cy="8352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 txBox="1"/>
          <p:nvPr/>
        </p:nvSpPr>
        <p:spPr>
          <a:xfrm>
            <a:off x="1285920" y="836280"/>
            <a:ext cx="7988400" cy="5235480"/>
          </a:xfrm>
          <a:prstGeom prst="rect">
            <a:avLst/>
          </a:prstGeom>
          <a:solidFill>
            <a:srgbClr val="eae8dc"/>
          </a:solidFill>
          <a:ln w="9360">
            <a:solidFill>
              <a:srgbClr val="90c226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INITIAL ASSESSMENT  MADE BY THE NURSE IN PACU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Determine swallowing , gag reflexes and level of consciousness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Evaluate any lines ,tubes or drains, estimated blood loss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Perform safety checks to verify that bedside rails are in place and restrains properly applied , as needed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Evaluate activity status , movement of extremities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Review health care provider’s orders 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Title 1" descr=""/>
          <p:cNvPicPr/>
          <p:nvPr/>
        </p:nvPicPr>
        <p:blipFill>
          <a:blip r:embed="rId1"/>
          <a:stretch/>
        </p:blipFill>
        <p:spPr>
          <a:xfrm>
            <a:off x="0" y="0"/>
            <a:ext cx="9272520" cy="193212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 txBox="1"/>
          <p:nvPr/>
        </p:nvSpPr>
        <p:spPr>
          <a:xfrm>
            <a:off x="485280" y="1110960"/>
            <a:ext cx="4372200" cy="3732120"/>
          </a:xfrm>
          <a:prstGeom prst="rect">
            <a:avLst/>
          </a:prstGeom>
          <a:solidFill>
            <a:srgbClr val="eae8dc"/>
          </a:solidFill>
          <a:ln w="0">
            <a:noFill/>
          </a:ln>
        </p:spPr>
        <p:txBody>
          <a:bodyPr anchor="t">
            <a:normAutofit fontScale="97000"/>
          </a:bodyPr>
          <a:p>
            <a:pPr marL="387720" indent="-38772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roman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87720" indent="-38772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roman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 u="sng">
                <a:solidFill>
                  <a:srgbClr val="404040"/>
                </a:solidFill>
                <a:uFillTx/>
                <a:latin typeface="Trebuchet MS"/>
              </a:rPr>
              <a:t>Managing a patent Airway 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87720" indent="-38772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Allow metal , rubber , or plastic air way to remain in place until the patient begins to waken and trying to eject it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87720" indent="-38772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Aspirate excessive secretions when they are heard 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87720" indent="-38772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 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87720" indent="-38772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87720" indent="-38772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87720" indent="-38772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4" name="Content Placeholder 2"/>
          <p:cNvSpPr/>
          <p:nvPr/>
        </p:nvSpPr>
        <p:spPr>
          <a:xfrm>
            <a:off x="5681520" y="1111320"/>
            <a:ext cx="5672160" cy="4889520"/>
          </a:xfrm>
          <a:prstGeom prst="rect">
            <a:avLst/>
          </a:prstGeom>
          <a:solidFill>
            <a:srgbClr val="eae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romanUcPeriod" startAt="2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 u="sng">
                <a:solidFill>
                  <a:srgbClr val="404040"/>
                </a:solidFill>
                <a:uFillTx/>
                <a:latin typeface="Trebuchet MS"/>
              </a:rPr>
              <a:t>Maintain adequate respiratory functions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Place the patient in the lateral position with neck extended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Encourage patient to take deep breath to aerate lung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Auscultate the lung to detect any abnormal lung sounds &amp; air entry and air exit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Assess patient’s consciousness because any alteration in consciousness may indicate impaired oxygen delivery to tissues and brain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Administer humidifiers oxygen if requested .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5" name="Picture 4" descr=""/>
          <p:cNvPicPr/>
          <p:nvPr/>
        </p:nvPicPr>
        <p:blipFill>
          <a:blip r:embed="rId2"/>
          <a:stretch/>
        </p:blipFill>
        <p:spPr>
          <a:xfrm>
            <a:off x="358920" y="4843440"/>
            <a:ext cx="504180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0" y="0"/>
            <a:ext cx="9272520" cy="68904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 txBox="1"/>
          <p:nvPr/>
        </p:nvSpPr>
        <p:spPr>
          <a:xfrm>
            <a:off x="599760" y="914400"/>
            <a:ext cx="5329080" cy="5883120"/>
          </a:xfrm>
          <a:prstGeom prst="rect">
            <a:avLst/>
          </a:prstGeom>
          <a:solidFill>
            <a:srgbClr val="eae8dc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404040"/>
                </a:solidFill>
                <a:latin typeface="Trebuchet MS"/>
              </a:rPr>
              <a:t>III. Assessing status of circulatory system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Take vital signs per protocol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Monitor Intake &amp; Out Put closely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 u="sng">
                <a:solidFill>
                  <a:srgbClr val="404040"/>
                </a:solidFill>
                <a:uFillTx/>
                <a:latin typeface="Trebuchet MS"/>
              </a:rPr>
              <a:t>Recognize early signs of shock or hemorrhage 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cool extremities                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Lowering blood pressure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decrease urine output        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Narrowing pulse pressure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slow capillary refill              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Increased heart rate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88" name="Picture 3" descr=""/>
          <p:cNvPicPr/>
          <p:nvPr/>
        </p:nvPicPr>
        <p:blipFill>
          <a:blip r:embed="rId2"/>
          <a:stretch/>
        </p:blipFill>
        <p:spPr>
          <a:xfrm>
            <a:off x="5783400" y="5114880"/>
            <a:ext cx="4952880" cy="1438200"/>
          </a:xfrm>
          <a:prstGeom prst="rect">
            <a:avLst/>
          </a:prstGeom>
          <a:ln w="0">
            <a:noFill/>
          </a:ln>
        </p:spPr>
      </p:pic>
      <p:sp>
        <p:nvSpPr>
          <p:cNvPr id="289" name="Rounded Rectangle 4"/>
          <p:cNvSpPr/>
          <p:nvPr/>
        </p:nvSpPr>
        <p:spPr>
          <a:xfrm>
            <a:off x="9701280" y="6134040"/>
            <a:ext cx="1673280" cy="541440"/>
          </a:xfrm>
          <a:prstGeom prst="roundRect">
            <a:avLst>
              <a:gd name="adj" fmla="val 16667"/>
            </a:avLst>
          </a:prstGeom>
          <a:solidFill>
            <a:srgbClr val="eae8dc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c911d"/>
                </a:solidFill>
                <a:latin typeface="Trebuchet MS"/>
              </a:rPr>
              <a:t>Shock Position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6850080" y="1413000"/>
            <a:ext cx="5175360" cy="3753000"/>
          </a:xfrm>
          <a:prstGeom prst="rect">
            <a:avLst/>
          </a:prstGeom>
          <a:solidFill>
            <a:srgbClr val="eae8dc"/>
          </a:solidFill>
          <a:ln w="9360">
            <a:solidFill>
              <a:srgbClr val="90c2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7819"/>
                </a:solidFill>
                <a:latin typeface="Trebuchet MS"/>
              </a:rPr>
              <a:t>N.B.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i="1" lang="en-US" sz="2000" spc="-1" strike="noStrike" u="sng">
                <a:solidFill>
                  <a:srgbClr val="404040"/>
                </a:solidFill>
                <a:uFillTx/>
                <a:latin typeface="Trebuchet MS"/>
              </a:rPr>
              <a:t>Nursing intervention in case of shock 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buClr>
                <a:srgbClr val="404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Initiate oxygen therapy to increase oxygen availability from the circulating blood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buClr>
                <a:srgbClr val="404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Increase parenteral fluid infusion as prescribed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buClr>
                <a:srgbClr val="404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Place the patient in shock position with feet elevated unless it is contraindicated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Title 1" descr=""/>
          <p:cNvPicPr/>
          <p:nvPr/>
        </p:nvPicPr>
        <p:blipFill>
          <a:blip r:embed="rId1"/>
          <a:stretch/>
        </p:blipFill>
        <p:spPr>
          <a:xfrm>
            <a:off x="79200" y="0"/>
            <a:ext cx="9193320" cy="8478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 txBox="1"/>
          <p:nvPr/>
        </p:nvSpPr>
        <p:spPr>
          <a:xfrm>
            <a:off x="198000" y="1122480"/>
            <a:ext cx="5659560" cy="5478480"/>
          </a:xfrm>
          <a:prstGeom prst="rect">
            <a:avLst/>
          </a:prstGeom>
          <a:solidFill>
            <a:srgbClr val="eae8dc"/>
          </a:solidFill>
          <a:ln w="9360">
            <a:solidFill>
              <a:srgbClr val="90c226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404040"/>
                </a:solidFill>
                <a:uFillTx/>
                <a:latin typeface="Trebuchet MS"/>
              </a:rPr>
              <a:t>IV - Assessing thermoregulatory statu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Monitor temperature hourly to be alert for malignant hyperthermia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Temperature over 37.7 ºc or under 36.1 ºc must be reported 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Monitor for postanesthesia shivering (PAS). It  occurs 30-45 minutes after admission to PACU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Provide  therapeutic environment with proper temperature and humidity 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3" name="Content Placeholder 2"/>
          <p:cNvSpPr/>
          <p:nvPr/>
        </p:nvSpPr>
        <p:spPr>
          <a:xfrm>
            <a:off x="6543720" y="1003320"/>
            <a:ext cx="5124240" cy="5478480"/>
          </a:xfrm>
          <a:prstGeom prst="rect">
            <a:avLst/>
          </a:prstGeom>
          <a:solidFill>
            <a:srgbClr val="eae8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404040"/>
                </a:solidFill>
                <a:uFillTx/>
                <a:latin typeface="Trebuchet MS"/>
              </a:rPr>
              <a:t>V - Maintain adequate fluid volume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Administer IV solutions as ordered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Monitor electrolytes balance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Evaluate mental status , skin color , &amp; body temperature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Monitor fluid imbalance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Monitor I &amp; O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Title 1" descr=""/>
          <p:cNvPicPr/>
          <p:nvPr/>
        </p:nvPicPr>
        <p:blipFill>
          <a:blip r:embed="rId1"/>
          <a:stretch/>
        </p:blipFill>
        <p:spPr>
          <a:xfrm>
            <a:off x="128520" y="-60480"/>
            <a:ext cx="9144000" cy="82872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 txBox="1"/>
          <p:nvPr/>
        </p:nvSpPr>
        <p:spPr>
          <a:xfrm>
            <a:off x="275760" y="966600"/>
            <a:ext cx="8998200" cy="5529240"/>
          </a:xfrm>
          <a:prstGeom prst="rect">
            <a:avLst/>
          </a:prstGeom>
          <a:solidFill>
            <a:srgbClr val="eae8d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 u="sng">
                <a:solidFill>
                  <a:srgbClr val="3f7819"/>
                </a:solidFill>
                <a:uFillTx/>
                <a:latin typeface="Trebuchet MS"/>
              </a:rPr>
              <a:t>Promote comfort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ssess pain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dminister analgesic as order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osition the patient to maximum comfort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 u="sng">
                <a:solidFill>
                  <a:srgbClr val="3f7819"/>
                </a:solidFill>
                <a:uFillTx/>
                <a:latin typeface="Trebuchet MS"/>
              </a:rPr>
              <a:t>Minimize complications &amp; skin impairment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f7819"/>
                </a:solidFill>
                <a:latin typeface="Trebuchet MS"/>
              </a:rPr>
              <a:t>Perform hand washing before patient’s care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f7819"/>
                </a:solidFill>
                <a:latin typeface="Trebuchet MS"/>
              </a:rPr>
              <a:t>Inspect dressing daily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f7819"/>
                </a:solidFill>
                <a:latin typeface="Trebuchet MS"/>
              </a:rPr>
              <a:t>Record amount &amp; type of wound discharge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f7819"/>
                </a:solidFill>
                <a:latin typeface="Trebuchet MS"/>
              </a:rPr>
              <a:t>Turn the patient frequently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 u="sng">
                <a:solidFill>
                  <a:srgbClr val="3f7819"/>
                </a:solidFill>
                <a:uFillTx/>
                <a:latin typeface="Trebuchet MS"/>
              </a:rPr>
              <a:t>Maintain safety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3f7819"/>
                </a:solidFill>
                <a:latin typeface="Trebuchet MS"/>
              </a:rPr>
              <a:t>Minimize stress factors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274320" cy="101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Transferring the patient from PACU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873000" y="1180800"/>
            <a:ext cx="9058320" cy="5305320"/>
          </a:xfrm>
          <a:prstGeom prst="rect">
            <a:avLst/>
          </a:prstGeom>
          <a:solidFill>
            <a:srgbClr val="eae8d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 u="sng">
                <a:solidFill>
                  <a:srgbClr val="3f7819"/>
                </a:solidFill>
                <a:uFillTx/>
                <a:latin typeface="Trebuchet MS"/>
              </a:rPr>
              <a:t>The patient will be transferred from th PACU depending on the following criteria :( transferre criteria 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3f7819"/>
                </a:solidFill>
                <a:latin typeface="Trebuchet MS"/>
              </a:rPr>
              <a:t>Uncompromised cardiopulmonary status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3f7819"/>
                </a:solidFill>
                <a:latin typeface="Trebuchet MS"/>
              </a:rPr>
              <a:t>Stable vital signs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3f7819"/>
                </a:solidFill>
                <a:latin typeface="Trebuchet MS"/>
              </a:rPr>
              <a:t>Adequate urine output (at least 30ml/ hour 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3f7819"/>
                </a:solidFill>
                <a:latin typeface="Trebuchet MS"/>
              </a:rPr>
              <a:t>Oriented to person , place and time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3f7819"/>
                </a:solidFill>
                <a:latin typeface="Trebuchet MS"/>
              </a:rPr>
              <a:t>Satisfactory response to commands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3f7819"/>
                </a:solidFill>
                <a:latin typeface="Trebuchet MS"/>
              </a:rPr>
              <a:t>Movement of extremities after regional anesthesia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3f7819"/>
                </a:solidFill>
                <a:latin typeface="Trebuchet MS"/>
              </a:rPr>
              <a:t>Pain controlled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3f7819"/>
                </a:solidFill>
                <a:latin typeface="Trebuchet MS"/>
              </a:rPr>
              <a:t>Control or absence of vomiting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Questio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1103040" y="2052360"/>
            <a:ext cx="5167080" cy="4195800"/>
          </a:xfrm>
          <a:prstGeom prst="rect">
            <a:avLst/>
          </a:prstGeom>
          <a:solidFill>
            <a:srgbClr val="eae8d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ell whether the following statement is true or false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e most important nursing intervention when vomiting occurs postoperatively is to turn the patient’s head to prevent aspiration of vomitus into the lung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Rectangle 2"/>
          <p:cNvSpPr/>
          <p:nvPr/>
        </p:nvSpPr>
        <p:spPr>
          <a:xfrm>
            <a:off x="6958080" y="1852560"/>
            <a:ext cx="4159080" cy="3020040"/>
          </a:xfrm>
          <a:prstGeom prst="rect">
            <a:avLst/>
          </a:prstGeom>
          <a:solidFill>
            <a:srgbClr val="eae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rue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ationale: The most important nursing intervention when vomiting occurs postoperatively is to turn the patient’s head to prevent aspiration of vomitus into the lung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90c226"/>
                </a:solidFill>
                <a:latin typeface="Trebuchet MS"/>
              </a:rPr>
              <a:t>Postoperative discomfort 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solidFill>
            <a:srgbClr val="eae8d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Trebuchet MS"/>
              </a:rPr>
              <a:t>Nausea &amp; vomiting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Trebuchet MS"/>
              </a:rPr>
              <a:t>Thirst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Trebuchet MS"/>
              </a:rPr>
              <a:t>Constipation &amp; gas cramp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Trebuchet MS"/>
              </a:rPr>
              <a:t>Postoperative pain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90c226"/>
                </a:solidFill>
                <a:latin typeface="Trebuchet MS"/>
              </a:rPr>
              <a:t>Postoperative complications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77880" y="1414440"/>
            <a:ext cx="8951760" cy="462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 u="sng">
                <a:solidFill>
                  <a:srgbClr val="404040"/>
                </a:solidFill>
                <a:uFillTx/>
                <a:latin typeface="Trebuchet MS"/>
              </a:rPr>
              <a:t>Shock 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    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hock is a response of the body to a decrease in the circulating volume of blood , tissue perfusion is impaired cellular hypoxia and death can result if untreated 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 u="sng">
                <a:solidFill>
                  <a:srgbClr val="404040"/>
                </a:solidFill>
                <a:uFillTx/>
                <a:latin typeface="Trebuchet MS"/>
              </a:rPr>
              <a:t>Hemorrhage 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    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Is copious escape of blood from a blood vessels , It may be 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Primary :  at the time of operation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Intermediary : occurs within the first few hours of operation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econdary :  occurs sometime after surgery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90c226"/>
                </a:solidFill>
                <a:latin typeface="Trebuchet MS"/>
              </a:rPr>
              <a:t>Postoperative complications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677880" y="1509480"/>
            <a:ext cx="7323120" cy="4576680"/>
          </a:xfrm>
          <a:prstGeom prst="rect">
            <a:avLst/>
          </a:prstGeom>
          <a:solidFill>
            <a:srgbClr val="eae8d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 u="sng">
                <a:solidFill>
                  <a:srgbClr val="404040"/>
                </a:solidFill>
                <a:uFillTx/>
                <a:latin typeface="Trebuchet MS"/>
              </a:rPr>
              <a:t>Deep vein thrombosis (DVT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    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Occurs in pelvic veins or in deep vein of the lower limbs in postoperative patient , It can occur as a result of injury to intimal layer of the vein wall , or venous stasis 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 u="sng">
                <a:solidFill>
                  <a:srgbClr val="404040"/>
                </a:solidFill>
                <a:uFillTx/>
                <a:latin typeface="Trebuchet MS"/>
              </a:rPr>
              <a:t>Pulmonary complications 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1- atelectasis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2- aspiration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3- pneumonia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07" name="Picture 1" descr=""/>
          <p:cNvPicPr/>
          <p:nvPr/>
        </p:nvPicPr>
        <p:blipFill>
          <a:blip r:embed="rId1"/>
          <a:stretch/>
        </p:blipFill>
        <p:spPr>
          <a:xfrm>
            <a:off x="8158320" y="399960"/>
            <a:ext cx="3600360" cy="5686560"/>
          </a:xfrm>
          <a:prstGeom prst="rect">
            <a:avLst/>
          </a:prstGeom>
          <a:ln w="28440">
            <a:solidFill>
              <a:srgbClr val="90c22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Title 1" descr=""/>
          <p:cNvPicPr/>
          <p:nvPr/>
        </p:nvPicPr>
        <p:blipFill>
          <a:blip r:embed="rId1"/>
          <a:stretch/>
        </p:blipFill>
        <p:spPr>
          <a:xfrm>
            <a:off x="676440" y="609480"/>
            <a:ext cx="8596080" cy="85896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 txBox="1"/>
          <p:nvPr/>
        </p:nvSpPr>
        <p:spPr>
          <a:xfrm>
            <a:off x="677520" y="1336680"/>
            <a:ext cx="8596440" cy="4392720"/>
          </a:xfrm>
          <a:prstGeom prst="rect">
            <a:avLst/>
          </a:prstGeom>
          <a:solidFill>
            <a:srgbClr val="eae8dc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Perioperative nursing is a term used to describe the nursing care provided in the total surgical experiences of the patient . It include 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6c911d"/>
                </a:solidFill>
                <a:latin typeface="Trebuchet MS"/>
              </a:rPr>
              <a:t>Preoperative phase </a:t>
            </a:r>
            <a:r>
              <a:rPr b="1" lang="en-US" sz="2000" spc="-1" strike="noStrike">
                <a:solidFill>
                  <a:srgbClr val="6c911d"/>
                </a:solidFill>
                <a:latin typeface="Trebuchet MS"/>
              </a:rPr>
              <a:t>: </a:t>
            </a: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begins with the time the decision is made for surgical intervention to the transfer of the patient to the operating room 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6c911d"/>
                </a:solidFill>
                <a:latin typeface="Trebuchet MS"/>
              </a:rPr>
              <a:t>Intraoperative phase </a:t>
            </a: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: started from the time the patient is received in the operating room till admitted to recovery room 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6c911d"/>
                </a:solidFill>
                <a:latin typeface="Trebuchet MS"/>
              </a:rPr>
              <a:t>Postoperative phase </a:t>
            </a:r>
            <a:r>
              <a:rPr b="1" lang="en-US" sz="2000" spc="-1" strike="noStrike">
                <a:solidFill>
                  <a:srgbClr val="6c911d"/>
                </a:solidFill>
                <a:latin typeface="Trebuchet MS"/>
              </a:rPr>
              <a:t>: </a:t>
            </a: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from the time of admission to the recovery room to the follow up home /clinic evaluation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90c226"/>
                </a:solidFill>
                <a:latin typeface="Trebuchet MS"/>
              </a:rPr>
              <a:t>Postoperative complications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77880" y="1509480"/>
            <a:ext cx="7323120" cy="4748040"/>
          </a:xfrm>
          <a:prstGeom prst="rect">
            <a:avLst/>
          </a:prstGeom>
          <a:solidFill>
            <a:srgbClr val="eae8d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 u="sng">
                <a:solidFill>
                  <a:srgbClr val="404040"/>
                </a:solidFill>
                <a:uFillTx/>
                <a:latin typeface="Trebuchet MS"/>
              </a:rPr>
              <a:t>Pulmonary embolism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   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Is caused by the obstruction of one or more pulmonary arterioles by an embolus originating somewhere in the venous system or in the right side of the heart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Urinary retention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Intestinal obstruction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Hiccups : are intermittent spasm of the diaphragm causing the sound (hic ) the results from the vibration of closed vocal cords as air rushes suddenly into the lungs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Wound infection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10" name="Picture 3" descr=""/>
          <p:cNvPicPr/>
          <p:nvPr/>
        </p:nvPicPr>
        <p:blipFill>
          <a:blip r:embed="rId1"/>
          <a:stretch/>
        </p:blipFill>
        <p:spPr>
          <a:xfrm>
            <a:off x="8335800" y="1081080"/>
            <a:ext cx="3357720" cy="549108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4"/>
          <p:cNvSpPr/>
          <p:nvPr/>
        </p:nvSpPr>
        <p:spPr>
          <a:xfrm>
            <a:off x="8218080" y="609480"/>
            <a:ext cx="2723760" cy="368280"/>
          </a:xfrm>
          <a:prstGeom prst="rect">
            <a:avLst/>
          </a:prstGeom>
          <a:solidFill>
            <a:srgbClr val="eae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404040"/>
                </a:solidFill>
                <a:uFillTx/>
                <a:latin typeface="Trebuchet MS"/>
              </a:rPr>
              <a:t>Pulmonary embolism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1" descr=""/>
          <p:cNvPicPr/>
          <p:nvPr/>
        </p:nvPicPr>
        <p:blipFill>
          <a:blip r:embed="rId1"/>
          <a:stretch/>
        </p:blipFill>
        <p:spPr>
          <a:xfrm>
            <a:off x="1932120" y="3352680"/>
            <a:ext cx="7850160" cy="308628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90c226"/>
                </a:solidFill>
                <a:latin typeface="Trebuchet MS"/>
              </a:rPr>
              <a:t>Postoperative complications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2004480" y="1432080"/>
            <a:ext cx="67294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Wound dehiscence / evisceration  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commonly occurs between 5</a:t>
            </a:r>
            <a:r>
              <a:rPr b="1" lang="en-US" sz="2000" spc="-1" strike="noStrike" baseline="30000">
                <a:solidFill>
                  <a:srgbClr val="404040"/>
                </a:solidFill>
                <a:latin typeface="Trebuchet MS"/>
              </a:rPr>
              <a:t>th</a:t>
            </a: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 and 8</a:t>
            </a:r>
            <a:r>
              <a:rPr b="1" lang="en-US" sz="2000" spc="-1" strike="noStrike" baseline="30000">
                <a:solidFill>
                  <a:srgbClr val="404040"/>
                </a:solidFill>
                <a:latin typeface="Trebuchet MS"/>
              </a:rPr>
              <a:t>th</a:t>
            </a: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 day of operation when the incision has weakest strength , the highest strength is found between the 1</a:t>
            </a:r>
            <a:r>
              <a:rPr b="1" lang="en-US" sz="2000" spc="-1" strike="noStrike" baseline="30000">
                <a:solidFill>
                  <a:srgbClr val="404040"/>
                </a:solidFill>
                <a:latin typeface="Trebuchet MS"/>
              </a:rPr>
              <a:t>st</a:t>
            </a: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 &amp; 3</a:t>
            </a:r>
            <a:r>
              <a:rPr b="1" lang="en-US" sz="2000" spc="-1" strike="noStrike" baseline="30000">
                <a:solidFill>
                  <a:srgbClr val="404040"/>
                </a:solidFill>
                <a:latin typeface="Trebuchet MS"/>
              </a:rPr>
              <a:t>rd</a:t>
            </a: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 postoperative day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5" name="Rounded Rectangle 4"/>
          <p:cNvSpPr/>
          <p:nvPr/>
        </p:nvSpPr>
        <p:spPr>
          <a:xfrm>
            <a:off x="2371680" y="6060960"/>
            <a:ext cx="2544840" cy="671760"/>
          </a:xfrm>
          <a:prstGeom prst="roundRect">
            <a:avLst>
              <a:gd name="adj" fmla="val 16667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Wound dehiscence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316" name="Straight Arrow Connector 6"/>
          <p:cNvCxnSpPr>
            <a:stCxn id="315" idx="3"/>
          </p:cNvCxnSpPr>
          <p:nvPr/>
        </p:nvCxnSpPr>
        <p:spPr>
          <a:xfrm>
            <a:off x="4916160" y="6395760"/>
            <a:ext cx="756360" cy="122400"/>
          </a:xfrm>
          <a:prstGeom prst="straightConnector1">
            <a:avLst/>
          </a:prstGeom>
          <a:ln cap="rnd" w="12600">
            <a:solidFill>
              <a:srgbClr val="90c226"/>
            </a:solidFill>
            <a:miter/>
            <a:tailEnd len="med" type="triangle" w="med"/>
          </a:ln>
        </p:spPr>
      </p:cxnSp>
      <p:sp>
        <p:nvSpPr>
          <p:cNvPr id="317" name="Rounded Rectangle 10"/>
          <p:cNvSpPr/>
          <p:nvPr/>
        </p:nvSpPr>
        <p:spPr>
          <a:xfrm>
            <a:off x="6556320" y="5997600"/>
            <a:ext cx="2544840" cy="671400"/>
          </a:xfrm>
          <a:prstGeom prst="roundRect">
            <a:avLst>
              <a:gd name="adj" fmla="val 16667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Evisceratio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solidFill>
            <a:srgbClr val="eae8dc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 </a:t>
            </a: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Nursing Diagnos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solidFill>
            <a:srgbClr val="eae8d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Activity intoleranc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Impaired skin integrity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Ineffective thermoregulatio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Risk for imbalanced nutritio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Risk for constipatio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Risk for urinary retentio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Risk for injury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Anxiety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Risk for ineffective management or therapeutic regim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321" name="Content Placeholder 3" descr=""/>
          <p:cNvPicPr/>
          <p:nvPr/>
        </p:nvPicPr>
        <p:blipFill>
          <a:blip r:embed="rId1"/>
          <a:stretch/>
        </p:blipFill>
        <p:spPr>
          <a:xfrm>
            <a:off x="474840" y="-60480"/>
            <a:ext cx="8435880" cy="691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Title 1" descr=""/>
          <p:cNvPicPr/>
          <p:nvPr/>
        </p:nvPicPr>
        <p:blipFill>
          <a:blip r:embed="rId1"/>
          <a:stretch/>
        </p:blipFill>
        <p:spPr>
          <a:xfrm>
            <a:off x="676440" y="609480"/>
            <a:ext cx="8596080" cy="890640"/>
          </a:xfrm>
          <a:prstGeom prst="rect">
            <a:avLst/>
          </a:prstGeom>
          <a:ln w="0">
            <a:noFill/>
          </a:ln>
        </p:spPr>
      </p:pic>
      <p:pic>
        <p:nvPicPr>
          <p:cNvPr id="222" name="Content Placeholder 2" descr=""/>
          <p:cNvPicPr/>
          <p:nvPr/>
        </p:nvPicPr>
        <p:blipFill>
          <a:blip r:embed="rId2"/>
          <a:stretch/>
        </p:blipFill>
        <p:spPr>
          <a:xfrm>
            <a:off x="1073160" y="1523880"/>
            <a:ext cx="829620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Title 1" descr=""/>
          <p:cNvPicPr/>
          <p:nvPr/>
        </p:nvPicPr>
        <p:blipFill>
          <a:blip r:embed="rId1"/>
          <a:stretch/>
        </p:blipFill>
        <p:spPr>
          <a:xfrm>
            <a:off x="676440" y="609480"/>
            <a:ext cx="8596080" cy="901800"/>
          </a:xfrm>
          <a:prstGeom prst="rect">
            <a:avLst/>
          </a:prstGeom>
          <a:ln w="0">
            <a:noFill/>
          </a:ln>
        </p:spPr>
      </p:pic>
      <p:pic>
        <p:nvPicPr>
          <p:cNvPr id="224" name="Content Placeholder 2" descr=""/>
          <p:cNvPicPr/>
          <p:nvPr/>
        </p:nvPicPr>
        <p:blipFill>
          <a:blip r:embed="rId2"/>
          <a:stretch/>
        </p:blipFill>
        <p:spPr>
          <a:xfrm>
            <a:off x="1603440" y="1468440"/>
            <a:ext cx="835164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Title 1" descr=""/>
          <p:cNvPicPr/>
          <p:nvPr/>
        </p:nvPicPr>
        <p:blipFill>
          <a:blip r:embed="rId1"/>
          <a:stretch/>
        </p:blipFill>
        <p:spPr>
          <a:xfrm>
            <a:off x="676440" y="609480"/>
            <a:ext cx="8596080" cy="822600"/>
          </a:xfrm>
          <a:prstGeom prst="rect">
            <a:avLst/>
          </a:prstGeom>
          <a:ln w="0">
            <a:noFill/>
          </a:ln>
        </p:spPr>
      </p:pic>
      <p:pic>
        <p:nvPicPr>
          <p:cNvPr id="226" name="Content Placeholder 2" descr=""/>
          <p:cNvPicPr/>
          <p:nvPr/>
        </p:nvPicPr>
        <p:blipFill>
          <a:blip r:embed="rId2"/>
          <a:stretch/>
        </p:blipFill>
        <p:spPr>
          <a:xfrm>
            <a:off x="1060560" y="1463760"/>
            <a:ext cx="903420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itle 1" descr=""/>
          <p:cNvPicPr/>
          <p:nvPr/>
        </p:nvPicPr>
        <p:blipFill>
          <a:blip r:embed="rId1"/>
          <a:stretch/>
        </p:blipFill>
        <p:spPr>
          <a:xfrm>
            <a:off x="676440" y="609480"/>
            <a:ext cx="8596080" cy="743040"/>
          </a:xfrm>
          <a:prstGeom prst="rect">
            <a:avLst/>
          </a:prstGeom>
          <a:ln w="0">
            <a:noFill/>
          </a:ln>
        </p:spPr>
      </p:pic>
      <p:pic>
        <p:nvPicPr>
          <p:cNvPr id="228" name="Content Placeholder 2" descr=""/>
          <p:cNvPicPr/>
          <p:nvPr/>
        </p:nvPicPr>
        <p:blipFill>
          <a:blip r:embed="rId2"/>
          <a:stretch/>
        </p:blipFill>
        <p:spPr>
          <a:xfrm>
            <a:off x="665280" y="1352520"/>
            <a:ext cx="86072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Title 1" descr=""/>
          <p:cNvPicPr/>
          <p:nvPr/>
        </p:nvPicPr>
        <p:blipFill>
          <a:blip r:embed="rId1"/>
          <a:stretch/>
        </p:blipFill>
        <p:spPr>
          <a:xfrm>
            <a:off x="676440" y="609480"/>
            <a:ext cx="8596080" cy="13226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solidFill>
            <a:srgbClr val="eae8d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Trebuchet MS"/>
              </a:rPr>
              <a:t>Informed consent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Trebuchet MS"/>
              </a:rPr>
              <a:t>Preoperative patient education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Trebuchet MS"/>
              </a:rPr>
              <a:t>Patient’s preparation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Trebuchet MS"/>
              </a:rPr>
              <a:t>Preoperative medication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Trebuchet MS"/>
              </a:rPr>
              <a:t>Transferring the patient to surgery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9T08:02:49Z</dcterms:created>
  <dc:creator>OmaR sherif</dc:creator>
  <dc:description/>
  <dc:language>en-US</dc:language>
  <cp:lastModifiedBy>IRENE ROCO</cp:lastModifiedBy>
  <dcterms:modified xsi:type="dcterms:W3CDTF">2016-10-10T21:37:20Z</dcterms:modified>
  <cp:revision>69</cp:revision>
  <dc:subject/>
  <dc:title>Periooperaive care</dc:title>
</cp:coreProperties>
</file>