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1, Slide </a:t>
            </a:r>
            <a:fld id="{8A27D587-9D9F-4E49-B610-D3CC7D6C456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-Squar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Expected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btain the expected frequency for left handed females, multiply the average proportion left handed (p) by the total number of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btain the expected frequency for left handed males, multiply the average proportion left hand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) by the total number of 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8229600" y="230832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7010280" y="3486240"/>
            <a:ext cx="152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33520" y="4419720"/>
            <a:ext cx="8153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f the two proportions are equal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(.12)(120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(.12)(180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228600" y="4343400"/>
            <a:ext cx="86868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served vs. Expected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50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362320" y="3657600"/>
            <a:ext cx="5181480" cy="380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62320" y="281952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2320" y="32004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362320" y="236232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1523880"/>
          <a:ext cx="7467480" cy="3048120"/>
        </p:xfrm>
        <a:graphic>
          <a:graphicData uri="http://schemas.openxmlformats.org/drawingml/2006/table">
            <a:tbl>
              <a:tblPr/>
              <a:tblGrid>
                <a:gridCol w="1371600"/>
                <a:gridCol w="2547720"/>
                <a:gridCol w="2633760"/>
                <a:gridCol w="914400"/>
              </a:tblGrid>
              <a:tr h="4118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1"/>
              <p:cNvSpPr txBox="1"/>
              <p:nvPr/>
            </p:nvSpPr>
            <p:spPr>
              <a:xfrm>
                <a:off x="1143000" y="4959360"/>
                <a:ext cx="74152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304920" y="4578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The test statistic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0"/>
          <p:cNvSpPr/>
          <p:nvPr/>
        </p:nvSpPr>
        <p:spPr>
          <a:xfrm>
            <a:off x="7772400" y="5683320"/>
            <a:ext cx="914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3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680724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648180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15312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267080" y="2468880"/>
            <a:ext cx="4572000" cy="12920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54"/>
              <p:cNvSpPr txBox="1"/>
              <p:nvPr/>
            </p:nvSpPr>
            <p:spPr>
              <a:xfrm>
                <a:off x="546120" y="1787400"/>
                <a:ext cx="8116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est statistic is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76 ;  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with 1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4"/>
          <p:cNvSpPr/>
          <p:nvPr/>
        </p:nvSpPr>
        <p:spPr>
          <a:xfrm>
            <a:off x="5105520" y="4098960"/>
            <a:ext cx="3886200" cy="2270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576&lt;           = 3.84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onclude that there is not sufficient evidence that the two proportions are different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4114800" y="1905120"/>
            <a:ext cx="9907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4267080" y="5181480"/>
            <a:ext cx="60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981080" y="563868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9"/>
          <p:cNvSpPr/>
          <p:nvPr/>
        </p:nvSpPr>
        <p:spPr>
          <a:xfrm>
            <a:off x="2584440" y="4686480"/>
            <a:ext cx="1582920" cy="414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0"/>
          <p:cNvSpPr/>
          <p:nvPr/>
        </p:nvSpPr>
        <p:spPr>
          <a:xfrm>
            <a:off x="754200" y="3352680"/>
            <a:ext cx="4122720" cy="175284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533520" y="487692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896760" y="38098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762120" y="373392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4"/>
          <p:cNvSpPr/>
          <p:nvPr/>
        </p:nvSpPr>
        <p:spPr>
          <a:xfrm>
            <a:off x="2585880" y="4699080"/>
            <a:ext cx="5040" cy="406440"/>
          </a:xfrm>
          <a:custGeom>
            <a:avLst/>
            <a:gdLst>
              <a:gd name="textAreaLeft" fmla="*/ 0 w 5040"/>
              <a:gd name="textAreaRight" fmla="*/ 5400 w 5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H="1">
            <a:off x="2742840" y="46483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2895480" y="4343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 flipV="1">
            <a:off x="2590920" y="5105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8"/>
          <p:cNvSpPr/>
          <p:nvPr/>
        </p:nvSpPr>
        <p:spPr>
          <a:xfrm>
            <a:off x="838080" y="533412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9"/>
          <p:cNvSpPr/>
          <p:nvPr/>
        </p:nvSpPr>
        <p:spPr>
          <a:xfrm>
            <a:off x="2612880" y="5334120"/>
            <a:ext cx="1349640" cy="144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2743200" y="534024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1143000" y="534024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447920" y="304812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962520" y="228564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5"/>
              <p:cNvSpPr txBox="1"/>
              <p:nvPr/>
            </p:nvSpPr>
            <p:spPr>
              <a:xfrm>
                <a:off x="4648320" y="2819520"/>
                <a:ext cx="838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56"/>
              <p:cNvSpPr txBox="1"/>
              <p:nvPr/>
            </p:nvSpPr>
            <p:spPr>
              <a:xfrm>
                <a:off x="5181480" y="4343400"/>
                <a:ext cx="714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7"/>
              <p:cNvSpPr txBox="1"/>
              <p:nvPr/>
            </p:nvSpPr>
            <p:spPr>
              <a:xfrm>
                <a:off x="7315200" y="4332240"/>
                <a:ext cx="595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Rectangle 32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for Differences Amo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re Than Two Propor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st to the case with more than two independent pop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523880" y="3276720"/>
            <a:ext cx="5943600" cy="1143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Not all of the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re equal (j = 1, 2,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543800" y="12286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120" y="349380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 of the  2 x c 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2529000" y="2314440"/>
                <a:ext cx="35542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Rectangle 5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685800" y="4724280"/>
                <a:ext cx="8077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2 x c case ha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c-1 degrees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8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uting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verall Propor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120" y="31111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cell frequencies for the c categories are calculated as in the  2 x 2  case, and the decision rule is the sa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4"/>
              <p:cNvSpPr txBox="1"/>
              <p:nvPr/>
            </p:nvSpPr>
            <p:spPr>
              <a:xfrm>
                <a:off x="3959280" y="1600200"/>
                <a:ext cx="388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12"/>
          <p:cNvSpPr/>
          <p:nvPr/>
        </p:nvSpPr>
        <p:spPr>
          <a:xfrm>
            <a:off x="609480" y="16002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erall proportion i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76320" y="2971800"/>
            <a:ext cx="89154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648320" y="4648320"/>
            <a:ext cx="3657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 from the chi-squared distribution with  c – 1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33520" y="4861080"/>
            <a:ext cx="3962160" cy="12920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5"/>
              <p:cNvSpPr txBox="1"/>
              <p:nvPr/>
            </p:nvSpPr>
            <p:spPr>
              <a:xfrm>
                <a:off x="990720" y="5257800"/>
                <a:ext cx="149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Rectangle 12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799240" y="46324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of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th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st for equality of more than two proportions, but extends the concept to contingency tables with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 row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09480" y="3581280"/>
            <a:ext cx="8077320" cy="1981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543800" y="1143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of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7"/>
              <p:cNvSpPr txBox="1"/>
              <p:nvPr/>
            </p:nvSpPr>
            <p:spPr>
              <a:xfrm>
                <a:off x="1047600" y="4896000"/>
                <a:ext cx="65455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 r x c case  has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degrees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5"/>
          <p:cNvSpPr/>
          <p:nvPr/>
        </p:nvSpPr>
        <p:spPr>
          <a:xfrm>
            <a:off x="609480" y="3581280"/>
            <a:ext cx="7620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 of the  r x c 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532240" y="2314440"/>
                <a:ext cx="37544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Rectangle 7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467480" y="16765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25652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pected Cell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1847880" y="2508120"/>
                <a:ext cx="51861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7"/>
          <p:cNvSpPr/>
          <p:nvPr/>
        </p:nvSpPr>
        <p:spPr>
          <a:xfrm>
            <a:off x="609480" y="40384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 total = sum of all frequencies in the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n total = sum of all frequencies in th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overall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543800" y="1143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11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nd when to use the chi-square test for 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200" y="18288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cision ru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63480" y="4267080"/>
            <a:ext cx="8023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 from the chi-square distribution with  (r – 1)  (c – 1) 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2584440"/>
            <a:ext cx="3886200" cy="11577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4"/>
              <p:cNvSpPr txBox="1"/>
              <p:nvPr/>
            </p:nvSpPr>
            <p:spPr>
              <a:xfrm>
                <a:off x="2209680" y="2666880"/>
                <a:ext cx="1494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1" name="Rectangle 9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1843200" y="42624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8288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l plan selected by 200 students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90720" y="2514600"/>
          <a:ext cx="7162560" cy="361332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447920"/>
                <a:gridCol w="1600200"/>
                <a:gridCol w="1295280"/>
              </a:tblGrid>
              <a:tr h="45972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per 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51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ypothesis to be tested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609480" y="2590920"/>
            <a:ext cx="8077320" cy="1981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543800" y="6858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3245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6320" y="1752480"/>
          <a:ext cx="4038480" cy="249408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762120"/>
                <a:gridCol w="806400"/>
                <a:gridCol w="717480"/>
              </a:tblGrid>
              <a:tr h="483120"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343400" y="2971800"/>
          <a:ext cx="4648320" cy="31021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838440"/>
                <a:gridCol w="838080"/>
                <a:gridCol w="990720"/>
              </a:tblGrid>
              <a:tr h="587520"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128"/>
          <p:cNvSpPr/>
          <p:nvPr/>
        </p:nvSpPr>
        <p:spPr>
          <a:xfrm>
            <a:off x="1219320" y="1295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9"/>
          <p:cNvSpPr/>
          <p:nvPr/>
        </p:nvSpPr>
        <p:spPr>
          <a:xfrm>
            <a:off x="5181480" y="1981080"/>
            <a:ext cx="358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cell frequencies  i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0"/>
          <p:cNvSpPr/>
          <p:nvPr/>
        </p:nvSpPr>
        <p:spPr>
          <a:xfrm rot="5400000">
            <a:off x="4210200" y="1962000"/>
            <a:ext cx="914400" cy="952560"/>
          </a:xfrm>
          <a:custGeom>
            <a:avLst/>
            <a:gdLst>
              <a:gd name="textAreaLeft" fmla="*/ 525960 w 914400"/>
              <a:gd name="textAreaRight" fmla="*/ 771840 w 914400"/>
              <a:gd name="textAreaTop" fmla="*/ 128160 h 952560"/>
              <a:gd name="textAreaBottom" fmla="*/ 4078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33"/>
              <p:cNvSpPr txBox="1"/>
              <p:nvPr/>
            </p:nvSpPr>
            <p:spPr>
              <a:xfrm>
                <a:off x="533520" y="4876920"/>
                <a:ext cx="32050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Oval 132"/>
          <p:cNvSpPr/>
          <p:nvPr/>
        </p:nvSpPr>
        <p:spPr>
          <a:xfrm>
            <a:off x="1981080" y="5715000"/>
            <a:ext cx="8384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3"/>
          <p:cNvSpPr/>
          <p:nvPr/>
        </p:nvSpPr>
        <p:spPr>
          <a:xfrm flipV="1">
            <a:off x="2819520" y="5181120"/>
            <a:ext cx="28191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4"/>
          <p:cNvSpPr/>
          <p:nvPr/>
        </p:nvSpPr>
        <p:spPr>
          <a:xfrm>
            <a:off x="5562720" y="4648320"/>
            <a:ext cx="66492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5"/>
          <p:cNvSpPr/>
          <p:nvPr/>
        </p:nvSpPr>
        <p:spPr>
          <a:xfrm>
            <a:off x="304920" y="4419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for one c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pected Cell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3" name="Rectangle 105"/>
          <p:cNvSpPr/>
          <p:nvPr/>
        </p:nvSpPr>
        <p:spPr>
          <a:xfrm>
            <a:off x="7543800" y="14479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311960" y="1074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Th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09200" y="18288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 statistic value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1225440" y="2486160"/>
                <a:ext cx="694080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ell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 Box 6"/>
          <p:cNvSpPr/>
          <p:nvPr/>
        </p:nvSpPr>
        <p:spPr>
          <a:xfrm>
            <a:off x="1125360" y="45720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.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2.592 from the chi-square distribution with  (4 – 1)(3 – 1) = 6 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7467480" y="16002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1297080" y="45068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24392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and Interpret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267080" y="2516400"/>
            <a:ext cx="4572000" cy="12920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&gt; 12.592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0"/>
              <p:cNvSpPr txBox="1"/>
              <p:nvPr/>
            </p:nvSpPr>
            <p:spPr>
              <a:xfrm>
                <a:off x="382680" y="1787400"/>
                <a:ext cx="8415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est statistic is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9</m:t>
                    </m:r>
                    <m:r>
                      <m:rPr>
                        <m:lit/>
                        <m:nor/>
                      </m:rPr>
                      <m:t xml:space="preserve"> ;  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with  6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10"/>
          <p:cNvSpPr/>
          <p:nvPr/>
        </p:nvSpPr>
        <p:spPr>
          <a:xfrm>
            <a:off x="5105520" y="4230720"/>
            <a:ext cx="3886200" cy="2270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9 &lt;           = 12.59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not sufficient evidence that meal plan and class standing are related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129528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114800" y="1905120"/>
            <a:ext cx="7621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267080" y="5181480"/>
            <a:ext cx="60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981080" y="5638680"/>
            <a:ext cx="1905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0.05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12.5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2584440" y="4686480"/>
            <a:ext cx="1582920" cy="414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754200" y="3352680"/>
            <a:ext cx="4122720" cy="175284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33520" y="487692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896760" y="38098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762120" y="373392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2585880" y="4699080"/>
            <a:ext cx="5040" cy="406440"/>
          </a:xfrm>
          <a:custGeom>
            <a:avLst/>
            <a:gdLst>
              <a:gd name="textAreaLeft" fmla="*/ 0 w 5040"/>
              <a:gd name="textAreaRight" fmla="*/ 5400 w 5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 flipH="1">
            <a:off x="2742840" y="46483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895480" y="4343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2590920" y="5105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838080" y="533412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2612880" y="5334120"/>
            <a:ext cx="1349640" cy="144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2743200" y="534024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143000" y="534024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1295280" y="3048120"/>
            <a:ext cx="2895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 flipV="1">
            <a:off x="4191120" y="228564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2"/>
              <p:cNvSpPr txBox="1"/>
              <p:nvPr/>
            </p:nvSpPr>
            <p:spPr>
              <a:xfrm>
                <a:off x="5105520" y="4495680"/>
                <a:ext cx="685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3"/>
              <p:cNvSpPr txBox="1"/>
              <p:nvPr/>
            </p:nvSpPr>
            <p:spPr>
              <a:xfrm>
                <a:off x="7086600" y="4495680"/>
                <a:ext cx="5954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0" name="Rectangle 33"/>
          <p:cNvSpPr/>
          <p:nvPr/>
        </p:nvSpPr>
        <p:spPr>
          <a:xfrm>
            <a:off x="7620120" y="762120"/>
            <a:ext cx="1447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1"/>
              <p:cNvSpPr txBox="1"/>
              <p:nvPr/>
            </p:nvSpPr>
            <p:spPr>
              <a:xfrm>
                <a:off x="4589640" y="2825640"/>
                <a:ext cx="931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4"/>
          <p:cNvSpPr/>
          <p:nvPr/>
        </p:nvSpPr>
        <p:spPr>
          <a:xfrm>
            <a:off x="7392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11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nd when to use the chi-square test for 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1828800"/>
            <a:ext cx="8077320" cy="368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in situations comparing multiple population propor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a cross-classification t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990720" y="1752480"/>
            <a:ext cx="556236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09480" y="1752480"/>
            <a:ext cx="64771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minant Han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d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4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buClr>
                <a:srgbClr val="fea4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ategories for each variable, so this is called 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2 x 2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225"/>
              </a:spcBef>
              <a:buClr>
                <a:srgbClr val="fea4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we examine a s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543800" y="10666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3245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44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7543800" y="15238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1904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for the Difference Between Two Propor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120" y="4340160"/>
            <a:ext cx="8077320" cy="2146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295280" y="1905120"/>
            <a:ext cx="6934320" cy="1981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(Proportion of females who are le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nded is equal to the proportion o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les who are left handed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(The two proportions are not the sa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120" y="347976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5"/>
              <p:cNvSpPr txBox="1"/>
              <p:nvPr/>
            </p:nvSpPr>
            <p:spPr>
              <a:xfrm>
                <a:off x="2422440" y="2316240"/>
                <a:ext cx="4475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Rectangle 5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6"/>
              <p:cNvSpPr txBox="1"/>
              <p:nvPr/>
            </p:nvSpPr>
            <p:spPr>
              <a:xfrm>
                <a:off x="995400" y="4724280"/>
                <a:ext cx="6545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2 x 2 case has 1 degree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9"/>
          <p:cNvSpPr/>
          <p:nvPr/>
        </p:nvSpPr>
        <p:spPr>
          <a:xfrm>
            <a:off x="7543800" y="1305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620120" y="5334120"/>
            <a:ext cx="609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638680" y="5748480"/>
            <a:ext cx="762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l-GR" sz="2200" spc="-1" strike="noStrike" baseline="-25000">
                <a:solidFill>
                  <a:srgbClr val="ff0000"/>
                </a:solidFill>
                <a:latin typeface="Arial"/>
              </a:rPr>
              <a:t>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0880" y="3705120"/>
            <a:ext cx="3505320" cy="1657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1757160"/>
            <a:ext cx="7162920" cy="825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          test statistic approximately follows a chi-squared distribution with one degree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5937120" y="4838760"/>
            <a:ext cx="1582920" cy="414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4106880" y="3505320"/>
            <a:ext cx="4122720" cy="175248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86200" y="50292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4249800" y="39625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4114800" y="388620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5938920" y="4851360"/>
            <a:ext cx="4680" cy="406440"/>
          </a:xfrm>
          <a:custGeom>
            <a:avLst/>
            <a:gdLst>
              <a:gd name="textAreaLeft" fmla="*/ 0 w 4680"/>
              <a:gd name="textAreaRight" fmla="*/ 5040 w 46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6095520" y="4800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248520" y="4495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V="1">
            <a:off x="5943600" y="5257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4191120" y="548640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5965920" y="5486400"/>
            <a:ext cx="1349280" cy="1440"/>
          </a:xfrm>
          <a:custGeom>
            <a:avLst/>
            <a:gdLst>
              <a:gd name="textAreaLeft" fmla="*/ 0 w 1349280"/>
              <a:gd name="textAreaRight" fmla="*/ 1349280 w 1349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095880" y="54928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495680" y="5492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1828800" y="1752480"/>
                <a:ext cx="974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4038480"/>
                <a:ext cx="1494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2" name="Rectangle 24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uting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verall Propor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76400" y="31240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Here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0880" y="3263760"/>
            <a:ext cx="2895840" cy="1828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80880" y="5646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.e., based on all 300 children the proportion of left handers is 0.12, that is,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52680" y="39704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3962520" y="1600200"/>
                <a:ext cx="2514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3886200" y="3741840"/>
                <a:ext cx="4572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Oval 7"/>
          <p:cNvSpPr/>
          <p:nvPr/>
        </p:nvSpPr>
        <p:spPr>
          <a:xfrm>
            <a:off x="7543800" y="3817800"/>
            <a:ext cx="9144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7924680" y="4537080"/>
            <a:ext cx="228600" cy="94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7848720" y="5486400"/>
            <a:ext cx="76176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371600" y="160020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erall proportion i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6320" y="2971800"/>
            <a:ext cx="89154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44:47Z</dcterms:modified>
  <cp:revision>243</cp:revision>
  <dc:subject>Business Statistics A First Course, 7e</dc:subject>
  <dc:title>Chapter 11: Chi-Square Tests</dc:title>
</cp:coreProperties>
</file>