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925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28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6492960"/>
            <a:ext cx="9144000" cy="452520"/>
          </a:xfrm>
          <a:prstGeom prst="rect">
            <a:avLst/>
          </a:prstGeom>
          <a:solidFill>
            <a:srgbClr val="fea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5e7"/>
                </a:solidFill>
                <a:latin typeface="Arial"/>
              </a:rPr>
              <a:t>                                                       </a:t>
            </a:r>
            <a:r>
              <a:rPr b="0" lang="en-US" sz="1200" spc="-1" strike="noStrike">
                <a:solidFill>
                  <a:srgbClr val="f3f5e7"/>
                </a:solidFill>
                <a:latin typeface="Arial"/>
              </a:rPr>
              <a:t>Copyright © 2016 Pearson Education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1"/>
          <p:cNvSpPr/>
          <p:nvPr/>
        </p:nvSpPr>
        <p:spPr>
          <a:xfrm>
            <a:off x="7067520" y="656424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11, Slide </a:t>
            </a:r>
            <a:fld id="{4D1C729A-5FE8-49EE-A628-A5307B3325EC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2" descr="Pearson_Strap_Bound_White"/>
          <p:cNvPicPr/>
          <p:nvPr/>
        </p:nvPicPr>
        <p:blipFill>
          <a:blip r:embed="rId2"/>
          <a:stretch/>
        </p:blipFill>
        <p:spPr>
          <a:xfrm>
            <a:off x="42840" y="648180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0" descr="Pearson_Bound_White"/>
          <p:cNvPicPr/>
          <p:nvPr/>
        </p:nvPicPr>
        <p:blipFill>
          <a:blip r:embed="rId3"/>
          <a:stretch/>
        </p:blipFill>
        <p:spPr>
          <a:xfrm>
            <a:off x="5626080" y="6477120"/>
            <a:ext cx="145584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4800600" y="21193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-Squar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800600" y="8380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a3400"/>
                </a:solidFill>
                <a:latin typeface="Arial"/>
              </a:rPr>
              <a:t>Chapter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032197901X_Levine_300dpi"/>
          <p:cNvPicPr/>
          <p:nvPr/>
        </p:nvPicPr>
        <p:blipFill>
          <a:blip r:embed="rId1"/>
          <a:stretch/>
        </p:blipFill>
        <p:spPr>
          <a:xfrm>
            <a:off x="225360" y="407880"/>
            <a:ext cx="454824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inding Expected Frequenci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obtain the expected frequency for left handed females, multiply the average proportion left handed (p) by the total number of fe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obtain the expected frequency for left handed males, multiply the average proportion left handed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p) by the total number of 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8229600" y="2308320"/>
            <a:ext cx="152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7010280" y="3486240"/>
            <a:ext cx="152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533520" y="4419720"/>
            <a:ext cx="81532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If the two proportions are equal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(Left Handed | Female) = P(Left Handed | Male) = 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i.e., we would expect </a:t>
            </a: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(.12)(120) = 14.4 females to be left h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(.12)(180) = 21.6 males to be left h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228600" y="4343400"/>
            <a:ext cx="868680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7543800" y="115236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2362320" y="480060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62320" y="388620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362320" y="4343400"/>
            <a:ext cx="5181480" cy="4572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362320" y="3429000"/>
            <a:ext cx="5181480" cy="4572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Observed vs. Expected Frequenci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2514600"/>
          <a:ext cx="7924680" cy="3419640"/>
        </p:xfrm>
        <a:graphic>
          <a:graphicData uri="http://schemas.openxmlformats.org/drawingml/2006/table">
            <a:tbl>
              <a:tblPr/>
              <a:tblGrid>
                <a:gridCol w="1676520"/>
                <a:gridCol w="2547720"/>
                <a:gridCol w="2633760"/>
                <a:gridCol w="1066680"/>
              </a:tblGrid>
              <a:tr h="442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5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4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05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5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21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58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50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362320" y="3657600"/>
            <a:ext cx="5181480" cy="3808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362320" y="281952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362320" y="3200400"/>
            <a:ext cx="5181480" cy="4572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362320" y="2362320"/>
            <a:ext cx="5181480" cy="4572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90720" y="1523880"/>
          <a:ext cx="7467480" cy="3048120"/>
        </p:xfrm>
        <a:graphic>
          <a:graphicData uri="http://schemas.openxmlformats.org/drawingml/2006/table">
            <a:tbl>
              <a:tblPr/>
              <a:tblGrid>
                <a:gridCol w="1371600"/>
                <a:gridCol w="2547720"/>
                <a:gridCol w="2633760"/>
                <a:gridCol w="914400"/>
              </a:tblGrid>
              <a:tr h="4118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4.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05.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8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21.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5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58.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Object 51"/>
              <p:cNvSpPr txBox="1"/>
              <p:nvPr/>
            </p:nvSpPr>
            <p:spPr>
              <a:xfrm>
                <a:off x="1143000" y="4959360"/>
                <a:ext cx="741528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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l cells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7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Chi-Square Test Statistic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27" name="Text Box 53"/>
          <p:cNvSpPr/>
          <p:nvPr/>
        </p:nvSpPr>
        <p:spPr>
          <a:xfrm>
            <a:off x="304920" y="457848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The test statistic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60"/>
          <p:cNvSpPr/>
          <p:nvPr/>
        </p:nvSpPr>
        <p:spPr>
          <a:xfrm>
            <a:off x="7772400" y="5683320"/>
            <a:ext cx="91440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3"/>
          <p:cNvSpPr/>
          <p:nvPr/>
        </p:nvSpPr>
        <p:spPr>
          <a:xfrm>
            <a:off x="7543800" y="115236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Decision Ru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6807240" y="452448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6481800" y="452448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6153120" y="452448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4267080" y="2468880"/>
            <a:ext cx="4572000" cy="12920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cisio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          &gt; 3.841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therwise,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54"/>
              <p:cNvSpPr txBox="1"/>
              <p:nvPr/>
            </p:nvSpPr>
            <p:spPr>
              <a:xfrm>
                <a:off x="546120" y="1787400"/>
                <a:ext cx="81169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test statistic is 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76 ;   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with 1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 Box 24"/>
          <p:cNvSpPr/>
          <p:nvPr/>
        </p:nvSpPr>
        <p:spPr>
          <a:xfrm>
            <a:off x="5105520" y="4098960"/>
            <a:ext cx="3886200" cy="22701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7576&lt;           = 3.84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 not reject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onclude that there is not sufficient evidence that the two proportions are different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5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4114800" y="1905120"/>
            <a:ext cx="9907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7"/>
          <p:cNvSpPr/>
          <p:nvPr/>
        </p:nvSpPr>
        <p:spPr>
          <a:xfrm>
            <a:off x="4267080" y="5181480"/>
            <a:ext cx="609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lang="en-US" sz="2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1981080" y="5638680"/>
            <a:ext cx="1828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Arial"/>
              </a:rPr>
              <a:t>0.05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= 3.8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9"/>
          <p:cNvSpPr/>
          <p:nvPr/>
        </p:nvSpPr>
        <p:spPr>
          <a:xfrm>
            <a:off x="2584440" y="4686480"/>
            <a:ext cx="1582920" cy="41400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414000"/>
              <a:gd name="textAreaBottom" fmla="*/ 414360 h 414000"/>
            </a:gdLst>
            <a:ahLst/>
            <a:rect l="textAreaLeft" t="textAreaTop" r="textAreaRight" b="textAreaBottom"/>
            <a:pathLst>
              <a:path w="997" h="261">
                <a:moveTo>
                  <a:pt x="8" y="261"/>
                </a:moveTo>
                <a:lnTo>
                  <a:pt x="0" y="0"/>
                </a:lnTo>
                <a:lnTo>
                  <a:pt x="102" y="83"/>
                </a:lnTo>
                <a:lnTo>
                  <a:pt x="174" y="128"/>
                </a:lnTo>
                <a:lnTo>
                  <a:pt x="223" y="149"/>
                </a:lnTo>
                <a:lnTo>
                  <a:pt x="249" y="155"/>
                </a:lnTo>
                <a:lnTo>
                  <a:pt x="322" y="176"/>
                </a:lnTo>
                <a:lnTo>
                  <a:pt x="363" y="180"/>
                </a:lnTo>
                <a:lnTo>
                  <a:pt x="448" y="201"/>
                </a:lnTo>
                <a:lnTo>
                  <a:pt x="594" y="221"/>
                </a:lnTo>
                <a:lnTo>
                  <a:pt x="997" y="240"/>
                </a:lnTo>
                <a:lnTo>
                  <a:pt x="996" y="260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0"/>
          <p:cNvSpPr/>
          <p:nvPr/>
        </p:nvSpPr>
        <p:spPr>
          <a:xfrm>
            <a:off x="754200" y="3352680"/>
            <a:ext cx="4122720" cy="1752840"/>
          </a:xfrm>
          <a:custGeom>
            <a:avLst/>
            <a:gdLst>
              <a:gd name="textAreaLeft" fmla="*/ 0 w 4122720"/>
              <a:gd name="textAreaRight" fmla="*/ 4123080 w 412272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1"/>
          <p:cNvSpPr/>
          <p:nvPr/>
        </p:nvSpPr>
        <p:spPr>
          <a:xfrm>
            <a:off x="533520" y="487692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2"/>
          <p:cNvSpPr/>
          <p:nvPr/>
        </p:nvSpPr>
        <p:spPr>
          <a:xfrm>
            <a:off x="896760" y="380988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3"/>
          <p:cNvSpPr/>
          <p:nvPr/>
        </p:nvSpPr>
        <p:spPr>
          <a:xfrm>
            <a:off x="762120" y="3733920"/>
            <a:ext cx="4343400" cy="139212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4"/>
          <p:cNvSpPr/>
          <p:nvPr/>
        </p:nvSpPr>
        <p:spPr>
          <a:xfrm>
            <a:off x="2585880" y="4699080"/>
            <a:ext cx="5040" cy="406440"/>
          </a:xfrm>
          <a:custGeom>
            <a:avLst/>
            <a:gdLst>
              <a:gd name="textAreaLeft" fmla="*/ 0 w 5040"/>
              <a:gd name="textAreaRight" fmla="*/ 5400 w 5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" h="256">
                <a:moveTo>
                  <a:pt x="0" y="0"/>
                </a:moveTo>
                <a:lnTo>
                  <a:pt x="3" y="256"/>
                </a:ln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5"/>
          <p:cNvSpPr/>
          <p:nvPr/>
        </p:nvSpPr>
        <p:spPr>
          <a:xfrm flipH="1">
            <a:off x="2742840" y="46483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2895480" y="4343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7"/>
          <p:cNvSpPr/>
          <p:nvPr/>
        </p:nvSpPr>
        <p:spPr>
          <a:xfrm flipV="1">
            <a:off x="2590920" y="51051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8"/>
          <p:cNvSpPr/>
          <p:nvPr/>
        </p:nvSpPr>
        <p:spPr>
          <a:xfrm>
            <a:off x="838080" y="5334120"/>
            <a:ext cx="1731960" cy="144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91" h="1">
                <a:moveTo>
                  <a:pt x="1091" y="0"/>
                </a:moveTo>
                <a:lnTo>
                  <a:pt x="0" y="1"/>
                </a:ln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9"/>
          <p:cNvSpPr/>
          <p:nvPr/>
        </p:nvSpPr>
        <p:spPr>
          <a:xfrm>
            <a:off x="2612880" y="5334120"/>
            <a:ext cx="1349640" cy="1440"/>
          </a:xfrm>
          <a:custGeom>
            <a:avLst/>
            <a:gdLst>
              <a:gd name="textAreaLeft" fmla="*/ 0 w 1349640"/>
              <a:gd name="textAreaRight" fmla="*/ 1350000 w 13496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50" h="1">
                <a:moveTo>
                  <a:pt x="85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0"/>
          <p:cNvSpPr/>
          <p:nvPr/>
        </p:nvSpPr>
        <p:spPr>
          <a:xfrm>
            <a:off x="2743200" y="534024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1143000" y="534024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3"/>
          <p:cNvSpPr/>
          <p:nvPr/>
        </p:nvSpPr>
        <p:spPr>
          <a:xfrm>
            <a:off x="1447920" y="3048120"/>
            <a:ext cx="2514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4"/>
          <p:cNvSpPr/>
          <p:nvPr/>
        </p:nvSpPr>
        <p:spPr>
          <a:xfrm flipV="1">
            <a:off x="3962520" y="2285640"/>
            <a:ext cx="22860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55"/>
              <p:cNvSpPr txBox="1"/>
              <p:nvPr/>
            </p:nvSpPr>
            <p:spPr>
              <a:xfrm>
                <a:off x="4648320" y="2819520"/>
                <a:ext cx="838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56"/>
              <p:cNvSpPr txBox="1"/>
              <p:nvPr/>
            </p:nvSpPr>
            <p:spPr>
              <a:xfrm>
                <a:off x="5181480" y="4343400"/>
                <a:ext cx="7146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57"/>
              <p:cNvSpPr txBox="1"/>
              <p:nvPr/>
            </p:nvSpPr>
            <p:spPr>
              <a:xfrm>
                <a:off x="7315200" y="4332240"/>
                <a:ext cx="595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9" name="Rectangle 32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Symbol"/>
                <a:ea typeface="Symbol"/>
              </a:rPr>
              <a:t>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Test for Differences Among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ore Than Two Proportion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st to the case with more than two independent popul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523880" y="3276720"/>
            <a:ext cx="5943600" cy="11430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43080" indent="-34308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Not all of the </a:t>
            </a:r>
            <a:r>
              <a:rPr b="0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re equal (j = 1, 2, 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7543800" y="122868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Chi-Square Test Statistic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09120" y="349380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observed frequency in a particular cell of the  2 x c 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expected frequency in a particular cell if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r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ssumed:  each cell in the contingency table has exp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cy of at least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2529000" y="2314440"/>
                <a:ext cx="35542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rPr>
                            <m:lit/>
                            <m:nor/>
                          </m:rPr>
                          <m:t xml:space="preserve"> cells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7" name="Rectangle 5"/>
          <p:cNvSpPr/>
          <p:nvPr/>
        </p:nvSpPr>
        <p:spPr>
          <a:xfrm>
            <a:off x="609480" y="167652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i-square test statistic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685800" y="4724280"/>
                <a:ext cx="80773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for the 2 x c case ha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-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-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c-1 degrees of freed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8"/>
          <p:cNvSpPr/>
          <p:nvPr/>
        </p:nvSpPr>
        <p:spPr>
          <a:xfrm>
            <a:off x="7543800" y="115236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mputing th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Overall Propor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09120" y="31111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ed cell frequencies for the c categories are calculated as in the  2 x 2  case, and the decision rule is the sam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4"/>
              <p:cNvSpPr txBox="1"/>
              <p:nvPr/>
            </p:nvSpPr>
            <p:spPr>
              <a:xfrm>
                <a:off x="3959280" y="1600200"/>
                <a:ext cx="3889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Rectangle 12"/>
          <p:cNvSpPr/>
          <p:nvPr/>
        </p:nvSpPr>
        <p:spPr>
          <a:xfrm>
            <a:off x="609480" y="160020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overall proportion i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76320" y="2971800"/>
            <a:ext cx="891540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4648320" y="4648320"/>
            <a:ext cx="3657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is from the chi-squared distribution with  c – 1 degrees of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33520" y="4861080"/>
            <a:ext cx="3962160" cy="12920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cisio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                  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therwise,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5"/>
              <p:cNvSpPr txBox="1"/>
              <p:nvPr/>
            </p:nvSpPr>
            <p:spPr>
              <a:xfrm>
                <a:off x="990720" y="5257800"/>
                <a:ext cx="1493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8" name="Rectangle 12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5799240" y="46324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Symbol"/>
                <a:ea typeface="Symbol"/>
              </a:rPr>
              <a:t>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Test of Independe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to th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st for equality of more than two proportions, but extends the concept to contingency tables with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r row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c colum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09480" y="3581280"/>
            <a:ext cx="8077320" cy="19814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The two categorical variables are indepen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i.e., there is no relationship between the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The two categorical variables are depen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i.e., there is a relationship between the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7543800" y="114300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Symbol"/>
                <a:ea typeface="Symbol"/>
              </a:rPr>
              <a:t>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Test of Independe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7"/>
              <p:cNvSpPr txBox="1"/>
              <p:nvPr/>
            </p:nvSpPr>
            <p:spPr>
              <a:xfrm>
                <a:off x="1047600" y="4896000"/>
                <a:ext cx="65455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for the  r x c case  has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-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-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degrees of freed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5"/>
          <p:cNvSpPr/>
          <p:nvPr/>
        </p:nvSpPr>
        <p:spPr>
          <a:xfrm>
            <a:off x="609480" y="3581280"/>
            <a:ext cx="7620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4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observed frequency in a particular cell of the  r x c 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expected frequency in a particular cell if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ssumed:  each cell in the contingency table ha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cy of at least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6"/>
              <p:cNvSpPr txBox="1"/>
              <p:nvPr/>
            </p:nvSpPr>
            <p:spPr>
              <a:xfrm>
                <a:off x="2532240" y="2314440"/>
                <a:ext cx="37544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rPr>
                            <m:lit/>
                            <m:nor/>
                          </m:rPr>
                          <m:t xml:space="preserve"> cells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8" name="Rectangle 7"/>
          <p:cNvSpPr/>
          <p:nvPr/>
        </p:nvSpPr>
        <p:spPr>
          <a:xfrm>
            <a:off x="609480" y="167652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i-square test statistic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7467480" y="16765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725652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pected Cell Frequenci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pected cell frequencie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7"/>
              <p:cNvSpPr txBox="1"/>
              <p:nvPr/>
            </p:nvSpPr>
            <p:spPr>
              <a:xfrm>
                <a:off x="1847880" y="2508120"/>
                <a:ext cx="518616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ow total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lumn total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Rectangle 7"/>
          <p:cNvSpPr/>
          <p:nvPr/>
        </p:nvSpPr>
        <p:spPr>
          <a:xfrm>
            <a:off x="609480" y="4038480"/>
            <a:ext cx="7467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w total = sum of all frequencies in the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umn total = sum of all frequencies in th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= overall samp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543800" y="114300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is chapter, you lear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11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and when to use the chi-square test for contingency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Decision Ru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200" y="1828800"/>
            <a:ext cx="39625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cision rul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63480" y="4267080"/>
            <a:ext cx="8023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is from the chi-square distribution with  (r – 1)  (c – 1)  degrees of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828800" y="2584440"/>
            <a:ext cx="3886200" cy="11577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                  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14"/>
              <p:cNvSpPr txBox="1"/>
              <p:nvPr/>
            </p:nvSpPr>
            <p:spPr>
              <a:xfrm>
                <a:off x="2209680" y="2666880"/>
                <a:ext cx="1494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01" name="Rectangle 9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1843200" y="42624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1828800"/>
            <a:ext cx="822960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eal plan selected by 200 students is shown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990720" y="2514600"/>
          <a:ext cx="7162560" cy="3613320"/>
        </p:xfrm>
        <a:graphic>
          <a:graphicData uri="http://schemas.openxmlformats.org/drawingml/2006/table">
            <a:tbl>
              <a:tblPr/>
              <a:tblGrid>
                <a:gridCol w="1447560"/>
                <a:gridCol w="1371600"/>
                <a:gridCol w="1447920"/>
                <a:gridCol w="1600200"/>
                <a:gridCol w="1295280"/>
              </a:tblGrid>
              <a:tr h="459720">
                <a:tc rowSpan="2"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meals per we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we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we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6" name="Rectangle 51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ypothesis to be tested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1"/>
          <p:cNvSpPr/>
          <p:nvPr/>
        </p:nvSpPr>
        <p:spPr>
          <a:xfrm>
            <a:off x="609480" y="2590920"/>
            <a:ext cx="8077320" cy="19810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eal plan and class standing are indepen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i.e., there is no relationship between the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eal plan and class standing are depen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i.e., there is a relationship between the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543800" y="68580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32456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6320" y="1752480"/>
          <a:ext cx="4038480" cy="2494080"/>
        </p:xfrm>
        <a:graphic>
          <a:graphicData uri="http://schemas.openxmlformats.org/drawingml/2006/table">
            <a:tbl>
              <a:tblPr/>
              <a:tblGrid>
                <a:gridCol w="990360"/>
                <a:gridCol w="762120"/>
                <a:gridCol w="762120"/>
                <a:gridCol w="806400"/>
                <a:gridCol w="717480"/>
              </a:tblGrid>
              <a:tr h="483120">
                <a:tc rowSpan="2">
                  <a:txBody>
                    <a:bodyPr lIns="90000" rIns="90000" anchor="b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meal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we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w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w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343400" y="2971800"/>
          <a:ext cx="4648320" cy="31021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838440"/>
                <a:gridCol w="838080"/>
                <a:gridCol w="990720"/>
              </a:tblGrid>
              <a:tr h="587520">
                <a:tc rowSpan="2">
                  <a:txBody>
                    <a:bodyPr lIns="90000" rIns="90000" anchor="b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me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4" name="Text Box 128"/>
          <p:cNvSpPr/>
          <p:nvPr/>
        </p:nvSpPr>
        <p:spPr>
          <a:xfrm>
            <a:off x="1219320" y="1295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9"/>
          <p:cNvSpPr/>
          <p:nvPr/>
        </p:nvSpPr>
        <p:spPr>
          <a:xfrm>
            <a:off x="5181480" y="1981080"/>
            <a:ext cx="358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ed cell frequencies  if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r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30"/>
          <p:cNvSpPr/>
          <p:nvPr/>
        </p:nvSpPr>
        <p:spPr>
          <a:xfrm rot="5400000">
            <a:off x="4210200" y="1962000"/>
            <a:ext cx="914400" cy="952560"/>
          </a:xfrm>
          <a:custGeom>
            <a:avLst/>
            <a:gdLst>
              <a:gd name="textAreaLeft" fmla="*/ 525960 w 914400"/>
              <a:gd name="textAreaRight" fmla="*/ 771840 w 914400"/>
              <a:gd name="textAreaTop" fmla="*/ 128160 h 952560"/>
              <a:gd name="textAreaBottom" fmla="*/ 4078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33"/>
              <p:cNvSpPr txBox="1"/>
              <p:nvPr/>
            </p:nvSpPr>
            <p:spPr>
              <a:xfrm>
                <a:off x="533520" y="4876920"/>
                <a:ext cx="320508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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ow total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lumn total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Oval 132"/>
          <p:cNvSpPr/>
          <p:nvPr/>
        </p:nvSpPr>
        <p:spPr>
          <a:xfrm>
            <a:off x="1981080" y="5715000"/>
            <a:ext cx="8384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33"/>
          <p:cNvSpPr/>
          <p:nvPr/>
        </p:nvSpPr>
        <p:spPr>
          <a:xfrm flipV="1">
            <a:off x="2819520" y="5181120"/>
            <a:ext cx="281916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4"/>
          <p:cNvSpPr/>
          <p:nvPr/>
        </p:nvSpPr>
        <p:spPr>
          <a:xfrm>
            <a:off x="5562720" y="4648320"/>
            <a:ext cx="664920" cy="677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5"/>
          <p:cNvSpPr/>
          <p:nvPr/>
        </p:nvSpPr>
        <p:spPr>
          <a:xfrm>
            <a:off x="304920" y="4419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for one ce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pected Cell Frequenci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23" name="Rectangle 105"/>
          <p:cNvSpPr/>
          <p:nvPr/>
        </p:nvSpPr>
        <p:spPr>
          <a:xfrm>
            <a:off x="7543800" y="14479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7311960" y="1074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: The Test Statistic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09200" y="1828800"/>
            <a:ext cx="39625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st statistic value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0"/>
              <p:cNvSpPr txBox="1"/>
              <p:nvPr/>
            </p:nvSpPr>
            <p:spPr>
              <a:xfrm>
                <a:off x="1225440" y="2486160"/>
                <a:ext cx="694080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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ells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Text Box 6"/>
          <p:cNvSpPr/>
          <p:nvPr/>
        </p:nvSpPr>
        <p:spPr>
          <a:xfrm>
            <a:off x="1125360" y="45720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.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12.592 from the chi-square distribution with  (4 – 1)(3 – 1) = 6  degrees of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7467480" y="160020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1297080" y="450684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724392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Decision and Interpret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680724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648180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615312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4267080" y="2516400"/>
            <a:ext cx="4572000" cy="12920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cisio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          &gt; 12.592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therwise,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0"/>
              <p:cNvSpPr txBox="1"/>
              <p:nvPr/>
            </p:nvSpPr>
            <p:spPr>
              <a:xfrm>
                <a:off x="382680" y="1787400"/>
                <a:ext cx="84153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test statistic is 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9</m:t>
                    </m:r>
                    <m:r>
                      <m:rPr>
                        <m:lit/>
                        <m:nor/>
                      </m:rPr>
                      <m:t xml:space="preserve"> ;   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with  6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Text Box 10"/>
          <p:cNvSpPr/>
          <p:nvPr/>
        </p:nvSpPr>
        <p:spPr>
          <a:xfrm>
            <a:off x="5105520" y="4230720"/>
            <a:ext cx="3886200" cy="22701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709 &lt;           = 12.59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 not reject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is not sufficient evidence that meal plan and class standing are related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1295280" y="304812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4114800" y="1905120"/>
            <a:ext cx="7621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4267080" y="5181480"/>
            <a:ext cx="609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lang="en-US" sz="2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1981080" y="5638680"/>
            <a:ext cx="19051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Arial"/>
              </a:rPr>
              <a:t>0.05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=12.5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5"/>
          <p:cNvSpPr/>
          <p:nvPr/>
        </p:nvSpPr>
        <p:spPr>
          <a:xfrm>
            <a:off x="2584440" y="4686480"/>
            <a:ext cx="1582920" cy="41400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414000"/>
              <a:gd name="textAreaBottom" fmla="*/ 414360 h 414000"/>
            </a:gdLst>
            <a:ahLst/>
            <a:rect l="textAreaLeft" t="textAreaTop" r="textAreaRight" b="textAreaBottom"/>
            <a:pathLst>
              <a:path w="997" h="261">
                <a:moveTo>
                  <a:pt x="8" y="261"/>
                </a:moveTo>
                <a:lnTo>
                  <a:pt x="0" y="0"/>
                </a:lnTo>
                <a:lnTo>
                  <a:pt x="102" y="83"/>
                </a:lnTo>
                <a:lnTo>
                  <a:pt x="174" y="128"/>
                </a:lnTo>
                <a:lnTo>
                  <a:pt x="223" y="149"/>
                </a:lnTo>
                <a:lnTo>
                  <a:pt x="249" y="155"/>
                </a:lnTo>
                <a:lnTo>
                  <a:pt x="322" y="176"/>
                </a:lnTo>
                <a:lnTo>
                  <a:pt x="363" y="180"/>
                </a:lnTo>
                <a:lnTo>
                  <a:pt x="448" y="201"/>
                </a:lnTo>
                <a:lnTo>
                  <a:pt x="594" y="221"/>
                </a:lnTo>
                <a:lnTo>
                  <a:pt x="997" y="240"/>
                </a:lnTo>
                <a:lnTo>
                  <a:pt x="996" y="260"/>
                </a:lnTo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6"/>
          <p:cNvSpPr/>
          <p:nvPr/>
        </p:nvSpPr>
        <p:spPr>
          <a:xfrm>
            <a:off x="754200" y="3352680"/>
            <a:ext cx="4122720" cy="1752840"/>
          </a:xfrm>
          <a:custGeom>
            <a:avLst/>
            <a:gdLst>
              <a:gd name="textAreaLeft" fmla="*/ 0 w 4122720"/>
              <a:gd name="textAreaRight" fmla="*/ 4123080 w 412272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533520" y="487692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896760" y="380988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9"/>
          <p:cNvSpPr/>
          <p:nvPr/>
        </p:nvSpPr>
        <p:spPr>
          <a:xfrm>
            <a:off x="762120" y="3733920"/>
            <a:ext cx="4343400" cy="139212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0"/>
          <p:cNvSpPr/>
          <p:nvPr/>
        </p:nvSpPr>
        <p:spPr>
          <a:xfrm>
            <a:off x="2585880" y="4699080"/>
            <a:ext cx="5040" cy="406440"/>
          </a:xfrm>
          <a:custGeom>
            <a:avLst/>
            <a:gdLst>
              <a:gd name="textAreaLeft" fmla="*/ 0 w 5040"/>
              <a:gd name="textAreaRight" fmla="*/ 5400 w 5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" h="256">
                <a:moveTo>
                  <a:pt x="0" y="0"/>
                </a:moveTo>
                <a:lnTo>
                  <a:pt x="3" y="256"/>
                </a:ln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1"/>
          <p:cNvSpPr/>
          <p:nvPr/>
        </p:nvSpPr>
        <p:spPr>
          <a:xfrm flipH="1">
            <a:off x="2742840" y="46483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2895480" y="4343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3"/>
          <p:cNvSpPr/>
          <p:nvPr/>
        </p:nvSpPr>
        <p:spPr>
          <a:xfrm flipV="1">
            <a:off x="2590920" y="51051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4"/>
          <p:cNvSpPr/>
          <p:nvPr/>
        </p:nvSpPr>
        <p:spPr>
          <a:xfrm>
            <a:off x="838080" y="5334120"/>
            <a:ext cx="1731960" cy="144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91" h="1">
                <a:moveTo>
                  <a:pt x="1091" y="0"/>
                </a:moveTo>
                <a:lnTo>
                  <a:pt x="0" y="1"/>
                </a:ln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5"/>
          <p:cNvSpPr/>
          <p:nvPr/>
        </p:nvSpPr>
        <p:spPr>
          <a:xfrm>
            <a:off x="2612880" y="5334120"/>
            <a:ext cx="1349640" cy="1440"/>
          </a:xfrm>
          <a:custGeom>
            <a:avLst/>
            <a:gdLst>
              <a:gd name="textAreaLeft" fmla="*/ 0 w 1349640"/>
              <a:gd name="textAreaRight" fmla="*/ 1350000 w 13496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50" h="1">
                <a:moveTo>
                  <a:pt x="85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6"/>
          <p:cNvSpPr/>
          <p:nvPr/>
        </p:nvSpPr>
        <p:spPr>
          <a:xfrm>
            <a:off x="2743200" y="534024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1143000" y="534024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1295280" y="3048120"/>
            <a:ext cx="2895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9"/>
          <p:cNvSpPr/>
          <p:nvPr/>
        </p:nvSpPr>
        <p:spPr>
          <a:xfrm flipV="1">
            <a:off x="4191120" y="228564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2"/>
              <p:cNvSpPr txBox="1"/>
              <p:nvPr/>
            </p:nvSpPr>
            <p:spPr>
              <a:xfrm>
                <a:off x="5105520" y="4495680"/>
                <a:ext cx="6858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43"/>
              <p:cNvSpPr txBox="1"/>
              <p:nvPr/>
            </p:nvSpPr>
            <p:spPr>
              <a:xfrm>
                <a:off x="7086600" y="4495680"/>
                <a:ext cx="59544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0" name="Rectangle 33"/>
          <p:cNvSpPr/>
          <p:nvPr/>
        </p:nvSpPr>
        <p:spPr>
          <a:xfrm>
            <a:off x="7620120" y="762120"/>
            <a:ext cx="1447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1"/>
              <p:cNvSpPr txBox="1"/>
              <p:nvPr/>
            </p:nvSpPr>
            <p:spPr>
              <a:xfrm>
                <a:off x="4589640" y="2825640"/>
                <a:ext cx="9316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2" name="Text Box 4"/>
          <p:cNvSpPr/>
          <p:nvPr/>
        </p:nvSpPr>
        <p:spPr>
          <a:xfrm>
            <a:off x="739296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hapter Summary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is chapter we discus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11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and when to use the chi-square test for contingency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tingency Tabl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120" y="1828800"/>
            <a:ext cx="8077320" cy="3687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Contingency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in situations comparing multiple population propor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classify sample observations according to two or more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called a cross-classification tabl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990720" y="1752480"/>
            <a:ext cx="5562360" cy="18288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09480" y="1752480"/>
            <a:ext cx="647712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1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ft-Handed vs.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1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minant Han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Left vs.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1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nd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ale vs.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10000"/>
              </a:lnSpc>
              <a:spcBef>
                <a:spcPts val="437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10000"/>
              </a:lnSpc>
              <a:spcBef>
                <a:spcPts val="1225"/>
              </a:spcBef>
              <a:buClr>
                <a:srgbClr val="fea40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categories for each variable, so this is called a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2 x 2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225"/>
              </a:spcBef>
              <a:buClr>
                <a:srgbClr val="fea40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se we examine a sampl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5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0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tingency Table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7543800" y="106668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tingency Table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ample results organized in a contingency table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732456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05320" y="2666880"/>
          <a:ext cx="5105160" cy="3094200"/>
        </p:xfrm>
        <a:graphic>
          <a:graphicData uri="http://schemas.openxmlformats.org/drawingml/2006/table">
            <a:tbl>
              <a:tblPr/>
              <a:tblGrid>
                <a:gridCol w="1371600"/>
                <a:gridCol w="1349280"/>
                <a:gridCol w="1317600"/>
                <a:gridCol w="1066680"/>
              </a:tblGrid>
              <a:tr h="442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44"/>
          <p:cNvSpPr/>
          <p:nvPr/>
        </p:nvSpPr>
        <p:spPr>
          <a:xfrm>
            <a:off x="152280" y="3505320"/>
            <a:ext cx="2895840" cy="18288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1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20 Females, 12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80 Males, 24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5"/>
          <p:cNvSpPr/>
          <p:nvPr/>
        </p:nvSpPr>
        <p:spPr>
          <a:xfrm>
            <a:off x="3048120" y="4343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6"/>
          <p:cNvSpPr/>
          <p:nvPr/>
        </p:nvSpPr>
        <p:spPr>
          <a:xfrm>
            <a:off x="0" y="297180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ample size = n = 300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8"/>
          <p:cNvSpPr/>
          <p:nvPr/>
        </p:nvSpPr>
        <p:spPr>
          <a:xfrm>
            <a:off x="7543800" y="152388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41904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Symbol"/>
                <a:ea typeface="Symbol"/>
              </a:rPr>
              <a:t>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Test for the Difference Between Two Proportion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09120" y="4340160"/>
            <a:ext cx="8077320" cy="2146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rue, then the proportion of left-handed females should be the same as the proportion of left-handed m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5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wo proportions above should be the same as the proportion of left-handed people over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295280" y="1905120"/>
            <a:ext cx="6934320" cy="19810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(Proportion of females who are lef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nded is equal to the proportion o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les who are left handed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lang="el-G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(The two proportions are not the sam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Chi-Square Test Statistic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120" y="347976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observed frequency in a particular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expected frequency in a particular cell if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r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ssumed:  each cell in the contingency table has exp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cy of at least 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5"/>
              <p:cNvSpPr txBox="1"/>
              <p:nvPr/>
            </p:nvSpPr>
            <p:spPr>
              <a:xfrm>
                <a:off x="2422440" y="2316240"/>
                <a:ext cx="4475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rPr>
                            <m:lit/>
                            <m:nor/>
                          </m:rPr>
                          <m:t xml:space="preserve"> cells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Rectangle 5"/>
          <p:cNvSpPr/>
          <p:nvPr/>
        </p:nvSpPr>
        <p:spPr>
          <a:xfrm>
            <a:off x="609480" y="167652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i-square test statistic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6"/>
              <p:cNvSpPr txBox="1"/>
              <p:nvPr/>
            </p:nvSpPr>
            <p:spPr>
              <a:xfrm>
                <a:off x="995400" y="4724280"/>
                <a:ext cx="6545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for the 2 x 2 case has 1 degree of freed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9"/>
          <p:cNvSpPr/>
          <p:nvPr/>
        </p:nvSpPr>
        <p:spPr>
          <a:xfrm>
            <a:off x="7543800" y="130500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Decision Ru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7620120" y="5334120"/>
            <a:ext cx="6094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lang="en-US" sz="25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5638680" y="5748480"/>
            <a:ext cx="7621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l-GR" sz="2200" spc="-1" strike="noStrike" baseline="-25000">
                <a:solidFill>
                  <a:srgbClr val="ff0000"/>
                </a:solidFill>
                <a:latin typeface="Arial"/>
              </a:rPr>
              <a:t>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80880" y="3705120"/>
            <a:ext cx="3505320" cy="16578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cisio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                  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therwise,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066680" y="1757160"/>
            <a:ext cx="7162920" cy="8254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          test statistic approximately follows a chi-squared distribution with one degree of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7"/>
          <p:cNvSpPr/>
          <p:nvPr/>
        </p:nvSpPr>
        <p:spPr>
          <a:xfrm>
            <a:off x="5937120" y="4838760"/>
            <a:ext cx="1582920" cy="414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997" h="261">
                <a:moveTo>
                  <a:pt x="8" y="261"/>
                </a:moveTo>
                <a:lnTo>
                  <a:pt x="0" y="0"/>
                </a:lnTo>
                <a:lnTo>
                  <a:pt x="102" y="83"/>
                </a:lnTo>
                <a:lnTo>
                  <a:pt x="174" y="128"/>
                </a:lnTo>
                <a:lnTo>
                  <a:pt x="223" y="149"/>
                </a:lnTo>
                <a:lnTo>
                  <a:pt x="249" y="155"/>
                </a:lnTo>
                <a:lnTo>
                  <a:pt x="322" y="176"/>
                </a:lnTo>
                <a:lnTo>
                  <a:pt x="363" y="180"/>
                </a:lnTo>
                <a:lnTo>
                  <a:pt x="448" y="201"/>
                </a:lnTo>
                <a:lnTo>
                  <a:pt x="594" y="221"/>
                </a:lnTo>
                <a:lnTo>
                  <a:pt x="997" y="240"/>
                </a:lnTo>
                <a:lnTo>
                  <a:pt x="996" y="260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8"/>
          <p:cNvSpPr/>
          <p:nvPr/>
        </p:nvSpPr>
        <p:spPr>
          <a:xfrm>
            <a:off x="4106880" y="3505320"/>
            <a:ext cx="4122720" cy="1752480"/>
          </a:xfrm>
          <a:custGeom>
            <a:avLst/>
            <a:gdLst>
              <a:gd name="textAreaLeft" fmla="*/ 0 w 4122720"/>
              <a:gd name="textAreaRight" fmla="*/ 4123080 w 41227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886200" y="502920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4249800" y="396252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1"/>
          <p:cNvSpPr/>
          <p:nvPr/>
        </p:nvSpPr>
        <p:spPr>
          <a:xfrm>
            <a:off x="4114800" y="3886200"/>
            <a:ext cx="4343400" cy="139212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2"/>
          <p:cNvSpPr/>
          <p:nvPr/>
        </p:nvSpPr>
        <p:spPr>
          <a:xfrm>
            <a:off x="5938920" y="4851360"/>
            <a:ext cx="4680" cy="406440"/>
          </a:xfrm>
          <a:custGeom>
            <a:avLst/>
            <a:gdLst>
              <a:gd name="textAreaLeft" fmla="*/ 0 w 4680"/>
              <a:gd name="textAreaRight" fmla="*/ 5040 w 46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" h="256">
                <a:moveTo>
                  <a:pt x="0" y="0"/>
                </a:moveTo>
                <a:lnTo>
                  <a:pt x="3" y="256"/>
                </a:ln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 flipH="1">
            <a:off x="6095520" y="4800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6248520" y="4495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V="1">
            <a:off x="5943600" y="5257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6"/>
          <p:cNvSpPr/>
          <p:nvPr/>
        </p:nvSpPr>
        <p:spPr>
          <a:xfrm>
            <a:off x="4191120" y="5486400"/>
            <a:ext cx="1731960" cy="144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91" h="1">
                <a:moveTo>
                  <a:pt x="1091" y="0"/>
                </a:moveTo>
                <a:lnTo>
                  <a:pt x="0" y="1"/>
                </a:ln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7"/>
          <p:cNvSpPr/>
          <p:nvPr/>
        </p:nvSpPr>
        <p:spPr>
          <a:xfrm>
            <a:off x="5965920" y="5486400"/>
            <a:ext cx="1349280" cy="1440"/>
          </a:xfrm>
          <a:custGeom>
            <a:avLst/>
            <a:gdLst>
              <a:gd name="textAreaLeft" fmla="*/ 0 w 1349280"/>
              <a:gd name="textAreaRight" fmla="*/ 1349280 w 1349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50" h="1">
                <a:moveTo>
                  <a:pt x="85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6095880" y="549288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4495680" y="54928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1828800" y="1752480"/>
                <a:ext cx="9748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5"/>
              <p:cNvSpPr txBox="1"/>
              <p:nvPr/>
            </p:nvSpPr>
            <p:spPr>
              <a:xfrm>
                <a:off x="838080" y="4038480"/>
                <a:ext cx="1494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2" name="Rectangle 24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mputing th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Overall Propor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776400" y="3124080"/>
            <a:ext cx="106668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Here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80880" y="3263760"/>
            <a:ext cx="2895840" cy="18288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20 Females, 12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80 Males, 24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80880" y="56466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baf8"/>
                </a:solidFill>
                <a:latin typeface="Arial"/>
              </a:rPr>
              <a:t>i.e., based on all 300 children the proportion of left handers is 0.12, that is, 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3352680" y="39704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4"/>
              <p:cNvSpPr txBox="1"/>
              <p:nvPr/>
            </p:nvSpPr>
            <p:spPr>
              <a:xfrm>
                <a:off x="3962520" y="1600200"/>
                <a:ext cx="25146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5"/>
              <p:cNvSpPr txBox="1"/>
              <p:nvPr/>
            </p:nvSpPr>
            <p:spPr>
              <a:xfrm>
                <a:off x="3886200" y="3741840"/>
                <a:ext cx="45720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Oval 7"/>
          <p:cNvSpPr/>
          <p:nvPr/>
        </p:nvSpPr>
        <p:spPr>
          <a:xfrm>
            <a:off x="7543800" y="3817800"/>
            <a:ext cx="91440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7924680" y="4537080"/>
            <a:ext cx="228600" cy="94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7848720" y="5486400"/>
            <a:ext cx="761760" cy="677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1371600" y="160020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overall proportion i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76320" y="2971800"/>
            <a:ext cx="891540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7543800" y="99072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Levine/Szabat/Stephan</dc:creator>
  <dc:description/>
  <dc:language>en-US</dc:language>
  <cp:lastModifiedBy>Paromita Banerjee</cp:lastModifiedBy>
  <cp:lastPrinted>1998-11-22T23:37:53Z</cp:lastPrinted>
  <dcterms:modified xsi:type="dcterms:W3CDTF">2015-08-19T07:44:47Z</dcterms:modified>
  <cp:revision>243</cp:revision>
  <dc:subject>Business Statistics A First Course, 7e</dc:subject>
  <dc:title>Chapter 11: Chi-Square Tests</dc:title>
</cp:coreProperties>
</file>