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3, Slide </a:t>
            </a:r>
            <a:fld id="{36A8F49B-B234-49DC-98F3-56894358E1D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4800600" y="21193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to Multiple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32197901X_Levine_300dpi"/>
          <p:cNvPicPr/>
          <p:nvPr/>
        </p:nvPicPr>
        <p:blipFill>
          <a:blip r:embed="rId1"/>
          <a:stretch/>
        </p:blipFill>
        <p:spPr>
          <a:xfrm>
            <a:off x="225360" y="407880"/>
            <a:ext cx="45482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867280" y="3657600"/>
            <a:ext cx="266724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19520" y="3657600"/>
            <a:ext cx="266688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Multiple Regression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304920" y="1922400"/>
                <a:ext cx="85215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vertisin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6"/>
          <p:cNvSpPr/>
          <p:nvPr/>
        </p:nvSpPr>
        <p:spPr>
          <a:xfrm>
            <a:off x="2819520" y="3657600"/>
            <a:ext cx="2666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-24.97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les will decrease, on average, by 24.975 pies per week for each $1 increase in selling price, net of the effects of changes due to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867280" y="3657600"/>
            <a:ext cx="26672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74.13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les will increase, on average, by 74.131 pies per week for each $100 increase in advertising, net of the effects of changes due to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80880" y="25909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Sales is in number of pies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Price is in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c1baf8"/>
                </a:solidFill>
                <a:latin typeface="Arial"/>
              </a:rPr>
              <a:t>Advertising is in $100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191120" y="24382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629400" y="24382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j0228901"/>
          <p:cNvPicPr/>
          <p:nvPr/>
        </p:nvPicPr>
        <p:blipFill>
          <a:blip r:embed="rId1"/>
          <a:stretch/>
        </p:blipFill>
        <p:spPr>
          <a:xfrm>
            <a:off x="228600" y="57150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132" name="Freeform 12"/>
          <p:cNvSpPr/>
          <p:nvPr/>
        </p:nvSpPr>
        <p:spPr>
          <a:xfrm>
            <a:off x="533520" y="1981080"/>
            <a:ext cx="609480" cy="76320"/>
          </a:xfrm>
          <a:custGeom>
            <a:avLst/>
            <a:gdLst>
              <a:gd name="textAreaLeft" fmla="*/ 0 w 609480"/>
              <a:gd name="textAreaRight" fmla="*/ 609840 w 6094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90720" y="2895480"/>
            <a:ext cx="7543800" cy="1828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Using The Equation to Make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33400" y="1747800"/>
            <a:ext cx="7858080" cy="9421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sales for a week in which the selling price is $5.50 and advertising is $3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219320" y="5257800"/>
            <a:ext cx="2743200" cy="9421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sales is 428.62 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990720" y="3089160"/>
                <a:ext cx="73911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vertis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4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Line 7"/>
          <p:cNvSpPr/>
          <p:nvPr/>
        </p:nvSpPr>
        <p:spPr>
          <a:xfrm flipV="1">
            <a:off x="2514600" y="4571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43600" y="5029200"/>
            <a:ext cx="2743200" cy="949320"/>
          </a:xfrm>
          <a:prstGeom prst="rect">
            <a:avLst/>
          </a:prstGeom>
          <a:solidFill>
            <a:srgbClr val="bef8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dvertising is in $100s, so $350 means that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6934320" y="41148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1143000" y="3048120"/>
            <a:ext cx="609480" cy="75960"/>
          </a:xfrm>
          <a:custGeom>
            <a:avLst/>
            <a:gdLst>
              <a:gd name="textAreaLeft" fmla="*/ 0 w 609480"/>
              <a:gd name="textAreaRight" fmla="*/ 609840 w 609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s in Excel using PHSt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120" y="137772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Stat | regression | multiple regressio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14-2"/>
          <p:cNvPicPr/>
          <p:nvPr/>
        </p:nvPicPr>
        <p:blipFill>
          <a:blip r:embed="rId1"/>
          <a:stretch/>
        </p:blipFill>
        <p:spPr>
          <a:xfrm>
            <a:off x="228600" y="1971720"/>
            <a:ext cx="6324480" cy="4476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6858000" y="4791240"/>
            <a:ext cx="205740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the “confidence and prediction interval estimates”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3429000" y="5629320"/>
            <a:ext cx="2590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5867280" y="5324400"/>
            <a:ext cx="9907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s in PHSt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83280" y="2571480"/>
            <a:ext cx="1820880" cy="398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5000"/>
          </a:bodyPr>
          <a:p>
            <a:pPr marL="272520" indent="-27252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14-1"/>
          <p:cNvPicPr/>
          <p:nvPr/>
        </p:nvPicPr>
        <p:blipFill>
          <a:blip r:embed="rId1"/>
          <a:stretch/>
        </p:blipFill>
        <p:spPr>
          <a:xfrm>
            <a:off x="609480" y="1447920"/>
            <a:ext cx="4156200" cy="4647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4572000" y="25909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4876920" y="23623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962520" y="3657600"/>
            <a:ext cx="761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5257800" y="3505320"/>
            <a:ext cx="2819520" cy="4572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 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 rot="5400000">
            <a:off x="6750360" y="34581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4724280" y="373392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410080" y="4114800"/>
            <a:ext cx="3429000" cy="11430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mean value of Y, given these X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5410080" y="5334120"/>
            <a:ext cx="3353040" cy="1066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individual Y value, given these X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4723920" y="472428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4723920" y="586728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7542720" y="8002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s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492120" y="3591000"/>
                <a:ext cx="16956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e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valu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52840" y="6006600"/>
            <a:ext cx="1295280" cy="381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526480" y="2368080"/>
            <a:ext cx="4395960" cy="30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ed Value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   Fit  SE Fit      95% CI          95% 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 428.6    17.2  (391.1, 466.1)  (318.6, 538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Predictor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 Price  Advert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  5.50         3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2971800" y="5410080"/>
            <a:ext cx="763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3809880" y="5410080"/>
            <a:ext cx="15264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2209680" y="3657600"/>
            <a:ext cx="7621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6400800" y="1523880"/>
            <a:ext cx="2514600" cy="9144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dence interval for the mean value of Y, given these X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H="1">
            <a:off x="5257800" y="2438280"/>
            <a:ext cx="14479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629400" y="5105520"/>
            <a:ext cx="2362320" cy="11430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ion interval for an individual Y value, given these X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 flipH="1" flipV="1">
            <a:off x="6324120" y="3657600"/>
            <a:ext cx="114300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j0228901"/>
          <p:cNvPicPr/>
          <p:nvPr/>
        </p:nvPicPr>
        <p:blipFill>
          <a:blip r:embed="rId1"/>
          <a:stretch/>
        </p:blipFill>
        <p:spPr>
          <a:xfrm>
            <a:off x="457200" y="533412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Coefficient of Multiple Determination,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s the proportion of total variation in Y explained by all X variables taken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052640" y="3352680"/>
                <a:ext cx="709452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76520"/>
          <a:ext cx="8763120" cy="4632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125" descr="j0228901"/>
          <p:cNvPicPr/>
          <p:nvPr/>
        </p:nvPicPr>
        <p:blipFill>
          <a:blip r:embed="rId1"/>
          <a:stretch/>
        </p:blipFill>
        <p:spPr>
          <a:xfrm>
            <a:off x="7610400" y="1828800"/>
            <a:ext cx="1381320" cy="7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Object 131"/>
              <p:cNvSpPr txBox="1"/>
              <p:nvPr/>
            </p:nvSpPr>
            <p:spPr>
              <a:xfrm>
                <a:off x="3643200" y="1828800"/>
                <a:ext cx="384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4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4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1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Line 127"/>
          <p:cNvSpPr/>
          <p:nvPr/>
        </p:nvSpPr>
        <p:spPr>
          <a:xfrm flipV="1">
            <a:off x="3124080" y="22096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8"/>
          <p:cNvSpPr/>
          <p:nvPr/>
        </p:nvSpPr>
        <p:spPr>
          <a:xfrm>
            <a:off x="4343400" y="25909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2.1% of the variation in pie sales is explained by the variation in price and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Coefficient of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termination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89" name="Line 131"/>
          <p:cNvSpPr/>
          <p:nvPr/>
        </p:nvSpPr>
        <p:spPr>
          <a:xfrm flipV="1">
            <a:off x="3962520" y="2590560"/>
            <a:ext cx="380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2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Coefficient of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etermination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5300640" y="2914560"/>
                <a:ext cx="37321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4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4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1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4"/>
          <p:cNvSpPr/>
          <p:nvPr/>
        </p:nvSpPr>
        <p:spPr>
          <a:xfrm>
            <a:off x="304920" y="2205720"/>
            <a:ext cx="472428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410080" y="44197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baf8"/>
                </a:solidFill>
                <a:latin typeface="Arial"/>
              </a:rPr>
              <a:t>52.1% of the variation in pie sales is explained by the variation in price and advert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 flipH="1">
            <a:off x="2666520" y="3276720"/>
            <a:ext cx="2667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2437920" y="3657600"/>
            <a:ext cx="3581640" cy="1905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2362320" y="3276720"/>
            <a:ext cx="3504960" cy="17524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1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120" y="1650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never decreases when a new  X  variable is added to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5640" indent="-2574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n be a disadvantage when compar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What is the net effect of adding a new vari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5640" indent="-2574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lose a degree of freedom when a new  X variable is ad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5640" indent="-2574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the new  X  variable add enough explanatory power to offset the loss of one degree of free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120" y="15825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298080" indent="-29808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the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proportion of variation in Y explain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l X variables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adjusted for the number of X</a:t>
            </a:r>
            <a:r>
              <a:rPr b="0" i="1" lang="en-US" sz="2800" spc="-1" strike="noStrike">
                <a:solidFill>
                  <a:srgbClr val="c1ba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variable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2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ere n = sample size, k = number of independent varia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izes excessive use of unimportant independent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r tha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5120" indent="-249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in comparing among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2195640" y="2859120"/>
                <a:ext cx="50338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73915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364880" y="6922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velop a multipl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interpret the regression coeffic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termine which independent variables to include in th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categorical independent variables in a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28600" y="1676520"/>
          <a:ext cx="8763120" cy="4632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125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0" name="Object 131"/>
              <p:cNvSpPr txBox="1"/>
              <p:nvPr/>
            </p:nvSpPr>
            <p:spPr>
              <a:xfrm>
                <a:off x="3521160" y="1722600"/>
                <a:ext cx="2090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127"/>
          <p:cNvSpPr/>
          <p:nvPr/>
        </p:nvSpPr>
        <p:spPr>
          <a:xfrm flipV="1">
            <a:off x="304812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8"/>
          <p:cNvSpPr/>
          <p:nvPr/>
        </p:nvSpPr>
        <p:spPr>
          <a:xfrm>
            <a:off x="3276720" y="236232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4.2% of the variation in pie sales is explained by the variation in price and advertising, taking into account the sample size and number of independ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14" name="Rectangle 131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djusted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5761080" y="1967040"/>
                <a:ext cx="2097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304920" y="2205720"/>
            <a:ext cx="472428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 flipH="1">
            <a:off x="3962160" y="2590920"/>
            <a:ext cx="205740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181480" y="358128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baf8"/>
                </a:solidFill>
                <a:latin typeface="Arial"/>
              </a:rPr>
              <a:t>44.2% of the variation in pie sales is explained by the variation in price and advertising, taking into account the sample size and number of independen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j0228901"/>
          <p:cNvPicPr/>
          <p:nvPr/>
        </p:nvPicPr>
        <p:blipFill>
          <a:blip r:embed="rId1"/>
          <a:stretch/>
        </p:blipFill>
        <p:spPr>
          <a:xfrm>
            <a:off x="731520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295280" y="4495680"/>
            <a:ext cx="7391520" cy="1447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s the Model Significant?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706400"/>
            <a:ext cx="8305920" cy="3370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77000"/>
          </a:bodyPr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F Test for Overall Significanc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if there is a linear relationship between all of the  X  variables considered together and 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-test stat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110000"/>
              </a:lnSpc>
              <a:spcBef>
                <a:spcPts val="10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3880" indent="-206280"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0  (no linear relationship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33880" indent="-206280"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t least one 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≠ 0   (at least one independ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33880" indent="-206280">
              <a:lnSpc>
                <a:spcPct val="40000"/>
              </a:lnSpc>
              <a:spcBef>
                <a:spcPts val="10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riable affects 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Overall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1596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numerator d.f. 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ominator d.f. 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(n – k - 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2013120" y="2260440"/>
                <a:ext cx="4130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228600" y="1676520"/>
          <a:ext cx="8763120" cy="468000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8600"/>
                <a:gridCol w="1067040"/>
                <a:gridCol w="914400"/>
                <a:gridCol w="1371600"/>
                <a:gridCol w="1143000"/>
              </a:tblGrid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Line 3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 flipV="1">
            <a:off x="6172200" y="289512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769608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1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F Test for Overall Significance In Excel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36" name="Text Box 134"/>
          <p:cNvSpPr/>
          <p:nvPr/>
        </p:nvSpPr>
        <p:spPr>
          <a:xfrm>
            <a:off x="3505320" y="2971800"/>
            <a:ext cx="2361960" cy="580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2 and 12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5"/>
          <p:cNvSpPr/>
          <p:nvPr/>
        </p:nvSpPr>
        <p:spPr>
          <a:xfrm>
            <a:off x="7543800" y="3048120"/>
            <a:ext cx="1295280" cy="580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3657600" y="2158920"/>
                <a:ext cx="4038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7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ectangle 135"/>
          <p:cNvSpPr/>
          <p:nvPr/>
        </p:nvSpPr>
        <p:spPr>
          <a:xfrm>
            <a:off x="7574040" y="11955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7542720" y="8701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Overall Significance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5408640" y="3273480"/>
                <a:ext cx="3414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7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4"/>
          <p:cNvSpPr/>
          <p:nvPr/>
        </p:nvSpPr>
        <p:spPr>
          <a:xfrm>
            <a:off x="609480" y="2053440"/>
            <a:ext cx="411480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838080" y="5715000"/>
            <a:ext cx="2362320" cy="580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2 and 12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876920" y="5715000"/>
            <a:ext cx="1295280" cy="580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H="1" flipV="1">
            <a:off x="4114440" y="5105520"/>
            <a:ext cx="76212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1447920" y="525780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 flipH="1">
            <a:off x="3428640" y="3657600"/>
            <a:ext cx="19810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754380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Overall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60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not both zer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f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 2      df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= 12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648320" y="3733920"/>
            <a:ext cx="3733560" cy="12870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statistic is in the rejection region (p-value &lt; .05)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495680" y="5638680"/>
            <a:ext cx="4496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evidence that at least one independent variable affect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8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1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600200" y="6095880"/>
            <a:ext cx="16765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0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3.8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6"/>
              <p:cNvSpPr txBox="1"/>
              <p:nvPr/>
            </p:nvSpPr>
            <p:spPr>
              <a:xfrm>
                <a:off x="4537080" y="2236680"/>
                <a:ext cx="306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Line 22"/>
          <p:cNvSpPr/>
          <p:nvPr/>
        </p:nvSpPr>
        <p:spPr>
          <a:xfrm>
            <a:off x="2895480" y="38862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 flipV="1">
            <a:off x="2895480" y="2819160"/>
            <a:ext cx="16002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1371600" y="3657600"/>
            <a:ext cx="17524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0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3.8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8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543800" y="16095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Line 2"/>
          <p:cNvSpPr/>
          <p:nvPr/>
        </p:nvSpPr>
        <p:spPr>
          <a:xfrm flipV="1">
            <a:off x="3124080" y="2133360"/>
            <a:ext cx="0" cy="15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 flipV="1">
            <a:off x="609480" y="4952880"/>
            <a:ext cx="190512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502920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5029200" y="4572000"/>
            <a:ext cx="2438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1314360" y="2914560"/>
            <a:ext cx="5562720" cy="224784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3504" h="1416">
                <a:moveTo>
                  <a:pt x="0" y="1416"/>
                </a:moveTo>
                <a:lnTo>
                  <a:pt x="1134" y="450"/>
                </a:lnTo>
                <a:lnTo>
                  <a:pt x="3504" y="0"/>
                </a:lnTo>
                <a:lnTo>
                  <a:pt x="2340" y="1140"/>
                </a:lnTo>
                <a:lnTo>
                  <a:pt x="0" y="1416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3105000" y="2381400"/>
            <a:ext cx="1009800" cy="51408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636" h="324">
                <a:moveTo>
                  <a:pt x="0" y="0"/>
                </a:moveTo>
                <a:lnTo>
                  <a:pt x="636" y="324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990720" y="1295280"/>
            <a:ext cx="312408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vari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3962520" y="2743200"/>
            <a:ext cx="380880" cy="380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295280" y="56386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V="1">
            <a:off x="5029200" y="457164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6858000" y="28954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1295280" y="5181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"/>
          <p:cNvSpPr/>
          <p:nvPr/>
        </p:nvSpPr>
        <p:spPr>
          <a:xfrm rot="20475000">
            <a:off x="3886200" y="4038480"/>
            <a:ext cx="457200" cy="228600"/>
          </a:xfrm>
          <a:prstGeom prst="ellipse">
            <a:avLst/>
          </a:prstGeom>
          <a:solidFill>
            <a:srgbClr val="31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41148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2895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228600" y="5791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7391520" y="4419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4"/>
              <p:cNvSpPr txBox="1"/>
              <p:nvPr/>
            </p:nvSpPr>
            <p:spPr>
              <a:xfrm>
                <a:off x="5681520" y="2027160"/>
                <a:ext cx="3310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Freeform 20"/>
          <p:cNvSpPr/>
          <p:nvPr/>
        </p:nvSpPr>
        <p:spPr>
          <a:xfrm>
            <a:off x="5638680" y="2438280"/>
            <a:ext cx="557280" cy="704880"/>
          </a:xfrm>
          <a:custGeom>
            <a:avLst/>
            <a:gdLst>
              <a:gd name="textAreaLeft" fmla="*/ 0 w 557280"/>
              <a:gd name="textAreaRight" fmla="*/ 557640 w 5572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351" h="444">
                <a:moveTo>
                  <a:pt x="116" y="0"/>
                </a:moveTo>
                <a:cubicBezTo>
                  <a:pt x="105" y="45"/>
                  <a:pt x="0" y="196"/>
                  <a:pt x="39" y="270"/>
                </a:cubicBezTo>
                <a:cubicBezTo>
                  <a:pt x="78" y="344"/>
                  <a:pt x="286" y="408"/>
                  <a:pt x="351" y="444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3114720" y="3495600"/>
            <a:ext cx="1000080" cy="61920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630" h="390">
                <a:moveTo>
                  <a:pt x="0" y="0"/>
                </a:moveTo>
                <a:lnTo>
                  <a:pt x="630" y="39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27432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266688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 rot="5400000">
            <a:off x="2711880" y="3000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828800" y="5334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4114800" y="4571640"/>
            <a:ext cx="144792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7"/>
          <p:cNvSpPr/>
          <p:nvPr/>
        </p:nvSpPr>
        <p:spPr>
          <a:xfrm flipH="1">
            <a:off x="2590200" y="23623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54100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1295280" y="5029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0"/>
          <p:cNvSpPr/>
          <p:nvPr/>
        </p:nvSpPr>
        <p:spPr>
          <a:xfrm>
            <a:off x="3886200" y="5257800"/>
            <a:ext cx="4572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41148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5410080" y="5410080"/>
            <a:ext cx="3581640" cy="10087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fit equation is found by minimizing the sum of squared error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358128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5"/>
          <p:cNvSpPr/>
          <p:nvPr/>
        </p:nvSpPr>
        <p:spPr>
          <a:xfrm>
            <a:off x="3962520" y="243828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936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s in Multiple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3" name="Text Box 37"/>
          <p:cNvSpPr/>
          <p:nvPr/>
        </p:nvSpPr>
        <p:spPr>
          <a:xfrm>
            <a:off x="533520" y="2286000"/>
            <a:ext cx="1904760" cy="10321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 rot="5400000">
            <a:off x="1857960" y="2696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9"/>
          <p:cNvSpPr/>
          <p:nvPr/>
        </p:nvSpPr>
        <p:spPr>
          <a:xfrm>
            <a:off x="746748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124080" y="2590920"/>
            <a:ext cx="213372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Regression Assump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120" y="3411360"/>
            <a:ext cx="8077320" cy="2532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Assumptions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rrors are normally 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 have a constant var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errors 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200400" y="26668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 rot="5400000">
            <a:off x="4502520" y="2657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0948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Error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dual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) from the regression model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Plots Use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 Multiple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residual plots are used in multiple regr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s vs.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f time series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 rot="5400000">
            <a:off x="3474000" y="2696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752480" y="5410080"/>
            <a:ext cx="5486400" cy="8254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idual plots to check for violations of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18"/>
              <p:cNvSpPr txBox="1"/>
              <p:nvPr/>
            </p:nvSpPr>
            <p:spPr>
              <a:xfrm>
                <a:off x="498600" y="4170240"/>
                <a:ext cx="8535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Multiple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05120"/>
            <a:ext cx="8077320" cy="769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Examine the linear relationship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dependent (Y) &amp; 2 or more independent variables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1904760" y="3886200"/>
            <a:ext cx="75960" cy="4572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2971440" y="3886200"/>
            <a:ext cx="1066680" cy="3808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4495680" y="3886200"/>
            <a:ext cx="0" cy="3808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5257800" y="3886200"/>
            <a:ext cx="1665360" cy="42696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534520" y="3886200"/>
            <a:ext cx="75960" cy="5032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52280" y="2971800"/>
            <a:ext cx="7162920" cy="39384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Regression Model with k Independent Vari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371600" y="3581280"/>
            <a:ext cx="1219320" cy="33228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951360" y="3551400"/>
            <a:ext cx="1817640" cy="33228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s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7380360" y="3551400"/>
            <a:ext cx="1535040" cy="33228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1066680" y="4495680"/>
            <a:ext cx="6782040" cy="1524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re Individual Variables Significant?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Use t tests of individual variabl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if there is a linear relationship between the variable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Y holding constant the effects of other X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(no linear relationsh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≠ 0  (linear relationship doe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5334120" y="4952880"/>
            <a:ext cx="2209680" cy="4572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re Individual Variables Significant?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99800" y="1896840"/>
            <a:ext cx="876924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= 0 (no linear relationship between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≠ 0  (linear relationship doe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f = n – k – 1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1981080" y="4349880"/>
                <a:ext cx="329256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Rectangle 8"/>
          <p:cNvSpPr/>
          <p:nvPr/>
        </p:nvSpPr>
        <p:spPr>
          <a:xfrm>
            <a:off x="746748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2"/>
          <p:cNvSpPr/>
          <p:nvPr/>
        </p:nvSpPr>
        <p:spPr>
          <a:xfrm>
            <a:off x="7447680" y="733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28600" y="1676520"/>
          <a:ext cx="8763120" cy="4632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2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9" name="Line 2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26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27"/>
          <p:cNvSpPr/>
          <p:nvPr/>
        </p:nvSpPr>
        <p:spPr>
          <a:xfrm>
            <a:off x="3124080" y="1752480"/>
            <a:ext cx="4572000" cy="174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 Stat for Price is 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-2.306, with p-value .0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 Stat for Advertising is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2.855, with p-value .0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re Individual Variables Significant?  Excel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43" name="Rectangle 130"/>
          <p:cNvSpPr/>
          <p:nvPr/>
        </p:nvSpPr>
        <p:spPr>
          <a:xfrm>
            <a:off x="4724280" y="5715000"/>
            <a:ext cx="1752840" cy="609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32"/>
          <p:cNvSpPr/>
          <p:nvPr/>
        </p:nvSpPr>
        <p:spPr>
          <a:xfrm>
            <a:off x="7543800" y="1076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7542720" y="760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Are Individual Variables Significant?  Minitab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347" name="Picture 4" descr="j0228901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304920" y="2205720"/>
            <a:ext cx="411480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952880" y="3352680"/>
            <a:ext cx="3810240" cy="1504440"/>
          </a:xfrm>
          <a:prstGeom prst="rect">
            <a:avLst/>
          </a:prstGeom>
          <a:noFill/>
          <a:ln w="1908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t Stat for Price is  t</a:t>
            </a:r>
            <a:r>
              <a:rPr b="1" lang="en-US" sz="1600" spc="-1" strike="noStrike" baseline="-25000">
                <a:solidFill>
                  <a:srgbClr val="c1baf8"/>
                </a:solidFill>
                <a:latin typeface="Arial"/>
              </a:rPr>
              <a:t>STAT</a:t>
            </a: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 = -2.31, with p-value .0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t Stat for Advertising is t</a:t>
            </a:r>
            <a:r>
              <a:rPr b="1" lang="en-US" sz="1600" spc="-1" strike="noStrike" baseline="-25000">
                <a:solidFill>
                  <a:srgbClr val="c1baf8"/>
                </a:solidFill>
                <a:latin typeface="Arial"/>
              </a:rPr>
              <a:t>STAT </a:t>
            </a:r>
            <a:r>
              <a:rPr b="1" lang="en-US" sz="1600" spc="-1" strike="noStrike">
                <a:solidFill>
                  <a:srgbClr val="c1baf8"/>
                </a:solidFill>
                <a:latin typeface="Arial"/>
              </a:rPr>
              <a:t>= 2.85, with p-value .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3047760" y="3733920"/>
            <a:ext cx="19047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 flipH="1">
            <a:off x="304920" y="2971800"/>
            <a:ext cx="1828800" cy="11066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5-2-1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/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2.17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</a:t>
            </a:r>
            <a:r>
              <a:rPr b="1" i="1" lang="en-US" sz="3600" spc="-1" strike="noStrike">
                <a:solidFill>
                  <a:srgbClr val="fea40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09480" y="1828800"/>
            <a:ext cx="1524240" cy="990720"/>
          </a:xfrm>
          <a:prstGeom prst="rect">
            <a:avLst/>
          </a:prstGeom>
          <a:solidFill>
            <a:srgbClr val="fde0bd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-31752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200400" y="3276720"/>
            <a:ext cx="5562720" cy="838080"/>
          </a:xfrm>
          <a:prstGeom prst="rect">
            <a:avLst/>
          </a:prstGeom>
          <a:solidFill>
            <a:srgbClr val="c7da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for each variable falls in the rejection region (p-values &lt; 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800600" y="5334120"/>
            <a:ext cx="3971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evidence that both Price and Advertising affect pie sales at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2438280" y="1600200"/>
            <a:ext cx="533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the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4800600" y="4572000"/>
            <a:ext cx="397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5"/>
          <p:cNvSpPr/>
          <p:nvPr/>
        </p:nvSpPr>
        <p:spPr>
          <a:xfrm>
            <a:off x="4114800" y="411480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6"/>
          <p:cNvSpPr/>
          <p:nvPr/>
        </p:nvSpPr>
        <p:spPr>
          <a:xfrm>
            <a:off x="2362320" y="6248520"/>
            <a:ext cx="914400" cy="228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7"/>
          <p:cNvSpPr/>
          <p:nvPr/>
        </p:nvSpPr>
        <p:spPr>
          <a:xfrm>
            <a:off x="762120" y="6248520"/>
            <a:ext cx="1066680" cy="228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3048120" y="571500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304920" y="571500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40"/>
          <p:cNvSpPr/>
          <p:nvPr/>
        </p:nvSpPr>
        <p:spPr>
          <a:xfrm>
            <a:off x="2814480" y="4927680"/>
            <a:ext cx="851040" cy="561960"/>
          </a:xfrm>
          <a:custGeom>
            <a:avLst/>
            <a:gdLst>
              <a:gd name="textAreaLeft" fmla="*/ 0 w 851040"/>
              <a:gd name="textAreaRight" fmla="*/ 851400 w 851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41"/>
          <p:cNvSpPr/>
          <p:nvPr/>
        </p:nvSpPr>
        <p:spPr>
          <a:xfrm>
            <a:off x="517680" y="4994280"/>
            <a:ext cx="853920" cy="495360"/>
          </a:xfrm>
          <a:custGeom>
            <a:avLst/>
            <a:gdLst>
              <a:gd name="textAreaLeft" fmla="*/ 0 w 853920"/>
              <a:gd name="textAreaRight" fmla="*/ 854280 w 85392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42"/>
          <p:cNvSpPr/>
          <p:nvPr/>
        </p:nvSpPr>
        <p:spPr>
          <a:xfrm>
            <a:off x="533520" y="4114800"/>
            <a:ext cx="1600200" cy="1295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3"/>
          <p:cNvSpPr/>
          <p:nvPr/>
        </p:nvSpPr>
        <p:spPr>
          <a:xfrm>
            <a:off x="2133720" y="4114800"/>
            <a:ext cx="1523880" cy="12952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4"/>
          <p:cNvSpPr/>
          <p:nvPr/>
        </p:nvSpPr>
        <p:spPr>
          <a:xfrm>
            <a:off x="457200" y="5486400"/>
            <a:ext cx="3200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5"/>
          <p:cNvSpPr/>
          <p:nvPr/>
        </p:nvSpPr>
        <p:spPr>
          <a:xfrm>
            <a:off x="990720" y="4952880"/>
            <a:ext cx="2286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6"/>
          <p:cNvSpPr/>
          <p:nvPr/>
        </p:nvSpPr>
        <p:spPr>
          <a:xfrm flipH="1">
            <a:off x="380880" y="464832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7"/>
          <p:cNvSpPr/>
          <p:nvPr/>
        </p:nvSpPr>
        <p:spPr>
          <a:xfrm>
            <a:off x="2133720" y="41148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8"/>
          <p:cNvSpPr/>
          <p:nvPr/>
        </p:nvSpPr>
        <p:spPr>
          <a:xfrm>
            <a:off x="1371600" y="5562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9"/>
          <p:cNvSpPr/>
          <p:nvPr/>
        </p:nvSpPr>
        <p:spPr>
          <a:xfrm>
            <a:off x="990720" y="57913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0"/>
          <p:cNvSpPr/>
          <p:nvPr/>
        </p:nvSpPr>
        <p:spPr>
          <a:xfrm>
            <a:off x="1371600" y="5715000"/>
            <a:ext cx="14479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1"/>
          <p:cNvSpPr/>
          <p:nvPr/>
        </p:nvSpPr>
        <p:spPr>
          <a:xfrm>
            <a:off x="1295280" y="571500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2"/>
          <p:cNvSpPr/>
          <p:nvPr/>
        </p:nvSpPr>
        <p:spPr>
          <a:xfrm>
            <a:off x="228600" y="57150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3"/>
          <p:cNvSpPr/>
          <p:nvPr/>
        </p:nvSpPr>
        <p:spPr>
          <a:xfrm>
            <a:off x="1905120" y="59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4"/>
          <p:cNvSpPr/>
          <p:nvPr/>
        </p:nvSpPr>
        <p:spPr>
          <a:xfrm>
            <a:off x="2590920" y="57913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5"/>
          <p:cNvSpPr/>
          <p:nvPr/>
        </p:nvSpPr>
        <p:spPr>
          <a:xfrm>
            <a:off x="2819520" y="5562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6"/>
          <p:cNvSpPr/>
          <p:nvPr/>
        </p:nvSpPr>
        <p:spPr>
          <a:xfrm>
            <a:off x="2971800" y="4923000"/>
            <a:ext cx="204840" cy="411120"/>
          </a:xfrm>
          <a:custGeom>
            <a:avLst/>
            <a:gdLst>
              <a:gd name="textAreaLeft" fmla="*/ 0 w 204840"/>
              <a:gd name="textAreaRight" fmla="*/ 205200 w 2048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7"/>
          <p:cNvSpPr/>
          <p:nvPr/>
        </p:nvSpPr>
        <p:spPr>
          <a:xfrm flipH="1">
            <a:off x="2894760" y="46483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8"/>
          <p:cNvSpPr/>
          <p:nvPr/>
        </p:nvSpPr>
        <p:spPr>
          <a:xfrm flipH="1">
            <a:off x="762120" y="61722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17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9"/>
          <p:cNvSpPr/>
          <p:nvPr/>
        </p:nvSpPr>
        <p:spPr>
          <a:xfrm flipH="1">
            <a:off x="2362320" y="61722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17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0"/>
          <p:cNvSpPr/>
          <p:nvPr/>
        </p:nvSpPr>
        <p:spPr>
          <a:xfrm>
            <a:off x="2819520" y="57150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5"/>
          <p:cNvSpPr/>
          <p:nvPr/>
        </p:nvSpPr>
        <p:spPr>
          <a:xfrm>
            <a:off x="2590920" y="2133720"/>
            <a:ext cx="6172200" cy="1019880"/>
          </a:xfrm>
          <a:prstGeom prst="rect">
            <a:avLst/>
          </a:prstGeom>
          <a:solidFill>
            <a:srgbClr val="fde0bd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 Price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-2.306, with p-value .0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 Advertising 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STA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= 2.855, with p-value .0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219320" y="1371600"/>
            <a:ext cx="731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ce interval for the population slop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38080" y="4572000"/>
            <a:ext cx="7696440" cy="187992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 a 95% confidence interval for the effect of changes in price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n pie s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4.975 ± (2.1788)(10.8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interval is  (-48.576  ,  -1.3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interval does not contain zero, so price has a significant effect on s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030480" y="1936800"/>
                <a:ext cx="280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91" name=""/>
          <p:cNvGraphicFramePr/>
          <p:nvPr/>
        </p:nvGraphicFramePr>
        <p:xfrm>
          <a:off x="1371600" y="3124080"/>
          <a:ext cx="4265640" cy="121284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</a:tblGrid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49"/>
          <p:cNvSpPr/>
          <p:nvPr/>
        </p:nvSpPr>
        <p:spPr>
          <a:xfrm>
            <a:off x="6105600" y="2057400"/>
            <a:ext cx="2361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t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 – k – 1) d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0"/>
          <p:cNvSpPr/>
          <p:nvPr/>
        </p:nvSpPr>
        <p:spPr>
          <a:xfrm>
            <a:off x="3124080" y="3657600"/>
            <a:ext cx="26672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4"/>
          <p:cNvSpPr/>
          <p:nvPr/>
        </p:nvSpPr>
        <p:spPr>
          <a:xfrm rot="7173600">
            <a:off x="5657760" y="4095360"/>
            <a:ext cx="511200" cy="396720"/>
          </a:xfrm>
          <a:custGeom>
            <a:avLst/>
            <a:gdLst>
              <a:gd name="textAreaLeft" fmla="*/ 294120 w 511200"/>
              <a:gd name="textAreaRight" fmla="*/ 431640 w 51120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6"/>
          <p:cNvSpPr/>
          <p:nvPr/>
        </p:nvSpPr>
        <p:spPr>
          <a:xfrm>
            <a:off x="6248520" y="3429000"/>
            <a:ext cx="2666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,  t ha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 – 2 – 1) = 12  d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754380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609480" y="1676520"/>
            <a:ext cx="7313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ce interval for the population slop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4032360"/>
            <a:ext cx="7696440" cy="1467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cel output also reports these interval end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sales are estimated to be reduced by between 1.37 to 48.58 pies for each increase of $1 in the selling price, holding the effect of advertising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066680" y="2590920"/>
          <a:ext cx="7239240" cy="1212840"/>
        </p:xfrm>
        <a:graphic>
          <a:graphicData uri="http://schemas.openxmlformats.org/drawingml/2006/table">
            <a:tbl>
              <a:tblPr/>
              <a:tblGrid>
                <a:gridCol w="1706760"/>
                <a:gridCol w="1162080"/>
                <a:gridCol w="1396800"/>
                <a:gridCol w="534960"/>
                <a:gridCol w="1219320"/>
                <a:gridCol w="121932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401" name="Oval 50"/>
          <p:cNvSpPr/>
          <p:nvPr/>
        </p:nvSpPr>
        <p:spPr>
          <a:xfrm>
            <a:off x="5867280" y="3124080"/>
            <a:ext cx="26672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1"/>
          <p:cNvSpPr/>
          <p:nvPr/>
        </p:nvSpPr>
        <p:spPr>
          <a:xfrm rot="7173600">
            <a:off x="8324640" y="3555720"/>
            <a:ext cx="511200" cy="397080"/>
          </a:xfrm>
          <a:custGeom>
            <a:avLst/>
            <a:gdLst>
              <a:gd name="textAreaLeft" fmla="*/ 294120 w 511200"/>
              <a:gd name="textAreaRight" fmla="*/ 431640 w 511200"/>
              <a:gd name="textAreaTop" fmla="*/ 53280 h 397080"/>
              <a:gd name="textAreaBottom" fmla="*/ 16992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1baf8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2"/>
          <p:cNvSpPr/>
          <p:nvPr/>
        </p:nvSpPr>
        <p:spPr>
          <a:xfrm>
            <a:off x="7543800" y="762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Using Dummy Vari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ummy variable is a categorical independent variable with two lev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yes or no, on or off, male or fema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ded as 0 or 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the slopes associated with numerical independent variables do not change with the value for the categorical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ore than two levels, the number of dummy variables needed is (number of levels -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746748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ummy-Variable Example 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(with 2 Levels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609480" y="2895480"/>
            <a:ext cx="845820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 = pi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holi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 if a holiday occurred during the week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 if there was no holiday that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2971800" y="1981080"/>
                <a:ext cx="35542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11" name="Picture 5" descr="j0228901"/>
          <p:cNvPicPr/>
          <p:nvPr/>
        </p:nvPicPr>
        <p:blipFill>
          <a:blip r:embed="rId1"/>
          <a:stretch/>
        </p:blipFill>
        <p:spPr>
          <a:xfrm>
            <a:off x="777240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80880" y="2362320"/>
            <a:ext cx="822960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80880" y="1752480"/>
            <a:ext cx="8229600" cy="6098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946840" y="3048120"/>
            <a:ext cx="106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Dummy-Variable Exampl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(with 2 Levels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1676520" y="3886200"/>
            <a:ext cx="0" cy="251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1671480" y="6400800"/>
            <a:ext cx="451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1676520" y="4495680"/>
            <a:ext cx="3581280" cy="1143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6173640" y="6114960"/>
            <a:ext cx="1444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838080" y="350532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(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533520" y="419112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066680" y="48038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9"/>
              <p:cNvSpPr txBox="1"/>
              <p:nvPr/>
            </p:nvSpPr>
            <p:spPr>
              <a:xfrm>
                <a:off x="380880" y="1752480"/>
                <a:ext cx="66265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5" name="Rectangle 15"/>
          <p:cNvSpPr/>
          <p:nvPr/>
        </p:nvSpPr>
        <p:spPr>
          <a:xfrm>
            <a:off x="7165800" y="1828800"/>
            <a:ext cx="152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4422600" y="3048120"/>
            <a:ext cx="1371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fferent 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4346640" y="1676520"/>
            <a:ext cx="152388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175440" y="1600200"/>
            <a:ext cx="38088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1676520" y="5181480"/>
            <a:ext cx="3581280" cy="1143000"/>
          </a:xfrm>
          <a:prstGeom prst="line">
            <a:avLst/>
          </a:prstGeom>
          <a:ln w="507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 rot="970800">
            <a:off x="2565360" y="4685400"/>
            <a:ext cx="246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iday (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 rot="970800">
            <a:off x="2400120" y="5387040"/>
            <a:ext cx="3122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Holiday (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6324480" y="3962520"/>
            <a:ext cx="2514600" cy="2025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  is rejected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iday” has a significant effect on pi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3" descr="j0228901"/>
          <p:cNvPicPr/>
          <p:nvPr/>
        </p:nvPicPr>
        <p:blipFill>
          <a:blip r:embed="rId1"/>
          <a:stretch/>
        </p:blipFill>
        <p:spPr>
          <a:xfrm>
            <a:off x="15228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542720" y="868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800280" y="3990960"/>
                <a:ext cx="81565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Regression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600200"/>
            <a:ext cx="807732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of the multiple regression model are estimated using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1371240" y="3830760"/>
            <a:ext cx="152280" cy="38088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3276360" y="3602160"/>
            <a:ext cx="1600200" cy="6858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6324480" y="3602160"/>
            <a:ext cx="1219320" cy="6588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5028840" y="3602160"/>
            <a:ext cx="304920" cy="65880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 flipH="1">
            <a:off x="2209320" y="3678120"/>
            <a:ext cx="685800" cy="609840"/>
          </a:xfrm>
          <a:prstGeom prst="line">
            <a:avLst/>
          </a:prstGeom>
          <a:ln w="1260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914400" y="3144960"/>
            <a:ext cx="1447920" cy="70776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 predic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4572000" y="3297240"/>
            <a:ext cx="2743200" cy="3322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slope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152280" y="2687760"/>
            <a:ext cx="8153640" cy="39384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regression equation with k independent vari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2743200" y="3220920"/>
            <a:ext cx="1143000" cy="50796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57200" y="5105520"/>
            <a:ext cx="8305920" cy="1186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chapter we will use Excel and Minitab to obtain the regression slope coefficients and other regression summary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754380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11640" y="2286000"/>
            <a:ext cx="592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: number of pies sold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:  pie price in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preting the Dummy Variable Coefficient (with 2 Levels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203480" y="160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54800" y="1523880"/>
            <a:ext cx="1663560" cy="5205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210760" y="330192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 If a holiday occurred during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2210400" y="375912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 If no holiday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80880" y="4495680"/>
            <a:ext cx="8321760" cy="14328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: on average, sales were 15 pies greater in weeks with a holiday than in weeks without a holiday, given the sam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2133720" y="343044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5"/>
              <p:cNvSpPr txBox="1"/>
              <p:nvPr/>
            </p:nvSpPr>
            <p:spPr>
              <a:xfrm>
                <a:off x="2133720" y="1549440"/>
                <a:ext cx="6400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l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00 - 3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olida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5" name="Picture 11" descr="j0228901"/>
          <p:cNvPicPr/>
          <p:nvPr/>
        </p:nvPicPr>
        <p:blipFill>
          <a:blip r:embed="rId1"/>
          <a:stretch/>
        </p:blipFill>
        <p:spPr>
          <a:xfrm>
            <a:off x="6400800" y="5924520"/>
            <a:ext cx="990720" cy="552600"/>
          </a:xfrm>
          <a:prstGeom prst="rect">
            <a:avLst/>
          </a:prstGeom>
          <a:ln w="0">
            <a:noFill/>
          </a:ln>
        </p:spPr>
      </p:pic>
      <p:sp>
        <p:nvSpPr>
          <p:cNvPr id="446" name="Line 12"/>
          <p:cNvSpPr/>
          <p:nvPr/>
        </p:nvSpPr>
        <p:spPr>
          <a:xfrm flipV="1">
            <a:off x="2362320" y="15238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2666880" y="1523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769608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action Betwee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dependent Vari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izes interaction between pairs of X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one X variable may vary at different levels of another X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two-way cross product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1676520" y="4876920"/>
                <a:ext cx="51940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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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2" name="Oval 5"/>
          <p:cNvSpPr/>
          <p:nvPr/>
        </p:nvSpPr>
        <p:spPr>
          <a:xfrm>
            <a:off x="5715000" y="487692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5638680" y="563868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 rot="7143600">
            <a:off x="6104520" y="5298120"/>
            <a:ext cx="381240" cy="287280"/>
          </a:xfrm>
          <a:custGeom>
            <a:avLst/>
            <a:gdLst>
              <a:gd name="textAreaLeft" fmla="*/ 219240 w 381240"/>
              <a:gd name="textAreaRight" fmla="*/ 321840 w 381240"/>
              <a:gd name="textAreaTop" fmla="*/ 38520 h 287280"/>
              <a:gd name="textAreaBottom" fmla="*/ 12312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ffect of Interac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interaction term, effect of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Y  is measured by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interaction term, effect of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Y  is measured by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changes as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9"/>
              <p:cNvSpPr txBox="1"/>
              <p:nvPr/>
            </p:nvSpPr>
            <p:spPr>
              <a:xfrm>
                <a:off x="2970360" y="1905120"/>
                <a:ext cx="50022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4321080" y="3315600"/>
            <a:ext cx="3963960" cy="712440"/>
          </a:xfrm>
          <a:prstGeom prst="rect">
            <a:avLst/>
          </a:prstGeom>
          <a:solidFill>
            <a:srgbClr val="be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1 +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(1) + 4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= 4 + 6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33920" y="4611240"/>
            <a:ext cx="3963960" cy="712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1 +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(0) + 4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 = 1 +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action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609480" y="6019920"/>
            <a:ext cx="7925040" cy="435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s are different if the effect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Y depends o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2509920" y="532296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3903840" y="531972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"/>
          <p:cNvSpPr/>
          <p:nvPr/>
        </p:nvSpPr>
        <p:spPr>
          <a:xfrm>
            <a:off x="5232240" y="531972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9"/>
          <p:cNvSpPr/>
          <p:nvPr/>
        </p:nvSpPr>
        <p:spPr>
          <a:xfrm>
            <a:off x="1109520" y="504180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0"/>
          <p:cNvSpPr/>
          <p:nvPr/>
        </p:nvSpPr>
        <p:spPr>
          <a:xfrm>
            <a:off x="1109520" y="426420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1109520" y="386064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1109520" y="312732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1106640" y="5372280"/>
            <a:ext cx="217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>
            <a:off x="1200240" y="5342040"/>
            <a:ext cx="0" cy="17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5"/>
          <p:cNvSpPr/>
          <p:nvPr/>
        </p:nvSpPr>
        <p:spPr>
          <a:xfrm flipV="1">
            <a:off x="1238400" y="2882880"/>
            <a:ext cx="4205160" cy="181944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"/>
          <p:cNvSpPr/>
          <p:nvPr/>
        </p:nvSpPr>
        <p:spPr>
          <a:xfrm flipV="1">
            <a:off x="1262160" y="4500720"/>
            <a:ext cx="4243320" cy="739440"/>
          </a:xfrm>
          <a:prstGeom prst="line">
            <a:avLst/>
          </a:prstGeom>
          <a:ln w="255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5638680" y="5334120"/>
            <a:ext cx="639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8"/>
          <p:cNvSpPr/>
          <p:nvPr/>
        </p:nvSpPr>
        <p:spPr>
          <a:xfrm>
            <a:off x="1225440" y="2678040"/>
            <a:ext cx="0" cy="269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>
            <a:off x="1251000" y="5398920"/>
            <a:ext cx="4379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0"/>
          <p:cNvSpPr/>
          <p:nvPr/>
        </p:nvSpPr>
        <p:spPr>
          <a:xfrm>
            <a:off x="1109520" y="466740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1109520" y="3486240"/>
            <a:ext cx="21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380880" y="44244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380880" y="362412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380880" y="28926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380880" y="51084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866880" y="55800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565440" y="5580000"/>
            <a:ext cx="64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036880" y="5580000"/>
            <a:ext cx="89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9"/>
          <p:cNvSpPr/>
          <p:nvPr/>
        </p:nvSpPr>
        <p:spPr>
          <a:xfrm>
            <a:off x="4781520" y="5580000"/>
            <a:ext cx="89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0"/>
          <p:cNvSpPr/>
          <p:nvPr/>
        </p:nvSpPr>
        <p:spPr>
          <a:xfrm>
            <a:off x="533520" y="2286000"/>
            <a:ext cx="101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3657600" y="1981080"/>
            <a:ext cx="3809880" cy="5050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+ 2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2"/>
          <p:cNvSpPr/>
          <p:nvPr/>
        </p:nvSpPr>
        <p:spPr>
          <a:xfrm>
            <a:off x="533520" y="1600200"/>
            <a:ext cx="7696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dummy variable and the estimated regression equa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39"/>
              <p:cNvSpPr txBox="1"/>
              <p:nvPr/>
            </p:nvSpPr>
            <p:spPr>
              <a:xfrm>
                <a:off x="3657600" y="19810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2" name="Rectangle 3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chapter we discuss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velop a multipl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interpret the regression coeffic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termine which independent variables to include in the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categorical independent variables in a regress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 flipV="1">
            <a:off x="609480" y="5181480"/>
            <a:ext cx="190512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5029200" y="4952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5029200" y="4800600"/>
            <a:ext cx="2438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"/>
          <p:cNvSpPr/>
          <p:nvPr/>
        </p:nvSpPr>
        <p:spPr>
          <a:xfrm>
            <a:off x="1314360" y="3143160"/>
            <a:ext cx="5562720" cy="242892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2428920"/>
              <a:gd name="textAreaBottom" fmla="*/ 2429280 h 2428920"/>
            </a:gdLst>
            <a:ahLst/>
            <a:rect l="textAreaLeft" t="textAreaTop" r="textAreaRight" b="textAreaBottom"/>
            <a:pathLst>
              <a:path w="3504" h="1530">
                <a:moveTo>
                  <a:pt x="0" y="1530"/>
                </a:moveTo>
                <a:lnTo>
                  <a:pt x="1140" y="522"/>
                </a:lnTo>
                <a:lnTo>
                  <a:pt x="3504" y="0"/>
                </a:lnTo>
                <a:lnTo>
                  <a:pt x="2346" y="1128"/>
                </a:lnTo>
                <a:lnTo>
                  <a:pt x="0" y="153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990720" y="1523880"/>
            <a:ext cx="312408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vari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3124080" y="236196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5867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5029200" y="480024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6858000" y="31240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1295280" y="5562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28954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304920" y="6019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73915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1"/>
              <p:cNvSpPr txBox="1"/>
              <p:nvPr/>
            </p:nvSpPr>
            <p:spPr>
              <a:xfrm>
                <a:off x="5681520" y="2255760"/>
                <a:ext cx="3310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Freeform 17"/>
          <p:cNvSpPr/>
          <p:nvPr/>
        </p:nvSpPr>
        <p:spPr>
          <a:xfrm>
            <a:off x="5638680" y="2666880"/>
            <a:ext cx="557280" cy="704880"/>
          </a:xfrm>
          <a:custGeom>
            <a:avLst/>
            <a:gdLst>
              <a:gd name="textAreaLeft" fmla="*/ 0 w 557280"/>
              <a:gd name="textAreaRight" fmla="*/ 557640 w 5572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351" h="444">
                <a:moveTo>
                  <a:pt x="116" y="0"/>
                </a:moveTo>
                <a:cubicBezTo>
                  <a:pt x="105" y="45"/>
                  <a:pt x="0" y="196"/>
                  <a:pt x="39" y="270"/>
                </a:cubicBezTo>
                <a:cubicBezTo>
                  <a:pt x="78" y="344"/>
                  <a:pt x="286" y="408"/>
                  <a:pt x="351" y="444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 rot="19131600">
            <a:off x="1154160" y="4186800"/>
            <a:ext cx="25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pe for variable X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 rot="20977800">
            <a:off x="2060280" y="5180760"/>
            <a:ext cx="25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pe for variable X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ultiple Regression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7543800" y="16095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2 Independent Variabl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istributor of frozen dessert pies wants to evaluate factors thought to influence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c1baf8"/>
                </a:solidFill>
                <a:latin typeface="Arial"/>
              </a:rPr>
              <a:t>Dependent variable:</a:t>
            </a: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500" spc="-1" strike="noStrike">
                <a:solidFill>
                  <a:srgbClr val="c1baf8"/>
                </a:solidFill>
                <a:latin typeface="Arial"/>
              </a:rPr>
              <a:t>Pie sales (units per week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Arial"/>
              </a:rPr>
              <a:t>Independent variables: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ice (in 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vertising ($100’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re collected for 15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j0228901"/>
          <p:cNvPicPr/>
          <p:nvPr/>
        </p:nvPicPr>
        <p:blipFill>
          <a:blip r:embed="rId1"/>
          <a:stretch/>
        </p:blipFill>
        <p:spPr>
          <a:xfrm>
            <a:off x="6629400" y="4859280"/>
            <a:ext cx="2143080" cy="1197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4648320" y="33526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267080" y="2209680"/>
            <a:ext cx="4267440" cy="1295640"/>
          </a:xfrm>
          <a:prstGeom prst="rect">
            <a:avLst/>
          </a:prstGeom>
          <a:solidFill>
            <a:srgbClr val="bef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ie Sales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53040" y="2401920"/>
            <a:ext cx="4433760" cy="1295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0000"/>
          </a:bodyPr>
          <a:p>
            <a:pPr marL="288360" indent="-2883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verti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295280"/>
          <a:ext cx="3505320" cy="5089680"/>
        </p:xfrm>
        <a:graphic>
          <a:graphicData uri="http://schemas.openxmlformats.org/drawingml/2006/table">
            <a:tbl>
              <a:tblPr/>
              <a:tblGrid>
                <a:gridCol w="685800"/>
                <a:gridCol w="839880"/>
                <a:gridCol w="760320"/>
                <a:gridCol w="121932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100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03" name="Freeform 80"/>
          <p:cNvSpPr/>
          <p:nvPr/>
        </p:nvSpPr>
        <p:spPr>
          <a:xfrm>
            <a:off x="4419720" y="2282760"/>
            <a:ext cx="604800" cy="155520"/>
          </a:xfrm>
          <a:custGeom>
            <a:avLst/>
            <a:gdLst>
              <a:gd name="textAreaLeft" fmla="*/ 0 w 604800"/>
              <a:gd name="textAreaRight" fmla="*/ 604800 w 6048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81" h="98">
                <a:moveTo>
                  <a:pt x="0" y="96"/>
                </a:moveTo>
                <a:lnTo>
                  <a:pt x="192" y="0"/>
                </a:lnTo>
                <a:lnTo>
                  <a:pt x="381" y="9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1"/>
          <p:cNvSpPr/>
          <p:nvPr/>
        </p:nvSpPr>
        <p:spPr>
          <a:xfrm>
            <a:off x="4267080" y="1600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2" descr="j0228901"/>
          <p:cNvPicPr/>
          <p:nvPr/>
        </p:nvPicPr>
        <p:blipFill>
          <a:blip r:embed="rId1"/>
          <a:stretch/>
        </p:blipFill>
        <p:spPr>
          <a:xfrm>
            <a:off x="7620120" y="57150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1676520"/>
          <a:ext cx="8763120" cy="471312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898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cel Multiple Regression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109" name="Picture 126" descr="j0228901"/>
          <p:cNvPicPr/>
          <p:nvPr/>
        </p:nvPicPr>
        <p:blipFill>
          <a:blip r:embed="rId1"/>
          <a:stretch/>
        </p:blipFill>
        <p:spPr>
          <a:xfrm>
            <a:off x="7543800" y="18288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110" name="Line 128"/>
          <p:cNvSpPr/>
          <p:nvPr/>
        </p:nvSpPr>
        <p:spPr>
          <a:xfrm flipV="1">
            <a:off x="3048120" y="3200040"/>
            <a:ext cx="533160" cy="2438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1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4"/>
          <p:cNvSpPr/>
          <p:nvPr/>
        </p:nvSpPr>
        <p:spPr>
          <a:xfrm>
            <a:off x="3200400" y="2819520"/>
            <a:ext cx="5715000" cy="363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8"/>
              <p:cNvSpPr txBox="1"/>
              <p:nvPr/>
            </p:nvSpPr>
            <p:spPr>
              <a:xfrm>
                <a:off x="3662280" y="2892600"/>
                <a:ext cx="471960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l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6 - 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dvertisin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Freeform 12"/>
          <p:cNvSpPr/>
          <p:nvPr/>
        </p:nvSpPr>
        <p:spPr>
          <a:xfrm>
            <a:off x="3664080" y="2854440"/>
            <a:ext cx="450720" cy="71280"/>
          </a:xfrm>
          <a:custGeom>
            <a:avLst/>
            <a:gdLst>
              <a:gd name="textAreaLeft" fmla="*/ 0 w 450720"/>
              <a:gd name="textAreaRight" fmla="*/ 451080 w 4507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4"/>
          <p:cNvSpPr/>
          <p:nvPr/>
        </p:nvSpPr>
        <p:spPr>
          <a:xfrm>
            <a:off x="304920" y="5562720"/>
            <a:ext cx="274320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initab Multiple Regression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2344680" y="1736640"/>
                <a:ext cx="66610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l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6 - 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dvertisin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4"/>
          <p:cNvSpPr/>
          <p:nvPr/>
        </p:nvSpPr>
        <p:spPr>
          <a:xfrm>
            <a:off x="380880" y="2586960"/>
            <a:ext cx="472464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= 307 - 25.0 Price + 74.1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ctor      Coef  SE Coef      T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6.50   114.30   2.68   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24.98    10.83   -2.31 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erti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4.13     25.97   2.85   0.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47.4634   R-Sq = 52.1%   R-Sq(adj) = 44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            DF     SS     MS     F     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       2  29460  14730  6.54  0.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dual Error 12  27033   2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                14  56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371600" y="3276720"/>
            <a:ext cx="6094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V="1">
            <a:off x="1752480" y="2057040"/>
            <a:ext cx="9144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Paromita Banerjee</cp:lastModifiedBy>
  <cp:lastPrinted>1998-11-22T23:37:53Z</cp:lastPrinted>
  <dcterms:modified xsi:type="dcterms:W3CDTF">2015-08-19T07:50:05Z</dcterms:modified>
  <cp:revision>250</cp:revision>
  <dc:subject>Business Statistics A First Course, 7e</dc:subject>
  <dc:title>Chapter 13: Introduction to Multiple Regressiond</dc:title>
</cp:coreProperties>
</file>