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9992-BDA0-4814-9A5A-65CA74A69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3" name="عنصر نائب للرأس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AA1-E470-4546-A92A-03139054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570-CC2D-4C45-B469-9334812B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960-2CCC-40C6-9FE6-BC3FDF30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974-7B06-4C88-B038-11D9ED7C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2FE4-81EE-40C4-8664-6D221D35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8898-39C2-498C-B5E3-20AE042F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87B4-7213-48B5-8516-4EBF5BDC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A509-561E-4C95-BE37-7891E3DB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346B-403C-45BB-B18E-5A2E721F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94EF-E126-4993-A11A-E09A2DF9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12C5-2315-4E4B-8297-6BE0C7D9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039-7BF0-4435-885D-11DB34A6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792A-9B01-44C3-8C02-4DABAAB1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06B5-6C41-456F-8910-277C5DB3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61CD-E3B8-4062-AD50-D3258BB2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9CB9-0103-4AEE-BDCA-00EA81AA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038F-9B0B-4E81-91D5-5DA481AD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C490-39A6-4E48-8A12-45A0B2E1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6E7E9-09FB-44AC-AA2A-FD945EB9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A825-4C8E-4D59-8629-B8D0408F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BB84-799A-4898-8BEB-C3199A0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FD46-B2CE-41A4-92B6-214FF024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4D2-B15B-4166-AA5F-3022DAC2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CDC3-5D0B-47F5-92E9-C8E89EBC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E5C80-A5B7-4E2E-85D0-84D4950B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DA31-553F-4B92-BBC9-3C34326D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0087-C027-4787-B44D-7BBF15A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1AD31-4FA1-4FB9-8087-CCDFD715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8433-FF9A-492A-93D4-4700B0EE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05DD-1B1C-470B-A77C-370C3BB0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3CBD-50E1-4528-9453-C186B0C8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78882-54C6-4FEF-8ADD-7275FA9B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835EC-E4A6-41C3-B236-A9B96576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C2C-F4F0-4AC4-8E9B-3F883E68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D8332-C0D4-466F-A07F-7A464258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E3464-CFA2-4F29-B341-6824BE88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B4CE1-30C7-41D8-BCB4-65C3423B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E6BC-5399-41DC-8A5E-5DDE074A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0248-10A1-487B-8001-721D54E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F4E0-3BB9-46D3-8DDC-6B735295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8AF3-6D15-4C51-9B9E-057CF733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4A7B-0DF6-4E2E-8671-4DC7CB45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432EA-6F44-4CBD-A816-92481C5F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D5CC6-4B04-4B11-A424-689E992D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E57-A007-49D3-9CA9-E068D986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19163-8DE2-40EA-8E4E-8224623F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4879-51BB-472C-803E-34A105E0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BACE-E77D-451B-B9D0-50B53B37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1E622-E6D3-45B6-A380-4C9ECF83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B2D18-11B6-4212-9C27-EC8A8A9E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7C2BD-D9DF-4B3B-9C58-1B115EB6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F52B1-6D0F-46A6-BFD2-190A5D2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5F157-C74E-4C1A-B68B-2409AEA3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D7C39-F01B-4C73-85CA-E4E813AE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B1507-4FB1-4EA7-B410-7F004401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A58-68D5-4650-A085-3E9D0EE5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B2493-6A80-435B-8690-6B05D2FE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1F9C-5D44-4E52-ACCA-6F6C4C55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134C4-21F4-4A70-BCB6-209E3756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565BA-7325-4B0B-96E7-C05F506F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F1445-F0E2-4EAD-9324-F3952858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878C2-E795-4112-A6E7-78010E9E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4268F-CBC0-439A-87C9-E3D851AF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9E48-9C7D-4D42-AF84-7DE6A9E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8588-CE08-4983-8BFC-4882BF97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19911-3120-4465-8316-656647F3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DB5-B1EA-4600-B879-7D24AF34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A3EDC-49FA-4438-BDA6-F015E0AD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54B21-F91E-48D9-BEE7-A3A65BAB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42E3B-927D-44E7-B063-43245F2A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89E27-66E8-46A3-8B5A-A6BC7902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B5C6D-6919-4BEC-9314-DB9EFC12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7FB43-061C-4A1D-928C-D6F3C727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6BC0-DADC-4FEF-8915-6018F2DC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0A7D4-21A7-4254-B1AC-870449F3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2F229-232E-490D-85BF-B833A8FA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00EB-A0A3-4807-874C-CF64CE6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16E-D58E-47CE-B6E4-75CC542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8374-D110-45CD-A5E1-777636D6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7AAB7-F6A0-4008-B089-A645D39C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20872-4A53-4E4F-93CC-E662FD31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8D412-C691-4687-85C7-E11A77F2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5DEB-6497-4B62-9D1F-22FAFD33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D12-6F58-489A-801C-AE2EBA7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F4D3-6A2B-4C50-A55F-EB5D3C32EA2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966-3F49-4FF2-A85B-7131EE2624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C6B7-7F8D-4DA1-8373-71A2F8393D0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7F7F-3A27-404B-B1FD-2482E9A73D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FFCD-CB0A-4678-94F7-CF112900104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05A2-22BA-4499-B367-645C4E3E23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79BE-53C8-4533-B5DC-B514F163D0E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C039-DE42-4AEB-85FA-89E03C0248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807F-2337-4892-8F07-35B2CCBC55E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1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1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4BD5-B775-408A-9940-90D24B433B35}" type="slidenum">
              <a:rPr b="0" lang="en-US" sz="1000" spc="-1" strike="noStrike">
                <a:solidFill>
                  <a:srgbClr val="51494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2CC6-5A39-435D-ABCF-9FAC4E85E25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B7AD-99DF-40C9-AF19-1C33BCA70A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400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171D-3A92-4DC2-958B-228A216334F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4EB-C927-4763-B040-FCEABD2999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mailto:walbahusain@ksu.edu.sa" TargetMode="External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2" descr="http://www.up.ac.za/media/shared/Legacy/sitefiles/image/46/9742/researchpic.jpg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7720" y="5414760"/>
            <a:ext cx="7584840" cy="11840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د. وداد بنت عبدالرحمن أباحسين</a:t>
            </a:r>
            <a:br>
              <a:rPr sz="2800"/>
            </a:b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أستاذ مساعد</a:t>
            </a:r>
            <a:br>
              <a:rPr sz="2800"/>
            </a:b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قسم التربية الخاصة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588080" cy="31672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ctr" rtl="1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797965"/>
                </a:solidFill>
                <a:latin typeface="Calibri"/>
                <a:cs typeface="DecoType Naskh Special"/>
              </a:rPr>
              <a:t>الأفكار البحثية</a:t>
            </a:r>
            <a:endParaRPr b="0" lang="en-US" sz="8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عنصر نائب للتذييل 2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صادر الأفكار البحثي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9280" y="1846440"/>
            <a:ext cx="39862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تفضيلات شخصية (الدورة المفضلة لديك ، الموضوع، العنوان)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سلوك الذي يثير فضولك من خلال المراقبة  البيئة من حولك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مشاكل عملية (مشاكل في صفك، المدرسة، العمل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أفكار المنبثقة أو الخلاقة، مثال: (تطبيق معايير عالمية على بيئة عربية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قراءات المتنوعة في الكتب والمجلات والمواقع على شبكة الإنترنت، وحتى الرسوم والإعلانات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ثبات النظريات، مثال: الطلاب ونظريات الذكاء المتعدد، أسلوب التعلم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2" name="عنصر نائب للمحتوى 2" descr=""/>
          <p:cNvPicPr/>
          <p:nvPr/>
        </p:nvPicPr>
        <p:blipFill>
          <a:blip r:embed="rId1"/>
          <a:stretch/>
        </p:blipFill>
        <p:spPr>
          <a:xfrm>
            <a:off x="4859280" y="1986120"/>
            <a:ext cx="3506760" cy="3743280"/>
          </a:xfrm>
          <a:prstGeom prst="rect">
            <a:avLst/>
          </a:prstGeom>
          <a:ln w="0">
            <a:noFill/>
          </a:ln>
        </p:spPr>
      </p:pic>
      <p:sp>
        <p:nvSpPr>
          <p:cNvPr id="343" name="عنصر نائب للتذييل 3"/>
          <p:cNvSpPr/>
          <p:nvPr/>
        </p:nvSpPr>
        <p:spPr>
          <a:xfrm>
            <a:off x="3924360" y="646596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مصادر الأفكار البحثية </a:t>
            </a:r>
            <a:br>
              <a:rPr sz="4800"/>
            </a:b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Resources of Research Ideas</a:t>
            </a: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 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5" name="Content Placeholder 6" descr=""/>
          <p:cNvPicPr/>
          <p:nvPr/>
        </p:nvPicPr>
        <p:blipFill>
          <a:blip r:embed="rId1"/>
          <a:stretch/>
        </p:blipFill>
        <p:spPr>
          <a:xfrm>
            <a:off x="463680" y="1841400"/>
            <a:ext cx="8223120" cy="4400640"/>
          </a:xfrm>
          <a:prstGeom prst="rect">
            <a:avLst/>
          </a:prstGeom>
          <a:ln w="0">
            <a:noFill/>
          </a:ln>
        </p:spPr>
      </p:pic>
      <p:sp>
        <p:nvSpPr>
          <p:cNvPr id="34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684360" y="18464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و لم يكن موضوع اميل له او اعرف عنه مسبقا فلابد ان يكون على الأق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ختيار ال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22240" y="2060280"/>
            <a:ext cx="37036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عندما تبحث عن موضوع النظر فيما يلي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الهوايات المفضلة لديك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تجارب شخصي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ما القيم المهمة بالنسبة لك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مواضيع تثير تفكيرك وترغب في معرفة المزيد عنها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0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005440" y="2219400"/>
            <a:ext cx="3360600" cy="3600360"/>
          </a:xfrm>
          <a:prstGeom prst="rect">
            <a:avLst/>
          </a:prstGeom>
          <a:ln w="0">
            <a:noFill/>
          </a:ln>
        </p:spPr>
      </p:pic>
      <p:sp>
        <p:nvSpPr>
          <p:cNvPr id="351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DecoType Naskh Special"/>
              </a:rPr>
              <a:t>DR.WEDAD ABAHUS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اختيار الموضوع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Selecting research topic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DecoType Naskh Special"/>
              </a:rPr>
              <a:t>ABEER ALHARB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Diagram 6" descr=""/>
          <p:cNvPicPr/>
          <p:nvPr/>
        </p:nvPicPr>
        <p:blipFill>
          <a:blip r:embed="rId1"/>
          <a:stretch/>
        </p:blipFill>
        <p:spPr>
          <a:xfrm>
            <a:off x="249120" y="1841400"/>
            <a:ext cx="835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قييم الفكر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2240" y="2057400"/>
            <a:ext cx="3703680" cy="3316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فعالي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دلالة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أصالة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جدوى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7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200560" y="2057400"/>
            <a:ext cx="3146400" cy="3600360"/>
          </a:xfrm>
          <a:prstGeom prst="rect">
            <a:avLst/>
          </a:prstGeom>
          <a:ln w="0">
            <a:noFill/>
          </a:ln>
        </p:spPr>
      </p:pic>
      <p:sp>
        <p:nvSpPr>
          <p:cNvPr id="358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5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5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000"/>
                </a:solidFill>
                <a:latin typeface="Comic Sans MS"/>
                <a:cs typeface="DecoType Naskh Special"/>
              </a:rPr>
              <a:t>مواضيع البحوث الجيد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360" y="1846440"/>
            <a:ext cx="4032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أنت متأكد بأنك قادر على الوصول إلى البيانات المطلوبة لهذا الموضوع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أنت قادر على صياغة أسئلة البحث وأهدافه بوضوح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سيكون البحث المقترح قادراً على تقديم رؤى جديدة في الموضوع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موضوع البحث تتعلق بصورة واضحة فكرة كنت قد أعطيت (منظمة، مدرس)</a:t>
            </a:r>
            <a:r>
              <a:rPr b="1" lang="ar-SA" sz="1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ي نتائج لهذا موضوع البحث من المرجح </a:t>
            </a:r>
            <a:r>
              <a:rPr b="0" lang="ar-SA" sz="2200" spc="-1" strike="noStrike">
                <a:solidFill>
                  <a:srgbClr val="404040"/>
                </a:solidFill>
                <a:latin typeface="Calibri"/>
              </a:rPr>
              <a:t>أن تكون متماثلة (قيمة مماثلة مهما كانت نتيجة)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 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نظر في أهداف حياتك المهنية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http://all-new.ws/images/img_1/0f2696f178a3cab351b3efce8c7364ef.jpg"/>
          <p:cNvPicPr/>
          <p:nvPr/>
        </p:nvPicPr>
        <p:blipFill>
          <a:blip r:embed="rId1"/>
          <a:stretch/>
        </p:blipFill>
        <p:spPr>
          <a:xfrm>
            <a:off x="4991040" y="1846440"/>
            <a:ext cx="32529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عايير اختيار 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15760" y="1916280"/>
            <a:ext cx="3703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الموضوع يتناسب مع المواصفات والمعايير التي وضعتها المؤسسة أو الكلية أو القسم الذي انتمي له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هذا الموضوع مناسب لمجالي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هذا الموضوع مفيد المجتمع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أستطيع أن أتحدث عن هذا الموضوع بحماس ومعرفة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سأكون قادراً على تقديم منظور جديد حول هذا الموضوع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" descr="http://previews.123rf.com/images/Krisdog/Krisdog1210/Krisdog121000014/15567702-Ein-Klemmbrett-mit-Bleistift-Markierungen-auf-sie-Eine-Umfrage-Umfrage-oder-Pr-fbescheinigung-Lizenzfreie-Bilder.jpg"/>
          <p:cNvPicPr/>
          <p:nvPr/>
        </p:nvPicPr>
        <p:blipFill>
          <a:blip r:embed="rId1"/>
          <a:stretch/>
        </p:blipFill>
        <p:spPr>
          <a:xfrm>
            <a:off x="4788000" y="1916280"/>
            <a:ext cx="35780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عايير اختيار 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22240" y="1773000"/>
            <a:ext cx="37036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يحتوي موضوع البحث الخاص بك على نظرية تعتمد عليها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لديك أو يمكنك تخمين الإطار الزمني للمشر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تمتلك المهارات البحثية اللازمة لإجراء هذا الموض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و موضوع البحث تحقيقه ضمن الوقت المتاح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و موضوع البحث للتحقيق في حدود الموارد المالية التي من المحتمل أن تكون متاحة لك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http://previews.123rf.com/images/Krisdog/Krisdog1210/Krisdog121000014/15567702-Ein-Klemmbrett-mit-Bleistift-Markierungen-auf-sie-Eine-Umfrage-Umfrage-oder-Pr-fbescheinigung-Lizenzfreie-Bilder.jpg"/>
          <p:cNvPicPr/>
          <p:nvPr/>
        </p:nvPicPr>
        <p:blipFill>
          <a:blip r:embed="rId1"/>
          <a:stretch/>
        </p:blipFill>
        <p:spPr>
          <a:xfrm>
            <a:off x="4859280" y="1916280"/>
            <a:ext cx="3506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http://www.gerasanews.com/web/tpllib/img.php?im=cat_136/47540.jpg&amp;w=320&amp;h=348&amp;large"/>
          <p:cNvPicPr/>
          <p:nvPr/>
        </p:nvPicPr>
        <p:blipFill>
          <a:blip r:embed="rId1"/>
          <a:stretch/>
        </p:blipFill>
        <p:spPr>
          <a:xfrm>
            <a:off x="433440" y="47628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رسم تخطيطي 9" descr=""/>
          <p:cNvPicPr/>
          <p:nvPr/>
        </p:nvPicPr>
        <p:blipFill>
          <a:blip r:embed="rId1"/>
          <a:stretch/>
        </p:blipFill>
        <p:spPr>
          <a:xfrm>
            <a:off x="792000" y="579600"/>
            <a:ext cx="77425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593640"/>
            <a:ext cx="24001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أجندة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عنصر نائب للتذييل 4"/>
          <p:cNvSpPr/>
          <p:nvPr/>
        </p:nvSpPr>
        <p:spPr>
          <a:xfrm>
            <a:off x="5219640" y="6461280"/>
            <a:ext cx="15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مستطيل 9"/>
          <p:cNvSpPr/>
          <p:nvPr/>
        </p:nvSpPr>
        <p:spPr>
          <a:xfrm>
            <a:off x="3348000" y="393840"/>
            <a:ext cx="525636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أنواع المواضي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مصادر الأفكار البحث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ختيار الموض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تقييم الفك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Comic Sans MS"/>
              </a:rPr>
              <a:t>مواضيع البحوث الجي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معايير اختيار موض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أنواع التفكير العل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التفكير المنط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لتفكير الإبد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العصف الذه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كتشاف مواضيعك المفضلة عن طريق المشاريع الساب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تحويل الأفكار البحثية إلى مشار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c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تفكير المنطق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9000"/>
          </a:bodyPr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رسائل العلم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مشاريع التربو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سح قائمة جامعتك من عناوين المشاريع الماضية عن أي موضوع يلامس اهتمامك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سح المشاريع البحثية الفعل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مسح في قواعد المعلومات العربية والأجنب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http://images0.masress.com/elfagr/1523100"/>
          <p:cNvPicPr/>
          <p:nvPr/>
        </p:nvPicPr>
        <p:blipFill>
          <a:blip r:embed="rId1"/>
          <a:stretch/>
        </p:blipFill>
        <p:spPr>
          <a:xfrm>
            <a:off x="4983120" y="1989000"/>
            <a:ext cx="3333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كيف يحدث ؟</a:t>
            </a:r>
            <a:br>
              <a:rPr sz="4800"/>
            </a:b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How it’s done</a:t>
            </a: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 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أولا قم بالتالي 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أعد قائمة بالكلمات المفتاحي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لرجوع </a:t>
            </a: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Encyclopaedia, Wikipedia</a:t>
            </a: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لرجوع للمعاجم و المترادفات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أبدأ البحث في الدراسات السابقة عن الكلمات المفتاحي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57040" indent="-25704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نشاط 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Activity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83880" indent="-83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04040"/>
                </a:solidFill>
                <a:latin typeface="Calibri"/>
              </a:rPr>
              <a:t> سيتم مناقشة الواجب الآن بحيث كل طالبة عليها ان تستعرض الرسائل العلمية و تلخص الفجوة في المعرفة؟</a:t>
            </a: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تفكير الابداعي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915920"/>
            <a:ext cx="37036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حفاظ على دفتر الأفكار (الذهبي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ستكشاف التفضيلات الشخصية باستخدام المشاريع السابق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قراءة في المواضيع ذات الصل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عصف الذهني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http://www.arabnet5.com/media/638/photos_%D8%AF%D9%81%D8%AA%D8%B1_%D8%A7%D9%84%D9%85%D9%84%D8%A7%D8%AD%D8%B8%D8%A7%D8%AA_14026.jpg"/>
          <p:cNvPicPr/>
          <p:nvPr/>
        </p:nvPicPr>
        <p:blipFill>
          <a:blip r:embed="rId1"/>
          <a:stretch/>
        </p:blipFill>
        <p:spPr>
          <a:xfrm>
            <a:off x="4788000" y="1989000"/>
            <a:ext cx="35622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كتشاف مواضيعك المفضلة عن طريق المشاريع السابقة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ختيار ستة مشاريع سابقة وجيد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دون أفكارك الأولى مع الإجابة على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ا يروق لك عن المشروع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ا هو جيد عن المشرو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لماذا يعتبر المشروع جيد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http://www.2x.com/wp-content/uploads/2015/04/case-study2.png"/>
          <p:cNvPicPr/>
          <p:nvPr/>
        </p:nvPicPr>
        <p:blipFill>
          <a:blip r:embed="rId1"/>
          <a:stretch/>
        </p:blipFill>
        <p:spPr>
          <a:xfrm>
            <a:off x="4859280" y="2060640"/>
            <a:ext cx="3506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كتشاف مواضيعك المفضلة باستخدام المشاريع السابقة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ختيار ثلاثة مشاريع من التي كنت لا تفضلها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يدون أفكارك الأولى مع استجابة إلى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ما لا يعجبك في المشاريع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ما هو سيء عن المشاري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لماذا هو سيء المشر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http://www.2x.com/wp-content/uploads/2015/04/case-study2.png"/>
          <p:cNvPicPr/>
          <p:nvPr/>
        </p:nvPicPr>
        <p:blipFill>
          <a:blip r:embed="rId1"/>
          <a:stretch/>
        </p:blipFill>
        <p:spPr>
          <a:xfrm>
            <a:off x="4859280" y="2060640"/>
            <a:ext cx="3506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https://i.ytimg.com/vi/PVDtgDdnqPI/hqdefault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1"/>
          <p:cNvSpPr/>
          <p:nvPr/>
        </p:nvSpPr>
        <p:spPr>
          <a:xfrm>
            <a:off x="2843280" y="647064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142920" y="2560680"/>
            <a:ext cx="8677080" cy="41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ختيار فكرة البحث ،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ن خلال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دراسات السابقة ( عدم الاتفاق مع الباحث في هذه الدراسات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المناقشة و الخاتمة (النقد الذاتي للدراسة او جوانب القصور في الدراسة + التوصيات بدراسات أخرى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الاخطاء المنهجية في مجموعة من  الدراسات المنشورة دعوة لإجراء دراسة لمعالجة هذا الخط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فجوات المعرفة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142920" y="4428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89d9b"/>
                </a:solidFill>
                <a:latin typeface="Arial"/>
              </a:rPr>
              <a:t>مصدر آخر يعتمد على التفكير المنطقي في اختيار فكرة بح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9d9b"/>
                </a:solidFill>
                <a:latin typeface="Arial"/>
              </a:rPr>
              <a:t>Another source for research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عصف الذهن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1846440"/>
            <a:ext cx="37036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ديد مشكلتك - وأنواع الأفكار التي كنت مهتماً بها  بأكبر دقة ممكنة عن طريق طلب اقتراحات، تتعلق بالمشكلة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سجيل جميع الاقتراحات، ومراعاة القواعد التالية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 يجب أن لا تنتقد أي تقترح أو تقيم بأي شكل من الأشكال قبل أن يتم اعتبار جميع الأفكار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جميع الاقتراحات الغريبة ينبغي أن تسجل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4" name="عنصر نائب للمحتوى 7" descr=""/>
          <p:cNvPicPr/>
          <p:nvPr/>
        </p:nvPicPr>
        <p:blipFill>
          <a:blip r:embed="rId1"/>
          <a:stretch/>
        </p:blipFill>
        <p:spPr>
          <a:xfrm>
            <a:off x="5148360" y="2052720"/>
            <a:ext cx="3217680" cy="4022640"/>
          </a:xfrm>
          <a:prstGeom prst="rect">
            <a:avLst/>
          </a:prstGeom>
          <a:ln w="0">
            <a:noFill/>
          </a:ln>
        </p:spPr>
      </p:pic>
      <p:sp>
        <p:nvSpPr>
          <p:cNvPr id="405" name="عنصر نائب للتذييل 8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عصف الذهن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كما يجب أن يتم تسجيل العديد من الاقتراحات في أقصر وقت ممكن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ستعراض جميع الاقتراحات واستكشاف ما هو المقصود من كل مقترح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ليل قائمة من الاقتراحات والتي تقرر لك أكثر الأفكار البحثية مناسب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قتراحات فيجب أن لا يتم انتقادات أو تقييمه قبل أن يتم النظر في جميع الأفكار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8" name="عنصر نائب للمحتوى 7" descr=""/>
          <p:cNvPicPr/>
          <p:nvPr/>
        </p:nvPicPr>
        <p:blipFill>
          <a:blip r:embed="rId1"/>
          <a:stretch/>
        </p:blipFill>
        <p:spPr>
          <a:xfrm>
            <a:off x="5126040" y="2006640"/>
            <a:ext cx="3240000" cy="4022640"/>
          </a:xfrm>
          <a:prstGeom prst="rect">
            <a:avLst/>
          </a:prstGeom>
          <a:ln w="0">
            <a:noFill/>
          </a:ln>
        </p:spPr>
      </p:pic>
      <p:sp>
        <p:nvSpPr>
          <p:cNvPr id="409" name="عنصر نائب للتذييل 8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صورة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457960"/>
          </a:xfrm>
          <a:prstGeom prst="rect">
            <a:avLst/>
          </a:prstGeom>
          <a:ln w="0">
            <a:noFill/>
          </a:ln>
        </p:spPr>
      </p:pic>
      <p:sp>
        <p:nvSpPr>
          <p:cNvPr id="319" name="عنصر نائب للتذييل 5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نشاط 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Activity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3000"/>
          </a:bodyPr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بناءا على ماتم استعراضه من فجوات المعرفة في الرسائل المبحوثة ، قومي باقتراح </a:t>
            </a: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 موضوعات مرتبطة بالفجوات في المعرفة  يمكنك ان تقومي باجراء دراستك فيها ؟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استخدمي الأوراق الموزعة لكتابة أو رسم هذه الأفكار البحثية ..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ويل الأفكار البحثية إلى مشاريع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90640" y="1971360"/>
            <a:ext cx="37036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3000"/>
          </a:bodyPr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كتابة الأسئلة البحث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كتابة أهداف البحث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ول أسئلة البحث في أهداف البحث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ثال: الفكرة: التوظيف عبر الإنترنت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سؤال: ما مدى فعالية تعيين موظفين جدد عبر الإنترنت بالمقارنة مع الأساليب التقليدية؟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هدف: تحديد فعالية التوظيف عبر الإنترنت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15" name="عنصر نائب للمحتوى 5" descr=""/>
          <p:cNvPicPr/>
          <p:nvPr/>
        </p:nvPicPr>
        <p:blipFill>
          <a:blip r:embed="rId1"/>
          <a:stretch/>
        </p:blipFill>
        <p:spPr>
          <a:xfrm>
            <a:off x="5018040" y="2022480"/>
            <a:ext cx="3313080" cy="3952800"/>
          </a:xfrm>
          <a:prstGeom prst="rect">
            <a:avLst/>
          </a:prstGeom>
          <a:ln w="0">
            <a:noFill/>
          </a:ln>
        </p:spPr>
      </p:pic>
      <p:sp>
        <p:nvSpPr>
          <p:cNvPr id="416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ويل الأفكار البحثية إلى مشاري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17560" y="1988640"/>
            <a:ext cx="370368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8000"/>
          </a:bodyPr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لعلاقة بين النظرية والتطبيق (سبب وعلاقة التأثير) التوقعات التي إذا فعل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A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، </a:t>
            </a: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فإن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B</a:t>
            </a: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سيحدث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لبحث = جمع المعلومات والحقائق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ستخدام صيغة "ماذا" و "لماذا" في الأسئلة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ستخدام المنهج الاستنباطي (فهم نظرية، واختيار البيانات) أوالمنهج الاستقرائي (اختيار البيانات، وتحديد نظرية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http://i0.wp.com/www.elcuk.org/wp-content/uploads/2015/09/Research_theory.png"/>
          <p:cNvPicPr/>
          <p:nvPr/>
        </p:nvPicPr>
        <p:blipFill>
          <a:blip r:embed="rId1"/>
          <a:stretch/>
        </p:blipFill>
        <p:spPr>
          <a:xfrm>
            <a:off x="5148360" y="1989000"/>
            <a:ext cx="3217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https://epdaa.files.wordpress.com/2010/10/041.jpg"/>
          <p:cNvPicPr/>
          <p:nvPr/>
        </p:nvPicPr>
        <p:blipFill>
          <a:blip r:embed="rId1"/>
          <a:stretch/>
        </p:blipFill>
        <p:spPr>
          <a:xfrm>
            <a:off x="271440" y="260280"/>
            <a:ext cx="8604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42720" y="593640"/>
            <a:ext cx="240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4" name="عنصر نائب للتذييل 1"/>
          <p:cNvSpPr/>
          <p:nvPr/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2720" y="2925720"/>
            <a:ext cx="240012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6" name="Picture 6" descr="https://www.kfu.edu.sa/ar/Deans/AhsaaStudent/PublishingImages/email.jpg"/>
          <p:cNvPicPr/>
          <p:nvPr/>
        </p:nvPicPr>
        <p:blipFill>
          <a:blip r:embed="rId1"/>
          <a:stretch/>
        </p:blipFill>
        <p:spPr>
          <a:xfrm>
            <a:off x="179280" y="593640"/>
            <a:ext cx="2737080" cy="5711760"/>
          </a:xfrm>
          <a:prstGeom prst="rect">
            <a:avLst/>
          </a:prstGeom>
          <a:ln w="0">
            <a:noFill/>
          </a:ln>
        </p:spPr>
      </p:pic>
      <p:sp>
        <p:nvSpPr>
          <p:cNvPr id="427" name="مربع نص 7"/>
          <p:cNvSpPr/>
          <p:nvPr/>
        </p:nvSpPr>
        <p:spPr>
          <a:xfrm>
            <a:off x="3995640" y="1724040"/>
            <a:ext cx="4392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تم بحمد الله</a:t>
            </a: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،،،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للتواصل</a:t>
            </a: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albahusain@ks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صورة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543640"/>
          </a:xfrm>
          <a:prstGeom prst="rect">
            <a:avLst/>
          </a:prstGeom>
          <a:ln w="0">
            <a:noFill/>
          </a:ln>
        </p:spPr>
      </p:pic>
      <p:sp>
        <p:nvSpPr>
          <p:cNvPr id="321" name="عنصر نائب للتذييل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صورة 1" descr=""/>
          <p:cNvPicPr/>
          <p:nvPr/>
        </p:nvPicPr>
        <p:blipFill>
          <a:blip r:embed="rId1"/>
          <a:stretch/>
        </p:blipFill>
        <p:spPr>
          <a:xfrm>
            <a:off x="96840" y="133200"/>
            <a:ext cx="9023400" cy="6158160"/>
          </a:xfrm>
          <a:prstGeom prst="rect">
            <a:avLst/>
          </a:prstGeom>
          <a:ln w="0">
            <a:noFill/>
          </a:ln>
        </p:spPr>
      </p:pic>
      <p:sp>
        <p:nvSpPr>
          <p:cNvPr id="323" name="عنصر نائب للتذييل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http://image.slidesharecdn.com/glamwikipresentation-130413045901-phpapp01/95/benchmarking-digital-in-the-culture-sector-5-638.jpg?cb=136582918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976720"/>
          </a:xfrm>
          <a:prstGeom prst="rect">
            <a:avLst/>
          </a:prstGeom>
          <a:ln w="0">
            <a:noFill/>
          </a:ln>
        </p:spPr>
      </p:pic>
      <p:sp>
        <p:nvSpPr>
          <p:cNvPr id="326" name="مربع نص 2"/>
          <p:cNvSpPr/>
          <p:nvPr/>
        </p:nvSpPr>
        <p:spPr>
          <a:xfrm>
            <a:off x="250920" y="5950080"/>
            <a:ext cx="8642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115920"/>
            <a:ext cx="75438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ديد موضوع الدراسة بشكل صحيح يساعدك في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2240" y="1846440"/>
            <a:ext cx="38210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استراتيجية البحث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جمع البيانات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تقنيات التحليل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Simplified Arabic"/>
              </a:rPr>
              <a:t>اذاً نبدأ مع اختيار الأفكار البحثية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https://ssssose.files.wordpress.com/2012/06/20120630-124457.jpg"/>
          <p:cNvPicPr/>
          <p:nvPr/>
        </p:nvPicPr>
        <p:blipFill>
          <a:blip r:embed="rId1"/>
          <a:stretch/>
        </p:blipFill>
        <p:spPr>
          <a:xfrm>
            <a:off x="4932360" y="1989000"/>
            <a:ext cx="32893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404040"/>
                </a:solidFill>
                <a:latin typeface="Calibri Light"/>
              </a:rPr>
              <a:t>قبل ان تبدأ الاختيار </a:t>
            </a:r>
            <a:br>
              <a:rPr sz="4300"/>
            </a:br>
            <a:r>
              <a:rPr b="1" lang="en-GB" sz="4300" spc="-1" strike="noStrike">
                <a:solidFill>
                  <a:srgbClr val="404040"/>
                </a:solidFill>
                <a:latin typeface="Calibri Light"/>
              </a:rPr>
              <a:t>Before you start selecting a topic</a:t>
            </a:r>
            <a:r>
              <a:rPr b="1" lang="en-GB" sz="43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xplosion 2 8"/>
          <p:cNvSpPr/>
          <p:nvPr/>
        </p:nvSpPr>
        <p:spPr>
          <a:xfrm>
            <a:off x="965160" y="1917720"/>
            <a:ext cx="3594240" cy="3043080"/>
          </a:xfrm>
          <a:prstGeom prst="irregularSeal2">
            <a:avLst/>
          </a:prstGeom>
          <a:solidFill>
            <a:srgbClr val="db8631"/>
          </a:solidFill>
          <a:ln w="15840">
            <a:solidFill>
              <a:srgbClr val="a16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لماذا 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Callout 9"/>
          <p:cNvSpPr/>
          <p:nvPr/>
        </p:nvSpPr>
        <p:spPr>
          <a:xfrm>
            <a:off x="4925880" y="1827360"/>
            <a:ext cx="3384720" cy="2950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3cc5a"/>
          </a:solidFill>
          <a:ln w="15840">
            <a:solidFill>
              <a:srgbClr val="a79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كن مرن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0"/>
          <p:cNvSpPr/>
          <p:nvPr/>
        </p:nvSpPr>
        <p:spPr>
          <a:xfrm>
            <a:off x="1290600" y="514188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غيير موضوع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غيير عناصر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أنواع المواضيع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22240" y="1736280"/>
            <a:ext cx="3703680" cy="435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اضيع متعلقة بمجموعات مثال:  (الأطفال قبل سن المدرسة ، أولياء الأمور، المدراء، المعلمين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ضوعات متعلقة بسلوك معين، مثال: (التنمر، القلق، العدوانية)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ضوعات عامة، مثل: (ضغوط العمل، الشخصية ، التعلم ، الدوافع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8" name="Picture 7" descr="http://qoll.net/wp-content/uploads/2015/11/%D8%A7%D9%84%D9%83%D8%AA%D8%A7%D8%A8%D8%A9-%D8%A7%D9%84%D8%A5%D8%A8%D8%AF%D8%A7%D8%B9%D9%8A%D8%A9.jpg"/>
          <p:cNvPicPr/>
          <p:nvPr/>
        </p:nvPicPr>
        <p:blipFill>
          <a:blip r:embed="rId1"/>
          <a:stretch/>
        </p:blipFill>
        <p:spPr>
          <a:xfrm>
            <a:off x="5049720" y="2036880"/>
            <a:ext cx="3289320" cy="3887640"/>
          </a:xfrm>
          <a:prstGeom prst="rect">
            <a:avLst/>
          </a:prstGeom>
          <a:ln w="0">
            <a:noFill/>
          </a:ln>
        </p:spPr>
      </p:pic>
      <p:sp>
        <p:nvSpPr>
          <p:cNvPr id="339" name="عنصر نائب للتذييل 7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21:20:42Z</dcterms:created>
  <dc:creator>Ali</dc:creator>
  <dc:description/>
  <dc:language>en-US</dc:language>
  <cp:lastModifiedBy>وداد</cp:lastModifiedBy>
  <dcterms:modified xsi:type="dcterms:W3CDTF">2016-10-03T16:36:21Z</dcterms:modified>
  <cp:revision>337</cp:revision>
  <dc:subject/>
  <dc:title>2- Research Ideas</dc:title>
</cp:coreProperties>
</file>