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22F7-F05B-4888-B32B-6E9DBBB6D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عنصر نائب للرأس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3" name="عنصر نائب للرأس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عنصر نائب للرأس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عنصر نائب للرأس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عنصر نائب للرأس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عنصر نائب للرأس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072-1621-4604-971E-6184B752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328-9389-4E18-BFF9-175A142C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FD58-D9EF-4FA1-A0C3-CA036FE8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7F2F-0DE3-4642-9594-19FF033D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A949-2549-4CB2-A0E5-04D7A033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69AA-13D9-4B09-B964-CE362925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92FC-B369-475E-A160-8ECF600A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8D21-A573-4EF3-8ED8-C517B80E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7362-2DE5-4643-A1F1-2683B383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0120-4A79-4846-96E3-66E7D875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D8C9-B92A-4CA0-8442-EB1ED23C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85CE-04B9-4903-AF77-791112FA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0F3E-93AD-45DD-9DED-530EE481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3E9E-D5EA-45CF-871E-CCF8B858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3F68-DA4A-49ED-BE42-446B79A5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A917-F55D-4F53-8776-F265F07A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56DB-6848-4D23-93F1-51A60426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667ED-E8FC-443F-8364-1639524A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BF8FF-E853-418D-9A04-4DC266D1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3C1BF-A048-4B01-8DCB-589D1ABB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5161E-0B0F-497B-BFD8-6F5E2A8D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C3A7C-CD88-4E91-8756-01670EDD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A15-AC41-48D7-BFC9-B044593E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1C337-C03C-48BD-81CD-88347B2D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4C709-9909-45B4-B277-DD98169F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6FC64-8320-4D84-8DF1-32D559F9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926DE-3B0F-4C9E-91F2-7B0BEF88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D3B7D-C8C7-4279-80E1-05052FC9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6CB5E-560B-4E39-966C-E8A24B5E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FE9CA-5F5D-46A4-A38A-ED03D28D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3A9CF-DE5D-4341-83B8-B6B6544B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D02A7-3A92-4ADD-8055-C04A92D1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0A48C-E96C-4E21-962F-CAD9A65F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ACF-A3BF-4AE4-A64E-8A56EB6B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ED518-A131-4CEF-AF7E-B65F27AE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E1FC6-808C-4504-A5EB-B2978172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0FC4D-B264-4455-B99D-E899DBBE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1ED6D-0B7E-414D-9667-0D25FD98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ECF69-7002-4973-8411-7D152319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BB927-3560-49B0-93F1-C0E65CC8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F2214-5066-4AF7-8230-569DBC69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03A5E-59E8-4923-B8A7-7816238C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56B96-3899-4520-80F2-266ECCC7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21798-2A9E-4106-B5A6-C7FCB96C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48A1-0F95-4911-804C-27125FA7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DF840-3FAF-4824-9DE3-778902F5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ABF03-53B9-4061-96D2-75A99F09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CA6CF-2B02-484C-B085-29B0C828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9C732-4DFB-4C5F-8BAB-1681A573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CD9BF-E1D1-47B1-B70C-F989791B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12343-B6A2-405B-8D94-CA52B352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DDEBD-6B83-4E34-B111-68F450E8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CFC9B-DC0D-4C34-BEBC-4877C02E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56AF8-98DE-416E-8370-8EE31D34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5CE13-4141-4A09-AC51-C9F48719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FF1-28B5-4B01-8915-4AD7E041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E807D-184D-407F-BC2C-A009E819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5F1C6-FB96-4798-8C5D-4F6FC677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1A619-0FDC-4D32-897D-06BA8A78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A3F26-2838-426E-B0DC-CCB59FE5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A1EF2-BC1E-41A1-B73C-B0D60503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704B5-1905-4BF5-B4E2-69345B8B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306BD-279C-4D98-B366-CBD06788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A8645-1003-4232-A9DF-545E0FE6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0444A-FAF4-49C8-9148-3A603C47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F8B16-69B9-44ED-B935-65ECA17A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5A7-21DD-4667-83BE-1D251BDB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1B717-8E5C-4FB8-988A-F85DE320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F6407-7EC9-49A2-9004-009857D1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63A4F-1C76-4617-8BA7-D34FBE51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D0FC6-6AC3-4A70-9E5F-A5E5C5D0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2D15C-784A-4534-BF6D-33918BA5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E43D0-294A-4DB3-8374-7A3E5F47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6195E-E95D-4903-B236-47DDA2DD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1054B-3299-45A7-B2B5-A33F24DE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04C67-8258-4CDF-B574-DA404CA4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9A349-2C89-44F3-B483-049D49B4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184-A014-4C0A-8906-37557582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4855A-D0F0-41DB-87F1-EB4BEE8D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5F109-D31B-4114-995F-277DDA29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105F3-5C4E-4DB2-933F-0808403D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58E65-0DF7-4A7D-BE0E-9DE302E6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0AC44-2728-47DE-950C-0395E5D2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91AA-DD76-4067-9975-2D55D573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8339-DF2C-46FB-AD27-96D3236E24EC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54B3-6FA9-467B-B1E6-E1A16F4E7D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464F-B2A2-426C-8F95-4E4A42902D4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97B9-481D-4B04-A0EC-F55F5C4C8A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99AA-BAB7-4A16-B195-65E22BDD95A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0C40-E817-42C9-9423-A924D17560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D5E7-8265-45B5-9BED-629E9F63B3B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CE3F-2442-43BB-8C38-E2E3334E11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FA51-7AD6-49D3-A4F6-A9D7D64CA7F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1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14949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149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DCC6-AEE0-4165-9D5E-FEBA0EB6A870}" type="slidenum">
              <a:rPr b="0" lang="en-US" sz="1000" spc="-1" strike="noStrike">
                <a:solidFill>
                  <a:srgbClr val="51494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1946-C4A8-4CD2-B48F-4A6496DCB1A9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A47A-F66D-49E8-B612-794088A417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4000" cy="6336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7EEB-C79B-4D85-8F49-9313CDAC41E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6443-CABC-4CC0-B9B3-71D3C5A85A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mailto:walbahusain@ksu.edu.sa" TargetMode="External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12" descr="http://www.up.ac.za/media/shared/Legacy/sitefiles/image/46/9742/researchpic.jpg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7720" y="5414760"/>
            <a:ext cx="7584840" cy="11840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د. وداد بنت عبدالرحمن أباحسين</a:t>
            </a:r>
            <a:br>
              <a:rPr sz="2800"/>
            </a:br>
            <a:r>
              <a:rPr b="1" lang="ar-SA" sz="2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أستاذ مساعد</a:t>
            </a:r>
            <a:br>
              <a:rPr sz="2800"/>
            </a:br>
            <a:r>
              <a:rPr b="1" lang="ar-SA" sz="2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قسم التربية الخاصة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588080" cy="31672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indent="0" algn="ctr" rtl="1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797965"/>
                </a:solidFill>
                <a:latin typeface="Calibri"/>
                <a:cs typeface="DecoType Naskh Special"/>
              </a:rPr>
              <a:t>الأفكار البحثية</a:t>
            </a:r>
            <a:endParaRPr b="0" lang="en-US" sz="8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عنصر نائب للتذييل 2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مصادر الأفكار البحثية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9280" y="1846440"/>
            <a:ext cx="39862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تفضيلات شخصية (الدورة المفضلة لديك ، الموضوع، العنوان)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السلوك الذي يثير فضولك من خلال المراقبة  البيئة من حولك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مشاكل عملية (مشاكل في صفك، المدرسة، العمل)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الأفكار المنبثقة أو الخلاقة، مثال: (تطبيق معايير عالمية على بيئة عربية)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القراءات المتنوعة في الكتب والمجلات والمواقع على شبكة الإنترنت، وحتى الرسوم والإعلانات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434160" indent="-43416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اثبات النظريات، مثال: الطلاب ونظريات الذكاء المتعدد، أسلوب التعلم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2" name="عنصر نائب للمحتوى 2" descr=""/>
          <p:cNvPicPr/>
          <p:nvPr/>
        </p:nvPicPr>
        <p:blipFill>
          <a:blip r:embed="rId1"/>
          <a:stretch/>
        </p:blipFill>
        <p:spPr>
          <a:xfrm>
            <a:off x="4859280" y="1986120"/>
            <a:ext cx="3506760" cy="3743280"/>
          </a:xfrm>
          <a:prstGeom prst="rect">
            <a:avLst/>
          </a:prstGeom>
          <a:ln w="0">
            <a:noFill/>
          </a:ln>
        </p:spPr>
      </p:pic>
      <p:sp>
        <p:nvSpPr>
          <p:cNvPr id="343" name="عنصر نائب للتذييل 3"/>
          <p:cNvSpPr/>
          <p:nvPr/>
        </p:nvSpPr>
        <p:spPr>
          <a:xfrm>
            <a:off x="3924360" y="6465960"/>
            <a:ext cx="15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89d9b"/>
                </a:solidFill>
                <a:latin typeface="Calibri Light"/>
              </a:rPr>
              <a:t>مصادر الأفكار البحثية </a:t>
            </a:r>
            <a:br>
              <a:rPr sz="4800"/>
            </a:br>
            <a:r>
              <a:rPr b="1" lang="en-US" sz="4800" spc="-1" strike="noStrike">
                <a:solidFill>
                  <a:srgbClr val="689d9b"/>
                </a:solidFill>
                <a:latin typeface="Calibri Light"/>
              </a:rPr>
              <a:t>Resources of Research Ideas</a:t>
            </a:r>
            <a:r>
              <a:rPr b="1" lang="en-US" sz="4800" spc="-1" strike="noStrike">
                <a:solidFill>
                  <a:srgbClr val="689d9b"/>
                </a:solidFill>
                <a:latin typeface="Calibri Light"/>
              </a:rPr>
              <a:t> 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45" name="Content Placeholder 6" descr=""/>
          <p:cNvPicPr/>
          <p:nvPr/>
        </p:nvPicPr>
        <p:blipFill>
          <a:blip r:embed="rId1"/>
          <a:stretch/>
        </p:blipFill>
        <p:spPr>
          <a:xfrm>
            <a:off x="463680" y="1841400"/>
            <a:ext cx="8223120" cy="4400640"/>
          </a:xfrm>
          <a:prstGeom prst="rect">
            <a:avLst/>
          </a:prstGeom>
          <a:ln w="0">
            <a:noFill/>
          </a:ln>
        </p:spPr>
      </p:pic>
      <p:sp>
        <p:nvSpPr>
          <p:cNvPr id="346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ALHARB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684360" y="184644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و لم يكن موضوع اميل له او اعرف عنه مسبقا فلابد ان يكون على الأقل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ختيار الموضوع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822240" y="2060280"/>
            <a:ext cx="370368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libri"/>
              </a:rPr>
              <a:t>عندما تبحث عن موضوع النظر فيما يلي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</a:rPr>
              <a:t>الهوايات المفضلة لديك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</a:rPr>
              <a:t>تجارب شخصية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</a:rPr>
              <a:t>ما القيم المهمة بالنسبة لك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4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</a:rPr>
              <a:t>مواضيع تثير تفكيرك وترغب في معرفة المزيد عنها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0" name="عنصر نائب للمحتوى 3" descr=""/>
          <p:cNvPicPr/>
          <p:nvPr/>
        </p:nvPicPr>
        <p:blipFill>
          <a:blip r:embed="rId1"/>
          <a:stretch/>
        </p:blipFill>
        <p:spPr>
          <a:xfrm>
            <a:off x="5005440" y="2219400"/>
            <a:ext cx="3360600" cy="3600360"/>
          </a:xfrm>
          <a:prstGeom prst="rect">
            <a:avLst/>
          </a:prstGeom>
          <a:ln w="0">
            <a:noFill/>
          </a:ln>
        </p:spPr>
      </p:pic>
      <p:sp>
        <p:nvSpPr>
          <p:cNvPr id="351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DecoType Naskh Special"/>
              </a:rPr>
              <a:t>DR.WEDAD ABAHUS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89d9b"/>
                </a:solidFill>
                <a:latin typeface="Calibri Light"/>
              </a:rPr>
              <a:t>اختيار الموضوع</a:t>
            </a:r>
            <a:br>
              <a:rPr sz="4800"/>
            </a:b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Selecting research topic</a:t>
            </a: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3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DecoType Naskh Special"/>
              </a:rPr>
              <a:t>ABEER ALHARB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Diagram 6" descr=""/>
          <p:cNvPicPr/>
          <p:nvPr/>
        </p:nvPicPr>
        <p:blipFill>
          <a:blip r:embed="rId1"/>
          <a:stretch/>
        </p:blipFill>
        <p:spPr>
          <a:xfrm>
            <a:off x="249120" y="1841400"/>
            <a:ext cx="8352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تقييم الفكرة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22240" y="2057400"/>
            <a:ext cx="3703680" cy="3316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Calibri"/>
              </a:rPr>
              <a:t>الفعالية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Calibri"/>
              </a:rPr>
              <a:t>الدلالة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Calibri"/>
              </a:rPr>
              <a:t>الأصالة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Calibri"/>
              </a:rPr>
              <a:t>الجدوى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7" name="عنصر نائب للمحتوى 3" descr=""/>
          <p:cNvPicPr/>
          <p:nvPr/>
        </p:nvPicPr>
        <p:blipFill>
          <a:blip r:embed="rId1"/>
          <a:stretch/>
        </p:blipFill>
        <p:spPr>
          <a:xfrm>
            <a:off x="5200560" y="2057400"/>
            <a:ext cx="3146400" cy="3600360"/>
          </a:xfrm>
          <a:prstGeom prst="rect">
            <a:avLst/>
          </a:prstGeom>
          <a:ln w="0">
            <a:noFill/>
          </a:ln>
        </p:spPr>
      </p:pic>
      <p:sp>
        <p:nvSpPr>
          <p:cNvPr id="358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75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75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c000"/>
                </a:solidFill>
                <a:latin typeface="Comic Sans MS"/>
                <a:cs typeface="DecoType Naskh Special"/>
              </a:rPr>
              <a:t>مواضيع البحوث الجيدة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4360" y="1846440"/>
            <a:ext cx="4032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هل أنت متأكد بأنك قادر على الوصول إلى البيانات المطلوبة لهذا الموضوع </a:t>
            </a:r>
            <a:r>
              <a:rPr b="1" lang="ar-SA" sz="22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هل أنت قادر على صياغة أسئلة البحث وأهدافه بوضوح </a:t>
            </a:r>
            <a:r>
              <a:rPr b="1" lang="ar-SA" sz="22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هل سيكون البحث المقترح قادراً على تقديم رؤى جديدة في الموضوع </a:t>
            </a:r>
            <a:r>
              <a:rPr b="1" lang="ar-SA" sz="22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هل موضوع البحث تتعلق بصورة واضحة فكرة كنت قد أعطيت (منظمة، مدرس)</a:t>
            </a:r>
            <a:r>
              <a:rPr b="1" lang="ar-SA" sz="19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هي نتائج لهذا موضوع البحث من المرجح </a:t>
            </a:r>
            <a:r>
              <a:rPr b="0" lang="ar-SA" sz="2200" spc="-1" strike="noStrike">
                <a:solidFill>
                  <a:srgbClr val="404040"/>
                </a:solidFill>
                <a:latin typeface="Calibri"/>
              </a:rPr>
              <a:t>أن تكون متماثلة (قيمة مماثلة مهما كانت نتيجة)</a:t>
            </a:r>
            <a:r>
              <a:rPr b="1" lang="ar-SA" sz="2200" spc="-1" strike="noStrike">
                <a:solidFill>
                  <a:srgbClr val="c00000"/>
                </a:solidFill>
                <a:latin typeface="Calibri"/>
              </a:rPr>
              <a:t> ؟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 algn="ct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النظر في أهداف حياتك المهنية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5" descr="http://all-new.ws/images/img_1/0f2696f178a3cab351b3efce8c7364ef.jpg"/>
          <p:cNvPicPr/>
          <p:nvPr/>
        </p:nvPicPr>
        <p:blipFill>
          <a:blip r:embed="rId1"/>
          <a:stretch/>
        </p:blipFill>
        <p:spPr>
          <a:xfrm>
            <a:off x="4991040" y="1846440"/>
            <a:ext cx="325296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معايير اختيار موضوع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15760" y="1916280"/>
            <a:ext cx="37033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4000"/>
          </a:bodyPr>
          <a:p>
            <a:pPr marL="84600" indent="-8460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هل الموضوع يتناسب مع المواصفات والمعايير التي وضعتها المؤسسة أو الكلية أو القسم الذي انتمي له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4600" indent="-8460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ل هذا الموضوع مناسب لمجالي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4600" indent="-8460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هل هذا الموضوع مفيد المجتمع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4600" indent="-8460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هل أستطيع أن أتحدث عن هذا الموضوع بحماس ومعرفة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4600" indent="-8460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هل سأكون قادراً على تقديم منظور جديد حول هذا الموضوع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عنصر نائب للتذييل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6" descr="http://previews.123rf.com/images/Krisdog/Krisdog1210/Krisdog121000014/15567702-Ein-Klemmbrett-mit-Bleistift-Markierungen-auf-sie-Eine-Umfrage-Umfrage-oder-Pr-fbescheinigung-Lizenzfreie-Bilder.jpg"/>
          <p:cNvPicPr/>
          <p:nvPr/>
        </p:nvPicPr>
        <p:blipFill>
          <a:blip r:embed="rId1"/>
          <a:stretch/>
        </p:blipFill>
        <p:spPr>
          <a:xfrm>
            <a:off x="4788000" y="1916280"/>
            <a:ext cx="35780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معايير اختيار موضوع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22240" y="1773000"/>
            <a:ext cx="37036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 marL="82080" indent="-8208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ل يحتوي موضوع البحث الخاص بك على نظرية تعتمد عليها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ل لديك أو يمكنك تخمين الإطار الزمني للمشروع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ل تمتلك المهارات البحثية اللازمة لإجراء هذا الموضوع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و موضوع البحث تحقيقه ضمن الوقت المتاح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هو موضوع البحث للتحقيق في حدود الموارد المالية التي من المحتمل أن تكون متاحة لك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عنصر نائب للتذييل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6" descr="http://previews.123rf.com/images/Krisdog/Krisdog1210/Krisdog121000014/15567702-Ein-Klemmbrett-mit-Bleistift-Markierungen-auf-sie-Eine-Umfrage-Umfrage-oder-Pr-fbescheinigung-Lizenzfreie-Bilder.jpg"/>
          <p:cNvPicPr/>
          <p:nvPr/>
        </p:nvPicPr>
        <p:blipFill>
          <a:blip r:embed="rId1"/>
          <a:stretch/>
        </p:blipFill>
        <p:spPr>
          <a:xfrm>
            <a:off x="4859280" y="1916280"/>
            <a:ext cx="3506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http://www.gerasanews.com/web/tpllib/img.php?im=cat_136/47540.jpg&amp;w=320&amp;h=348&amp;large"/>
          <p:cNvPicPr/>
          <p:nvPr/>
        </p:nvPicPr>
        <p:blipFill>
          <a:blip r:embed="rId1"/>
          <a:stretch/>
        </p:blipFill>
        <p:spPr>
          <a:xfrm>
            <a:off x="433440" y="476280"/>
            <a:ext cx="8280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رسم تخطيطي 9" descr=""/>
          <p:cNvPicPr/>
          <p:nvPr/>
        </p:nvPicPr>
        <p:blipFill>
          <a:blip r:embed="rId1"/>
          <a:stretch/>
        </p:blipFill>
        <p:spPr>
          <a:xfrm>
            <a:off x="792000" y="579600"/>
            <a:ext cx="774252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42720" y="593640"/>
            <a:ext cx="240012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لأجندة</a:t>
            </a:r>
            <a:endParaRPr b="0" lang="en-US" sz="6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عنصر نائب للتذييل 4"/>
          <p:cNvSpPr/>
          <p:nvPr/>
        </p:nvSpPr>
        <p:spPr>
          <a:xfrm>
            <a:off x="5219640" y="6461280"/>
            <a:ext cx="15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14949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مستطيل 9"/>
          <p:cNvSpPr/>
          <p:nvPr/>
        </p:nvSpPr>
        <p:spPr>
          <a:xfrm>
            <a:off x="3348000" y="393840"/>
            <a:ext cx="5256360" cy="65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Arial"/>
              </a:rPr>
              <a:t>أنواع المواضي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مصادر الأفكار البحث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Arial"/>
              </a:rPr>
              <a:t>اختيار الموض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تقييم الفك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Comic Sans MS"/>
              </a:rPr>
              <a:t>مواضيع البحوث الجي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معايير اختيار موض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Arial"/>
              </a:rPr>
              <a:t>أنواع التفكير العلم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التفكير المنطق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Arial"/>
              </a:rPr>
              <a:t>التفكير الإبدا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العصف الذه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6a6a6"/>
                </a:solidFill>
                <a:latin typeface="Arial"/>
              </a:rPr>
              <a:t>اكتشاف مواضيعك المفضلة عن طريق المشاريع الساب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تحويل الأفكار البحثية إلى مشاري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c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لتفكير المنطقي</a:t>
            </a: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9000"/>
          </a:bodyPr>
          <a:p>
            <a:pPr marL="80280" indent="-802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Calibri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الرسائل العلمي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0280" indent="-802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Calibri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المشاريع التربوي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0280" indent="-802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Calibri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مسح قائمة جامعتك من عناوين المشاريع الماضية عن أي موضوع يلامس اهتمامك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0280" indent="-802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Calibri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مسح المشاريع البحثية الفعلي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0280" indent="-802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c00000"/>
              </a:buClr>
              <a:buFont typeface="Calibri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المسح في قواعد المعلومات العربية والأجنبي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عنصر نائب للتذييل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http://images0.masress.com/elfagr/1523100"/>
          <p:cNvPicPr/>
          <p:nvPr/>
        </p:nvPicPr>
        <p:blipFill>
          <a:blip r:embed="rId1"/>
          <a:stretch/>
        </p:blipFill>
        <p:spPr>
          <a:xfrm>
            <a:off x="4983120" y="1989000"/>
            <a:ext cx="333396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89d9b"/>
                </a:solidFill>
                <a:latin typeface="Calibri Light"/>
              </a:rPr>
              <a:t>كيف يحدث ؟</a:t>
            </a:r>
            <a:br>
              <a:rPr sz="4800"/>
            </a:br>
            <a:r>
              <a:rPr b="1" lang="en-US" sz="4800" spc="-1" strike="noStrike">
                <a:solidFill>
                  <a:srgbClr val="689d9b"/>
                </a:solidFill>
                <a:latin typeface="Calibri Light"/>
              </a:rPr>
              <a:t>How it’s done</a:t>
            </a:r>
            <a:r>
              <a:rPr b="1" lang="en-US" sz="4800" spc="-1" strike="noStrike">
                <a:solidFill>
                  <a:srgbClr val="689d9b"/>
                </a:solidFill>
                <a:latin typeface="Calibri Light"/>
              </a:rPr>
              <a:t> 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57040" indent="-25704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cs typeface="Times New Roman"/>
              </a:rPr>
              <a:t>أولا قم بالتالي :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57040" indent="-25704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أعد قائمة بالكلمات المفتاحية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57280" indent="-21420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cs typeface="Times New Roman"/>
              </a:rPr>
              <a:t>الرجوع </a:t>
            </a: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Encyclopaedia, Wikipedia</a:t>
            </a: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57280" indent="-21420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cs typeface="Times New Roman"/>
              </a:rPr>
              <a:t>الرجوع للمعاجم و المترادفات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57280" indent="-21420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أبدأ البحث في الدراسات السابقة عن الكلمات المفتاحية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57040" indent="-25704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Footer Placeholder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ALHARB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89d9b"/>
                </a:solidFill>
                <a:latin typeface="Calibri Light"/>
              </a:rPr>
              <a:t>نشاط </a:t>
            </a:r>
            <a:br>
              <a:rPr sz="4800"/>
            </a:b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Activity</a:t>
            </a: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83880" indent="-83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404040"/>
                </a:solidFill>
                <a:latin typeface="Calibri"/>
              </a:rPr>
              <a:t> سيتم مناقشة الواجب الآن بحيث كل طالبة عليها ان تستعرض الرسائل العلمية و تلخص الفجوة في المعرفة؟</a:t>
            </a:r>
            <a:endParaRPr b="0" lang="en-US" sz="5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Footer Placeholder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ALHARB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لتفكير الابداعي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2240" y="1915920"/>
            <a:ext cx="37036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الحفاظ على دفتر الأفكار (الذهبي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استكشاف التفضيلات الشخصية باستخدام المشاريع السابق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القراءة في المواضيع ذات الصل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العصف الذهني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عنصر نائب للتذييل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http://www.arabnet5.com/media/638/photos_%D8%AF%D9%81%D8%AA%D8%B1_%D8%A7%D9%84%D9%85%D9%84%D8%A7%D8%AD%D8%B8%D8%A7%D8%AA_14026.jpg"/>
          <p:cNvPicPr/>
          <p:nvPr/>
        </p:nvPicPr>
        <p:blipFill>
          <a:blip r:embed="rId1"/>
          <a:stretch/>
        </p:blipFill>
        <p:spPr>
          <a:xfrm>
            <a:off x="4788000" y="1989000"/>
            <a:ext cx="356220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كتشاف مواضيعك المفضلة عن طريق المشاريع السابقة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اختيار ستة مشاريع سابقة وجيد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دون أفكارك الأولى مع الإجابة على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ما يروق لك عن المشروع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ما هو جيد عن المشرو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لماذا يعتبر المشروع جيد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http://www.2x.com/wp-content/uploads/2015/04/case-study2.png"/>
          <p:cNvPicPr/>
          <p:nvPr/>
        </p:nvPicPr>
        <p:blipFill>
          <a:blip r:embed="rId1"/>
          <a:stretch/>
        </p:blipFill>
        <p:spPr>
          <a:xfrm>
            <a:off x="4859280" y="2060640"/>
            <a:ext cx="35067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كتشاف مواضيعك المفضلة باستخدام المشاريع السابقة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86400" indent="-864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اختيار ثلاثة مشاريع من التي كنت لا تفضلها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يدون أفكارك الأولى مع استجابة إلى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- ما لا يعجبك في المشاريع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- ما هو سيء عن المشاريع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6400" indent="-864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- لماذا هو سيء المشروع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5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http://www.2x.com/wp-content/uploads/2015/04/case-study2.png"/>
          <p:cNvPicPr/>
          <p:nvPr/>
        </p:nvPicPr>
        <p:blipFill>
          <a:blip r:embed="rId1"/>
          <a:stretch/>
        </p:blipFill>
        <p:spPr>
          <a:xfrm>
            <a:off x="4859280" y="2060640"/>
            <a:ext cx="35067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https://i.ytimg.com/vi/PVDtgDdnqPI/hqdefault.jpg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1"/>
          <p:cNvSpPr/>
          <p:nvPr/>
        </p:nvSpPr>
        <p:spPr>
          <a:xfrm>
            <a:off x="2843280" y="647064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ALHARB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142920" y="2560680"/>
            <a:ext cx="8677080" cy="41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 algn="r" rtl="1">
              <a:lnSpc>
                <a:spcPct val="100000"/>
              </a:lnSpc>
              <a:spcBef>
                <a:spcPts val="75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Gothic"/>
                <a:cs typeface="Times New Roman"/>
              </a:rPr>
              <a:t>اختيار فكرة البحث ،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من خلال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90000"/>
              </a:lnSpc>
              <a:spcBef>
                <a:spcPts val="901"/>
              </a:spcBef>
              <a:spcAft>
                <a:spcPts val="150"/>
              </a:spcAft>
              <a:buClr>
                <a:srgbClr val="9dbfbe"/>
              </a:buClr>
              <a:buFont typeface="Calibri"/>
              <a:buChar char=" 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404040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دراسات السابقة ( عدم الاتفاق مع الباحث في هذه الدراسات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90000"/>
              </a:lnSpc>
              <a:spcBef>
                <a:spcPts val="901"/>
              </a:spcBef>
              <a:spcAft>
                <a:spcPts val="150"/>
              </a:spcAft>
              <a:buClr>
                <a:srgbClr val="9dbfbe"/>
              </a:buClr>
              <a:buFont typeface="Calibri"/>
              <a:buChar char=" 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المناقشة و الخاتمة (النقد الذاتي للدراسة او جوانب القصور في الدراسة + التوصيات بدراسات أخرى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90000"/>
              </a:lnSpc>
              <a:spcBef>
                <a:spcPts val="901"/>
              </a:spcBef>
              <a:spcAft>
                <a:spcPts val="150"/>
              </a:spcAft>
              <a:buClr>
                <a:srgbClr val="9dbfbe"/>
              </a:buClr>
              <a:buFont typeface="Calibri"/>
              <a:buChar char=" 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الاخطاء المنهجية في مجموعة من  الدراسات المنشورة دعوة لإجراء دراسة لمعالجة هذا الخطأ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90000"/>
              </a:lnSpc>
              <a:spcBef>
                <a:spcPts val="901"/>
              </a:spcBef>
              <a:spcAft>
                <a:spcPts val="150"/>
              </a:spcAft>
              <a:buClr>
                <a:srgbClr val="9dbfbe"/>
              </a:buClr>
              <a:buFont typeface="Calibri"/>
              <a:buChar char=" 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فجوات المعرفة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142920" y="44280"/>
            <a:ext cx="885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89d9b"/>
                </a:solidFill>
                <a:latin typeface="Arial"/>
              </a:rPr>
              <a:t>مصدر آخر يعتمد على التفكير المنطقي في اختيار فكرة بح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9d9b"/>
                </a:solidFill>
                <a:latin typeface="Arial"/>
              </a:rPr>
              <a:t>Another source for research id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لعصف الذهني</a:t>
            </a: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2240" y="1846440"/>
            <a:ext cx="370368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75600" indent="-756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تحديد مشكلتك - وأنواع الأفكار التي كنت مهتماً بها  بأكبر دقة ممكنة عن طريق طلب اقتراحات، تتعلق بالمشكلة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5600" indent="-756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تسجيل جميع الاقتراحات، ومراعاة القواعد التالية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5600" indent="-756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 يجب أن لا تنتقد أي تقترح أو تقيم بأي شكل من الأشكال قبل أن يتم اعتبار جميع الأفكار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5600" indent="-756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جميع الاقتراحات الغريبة ينبغي أن تسجل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5600" indent="-756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04" name="عنصر نائب للمحتوى 7" descr=""/>
          <p:cNvPicPr/>
          <p:nvPr/>
        </p:nvPicPr>
        <p:blipFill>
          <a:blip r:embed="rId1"/>
          <a:stretch/>
        </p:blipFill>
        <p:spPr>
          <a:xfrm>
            <a:off x="5148360" y="2052720"/>
            <a:ext cx="3217680" cy="4022640"/>
          </a:xfrm>
          <a:prstGeom prst="rect">
            <a:avLst/>
          </a:prstGeom>
          <a:ln w="0">
            <a:noFill/>
          </a:ln>
        </p:spPr>
      </p:pic>
      <p:sp>
        <p:nvSpPr>
          <p:cNvPr id="405" name="عنصر نائب للتذييل 8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العصف الذهني</a:t>
            </a: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5000"/>
          </a:bodyPr>
          <a:p>
            <a:pPr marL="76680" indent="-766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كما يجب أن يتم تسجيل العديد من الاقتراحات في أقصر وقت ممكن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6680" indent="-766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استعراض جميع الاقتراحات واستكشاف ما هو المقصود من كل مقترح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6680" indent="-766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تحليل قائمة من الاقتراحات والتي تقرر لك أكثر الأفكار البحثية مناسب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6680" indent="-7668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اقتراحات فيجب أن لا يتم انتقادات أو تقييمه قبل أن يتم النظر في جميع الأفكار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08" name="عنصر نائب للمحتوى 7" descr=""/>
          <p:cNvPicPr/>
          <p:nvPr/>
        </p:nvPicPr>
        <p:blipFill>
          <a:blip r:embed="rId1"/>
          <a:stretch/>
        </p:blipFill>
        <p:spPr>
          <a:xfrm>
            <a:off x="5126040" y="2006640"/>
            <a:ext cx="3240000" cy="4022640"/>
          </a:xfrm>
          <a:prstGeom prst="rect">
            <a:avLst/>
          </a:prstGeom>
          <a:ln w="0">
            <a:noFill/>
          </a:ln>
        </p:spPr>
      </p:pic>
      <p:sp>
        <p:nvSpPr>
          <p:cNvPr id="409" name="عنصر نائب للتذييل 8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صورة 4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5457960"/>
          </a:xfrm>
          <a:prstGeom prst="rect">
            <a:avLst/>
          </a:prstGeom>
          <a:ln w="0">
            <a:noFill/>
          </a:ln>
        </p:spPr>
      </p:pic>
      <p:sp>
        <p:nvSpPr>
          <p:cNvPr id="319" name="عنصر نائب للتذييل 5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89d9b"/>
                </a:solidFill>
                <a:latin typeface="Calibri Light"/>
              </a:rPr>
              <a:t>نشاط </a:t>
            </a:r>
            <a:br>
              <a:rPr sz="4800"/>
            </a:b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Activity</a:t>
            </a:r>
            <a:r>
              <a:rPr b="1" lang="en-GB" sz="4800" spc="-1" strike="noStrike">
                <a:solidFill>
                  <a:srgbClr val="689d9b"/>
                </a:solidFill>
                <a:latin typeface="Calibri Light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3000"/>
          </a:bodyPr>
          <a:p>
            <a:pPr marL="74880" indent="-74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4040"/>
                </a:solidFill>
                <a:latin typeface="Calibri"/>
              </a:rPr>
              <a:t>بناءا على ماتم استعراضه من فجوات المعرفة في الرسائل المبحوثة ، قومي باقتراح </a:t>
            </a:r>
            <a:r>
              <a:rPr b="1" lang="ar-SA" sz="4000" spc="-1" strike="noStrike">
                <a:solidFill>
                  <a:srgbClr val="404040"/>
                </a:solidFill>
                <a:latin typeface="Calibri"/>
              </a:rPr>
              <a:t>5</a:t>
            </a:r>
            <a:r>
              <a:rPr b="1" lang="ar-SA" sz="4000" spc="-1" strike="noStrike">
                <a:solidFill>
                  <a:srgbClr val="404040"/>
                </a:solidFill>
                <a:latin typeface="Calibri"/>
              </a:rPr>
              <a:t> موضوعات مرتبطة بالفجوات في المعرفة  يمكنك ان تقومي باجراء دراستك فيها ؟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استخدمي الأوراق الموزعة لكتابة أو رسم هذه الأفكار البحثية ..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ALHARB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تحويل الأفكار البحثية إلى مشاريع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890640" y="1971360"/>
            <a:ext cx="37036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3000"/>
          </a:bodyPr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كتابة الأسئلة البحثي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كتابة أهداف البحث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 تحول أسئلة البحث في أهداف البحث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مثال: الفكرة: التوظيف عبر الإنترنت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سؤال: ما مدى فعالية تعيين موظفين جدد عبر الإنترنت بالمقارنة مع الأساليب التقليدية؟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4880" indent="-7488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هدف: تحديد فعالية التوظيف عبر الإنترنت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15" name="عنصر نائب للمحتوى 5" descr=""/>
          <p:cNvPicPr/>
          <p:nvPr/>
        </p:nvPicPr>
        <p:blipFill>
          <a:blip r:embed="rId1"/>
          <a:stretch/>
        </p:blipFill>
        <p:spPr>
          <a:xfrm>
            <a:off x="5018040" y="2022480"/>
            <a:ext cx="3313080" cy="3952800"/>
          </a:xfrm>
          <a:prstGeom prst="rect">
            <a:avLst/>
          </a:prstGeom>
          <a:ln w="0">
            <a:noFill/>
          </a:ln>
        </p:spPr>
      </p:pic>
      <p:sp>
        <p:nvSpPr>
          <p:cNvPr id="416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تحويل الأفكار البحثية إلى مشاريع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17560" y="1988640"/>
            <a:ext cx="370368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8000"/>
          </a:bodyPr>
          <a:p>
            <a:pPr marL="79200" indent="-7920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العلاقة بين النظرية والتطبيق (سبب وعلاقة التأثير) التوقعات التي إذا فعل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A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، </a:t>
            </a: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فإن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B</a:t>
            </a: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سيحدث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79200" indent="-7920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البحث = جمع المعلومات والحقائق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79200" indent="-7920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استخدام صيغة "ماذا" و "لماذا" في الأسئلة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79200" indent="-79200" algn="ctr" rtl="1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404040"/>
                </a:solidFill>
                <a:latin typeface="Calibri"/>
              </a:rPr>
              <a:t> استخدام المنهج الاستنباطي (فهم نظرية، واختيار البيانات) أوالمنهج الاستقرائي (اختيار البيانات، وتحديد نظرية)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79200" indent="-79200" algn="r" rtl="1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عنصر نائب للتذييل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http://i0.wp.com/www.elcuk.org/wp-content/uploads/2015/09/Research_theory.png"/>
          <p:cNvPicPr/>
          <p:nvPr/>
        </p:nvPicPr>
        <p:blipFill>
          <a:blip r:embed="rId1"/>
          <a:stretch/>
        </p:blipFill>
        <p:spPr>
          <a:xfrm>
            <a:off x="5148360" y="1989000"/>
            <a:ext cx="32176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https://epdaa.files.wordpress.com/2010/10/041.jpg"/>
          <p:cNvPicPr/>
          <p:nvPr/>
        </p:nvPicPr>
        <p:blipFill>
          <a:blip r:embed="rId1"/>
          <a:stretch/>
        </p:blipFill>
        <p:spPr>
          <a:xfrm>
            <a:off x="271440" y="260280"/>
            <a:ext cx="8604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7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42720" y="593640"/>
            <a:ext cx="240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4" name="عنصر نائب للتذييل 1"/>
          <p:cNvSpPr/>
          <p:nvPr/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14949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42720" y="2925720"/>
            <a:ext cx="240012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6" name="Picture 6" descr="https://www.kfu.edu.sa/ar/Deans/AhsaaStudent/PublishingImages/email.jpg"/>
          <p:cNvPicPr/>
          <p:nvPr/>
        </p:nvPicPr>
        <p:blipFill>
          <a:blip r:embed="rId1"/>
          <a:stretch/>
        </p:blipFill>
        <p:spPr>
          <a:xfrm>
            <a:off x="179280" y="593640"/>
            <a:ext cx="2737080" cy="5711760"/>
          </a:xfrm>
          <a:prstGeom prst="rect">
            <a:avLst/>
          </a:prstGeom>
          <a:ln w="0">
            <a:noFill/>
          </a:ln>
        </p:spPr>
      </p:pic>
      <p:sp>
        <p:nvSpPr>
          <p:cNvPr id="427" name="مربع نص 7"/>
          <p:cNvSpPr/>
          <p:nvPr/>
        </p:nvSpPr>
        <p:spPr>
          <a:xfrm>
            <a:off x="3995640" y="1724040"/>
            <a:ext cx="439272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Arial"/>
              </a:rPr>
              <a:t>تم بحمد الله</a:t>
            </a:r>
            <a:r>
              <a:rPr b="1" lang="ar-SA" sz="2800" spc="-1" strike="noStrike">
                <a:solidFill>
                  <a:srgbClr val="7f7f7f"/>
                </a:solidFill>
                <a:latin typeface="Arial"/>
              </a:rPr>
              <a:t>،،،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Arial"/>
              </a:rPr>
              <a:t>للتواصل</a:t>
            </a:r>
            <a:r>
              <a:rPr b="1" lang="ar-SA" sz="2800" spc="-1" strike="noStrike">
                <a:solidFill>
                  <a:srgbClr val="7f7f7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albahusain@ksu.edu.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صورة 1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496000" cy="5543640"/>
          </a:xfrm>
          <a:prstGeom prst="rect">
            <a:avLst/>
          </a:prstGeom>
          <a:ln w="0">
            <a:noFill/>
          </a:ln>
        </p:spPr>
      </p:pic>
      <p:sp>
        <p:nvSpPr>
          <p:cNvPr id="321" name="عنصر نائب للتذييل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صورة 1" descr=""/>
          <p:cNvPicPr/>
          <p:nvPr/>
        </p:nvPicPr>
        <p:blipFill>
          <a:blip r:embed="rId1"/>
          <a:stretch/>
        </p:blipFill>
        <p:spPr>
          <a:xfrm>
            <a:off x="96840" y="133200"/>
            <a:ext cx="9023400" cy="6158160"/>
          </a:xfrm>
          <a:prstGeom prst="rect">
            <a:avLst/>
          </a:prstGeom>
          <a:ln w="0">
            <a:noFill/>
          </a:ln>
        </p:spPr>
      </p:pic>
      <p:sp>
        <p:nvSpPr>
          <p:cNvPr id="323" name="عنصر نائب للتذييل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http://image.slidesharecdn.com/glamwikipresentation-130413045901-phpapp01/95/benchmarking-digital-in-the-culture-sector-5-638.jpg?cb=1365829180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5976720"/>
          </a:xfrm>
          <a:prstGeom prst="rect">
            <a:avLst/>
          </a:prstGeom>
          <a:ln w="0">
            <a:noFill/>
          </a:ln>
        </p:spPr>
      </p:pic>
      <p:sp>
        <p:nvSpPr>
          <p:cNvPr id="326" name="مربع نص 2"/>
          <p:cNvSpPr/>
          <p:nvPr/>
        </p:nvSpPr>
        <p:spPr>
          <a:xfrm>
            <a:off x="250920" y="5950080"/>
            <a:ext cx="8642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1880" y="115920"/>
            <a:ext cx="7543800" cy="14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تحديد موضوع الدراسة بشكل صحيح يساعدك في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22240" y="1846440"/>
            <a:ext cx="38210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2000"/>
          </a:bodyPr>
          <a:p>
            <a:pPr marL="82800" indent="-828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Simplified Arabic"/>
              </a:rPr>
              <a:t> اختيار استراتيجية البحث المناسبة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Simplified Arabic"/>
              </a:rPr>
              <a:t> اختيار جمع البيانات المناسبة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Simplified Arabic"/>
              </a:rPr>
              <a:t> اختيار تقنيات التحليل المناسبة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800" indent="-8280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Simplified Arabic"/>
              </a:rPr>
              <a:t>اذاً نبدأ مع اختيار الأفكار البحثية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https://ssssose.files.wordpress.com/2012/06/20120630-124457.jpg"/>
          <p:cNvPicPr/>
          <p:nvPr/>
        </p:nvPicPr>
        <p:blipFill>
          <a:blip r:embed="rId1"/>
          <a:stretch/>
        </p:blipFill>
        <p:spPr>
          <a:xfrm>
            <a:off x="4932360" y="1989000"/>
            <a:ext cx="328932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404040"/>
                </a:solidFill>
                <a:latin typeface="Calibri Light"/>
              </a:rPr>
              <a:t>قبل ان تبدأ الاختيار </a:t>
            </a:r>
            <a:br>
              <a:rPr sz="4300"/>
            </a:br>
            <a:r>
              <a:rPr b="1" lang="en-GB" sz="4300" spc="-1" strike="noStrike">
                <a:solidFill>
                  <a:srgbClr val="404040"/>
                </a:solidFill>
                <a:latin typeface="Calibri Light"/>
              </a:rPr>
              <a:t>Before you start selecting a topic</a:t>
            </a:r>
            <a:r>
              <a:rPr b="1" lang="en-GB" sz="4300" spc="-1" strike="noStrike">
                <a:solidFill>
                  <a:srgbClr val="404040"/>
                </a:solidFill>
                <a:latin typeface="Calibri Light"/>
              </a:rPr>
              <a:t> 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Footer Placeholder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BEER  ALHARB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xplosion 2 8"/>
          <p:cNvSpPr/>
          <p:nvPr/>
        </p:nvSpPr>
        <p:spPr>
          <a:xfrm>
            <a:off x="965160" y="1917720"/>
            <a:ext cx="3594240" cy="3043080"/>
          </a:xfrm>
          <a:prstGeom prst="irregularSeal2">
            <a:avLst/>
          </a:prstGeom>
          <a:solidFill>
            <a:srgbClr val="db8631"/>
          </a:solidFill>
          <a:ln w="15840">
            <a:solidFill>
              <a:srgbClr val="a16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entury Gothic"/>
                <a:cs typeface="Times New Roman"/>
              </a:rPr>
              <a:t>لماذا ؟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Callout 9"/>
          <p:cNvSpPr/>
          <p:nvPr/>
        </p:nvSpPr>
        <p:spPr>
          <a:xfrm>
            <a:off x="4925880" y="1827360"/>
            <a:ext cx="3384720" cy="29509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3cc5a"/>
          </a:solidFill>
          <a:ln w="15840">
            <a:solidFill>
              <a:srgbClr val="a795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كن مرن</a:t>
            </a: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0"/>
          <p:cNvSpPr/>
          <p:nvPr/>
        </p:nvSpPr>
        <p:spPr>
          <a:xfrm>
            <a:off x="1290600" y="5141880"/>
            <a:ext cx="53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غيير موضوع البح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غيير عناصر البح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Calibri Light"/>
                <a:cs typeface="DecoType Naskh Special"/>
              </a:rPr>
              <a:t>أنواع المواضيع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22240" y="1736280"/>
            <a:ext cx="3703680" cy="435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ctr" rtl="1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. مواضيع متعلقة بمجموعات مثال:  (الأطفال قبل سن المدرسة ، أولياء الأمور، المدراء، المعلمين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. موضوعات متعلقة بسلوك معين، مثال: (التنمر، القلق، العدوانية)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. موضوعات عامة، مثل: (ضغوط العمل، الشخصية ، التعلم ، الدوافع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8" name="Picture 7" descr="http://qoll.net/wp-content/uploads/2015/11/%D8%A7%D9%84%D9%83%D8%AA%D8%A7%D8%A8%D8%A9-%D8%A7%D9%84%D8%A5%D8%A8%D8%AF%D8%A7%D8%B9%D9%8A%D8%A9.jpg"/>
          <p:cNvPicPr/>
          <p:nvPr/>
        </p:nvPicPr>
        <p:blipFill>
          <a:blip r:embed="rId1"/>
          <a:stretch/>
        </p:blipFill>
        <p:spPr>
          <a:xfrm>
            <a:off x="5049720" y="2036880"/>
            <a:ext cx="3289320" cy="3887640"/>
          </a:xfrm>
          <a:prstGeom prst="rect">
            <a:avLst/>
          </a:prstGeom>
          <a:ln w="0">
            <a:noFill/>
          </a:ln>
        </p:spPr>
      </p:pic>
      <p:sp>
        <p:nvSpPr>
          <p:cNvPr id="339" name="عنصر نائب للتذييل 7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R.WEDAD ABAHUS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21:20:42Z</dcterms:created>
  <dc:creator>Ali</dc:creator>
  <dc:description/>
  <dc:language>en-US</dc:language>
  <cp:lastModifiedBy>وداد</cp:lastModifiedBy>
  <dcterms:modified xsi:type="dcterms:W3CDTF">2016-10-03T16:36:21Z</dcterms:modified>
  <cp:revision>337</cp:revision>
  <dc:subject/>
  <dc:title>2- Research Ideas</dc:title>
</cp:coreProperties>
</file>