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79EE-B5D7-4C4A-B3BB-AFE2EE81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عنصر نائب للرأس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610-9F6F-4735-A4AF-C979B3AC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734-8ED0-4EE2-9470-E6355B96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B69-A82E-462C-8BB7-109017A3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FB8-0952-4FF3-AC0D-BE1B6F8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584D-AC73-4EA7-96BF-AD954A0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3366-545C-4D9D-B5A0-6F71A0DF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DCA7-8D3B-41CD-9EC6-9D10F258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4292-0F9B-48F8-BD23-5FED3BF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5F1-D5BD-456C-9AC2-C2E0CA8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C784-0F52-4D07-BF73-938A26C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02A5-B9E5-4502-A420-8011E7A3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5B8-B0CA-443C-BBD1-F3E7996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24AD-B0E8-4DC5-B334-ECA6389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BDE3-2084-4C28-8525-2D1BC99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367F-E736-4F61-8082-261CCD9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745-1BFC-40A6-921C-01BF14BF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F7C1-C355-4074-B35F-77E78941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F0F3-0DC2-4D0D-B41F-77F12DAA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E640-4F12-4216-9F1D-E3B1226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CB63-6B9F-4FD0-9ACC-1897822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981F-3939-4993-AF45-78233D2F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50BE-3485-4ECB-9E10-97ADC7C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84F-156F-4019-AC62-DA6E3CE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5769-BA2A-4A16-8706-56BD23C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5F98-32E0-413A-B929-D6A5A277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8193-8837-421E-9BB0-5C207E8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939E-FE7E-4652-88AA-121F960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364E-D54B-4703-8D49-D3F7DAC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126D-CFBD-411B-9608-F0CE8760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4A4F-781D-42FB-B820-9BAF031C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AA9C-2787-4A3C-9359-ABB22313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BE3C-A46A-4B79-9598-F234B102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B4A8-1636-4FFB-B3D6-11C75A0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B78-194B-4996-9A6C-40588B4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0F2F-773C-46EC-9E33-262DD41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2DAE-B196-4C13-BAC8-85C68EA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0ACC-0554-4EC7-AFFF-3E7F6BC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8F0E-59D0-4A72-8A88-CE8D769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8C1C-CAB9-4A7E-B09F-52DB1D1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9B8F-4A65-481D-A3D7-3485BEB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CE56-2285-4BAE-A3C6-E62C95C8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3B74-3975-411E-A462-7A5EDBBF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68F3-191E-4436-A094-94DF399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B8F3-79AA-4B82-AC9B-30535FF6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5AF-3955-4920-827F-1C0F078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7D2F-6649-4B2E-8535-0D42B62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C703-CE11-4118-9D05-53D39DD8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521E-FDB3-41E0-A465-1A2822E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5E55-58C6-4D4E-A55E-CD05CF22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6DC78-32EA-4768-8E21-31A1EF6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0368C-DBFF-4A9A-8548-539E1FA5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52D2-E538-47A1-8400-D17C9D7F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32AD-65E6-4644-BC26-4912047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FB73-9CAD-43BB-806B-B8D6F4BF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A139-5430-4EEB-9AB0-6F7610CE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E03-A914-4CBF-9823-71A20BAD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40B2-02FD-491B-9B54-6ECF00D9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37A2-8403-40E3-A2B3-5A11CB7D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3BED4-A8EB-4F06-9D04-2881B4E2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DD5C-BE28-4377-8A9B-48B0852C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8270-2C7F-4104-979A-A23501D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52B8-E422-42B4-A067-15A4C2BD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602B-203B-46F6-8428-8E559EB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E2F4-8F1A-4B81-A44A-32344DB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BCD3-DAAB-4821-9BA3-57DD9AC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3F98-C8C6-4483-8C08-58677B6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352-EB1F-4A52-998B-CC9E7EE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58E7-0CEF-4080-86A8-920DFA8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5121-F4B6-4CC2-B763-6A675B2D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7D6FF-A6F4-4D31-9502-BA21F02E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3F3A-264E-4D51-8981-4412DB46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DD7F-FD27-4938-8722-7730D7FA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B25F-17A8-4C27-930C-98EA20E9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7340-287B-46D1-8F21-F8E6BA2C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FEB2-700B-4D1A-988F-8CD07D3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EA70-DD38-45F2-917B-68673F2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EDEA-9A86-421E-A291-340FD8F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C96-051C-4A01-9990-F6C0F8A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9F97-E292-4042-83A9-E71B736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FE4D-0726-40B4-B988-EF80743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36D6B-C36D-4C13-96DA-C600F16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7C00B-9C7E-491F-BB9D-A4F5F10C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7D21-9BFA-4436-B3BA-D5E7D1F3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71-1FD7-4568-BF92-9950927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655-6881-401F-B237-ACE132412CA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44B-1093-4A20-8950-126B3BE30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0E9-4181-4520-B3AC-0951F077119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77B-1386-44FA-BD5E-26239E5AE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3DB-BBF1-42B1-B5B6-F3F4EBE9277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5E4-893E-4796-A8EB-0A6B3BD5FC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F42-3029-4A81-BBD3-73E997F58C6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DE0F-B218-4595-AC60-651EC4AA1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4818-3762-4B48-B8D3-A736CE68BD9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4AC6-83D9-4E38-A9C3-875072196FC4}" type="slidenum">
              <a:rPr b="0" lang="en-US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C23-7BD6-41C3-B093-19EFEB28336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4B6D-D9A9-4519-B5AF-E9221CD3C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91A-5924-4415-ADE5-E1739EC8554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2AC-9D24-4E7F-BBE2-BB0D6D1980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mailto:walbahusain@ksu.edu.sa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http://www.up.ac.za/media/shared/Legacy/sitefiles/image/46/9742/researchpic.jpg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720" y="5414760"/>
            <a:ext cx="7584840" cy="11840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د. وداد بنت عبدالرحمن أباحسين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ستاذ مساعد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قسم التربية الخاصة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8080" cy="31672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93000"/>
          </a:bodyPr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797965"/>
                </a:solidFill>
                <a:latin typeface="Calibri"/>
                <a:cs typeface="DecoType Naskh Special"/>
              </a:rPr>
              <a:t>الأفكار البحثية</a:t>
            </a:r>
            <a:endParaRPr b="0" lang="en-US" sz="8600" spc="-1" strike="noStrike">
              <a:solidFill>
                <a:srgbClr val="40404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حلقة نقاش من ضمن أنشطة مركز بحوث الدراسات  الإنساني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الأربعاء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8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/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5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/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1437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هـ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4" name="صورة 20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271960" cy="614160"/>
          </a:xfrm>
          <a:prstGeom prst="rect">
            <a:avLst/>
          </a:prstGeom>
          <a:ln w="0">
            <a:noFill/>
          </a:ln>
        </p:spPr>
      </p:pic>
      <p:sp>
        <p:nvSpPr>
          <p:cNvPr id="315" name="عنصر نائب للتذييل 2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صادر الأفكار البحثي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9280" y="1846440"/>
            <a:ext cx="3986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تفضيلات شخصية (الدورة المفضلة لديك ، الموضوع، العنوان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سلوك الذي يثير فضولك من خلال المراقبة  البيئة من حولك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مشاكل عملية (مشاكل في صفك، المدرسة، العمل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أفكار المنبثقة أو الخلاقة، مثال: (تطبيق معايير عالمية على بيئة عرب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قراءات المتنوعة في الكتب والمجلات والمواقع على شبكة الإنترنت، وحتى الرسوم والإعلانات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ثبات النظريات، مثال: الطلاب ونظريات الذكاء المتعدد، أسلوب التعلم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859280" y="1986120"/>
            <a:ext cx="3506760" cy="3743280"/>
          </a:xfrm>
          <a:prstGeom prst="rect">
            <a:avLst/>
          </a:prstGeom>
          <a:ln w="0">
            <a:noFill/>
          </a:ln>
        </p:spPr>
      </p:pic>
      <p:sp>
        <p:nvSpPr>
          <p:cNvPr id="344" name="عنصر نائب للتذييل 3"/>
          <p:cNvSpPr/>
          <p:nvPr/>
        </p:nvSpPr>
        <p:spPr>
          <a:xfrm>
            <a:off x="3924360" y="646596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مصادر الأفكار البحثية 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Resources of Research Ideas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6" name="Content Placeholder 6" descr=""/>
          <p:cNvPicPr/>
          <p:nvPr/>
        </p:nvPicPr>
        <p:blipFill>
          <a:blip r:embed="rId1"/>
          <a:stretch/>
        </p:blipFill>
        <p:spPr>
          <a:xfrm>
            <a:off x="463680" y="1841400"/>
            <a:ext cx="8223120" cy="440064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684360" y="1846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و لم يكن موضوع اميل له او اعرف عنه مسبقا فلابد ان يكون على الأق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ختيار ال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2240" y="2060280"/>
            <a:ext cx="37036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عندما تبحث عن موضوع النظر فيما يلي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الهوايات المفضلة لديك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تجارب شخص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ا القيم المهمة بالنسبة لك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واضيع تثير تفكيرك وترغب في معرفة المزيد عنه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1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005440" y="2219400"/>
            <a:ext cx="3360600" cy="3600360"/>
          </a:xfrm>
          <a:prstGeom prst="rect">
            <a:avLst/>
          </a:prstGeom>
          <a:ln w="0">
            <a:noFill/>
          </a:ln>
        </p:spPr>
      </p:pic>
      <p:sp>
        <p:nvSpPr>
          <p:cNvPr id="35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DR.WEDAD ABAHUS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اختيار الموضوع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Selecting research topic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ABEER ALHAR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Diagram 6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قييم الف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2240" y="2057400"/>
            <a:ext cx="370368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فعال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دل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أص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جدوى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00560" y="2057400"/>
            <a:ext cx="3146400" cy="3600360"/>
          </a:xfrm>
          <a:prstGeom prst="rect">
            <a:avLst/>
          </a:prstGeom>
          <a:ln w="0">
            <a:noFill/>
          </a:ln>
        </p:spPr>
      </p:pic>
      <p:sp>
        <p:nvSpPr>
          <p:cNvPr id="35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omic Sans MS"/>
                <a:cs typeface="DecoType Naskh Special"/>
              </a:rPr>
              <a:t>مواضيع البحوث الجيد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360" y="1846440"/>
            <a:ext cx="4032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متأكد بأنك قادر على الوصول إلى البيانات المطلوبة لهذا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قادر على صياغة أسئلة البحث وأهدافه بوضوح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سيكون البحث المقترح قادراً على تقديم رؤى جديدة في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موضوع البحث تتعلق بصورة واضحة فكرة كنت قد أعطيت (منظمة، مدرس)</a:t>
            </a:r>
            <a:r>
              <a:rPr b="1" lang="ar-SA" sz="1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ي نتائج لهذا موضوع البحث من المرجح </a:t>
            </a:r>
            <a:r>
              <a:rPr b="0" lang="ar-SA" sz="2200" spc="-1" strike="noStrike">
                <a:solidFill>
                  <a:srgbClr val="404040"/>
                </a:solidFill>
                <a:latin typeface="Calibri"/>
              </a:rPr>
              <a:t>أن تكون متماثلة (قيمة مماثلة مهما كانت نتيجة)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 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نظر في أهداف حياتك المهني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http://all-new.ws/images/img_1/0f2696f178a3cab351b3efce8c7364ef.jpg"/>
          <p:cNvPicPr/>
          <p:nvPr/>
        </p:nvPicPr>
        <p:blipFill>
          <a:blip r:embed="rId1"/>
          <a:stretch/>
        </p:blipFill>
        <p:spPr>
          <a:xfrm>
            <a:off x="4991040" y="1846440"/>
            <a:ext cx="32529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15760" y="1916280"/>
            <a:ext cx="3703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الموضوع يتناسب مع المواصفات والمعايير التي وضعتها المؤسسة أو الكلية أو القسم الذي انتمي له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هذا الموضوع مناسب لمجالي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هذا الموضوع مفيد المجتم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أستطيع أن أتحدث عن هذا الموضوع بحماس ومعرف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سأكون قادراً على تقديم منظور جديد حول هذا الموضو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788000" y="1916280"/>
            <a:ext cx="35780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2240" y="177300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يحتوي موضوع البحث الخاص بك على نظرية تعتمد عليها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لديك أو يمكنك تخمين الإطار الزمني ل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تمتلك المهارات البحثية اللازمة لإجراء هذا الموض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تحقيقه ضمن الوقت المتاح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للتحقيق في حدود الموارد المالية التي من المحتمل أن تكون متاحة لك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859280" y="1916280"/>
            <a:ext cx="3506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www.gerasanews.com/web/tpllib/img.php?im=cat_136/47540.jpg&amp;w=320&amp;h=348&amp;large"/>
          <p:cNvPicPr/>
          <p:nvPr/>
        </p:nvPicPr>
        <p:blipFill>
          <a:blip r:embed="rId1"/>
          <a:stretch/>
        </p:blipFill>
        <p:spPr>
          <a:xfrm>
            <a:off x="433440" y="47628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رسم تخطيطي 9" descr=""/>
          <p:cNvPicPr/>
          <p:nvPr/>
        </p:nvPicPr>
        <p:blipFill>
          <a:blip r:embed="rId1"/>
          <a:stretch/>
        </p:blipFill>
        <p:spPr>
          <a:xfrm>
            <a:off x="792000" y="579600"/>
            <a:ext cx="7742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أجندة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عنصر نائب للتذييل 4"/>
          <p:cNvSpPr/>
          <p:nvPr/>
        </p:nvSpPr>
        <p:spPr>
          <a:xfrm>
            <a:off x="5219640" y="6461280"/>
            <a:ext cx="15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9"/>
          <p:cNvSpPr/>
          <p:nvPr/>
        </p:nvSpPr>
        <p:spPr>
          <a:xfrm>
            <a:off x="3348000" y="393840"/>
            <a:ext cx="5256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مواضي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صادر الأفكار البحث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ختيار ال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قييم الفك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Comic Sans MS"/>
              </a:rPr>
              <a:t>مواضيع البحوث الج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عايير اختيار 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تفكير الع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تفكير المنط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لتفكير الإ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عصف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كتشاف مواضيعك المفضلة عن طريق المشاريع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حويل الأفكار البحثية إلى مشا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c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منطق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رسائل العلم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شاريع التربو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قائمة جامعتك من عناوين المشاريع الماضية عن أي موضوع يلامس اهتمام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المشاريع البحثية الفعل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سح في قواعد المعلومات العربية والأجنب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images0.masress.com/elfagr/1523100"/>
          <p:cNvPicPr/>
          <p:nvPr/>
        </p:nvPicPr>
        <p:blipFill>
          <a:blip r:embed="rId1"/>
          <a:stretch/>
        </p:blipFill>
        <p:spPr>
          <a:xfrm>
            <a:off x="4983120" y="1989000"/>
            <a:ext cx="3333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كيف يحدث ؟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How it’s done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أولا قم بالتالي 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عد قائمة ب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Encyclopaedia, Wikipedia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للمعاجم و المترادفات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بدأ البحث في الدراسات السابقة عن 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83880" indent="-83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4040"/>
                </a:solidFill>
                <a:latin typeface="Calibri"/>
              </a:rPr>
              <a:t> سيتم مناقشة الواجب الآن بحيث كل طالبة عليها ان تستعرض الرسائل العلمية و تلخص الفجوة في المعرفة؟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ابداع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2240" y="1915920"/>
            <a:ext cx="37036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حفاظ على دفتر الأفكار (الذهبي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ستكشاف التفضيلات الشخصية باستخدام المشاريع السابق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قراءة في المواضيع ذات الصل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عصف الذهني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http://www.arabnet5.com/media/638/photos_%D8%AF%D9%81%D8%AA%D8%B1_%D8%A7%D9%84%D9%85%D9%84%D8%A7%D8%AD%D8%B8%D8%A7%D8%AA_14026.jpg"/>
          <p:cNvPicPr/>
          <p:nvPr/>
        </p:nvPicPr>
        <p:blipFill>
          <a:blip r:embed="rId1"/>
          <a:stretch/>
        </p:blipFill>
        <p:spPr>
          <a:xfrm>
            <a:off x="4788000" y="1989000"/>
            <a:ext cx="3562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عن طريق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ستة مشاريع سابقة وجيد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دون أفكارك الأولى مع الإجابة ع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يروق لك عن المشرو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هو جيد عن المشرو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لماذا يعتبر المشروع جيد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باستخدام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ثلاثة مشاريع من التي كنت لا تفضلها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يدون أفكارك الأولى مع استجابة إ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لا يعجبك في المشاري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هو سيء عن المشاري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لماذا هو سيء ا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s://i.ytimg.com/vi/PVDtgDdnqPI/hqdefault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1"/>
          <p:cNvSpPr/>
          <p:nvPr/>
        </p:nvSpPr>
        <p:spPr>
          <a:xfrm>
            <a:off x="2843280" y="647064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42920" y="2560680"/>
            <a:ext cx="867708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ختيار فكرة البحث 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ن خل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سات السابقة ( عدم الاتفاق مع الباحث في هذه الدراس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مناقشة و الخاتمة (النقد الذاتي للدراسة او جوانب القصور في الدراسة + التوصيات بدراسات أخرى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اخطاء المنهجية في مجموعة من  الدراسات المنشورة دعوة لإجراء دراسة لمعالجة هذا الخط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فجوات المعرفة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42920" y="4428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89d9b"/>
                </a:solidFill>
                <a:latin typeface="Arial"/>
              </a:rPr>
              <a:t>مصدر آخر يعتمد على التفكير المنطقي في اختيار فكرة بح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9d9b"/>
                </a:solidFill>
                <a:latin typeface="Arial"/>
              </a:rPr>
              <a:t>Another source for researc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2240" y="1846440"/>
            <a:ext cx="37036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ديد مشكلتك - وأنواع الأفكار التي كنت مهتماً بها  بأكبر دقة ممكنة عن طريق طلب اقتراحات، تتعلق بالمشكل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سجيل جميع الاقتراحات، ومراعاة القواعد التالي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 يجب أن لا تنتقد أي تقترح أو تقيم بأي شكل من الأشكال قبل أن يتم اعتبار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جميع الاقتراحات الغريبة ينبغي أن تسجل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5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48360" y="2052720"/>
            <a:ext cx="3217680" cy="4022640"/>
          </a:xfrm>
          <a:prstGeom prst="rect">
            <a:avLst/>
          </a:prstGeom>
          <a:ln w="0">
            <a:noFill/>
          </a:ln>
        </p:spPr>
      </p:pic>
      <p:sp>
        <p:nvSpPr>
          <p:cNvPr id="406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كما يجب أن يتم تسجيل العديد من الاقتراحات في أقصر وقت ممكن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ستعراض جميع الاقتراحات واستكشاف ما هو المقصود من كل مقترح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ليل قائمة من الاقتراحات والتي تقرر لك أكثر الأفكار البحثية مناسب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قتراحات فيجب أن لا يتم انتقادات أو تقييمه قبل أن يتم النظر في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9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26040" y="2006640"/>
            <a:ext cx="3240000" cy="4022640"/>
          </a:xfrm>
          <a:prstGeom prst="rect">
            <a:avLst/>
          </a:prstGeom>
          <a:ln w="0">
            <a:noFill/>
          </a:ln>
        </p:spPr>
      </p:pic>
      <p:sp>
        <p:nvSpPr>
          <p:cNvPr id="410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صورة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57960"/>
          </a:xfrm>
          <a:prstGeom prst="rect">
            <a:avLst/>
          </a:prstGeom>
          <a:ln w="0">
            <a:noFill/>
          </a:ln>
        </p:spPr>
      </p:pic>
      <p:sp>
        <p:nvSpPr>
          <p:cNvPr id="320" name="عنصر نائب للتذييل 5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بناءا على ماتم استعراضه من فجوات المعرفة في الرسائل المبحوثة ، قومي باقتراح 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 موضوعات مرتبطة بالفجوات في المعرفة  يمكنك ان تقومي باجراء دراستك فيها ؟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ستخدمي الأوراق الموزعة لكتابة أو رسم هذه الأفكار البحثية ..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90640" y="197136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الأسئلة البحث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أهداف البحث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ول أسئلة البحث في أهداف البحث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ثال: الفكرة: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سؤال: ما مدى فعالية تعيين موظفين جدد عبر الإنترنت بالمقارنة مع الأساليب التقليدية؟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هدف: تحديد فعالية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6" name="عنصر نائب للمحتوى 5" descr=""/>
          <p:cNvPicPr/>
          <p:nvPr/>
        </p:nvPicPr>
        <p:blipFill>
          <a:blip r:embed="rId1"/>
          <a:stretch/>
        </p:blipFill>
        <p:spPr>
          <a:xfrm>
            <a:off x="5018040" y="2022480"/>
            <a:ext cx="3313080" cy="3952800"/>
          </a:xfrm>
          <a:prstGeom prst="rect">
            <a:avLst/>
          </a:prstGeom>
          <a:ln w="0">
            <a:noFill/>
          </a:ln>
        </p:spPr>
      </p:pic>
      <p:sp>
        <p:nvSpPr>
          <p:cNvPr id="417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17560" y="1988640"/>
            <a:ext cx="370368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علاقة بين النظرية والتطبيق (سبب وعلاقة التأثير) التوقعات التي إذا فعل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، 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فإن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B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سيحدث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بحث = جمع المعلومات والحقائق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صيغة "ماذا" و "لماذا" في الأسئلة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المنهج الاستنباطي (فهم نظرية، واختيار البيانات) أوالمنهج الاستقرائي (اختيار البيانات، وتحديد نظر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http://i0.wp.com/www.elcuk.org/wp-content/uploads/2015/09/Research_theory.png"/>
          <p:cNvPicPr/>
          <p:nvPr/>
        </p:nvPicPr>
        <p:blipFill>
          <a:blip r:embed="rId1"/>
          <a:stretch/>
        </p:blipFill>
        <p:spPr>
          <a:xfrm>
            <a:off x="5148360" y="1989000"/>
            <a:ext cx="3217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s://epdaa.files.wordpress.com/2010/10/041.jpg"/>
          <p:cNvPicPr/>
          <p:nvPr/>
        </p:nvPicPr>
        <p:blipFill>
          <a:blip r:embed="rId1"/>
          <a:stretch/>
        </p:blipFill>
        <p:spPr>
          <a:xfrm>
            <a:off x="271440" y="260280"/>
            <a:ext cx="860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5" name="عنصر نائب للتذييل 1"/>
          <p:cNvSpPr/>
          <p:nvPr/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2925720"/>
            <a:ext cx="240012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Picture 6" descr="https://www.kfu.edu.sa/ar/Deans/AhsaaStudent/PublishingImages/email.jpg"/>
          <p:cNvPicPr/>
          <p:nvPr/>
        </p:nvPicPr>
        <p:blipFill>
          <a:blip r:embed="rId1"/>
          <a:stretch/>
        </p:blipFill>
        <p:spPr>
          <a:xfrm>
            <a:off x="179280" y="593640"/>
            <a:ext cx="2737080" cy="5711760"/>
          </a:xfrm>
          <a:prstGeom prst="rect">
            <a:avLst/>
          </a:prstGeom>
          <a:ln w="0">
            <a:noFill/>
          </a:ln>
        </p:spPr>
      </p:pic>
      <p:sp>
        <p:nvSpPr>
          <p:cNvPr id="428" name="مربع نص 7"/>
          <p:cNvSpPr/>
          <p:nvPr/>
        </p:nvSpPr>
        <p:spPr>
          <a:xfrm>
            <a:off x="3995640" y="1724040"/>
            <a:ext cx="439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تم بحمد الله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،،،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للتواصل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albahusain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صورة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543640"/>
          </a:xfrm>
          <a:prstGeom prst="rect">
            <a:avLst/>
          </a:prstGeom>
          <a:ln w="0">
            <a:noFill/>
          </a:ln>
        </p:spPr>
      </p:pic>
      <p:sp>
        <p:nvSpPr>
          <p:cNvPr id="322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صورة 1" descr=""/>
          <p:cNvPicPr/>
          <p:nvPr/>
        </p:nvPicPr>
        <p:blipFill>
          <a:blip r:embed="rId1"/>
          <a:stretch/>
        </p:blipFill>
        <p:spPr>
          <a:xfrm>
            <a:off x="96840" y="133200"/>
            <a:ext cx="9023400" cy="6158160"/>
          </a:xfrm>
          <a:prstGeom prst="rect">
            <a:avLst/>
          </a:prstGeom>
          <a:ln w="0">
            <a:noFill/>
          </a:ln>
        </p:spPr>
      </p:pic>
      <p:sp>
        <p:nvSpPr>
          <p:cNvPr id="324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http://image.slidesharecdn.com/glamwikipresentation-130413045901-phpapp01/95/benchmarking-digital-in-the-culture-sector-5-638.jpg?cb=136582918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976720"/>
          </a:xfrm>
          <a:prstGeom prst="rect">
            <a:avLst/>
          </a:prstGeom>
          <a:ln w="0">
            <a:noFill/>
          </a:ln>
        </p:spPr>
      </p:pic>
      <p:sp>
        <p:nvSpPr>
          <p:cNvPr id="327" name="مربع نص 2"/>
          <p:cNvSpPr/>
          <p:nvPr/>
        </p:nvSpPr>
        <p:spPr>
          <a:xfrm>
            <a:off x="250920" y="5950080"/>
            <a:ext cx="864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ديد موضوع الدراسة بشكل صحيح يساعدك ف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846440"/>
            <a:ext cx="38210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استراتيجية البحث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جمع البيانات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تقنيات التحليل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Simplified Arabic"/>
              </a:rPr>
              <a:t>اذاً نبدأ مع اختيار الأفكار البحثي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s://ssssose.files.wordpress.com/2012/06/20120630-124457.jpg"/>
          <p:cNvPicPr/>
          <p:nvPr/>
        </p:nvPicPr>
        <p:blipFill>
          <a:blip r:embed="rId1"/>
          <a:stretch/>
        </p:blipFill>
        <p:spPr>
          <a:xfrm>
            <a:off x="4932360" y="1989000"/>
            <a:ext cx="32893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404040"/>
                </a:solidFill>
                <a:latin typeface="Calibri Light"/>
              </a:rPr>
              <a:t>قبل ان تبدأ الاختيار </a:t>
            </a:r>
            <a:br>
              <a:rPr sz="4300"/>
            </a:b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Before you start selecting a topic</a:t>
            </a: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xplosion 2 8"/>
          <p:cNvSpPr/>
          <p:nvPr/>
        </p:nvSpPr>
        <p:spPr>
          <a:xfrm>
            <a:off x="965160" y="1917720"/>
            <a:ext cx="3594240" cy="3043080"/>
          </a:xfrm>
          <a:prstGeom prst="irregularSeal2">
            <a:avLst/>
          </a:prstGeom>
          <a:solidFill>
            <a:srgbClr val="db8631"/>
          </a:solidFill>
          <a:ln w="15840">
            <a:solidFill>
              <a:srgbClr val="a16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لماذا 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Callout 9"/>
          <p:cNvSpPr/>
          <p:nvPr/>
        </p:nvSpPr>
        <p:spPr>
          <a:xfrm>
            <a:off x="4925880" y="1827360"/>
            <a:ext cx="3384720" cy="2950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3cc5a"/>
          </a:solidFill>
          <a:ln w="15840">
            <a:solidFill>
              <a:srgbClr val="a79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كن مرن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1290600" y="514188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موضوع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عناصر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نواع المواضي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2240" y="1736280"/>
            <a:ext cx="370368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اضيع متعلقة بمجموعات مثال:  (الأطفال قبل سن المدرسة ، أولياء الأمور، المدراء، المعلمين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متعلقة بسلوك معين، مثال: (التنمر، القلق، العدوانية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عامة، مثل: (ضغوط العمل، الشخصية ، التعلم ، الدوافع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Picture 7" descr="http://qoll.net/wp-content/uploads/2015/11/%D8%A7%D9%84%D9%83%D8%AA%D8%A7%D8%A8%D8%A9-%D8%A7%D9%84%D8%A5%D8%A8%D8%AF%D8%A7%D8%B9%D9%8A%D8%A9.jpg"/>
          <p:cNvPicPr/>
          <p:nvPr/>
        </p:nvPicPr>
        <p:blipFill>
          <a:blip r:embed="rId1"/>
          <a:stretch/>
        </p:blipFill>
        <p:spPr>
          <a:xfrm>
            <a:off x="5049720" y="2036880"/>
            <a:ext cx="3289320" cy="3887640"/>
          </a:xfrm>
          <a:prstGeom prst="rect">
            <a:avLst/>
          </a:prstGeom>
          <a:ln w="0">
            <a:noFill/>
          </a:ln>
        </p:spPr>
      </p:pic>
      <p:sp>
        <p:nvSpPr>
          <p:cNvPr id="340" name="عنصر نائب للتذييل 7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1:20:42Z</dcterms:created>
  <dc:creator>Ali</dc:creator>
  <dc:description/>
  <dc:language>en-US</dc:language>
  <cp:lastModifiedBy>Abeer </cp:lastModifiedBy>
  <dcterms:modified xsi:type="dcterms:W3CDTF">2016-10-01T18:19:54Z</dcterms:modified>
  <cp:revision>336</cp:revision>
  <dc:subject/>
  <dc:title>2- Research Ideas</dc:title>
</cp:coreProperties>
</file>