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EEF8-1DCC-4414-8082-A4AB9788D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4" name="عنصر نائب للرأس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99A-7825-48B3-8E9B-22F8F5EA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D0B-B20B-4CA2-8623-93F7EC70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9D1-37B0-4523-A937-2A7328F4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354-8918-4D1B-97B3-C3BC2DD1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92F2-B804-40CC-B13B-546A5CCA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C335-248C-44F1-A9F8-95EDD35A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FC70-9FBB-419F-A545-84872662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F012-136D-49F6-80EC-E044D714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068E-A2CF-46B2-9370-E817FAEF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133A-78C0-4374-A614-AF2AAF88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F45B-788C-4100-BB85-C70F5D45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59E-C438-4202-A1C1-5F3C7B44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BB5F-57E6-49F7-BFC3-F459E6A3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82A3-4B95-4415-9537-EA7F8895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5C76-AA8A-4364-ADEC-71DDF08E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F651-D430-4B80-826F-09CDA46E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B1FA-D0F9-4BDD-B8DD-C427FA4A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60076-D1D6-4B1D-8FA8-7B4E63F3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3AA9B-EBC4-4706-BCB6-D675835D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6E097-B29A-438E-A433-4BC5CECE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DD91C-98A4-492E-8996-E1349D17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FA1A7-762C-465F-8CE2-D064327B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E92E-4C7F-40DC-9166-C76DFB4A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D2263-FAE8-41B9-9752-F673AD9D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7B7FE-2A7A-47C3-A0D3-C7B8A55A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6688A-17F3-4B8F-B96B-642B3FC7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A5295-C2DC-46F0-8AB1-38360BA3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B0FAE-256B-401C-981E-EDF7C72C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C641-614A-4E61-A1B0-8105DD4B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1474-D949-4432-B76C-0ECB6D27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EDA8C-39CA-4298-BB4A-66484C41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1A2BC-A6A4-4394-A28E-798C6236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5C288-52D6-451C-AFE4-A2223E6B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62E-BF74-48DB-988B-38A10765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AA09E-2BB0-4455-A1BC-CC09E05B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95A9E-BF47-4882-8322-06263612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EBB06-5BEA-4CEB-B10A-65A7FD66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83031-5A91-47E6-A452-E1650AE4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BA87A-C6A6-43CC-B4DF-9E28BEB6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26049-264B-4AAC-A0A0-DFF9ED10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9FD4-9132-4FDD-A8C3-88337277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C9EEF-8E25-4585-91F8-28D6802D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E312-3994-4560-9BA4-E5EA97FD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E65C6-F10A-40AA-BFFA-D330DEC4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CEA-73B7-46D6-B6A7-BB5D1D60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AA599-14F3-4203-AAFC-C058D116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A2773-E4C7-43FE-AC23-07DDC494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0E9B2-B823-4947-8D3F-5CCCB9FC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093F9-238D-4ADA-AAFD-6953A73B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369C6-5496-464D-821F-E6DCD930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F003B-B431-4EB8-BEA1-017B926E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2EE5A-FBC1-46F7-B13A-F813D443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801E3-739A-40E7-AE83-31701EC9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55DB7-2CD5-4C3A-9BE7-B2179391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3A41C-C5E6-4828-BB59-CE896152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148-215A-41F4-9CD9-F432A5C3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D1D22-BF63-4A3E-9730-B82D360F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0E950-2916-4B6A-ABF5-7B5B4474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D91C6-C4A3-42D6-A812-F176E1B1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E85AB-8723-40FA-BC06-39BB55B3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6C00D-5D83-4C36-B08C-76DA0B8D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8CEC8-64C1-4A3E-93CD-BDBBD787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B83A5-24F9-4001-805C-E1EFE017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7E495-D49E-4983-833C-B0E796D5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FCA1A-2595-4C5D-8D00-1A40FB52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FDF96-E59A-4291-B8AC-60951CC7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D22-EAC9-424F-868F-43E92F7F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9F115-159C-443B-B84D-E2047B79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D38C1-916C-421C-BF71-EC801272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B49D9-36AA-4C90-AAF1-5F576272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BE7C6-E309-4D32-9D7A-408342FA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B9B51-65D3-4920-BEEF-6680771C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F9CAF-253C-4A94-BE7D-D3B6F818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D571E-82F6-4BD5-8438-C2BFB4B7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0365C-0E84-4C0A-A616-063B26BA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99E03-1FDF-4AC7-8D55-E76DE129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F3280-CF4F-45B7-BC4C-5DA2777D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379-FC97-4F56-BAA7-03721628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150DC-B63A-411C-88ED-38610E11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20CE4-CB78-4B3C-9ED4-57B2A41D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39A76-7144-48D7-A4CF-590D8393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993BF-2733-4EFF-AE43-C5FFE6A7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51BFB-C2F5-4FCA-9AAF-F0677D53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588-B096-4393-B2BE-C6FC726C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E244-51CB-4BBD-97F6-6922E830E5B3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E9F6-2867-4BFF-BE65-E97195FB5B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626A-C76D-4FEB-A92F-FFA652742886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C57D-C1DB-4C98-B6F6-0EA7563980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EEE9-62EA-491B-9D1B-7DC8FF2AB78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B893-7C61-463B-9759-68E9A8BBB9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5ED6-D0F9-414B-912C-1788051EBF87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7B27-5354-48C0-8BCC-B534D61763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37FA-3286-4F8A-B24A-7B97413E0B4B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1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14949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149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94BF-1CD6-41F6-A334-E6684F0DA06E}" type="slidenum">
              <a:rPr b="0" lang="en-US" sz="1000" spc="-1" strike="noStrike">
                <a:solidFill>
                  <a:srgbClr val="51494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D54C-8513-4C38-BA17-E37008F8275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FE7B-609D-4B66-9F89-E5C18182BC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4000" cy="6336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80BB-33DD-4C97-9302-EADA3A1CE46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D53F-996B-4516-B2D6-88DD1BF1D3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mailto:walbahusain@ksu.edu.sa" TargetMode="External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2" descr="http://www.up.ac.za/media/shared/Legacy/sitefiles/image/46/9742/researchpic.jpg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7720" y="5414760"/>
            <a:ext cx="7584840" cy="11840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د. وداد بنت عبدالرحمن أباحسين</a:t>
            </a:r>
            <a:br>
              <a:rPr sz="2800"/>
            </a:br>
            <a:r>
              <a:rPr b="1" lang="ar-SA" sz="2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أستاذ مساعد</a:t>
            </a:r>
            <a:br>
              <a:rPr sz="2800"/>
            </a:br>
            <a:r>
              <a:rPr b="1" lang="ar-SA" sz="2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قسم التربية الخاصة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588080" cy="31672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 fontScale="93000"/>
          </a:bodyPr>
          <a:p>
            <a:pPr indent="0" algn="ctr" rtl="1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797965"/>
                </a:solidFill>
                <a:latin typeface="Calibri"/>
                <a:cs typeface="DecoType Naskh Special"/>
              </a:rPr>
              <a:t>الأفكار البحثية</a:t>
            </a:r>
            <a:endParaRPr b="0" lang="en-US" sz="8600" spc="-1" strike="noStrike">
              <a:solidFill>
                <a:srgbClr val="40404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f0"/>
                </a:solidFill>
                <a:latin typeface="Calibri"/>
                <a:cs typeface="DecoType Naskh Special"/>
              </a:rPr>
              <a:t>حلقة نقاش من ضمن أنشطة مركز بحوث الدراسات  الإنسانية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f0"/>
                </a:solidFill>
                <a:latin typeface="Calibri"/>
                <a:cs typeface="DecoType Naskh Special"/>
              </a:rPr>
              <a:t>الأربعاء </a:t>
            </a:r>
            <a:r>
              <a:rPr b="1" lang="ar-SA" sz="2800" spc="-1" strike="noStrike">
                <a:solidFill>
                  <a:srgbClr val="00b0f0"/>
                </a:solidFill>
                <a:latin typeface="Calibri"/>
                <a:ea typeface="DecoType Naskh Special"/>
              </a:rPr>
              <a:t>8</a:t>
            </a:r>
            <a:r>
              <a:rPr b="1" lang="ar-SA" sz="2800" spc="-1" strike="noStrike">
                <a:solidFill>
                  <a:srgbClr val="00b0f0"/>
                </a:solidFill>
                <a:latin typeface="Calibri"/>
                <a:ea typeface="DecoType Naskh Special"/>
              </a:rPr>
              <a:t>/ </a:t>
            </a:r>
            <a:r>
              <a:rPr b="1" lang="ar-SA" sz="2800" spc="-1" strike="noStrike">
                <a:solidFill>
                  <a:srgbClr val="00b0f0"/>
                </a:solidFill>
                <a:latin typeface="Calibri"/>
                <a:ea typeface="DecoType Naskh Special"/>
              </a:rPr>
              <a:t>5</a:t>
            </a:r>
            <a:r>
              <a:rPr b="1" lang="ar-SA" sz="2800" spc="-1" strike="noStrike">
                <a:solidFill>
                  <a:srgbClr val="00b0f0"/>
                </a:solidFill>
                <a:latin typeface="Calibri"/>
                <a:ea typeface="DecoType Naskh Special"/>
              </a:rPr>
              <a:t>/ </a:t>
            </a:r>
            <a:r>
              <a:rPr b="1" lang="ar-SA" sz="2800" spc="-1" strike="noStrike">
                <a:solidFill>
                  <a:srgbClr val="00b0f0"/>
                </a:solidFill>
                <a:latin typeface="Calibri"/>
                <a:ea typeface="DecoType Naskh Special"/>
              </a:rPr>
              <a:t>1437</a:t>
            </a:r>
            <a:r>
              <a:rPr b="1" lang="ar-SA" sz="2800" spc="-1" strike="noStrike">
                <a:solidFill>
                  <a:srgbClr val="00b0f0"/>
                </a:solidFill>
                <a:latin typeface="Calibri"/>
                <a:cs typeface="DecoType Naskh Special"/>
              </a:rPr>
              <a:t>هـ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4" name="صورة 20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271960" cy="614160"/>
          </a:xfrm>
          <a:prstGeom prst="rect">
            <a:avLst/>
          </a:prstGeom>
          <a:ln w="0">
            <a:noFill/>
          </a:ln>
        </p:spPr>
      </p:pic>
      <p:sp>
        <p:nvSpPr>
          <p:cNvPr id="315" name="عنصر نائب للتذييل 2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مصادر الأفكار البحثية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39280" y="1846440"/>
            <a:ext cx="39862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تفضيلات شخصية (الدورة المفضلة لديك ، الموضوع، العنوان)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السلوك الذي يثير فضولك من خلال المراقبة  البيئة من حولك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مشاكل عملية (مشاكل في صفك، المدرسة، العمل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الأفكار المنبثقة أو الخلاقة، مثال: (تطبيق معايير عالمية على بيئة عربية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القراءات المتنوعة في الكتب والمجلات والمواقع على شبكة الإنترنت، وحتى الرسوم والإعلانات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ثبات النظريات، مثال: الطلاب ونظريات الذكاء المتعدد، أسلوب التعلم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3" name="عنصر نائب للمحتوى 2" descr=""/>
          <p:cNvPicPr/>
          <p:nvPr/>
        </p:nvPicPr>
        <p:blipFill>
          <a:blip r:embed="rId1"/>
          <a:stretch/>
        </p:blipFill>
        <p:spPr>
          <a:xfrm>
            <a:off x="4859280" y="1986120"/>
            <a:ext cx="3506760" cy="3743280"/>
          </a:xfrm>
          <a:prstGeom prst="rect">
            <a:avLst/>
          </a:prstGeom>
          <a:ln w="0">
            <a:noFill/>
          </a:ln>
        </p:spPr>
      </p:pic>
      <p:sp>
        <p:nvSpPr>
          <p:cNvPr id="344" name="عنصر نائب للتذييل 3"/>
          <p:cNvSpPr/>
          <p:nvPr/>
        </p:nvSpPr>
        <p:spPr>
          <a:xfrm>
            <a:off x="3924360" y="646596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مصادر الأفكار البحثية </a:t>
            </a:r>
            <a:br>
              <a:rPr sz="4800"/>
            </a:br>
            <a:r>
              <a:rPr b="1" lang="en-US" sz="4800" spc="-1" strike="noStrike">
                <a:solidFill>
                  <a:srgbClr val="689d9b"/>
                </a:solidFill>
                <a:latin typeface="Calibri Light"/>
              </a:rPr>
              <a:t>Resources of Research Ideas</a:t>
            </a:r>
            <a:r>
              <a:rPr b="1" lang="en-US" sz="4800" spc="-1" strike="noStrike">
                <a:solidFill>
                  <a:srgbClr val="689d9b"/>
                </a:solidFill>
                <a:latin typeface="Calibri Light"/>
              </a:rPr>
              <a:t> 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46" name="Content Placeholder 6" descr=""/>
          <p:cNvPicPr/>
          <p:nvPr/>
        </p:nvPicPr>
        <p:blipFill>
          <a:blip r:embed="rId1"/>
          <a:stretch/>
        </p:blipFill>
        <p:spPr>
          <a:xfrm>
            <a:off x="463680" y="1841400"/>
            <a:ext cx="8223120" cy="4400640"/>
          </a:xfrm>
          <a:prstGeom prst="rect">
            <a:avLst/>
          </a:prstGeom>
          <a:ln w="0">
            <a:noFill/>
          </a:ln>
        </p:spPr>
      </p:pic>
      <p:sp>
        <p:nvSpPr>
          <p:cNvPr id="347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684360" y="184644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و لم يكن موضوع اميل له او اعرف عنه مسبقا فلابد ان يكون على الأقل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ختيار الموضوع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22240" y="2060280"/>
            <a:ext cx="370368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عندما تبحث عن موضوع النظر فيما يلي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الهوايات المفضلة لديك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تجارب شخصي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ما القيم المهمة بالنسبة لك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مواضيع تثير تفكيرك وترغب في معرفة المزيد عنها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1" name="عنصر نائب للمحتوى 3" descr=""/>
          <p:cNvPicPr/>
          <p:nvPr/>
        </p:nvPicPr>
        <p:blipFill>
          <a:blip r:embed="rId1"/>
          <a:stretch/>
        </p:blipFill>
        <p:spPr>
          <a:xfrm>
            <a:off x="5005440" y="2219400"/>
            <a:ext cx="3360600" cy="3600360"/>
          </a:xfrm>
          <a:prstGeom prst="rect">
            <a:avLst/>
          </a:prstGeom>
          <a:ln w="0">
            <a:noFill/>
          </a:ln>
        </p:spPr>
      </p:pic>
      <p:sp>
        <p:nvSpPr>
          <p:cNvPr id="352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DecoType Naskh Special"/>
              </a:rPr>
              <a:t>DR.WEDAD ABAHUS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اختيار الموضوع</a:t>
            </a:r>
            <a:br>
              <a:rPr sz="4800"/>
            </a:b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Selecting research topic</a:t>
            </a: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4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DecoType Naskh Special"/>
              </a:rPr>
              <a:t>ABEER ALHARB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Diagram 6" descr=""/>
          <p:cNvPicPr/>
          <p:nvPr/>
        </p:nvPicPr>
        <p:blipFill>
          <a:blip r:embed="rId1"/>
          <a:stretch/>
        </p:blipFill>
        <p:spPr>
          <a:xfrm>
            <a:off x="249120" y="1841400"/>
            <a:ext cx="8352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تقييم الفكرة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22240" y="2057400"/>
            <a:ext cx="3703680" cy="3316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alibri"/>
              </a:rPr>
              <a:t>الفعالي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alibri"/>
              </a:rPr>
              <a:t>الدلالة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alibri"/>
              </a:rPr>
              <a:t>الأصالة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alibri"/>
              </a:rPr>
              <a:t>الجدوى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8" name="عنصر نائب للمحتوى 3" descr=""/>
          <p:cNvPicPr/>
          <p:nvPr/>
        </p:nvPicPr>
        <p:blipFill>
          <a:blip r:embed="rId1"/>
          <a:stretch/>
        </p:blipFill>
        <p:spPr>
          <a:xfrm>
            <a:off x="5200560" y="2057400"/>
            <a:ext cx="3146400" cy="3600360"/>
          </a:xfrm>
          <a:prstGeom prst="rect">
            <a:avLst/>
          </a:prstGeom>
          <a:ln w="0">
            <a:noFill/>
          </a:ln>
        </p:spPr>
      </p:pic>
      <p:sp>
        <p:nvSpPr>
          <p:cNvPr id="359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75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75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000"/>
                </a:solidFill>
                <a:latin typeface="Comic Sans MS"/>
                <a:cs typeface="DecoType Naskh Special"/>
              </a:rPr>
              <a:t>مواضيع البحوث الجيدة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4360" y="1846440"/>
            <a:ext cx="4032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ل أنت متأكد بأنك قادر على الوصول إلى البيانات المطلوبة لهذا الموضوع 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ل أنت قادر على صياغة أسئلة البحث وأهدافه بوضوح 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ل سيكون البحث المقترح قادراً على تقديم رؤى جديدة في الموضوع 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ل موضوع البحث تتعلق بصورة واضحة فكرة كنت قد أعطيت (منظمة، مدرس)</a:t>
            </a:r>
            <a:r>
              <a:rPr b="1" lang="ar-SA" sz="19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ي نتائج لهذا موضوع البحث من المرجح </a:t>
            </a:r>
            <a:r>
              <a:rPr b="0" lang="ar-SA" sz="2200" spc="-1" strike="noStrike">
                <a:solidFill>
                  <a:srgbClr val="404040"/>
                </a:solidFill>
                <a:latin typeface="Calibri"/>
              </a:rPr>
              <a:t>أن تكون متماثلة (قيمة مماثلة مهما كانت نتيجة)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 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النظر في أهداف حياتك المهنية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5" descr="http://all-new.ws/images/img_1/0f2696f178a3cab351b3efce8c7364ef.jpg"/>
          <p:cNvPicPr/>
          <p:nvPr/>
        </p:nvPicPr>
        <p:blipFill>
          <a:blip r:embed="rId1"/>
          <a:stretch/>
        </p:blipFill>
        <p:spPr>
          <a:xfrm>
            <a:off x="4991040" y="1846440"/>
            <a:ext cx="325296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معايير اختيار موضوع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15760" y="1916280"/>
            <a:ext cx="37033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هل الموضوع يتناسب مع المواصفات والمعايير التي وضعتها المؤسسة أو الكلية أو القسم الذي انتمي له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ل هذا الموضوع مناسب لمجالي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هل هذا الموضوع مفيد المجتمع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هل أستطيع أن أتحدث عن هذا الموضوع بحماس ومعرفة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هل سأكون قادراً على تقديم منظور جديد حول هذا الموضوع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http://previews.123rf.com/images/Krisdog/Krisdog1210/Krisdog121000014/15567702-Ein-Klemmbrett-mit-Bleistift-Markierungen-auf-sie-Eine-Umfrage-Umfrage-oder-Pr-fbescheinigung-Lizenzfreie-Bilder.jpg"/>
          <p:cNvPicPr/>
          <p:nvPr/>
        </p:nvPicPr>
        <p:blipFill>
          <a:blip r:embed="rId1"/>
          <a:stretch/>
        </p:blipFill>
        <p:spPr>
          <a:xfrm>
            <a:off x="4788000" y="1916280"/>
            <a:ext cx="35780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معايير اختيار موضوع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22240" y="1773000"/>
            <a:ext cx="37036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ل يحتوي موضوع البحث الخاص بك على نظرية تعتمد عليها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ل لديك أو يمكنك تخمين الإطار الزمني للمشروع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ل تمتلك المهارات البحثية اللازمة لإجراء هذا الموضوع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و موضوع البحث تحقيقه ضمن الوقت المتاح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و موضوع البحث للتحقيق في حدود الموارد المالية التي من المحتمل أن تكون متاحة لك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6" descr="http://previews.123rf.com/images/Krisdog/Krisdog1210/Krisdog121000014/15567702-Ein-Klemmbrett-mit-Bleistift-Markierungen-auf-sie-Eine-Umfrage-Umfrage-oder-Pr-fbescheinigung-Lizenzfreie-Bilder.jpg"/>
          <p:cNvPicPr/>
          <p:nvPr/>
        </p:nvPicPr>
        <p:blipFill>
          <a:blip r:embed="rId1"/>
          <a:stretch/>
        </p:blipFill>
        <p:spPr>
          <a:xfrm>
            <a:off x="4859280" y="1916280"/>
            <a:ext cx="3506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http://www.gerasanews.com/web/tpllib/img.php?im=cat_136/47540.jpg&amp;w=320&amp;h=348&amp;large"/>
          <p:cNvPicPr/>
          <p:nvPr/>
        </p:nvPicPr>
        <p:blipFill>
          <a:blip r:embed="rId1"/>
          <a:stretch/>
        </p:blipFill>
        <p:spPr>
          <a:xfrm>
            <a:off x="433440" y="476280"/>
            <a:ext cx="8280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رسم تخطيطي 9" descr=""/>
          <p:cNvPicPr/>
          <p:nvPr/>
        </p:nvPicPr>
        <p:blipFill>
          <a:blip r:embed="rId1"/>
          <a:stretch/>
        </p:blipFill>
        <p:spPr>
          <a:xfrm>
            <a:off x="792000" y="579600"/>
            <a:ext cx="774252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720" y="593640"/>
            <a:ext cx="240012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أجندة</a:t>
            </a: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عنصر نائب للتذييل 4"/>
          <p:cNvSpPr/>
          <p:nvPr/>
        </p:nvSpPr>
        <p:spPr>
          <a:xfrm>
            <a:off x="5219640" y="6461280"/>
            <a:ext cx="15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14949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مستطيل 9"/>
          <p:cNvSpPr/>
          <p:nvPr/>
        </p:nvSpPr>
        <p:spPr>
          <a:xfrm>
            <a:off x="3348000" y="393840"/>
            <a:ext cx="5256360" cy="65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أنواع المواضي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مصادر الأفكار البحث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اختيار الموض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تقييم الفك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Comic Sans MS"/>
              </a:rPr>
              <a:t>مواضيع البحوث الجي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معايير اختيار موض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أنواع التفكير العلم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التفكير المنطق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التفكير الإبد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العصف الذه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اكتشاف مواضيعك المفضلة عن طريق المشاريع الساب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تحويل الأفكار البحثية إلى مشار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c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تفكير المنطقي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9000"/>
          </a:bodyPr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الرسائل العلم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المشاريع التربو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مسح قائمة جامعتك من عناوين المشاريع الماضية عن أي موضوع يلامس اهتمامك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مسح المشاريع البحثية الفعل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المسح في قواعد المعلومات العربية والأجنب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http://images0.masress.com/elfagr/1523100"/>
          <p:cNvPicPr/>
          <p:nvPr/>
        </p:nvPicPr>
        <p:blipFill>
          <a:blip r:embed="rId1"/>
          <a:stretch/>
        </p:blipFill>
        <p:spPr>
          <a:xfrm>
            <a:off x="4983120" y="1989000"/>
            <a:ext cx="3333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كيف يحدث ؟</a:t>
            </a:r>
            <a:br>
              <a:rPr sz="4800"/>
            </a:br>
            <a:r>
              <a:rPr b="1" lang="en-US" sz="4800" spc="-1" strike="noStrike">
                <a:solidFill>
                  <a:srgbClr val="689d9b"/>
                </a:solidFill>
                <a:latin typeface="Calibri Light"/>
              </a:rPr>
              <a:t>How it’s done</a:t>
            </a:r>
            <a:r>
              <a:rPr b="1" lang="en-US" sz="4800" spc="-1" strike="noStrike">
                <a:solidFill>
                  <a:srgbClr val="689d9b"/>
                </a:solidFill>
                <a:latin typeface="Calibri Light"/>
              </a:rPr>
              <a:t> 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57040" indent="-25704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أولا قم بالتالي :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57040" indent="-25704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أعد قائمة بالكلمات المفتاحية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57280" indent="-21420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الرجوع </a:t>
            </a: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Encyclopaedia, Wikipedia</a:t>
            </a: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57280" indent="-21420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الرجوع للمعاجم و المترادفات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57280" indent="-21420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أبدأ البحث في الدراسات السابقة عن الكلمات المفتاحية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57040" indent="-25704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نشاط </a:t>
            </a:r>
            <a:br>
              <a:rPr sz="4800"/>
            </a:b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Activity</a:t>
            </a: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83880" indent="-83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404040"/>
                </a:solidFill>
                <a:latin typeface="Calibri"/>
              </a:rPr>
              <a:t> سيتم مناقشة الواجب الآن بحيث كل طالبة عليها ان تستعرض الرسائل العلمية و تلخص الفجوة في المعرفة؟</a:t>
            </a:r>
            <a:endParaRPr b="0" lang="en-US" sz="5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تفكير الابداعي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22240" y="1915920"/>
            <a:ext cx="37036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الحفاظ على دفتر الأفكار (الذهبي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استكشاف التفضيلات الشخصية باستخدام المشاريع السابق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القراءة في المواضيع ذات الصل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العصف الذهني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http://www.arabnet5.com/media/638/photos_%D8%AF%D9%81%D8%AA%D8%B1_%D8%A7%D9%84%D9%85%D9%84%D8%A7%D8%AD%D8%B8%D8%A7%D8%AA_14026.jpg"/>
          <p:cNvPicPr/>
          <p:nvPr/>
        </p:nvPicPr>
        <p:blipFill>
          <a:blip r:embed="rId1"/>
          <a:stretch/>
        </p:blipFill>
        <p:spPr>
          <a:xfrm>
            <a:off x="4788000" y="1989000"/>
            <a:ext cx="35622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كتشاف مواضيعك المفضلة عن طريق المشاريع السابقة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اختيار ستة مشاريع سابقة وجيد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دون أفكارك الأولى مع الإجابة على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ما يروق لك عن المشروع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ما هو جيد عن المشرو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لماذا يعتبر المشروع جيد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http://www.2x.com/wp-content/uploads/2015/04/case-study2.png"/>
          <p:cNvPicPr/>
          <p:nvPr/>
        </p:nvPicPr>
        <p:blipFill>
          <a:blip r:embed="rId1"/>
          <a:stretch/>
        </p:blipFill>
        <p:spPr>
          <a:xfrm>
            <a:off x="4859280" y="2060640"/>
            <a:ext cx="35067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كتشاف مواضيعك المفضلة باستخدام المشاريع السابقة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اختيار ثلاثة مشاريع من التي كنت لا تفضلها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يدون أفكارك الأولى مع استجابة إلى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- ما لا يعجبك في المشاريع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- ما هو سيء عن المشاريع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- لماذا هو سيء المشروع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" descr="http://www.2x.com/wp-content/uploads/2015/04/case-study2.png"/>
          <p:cNvPicPr/>
          <p:nvPr/>
        </p:nvPicPr>
        <p:blipFill>
          <a:blip r:embed="rId1"/>
          <a:stretch/>
        </p:blipFill>
        <p:spPr>
          <a:xfrm>
            <a:off x="4859280" y="2060640"/>
            <a:ext cx="35067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https://i.ytimg.com/vi/PVDtgDdnqPI/hqdefault.jpg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1"/>
          <p:cNvSpPr/>
          <p:nvPr/>
        </p:nvSpPr>
        <p:spPr>
          <a:xfrm>
            <a:off x="2843280" y="647064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142920" y="2560680"/>
            <a:ext cx="8677080" cy="41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اختيار فكرة البحث ،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من خلال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90000"/>
              </a:lnSpc>
              <a:spcBef>
                <a:spcPts val="901"/>
              </a:spcBef>
              <a:spcAft>
                <a:spcPts val="150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404040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دراسات السابقة ( عدم الاتفاق مع الباحث في هذه الدراسات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90000"/>
              </a:lnSpc>
              <a:spcBef>
                <a:spcPts val="901"/>
              </a:spcBef>
              <a:spcAft>
                <a:spcPts val="150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المناقشة و الخاتمة (النقد الذاتي للدراسة او جوانب القصور في الدراسة + التوصيات بدراسات أخرى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90000"/>
              </a:lnSpc>
              <a:spcBef>
                <a:spcPts val="901"/>
              </a:spcBef>
              <a:spcAft>
                <a:spcPts val="150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الاخطاء المنهجية في مجموعة من  الدراسات المنشورة دعوة لإجراء دراسة لمعالجة هذا الخطأ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90000"/>
              </a:lnSpc>
              <a:spcBef>
                <a:spcPts val="901"/>
              </a:spcBef>
              <a:spcAft>
                <a:spcPts val="150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فجوات المعرفة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142920" y="44280"/>
            <a:ext cx="885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89d9b"/>
                </a:solidFill>
                <a:latin typeface="Arial"/>
              </a:rPr>
              <a:t>مصدر آخر يعتمد على التفكير المنطقي في اختيار فكرة بح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9d9b"/>
                </a:solidFill>
                <a:latin typeface="Arial"/>
              </a:rPr>
              <a:t>Another source for research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عصف الذهني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22240" y="1846440"/>
            <a:ext cx="370368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تحديد مشكلتك - وأنواع الأفكار التي كنت مهتماً بها  بأكبر دقة ممكنة عن طريق طلب اقتراحات، تتعلق بالمشكلة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تسجيل جميع الاقتراحات، ومراعاة القواعد التالية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 يجب أن لا تنتقد أي تقترح أو تقيم بأي شكل من الأشكال قبل أن يتم اعتبار جميع الأفكار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جميع الاقتراحات الغريبة ينبغي أن تسجل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05" name="عنصر نائب للمحتوى 7" descr=""/>
          <p:cNvPicPr/>
          <p:nvPr/>
        </p:nvPicPr>
        <p:blipFill>
          <a:blip r:embed="rId1"/>
          <a:stretch/>
        </p:blipFill>
        <p:spPr>
          <a:xfrm>
            <a:off x="5148360" y="2052720"/>
            <a:ext cx="3217680" cy="4022640"/>
          </a:xfrm>
          <a:prstGeom prst="rect">
            <a:avLst/>
          </a:prstGeom>
          <a:ln w="0">
            <a:noFill/>
          </a:ln>
        </p:spPr>
      </p:pic>
      <p:sp>
        <p:nvSpPr>
          <p:cNvPr id="406" name="عنصر نائب للتذييل 8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عصف الذهني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5000"/>
          </a:bodyPr>
          <a:p>
            <a:pPr marL="76680" indent="-766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كما يجب أن يتم تسجيل العديد من الاقتراحات في أقصر وقت ممكن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استعراض جميع الاقتراحات واستكشاف ما هو المقصود من كل مقترح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تحليل قائمة من الاقتراحات والتي تقرر لك أكثر الأفكار البحثية مناسب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اقتراحات فيجب أن لا يتم انتقادات أو تقييمه قبل أن يتم النظر في جميع الأفكار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09" name="عنصر نائب للمحتوى 7" descr=""/>
          <p:cNvPicPr/>
          <p:nvPr/>
        </p:nvPicPr>
        <p:blipFill>
          <a:blip r:embed="rId1"/>
          <a:stretch/>
        </p:blipFill>
        <p:spPr>
          <a:xfrm>
            <a:off x="5126040" y="2006640"/>
            <a:ext cx="3240000" cy="4022640"/>
          </a:xfrm>
          <a:prstGeom prst="rect">
            <a:avLst/>
          </a:prstGeom>
          <a:ln w="0">
            <a:noFill/>
          </a:ln>
        </p:spPr>
      </p:pic>
      <p:sp>
        <p:nvSpPr>
          <p:cNvPr id="410" name="عنصر نائب للتذييل 8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صورة 4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457960"/>
          </a:xfrm>
          <a:prstGeom prst="rect">
            <a:avLst/>
          </a:prstGeom>
          <a:ln w="0">
            <a:noFill/>
          </a:ln>
        </p:spPr>
      </p:pic>
      <p:sp>
        <p:nvSpPr>
          <p:cNvPr id="320" name="عنصر نائب للتذييل 5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نشاط </a:t>
            </a:r>
            <a:br>
              <a:rPr sz="4800"/>
            </a:b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Activity</a:t>
            </a: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3000"/>
          </a:bodyPr>
          <a:p>
            <a:pPr marL="74880" indent="-74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4040"/>
                </a:solidFill>
                <a:latin typeface="Calibri"/>
              </a:rPr>
              <a:t>بناءا على ماتم استعراضه من فجوات المعرفة في الرسائل المبحوثة ، قومي باقتراح </a:t>
            </a:r>
            <a:r>
              <a:rPr b="1" lang="ar-SA" sz="4000" spc="-1" strike="noStrike">
                <a:solidFill>
                  <a:srgbClr val="404040"/>
                </a:solidFill>
                <a:latin typeface="Calibri"/>
              </a:rPr>
              <a:t>5</a:t>
            </a:r>
            <a:r>
              <a:rPr b="1" lang="ar-SA" sz="4000" spc="-1" strike="noStrike">
                <a:solidFill>
                  <a:srgbClr val="404040"/>
                </a:solidFill>
                <a:latin typeface="Calibri"/>
              </a:rPr>
              <a:t> موضوعات مرتبطة بالفجوات في المعرفة  يمكنك ان تقومي باجراء دراستك فيها ؟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استخدمي الأوراق الموزعة لكتابة أو رسم هذه الأفكار البحثية ..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تحويل الأفكار البحثية إلى مشاريع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90640" y="1971360"/>
            <a:ext cx="37036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3000"/>
          </a:bodyPr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كتابة الأسئلة البحث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كتابة أهداف البحث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تحول أسئلة البحث في أهداف البحث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مثال: الفكرة: التوظيف عبر الإنترنت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سؤال: ما مدى فعالية تعيين موظفين جدد عبر الإنترنت بالمقارنة مع الأساليب التقليدية؟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هدف: تحديد فعالية التوظيف عبر الإنترنت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16" name="عنصر نائب للمحتوى 5" descr=""/>
          <p:cNvPicPr/>
          <p:nvPr/>
        </p:nvPicPr>
        <p:blipFill>
          <a:blip r:embed="rId1"/>
          <a:stretch/>
        </p:blipFill>
        <p:spPr>
          <a:xfrm>
            <a:off x="5018040" y="2022480"/>
            <a:ext cx="3313080" cy="3952800"/>
          </a:xfrm>
          <a:prstGeom prst="rect">
            <a:avLst/>
          </a:prstGeom>
          <a:ln w="0">
            <a:noFill/>
          </a:ln>
        </p:spPr>
      </p:pic>
      <p:sp>
        <p:nvSpPr>
          <p:cNvPr id="417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تحويل الأفكار البحثية إلى مشاريع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17560" y="1988640"/>
            <a:ext cx="370368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8000"/>
          </a:bodyPr>
          <a:p>
            <a:pPr marL="79200" indent="-7920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لعلاقة بين النظرية والتطبيق (سبب وعلاقة التأثير) التوقعات التي إذا فعل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A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، </a:t>
            </a: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فإن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B</a:t>
            </a: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سيحدث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79200" indent="-7920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لبحث = جمع المعلومات والحقائق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79200" indent="-7920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ستخدام صيغة "ماذا" و "لماذا" في الأسئلة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79200" indent="-7920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ستخدام المنهج الاستنباطي (فهم نظرية، واختيار البيانات) أوالمنهج الاستقرائي (اختيار البيانات، وتحديد نظرية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79200" indent="-7920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http://i0.wp.com/www.elcuk.org/wp-content/uploads/2015/09/Research_theory.png"/>
          <p:cNvPicPr/>
          <p:nvPr/>
        </p:nvPicPr>
        <p:blipFill>
          <a:blip r:embed="rId1"/>
          <a:stretch/>
        </p:blipFill>
        <p:spPr>
          <a:xfrm>
            <a:off x="5148360" y="1989000"/>
            <a:ext cx="3217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https://epdaa.files.wordpress.com/2010/10/041.jpg"/>
          <p:cNvPicPr/>
          <p:nvPr/>
        </p:nvPicPr>
        <p:blipFill>
          <a:blip r:embed="rId1"/>
          <a:stretch/>
        </p:blipFill>
        <p:spPr>
          <a:xfrm>
            <a:off x="271440" y="260280"/>
            <a:ext cx="8604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42720" y="593640"/>
            <a:ext cx="240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5" name="عنصر نائب للتذييل 1"/>
          <p:cNvSpPr/>
          <p:nvPr/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14949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42720" y="2925720"/>
            <a:ext cx="240012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7" name="Picture 6" descr="https://www.kfu.edu.sa/ar/Deans/AhsaaStudent/PublishingImages/email.jpg"/>
          <p:cNvPicPr/>
          <p:nvPr/>
        </p:nvPicPr>
        <p:blipFill>
          <a:blip r:embed="rId1"/>
          <a:stretch/>
        </p:blipFill>
        <p:spPr>
          <a:xfrm>
            <a:off x="179280" y="593640"/>
            <a:ext cx="2737080" cy="5711760"/>
          </a:xfrm>
          <a:prstGeom prst="rect">
            <a:avLst/>
          </a:prstGeom>
          <a:ln w="0">
            <a:noFill/>
          </a:ln>
        </p:spPr>
      </p:pic>
      <p:sp>
        <p:nvSpPr>
          <p:cNvPr id="428" name="مربع نص 7"/>
          <p:cNvSpPr/>
          <p:nvPr/>
        </p:nvSpPr>
        <p:spPr>
          <a:xfrm>
            <a:off x="3995640" y="1724040"/>
            <a:ext cx="439272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Arial"/>
              </a:rPr>
              <a:t>تم بحمد الله</a:t>
            </a:r>
            <a:r>
              <a:rPr b="1" lang="ar-SA" sz="2800" spc="-1" strike="noStrike">
                <a:solidFill>
                  <a:srgbClr val="7f7f7f"/>
                </a:solidFill>
                <a:latin typeface="Arial"/>
              </a:rPr>
              <a:t>،،،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Arial"/>
              </a:rPr>
              <a:t>للتواصل</a:t>
            </a:r>
            <a:r>
              <a:rPr b="1" lang="ar-SA" sz="2800" spc="-1" strike="noStrike">
                <a:solidFill>
                  <a:srgbClr val="7f7f7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albahusain@ksu.edu.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صورة 1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543640"/>
          </a:xfrm>
          <a:prstGeom prst="rect">
            <a:avLst/>
          </a:prstGeom>
          <a:ln w="0">
            <a:noFill/>
          </a:ln>
        </p:spPr>
      </p:pic>
      <p:sp>
        <p:nvSpPr>
          <p:cNvPr id="322" name="عنصر نائب للتذييل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صورة 1" descr=""/>
          <p:cNvPicPr/>
          <p:nvPr/>
        </p:nvPicPr>
        <p:blipFill>
          <a:blip r:embed="rId1"/>
          <a:stretch/>
        </p:blipFill>
        <p:spPr>
          <a:xfrm>
            <a:off x="96840" y="133200"/>
            <a:ext cx="9023400" cy="6158160"/>
          </a:xfrm>
          <a:prstGeom prst="rect">
            <a:avLst/>
          </a:prstGeom>
          <a:ln w="0">
            <a:noFill/>
          </a:ln>
        </p:spPr>
      </p:pic>
      <p:sp>
        <p:nvSpPr>
          <p:cNvPr id="324" name="عنصر نائب للتذييل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http://image.slidesharecdn.com/glamwikipresentation-130413045901-phpapp01/95/benchmarking-digital-in-the-culture-sector-5-638.jpg?cb=1365829180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5976720"/>
          </a:xfrm>
          <a:prstGeom prst="rect">
            <a:avLst/>
          </a:prstGeom>
          <a:ln w="0">
            <a:noFill/>
          </a:ln>
        </p:spPr>
      </p:pic>
      <p:sp>
        <p:nvSpPr>
          <p:cNvPr id="327" name="مربع نص 2"/>
          <p:cNvSpPr/>
          <p:nvPr/>
        </p:nvSpPr>
        <p:spPr>
          <a:xfrm>
            <a:off x="250920" y="5950080"/>
            <a:ext cx="8642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115920"/>
            <a:ext cx="754380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تحديد موضوع الدراسة بشكل صحيح يساعدك في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22240" y="1846440"/>
            <a:ext cx="38210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2000"/>
          </a:bodyPr>
          <a:p>
            <a:pPr marL="82800" indent="-828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Simplified Arabic"/>
              </a:rPr>
              <a:t> اختيار استراتيجية البحث المناسب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Simplified Arabic"/>
              </a:rPr>
              <a:t> اختيار جمع البيانات المناسب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Simplified Arabic"/>
              </a:rPr>
              <a:t> اختيار تقنيات التحليل المناسب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Simplified Arabic"/>
              </a:rPr>
              <a:t>اذاً نبدأ مع اختيار الأفكار البحثية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https://ssssose.files.wordpress.com/2012/06/20120630-124457.jpg"/>
          <p:cNvPicPr/>
          <p:nvPr/>
        </p:nvPicPr>
        <p:blipFill>
          <a:blip r:embed="rId1"/>
          <a:stretch/>
        </p:blipFill>
        <p:spPr>
          <a:xfrm>
            <a:off x="4932360" y="1989000"/>
            <a:ext cx="328932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404040"/>
                </a:solidFill>
                <a:latin typeface="Calibri Light"/>
              </a:rPr>
              <a:t>قبل ان تبدأ الاختيار </a:t>
            </a:r>
            <a:br>
              <a:rPr sz="4300"/>
            </a:br>
            <a:r>
              <a:rPr b="1" lang="en-GB" sz="4300" spc="-1" strike="noStrike">
                <a:solidFill>
                  <a:srgbClr val="404040"/>
                </a:solidFill>
                <a:latin typeface="Calibri Light"/>
              </a:rPr>
              <a:t>Before you start selecting a topic</a:t>
            </a:r>
            <a:r>
              <a:rPr b="1" lang="en-GB" sz="43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 ALHAR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xplosion 2 8"/>
          <p:cNvSpPr/>
          <p:nvPr/>
        </p:nvSpPr>
        <p:spPr>
          <a:xfrm>
            <a:off x="965160" y="1917720"/>
            <a:ext cx="3594240" cy="3043080"/>
          </a:xfrm>
          <a:prstGeom prst="irregularSeal2">
            <a:avLst/>
          </a:prstGeom>
          <a:solidFill>
            <a:srgbClr val="db8631"/>
          </a:solidFill>
          <a:ln w="15840">
            <a:solidFill>
              <a:srgbClr val="a16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لماذا 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Callout 9"/>
          <p:cNvSpPr/>
          <p:nvPr/>
        </p:nvSpPr>
        <p:spPr>
          <a:xfrm>
            <a:off x="4925880" y="1827360"/>
            <a:ext cx="3384720" cy="2950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3cc5a"/>
          </a:solidFill>
          <a:ln w="15840">
            <a:solidFill>
              <a:srgbClr val="a795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كن مرن</a:t>
            </a: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0"/>
          <p:cNvSpPr/>
          <p:nvPr/>
        </p:nvSpPr>
        <p:spPr>
          <a:xfrm>
            <a:off x="1290600" y="514188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غيير موضوع البح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غيير عناصر البح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أنواع المواضيع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22240" y="1736280"/>
            <a:ext cx="3703680" cy="435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. مواضيع متعلقة بمجموعات مثال:  (الأطفال قبل سن المدرسة ، أولياء الأمور، المدراء، المعلمين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. موضوعات متعلقة بسلوك معين، مثال: (التنمر، القلق، العدوانية)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. موضوعات عامة، مثل: (ضغوط العمل، الشخصية ، التعلم ، الدوافع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9" name="Picture 7" descr="http://qoll.net/wp-content/uploads/2015/11/%D8%A7%D9%84%D9%83%D8%AA%D8%A7%D8%A8%D8%A9-%D8%A7%D9%84%D8%A5%D8%A8%D8%AF%D8%A7%D8%B9%D9%8A%D8%A9.jpg"/>
          <p:cNvPicPr/>
          <p:nvPr/>
        </p:nvPicPr>
        <p:blipFill>
          <a:blip r:embed="rId1"/>
          <a:stretch/>
        </p:blipFill>
        <p:spPr>
          <a:xfrm>
            <a:off x="5049720" y="2036880"/>
            <a:ext cx="3289320" cy="3887640"/>
          </a:xfrm>
          <a:prstGeom prst="rect">
            <a:avLst/>
          </a:prstGeom>
          <a:ln w="0">
            <a:noFill/>
          </a:ln>
        </p:spPr>
      </p:pic>
      <p:sp>
        <p:nvSpPr>
          <p:cNvPr id="340" name="عنصر نائب للتذييل 7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21:20:42Z</dcterms:created>
  <dc:creator>Ali</dc:creator>
  <dc:description/>
  <dc:language>en-US</dc:language>
  <cp:lastModifiedBy>Abeer </cp:lastModifiedBy>
  <dcterms:modified xsi:type="dcterms:W3CDTF">2016-10-01T18:19:54Z</dcterms:modified>
  <cp:revision>336</cp:revision>
  <dc:subject/>
  <dc:title>2- Research Ideas</dc:title>
</cp:coreProperties>
</file>