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9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11.png" ContentType="image/png"/>
  <Override PartName="/ppt/media/image7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F2E-2AD1-46F1-94AD-F8A88EA8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D71-2646-4544-AF5A-EE7D9A62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B2E-72F6-4421-930F-A6C371FD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658-D70C-402E-93FE-63EDB7CE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98DB-71C8-4DEC-9CF6-E7C65F92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542F-5556-4522-9E07-C6F4E3DF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986F-61F4-4BD6-91E6-E1F361CB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B818-5B32-469C-BE4E-63930516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11C4-F33B-49B7-8F45-72F2F416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187B-CD1E-401F-B944-13C35296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0902-B99A-4E09-BED0-CB5B53E5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CFE-B3F4-4467-902F-2F24C78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2174-285D-479B-BD5E-1C7992BE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2BD4-55C0-424D-8579-B1F13141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0BAD-B363-4394-BE0F-D803E588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775B-252E-4502-B0C3-9A820B7A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26AA-B3CC-428B-9122-B7D2D68C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130E-8324-4722-9C6E-5C091401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1DD1-A2A9-4D2A-A2B8-07FF9E19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27C7-6DA5-45BE-8B7B-FDE95557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1D1D-A04C-41A2-9E5C-848186F6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5405-9F88-4FE3-BCD7-B2EAD505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B75-BA2A-48E7-BC8A-CCB3DEC1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1F82-B44B-4C7F-AB2F-22F29C14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6D272-E096-4F8E-97D9-A27A746A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0498-3A53-431C-8444-60494DD5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BDD5-CF75-432F-A03E-67A8A685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621E-7EE3-4A0A-9542-0DAA9731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D5D3-2986-4A2E-BEA7-ACC828E3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A6E3-B1CC-4571-A352-F32AA84D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5A99C-BCD8-4CC8-ABF2-3811BF4F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1E1D0-2F8F-48D1-958A-858CF7CD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4F0F-97AE-4354-B55A-69CD5F61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3FA-84B2-4D3E-9E35-E565B6F8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F0BCA-0816-4C7C-9CB0-0A433214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2556-BDBD-4F8B-8EF7-885DA7D0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887CD-22C7-4B21-9609-E8F5EF2E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72D4B-7ED0-4D92-BBDF-F460366A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BEC36-BC73-4D1D-B45C-7094A412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046E5-814C-4CB0-B8FE-B4688894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EE2BC-DD8D-44E5-ADF6-043B1755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A0DE6-95BA-43FC-B8A5-C7A41CFB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0E27E-D143-444F-8D51-6345E4A0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DB49-763C-45B1-91E6-992A7090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AD0-7FA7-4B32-8515-83C49DAA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44F5A-1F05-4ED0-849D-066763C8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4146-444F-498B-B435-946379C3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76C3A-EFF8-49A0-80FD-08263C22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9D2C7-9111-4BBA-8176-8E95DA17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029EC-4514-4C75-AAAD-60D213D0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C347C-FC04-4B3A-B509-239CB91B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93520-15EF-43FB-A115-6A91486F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E1674-2ABA-4679-81AD-E2FAA59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67675-0058-4E4D-A67B-E26D6CD2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8FECB-BB41-4BF5-89BE-36E251E3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38C-128B-41B5-BD86-AF0DE5F0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59868-D4F3-4FDE-AA57-FA475993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39D0F-B6AB-4E08-BD8E-36526A35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6F491-50BD-4058-834C-ED8E2456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9EF39-A78E-428B-B37E-A17F5381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957B2-67AF-43F6-9E86-85BF8149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13CF8-1FA8-4FEC-BCD6-5B4A3A43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BD743-2D38-441D-9D25-B90E141B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9CCF0-5E39-4E17-A419-D902BA1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3C6B5-3937-434C-891B-8BBBA400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3C223-872E-41AC-BF4F-55200692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A85-CA89-4C24-A400-929C1B8B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12D09-417C-468C-8FD7-CDE604E4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8667E-81A6-44F7-A4FF-8036D7DC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F1158-B756-400A-AC79-BB475DF2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7C9EB-CC05-4829-AD4E-C629C9DB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C06FD-26D5-4B0F-A821-5002C43B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427F1-9819-434B-9C64-C80192A2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A535B-583D-4C4A-9739-DF37EEFE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CD6C0-EDAE-4F88-BF12-A32FD102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627D3-7745-47D3-A589-79C797B9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5019D-DF08-4587-97E3-3D4DB23E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AF6-87AB-4971-A219-30C7D780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AD5B2-4092-4AFB-A808-26F01FCF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822AF-9720-4D75-905F-B5F9357C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18881-DA35-4F9E-89BD-62E0532D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4B680-47AB-4F8A-B0A7-A370CC6E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CE6A5-9A22-4C42-9EAB-0A8106E5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B64F9-E46A-4869-AD7A-11645781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079A5-4D72-4305-A742-34E0CB67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D3C6A-DDCD-4C91-9C31-2AA2AB7E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6F87B-321A-4E3E-8E93-C2F0F5C8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725CA-A165-4B3A-853F-4C09542A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0CA-B435-4AB9-A448-F9E5E919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063EB-F22B-4A24-B338-685D62F5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BFC7C-DA6D-4A99-A068-68788973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0DA62-A6BE-400E-A3EB-0C2D091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778F0-3346-4575-8B3F-AE8F5340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9B6E1-C794-4F1B-A5D0-B18A767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63F3B-2A16-433E-9D9A-12CB0183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40ACF-32A9-4584-A7BB-F2C5C55D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E036-3880-4D3D-9696-DCB7E4F2D8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32D0-10DC-4AE7-815A-51033165B8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20C6-70F1-477E-A230-72F96C133E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EE40-4DFA-4A25-B1DE-7DD31A5BEB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41A7-3780-46FB-9B8E-1F681071B3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0FE5-2714-4721-9A5E-637BD175AF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B89B-E041-46B3-8CA1-F077DE48A7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44B5-6C76-4DBF-A64D-E8B347DD27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1066680" y="-3956040"/>
            <a:ext cx="7821720" cy="7521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r.gif"/>
          <p:cNvPicPr/>
          <p:nvPr/>
        </p:nvPicPr>
        <p:blipFill>
          <a:blip r:embed="rId2"/>
          <a:stretch/>
        </p:blipFill>
        <p:spPr>
          <a:xfrm>
            <a:off x="0" y="152280"/>
            <a:ext cx="24382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خلال مقارنة الطلب بالعرض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نوعي والكمي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1292650059_140404567_1-Pictures-of--Sahara-HR-Consultants-Contact-us-for-all-kind-of-Jobs-in-Shimoga-404026.jpg"/>
          <p:cNvPicPr/>
          <p:nvPr/>
        </p:nvPicPr>
        <p:blipFill>
          <a:blip r:embed="rId2"/>
          <a:stretch/>
        </p:blipFill>
        <p:spPr>
          <a:xfrm>
            <a:off x="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فائض</a:t>
            </a: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ند ندرة سوق العمل (الحل هو اعادة التدريب والتأهيل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ا وفرة سوق العمل (فالحل هو تبني سياسة الاستغناء)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عج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عند ندرة سوق العمل مثل : تنشيط الاستقطاب ، التساهل في معايير الاختيار ،تكثيف التدريب رفع مستوى الأجور والمكافآت 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 اما عند وفرة سوق العمل: التعيين باعتبارات متشد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هو الإلمام الشامل بتفاصيل كل وظيفة عن طريق الدراسة العلمية لكل منها على حدة ، وملاحظة وتسجيل الحقائق التي توضح واجباتها ومسؤولياتها والظروف المحيطة بها والشروط الواجب توافرها في من يشغلها ، على أن تفرغ هذه المعلومات في كشوف تحليل الوظيفة تمهيدا لتوصيف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25494.jpg"/>
          <p:cNvPicPr/>
          <p:nvPr/>
        </p:nvPicPr>
        <p:blipFill>
          <a:blip r:embed="rId2"/>
          <a:stretch/>
        </p:blipFill>
        <p:spPr>
          <a:xfrm>
            <a:off x="0" y="0"/>
            <a:ext cx="135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  <a:cs typeface="Arial"/>
              </a:rPr>
              <a:t>يعني التسجيل المنظم لأبعاد الوظيفة ومكوناتها الأساسية والعوامل المحيطة بها في بطاقة أو كشف خاص لوصف الوظيفة كمستند لتعريف الوظيفة بحيث يعكس: عوامل التقييم الداخلة في تكوين الوظيفة ، ومهامها و واجباتها و مسؤولياتها والحد الأدنى من مطالب التأهيل اللازمة لشغلها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رقية والنق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79200" y="274680"/>
            <a:ext cx="8607600" cy="1200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people_puzzle_md_wm.jpg"/>
          <p:cNvPicPr/>
          <p:nvPr/>
        </p:nvPicPr>
        <p:blipFill>
          <a:blip r:embed="rId2"/>
          <a:stretch/>
        </p:blipFill>
        <p:spPr>
          <a:xfrm>
            <a:off x="-68400" y="3021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قصد بهم النشاط الإداري الذي يتعلق بالبحث عن المهارات المطلوبة للمنشأة ، وحث الأفراد الذين تتوافر لديهم الاشتراطات للتقدم للوظائف الشاغرة تمهيدا لاختيار أفضل المهارات للعمل بالمنشأة المعنية 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الترقية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نتقال العامل من وظيفة إلى وظيفة أخرى ذات مسؤوليات ومهام أعلى وبالتالي ذات راتب أعلى حاليا أو مستقبل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أسس الترقي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اقدم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أقدم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عني تحرك العامل من وظيفة إلى وظيفة أخرى على المستوى الإداري نفسه وبأجر مشابه ، وبأدنى تغير في الواجبات والمسؤوليات ، مع اختلافات في ظروف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*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التنزيل الوظيفي: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النقل إلى وظيفة أقل مسؤولية وراتب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1212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Job-Transfer.jpg"/>
          <p:cNvPicPr/>
          <p:nvPr/>
        </p:nvPicPr>
        <p:blipFill>
          <a:blip r:embed="rId2"/>
          <a:stretch/>
        </p:blipFill>
        <p:spPr>
          <a:xfrm>
            <a:off x="1752480" y="44956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برامج الرسمية التي تستخدمها المنشاة لأجل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ساعدة العاملين على كسب الفاعل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للقيام بأعماله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training.gif"/>
          <p:cNvPicPr/>
          <p:nvPr/>
        </p:nvPicPr>
        <p:blipFill>
          <a:blip r:embed="rId2"/>
          <a:stretch/>
        </p:blipFill>
        <p:spPr>
          <a:xfrm>
            <a:off x="0" y="19051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عبارة عن التقييم الدوري لأداء الفرد لوظيفته ومدى اتجاه قدراته وامكانياته نحو التقد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ويفيد تقييم الأداء في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كتشاف الحاجات التدريب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حكم على فعالية سياسة 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وفير معلومات عن العاملين تساعد في تخطيط القوى العام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ح العلاوات والترقية وتنمية الموظ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866529_feedback_form_excellent.jpg"/>
          <p:cNvPicPr/>
          <p:nvPr/>
        </p:nvPicPr>
        <p:blipFill>
          <a:blip r:embed="rId2"/>
          <a:stretch/>
        </p:blipFill>
        <p:spPr>
          <a:xfrm>
            <a:off x="0" y="2666880"/>
            <a:ext cx="14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فهوم وأهدا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وظائ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3352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وظيفة الأفرا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أنشطة المختلفة التي تمارسها الوحدة التنظيمية المسؤولة عن تدبير القوى العاملة اللازمة للمنظمة ، كما ونوعا وتوقيتا والمحافظة عليها وتعويضها وتنميتها وتحفيز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إدارة الأفراد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2b4a76"/>
                </a:solidFill>
                <a:latin typeface="Lucida Sans Unicode"/>
                <a:cs typeface="Arial"/>
              </a:rPr>
              <a:t>هي الكيفية التي يتعامل بها كل مدير مع مرؤوسيه ليصل بهم إلى تحقيق الأهداف المراد تحقيقها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5e2d37"/>
                </a:solidFill>
                <a:latin typeface="Lucida Sans Unicode"/>
                <a:ea typeface="Arial"/>
              </a:rPr>
              <a:t>*إذن ........ هي وظيفة كل مدير بينما ....... هي أحد وظائف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ea typeface="Arial"/>
              </a:rPr>
              <a:t>*أهداف إدارة الأفراد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خطيط الموارد البش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ليل وتصميم الوظائ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ستقطاب والاختيار والتعي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دريب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ييم الأدا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عويض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صحة والسلام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goals.jpg"/>
          <p:cNvPicPr/>
          <p:nvPr/>
        </p:nvPicPr>
        <p:blipFill>
          <a:blip r:embed="rId2"/>
          <a:stretch/>
        </p:blipFill>
        <p:spPr>
          <a:xfrm>
            <a:off x="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تخطيط الموارد البش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هي تقدير احتياجات المنشأة من الأفراد كما ونوعا خلال المدة القادمة مع تحديد الوظائف التي يشغلونها ، والمؤهلات المطلوب توافرها فيمن يشغل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untitledhrr.bmp"/>
          <p:cNvPicPr/>
          <p:nvPr/>
        </p:nvPicPr>
        <p:blipFill>
          <a:blip r:embed="rId2"/>
          <a:stretch/>
        </p:blipFill>
        <p:spPr>
          <a:xfrm>
            <a:off x="304920" y="4267080"/>
            <a:ext cx="6858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دراسة أهداف التنظي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دير الطل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نبؤ العر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الفائض أو 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ستراتيجيات مواجهة الفائض و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536400" y="24912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hild-development-baby-milk.jpg"/>
          <p:cNvPicPr/>
          <p:nvPr/>
        </p:nvPicPr>
        <p:blipFill>
          <a:blip r:embed="rId2"/>
          <a:stretch/>
        </p:blipFill>
        <p:spPr>
          <a:xfrm>
            <a:off x="152280" y="1371600"/>
            <a:ext cx="3353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ontent Placeholder 3" descr="HRJigsaw.gif"/>
          <p:cNvPicPr/>
          <p:nvPr/>
        </p:nvPicPr>
        <p:blipFill>
          <a:blip r:embed="rId1"/>
          <a:stretch/>
        </p:blipFill>
        <p:spPr>
          <a:xfrm>
            <a:off x="1542960" y="2104920"/>
            <a:ext cx="6058080" cy="3381480"/>
          </a:xfrm>
          <a:prstGeom prst="rect">
            <a:avLst/>
          </a:prstGeom>
          <a:ln w="0">
            <a:noFill/>
          </a:ln>
        </p:spPr>
      </p:pic>
      <p:pic>
        <p:nvPicPr>
          <p:cNvPr id="386" name="Titl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852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نوعية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 عدد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أجل اختيار الفرد المناسب وتعيين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project_management3.jpg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بيئة الخارجية المؤثرة على العم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الح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في فئات العمر المختلف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سياسة الترقي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ظاهر الغياب ودوران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45:50Z</dcterms:created>
  <dc:creator>Dell</dc:creator>
  <dc:description/>
  <dc:language>en-US</dc:language>
  <cp:lastModifiedBy>Sultan H. Binsaeed</cp:lastModifiedBy>
  <dcterms:modified xsi:type="dcterms:W3CDTF">2015-11-25T18:10:34Z</dcterms:modified>
  <cp:revision>68</cp:revision>
  <dc:subject/>
  <dc:title>الموارد البشرية</dc:title>
</cp:coreProperties>
</file>