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155-F773-4331-AE4B-C869789E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CEB-D72F-4D98-A874-1C18758C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386-0916-45C1-9068-1575FA90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B3F-7ACE-4F7D-91AD-EB42DC19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99F-418B-45EB-94A5-1278FF82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70A3-A866-4BBE-ABD8-DE570BA8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B853-BA86-4BCE-A25C-BA18979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3CBC-931B-4274-9E0E-5F5EDD05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073-848B-4ADA-BC33-1E89899E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BD73-E1E2-44B9-B8C1-25AA6309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0249-6028-4B4B-AF8E-9443A5A4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35E-6F73-4200-B72B-7F7204F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C611-AE3D-490D-9EDD-FCDD350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63B7-3B3F-4395-8CE6-0441D31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C940-FF6A-42B7-8A63-B7AC7AD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0E29-87C5-4A55-A2C8-94DAC61F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963-46CA-479E-8E30-112EF77D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AE37-E6E0-4D1A-A615-2249F213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1CE3-1D47-4382-A657-448430EE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4BA3-FA7F-4927-8A97-A22C7EDC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6A57-3595-471A-B38E-DE615365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8A04-E82B-4EBC-825A-ED3A204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C49-D24D-411A-983E-88BC84C4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84D1-7DD0-42A5-A948-DC9B93C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4084-085A-4DF4-AC2D-11DD4D4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FE2E-67E9-4F96-B3CA-F75AE83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B818-6C9C-4C6F-BD18-7F584857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0163-9050-4D00-ACCD-D5A16014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6B42-C62C-45DF-B6B6-5F3D1523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8886-E335-4190-B2B0-0390B738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F155-0964-48BD-934E-620029B9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6185-6DCD-44B7-AF17-D051839A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DF3F-8726-40C7-87B7-7C2824C8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6C5-BA2B-4370-A499-01FCDBF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0B3C-5999-4B7C-865B-81EB11BF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47FE-18A1-4CF4-88D6-7B651C0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519C-8E41-4029-BFF5-85D450F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9410-6547-4060-A76C-907AA657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8AE4-53C3-4CD8-A693-FFCD57C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BA2C-3B76-4EE6-AF79-096EC05F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E04F-99D2-4EDA-BCAB-88EDA99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C9D6-DC6D-4133-ABBB-9E11600A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7982-49E0-404B-AF6A-68644520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23E7-B89A-43AA-999B-3AF291A8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E6A-C1FE-46DE-B41F-2F47026F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AA50-6819-4A8B-9B6A-4A819222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079A-BCE8-4FA4-80AB-000A53FE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D56F7-E1A6-4517-867C-C199CA55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DAFA-6241-40D4-9D0B-EC6BBE5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DECA-D55C-43BB-889D-A4BCC13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56C4D-C3F0-4EC7-B1EC-1A6860C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CA45-CE43-43D3-9A6E-184BD2A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3A287-4386-4A9D-A2E5-6394611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B9C8-57B6-4CA6-A0AE-45877123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E6DF-22F1-4B33-A4F9-3258CDC8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9B5-168E-4CD5-A4ED-61E0A4C4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4DF34-14CF-4BFA-BE51-C34F5DD3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F540-B655-4CCB-9102-AFD349EA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518A-6A2D-49F7-A89C-7C8FD83B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69F0-60C4-445C-96DC-CDEF9AEF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8ED0-958B-4A48-ABB6-A9232B8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7F05-33E1-4745-A41C-C48D1DC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740F-7EC6-4242-9179-24F079C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125B-B785-4A2D-A188-B762112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FF86-792F-4970-B35F-9B80915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C7740-8735-4185-9761-D4A05E3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658-6D80-43BB-9515-2224A9F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0ABF-64C3-4F1D-BECE-CBE5921A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9C8C-F775-4D1E-939B-DD5ED3E1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DF726-EB96-42B1-B7A9-A44C12C2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069B-BE2B-4024-8147-FE887588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0A16-C8F7-4A1C-8F79-AF54AEE2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B4B1-C529-4ECC-A684-941398D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04A7-B299-4753-A6C3-11A58C0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E3328-4C6C-4389-989D-A2D8405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E8FA-1646-41A3-B02A-3ADB130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A74B-5492-49D7-B08E-1055B7B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826-EA74-4E6A-96DF-E2257006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FFCC-3DB5-44CB-9840-678D285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73747-8F4E-47C2-B027-1FA3EAD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AB25-3856-4CD2-A9AA-717FBEE1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2E5C-A53E-4AC7-85F5-A91E40C5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F628D-7CFF-432E-87B0-86FA029C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BFF3-C618-4E0D-B3CE-30CBA61A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0D520-48BD-4688-A60C-D959505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798E0-45DA-41D4-B2A8-4D84A22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B74F-A54D-4A1B-8B5F-EAAFAF42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9131-E451-40F2-B2AC-039DC91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323-364B-4657-B0BE-9F9216E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D5C99-5C8C-4772-83EB-CEE35B7A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8CFF7-053B-44FC-B58D-C457566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0FB6-C04E-49F3-9CE5-30ACCCC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C7105-B3F7-4A3F-9ACF-61D22B6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37203-B9BA-4D8E-A8C5-11B3C61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F414-5BFF-4724-8F90-E5D7DF6B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6953F-8492-447C-AFFC-48042E61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EAD3-ADCA-4258-850B-C23ED1AA0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9E0-C65B-4AE5-827E-274033F69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605D-8DBC-49D1-9E60-4137AE449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6B4-0600-42A1-AF8F-B3FC29343D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D827-5CFF-4E2D-9AA2-82D4B52C2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700D-60BE-48ED-977C-5E3C8BD9DC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0ACC-1209-4979-AF14-0E4FCA91AC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A5C-764E-4E88-A129-DC8300563A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-3956040"/>
            <a:ext cx="7821720" cy="7521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607600" cy="1200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فهوم وأهدا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ظائ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أفرا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أفراد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5e2d37"/>
                </a:solidFill>
                <a:latin typeface="Lucida Sans Unicode"/>
                <a:ea typeface="Arial"/>
              </a:rPr>
              <a:t>*إذن ........ هي وظيفة كل مدير بينما ....... هي أحد وظائف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ea typeface="Arial"/>
              </a:rPr>
              <a:t>*أهداف إدارة الأفرا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85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Sultan H. Binsaeed</cp:lastModifiedBy>
  <dcterms:modified xsi:type="dcterms:W3CDTF">2015-11-25T18:10:34Z</dcterms:modified>
  <cp:revision>68</cp:revision>
  <dc:subject/>
  <dc:title>الموارد البشرية</dc:title>
</cp:coreProperties>
</file>