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2A65-0578-445E-8D6F-1D0920840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0BF2-EFF9-4789-AEC8-0254EEC12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4EDE-6FB9-4FEC-A49E-221B8B73E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0041-948E-4158-A116-FE8CFAEC7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8E64-DC60-4FF1-AD27-649B1403C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230B-B95A-40B2-9DD4-4AC83BE36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EBAF-D585-46AA-A626-7935DFB92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9A28-799B-445D-932B-3F5334467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3824-0436-4E28-A8EF-E9CAF5098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FB1F-CB68-45FE-99A2-5315D1C4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9731-8BEB-40C6-96CD-8FA22221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7ED8-CEE5-4ECE-9DDB-13D47484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E972C-52F6-4C0C-AF22-95D933994AA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214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إدارة التسوي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Candy-Shop-candy-235358_415_600.jpg"/>
          <p:cNvPicPr/>
          <p:nvPr/>
        </p:nvPicPr>
        <p:blipFill>
          <a:blip r:embed="rId1"/>
          <a:stretch/>
        </p:blipFill>
        <p:spPr>
          <a:xfrm>
            <a:off x="785880" y="1714680"/>
            <a:ext cx="785808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00720" y="1483920"/>
            <a:ext cx="4257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4f81bd"/>
                </a:solidFill>
                <a:uFillTx/>
                <a:latin typeface="Calibri"/>
              </a:rPr>
              <a:t>المحتويا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عنصر نائب للمحتوى 3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3460680" cy="5318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3851280" y="2781000"/>
            <a:ext cx="483552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مفهوم التسوي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عناصر المزيج التسويقي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68360" y="333360"/>
            <a:ext cx="8229600" cy="564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800080"/>
                </a:solidFill>
                <a:latin typeface="Times New Roman"/>
                <a:cs typeface="Times New Roman"/>
              </a:rPr>
              <a:t>مفهوم التسوي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و نشاط انساني يعمل على اشباع رغبات واحتياجات كل من المنتج والمستهلك عن طريق عملية التبادل بينه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     </a:t>
            </a:r>
            <a:r>
              <a:rPr b="0" lang="ar-SA" sz="24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ويجب التفريق بين ثلاثة مصطلحات وهي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(( التسويق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ar-SA" sz="24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والمفهوم التسويق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ar-SA" sz="24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وإدارة التسويق)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التسويق: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ملية إدارية تحدد مجموعة الانشطة التسويقية اللازمة لتحقيق الأهدا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المفهوم التسويقي:</a:t>
            </a:r>
            <a:r>
              <a:rPr b="0" lang="ar-S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لسفة او طريقة من احدى طرق التفكير التي يتبناها رجال التسويق في الشرك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إدارة التسويق :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جهة المسؤولة عن تطبيق المفهوم التسويقي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Calibri"/>
              </a:rPr>
              <a:t>عناصر المزيج التسويقي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4p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Content Placeholder 3" descr="4Ps.jpg"/>
          <p:cNvPicPr/>
          <p:nvPr/>
        </p:nvPicPr>
        <p:blipFill>
          <a:blip r:embed="rId1"/>
          <a:stretch/>
        </p:blipFill>
        <p:spPr>
          <a:xfrm>
            <a:off x="700200" y="1600200"/>
            <a:ext cx="7743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147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1f497d"/>
                </a:solidFill>
                <a:latin typeface="Calibri"/>
              </a:rPr>
              <a:t>أولاً: المنتج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476000" y="1125000"/>
            <a:ext cx="72104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Calibri"/>
              </a:rPr>
              <a:t>تعريف المنتج: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هو كل ما يمكن بيعه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Calibri"/>
              </a:rPr>
              <a:t>أشكال المنتج:  </a:t>
            </a:r>
            <a:r>
              <a:rPr b="0" lang="ar-SA" sz="2800" spc="-1" strike="noStrike">
                <a:solidFill>
                  <a:srgbClr val="254061"/>
                </a:solidFill>
                <a:latin typeface="Calibri"/>
              </a:rPr>
              <a:t>(سلعة مادية ، خدمة ، فكرة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Calibri"/>
              </a:rPr>
              <a:t>إذن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Calibri"/>
              </a:rPr>
              <a:t>السلع هي .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Calibri"/>
              </a:rPr>
              <a:t>الخدمات هي .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Calibri"/>
              </a:rPr>
              <a:t>وتقسم إلى مجموعتين هما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سلع الاستهلاكي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سلع الصناعية</a:t>
            </a:r>
            <a:r>
              <a:rPr b="0" lang="ar-SA" sz="28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trademarksoftheworld.jpg"/>
          <p:cNvPicPr/>
          <p:nvPr/>
        </p:nvPicPr>
        <p:blipFill>
          <a:blip r:embed="rId1"/>
          <a:stretch/>
        </p:blipFill>
        <p:spPr>
          <a:xfrm>
            <a:off x="41400" y="2781360"/>
            <a:ext cx="47862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1f497d"/>
                </a:solidFill>
                <a:latin typeface="Calibri"/>
              </a:rPr>
              <a:t>ثانياً: التسعي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يعد من أصعب القرارات التسويقي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أهداف التسعير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عظيم الربح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حقيق حجم مبيعات كبي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حفاظ على استقرار السو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wp42053654.jpg"/>
          <p:cNvPicPr/>
          <p:nvPr/>
        </p:nvPicPr>
        <p:blipFill>
          <a:blip r:embed="rId1"/>
          <a:stretch/>
        </p:blipFill>
        <p:spPr>
          <a:xfrm>
            <a:off x="0" y="4071960"/>
            <a:ext cx="4071960" cy="2786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lowprice.jpg"/>
          <p:cNvPicPr/>
          <p:nvPr/>
        </p:nvPicPr>
        <p:blipFill>
          <a:blip r:embed="rId2"/>
          <a:stretch/>
        </p:blipFill>
        <p:spPr>
          <a:xfrm rot="21324000">
            <a:off x="1832040" y="2513880"/>
            <a:ext cx="2395440" cy="1803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m1.jpg"/>
          <p:cNvPicPr/>
          <p:nvPr/>
        </p:nvPicPr>
        <p:blipFill>
          <a:blip r:embed="rId3"/>
          <a:stretch/>
        </p:blipFill>
        <p:spPr>
          <a:xfrm>
            <a:off x="0" y="0"/>
            <a:ext cx="236052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0" y="0"/>
            <a:ext cx="4572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1f497d"/>
                </a:solidFill>
                <a:latin typeface="Calibri"/>
              </a:rPr>
              <a:t>ثالثاً: الترويج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627280" y="1071360"/>
            <a:ext cx="65167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هو عملية الاتصال بالجمهور بهدف التأثير على سلوكه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عناصر الترويج</a:t>
            </a:r>
            <a:r>
              <a:rPr b="0" lang="ar-SA" sz="2400" spc="-1" strike="noStrike">
                <a:solidFill>
                  <a:srgbClr val="ff0000"/>
                </a:solidFill>
                <a:latin typeface="Calibri"/>
              </a:rPr>
              <a:t>( المزيج الترويجي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إعلا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بيع الشخصي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دعاية والنش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تنشيط المبيعا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تسويق المباش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" descr="3558228218_f3f0420f9a.jpg"/>
          <p:cNvPicPr/>
          <p:nvPr/>
        </p:nvPicPr>
        <p:blipFill>
          <a:blip r:embed="rId1"/>
          <a:stretch/>
        </p:blipFill>
        <p:spPr>
          <a:xfrm>
            <a:off x="0" y="1557360"/>
            <a:ext cx="45720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5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0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5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0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5" dur="2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0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5" dur="20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1f497d"/>
                </a:solidFill>
                <a:latin typeface="Calibri"/>
              </a:rPr>
              <a:t>رابعاً: التوز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هو المهمة التي يتم من خلالها نقل السلع والخدمات من مصادر انتاجها إلى المستهلك الأخير، وعن طريقه يتم نقل المنافع الزمانية والمكانية ومنفعة الحيازة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pike_place_market.jpg"/>
          <p:cNvPicPr/>
          <p:nvPr/>
        </p:nvPicPr>
        <p:blipFill>
          <a:blip r:embed="rId1"/>
          <a:stretch/>
        </p:blipFill>
        <p:spPr>
          <a:xfrm>
            <a:off x="0" y="3286080"/>
            <a:ext cx="91440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16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2"/>
          <a:stretch/>
        </p:blipFill>
        <p:spPr>
          <a:xfrm>
            <a:off x="0" y="4869000"/>
            <a:ext cx="91440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neral</dc:creator>
  <dc:description/>
  <dc:language>en-US</dc:language>
  <cp:lastModifiedBy>Sultan H. Binsaeed</cp:lastModifiedBy>
  <dcterms:modified xsi:type="dcterms:W3CDTF">2015-11-25T18:08:03Z</dcterms:modified>
  <cp:revision>28</cp:revision>
  <dc:subject/>
  <dc:title>إدارة التسويق</dc:title>
</cp:coreProperties>
</file>