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C8B-6185-4AF2-ACC5-270BCABF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3C5-970B-4E1B-A4A4-B9A709E5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C83-A40B-40C5-ACB8-8DD36EBE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418-2E67-4E70-867E-17FF4AF0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86C-B580-4E3F-AB97-887F22EC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C44-CF77-496E-B16C-F7E97D94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210-7797-41C1-9878-357F434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713-5125-4CAD-BE2A-18B018D1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044-12CD-4ADC-8F9E-1EC22D1E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C96-1FCB-4C4E-BB72-A43089B8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58C-8688-490A-A185-0CD7ED1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16C-FA2C-482E-9638-6C28F062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2DA4-9DC2-47E3-9A40-ABDB34EE27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Sultan H. Binsaeed</cp:lastModifiedBy>
  <dcterms:modified xsi:type="dcterms:W3CDTF">2015-11-25T18:08:03Z</dcterms:modified>
  <cp:revision>28</cp:revision>
  <dc:subject/>
  <dc:title>إدارة التسويق</dc:title>
</cp:coreProperties>
</file>