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66E-7FDF-457B-A2A9-720861B7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BB4-115B-450C-82DB-E155FA8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97B-3A76-40BB-B07D-F465BF17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422-AE17-4201-B724-68692938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4D5F-F87D-4F1E-98A7-E9FAFA54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6E5-8380-42E9-947C-BBB0434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190-3284-42B6-B54E-3A36C04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8394-250B-4DF9-BB72-47F32C09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A3A6-48E4-41B7-B9CA-82AAF4A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1F2E-BBF4-47AB-BAAB-39E6C17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B77-4B7D-429A-8137-3B0F0BF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42D-97C6-4BA4-ADFB-B6CD06C2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FBCE-3D55-49E3-814F-81DE550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B396-AEDA-4B45-8C00-EA39340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40F0-9953-420E-82CD-0969DDE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1644-8F95-46CC-B52B-3DDA2C3C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51BE-9699-4FB4-9E82-E475815A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82E0-9895-4007-9D8E-A847AE19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2BB2-7C05-409F-A99B-CFFA5308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8E6E-34F5-4A10-A178-80DDF8B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A1C8-9D59-4750-8C83-B420388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38C5-E5E4-4173-8A87-41C24EC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EBA-0A20-488F-A252-3EDB106C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6F91-893B-4117-BD2E-9AAD4A1D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8274-F92D-402C-B8B9-9A2FF4E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180F-F8ED-4000-998A-6D8B62D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5838-D812-480D-8EE7-2B057A45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D74E-5F61-4A72-92E3-EF438FB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D04D-E02D-4A19-96AC-59227710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D0E8-5B14-4733-96B1-82378418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A256-08CB-45A8-9F6C-BAEF3191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2729-DF54-49C6-A1F7-77D4727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3AA6-8266-4569-BC92-FA3B6B2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6C2-F2BA-49E0-94C0-3859CD92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0612-439C-4208-A744-8DDAB83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9D69-5484-4590-8FA9-6D3C7809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88E0-6E4F-45FE-A597-4C305AF2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3B32-4047-4408-AA51-30B626E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38A4-72EA-43C6-A004-EADD696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185E-B46A-4CD7-80B9-203EE64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AD23-6D9F-4CE9-99A4-1BB918F6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D015-4336-4C27-9826-F63ECD8B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EA13-8E94-48F8-B846-38CD833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F630-D503-4C33-92A1-A4034D6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852-C63C-481A-8C6D-14B406D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0E573-6B61-4D50-AD12-D221F13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DDEE-8595-44D6-A259-9740602E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57A2-4FE5-40A6-9C76-251AA7B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867F-190F-4852-A0D7-7A27A5C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7702-6390-4C70-AA40-D89130A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135E2-D0F3-4991-83D2-9AAEE746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4D19-23BF-41F1-BCE9-7CB4A40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F67C-95E5-4556-AC21-97D6DC5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A18F-066A-43DB-BF35-18E6BD3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27122-2443-453E-A322-B2AE1ADD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202-9E9B-4703-A9C3-7AAF2946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62ED-FA88-4515-A140-9509C3C6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B9D5-BBE2-4715-87B1-6E8B76F5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1CA0-3992-45AA-AC2C-F592263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C29C-91D0-4BD2-8A24-4C36F49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E617-F314-486D-A607-94DDA484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FA35-43EA-45AF-AAF4-30725816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3D7F-9088-4826-8945-490D8C4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9702-1961-4609-8BA9-FEF7243B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55FF-86F2-474D-A025-7031F70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1066-BE88-40D7-8793-F232CBE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0BD-6196-418F-ADAD-AE2E713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FFFD-4287-435B-95DB-FE11E2F0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EAD9-AB93-4363-A23F-925430D8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F50F-7D2E-463C-93B4-9A860DB2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AE81-2C43-4F4D-A381-49B0EAD4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7FF5-CAA3-4D6C-8683-C6AE6FA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C1527-9E89-4DDF-8D55-29D831A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D1CB-037B-4F09-A1ED-8ECB555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28CE-CB35-49B7-9B76-90E61CE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18C3-8275-45EF-A8AF-57DCDE2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1247-A589-401B-9A6D-D201E81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FA1-DDE7-4C72-A04C-914297F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022A-FB23-4980-855C-11947DC6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BB52-3408-419A-ABDF-7312C490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78DF-FE3C-4276-8762-54FB9254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F8C6-4209-4523-B56C-3321E06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0439-4AF8-44E4-966B-D1827DEF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7C7-1413-4E2B-A523-71B6B20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8F68-7431-4EBB-B19E-B558AF12F93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9E4-19F3-4175-BD94-6F565BA864B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618-A09E-4190-8B14-398625FE829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481-5EC1-4694-B798-2645D3005F7E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7E5-4E8F-4FEB-9097-B73CD943C37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D81-C29C-46BF-8B61-B4898C71F16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911F-DE45-44F6-9319-C4C606065BB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5-12-09T22:17:03Z</dcterms:modified>
  <cp:revision>57</cp:revision>
  <dc:subject/>
  <dc:title>التسويق..</dc:title>
</cp:coreProperties>
</file>