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1167-7922-4479-93C4-4284E3CF3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9A22-8B76-49B1-95A4-2DCA621FB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9C66-16E4-4506-B4BB-CB8F24C5B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5E6E-22CA-4EA9-A2D7-5CE436788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36EB5-88AA-4969-AE62-5B8228E8A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B71E2-307C-41C0-8F6A-51BCFAFB2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E536D-AB88-4FAE-9743-080823098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021FC-92E7-49A4-8099-5519A2E3E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E7E03-82E6-4F65-AECB-32EB88977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7120C-AF67-4AAD-A04E-75235FEB8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01159-A11D-49CD-8508-96D08320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9DEC-2B99-4CAB-AEA2-033A53C3C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78D4C-E6BF-46CE-9262-CCB2D121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B63D4-3AC5-4232-B208-C536B3D93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44C82-DAA2-40E3-AFBA-EA9104A68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3AE74-CEFD-40FB-AF75-F3859AF8D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97EA6-7756-479A-891D-4395499CA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ABE53-9964-4C33-ADAC-8A219DE15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2A994-176B-4C81-A19E-33A934E7F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E12B8-49C8-46F3-B715-36692AD71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B8364-C18C-498F-9E4D-8CD055F21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ECE28-AE4A-4642-99BE-87362881A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352F-3255-484B-A2B0-D5B6AE074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369D0-2FFC-4CCB-9F69-6AC6EF68E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D87FD-FE62-468E-8BC7-7C394EB21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B0C2F-AE62-4A1E-AD76-532A29EA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90E34-EA98-47C5-8F6D-1280EE7A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B67D5-AF39-40DA-851C-520D2C0EE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5D366-4872-4BB0-BD2A-E42289492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A9CE3-4FAC-48BA-B0B3-877D78E74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82BE8-F13B-43AE-817C-B5B7EF38D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F809C-4AB0-49E1-83D3-50E9C1CF3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53CA1-409F-4590-AEDE-E41DC618D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0BAA-61E5-4E03-9D62-D2C97559A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EF8AC-65A5-4FAA-BB72-76F16445C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76DEC-0E3C-4333-B8CA-A9DC0858E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A8ADF-D13C-4906-AF92-E6686C2FD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A9616-3C34-485C-9E08-0E6011D50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58FCC-68E4-436D-AFB6-CC739E0F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83D52-6D43-48AF-BF87-CEDB28F6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85EB4-8A17-4C4F-ACEF-59463635C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0165F-86F4-40B0-8BF9-07331F333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02A5B-E853-4016-A1FA-13E435BE6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EA9380-29E1-4103-AA02-4954AD1B5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5D5A-05FD-4F33-841D-88EF4E49F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6C94CE-EC05-4B5D-ABE7-F6AE171C5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E8A1F-6524-472F-81F4-D58E52845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F21123-2083-43C5-BEF3-55484D527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478AB6-619F-493F-9796-B0D776079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130ECD-92CF-4CEE-BF06-F1752DFB9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1D7C64-7A0A-41ED-B258-33566F23D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FFF210-E7F0-4E7B-8B2B-29D0FCD0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1401E-B1EE-4334-BB72-F3943396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5EB9A-04AD-4ADD-A76F-B7058C317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D0B0FF-D60A-46E1-AA22-C216B34B5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15D0-5460-490A-BE9B-4DADF9C3D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0B53CA-7D34-4E82-9AE1-478C8212D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64525F-325D-4C68-858F-823284B75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919829-C8EB-4678-B132-630215CBF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A862E3-1B3A-4242-A99D-10E43A478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2594F-6AB1-43E7-90C1-8A3A6867C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0FF4BD-F797-44A1-8279-BB47B6989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CA224-4BB1-4B87-BB6E-34BA14B5C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D71B54-4CBC-4EE7-9342-A1F283487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0B2915-5895-4AED-8B86-94338C9A9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E69AAC-692E-4CE9-9B03-BCB628EA1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EFAB-1F92-4888-8FF1-DC31237DB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F872E3-9FE8-4937-B6B2-A69FB8DA6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D45960-E8DC-42DD-A8B3-04CBF3D03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F01FE9-0D98-427D-B6C1-72EC39592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024DBB-9890-4BD4-BBF9-D62448562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F49573-74B8-45B4-85DC-E6000B395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6C2B1D-0345-4A62-A47E-67EA471F0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49AB50-CB98-46DA-A9E2-EFCA0C678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A9D51F-2A05-4528-A9ED-F23F9E98C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707F91-3C82-4CE7-B2A3-96B9CD60D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8E7DDA-D841-4DEE-BED8-18091A5E2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A53F-6F93-4971-86F1-AEC97EE84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C0A772-D7E3-4D43-941C-9F6E4D4B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E8F5C3-AF60-466F-B572-F903AD9CE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8F32CC-7866-4B95-AD61-A562A41CB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11154F-8CD4-478E-8A27-E5AE755BA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2F8C47-8C20-462B-B892-0AC6E75D9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AF12-5420-4431-8CA0-C08EBC24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مستطيل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مستطيل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مستطيل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مستطيل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مستطيل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مستطيل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مستطيل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مستطيل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مستطيل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896B0-D050-4C88-9A40-88218A69E95A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مستطيل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مستطيل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مستطيل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مستطيل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مستطيل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مستطيل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مستطيل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مستطيل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مستطيل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9E41F-AE35-4E86-9D54-03C6D78D39E6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مستطيل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مستطيل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مستطيل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مستطيل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مستطيل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مستطيل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" name="مستطيل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مستطيل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مستطيل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شكل حر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شكل حر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شكل حر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شكل حر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شكل حر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شكل حر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شكل حر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شكل حر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شكل حر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شكل حر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شكل حر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شكل حر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شكل حر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شكل حر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" name="شكل حر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مستطيل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مستطيل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مستطيل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مستطيل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مستطيل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مستطيل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1BBEB-CDA5-4543-8E61-F54A91E53938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8CDA1-6108-4EAD-A846-4608716259C8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مستطيل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مستطيل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4" name="مستطيل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5" name="مستطيل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6" name="مستطيل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7" name="مستطيل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8" name="مستطيل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9" name="مستطيل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0" name="مستطيل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1" name="مستطيل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DAA7B-7BD0-41AF-B7CA-109C88F701EA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DF7F8-E625-486C-AEB6-39731FDBF138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مستطيل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5" name="مستطيل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6" name="مستطيل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7" name="مستطيل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8" name="مستطيل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9" name="مستطيل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0" name="مستطيل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1" name="مستطيل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2" name="مستطيل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3" name="مستطيل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4" name="رابط مستقيم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315" name="مجموعة 19"/>
          <p:cNvGrpSpPr/>
          <p:nvPr/>
        </p:nvGrpSpPr>
        <p:grpSpPr>
          <a:xfrm>
            <a:off x="8516520" y="1217520"/>
            <a:ext cx="128520" cy="131400"/>
            <a:chOff x="8516520" y="1217520"/>
            <a:chExt cx="128520" cy="131400"/>
          </a:xfrm>
        </p:grpSpPr>
        <p:sp>
          <p:nvSpPr>
            <p:cNvPr id="316" name="رابط مستقيم 20"/>
            <p:cNvSpPr/>
            <p:nvPr/>
          </p:nvSpPr>
          <p:spPr>
            <a:xfrm>
              <a:off x="8573760" y="121752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17" name="رابط مستقيم 23"/>
            <p:cNvSpPr/>
            <p:nvPr/>
          </p:nvSpPr>
          <p:spPr>
            <a:xfrm>
              <a:off x="8516520" y="1282680"/>
              <a:ext cx="1008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18" name="رابط مستقيم 24"/>
            <p:cNvSpPr/>
            <p:nvPr/>
          </p:nvSpPr>
          <p:spPr>
            <a:xfrm flipV="1">
              <a:off x="8573760" y="128232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319" name="مجموعة 25"/>
          <p:cNvGrpSpPr/>
          <p:nvPr/>
        </p:nvGrpSpPr>
        <p:grpSpPr>
          <a:xfrm>
            <a:off x="8669520" y="1370160"/>
            <a:ext cx="128520" cy="131400"/>
            <a:chOff x="8669520" y="1370160"/>
            <a:chExt cx="128520" cy="131400"/>
          </a:xfrm>
        </p:grpSpPr>
        <p:sp>
          <p:nvSpPr>
            <p:cNvPr id="320" name="رابط مستقيم 26"/>
            <p:cNvSpPr/>
            <p:nvPr/>
          </p:nvSpPr>
          <p:spPr>
            <a:xfrm>
              <a:off x="8726760" y="137016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1" name="رابط مستقيم 27"/>
            <p:cNvSpPr/>
            <p:nvPr/>
          </p:nvSpPr>
          <p:spPr>
            <a:xfrm>
              <a:off x="8669520" y="1435320"/>
              <a:ext cx="10116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2" name="رابط مستقيم 28"/>
            <p:cNvSpPr/>
            <p:nvPr/>
          </p:nvSpPr>
          <p:spPr>
            <a:xfrm flipV="1">
              <a:off x="8726760" y="143496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323" name="مجموعة 29"/>
          <p:cNvGrpSpPr/>
          <p:nvPr/>
        </p:nvGrpSpPr>
        <p:grpSpPr>
          <a:xfrm>
            <a:off x="8321400" y="1473120"/>
            <a:ext cx="128520" cy="131400"/>
            <a:chOff x="8321400" y="1473120"/>
            <a:chExt cx="128520" cy="131400"/>
          </a:xfrm>
        </p:grpSpPr>
        <p:sp>
          <p:nvSpPr>
            <p:cNvPr id="324" name="رابط مستقيم 30"/>
            <p:cNvSpPr/>
            <p:nvPr/>
          </p:nvSpPr>
          <p:spPr>
            <a:xfrm>
              <a:off x="8378640" y="147312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5" name="رابط مستقيم 31"/>
            <p:cNvSpPr/>
            <p:nvPr/>
          </p:nvSpPr>
          <p:spPr>
            <a:xfrm>
              <a:off x="8321400" y="1538280"/>
              <a:ext cx="1008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6" name="رابط مستقيم 32"/>
            <p:cNvSpPr/>
            <p:nvPr/>
          </p:nvSpPr>
          <p:spPr>
            <a:xfrm flipV="1">
              <a:off x="8378640" y="153792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0AD9C-A9C9-4152-A67B-5216171E6765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Rectangle 2" descr=""/>
          <p:cNvPicPr/>
          <p:nvPr/>
        </p:nvPicPr>
        <p:blipFill>
          <a:blip r:embed="rId1"/>
          <a:stretch/>
        </p:blipFill>
        <p:spPr>
          <a:xfrm>
            <a:off x="719280" y="1487520"/>
            <a:ext cx="7772400" cy="410220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Corbel"/>
                <a:ea typeface="Akhbar MT"/>
              </a:rPr>
              <a:t>..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8"/>
          <p:cNvSpPr/>
          <p:nvPr/>
        </p:nvSpPr>
        <p:spPr>
          <a:xfrm>
            <a:off x="257040" y="291960"/>
            <a:ext cx="8418600" cy="88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5f7791"/>
                </a:solidFill>
                <a:latin typeface="Times New Roman"/>
                <a:cs typeface="Times New Roman"/>
              </a:rPr>
              <a:t>مفهوم نظام المعلومات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157a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1" name="شكل بيضاوي 1"/>
          <p:cNvSpPr/>
          <p:nvPr/>
        </p:nvSpPr>
        <p:spPr>
          <a:xfrm>
            <a:off x="684360" y="2001960"/>
            <a:ext cx="7704000" cy="178740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f75"/>
                </a:solidFill>
                <a:latin typeface="Times New Roman"/>
                <a:cs typeface="Times New Roman"/>
              </a:rPr>
              <a:t>البيانات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هي المتطلبات او المعطيات المجردة التي لها صفة الوصف او صفة القياس(الارقام ، الزمن ، الطول...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2" name="شكل بيضاوي 2"/>
          <p:cNvSpPr/>
          <p:nvPr/>
        </p:nvSpPr>
        <p:spPr>
          <a:xfrm>
            <a:off x="900000" y="4076640"/>
            <a:ext cx="7488360" cy="194472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f75"/>
                </a:solidFill>
                <a:latin typeface="Times New Roman"/>
                <a:cs typeface="Times New Roman"/>
              </a:rPr>
              <a:t>المعلومات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هي البيانات التي اصبح لها معنى مفهوم واضح بعد معالجتها او تشغيلها مما يكسبها صفة صلاحية امكانية استخدامها لخدمة صانع القرار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1"/>
          <p:cNvSpPr/>
          <p:nvPr/>
        </p:nvSpPr>
        <p:spPr>
          <a:xfrm>
            <a:off x="357120" y="0"/>
            <a:ext cx="8501040" cy="46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5f7791"/>
                </a:solidFill>
                <a:latin typeface="Times New Roman"/>
                <a:cs typeface="Times New Roman"/>
              </a:rPr>
              <a:t>مفهوم نظام المعلومات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4" name="شكل بيضاوي 2"/>
          <p:cNvSpPr/>
          <p:nvPr/>
        </p:nvSpPr>
        <p:spPr>
          <a:xfrm>
            <a:off x="1042920" y="1916280"/>
            <a:ext cx="7345440" cy="316836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و ذلك النظام الذي يكفل توفير المعلومات التاريخية والحالية والمستقبلية المطلوبة لصانعي القرار بمصداقية من خلال قنوات الاتصال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1eeff"/>
                </a:solidFill>
                <a:latin typeface="Consolas"/>
              </a:rPr>
              <a:t>النقاط الأساسية لنظام المعلومات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orbel"/>
              </a:rPr>
              <a:t>1</a:t>
            </a:r>
            <a:r>
              <a:rPr b="0" lang="ar-SA" sz="3000" spc="-1" strike="noStrike">
                <a:solidFill>
                  <a:srgbClr val="ffffff"/>
                </a:solidFill>
                <a:latin typeface="Corbel"/>
              </a:rPr>
              <a:t>-النظام ويتكون من(المدخلات،عمليات التشغيل،المخرجات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84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orbel"/>
              </a:rPr>
              <a:t>2</a:t>
            </a:r>
            <a:r>
              <a:rPr b="0" lang="ar-SA" sz="3000" spc="-1" strike="noStrike">
                <a:solidFill>
                  <a:srgbClr val="ffffff"/>
                </a:solidFill>
                <a:latin typeface="Corbel"/>
              </a:rPr>
              <a:t>-وسائل توفير المعلومات(شفهية ، مكتوبه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84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orbel"/>
              </a:rPr>
              <a:t>3</a:t>
            </a:r>
            <a:r>
              <a:rPr b="0" lang="ar-SA" sz="3000" spc="-1" strike="noStrike">
                <a:solidFill>
                  <a:srgbClr val="ffffff"/>
                </a:solidFill>
                <a:latin typeface="Corbel"/>
              </a:rPr>
              <a:t>-طبيعة المعلومات (ماضية،حاضرة،مستقبلية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84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orbel"/>
              </a:rPr>
              <a:t>4</a:t>
            </a:r>
            <a:r>
              <a:rPr b="0" lang="ar-SA" sz="3000" spc="-1" strike="noStrike">
                <a:solidFill>
                  <a:srgbClr val="ffffff"/>
                </a:solidFill>
                <a:latin typeface="Corbel"/>
              </a:rPr>
              <a:t>-معلومات عن البيئة الداخلية والخارجية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84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orbel"/>
              </a:rPr>
              <a:t>5</a:t>
            </a:r>
            <a:r>
              <a:rPr b="0" lang="ar-SA" sz="3000" spc="-1" strike="noStrike">
                <a:solidFill>
                  <a:srgbClr val="ffffff"/>
                </a:solidFill>
                <a:latin typeface="Corbel"/>
              </a:rPr>
              <a:t>-توفير معلومات بالكفاءة المناسبة من حيث(الوقت،النوع،الحجم المناسب،المصداقية)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1eeff"/>
                </a:solidFill>
                <a:latin typeface="Consolas"/>
              </a:rPr>
              <a:t>الحاسوب ونظام المعلومات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orbel"/>
              </a:rPr>
              <a:t>نقل معلومات الأعمال الى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84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orbel"/>
              </a:rPr>
              <a:t>1</a:t>
            </a:r>
            <a:r>
              <a:rPr b="0" lang="ar-SA" sz="3000" spc="-1" strike="noStrike">
                <a:solidFill>
                  <a:srgbClr val="ffffff"/>
                </a:solidFill>
                <a:latin typeface="Corbel"/>
              </a:rPr>
              <a:t>- فئة اصحاب المشروعات التجارية القائمة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84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orbel"/>
              </a:rPr>
              <a:t>2</a:t>
            </a:r>
            <a:r>
              <a:rPr b="0" lang="ar-SA" sz="3000" spc="-1" strike="noStrike">
                <a:solidFill>
                  <a:srgbClr val="ffffff"/>
                </a:solidFill>
                <a:latin typeface="Corbel"/>
              </a:rPr>
              <a:t>-فئة المستثمرين المرتقبين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84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orbel"/>
              </a:rPr>
              <a:t>3</a:t>
            </a:r>
            <a:r>
              <a:rPr b="0" lang="ar-SA" sz="3000" spc="-1" strike="noStrike">
                <a:solidFill>
                  <a:srgbClr val="ffffff"/>
                </a:solidFill>
                <a:latin typeface="Corbel"/>
              </a:rPr>
              <a:t>-فئة المديرين 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84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orbel"/>
              </a:rPr>
              <a:t>4</a:t>
            </a:r>
            <a:r>
              <a:rPr b="0" lang="ar-SA" sz="3000" spc="-1" strike="noStrike">
                <a:solidFill>
                  <a:srgbClr val="ffffff"/>
                </a:solidFill>
                <a:latin typeface="Corbel"/>
              </a:rPr>
              <a:t>-المستهلكين المتوقعين 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1eeff"/>
                </a:solidFill>
                <a:latin typeface="Consolas"/>
              </a:rPr>
              <a:t>أدوات الانترنت</a:t>
            </a: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0" name="Oval 2"/>
          <p:cNvSpPr/>
          <p:nvPr/>
        </p:nvSpPr>
        <p:spPr>
          <a:xfrm>
            <a:off x="5796000" y="3346560"/>
            <a:ext cx="3024000" cy="136836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Corbel"/>
                <a:cs typeface="Tahoma"/>
              </a:rPr>
              <a:t>تقنية المحادثة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1" name="Oval 3"/>
          <p:cNvSpPr/>
          <p:nvPr/>
        </p:nvSpPr>
        <p:spPr>
          <a:xfrm>
            <a:off x="3203640" y="1778040"/>
            <a:ext cx="3024000" cy="156852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orbel"/>
                <a:cs typeface="Tahoma"/>
              </a:rPr>
              <a:t>تقنية لوحة الاعلانات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2" name="Oval 4"/>
          <p:cNvSpPr/>
          <p:nvPr/>
        </p:nvSpPr>
        <p:spPr>
          <a:xfrm>
            <a:off x="627120" y="3346560"/>
            <a:ext cx="2865240" cy="136836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Corbel"/>
                <a:cs typeface="Tahoma"/>
              </a:rPr>
              <a:t>تقنية الشبكة العنكبوتية الدولية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www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1"/>
          <p:cNvSpPr/>
          <p:nvPr/>
        </p:nvSpPr>
        <p:spPr>
          <a:xfrm>
            <a:off x="357120" y="642960"/>
            <a:ext cx="8286840" cy="90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أهمية نظام المعلومات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r" rtl="1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مهم لعملية اتخاذ القرارات وسلامة القرارات والأوامر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r" rtl="1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يعمل على تنسيق العلاقة الداخلية بين الادارات الداخلية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r" rtl="1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ينظم العلاقة بين المنظمة مع البيئة الخارجية 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r" rtl="1">
              <a:lnSpc>
                <a:spcPct val="15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كذلك التقنية تلعب دورا كبيرا وايجابيا للبيانات والمعلومات الادارية فهي تكفل السرعة والدقة اللازمة وهي جزأ لا يتجزأ من نظام المعلومات.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18:09:41Z</dcterms:created>
  <dc:creator>vip</dc:creator>
  <dc:description/>
  <dc:language>en-US</dc:language>
  <cp:lastModifiedBy>Sultan H. Binsaeed</cp:lastModifiedBy>
  <dcterms:modified xsi:type="dcterms:W3CDTF">2015-12-09T22:17:03Z</dcterms:modified>
  <cp:revision>57</cp:revision>
  <dc:subject/>
  <dc:title>التسويق..</dc:title>
</cp:coreProperties>
</file>