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0.png" ContentType="image/png"/>
  <Override PartName="/ppt/media/image45.png" ContentType="image/png"/>
  <Override PartName="/ppt/media/image46.jpeg" ContentType="image/jpeg"/>
  <Override PartName="/ppt/media/image54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2.jpeg" ContentType="image/jpeg"/>
  <Override PartName="/ppt/media/image53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56.png" ContentType="image/png"/>
  <Override PartName="/ppt/media/image8.png" ContentType="image/png"/>
  <Override PartName="/ppt/media/image41.wmf" ContentType="image/x-wmf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C97-E134-42EE-8D8A-2C9BD86C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2BA-09E2-480B-A87F-2B1D25F7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5FB-0299-47D4-A461-4641870E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9F8-203F-415A-AC2A-32E7F0DD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B423-AE3B-45D2-8D12-94D27C46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C2B8-21F5-4F23-A7FF-0E4F017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F651-728C-43CC-AA94-B3BE168F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7AB7-3BEB-4A16-90BE-D864C27E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71B0-9F83-4566-B638-04AC7842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7B6E-BDA2-4ECA-BF34-7C431A60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EBE4-25DD-4C20-B91B-F261D5F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8B3-4E37-42ED-BF23-021CEBE5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2B94-DAA2-4B94-B312-25498803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C370-E60D-49FC-B903-33B39D22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C09E-A824-4599-9953-5D9106D3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072B-D924-4E21-9293-17350D4A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6166-AB6D-4F7A-B198-855F01EC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9BD69-796F-4B20-A63E-401A537A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FFC7-DC52-4973-BC9E-159638E2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6902-9C58-4C44-B963-BAE20B1D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AC07-EE38-4698-B757-2546A0EE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6351-597D-4B4E-9F84-511B13F5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8E5-8650-4448-B0FE-2DEA8D65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D71D-8300-4A2C-8EBF-63C9073A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6A3A-CA52-4053-AEDC-7D607C75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15D0-47F6-4C2D-8AE8-2BCEED5D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6425-D5A1-4EA5-BB84-DF5D7C7F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70E9-876D-48A5-8BDA-C993549C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89F1-DE58-4096-ADC1-04F238B1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6367-F02A-4EAF-A53C-C60031F8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E409-10B2-470F-A130-6D3B6676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A7030-5140-4CD3-8C2A-1F58DF9A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5D80-B7BA-4A74-B8C4-B1568BFF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1DE-EF44-4A2B-BD85-621B0EBE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5C93-87DE-4FB0-8D9D-90148F76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836C-0027-4692-89C4-39FC5453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B1EFF-9B78-471F-BF85-3F88322E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92F2-5330-4D0A-A52B-CA6793E7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E04D-761D-4061-BCAB-B9A5243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6B70-1902-4F7F-AA32-43EA7587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009C1-507D-40F8-A95F-0268F342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2B3E-1A1F-463D-9930-AF3EB302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0360-A858-4428-8F94-B2E08A51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70B-2AAB-4F54-8028-8B79BDEC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0D2-D649-461F-BC91-3F7E8AD9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D2C-DE44-47AB-914F-DB87075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893-59F9-48B2-A38F-51AE4037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708-2226-4D64-A7E3-D5082DC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05A7-3E3D-4D61-82D9-75E387D41BB4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5695-3CA3-4B5D-92C3-B558EBF2E4A4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27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27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27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28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28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28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9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9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9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9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0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0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1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31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31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31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32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32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32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32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33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33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33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34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34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34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35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35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35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35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7E06-544A-48E9-8612-FF2E8E6E02D5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403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404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405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408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411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414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417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420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423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424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5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427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430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433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436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39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42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45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448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451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454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45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458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461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464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467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470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473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476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479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482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485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A624-9884-47E2-A46B-51A8666395EE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القيادة الإداري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Picture 5" descr="leadership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1174570918"/>
          <p:cNvPicPr/>
          <p:nvPr/>
        </p:nvPicPr>
        <p:blipFill>
          <a:blip r:embed="rId1"/>
          <a:stretch/>
        </p:blipFill>
        <p:spPr>
          <a:xfrm>
            <a:off x="684360" y="1628640"/>
            <a:ext cx="7983360" cy="4896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25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1116000" y="260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ثالثاً: دراسات جامعة أوهايو</a:t>
            </a:r>
            <a:br>
              <a:rPr sz="3200"/>
            </a:b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الشبكة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رابعاً: نظرية دورة الحياة ل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عنصر نائب للمحتوى 1" descr=""/>
          <p:cNvPicPr/>
          <p:nvPr/>
        </p:nvPicPr>
        <p:blipFill>
          <a:blip r:embed="rId1"/>
          <a:stretch/>
        </p:blipFill>
        <p:spPr>
          <a:xfrm>
            <a:off x="255600" y="1981080"/>
            <a:ext cx="8869320" cy="3926160"/>
          </a:xfrm>
          <a:prstGeom prst="rect">
            <a:avLst/>
          </a:prstGeom>
          <a:ln w="0">
            <a:noFill/>
          </a:ln>
        </p:spPr>
      </p:pic>
      <p:sp>
        <p:nvSpPr>
          <p:cNvPr id="568" name="مستطيل 2"/>
          <p:cNvSpPr/>
          <p:nvPr/>
        </p:nvSpPr>
        <p:spPr>
          <a:xfrm>
            <a:off x="2484360" y="1557360"/>
            <a:ext cx="51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قترح النظرية أن سلوك القائد يتحرك كالتالي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مستطيل 5"/>
          <p:cNvSpPr/>
          <p:nvPr/>
        </p:nvSpPr>
        <p:spPr>
          <a:xfrm>
            <a:off x="104292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ع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0" name="مستطيل 6" descr=""/>
          <p:cNvPicPr/>
          <p:nvPr/>
        </p:nvPicPr>
        <p:blipFill>
          <a:blip r:embed="rId2"/>
          <a:stretch/>
        </p:blipFill>
        <p:spPr>
          <a:xfrm>
            <a:off x="920880" y="3067200"/>
            <a:ext cx="645840" cy="1371600"/>
          </a:xfrm>
          <a:prstGeom prst="rect">
            <a:avLst/>
          </a:prstGeom>
          <a:ln w="0">
            <a:noFill/>
          </a:ln>
        </p:spPr>
      </p:pic>
      <p:sp>
        <p:nvSpPr>
          <p:cNvPr id="571" name="مستطيل 7"/>
          <p:cNvSpPr/>
          <p:nvPr/>
        </p:nvSpPr>
        <p:spPr>
          <a:xfrm>
            <a:off x="835560" y="494172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خف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مستطيل 8"/>
          <p:cNvSpPr/>
          <p:nvPr/>
        </p:nvSpPr>
        <p:spPr>
          <a:xfrm>
            <a:off x="6227640" y="54450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ع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مستطيل 9"/>
          <p:cNvSpPr/>
          <p:nvPr/>
        </p:nvSpPr>
        <p:spPr>
          <a:xfrm>
            <a:off x="3780000" y="5907240"/>
            <a:ext cx="10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مه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خامساً: نظرية الطريق إلى الهد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97080" y="1052280"/>
            <a:ext cx="84596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6" name="رسم تخطيطي 1" descr=""/>
          <p:cNvPicPr/>
          <p:nvPr/>
        </p:nvPicPr>
        <p:blipFill>
          <a:blip r:embed="rId1"/>
          <a:stretch/>
        </p:blipFill>
        <p:spPr>
          <a:xfrm>
            <a:off x="828720" y="1554120"/>
            <a:ext cx="78454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87640" y="3789360"/>
            <a:ext cx="3021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هارات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9" name="رسم تخطيطي 1" descr=""/>
          <p:cNvPicPr/>
          <p:nvPr/>
        </p:nvPicPr>
        <p:blipFill>
          <a:blip r:embed="rId1"/>
          <a:stretch/>
        </p:blipFill>
        <p:spPr>
          <a:xfrm>
            <a:off x="682560" y="1189080"/>
            <a:ext cx="7991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9000"/>
                </a:solidFill>
                <a:latin typeface="Verdana"/>
              </a:rPr>
              <a:t>العادات السبع لأكثر الناس نجاحاً</a:t>
            </a:r>
            <a:br>
              <a:rPr sz="3200"/>
            </a:br>
            <a:r>
              <a:rPr b="1" lang="ar-SA" sz="3200" spc="-1" strike="noStrike">
                <a:solidFill>
                  <a:srgbClr val="ff9000"/>
                </a:solidFill>
                <a:latin typeface="Verdana"/>
              </a:rPr>
              <a:t> لستيفن كوف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1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341360"/>
            <a:ext cx="8058240" cy="48214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C:\Users\General\AppData\Local\Microsoft\Windows\Temporary Internet Files\Content.IE5\GF2B0T6C\MP900402187[1].jpg"/>
          <p:cNvPicPr/>
          <p:nvPr/>
        </p:nvPicPr>
        <p:blipFill>
          <a:blip r:embed="rId2"/>
          <a:stretch/>
        </p:blipFill>
        <p:spPr>
          <a:xfrm>
            <a:off x="6948360" y="189000"/>
            <a:ext cx="2195640" cy="1299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1956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9000"/>
                </a:solidFill>
                <a:latin typeface="Verdana"/>
              </a:rPr>
              <a:t>معوقات القيادة الإدارية في الدول النام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5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785960"/>
            <a:ext cx="7589880" cy="5168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826920" y="561168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3"/>
          <a:stretch/>
        </p:blipFill>
        <p:spPr>
          <a:xfrm>
            <a:off x="7812000" y="5510160"/>
            <a:ext cx="920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المحتويات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قائد الاداري والرئي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نظريات الحديثة في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عوقات القيادة الإدارية في الدول النام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A_leader"/>
          <p:cNvPicPr/>
          <p:nvPr/>
        </p:nvPicPr>
        <p:blipFill>
          <a:blip r:embed="rId1"/>
          <a:stretch/>
        </p:blipFill>
        <p:spPr>
          <a:xfrm>
            <a:off x="157320" y="189000"/>
            <a:ext cx="896436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19280" y="676440"/>
            <a:ext cx="554508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تقوم القيادة بدور أساسي في توجيه العمل الإداري نحو تحقيق أهداف المنظم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76040" y="2204640"/>
            <a:ext cx="712476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339640" y="676440"/>
            <a:ext cx="5794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*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تعتمد على التأثير والقبو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7" name="Picture 4" descr="News_Paper_Employe"/>
          <p:cNvPicPr/>
          <p:nvPr/>
        </p:nvPicPr>
        <p:blipFill>
          <a:blip r:embed="rId1"/>
          <a:stretch/>
        </p:blipFill>
        <p:spPr>
          <a:xfrm>
            <a:off x="0" y="0"/>
            <a:ext cx="3203640" cy="2205000"/>
          </a:xfrm>
          <a:prstGeom prst="rect">
            <a:avLst/>
          </a:prstGeom>
          <a:ln w="0">
            <a:noFill/>
          </a:ln>
        </p:spPr>
      </p:pic>
      <p:sp>
        <p:nvSpPr>
          <p:cNvPr id="538" name="شكل بيضاوي 2"/>
          <p:cNvSpPr/>
          <p:nvPr/>
        </p:nvSpPr>
        <p:spPr>
          <a:xfrm>
            <a:off x="1908000" y="2060640"/>
            <a:ext cx="5759640" cy="1944720"/>
          </a:xfrm>
          <a:prstGeom prst="ellipse">
            <a:avLst/>
          </a:prstGeom>
          <a:solidFill>
            <a:srgbClr val="ed46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قدرة على التوجيه من أجل تحقيق هدف معين عن طريق الآخري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 لفرق بين القائد الإداري والرئيس الإداري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50920" y="1628640"/>
          <a:ext cx="8713800" cy="4896000"/>
        </p:xfrm>
        <a:graphic>
          <a:graphicData uri="http://schemas.openxmlformats.org/drawingml/2006/table">
            <a:tbl>
              <a:tblPr/>
              <a:tblGrid>
                <a:gridCol w="3427200"/>
                <a:gridCol w="3249720"/>
                <a:gridCol w="20368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رئاس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وجه الاختلا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م الذي حدد سلطته الرسم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مصد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166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ختار الرئيس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شترك الجماعة مع قائد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ختيار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867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قبلون سلطته ، خوفا من العقاب اذا امتنعوا أو قصروا في تنفيذ أوامر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كثر قبولاً، لأنها تعتمد على على الحوافز الإيجا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ب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36" descr="people-talking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"/>
          <p:cNvPicPr/>
          <p:nvPr/>
        </p:nvPicPr>
        <p:blipFill>
          <a:blip r:embed="rId2"/>
          <a:stretch/>
        </p:blipFill>
        <p:spPr>
          <a:xfrm>
            <a:off x="-30240" y="0"/>
            <a:ext cx="13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76040" y="798480"/>
            <a:ext cx="8643960" cy="6016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C:\Program Files\Microsoft Office\MEDIA\CAGCAT10\j0298653.wmf"/>
          <p:cNvPicPr/>
          <p:nvPr/>
        </p:nvPicPr>
        <p:blipFill>
          <a:blip r:embed="rId2"/>
          <a:stretch/>
        </p:blipFill>
        <p:spPr>
          <a:xfrm>
            <a:off x="12600" y="5661000"/>
            <a:ext cx="1781280" cy="1197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/>
          <p:cNvPicPr/>
          <p:nvPr/>
        </p:nvPicPr>
        <p:blipFill>
          <a:blip r:embed="rId3"/>
          <a:stretch/>
        </p:blipFill>
        <p:spPr>
          <a:xfrm>
            <a:off x="7524720" y="566100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"/>
          <p:cNvPicPr/>
          <p:nvPr/>
        </p:nvPicPr>
        <p:blipFill>
          <a:blip r:embed="rId4"/>
          <a:stretch/>
        </p:blipFill>
        <p:spPr>
          <a:xfrm>
            <a:off x="0" y="468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5"/>
          <a:stretch/>
        </p:blipFill>
        <p:spPr>
          <a:xfrm>
            <a:off x="7391520" y="4680"/>
            <a:ext cx="1779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leader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115920"/>
            <a:ext cx="8785440" cy="6640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5640" y="115920"/>
            <a:ext cx="557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634920" y="2781000"/>
            <a:ext cx="482292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سلسلة السلو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القيادة الفعال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دراسات جامعة أوهايو والشبكة الإداري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دورة الحياة للقائد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الطريق إلى الهد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أولا : نظرية سلسلة السلو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32040" y="2637000"/>
          <a:ext cx="7124400" cy="2592360"/>
        </p:xfrm>
        <a:graphic>
          <a:graphicData uri="http://schemas.openxmlformats.org/drawingml/2006/table">
            <a:tbl>
              <a:tblPr/>
              <a:tblGrid>
                <a:gridCol w="1017360"/>
                <a:gridCol w="1017720"/>
                <a:gridCol w="1017360"/>
                <a:gridCol w="1025640"/>
                <a:gridCol w="1011240"/>
                <a:gridCol w="1017720"/>
                <a:gridCol w="1017360"/>
              </a:tblGrid>
              <a:tr h="2592360"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54" name="رابط مستقيم 6"/>
          <p:cNvSpPr/>
          <p:nvPr/>
        </p:nvSpPr>
        <p:spPr>
          <a:xfrm flipV="1">
            <a:off x="971640" y="2707920"/>
            <a:ext cx="7056360" cy="2521080"/>
          </a:xfrm>
          <a:prstGeom prst="line">
            <a:avLst/>
          </a:prstGeom>
          <a:ln w="9360">
            <a:solidFill>
              <a:srgbClr val="ed4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5" name="رابط كسهم مستقيم 8"/>
          <p:cNvCxnSpPr/>
          <p:nvPr/>
        </p:nvCxnSpPr>
        <p:spPr>
          <a:xfrm flipH="1">
            <a:off x="1475640" y="2179800"/>
            <a:ext cx="2880360" cy="8640"/>
          </a:xfrm>
          <a:prstGeom prst="straightConnector1">
            <a:avLst/>
          </a:prstGeom>
          <a:ln w="9360">
            <a:solidFill>
              <a:srgbClr val="ed4200"/>
            </a:solidFill>
            <a:miter/>
            <a:tailEnd len="med" type="arrow" w="med"/>
          </a:ln>
        </p:spPr>
      </p:cxnSp>
      <p:sp>
        <p:nvSpPr>
          <p:cNvPr id="556" name="مستطيل 12"/>
          <p:cNvSpPr/>
          <p:nvPr/>
        </p:nvSpPr>
        <p:spPr>
          <a:xfrm>
            <a:off x="4716360" y="19670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قيادة المرتكزة على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مستطيل 16"/>
          <p:cNvSpPr/>
          <p:nvPr/>
        </p:nvSpPr>
        <p:spPr>
          <a:xfrm>
            <a:off x="4859280" y="5373720"/>
            <a:ext cx="28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قيادة المرتكزة على ا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897200" y="5445000"/>
            <a:ext cx="2962080" cy="165240"/>
          </a:xfrm>
          <a:prstGeom prst="rect">
            <a:avLst/>
          </a:prstGeom>
          <a:ln w="0">
            <a:noFill/>
          </a:ln>
        </p:spPr>
      </p:pic>
      <p:sp>
        <p:nvSpPr>
          <p:cNvPr id="559" name="مستطيل 17"/>
          <p:cNvSpPr/>
          <p:nvPr/>
        </p:nvSpPr>
        <p:spPr>
          <a:xfrm>
            <a:off x="1050840" y="3135240"/>
            <a:ext cx="33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سلطة التي يستخدمها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مستطيل 18"/>
          <p:cNvSpPr/>
          <p:nvPr/>
        </p:nvSpPr>
        <p:spPr>
          <a:xfrm>
            <a:off x="4716360" y="4365720"/>
            <a:ext cx="330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حرية المتاحة ل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ثانياً: نظرية القيادة الفعالة (الموقفية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79600" y="1805040"/>
            <a:ext cx="8180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32:08Z</dcterms:created>
  <dc:creator/>
  <dc:description/>
  <dc:language>en-US</dc:language>
  <cp:lastModifiedBy/>
  <dcterms:modified xsi:type="dcterms:W3CDTF">2015-11-25T18:06:41Z</dcterms:modified>
  <cp:revision>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