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4A9E9-7A99-4D5D-A488-2B8ACEC3F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AFFBA-53F5-48A7-8324-B99BFCF5B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7D8B4-6039-4432-ACD9-BF7F9825C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789C4-2602-47FE-A328-87F9F1FD1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5EB27F-BFD2-4CEA-BA05-E8EE96641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230AD-28EA-4127-8DED-DAE1D22B0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DDEC0-A00E-4867-866D-4B8924B4D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6B94B-0C1A-4D6A-A41F-1E879039A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88154-6BE5-443C-A84F-AF7C89465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C44E9-1FB0-4948-B0B7-C46FB1EDC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D93FC-11BE-4793-BD88-C6EC3459A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8A780-269E-44D1-A289-743A4C43B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9DED7-B934-411A-A7FB-C62B84682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F0FFD-9B5A-4949-A922-2A5190EC5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8A72A-1AEC-4BFA-BE4D-D6B234A29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1CA23-B476-4984-A24E-DF6E1144E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4C7AB-D2CF-40E3-8EC4-0E4FFF4CCD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02D99D-A1E2-498A-9441-F17397BA8D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7A8F32-7F2F-461D-B7A8-F50099A84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3753C-0A18-4D4E-B607-D7A7831BB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71C86-DD43-4305-9FC7-01AF5CC10C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1BE244-ED33-4024-B30A-870FE3A77A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81067-3609-477A-BEA4-9C5899CAD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AC6B2A-7FE7-4D2F-A7F3-5934AFF994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D671F-FA8A-4B17-8E0E-E5C983B4E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8D3974-1981-4B2B-A714-46EC39AB6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6889B-73D7-4425-A32D-DACD6756E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830E1-DDC4-4CA1-ABF0-D200EE0F5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3BFCC9-14A6-4F39-A961-FEDA417E90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959EA8-1DEB-4BF1-85E0-4DEAC635E7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E4FFD7-9A3E-4CDE-9C62-65C30DCFA0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C18C02-F48A-4CE5-949A-6462F0208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477B7B-8CC5-4EFF-8D8F-2084EFB5A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7D065-5EE7-4F21-89B4-6D0F634B8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76A9C3-8F41-4416-AF08-7CFAEE72F8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72514-72D3-43CB-B176-68604D5FFE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42E55A-6335-40A9-9A9A-B1B49B12B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950D0A-4EA4-4C44-A47A-A107718BC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582B1D-6589-41C7-A17A-5D7BAC7033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2CD8F-C4D9-4C24-8257-88EC72A52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2CE311-A8A4-4FEB-AEC0-C681E5ACBA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4858D2-4EC5-4E31-9E68-CC36A99BD6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5F4DFE-6321-4F72-92B1-E3BC7D3BD0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ABD09B-48B8-43F1-B6AF-F79346CDAD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E519B-DCED-4E23-9903-5A74255FF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772609-BFB3-4530-B5BA-3EBEF79D1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9926CC-8F44-4283-BA92-BD7418F9E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C58994-6376-451E-8435-006C307ABA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1F5BC6-067F-4CBD-BD6E-75B360602A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AFC8F6-FBD5-4613-A9AE-208E0C196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F9ECF3-C9AC-4525-BADC-31247F5E56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0A3F0-6523-4DF1-9F39-2A35AF17D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24DBD-7245-41C2-895A-34FB6AEF00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36C114-A554-4F62-BA15-C311E5F45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5D7E2E-17F4-4335-84A4-D499F55ED0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41343-7094-4755-AD04-309DFE2DC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D4A00E-9DE8-4257-84BE-BF95750134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CDBF83-D785-424D-AA00-1EC54297E2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27E822-1CA3-4DC0-826E-818EE7E4C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F9EAE-1063-43F5-AA3B-73B69B2A83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CE522-1299-4DC0-8C83-13D71A0F4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6DF158-0923-4664-BC73-A4F446CB9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1F1875-D2FD-42FC-9FCA-2872D7F43B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12869C-9DFE-4FB1-B507-39BB06E7B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7B2BE-2BDF-494A-99BF-6365D5703F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B13798-CF33-47DA-AB6F-0499F08D2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C5F3E-C6FC-46DB-B159-4AA903016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D0A336-4586-48F7-A010-821A73221A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A87B51-0B9F-4938-95D6-A01DC75AD2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243992-3667-481A-8EF1-8C861A610C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22BF2CB-A218-45A4-A278-F34891403D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A254AC-75D0-4B8B-893B-74E39EC18F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89AC29-9DB1-4494-BAC3-840703F9D2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94741-DD20-47A3-9526-A124DFB125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C797B-6A92-4998-B678-30D98F9C4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879324-376C-4F2E-AC17-715B2CA01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4CA50-5E9D-4D02-8849-1386AAB52A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C586F-769A-493F-9DCD-12364EAE0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9ED474-1ECD-4072-AA51-F1D083F84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713E2-CE51-437B-8C85-65398F3A59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04F664-30AB-40C2-BB7C-7AC891A47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D9B5A-0605-48E1-9874-62EC3C62BD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16F28D-D447-4099-8473-4F16026437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236DA-A18D-4999-B985-61E577C69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B126-6865-49F9-8B44-569CD85207F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EEAC-90A0-4FF2-A321-48DDEF39005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7207-E30D-43CE-A3A0-A23582C5315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BB63-3EEE-4010-AA6B-5B878AE0F7B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55f51"/>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8B16-A41C-4E49-A416-2468F7211D2A}" type="slidenum">
              <a:rPr b="0" lang="ar-SA"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6960-0DD0-49A0-9A70-8D51CC81C37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AF0F-E35A-47E0-ADAA-F8407E6CC19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1880" y="758520"/>
            <a:ext cx="7543800" cy="31748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Arial"/>
                <a:ea typeface="Arial"/>
              </a:rPr>
              <a:t> </a:t>
            </a:r>
            <a:r>
              <a:rPr b="0" lang="ar-SA" sz="8000" spc="-1" strike="noStrike">
                <a:solidFill>
                  <a:srgbClr val="262626"/>
                </a:solidFill>
                <a:latin typeface="Arial"/>
                <a:cs typeface="Arial"/>
              </a:rPr>
              <a:t>المراجعة الداخلية</a:t>
            </a:r>
            <a:r>
              <a:rPr b="0" lang="en-US" sz="8000" spc="-1" strike="noStrike">
                <a:solidFill>
                  <a:srgbClr val="262626"/>
                </a:solidFill>
                <a:latin typeface="Arial"/>
                <a:ea typeface="Arial"/>
              </a:rPr>
              <a:t> </a:t>
            </a:r>
            <a:endParaRPr b="0" lang="en-US" sz="80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دور وأهمية المراجعة الداخلية في الوحدات الحكومية والخاصة</a:t>
            </a:r>
            <a:endParaRPr b="0" lang="en-US" sz="4800" spc="-1" strike="noStrike">
              <a:solidFill>
                <a:srgbClr val="404040"/>
              </a:solidFill>
              <a:latin typeface="Calibri Light"/>
            </a:endParaRPr>
          </a:p>
        </p:txBody>
      </p:sp>
      <p:sp>
        <p:nvSpPr>
          <p:cNvPr id="330" name=""/>
          <p:cNvSpPr txBox="1"/>
          <p:nvPr/>
        </p:nvSpPr>
        <p:spPr>
          <a:xfrm>
            <a:off x="821880" y="1846440"/>
            <a:ext cx="7543800" cy="402264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أصبحت أنشطة المراجعة الداخلية في ظل البيئة الإقتصادية المعاصرة تلقى إهتمام شديد من جانب الأوساط المهنية كأحد أدوات حوكمة الشركات وأيضا من جانب الأطراف التي تتحمل مسئولية الحوكمة داخل الشركات</a:t>
            </a:r>
            <a:r>
              <a:rPr b="0" lang="ar-SA" sz="2800" spc="-1" strike="noStrike">
                <a:solidFill>
                  <a:srgbClr val="404040"/>
                </a:solidFill>
                <a:latin typeface="Calibri"/>
                <a:ea typeface="Arial"/>
              </a:rPr>
              <a:t>. </a:t>
            </a:r>
            <a:endParaRPr b="0" lang="en-US" sz="28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تضح دور المراجعة الداخلية في تقدير المخاطر ،وتحقيق الرقابة ،والتأكد من الإلتزام بالإجراءات الرقابية</a:t>
            </a:r>
            <a:r>
              <a:rPr b="0" lang="ar-SA" sz="2800" spc="-1" strike="noStrike">
                <a:solidFill>
                  <a:srgbClr val="404040"/>
                </a:solidFill>
                <a:latin typeface="Calibri"/>
                <a:ea typeface="Arial"/>
              </a:rPr>
              <a:t>. </a:t>
            </a:r>
            <a:endParaRPr b="0" lang="en-US" sz="2800" spc="-1" strike="noStrike">
              <a:solidFill>
                <a:srgbClr val="404040"/>
              </a:solidFill>
              <a:latin typeface="Calibri"/>
            </a:endParaRPr>
          </a:p>
        </p:txBody>
      </p:sp>
      <p:sp>
        <p:nvSpPr>
          <p:cNvPr id="33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B377-9C6D-4F55-AFCF-6B2CF6C746F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115560"/>
            <a:ext cx="7586640" cy="1800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ea typeface="Times New Roman"/>
              </a:rPr>
              <a:t> </a:t>
            </a:r>
            <a:r>
              <a:rPr b="0" lang="ar-SA" sz="4300" spc="-1" strike="noStrike">
                <a:solidFill>
                  <a:srgbClr val="404040"/>
                </a:solidFill>
                <a:latin typeface="Calibri Light"/>
                <a:cs typeface="Times New Roman"/>
              </a:rPr>
              <a:t>دور وأهمية المراجعة الداخلية في الوحدات الحكومية والخاصة</a:t>
            </a:r>
            <a:br>
              <a:rPr sz="4300"/>
            </a:br>
            <a:r>
              <a:rPr b="0" lang="ar-SA" sz="4300" spc="-1" strike="noStrike">
                <a:solidFill>
                  <a:srgbClr val="404040"/>
                </a:solidFill>
                <a:latin typeface="Calibri Light"/>
                <a:cs typeface="Times New Roman"/>
              </a:rPr>
              <a:t>الاطار العام لعملية الحوكمة</a:t>
            </a:r>
            <a:endParaRPr b="0" lang="en-US" sz="4300" spc="-1" strike="noStrike">
              <a:solidFill>
                <a:srgbClr val="404040"/>
              </a:solidFill>
              <a:latin typeface="Calibri Light"/>
            </a:endParaRPr>
          </a:p>
        </p:txBody>
      </p:sp>
      <p:pic>
        <p:nvPicPr>
          <p:cNvPr id="333" name="Content Placeholder 6" descr=""/>
          <p:cNvPicPr/>
          <p:nvPr/>
        </p:nvPicPr>
        <p:blipFill>
          <a:blip r:embed="rId1"/>
          <a:stretch/>
        </p:blipFill>
        <p:spPr>
          <a:xfrm>
            <a:off x="1547640" y="2057400"/>
            <a:ext cx="7394760" cy="4033800"/>
          </a:xfrm>
          <a:prstGeom prst="rect">
            <a:avLst/>
          </a:prstGeom>
          <a:ln w="0">
            <a:noFill/>
          </a:ln>
        </p:spPr>
      </p:pic>
      <p:sp>
        <p:nvSpPr>
          <p:cNvPr id="33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F19BB-0AEA-4D42-BF97-9FE3FE7BB52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دور وأهمية المراجعة الداخلية في الوحدات الحكومية والخاصة</a:t>
            </a:r>
            <a:endParaRPr b="0" lang="en-US" sz="4800" spc="-1" strike="noStrike">
              <a:solidFill>
                <a:srgbClr val="404040"/>
              </a:solidFill>
              <a:latin typeface="Calibri Light"/>
            </a:endParaRPr>
          </a:p>
        </p:txBody>
      </p:sp>
      <p:sp>
        <p:nvSpPr>
          <p:cNvPr id="336" name=""/>
          <p:cNvSpPr txBox="1"/>
          <p:nvPr/>
        </p:nvSpPr>
        <p:spPr>
          <a:xfrm>
            <a:off x="821880" y="1846440"/>
            <a:ext cx="7543800" cy="4022640"/>
          </a:xfrm>
          <a:prstGeom prst="rect">
            <a:avLst/>
          </a:prstGeom>
          <a:noFill/>
          <a:ln w="0">
            <a:noFill/>
          </a:ln>
        </p:spPr>
        <p:txBody>
          <a:bodyPr lIns="0" rIns="0" anchor="t">
            <a:normAutofit/>
          </a:bodyPr>
          <a:p>
            <a:pPr lvl="1" marL="382680" indent="-182520" algn="r" rtl="1">
              <a:lnSpc>
                <a:spcPct val="90000"/>
              </a:lnSpc>
              <a:spcBef>
                <a:spcPts val="201"/>
              </a:spcBef>
              <a:spcAft>
                <a:spcPts val="400"/>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داخلية هي النافذة التي يمكن من خلالها الإطلاع على الشركة ككل، وتعتبر مصدر معلومات ذو قيمة للأطراف الثلاثة الأخرى المهتمة بعملية الحوكمة.</a:t>
            </a:r>
            <a:endParaRPr b="0" lang="en-US" sz="2400" spc="-1" strike="noStrike">
              <a:solidFill>
                <a:srgbClr val="404040"/>
              </a:solidFill>
              <a:latin typeface="Calibri"/>
            </a:endParaRPr>
          </a:p>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لكي تكون الحوكمة مفيدة لكل الأطراف المهتمة بالشركة يجب أن تكون المراجعة الداخلية عنصر أساسي مكمل لكل الأطراف المسئولة عن عملية الحوكمة  .</a:t>
            </a:r>
            <a:endParaRPr b="0" lang="en-US" sz="2400" spc="-1" strike="noStrike">
              <a:solidFill>
                <a:srgbClr val="404040"/>
              </a:solidFill>
              <a:latin typeface="Calibri"/>
            </a:endParaRPr>
          </a:p>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لكي تكون المراجعة الداخلية مصدر ذو قيمة يجب أن تكون على مستوى جودة مناسب ، وبالتالي فإن جودة خدمات المراجعة الداخلية سوف يكون لها تأثير على جودة الحوكمة.</a:t>
            </a:r>
            <a:endParaRPr b="0" lang="en-US" sz="2400" spc="-1" strike="noStrike">
              <a:solidFill>
                <a:srgbClr val="404040"/>
              </a:solidFill>
              <a:latin typeface="Calibri"/>
            </a:endParaRPr>
          </a:p>
        </p:txBody>
      </p:sp>
      <p:sp>
        <p:nvSpPr>
          <p:cNvPr id="33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3C23-B681-449F-B600-53F3B6D1837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جودة خدمات المراجعة الداخلية</a:t>
            </a:r>
            <a:endParaRPr b="0" lang="en-US" sz="4800" spc="-1" strike="noStrike">
              <a:solidFill>
                <a:srgbClr val="404040"/>
              </a:solidFill>
              <a:latin typeface="Calibri Light"/>
            </a:endParaRPr>
          </a:p>
        </p:txBody>
      </p:sp>
      <p:sp>
        <p:nvSpPr>
          <p:cNvPr id="339" name=""/>
          <p:cNvSpPr txBox="1"/>
          <p:nvPr/>
        </p:nvSpPr>
        <p:spPr>
          <a:xfrm>
            <a:off x="821880" y="1846080"/>
            <a:ext cx="7543800" cy="5011560"/>
          </a:xfrm>
          <a:prstGeom prst="rect">
            <a:avLst/>
          </a:prstGeom>
          <a:noFill/>
          <a:ln w="0">
            <a:noFill/>
          </a:ln>
        </p:spPr>
        <p:txBody>
          <a:bodyPr lIns="0" rIns="0" anchor="t">
            <a:normAutofit fontScale="95000"/>
          </a:bodyPr>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أن كل طرف من الأطراف الأربعة المسئولة عن عملية الحوكمة يعتمد على عمل المراجعة الداخلية، فإن كل الأطراف عليها مسئولية ضمان أو تقويم جودة خدمات المراجعة الداخلية. </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قد أشارت المعايير والتوصيات المهنية للمراجعة الخارجية إلى أن إمكانية اعتماد المراجع الخارجي على المراجعة الداخلية سوف يشجع الشركات على الاهتمام بجودة أنشطة المراجعة الداخلية, فكلما كانت أنشطة المراجعة الداخلية على مستوى عالي من الجودة والموضوعية كلما زاد اعتماد المراجع الخارجي عليها.</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كل من الإدارة والمراجع الخارجي يجب أن يقوم بتقييم الرقابة الداخلية والذي يتضمن تقييم لأنشطة المراجعة الداخلية.</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بالإضافة الى ان رئيس المراجعة الداخلية  يجب أن يكون لديه برنامج لضمان الجودة وعملية تحسين مستمر تتضمن تقييم دوري لأنشطة المراجعة الداخلية </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بالإضافة إلى ما سبق فإن كل من لجنة المراجعة والإدارة تؤثر على أنشطة المراجعة الداخلية من خلال ما تتخذه من قرارات </a:t>
            </a:r>
            <a:endParaRPr b="0" lang="en-US" sz="2000" spc="-1" strike="noStrike">
              <a:solidFill>
                <a:srgbClr val="404040"/>
              </a:solidFill>
              <a:latin typeface="Calibri"/>
            </a:endParaRPr>
          </a:p>
          <a:p>
            <a:pPr marL="85680" indent="-85680" algn="r"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ي من أطراف عملية الحوكمة الأربعة يرغب في استخدام خدمات المراجعة الداخلية كمصدر للحوكمة يجب أن يكون لديه رؤية عن مستوى الجودة التي يجب أن تتصف بها خدمات المراجعة الداخلية. </a:t>
            </a:r>
            <a:endParaRPr b="0" lang="en-US" sz="2000" spc="-1" strike="noStrike">
              <a:solidFill>
                <a:srgbClr val="404040"/>
              </a:solidFill>
              <a:latin typeface="Calibri"/>
            </a:endParaRPr>
          </a:p>
          <a:p>
            <a:pPr marL="85680" indent="-85680"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CD440-8240-4F15-A0C3-7E39BDD2B8C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42"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800" spc="-1" strike="noStrike">
                <a:solidFill>
                  <a:srgbClr val="404040"/>
                </a:solidFill>
                <a:latin typeface="Calibri"/>
                <a:ea typeface="Arial"/>
              </a:rPr>
              <a:t>. التأهيل والذي يتمثل في المستوى التعليمي والمؤهلات.</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2</a:t>
            </a:r>
            <a:r>
              <a:rPr b="0" lang="ar-SA" sz="2800" spc="-1" strike="noStrike">
                <a:solidFill>
                  <a:srgbClr val="404040"/>
                </a:solidFill>
                <a:latin typeface="Calibri"/>
                <a:ea typeface="Arial"/>
              </a:rPr>
              <a:t>. الاستقلال والموضوعية. </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3</a:t>
            </a:r>
            <a:r>
              <a:rPr b="0" lang="ar-SA" sz="2800" spc="-1" strike="noStrike">
                <a:solidFill>
                  <a:srgbClr val="404040"/>
                </a:solidFill>
                <a:latin typeface="Calibri"/>
                <a:ea typeface="Arial"/>
              </a:rPr>
              <a:t>. المهنية في تنفيذ الأعمال (بذل العناية المهنية الواجبة)  والتي يعكسها مدى كفاية برامج المراجعة الداخلية ونطاق العمل المنفذ والتي تعتبر بدورها مؤشر على جودة الأعمال التي تؤديها المراجعة الداخلية. </a:t>
            </a:r>
            <a:endParaRPr b="0" lang="en-US" sz="2800" spc="-1" strike="noStrike">
              <a:solidFill>
                <a:srgbClr val="404040"/>
              </a:solidFill>
              <a:latin typeface="Calibri"/>
            </a:endParaRPr>
          </a:p>
        </p:txBody>
      </p:sp>
      <p:sp>
        <p:nvSpPr>
          <p:cNvPr id="343"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ar-SA" sz="900" spc="-1" strike="noStrike">
                <a:solidFill>
                  <a:srgbClr val="ffffff"/>
                </a:solidFill>
                <a:latin typeface="Times New Roman"/>
              </a:rPr>
              <a:t>مارس </a:t>
            </a:r>
            <a:r>
              <a:rPr b="0" lang="ar-SA"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344"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34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7198-9B51-4CC6-868D-AF73EC51CB9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47" name=""/>
          <p:cNvSpPr txBox="1"/>
          <p:nvPr/>
        </p:nvSpPr>
        <p:spPr>
          <a:xfrm>
            <a:off x="821880" y="1846080"/>
            <a:ext cx="7543800" cy="446220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تأهيل المناسب للمراجع الداخلي</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مل المراجع الداخلي لا يقتصر على المراجعة المالية فقط ، بل يتعدها إلى المراجعة الإدارية المتمثلة في فحص أعمال الأقسام الأخرى بالمنشأة ، </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لى جانب ضرورة معرفته بأمور أخرى مثل كيفية فحص الأصول وتقدير حالتها وكيفية تقييم مختلف النظم التي تتبعها بالشركة. </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ذلك يجب أن تتوافر لدي المراجع الداخلي معرفة بالنواحي الإدارية والنواحي الفنية بالشركة إلى جانب معرفته الأساسية المتمثلة في المحاسبة.</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فمثلا إذا كان المراجع الداخلي يعمل في شركة أدوية سوف يحتاج إلى معرفة بأصناف الأدوية ، وإذا كان يعمل في شركة مقاولات يجب أن تتوافر لديه معرفة بمواد البناء ومستلزمات الإنشاء والتشطيب.</a:t>
            </a:r>
            <a:endParaRPr b="0" lang="en-US" sz="2400" spc="-1" strike="noStrike">
              <a:solidFill>
                <a:srgbClr val="404040"/>
              </a:solidFill>
              <a:latin typeface="Calibri"/>
            </a:endParaRPr>
          </a:p>
        </p:txBody>
      </p:sp>
      <p:sp>
        <p:nvSpPr>
          <p:cNvPr id="34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CEBC6-E406-4FFA-A00A-9A29D04A04E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50" name=""/>
          <p:cNvSpPr txBox="1"/>
          <p:nvPr/>
        </p:nvSpPr>
        <p:spPr>
          <a:xfrm>
            <a:off x="821880" y="1736640"/>
            <a:ext cx="7543800" cy="4572000"/>
          </a:xfrm>
          <a:prstGeom prst="rect">
            <a:avLst/>
          </a:prstGeom>
          <a:noFill/>
          <a:ln w="0">
            <a:noFill/>
          </a:ln>
        </p:spPr>
        <p:txBody>
          <a:bodyPr lIns="0" rIns="0" anchor="t">
            <a:normAutofit fontScale="94000"/>
          </a:bodyPr>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ستقلال وموضوعية المراجع الداخلي</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تعني مدى تمتعه بالاستقلال عن باقي أقسام المنشأة. وتتمثل في أمرين أساسين هما</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r>
              <a:rPr b="0" lang="ar-SA" sz="2000" spc="-1" strike="noStrike">
                <a:solidFill>
                  <a:srgbClr val="404040"/>
                </a:solidFill>
                <a:latin typeface="Calibri"/>
                <a:cs typeface="Arial"/>
              </a:rPr>
              <a:t>التبعية الإدارية</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r>
              <a:rPr b="0" lang="ar-SA" sz="2000" spc="-1" strike="noStrike">
                <a:solidFill>
                  <a:srgbClr val="404040"/>
                </a:solidFill>
                <a:latin typeface="Calibri"/>
                <a:cs typeface="Arial"/>
              </a:rPr>
              <a:t>يجب أن يكون نشاط المراجعة الداخلية في نفس المستوى الإداري للإدارات التنفيذية الأخرى حتى يستطيع أداء أعمال الفحص والتقويم لأعمالهم دون خوف أو حرج , ولكي يتحقق ذلك يجب أن يكون نشاط المراجعة الداخلية تابعا لأعلى مستوى إداري داخل الشركة ، وأن تقدم تقرير المراجعة الداخلية إلى هذا المستوى</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r>
              <a:rPr b="0" lang="ar-SA" sz="2000" spc="-1" strike="noStrike">
                <a:solidFill>
                  <a:srgbClr val="404040"/>
                </a:solidFill>
                <a:latin typeface="Calibri"/>
                <a:cs typeface="Arial"/>
              </a:rPr>
              <a:t>عدم القيام بأعمال تنفيذية</a:t>
            </a: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كي يمكن لنشاط المراجعة الداخلية أن يؤدي الأعمال المنوطة به يجب عليه أن يبتعد تماما عن القيام بأعمال تنفيذية ، لذلك لا يجب أن يسند إلى نشاط المراجعة الداخلية أي أعمال تدخل في نطاق اختصاصات الإدارات الأخرى حتى لا يجد المراجع الداخلي نفسه أمام موقف يقوم فيه بتقييم أعمال قام بها</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11D9-5209-4CFD-AA92-F9AE85DA24D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53" name=""/>
          <p:cNvSpPr txBox="1"/>
          <p:nvPr/>
        </p:nvSpPr>
        <p:spPr>
          <a:xfrm>
            <a:off x="821880" y="1846440"/>
            <a:ext cx="7543800" cy="4022640"/>
          </a:xfrm>
          <a:prstGeom prst="rect">
            <a:avLst/>
          </a:prstGeom>
          <a:noFill/>
          <a:ln w="0">
            <a:noFill/>
          </a:ln>
        </p:spPr>
        <p:txBody>
          <a:bodyPr lIns="0" rIns="0" anchor="t">
            <a:normAutofit fontScale="91000"/>
          </a:bodyPr>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احتراف في تنفيذ الأعمال (بذل العناية المهنية الواجبة</a:t>
            </a: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مكن الحكم على جودة خدمات المراجعة الداخلية من خلال جودة الأعمال التي يؤديها المراجعين الداخليين. </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المؤشر على جودة الأعمال التي يؤديها المراجعين الداخليين هو مدى أهمية الملاحظات التي تكتشفها والتوصيات التي تقدمها وحدات المراجعة الداخلية. </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وقف ذلك على كيفية تنفيذ وحدات المراجعة الداخلية للاعمال التي تقوم بها من حيث مراعاة التخطيط والتنفيذ الجيد للمهام المنفذة ومدى الإلتزام بالمعايير المهنية وقواعد السلوك المعني والأنظمة ذات العلاقة ، كما يتوقف على مدى تنظيم وإدارة وحدة المراجعة الداخلية.</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5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BB09-8C32-448C-B085-EA579732C0C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اجعة الداخلية : بؤرة النظام الرقابي</a:t>
            </a:r>
            <a:br>
              <a:rPr sz="4800"/>
            </a:br>
            <a:endParaRPr b="0" lang="en-US" sz="4800" spc="-1" strike="noStrike">
              <a:solidFill>
                <a:srgbClr val="404040"/>
              </a:solidFill>
              <a:latin typeface="Calibri Light"/>
            </a:endParaRPr>
          </a:p>
        </p:txBody>
      </p:sp>
      <p:sp>
        <p:nvSpPr>
          <p:cNvPr id="356" name=""/>
          <p:cNvSpPr txBox="1"/>
          <p:nvPr/>
        </p:nvSpPr>
        <p:spPr>
          <a:xfrm>
            <a:off x="821880" y="1846440"/>
            <a:ext cx="7543800" cy="402264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عد المراجعة الداخلية احد ادوات الرقابة التنظيمية وتقوم بقياس وتقويم فعالية وسائل الرقابة الاخرى</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تضح في المربع اعلاه اداوات نظام الرقابة الداخلية الاربع والتي من اهمها المراجعة الداخلية</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7"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358"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35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8F7A-E014-409A-8BAD-7389E52F783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60" name="Rectangle 6"/>
          <p:cNvSpPr/>
          <p:nvPr/>
        </p:nvSpPr>
        <p:spPr>
          <a:xfrm>
            <a:off x="1071720" y="2571840"/>
            <a:ext cx="7143480" cy="1571400"/>
          </a:xfrm>
          <a:prstGeom prst="rect">
            <a:avLst/>
          </a:prstGeom>
          <a:solidFill>
            <a:srgbClr val="ffffff"/>
          </a:solidFill>
          <a:ln w="15840">
            <a:solidFill>
              <a:srgbClr val="99cb3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قابة داخلية ادارية</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قابة داخلية محاسبية                المراجعة الداخلية</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ضبط الداخليا</a:t>
            </a:r>
            <a:endParaRPr b="0" lang="en-US" sz="2400" spc="-1" strike="noStrike">
              <a:solidFill>
                <a:srgbClr val="000000"/>
              </a:solidFill>
              <a:latin typeface="Times New Roman"/>
            </a:endParaRPr>
          </a:p>
        </p:txBody>
      </p:sp>
      <p:sp>
        <p:nvSpPr>
          <p:cNvPr id="361" name="Left Brace 7"/>
          <p:cNvSpPr/>
          <p:nvPr/>
        </p:nvSpPr>
        <p:spPr>
          <a:xfrm>
            <a:off x="5214960" y="2786040"/>
            <a:ext cx="500040" cy="1143000"/>
          </a:xfrm>
          <a:custGeom>
            <a:avLst/>
            <a:gdLst>
              <a:gd name="textAreaLeft" fmla="*/ 319680 w 500040"/>
              <a:gd name="textAreaRight" fmla="*/ 500400 w 500040"/>
              <a:gd name="textAreaTop" fmla="*/ 12960 h 1143000"/>
              <a:gd name="textAreaBottom" fmla="*/ 1130040 h 1143000"/>
            </a:gdLst>
            <a:ahLst/>
            <a:rect l="textAreaLeft" t="textAreaTop" r="textAreaRight" b="textAreaBottom"/>
            <a:pathLst>
              <a:path w="21600" h="21600">
                <a:moveTo>
                  <a:pt x="21600" y="0"/>
                </a:moveTo>
                <a:cubicBezTo>
                  <a:pt x="16200" y="0"/>
                  <a:pt x="10800" y="394"/>
                  <a:pt x="10800" y="787"/>
                </a:cubicBezTo>
                <a:lnTo>
                  <a:pt x="10800" y="10013"/>
                </a:lnTo>
                <a:cubicBezTo>
                  <a:pt x="10800" y="10407"/>
                  <a:pt x="5400" y="10800"/>
                  <a:pt x="0" y="10800"/>
                </a:cubicBezTo>
                <a:cubicBezTo>
                  <a:pt x="5400" y="10800"/>
                  <a:pt x="10800" y="11194"/>
                  <a:pt x="10800" y="11587"/>
                </a:cubicBezTo>
                <a:lnTo>
                  <a:pt x="10800" y="20813"/>
                </a:lnTo>
                <a:cubicBezTo>
                  <a:pt x="10800" y="21207"/>
                  <a:pt x="16200" y="21600"/>
                  <a:pt x="21600" y="21600"/>
                </a:cubicBezTo>
              </a:path>
            </a:pathLst>
          </a:custGeom>
          <a:noFill/>
          <a:ln w="12600">
            <a:solidFill>
              <a:srgbClr val="99cb3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63" name=""/>
          <p:cNvSpPr txBox="1"/>
          <p:nvPr/>
        </p:nvSpPr>
        <p:spPr>
          <a:xfrm>
            <a:off x="821880" y="1846440"/>
            <a:ext cx="7543800" cy="402264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منع وتقليل الأخطاء                           </a:t>
            </a:r>
            <a:endParaRPr b="0" lang="en-US" sz="26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تحدث الأخطاء بسبب الانحراف عن نظم الشركة وقواعدها بسبب فشل سياسات الفحص. وقد تحدث بسبب الإهمال أو الفحص غير الملائم، بسبب نقص المعرفة، وقد تكون الأخطاء نتيجة ضعف الإجراءات أو الفشل في ملاحظتها، أو نتيجة غياب إجراءات الرقابة الفعالة. </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وقع أن تكون للمراجعين الداخليين معرفة كافية وخبرة بإجراءات الرقابة، وأن يكونوا قادرين على تقديم النصح المقبول. وتعتبر أعمال الضبط والفحص الداخلي، ومنع وتقليل الأخطاء مسؤوليات إدارية. ويعتمد المديرون على وظيفة المراجعة الداخلية للحصول على التوجيه وضمان ملائمة نظم الرقابة الداخلية، والقدرة على تصحيح الأخطاء ومعالجتها بسرعة. </a:t>
            </a:r>
            <a:endParaRPr b="0" lang="en-US" sz="24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40C6-82E1-4F81-928B-BDF8C916D27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01360" y="542880"/>
            <a:ext cx="7589880" cy="15177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واضيع التي سيتم مناقشتها</a:t>
            </a:r>
            <a:br>
              <a:rPr sz="4800"/>
            </a:br>
            <a:endParaRPr b="0" lang="en-US" sz="4800" spc="-1" strike="noStrike">
              <a:solidFill>
                <a:srgbClr val="404040"/>
              </a:solidFill>
              <a:latin typeface="Calibri Light"/>
            </a:endParaRPr>
          </a:p>
        </p:txBody>
      </p:sp>
      <p:sp>
        <p:nvSpPr>
          <p:cNvPr id="306" name=""/>
          <p:cNvSpPr txBox="1"/>
          <p:nvPr/>
        </p:nvSpPr>
        <p:spPr>
          <a:xfrm>
            <a:off x="931680" y="1844640"/>
            <a:ext cx="7543800" cy="402264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عريف المراجعة الداخلية ،اهدافها ، دورها ،اهميتها</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جودة خدمات مهنة المراجعة الداخلية والعوامل المؤثرة عليها</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راجعة الداخلية : بؤرة النظام الرقابي</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حاجة إلى المراجعة الداخلية</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هام الأساسية للمراجعة الداخلية </a:t>
            </a:r>
            <a:endParaRPr b="0" lang="en-US" sz="2800" spc="-1" strike="noStrike">
              <a:solidFill>
                <a:srgbClr val="404040"/>
              </a:solidFill>
              <a:latin typeface="Calibri"/>
            </a:endParaRPr>
          </a:p>
          <a:p>
            <a:pPr marL="81000" indent="-8100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حاجة إلى خدمات المراجعة الداخلية في الوحدات الحكومية والمؤسسات العامة في المملكة العربية السعودية (وقائع عملية) </a:t>
            </a:r>
            <a:endParaRPr b="0" lang="en-US" sz="2800" spc="-1" strike="noStrike">
              <a:solidFill>
                <a:srgbClr val="404040"/>
              </a:solidFill>
              <a:latin typeface="Calibri"/>
            </a:endParaRPr>
          </a:p>
        </p:txBody>
      </p:sp>
      <p:sp>
        <p:nvSpPr>
          <p:cNvPr id="30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16E9-ABC0-424B-9249-B6181133771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66" name=""/>
          <p:cNvSpPr txBox="1"/>
          <p:nvPr/>
        </p:nvSpPr>
        <p:spPr>
          <a:xfrm>
            <a:off x="821880" y="1846080"/>
            <a:ext cx="7543800" cy="4462200"/>
          </a:xfrm>
          <a:prstGeom prst="rect">
            <a:avLst/>
          </a:prstGeom>
          <a:noFill/>
          <a:ln w="0">
            <a:noFill/>
          </a:ln>
        </p:spPr>
        <p:txBody>
          <a:bodyPr lIns="0" rIns="0" anchor="t">
            <a:normAutofit fontScale="89000"/>
          </a:bodyPr>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تبعاد أسباب الإسراف والضياع                          </a:t>
            </a:r>
            <a:r>
              <a:rPr b="0" lang="en-US" sz="1900" spc="-1" strike="noStrike">
                <a:solidFill>
                  <a:srgbClr val="404040"/>
                </a:solidFill>
                <a:latin typeface="Calibri"/>
              </a:rPr>
              <a:t>	</a:t>
            </a:r>
            <a:endParaRPr b="0" lang="en-US" sz="19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ستؤدي أسباب الإسراف والضياع إلى عدم كفاءة الأداء. وينشأ الإسراف والضياع بسبب نقص أدوات الرقابة. ويمكن أن ينشأ الإسراف والضباع بسبب:</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ضعف التنظيمي عندما لا تتم مقابلة المساءلة المحاسبية مع السلطة أو مقابلة المهارات بالأعمال والواجبات. </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ضعف جودة القرارات.</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عدم الاستخدام الكفء للموارد في حالة عدم ملائمة تخطيط وتنسيق عمليات المنشأة. </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المغالاة في تكاليف التوظيف بسبب إهمال الحوافز وعدم وضوح وملائمة الإشراف والتوجيه. </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5</a:t>
            </a:r>
            <a:r>
              <a:rPr b="0" lang="ar-SA" sz="2000" spc="-1" strike="noStrike">
                <a:solidFill>
                  <a:srgbClr val="404040"/>
                </a:solidFill>
                <a:latin typeface="Calibri"/>
                <a:ea typeface="Arial"/>
              </a:rPr>
              <a:t>) مخاطر الشراء بسبب عدم التحديد الدقيق للأصناف أو ضعف عملية التفويض بالشراء. </a:t>
            </a:r>
            <a:endParaRPr b="0" lang="en-US" sz="2000" spc="-1" strike="noStrike">
              <a:solidFill>
                <a:srgbClr val="404040"/>
              </a:solidFill>
              <a:latin typeface="Calibri"/>
            </a:endParaRPr>
          </a:p>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6</a:t>
            </a:r>
            <a:r>
              <a:rPr b="0" lang="ar-SA" sz="2000" spc="-1" strike="noStrike">
                <a:solidFill>
                  <a:srgbClr val="404040"/>
                </a:solidFill>
                <a:latin typeface="Calibri"/>
                <a:ea typeface="Arial"/>
              </a:rPr>
              <a:t>) الاستهلاك المفرط بسبب عدم دقة المعايير. </a:t>
            </a:r>
            <a:endParaRPr b="0" lang="en-US" sz="2000" spc="-1" strike="noStrike">
              <a:solidFill>
                <a:srgbClr val="404040"/>
              </a:solidFill>
              <a:latin typeface="Calibri"/>
            </a:endParaRPr>
          </a:p>
        </p:txBody>
      </p:sp>
      <p:sp>
        <p:nvSpPr>
          <p:cNvPr id="36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B25F-202F-4770-AFA4-9661AE749622}"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69" name=""/>
          <p:cNvSpPr txBox="1"/>
          <p:nvPr/>
        </p:nvSpPr>
        <p:spPr>
          <a:xfrm>
            <a:off x="821880" y="1736640"/>
            <a:ext cx="7543800" cy="457200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7</a:t>
            </a:r>
            <a:r>
              <a:rPr b="0" lang="ar-SA" sz="2200" spc="-1" strike="noStrike">
                <a:solidFill>
                  <a:srgbClr val="404040"/>
                </a:solidFill>
                <a:latin typeface="Calibri"/>
                <a:ea typeface="Arial"/>
              </a:rPr>
              <a:t>) انكماش المخزون أو تقليصه بسبب الإهمال.</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8</a:t>
            </a:r>
            <a:r>
              <a:rPr b="0" lang="ar-SA" sz="2200" spc="-1" strike="noStrike">
                <a:solidFill>
                  <a:srgbClr val="404040"/>
                </a:solidFill>
                <a:latin typeface="Calibri"/>
                <a:ea typeface="Arial"/>
              </a:rPr>
              <a:t>) تآكل قيم الأصول والموارد الأخرى بسبب إهمال الحاجة إلى حمايتها.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9</a:t>
            </a:r>
            <a:r>
              <a:rPr b="0" lang="ar-SA" sz="2200" spc="-1" strike="noStrike">
                <a:solidFill>
                  <a:srgbClr val="404040"/>
                </a:solidFill>
                <a:latin typeface="Calibri"/>
                <a:ea typeface="Arial"/>
              </a:rPr>
              <a:t>) المخالفات والسرقات بسبب فشل الإدارة في منع الأخطاء والمخالفات وتعزيز عامل الأمانة.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cs typeface="Arial"/>
              </a:rPr>
              <a:t>ويتضمن نطاق المراجعة الداخلية الحديثة الفحص التشغيلي متضمناً الفحص الانتقادي لجوانب الكفاءة والفعالية ويتضمن هذا العمل فحص مدى فعالية تنفيذ سياسات الإدارة، وتحديد كفاءة واقتصادية عمليات المنشأة، وتقويم النتائج في ضوء أهداف الإدارة. </a:t>
            </a:r>
            <a:endParaRPr b="0" lang="en-US" sz="2200" spc="-1" strike="noStrike">
              <a:solidFill>
                <a:srgbClr val="404040"/>
              </a:solidFill>
              <a:latin typeface="Calibri"/>
            </a:endParaRPr>
          </a:p>
          <a:p>
            <a:pPr marL="85680" indent="-856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cs typeface="Arial"/>
              </a:rPr>
              <a:t>وعن طريق تحديد مواطن حدوث الضياع والإسراف وتحديد والمجالات الرقابية التي تحتاج إلى تدعيم، فإنه يمكن ترتيب الأولويات عند اتخاذ الإجراءات المصححة. وبهذه الطريقة فإن المراجعة التشغيلية توفر خدمة قيمة في مساعدة الإدارة على تحسين الأداء التشغيلي. </a:t>
            </a:r>
            <a:endParaRPr b="0" lang="en-US" sz="2200" spc="-1" strike="noStrike">
              <a:solidFill>
                <a:srgbClr val="404040"/>
              </a:solidFill>
              <a:latin typeface="Calibri"/>
            </a:endParaRPr>
          </a:p>
          <a:p>
            <a:pPr marL="85680" indent="-856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37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C552D-D9AC-4A8B-9BAE-BEB986DBCE5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2" name=""/>
          <p:cNvSpPr txBox="1"/>
          <p:nvPr/>
        </p:nvSpPr>
        <p:spPr>
          <a:xfrm>
            <a:off x="821880" y="1736640"/>
            <a:ext cx="7543800" cy="4572000"/>
          </a:xfrm>
          <a:prstGeom prst="rect">
            <a:avLst/>
          </a:prstGeom>
          <a:noFill/>
          <a:ln w="0">
            <a:noFill/>
          </a:ln>
        </p:spPr>
        <p:txBody>
          <a:bodyPr lIns="0" rIns="0" anchor="t">
            <a:normAutofit fontScale="89000"/>
          </a:bodyPr>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حاجة إلى رقابة موثوق بها </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تضعف عملية إعداد التقارير الإدارية نتيجة لضعف النظام الذي يعطي معلومات غير دقيقة أو غير كاملة، أو حتى معلومات زائدة تزيد من عبء الإدارة في التعامل معها. وقد يرجع ضعف النظام إلى التصميم الخاطئ، وإلى الحاجة إلى التعديل للتمشي مع الظروف المتغيرة، وإلى الانحرافات في التطبيق وبذلك فإن المعلومات الناتجة قد تكون مضللة أو غير ذات معنى. </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ؤدي أخطاء التقرير هذه إلى قرارات إدارية غير صحيحة، وبالتالي تكون هناك حاجة منفصلة لمواجهة تحديات التغير، لتحقيق المصداقية والمعولية والرقابة للمعلومات المستخدمة أساساً لاتخاذ القرارات الإدارية. وهذا هو الدور الرئيس للمراجعة الداخلية. كما أن منع فشل الرقابة، وتحديد الأخطاء وتصحيح مواطن الضعف في التقرير، كلها عوامل تساعد الإدارة على إدارة شؤون المنشأة بشكل أكثر فعالية وعلى الاستخدام الكفء للموارد. </a:t>
            </a:r>
            <a:endParaRPr b="0" lang="en-US" sz="2400" spc="-1" strike="noStrike">
              <a:solidFill>
                <a:srgbClr val="404040"/>
              </a:solidFill>
              <a:latin typeface="Calibri"/>
            </a:endParaRPr>
          </a:p>
          <a:p>
            <a:pPr marL="80280" indent="-80280" algn="just">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7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0B23-E395-49F6-83D8-B264701E319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5" name=""/>
          <p:cNvSpPr txBox="1"/>
          <p:nvPr/>
        </p:nvSpPr>
        <p:spPr>
          <a:xfrm>
            <a:off x="821880" y="1846440"/>
            <a:ext cx="7543800" cy="4319280"/>
          </a:xfrm>
          <a:prstGeom prst="rect">
            <a:avLst/>
          </a:prstGeom>
          <a:noFill/>
          <a:ln w="0">
            <a:noFill/>
          </a:ln>
        </p:spPr>
        <p:txBody>
          <a:bodyPr lIns="0" rIns="0" anchor="t">
            <a:normAutofit fontScale="98000"/>
          </a:bodyPr>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التزام بالقوانين</a:t>
            </a:r>
            <a:endParaRPr b="0" lang="en-US" sz="24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فرض التشريع عبئاً متزايداً من الالتزامات القانونية على جميع المنشآت؛ مثل التزامات الضريبة والتزامات حماية البيئة، والتزامات تجاه الجمهور والعملاء والعاملين والمساهمين. وتتحمل إدارة الشركة مسؤولية الوفاء بهذه الالتزامات، ويتعين أن تكون قادرة على وضع نظم للرقابة الداخلية تضمن الالتزام بالقوانين والنظم الموضوعة. </a:t>
            </a:r>
            <a:endParaRPr b="0" lang="en-US" sz="24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عتبر ذلك دوراً رئيساً آخر للمراجعة الداخلية يتضمن فحص ملائمة مثل هذه النظم الرقابية وفعاليتها. وسوف يكشف هذا الفحص عن الحاجة إلى التعديل، وعن مواطن الضعف أو الفجوات. كما أنه سوف يعطي الإدارة تأكيداً مناسباً بمدى الالتزام بالقوانين. </a:t>
            </a:r>
            <a:endParaRPr b="0" lang="en-US" sz="2400" spc="-1" strike="noStrike">
              <a:solidFill>
                <a:srgbClr val="404040"/>
              </a:solidFill>
              <a:latin typeface="Calibri"/>
            </a:endParaRPr>
          </a:p>
          <a:p>
            <a:pPr marL="88200" indent="-8820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7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F688-D8D0-4B6B-B587-E20D8A7C73D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8" name=""/>
          <p:cNvSpPr txBox="1"/>
          <p:nvPr/>
        </p:nvSpPr>
        <p:spPr>
          <a:xfrm>
            <a:off x="821880" y="1736280"/>
            <a:ext cx="7543800" cy="472284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منع الغش والمخالفات</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تؤدي العيوب الأخلاقية إلى وجود الأخطاء والمخالفات. وتعتبر المراجعة الداخلية رادعاً للانحرافات ونقض الثقة، إذ من المفترض أن نعتبر توفير المراجعين الداخليين جزءاً من جدار (بناء) الثقة في الشركة. وتقوم استفسارات المراجعة على افتراض مسبق أنه لا يحدث نقض للثقة عن طريق التواطؤ أو غيره. كما يجب أن يتجنب المراجعون الداخليون افتراض الغش والتلاعب. مثل هذا الاتجاه قد يدمر مصداقيتهم وينفرهم من كل شخص في موضع ثقة. ومع ذلك فإن كل مراجع داخلي عليه أن يكون يقظاً في جميع الأوقات لاحتمالات حدوث المخالفات.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من مسؤولية الإدارة منع الغش والتلاعب. ومن الضروري تهيئة مناخ الأمانة والثقة داخل الشركة لمنع التصرفات الخاطئة. ويتحقق ذلك بصفة أساسية عن طريق إظهار أمانة ومعتمدية الإدارة وذلك من خلال السلوك النموذجي، ويجب عليها أيضاً أن تتعامل بحزم وبشكل عادل مع كل الانحرافات لكشفها، وجعلها معروفة. وينبغي أن تكون المراجعة الداخلية على درجة من الكفاءة لتوفير الإرشادات والإجراءات اللازمة لمنع الغش والتلاعب، وإدارة أية فحوصات لتقليل الغش إذا ما توفر سبب يبعث على الاعتقاد بحدوث الغش والتلاعب.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52BA-7A07-4ECB-99F5-C0DD3394CCE3}"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21880" y="692280"/>
            <a:ext cx="7543800" cy="1296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مهام الأساسية للمراجعة الداخلية</a:t>
            </a:r>
            <a:r>
              <a:rPr b="0" lang="ar-SA" sz="4300" spc="-1" strike="noStrike">
                <a:solidFill>
                  <a:srgbClr val="404040"/>
                </a:solidFill>
                <a:latin typeface="Calibri Light"/>
                <a:ea typeface="Times New Roman"/>
              </a:rPr>
              <a:t> </a:t>
            </a:r>
            <a:br>
              <a:rPr sz="4300"/>
            </a:br>
            <a:endParaRPr b="0" lang="en-US" sz="4300" spc="-1" strike="noStrike">
              <a:solidFill>
                <a:srgbClr val="404040"/>
              </a:solidFill>
              <a:latin typeface="Calibri Light"/>
            </a:endParaRPr>
          </a:p>
        </p:txBody>
      </p:sp>
      <p:sp>
        <p:nvSpPr>
          <p:cNvPr id="381" name=""/>
          <p:cNvSpPr txBox="1"/>
          <p:nvPr/>
        </p:nvSpPr>
        <p:spPr>
          <a:xfrm>
            <a:off x="821880" y="1846440"/>
            <a:ext cx="7543800" cy="402264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مكن تقسيم نشاط المراجعة الداخلية بحسب طبيعة العمليات التي يؤديها إلى اربعة اقسام هي : </a:t>
            </a:r>
            <a:endParaRPr b="0" lang="en-US" sz="28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a:t>
            </a:r>
            <a:r>
              <a:rPr b="0" lang="ar-SA" sz="2800" spc="-1" strike="noStrike">
                <a:solidFill>
                  <a:srgbClr val="404040"/>
                </a:solidFill>
                <a:latin typeface="Calibri"/>
                <a:cs typeface="Arial"/>
              </a:rPr>
              <a:t>مراجعة النظم</a:t>
            </a:r>
            <a:endParaRPr b="0" lang="en-US" sz="28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a:t>
            </a:r>
            <a:r>
              <a:rPr b="0" lang="ar-SA" sz="2800" spc="-1" strike="noStrike">
                <a:solidFill>
                  <a:srgbClr val="404040"/>
                </a:solidFill>
                <a:latin typeface="Calibri"/>
                <a:cs typeface="Arial"/>
              </a:rPr>
              <a:t>المراجعة التشغيلية وتقويم الأداء</a:t>
            </a:r>
            <a:endParaRPr b="0" lang="en-US" sz="28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a:t>
            </a:r>
            <a:r>
              <a:rPr b="0" lang="ar-SA" sz="2800" spc="-1" strike="noStrike">
                <a:solidFill>
                  <a:srgbClr val="404040"/>
                </a:solidFill>
                <a:latin typeface="Calibri"/>
                <a:cs typeface="Arial"/>
              </a:rPr>
              <a:t>مراجعة الإلتزام</a:t>
            </a:r>
            <a:endParaRPr b="0" lang="en-US" sz="28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a:t>
            </a:r>
            <a:r>
              <a:rPr b="0" lang="ar-SA" sz="2800" spc="-1" strike="noStrike">
                <a:solidFill>
                  <a:srgbClr val="404040"/>
                </a:solidFill>
                <a:latin typeface="Calibri"/>
                <a:cs typeface="Arial"/>
              </a:rPr>
              <a:t>المراجعة المالية</a:t>
            </a:r>
            <a:endParaRPr b="0" lang="en-US" sz="2800" spc="-1" strike="noStrike">
              <a:solidFill>
                <a:srgbClr val="404040"/>
              </a:solidFill>
              <a:latin typeface="Calibri"/>
            </a:endParaRPr>
          </a:p>
          <a:p>
            <a:pP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D746-5256-4FF2-995D-28D90D4E94D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84"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نظم</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قصد بالنظم هنا النظم المطبقة بالوحدة الحكومية وعلى رأسها نظم الرقابة الداخلية والنظم محاسبية. وتتمثل مراجعة النظم في ذلك النشاط الذي يقوم به المراجع الداخلي بغرض التأكد من كفاية وفعالية النظم التي تتبناها الوحدة بغرض توفير الحماية الكافية للأصول والسجلات، والعمل على اكتشاف ومنع الأخطاء والمخالفات وضمان دقة البيانات المحاسبية.  وفي المنشآت التي تتبع نظم الحاسب الألي يكون الهدف هو التأكد من اكتمال هذه النظم ومأمونيتها، وأيضاً صلاحية الرقابة الداخلية المستخدمة، بالإضافة إلى الفعالية الفنية للنظم الالكترونية</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8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7A20-3B52-46C5-9452-CFF3EABA717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87"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مراجعة التشغيلية وتقويم الأداء</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شمل مراجعة الانشطة والسيايات والاجراءات والعمليات للتحقق من كفايتها وانتظامها ،وذلك بهدف مراجعتها واعداد التقرير وتقديم التوصيات اللازمة للادار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7828-80E1-4350-810C-8D4A6BD8CD5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0"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الالتزام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تمثل في النشاط الذي يقوم به المراجع الداخلي لمراجعة الالتزام بالمتطلبات النظامية والقانونية، وأيضاً ضمان الالتزام بالسياسات والإجراءات التي تتبناها الإدارة والسلطات العليا.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1718-9C5D-4843-8C2F-2654030FE57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3"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مراجعة الما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وتتمثل في النشاط الذي يقوم به المراجع الداخلي بغرض فحص ومراجعة الجوانب المالية في الوحدة. وتتركز اهتمامات المراجع الداخلي في هذا المجال في مراجعة العمليات المالية وعناصر الحساب الختامي للوحدة الحكوم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DD94-1EE5-4B7B-82D2-ED3AC5E6CC3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Arial"/>
                <a:cs typeface="Arial"/>
              </a:rPr>
              <a:t>تعريف المراجعة الداخلية</a:t>
            </a:r>
            <a:r>
              <a:rPr b="0" lang="ar-SA" sz="4800" spc="-1" strike="noStrike">
                <a:solidFill>
                  <a:srgbClr val="404040"/>
                </a:solidFill>
                <a:latin typeface="Arial"/>
                <a:ea typeface="Arial"/>
              </a:rPr>
              <a:t>   </a:t>
            </a:r>
            <a:r>
              <a:rPr b="0" lang="en-US" sz="4800" spc="-1" strike="noStrike">
                <a:solidFill>
                  <a:srgbClr val="404040"/>
                </a:solidFill>
                <a:latin typeface="Arial"/>
                <a:ea typeface="Arial"/>
              </a:rPr>
              <a:t> </a:t>
            </a:r>
            <a:r>
              <a:rPr b="0" lang="ar-SA" sz="4800" spc="-1" strike="noStrike">
                <a:solidFill>
                  <a:srgbClr val="404040"/>
                </a:solidFill>
                <a:latin typeface="Arial"/>
                <a:ea typeface="Arial"/>
              </a:rPr>
              <a:t> </a:t>
            </a:r>
            <a:endParaRPr b="0" lang="en-US" sz="4800" spc="-1" strike="noStrike">
              <a:solidFill>
                <a:srgbClr val="404040"/>
              </a:solidFill>
              <a:latin typeface="Calibri Light"/>
            </a:endParaRPr>
          </a:p>
        </p:txBody>
      </p:sp>
      <p:sp>
        <p:nvSpPr>
          <p:cNvPr id="309" name=""/>
          <p:cNvSpPr txBox="1"/>
          <p:nvPr/>
        </p:nvSpPr>
        <p:spPr>
          <a:xfrm>
            <a:off x="822240" y="1980720"/>
            <a:ext cx="7586640" cy="2600280"/>
          </a:xfrm>
          <a:prstGeom prst="rect">
            <a:avLst/>
          </a:prstGeom>
          <a:noFill/>
          <a:ln w="0">
            <a:noFill/>
          </a:ln>
        </p:spPr>
        <p:txBody>
          <a:bodyPr lIns="0" rIns="0" anchor="ctr">
            <a:normAutofit/>
          </a:bodyPr>
          <a:p>
            <a:pPr marL="90360" indent="1764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مراجعة الداخلية نشاط مستقل ينطوي على تقديم تأكيد موضوعي وتقديم استشارات ،وتصمم المراجعة الداخلية بطريقة تضيف قيمة الى العمليات التنظيمية.</a:t>
            </a:r>
            <a:endParaRPr b="0" lang="en-US" sz="3200" spc="-1" strike="noStrike">
              <a:solidFill>
                <a:srgbClr val="404040"/>
              </a:solidFill>
              <a:latin typeface="Calibri"/>
            </a:endParaRPr>
          </a:p>
        </p:txBody>
      </p:sp>
      <p:sp>
        <p:nvSpPr>
          <p:cNvPr id="31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5764-31A2-42F9-96F8-D71ED9E44CA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6"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السلوك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قصد بمراجعة السلوك التأكد من إلتزام العاملين بالوحدة بالقواعد السلوكية التي تتبناها الوحدة مثل عدم التدخين في المكاتب أو الالتزام بزي معين. فمثلا في بعض الوحدات الحكومية بالتحديد المستشفيات حيث يسمح بالإختلاط يكون من القواعد المعمول بها عدم ارتداء النساء للملابس من نوع الجينز أو البنطلونات بصفة عا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DB49-A2A5-41D2-8BA9-D5C8A259E8F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9"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وظيفة اضاف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قديم المشورة والدعم للإدار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قد تلجا الإدارة إلى وحدة المراجعة الداخلية لطلب المشورة في أمور معينة مثل إعداد الموازنات أو الدراسات الإستشار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54758-15DE-423B-8BE6-968B5B738CE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6920"/>
            <a:ext cx="7543800" cy="18464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حالة الأولى</a:t>
            </a:r>
            <a:br>
              <a:rPr sz="4300"/>
            </a:br>
            <a:r>
              <a:rPr b="0" lang="ar-SA" sz="4300" spc="-1" strike="noStrike">
                <a:solidFill>
                  <a:srgbClr val="404040"/>
                </a:solidFill>
                <a:latin typeface="Calibri Light"/>
                <a:cs typeface="Times New Roman"/>
              </a:rPr>
              <a:t>النمو المستمر في أرصدة العهد</a:t>
            </a:r>
            <a:r>
              <a:rPr b="0" lang="ar-SA" sz="4300" spc="-1" strike="noStrike">
                <a:solidFill>
                  <a:srgbClr val="404040"/>
                </a:solidFill>
                <a:latin typeface="Calibri Light"/>
                <a:ea typeface="Times New Roman"/>
              </a:rPr>
              <a:t>:</a:t>
            </a:r>
            <a:br>
              <a:rPr sz="4300"/>
            </a:br>
            <a:endParaRPr b="0" lang="en-US" sz="4300" spc="-1" strike="noStrike">
              <a:solidFill>
                <a:srgbClr val="404040"/>
              </a:solidFill>
              <a:latin typeface="Calibri Light"/>
            </a:endParaRPr>
          </a:p>
        </p:txBody>
      </p:sp>
      <p:sp>
        <p:nvSpPr>
          <p:cNvPr id="402"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أشار الأستاذ عوض بن مرشد الرحيلي المشرف العام على مكتب التقارير بديوان المراقبة العامة إلى أن إجمالي أرصدة العهد في نهاية السنة المالية </a:t>
            </a:r>
            <a:r>
              <a:rPr b="0" lang="ar-SA" sz="2800" spc="-1" strike="noStrike">
                <a:solidFill>
                  <a:srgbClr val="404040"/>
                </a:solidFill>
                <a:latin typeface="Calibri"/>
                <a:ea typeface="Arial"/>
              </a:rPr>
              <a:t>26</a:t>
            </a:r>
            <a:r>
              <a:rPr b="0" lang="ar-SA" sz="2800" spc="-1" strike="noStrike">
                <a:solidFill>
                  <a:srgbClr val="404040"/>
                </a:solidFill>
                <a:latin typeface="Calibri"/>
                <a:ea typeface="Arial"/>
              </a:rPr>
              <a:t> /</a:t>
            </a:r>
            <a:r>
              <a:rPr b="0" lang="ar-SA" sz="2800" spc="-1" strike="noStrike">
                <a:solidFill>
                  <a:srgbClr val="404040"/>
                </a:solidFill>
                <a:latin typeface="Calibri"/>
                <a:ea typeface="Arial"/>
              </a:rPr>
              <a:t>27</a:t>
            </a:r>
            <a:r>
              <a:rPr b="0" lang="ar-SA" sz="2800" spc="-1" strike="noStrike">
                <a:solidFill>
                  <a:srgbClr val="404040"/>
                </a:solidFill>
                <a:latin typeface="Calibri"/>
                <a:ea typeface="Arial"/>
              </a:rPr>
              <a:t> هـ بلغ </a:t>
            </a:r>
            <a:r>
              <a:rPr b="0" lang="ar-SA" sz="2800" spc="-1" strike="noStrike">
                <a:solidFill>
                  <a:srgbClr val="404040"/>
                </a:solidFill>
                <a:latin typeface="Calibri"/>
                <a:ea typeface="Arial"/>
              </a:rPr>
              <a:t>25.3</a:t>
            </a:r>
            <a:r>
              <a:rPr b="0" lang="ar-SA" sz="2800" spc="-1" strike="noStrike">
                <a:solidFill>
                  <a:srgbClr val="404040"/>
                </a:solidFill>
                <a:latin typeface="Calibri"/>
                <a:ea typeface="Arial"/>
              </a:rPr>
              <a:t> مليار ريال مقابل </a:t>
            </a:r>
            <a:r>
              <a:rPr b="0" lang="ar-SA" sz="2800" spc="-1" strike="noStrike">
                <a:solidFill>
                  <a:srgbClr val="404040"/>
                </a:solidFill>
                <a:latin typeface="Calibri"/>
                <a:ea typeface="Arial"/>
              </a:rPr>
              <a:t>16.7</a:t>
            </a:r>
            <a:r>
              <a:rPr b="0" lang="ar-SA" sz="2800" spc="-1" strike="noStrike">
                <a:solidFill>
                  <a:srgbClr val="404040"/>
                </a:solidFill>
                <a:latin typeface="Calibri"/>
                <a:ea typeface="Arial"/>
              </a:rPr>
              <a:t> مليار ريال في عام </a:t>
            </a:r>
            <a:r>
              <a:rPr b="0" lang="ar-SA" sz="2800" spc="-1" strike="noStrike">
                <a:solidFill>
                  <a:srgbClr val="404040"/>
                </a:solidFill>
                <a:latin typeface="Calibri"/>
                <a:ea typeface="Arial"/>
              </a:rPr>
              <a:t>25/26</a:t>
            </a:r>
            <a:r>
              <a:rPr b="0" lang="ar-SA" sz="2800" spc="-1" strike="noStrike">
                <a:solidFill>
                  <a:srgbClr val="404040"/>
                </a:solidFill>
                <a:latin typeface="Calibri"/>
                <a:ea typeface="Arial"/>
              </a:rPr>
              <a:t> هـ أي بزيادة قدرها </a:t>
            </a:r>
            <a:r>
              <a:rPr b="0" lang="ar-SA" sz="2800" spc="-1" strike="noStrike">
                <a:solidFill>
                  <a:srgbClr val="404040"/>
                </a:solidFill>
                <a:latin typeface="Calibri"/>
                <a:ea typeface="Arial"/>
              </a:rPr>
              <a:t>8.6</a:t>
            </a:r>
            <a:r>
              <a:rPr b="0" lang="ar-SA" sz="2800" spc="-1" strike="noStrike">
                <a:solidFill>
                  <a:srgbClr val="404040"/>
                </a:solidFill>
                <a:latin typeface="Calibri"/>
                <a:ea typeface="Arial"/>
              </a:rPr>
              <a:t> مليار ريال. وذلك على الرغم من الجهود التي يبذلها الديوان لتسوية هذه العهد من قبل الأجهزة الحكومية المختصة إلا أن النمو في الرصيد ما زال مستمر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76B5-7C91-4B52-9A86-D42EAAD32A9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47440" y="549360"/>
            <a:ext cx="7543800" cy="1727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cs typeface="Times New Roman"/>
              </a:rPr>
              <a:t>الحالة الثانية</a:t>
            </a:r>
            <a:br>
              <a:rPr sz="4000"/>
            </a:br>
            <a:r>
              <a:rPr b="0" lang="ar-SA" sz="4000" spc="-1" strike="noStrike">
                <a:solidFill>
                  <a:srgbClr val="404040"/>
                </a:solidFill>
                <a:latin typeface="Calibri Light"/>
                <a:cs typeface="Times New Roman"/>
              </a:rPr>
              <a:t>تعثر سداد </a:t>
            </a:r>
            <a:r>
              <a:rPr b="0" lang="ar-SA" sz="4000" spc="-1" strike="noStrike">
                <a:solidFill>
                  <a:srgbClr val="404040"/>
                </a:solidFill>
                <a:latin typeface="Calibri Light"/>
                <a:ea typeface="Times New Roman"/>
              </a:rPr>
              <a:t>44</a:t>
            </a:r>
            <a:r>
              <a:rPr b="0" lang="ar-SA" sz="4000" spc="-1" strike="noStrike">
                <a:solidFill>
                  <a:srgbClr val="404040"/>
                </a:solidFill>
                <a:latin typeface="Calibri Light"/>
                <a:ea typeface="Times New Roman"/>
              </a:rPr>
              <a:t> بليون لصناديق الإقراض الحكومية</a:t>
            </a:r>
            <a:br>
              <a:rPr sz="4000"/>
            </a:br>
            <a:endParaRPr b="0" lang="en-US" sz="4000" spc="-1" strike="noStrike">
              <a:solidFill>
                <a:srgbClr val="404040"/>
              </a:solidFill>
              <a:latin typeface="Calibri Light"/>
            </a:endParaRPr>
          </a:p>
        </p:txBody>
      </p:sp>
      <p:sp>
        <p:nvSpPr>
          <p:cNvPr id="405" name=""/>
          <p:cNvSpPr txBox="1"/>
          <p:nvPr/>
        </p:nvSpPr>
        <p:spPr>
          <a:xfrm>
            <a:off x="821880" y="1846080"/>
            <a:ext cx="7543800" cy="4462200"/>
          </a:xfrm>
          <a:prstGeom prst="rect">
            <a:avLst/>
          </a:prstGeom>
          <a:noFill/>
          <a:ln w="0">
            <a:noFill/>
          </a:ln>
        </p:spPr>
        <p:txBody>
          <a:bodyPr lIns="0" rIns="0" anchor="t">
            <a:normAutofit fontScale="89000"/>
          </a:bodyPr>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كشف ديوان المراقبة العامة عن تدني تحصيل القروض المستحقة لصناديق الإقراض الحكومية، معلناً ان إجمالي القروض المستحقة السداد، بلغت مع نهاية العام الماضي </a:t>
            </a:r>
            <a:r>
              <a:rPr b="0" lang="ar-SA" sz="2400" spc="-1" strike="noStrike">
                <a:solidFill>
                  <a:srgbClr val="404040"/>
                </a:solidFill>
                <a:latin typeface="Calibri"/>
                <a:ea typeface="Arial"/>
              </a:rPr>
              <a:t>44</a:t>
            </a:r>
            <a:r>
              <a:rPr b="0" lang="ar-SA" sz="2400" spc="-1" strike="noStrike">
                <a:solidFill>
                  <a:srgbClr val="404040"/>
                </a:solidFill>
                <a:latin typeface="Calibri"/>
                <a:ea typeface="Arial"/>
              </a:rPr>
              <a:t> بليون ريال.وأوضح ديوان المراقبة العامة، في تقريره السنوي الأخير، الذي رفعه إلى مجلس الشورى وأفادت ( صحيفة الحياة ) أن جملة أقساط القروض المستحقة السداد مرتفعة في الغالبية من صناديق الإقراض التنموي، وهو ما أضعف قدرة تلك المؤسسات على تقديم قروض جديدة لمواطنين آخرين. ووضعت اللجنة المالية في المجلس، توصياتها على تقرير ديوان المراقبة العامة، وينتظر أن تتم مناقشته والاستماع إلى وجهة نظر الأعضاء خلال الأسبوعين المقبلين.</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كانت اللجنة المالية في المجلس أوصت بالتأكيد على الأجهزة الحكومية كافة، تفعيل وحدات المتابعة لديها للعمل على متابعة أعمالها، والتأكد من سلامة تنفيذها، وتؤكد اللجنة أهمية تفعيل دور إدارات المتابعة في تحسين بيئة وإجراءات العمل ورفع كفاءة التنفيذ.</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0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5E5E-E65C-4825-92CC-B3559341639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عريف المراجعة الداخلية</a:t>
            </a:r>
            <a:endParaRPr b="0" lang="en-US" sz="4800" spc="-1" strike="noStrike">
              <a:solidFill>
                <a:srgbClr val="404040"/>
              </a:solidFill>
              <a:latin typeface="Calibri Light"/>
            </a:endParaRPr>
          </a:p>
        </p:txBody>
      </p:sp>
      <p:sp>
        <p:nvSpPr>
          <p:cNvPr id="312" name=""/>
          <p:cNvSpPr txBox="1"/>
          <p:nvPr/>
        </p:nvSpPr>
        <p:spPr>
          <a:xfrm>
            <a:off x="821880" y="2060280"/>
            <a:ext cx="7543800" cy="3600360"/>
          </a:xfrm>
          <a:prstGeom prst="rect">
            <a:avLst/>
          </a:prstGeom>
          <a:noFill/>
          <a:ln w="0">
            <a:noFill/>
          </a:ln>
        </p:spPr>
        <p:txBody>
          <a:bodyPr lIns="0" rIns="0" anchor="t">
            <a:normAutofit fontScale="97000"/>
          </a:bodyPr>
          <a:p>
            <a:pPr marL="87480" indent="-8748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مراجعة الداخلية تساعد التنظيم في انجاز اهدافه وذلك من خلال تبنيها لمداخل علمية منظمة لتقييم وتحسين فعالية العمليات التي تهدف الى</a:t>
            </a:r>
            <a:endParaRPr b="0" lang="en-US" sz="3200" spc="-1" strike="noStrike">
              <a:solidFill>
                <a:srgbClr val="404040"/>
              </a:solidFill>
              <a:latin typeface="Calibri"/>
            </a:endParaRPr>
          </a:p>
          <a:p>
            <a:pPr marL="87480" indent="-87480" algn="r"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دارة المخاطر،</a:t>
            </a:r>
            <a:endParaRPr b="0" lang="en-US" sz="3200" spc="-1" strike="noStrike">
              <a:solidFill>
                <a:srgbClr val="404040"/>
              </a:solidFill>
              <a:latin typeface="Calibri"/>
            </a:endParaRPr>
          </a:p>
          <a:p>
            <a:pPr marL="87480" indent="-87480" algn="r"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رقابة التنظيمية،و</a:t>
            </a:r>
            <a:endParaRPr b="0" lang="en-US" sz="3200" spc="-1" strike="noStrike">
              <a:solidFill>
                <a:srgbClr val="404040"/>
              </a:solidFill>
              <a:latin typeface="Calibri"/>
            </a:endParaRPr>
          </a:p>
          <a:p>
            <a:pPr marL="87480" indent="-87480" algn="r"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فرض آليات الحوكمة.</a:t>
            </a:r>
            <a:endParaRPr b="0" lang="en-US" sz="3200" spc="-1" strike="noStrike">
              <a:solidFill>
                <a:srgbClr val="404040"/>
              </a:solidFill>
              <a:latin typeface="Calibri"/>
            </a:endParaRPr>
          </a:p>
        </p:txBody>
      </p:sp>
      <p:sp>
        <p:nvSpPr>
          <p:cNvPr id="31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57C7-9E76-4B13-980F-8732C564CAA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Arial"/>
                <a:cs typeface="Arial"/>
              </a:rPr>
              <a:t>أهداف المراجعة الداخلية   </a:t>
            </a:r>
            <a:endParaRPr b="0" lang="en-US" sz="4800" spc="-1" strike="noStrike">
              <a:solidFill>
                <a:srgbClr val="404040"/>
              </a:solidFill>
              <a:latin typeface="Calibri Light"/>
            </a:endParaRPr>
          </a:p>
        </p:txBody>
      </p:sp>
      <p:sp>
        <p:nvSpPr>
          <p:cNvPr id="315" name=""/>
          <p:cNvSpPr txBox="1"/>
          <p:nvPr/>
        </p:nvSpPr>
        <p:spPr>
          <a:xfrm>
            <a:off x="821880" y="1846080"/>
            <a:ext cx="7543800" cy="2950920"/>
          </a:xfrm>
          <a:prstGeom prst="rect">
            <a:avLst/>
          </a:prstGeom>
          <a:noFill/>
          <a:ln w="0">
            <a:noFill/>
          </a:ln>
        </p:spPr>
        <p:txBody>
          <a:bodyPr lIns="0" rIns="0" anchor="ctr">
            <a:normAutofit/>
          </a:bodyPr>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Arial"/>
              </a:rPr>
              <a:t>هدف الحماية</a:t>
            </a:r>
            <a:endParaRPr b="0" lang="en-US" sz="3600" spc="-1" strike="noStrike">
              <a:solidFill>
                <a:srgbClr val="404040"/>
              </a:solidFill>
              <a:latin typeface="Calibri"/>
            </a:endParaRPr>
          </a:p>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Arial"/>
              </a:rPr>
              <a:t>هدف البناء</a:t>
            </a:r>
            <a:endParaRPr b="0" lang="en-US" sz="3600" spc="-1" strike="noStrike">
              <a:solidFill>
                <a:srgbClr val="404040"/>
              </a:solidFill>
              <a:latin typeface="Calibri"/>
            </a:endParaRPr>
          </a:p>
        </p:txBody>
      </p:sp>
      <p:sp>
        <p:nvSpPr>
          <p:cNvPr id="31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29D7-C516-4FA7-AAC6-8E52FCBBAFC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حما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18" name=""/>
          <p:cNvSpPr txBox="1"/>
          <p:nvPr/>
        </p:nvSpPr>
        <p:spPr>
          <a:xfrm>
            <a:off x="864720" y="2204640"/>
            <a:ext cx="7543800" cy="2303640"/>
          </a:xfrm>
          <a:prstGeom prst="rect">
            <a:avLst/>
          </a:prstGeom>
          <a:noFill/>
          <a:ln w="0">
            <a:noFill/>
          </a:ln>
        </p:spPr>
        <p:txBody>
          <a:bodyPr lIns="0" rIns="0" anchor="t">
            <a:normAutofit/>
          </a:bodyPr>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تحقق من خلال القيام بأعمال الفحص والمطابقة لما تم فعلا ، وتحديد مدى اتفاقه مع او اختلافه عن المقاييس الموضوعة ضد الخطأ والغش</a:t>
            </a:r>
            <a:endParaRPr b="0" lang="en-US" sz="3200" spc="-1" strike="noStrike">
              <a:solidFill>
                <a:srgbClr val="404040"/>
              </a:solidFill>
              <a:latin typeface="Calibri"/>
            </a:endParaRPr>
          </a:p>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F528-28F5-4037-A05E-65644D423E9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حما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1" name=""/>
          <p:cNvSpPr txBox="1"/>
          <p:nvPr/>
        </p:nvSpPr>
        <p:spPr>
          <a:xfrm>
            <a:off x="821880" y="1846440"/>
            <a:ext cx="7543800" cy="4319280"/>
          </a:xfrm>
          <a:prstGeom prst="rect">
            <a:avLst/>
          </a:prstGeom>
          <a:noFill/>
          <a:ln w="0">
            <a:noFill/>
          </a:ln>
        </p:spPr>
        <p:txBody>
          <a:bodyPr lIns="0" rIns="0" anchor="t">
            <a:normAutofit fontScale="98000"/>
          </a:bodyPr>
          <a:p>
            <a:pPr marL="88200" indent="-882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ضمن اهداف الحماية المحافضة على</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سياسات الشركة</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اجراءات المحاسبية</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نظم الضبط الداخلي</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عناية بالسجلات</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عناية بقيم الشركة</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نشطة التشغيل</a:t>
            </a:r>
            <a:endParaRPr b="0" lang="en-US" sz="2800" spc="-1" strike="noStrike">
              <a:solidFill>
                <a:srgbClr val="404040"/>
              </a:solidFill>
              <a:latin typeface="Calibri"/>
            </a:endParaRPr>
          </a:p>
          <a:p>
            <a:pPr marL="88200" indent="-88200" algn="r"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وظائف اخرى</a:t>
            </a:r>
            <a:endParaRPr b="0" lang="en-US" sz="2800" spc="-1" strike="noStrike">
              <a:solidFill>
                <a:srgbClr val="404040"/>
              </a:solidFill>
              <a:latin typeface="Calibri"/>
            </a:endParaRPr>
          </a:p>
        </p:txBody>
      </p:sp>
      <p:sp>
        <p:nvSpPr>
          <p:cNvPr id="32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1CBE-DC24-4CEC-ADDB-6145146B902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بناء</a:t>
            </a:r>
            <a:endParaRPr b="0" lang="en-US" sz="4800" spc="-1" strike="noStrike">
              <a:solidFill>
                <a:srgbClr val="404040"/>
              </a:solidFill>
              <a:latin typeface="Calibri Light"/>
            </a:endParaRPr>
          </a:p>
        </p:txBody>
      </p:sp>
      <p:sp>
        <p:nvSpPr>
          <p:cNvPr id="324" name=""/>
          <p:cNvSpPr txBox="1"/>
          <p:nvPr/>
        </p:nvSpPr>
        <p:spPr>
          <a:xfrm>
            <a:off x="821880" y="2492280"/>
            <a:ext cx="7543800" cy="337680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تحقق من خلال اقتراح وظيفة المراجعة الداخلية للعلاج ،والتوصيات بنتيجة الفحص والتقويم لمدى تطابق العمل الاداري مع النظام (اي تقويم عمل الادارة ذاته)</a:t>
            </a:r>
            <a:r>
              <a:rPr b="0" lang="ar-SA" sz="3200" spc="-1" strike="noStrike">
                <a:solidFill>
                  <a:srgbClr val="404040"/>
                </a:solidFill>
                <a:latin typeface="Calibri"/>
                <a:ea typeface="Arial"/>
              </a:rPr>
              <a:t>.</a:t>
            </a:r>
            <a:endParaRPr b="0" lang="en-US" sz="3200" spc="-1" strike="noStrike">
              <a:solidFill>
                <a:srgbClr val="404040"/>
              </a:solidFill>
              <a:latin typeface="Calibri"/>
            </a:endParaRPr>
          </a:p>
        </p:txBody>
      </p:sp>
      <p:sp>
        <p:nvSpPr>
          <p:cNvPr id="32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1E5D-E793-4741-A95F-0495D4B9DD7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يتضح مما سبق</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7" name=""/>
          <p:cNvSpPr txBox="1"/>
          <p:nvPr/>
        </p:nvSpPr>
        <p:spPr>
          <a:xfrm>
            <a:off x="821880" y="1846440"/>
            <a:ext cx="7543800" cy="424656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مراجعة الداخلية ما هي إلا نشاط يؤدي بواسطة موظفون بالوحدة الحكومية (أو أي منشأة) يتلقون التعليمات الخاصة بهم من الإدارة العليا ويقدمون لها تقاريرهم.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ن المستفيد الأول من عمل المراجعة الداخلية هو الإدارة العليا حيث تعين المراجع الداخلي لمساعدتها في تحقيق الرقابة علي مختلف الأنشطة بالإضافة إلى مستفيدين أخرين مثل المراجعيين الخارجيين ولجنة المراجعة في الشركات المساهم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ن تقارير المراجعة الداخلية لا تنشر ولا تعرض علي الغير ، وبالتالي لا تستفيد منها الطوائف الخارجية مثل الدائنون والمستثمرون وغيرهم.</a:t>
            </a:r>
            <a:endParaRPr b="0" lang="en-US" sz="2400" spc="-1" strike="noStrike">
              <a:solidFill>
                <a:srgbClr val="404040"/>
              </a:solidFill>
              <a:latin typeface="Calibri"/>
            </a:endParaRPr>
          </a:p>
        </p:txBody>
      </p:sp>
      <p:sp>
        <p:nvSpPr>
          <p:cNvPr id="32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71591-C0D1-4833-B8D8-470E6A29A64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a</dc:creator>
  <dc:description/>
  <dc:language>en-US</dc:language>
  <cp:lastModifiedBy>hnae</cp:lastModifiedBy>
  <dcterms:modified xsi:type="dcterms:W3CDTF">2014-09-18T03:10:16Z</dcterms:modified>
  <cp:revision>45</cp:revision>
  <dc:subject/>
  <dc:title>PowerPoint Presentation</dc:title>
</cp:coreProperties>
</file>