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8.png" ContentType="image/png"/>
  <Override PartName="/ppt/media/image17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95B-6F21-4DAD-95B0-5FF1B1D1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88B-24C0-4658-A886-36B5BC11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F4B-7ECD-4C28-A158-F3984A70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481-73F4-4B5B-8E57-3D206BD3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9290-8588-414D-B80D-9F1C34BC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0EC2-5C36-46F1-A03B-E421FEDB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F987-F9B3-4B7A-9E72-3ED66D67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0263-B042-479E-8E71-36D64E4B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3E83-36FE-4722-AD25-12E2761A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797C-06F9-4798-8ADC-AA71E845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331F-B6DF-4A81-B39F-C019086D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AE2-2381-4142-9814-794BBE1A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2FA4-E4C5-4FB5-A554-ADC87D97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C267-23F9-47DE-881F-9F4EE97F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9E12-2C77-4323-9359-051F0B7B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D042-0475-4C1A-9D81-B9616A08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CD08-A555-4DB8-9A70-7C5567A4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62A3-F51E-4543-9FFB-107A3637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E78F-95AB-4E23-9D48-D2248D45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12BA-AC10-4455-8827-F87836B5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CF4B7-FCFD-451A-9649-E69F632C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25A8D-FF51-405A-9BED-A8D5F03F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140-8230-4946-9F94-A75A3B19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A0DA0-5E39-41DF-8F9A-669AC37B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27EE1-51D7-472E-873E-0D568550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A874-1BF6-4751-B326-BB32D42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7436-9646-49A7-9AD3-1AC3AC3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D6E7-E50E-4447-9007-F3F9E395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230E3-58D3-4A03-B1EF-730C0F46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FCAD-AEBD-4782-A93B-0E632E9C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FEE0-A2D5-4459-B94A-5D18EA77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39379-EE30-4D19-8979-529BE613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EB949-D4D5-4B38-A1F1-8D4A5394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90E-874B-4191-A1CF-323A8991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73AA-1828-4902-AF98-57F6401F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20738-7E40-4555-9ECE-A01E3E56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81EB-30C8-427D-96D9-51152DC8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45D5F-2BFE-4E45-816D-E3660B9A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EFFDD-CE82-4C56-A4FF-73963DAC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F0B8-D1CA-424D-81DD-CCA41BF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7BC6-4341-4AA8-AAB0-B2D2A475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BF46-36FB-4573-B373-1DFACA81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B2ED9-CD84-4788-BE10-03D56D3B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5B623-1CA0-4D7D-9F75-E642599C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CBE-4B05-4866-A35E-028BB18A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861A8-5158-4633-9480-031A4E8E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1DC12-19AF-4755-B44E-252C4E4F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97945-B329-4133-A67E-EDA4AD52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3E7DC-6536-45DD-8303-894607F6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9472C-0132-4914-9849-8D6A6B61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04F22-B4F7-4096-BB19-D2AC0C5A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C05F6-191B-4C2B-8948-2FADC473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F5306-F4FB-4354-A25D-EC7AA5B0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CB80B-6F31-4789-9ACD-1B175040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970AB-3F4D-4C76-A596-534402F7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A86-DBFB-48EF-BF46-BEB275ED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F355C-253A-4AC1-BA00-EEC7D2CC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6F1BA-F19F-4F14-BA40-B472D59B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D7BBF-7E3F-40CE-AF46-C66C5EEE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F02A1-B83C-4713-A21A-03AFE001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DF0AF-E194-4E88-B8FC-BFFCF345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72EC9-B277-4A5B-AE7B-3D0D7BDC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E500-E7D4-4073-A638-F84E304F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7A878-882D-483E-9F80-18B731A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DA33C-E1C4-4EEA-9C76-C37F87A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835EA-9C16-497E-BF2D-7F3EA726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A26-6FA1-4BDA-8C49-4635FE8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922BF-F560-4319-9509-EDC7D88B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E289A-ADCB-43C0-A1CA-75C8198D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3CC47-3635-4D82-A76B-3774E773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746-A78D-408D-87F8-48CB162F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7DB-1283-4920-8541-7CD63BFA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FECC-7362-4598-87C4-65B22D5872AD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A4B8-7357-4BE9-931E-92D9E83F70F4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CBAF-CA86-4CFE-82D3-AEA42B34BE61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D554-6BC9-4317-81FE-91948DF06480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661D-666E-4833-ABF6-E520032E8651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4EC3-4875-41A8-BC41-1B44CFB20184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9040" y="6480"/>
            <a:ext cx="7772400" cy="241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financial_planning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عنصر نائب للمحتوى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791920" cy="5840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dollar"/>
          <p:cNvPicPr/>
          <p:nvPr/>
        </p:nvPicPr>
        <p:blipFill>
          <a:blip r:embed="rId2"/>
          <a:stretch/>
        </p:blipFill>
        <p:spPr>
          <a:xfrm>
            <a:off x="3419640" y="2565360"/>
            <a:ext cx="24606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2840" y="146160"/>
            <a:ext cx="8997840" cy="5979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Users\General\AppData\Local\Microsoft\Windows\Temporary Internet Files\Content.IE5\ZF1RAK9B\MP900430503[1].jpg"/>
          <p:cNvPicPr/>
          <p:nvPr/>
        </p:nvPicPr>
        <p:blipFill>
          <a:blip r:embed="rId2"/>
          <a:stretch/>
        </p:blipFill>
        <p:spPr>
          <a:xfrm>
            <a:off x="3116160" y="2349360"/>
            <a:ext cx="273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رسم تخطيطي 1" descr=""/>
          <p:cNvPicPr/>
          <p:nvPr/>
        </p:nvPicPr>
        <p:blipFill>
          <a:blip r:embed="rId1"/>
          <a:stretch/>
        </p:blipFill>
        <p:spPr>
          <a:xfrm>
            <a:off x="36360" y="262080"/>
            <a:ext cx="8894880" cy="63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7020000" y="260280"/>
            <a:ext cx="1795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مستطيل 2"/>
          <p:cNvSpPr/>
          <p:nvPr/>
        </p:nvSpPr>
        <p:spPr>
          <a:xfrm>
            <a:off x="1979640" y="620640"/>
            <a:ext cx="5113440" cy="5238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4" descr="News_Paper_Employe"/>
          <p:cNvPicPr/>
          <p:nvPr/>
        </p:nvPicPr>
        <p:blipFill>
          <a:blip r:embed="rId1"/>
          <a:stretch/>
        </p:blipFill>
        <p:spPr>
          <a:xfrm>
            <a:off x="1042920" y="3638520"/>
            <a:ext cx="6881760" cy="3219480"/>
          </a:xfrm>
          <a:prstGeom prst="rect">
            <a:avLst/>
          </a:prstGeom>
          <a:ln w="0">
            <a:noFill/>
          </a:ln>
        </p:spPr>
      </p:pic>
      <p:sp>
        <p:nvSpPr>
          <p:cNvPr id="289" name="مربع نص 1"/>
          <p:cNvSpPr/>
          <p:nvPr/>
        </p:nvSpPr>
        <p:spPr>
          <a:xfrm>
            <a:off x="1763640" y="620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خطوة الثالثة: تصويب الانحراف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سهم إلى اليمين 3"/>
          <p:cNvSpPr/>
          <p:nvPr/>
        </p:nvSpPr>
        <p:spPr>
          <a:xfrm rot="18400800">
            <a:off x="1033920" y="1757520"/>
            <a:ext cx="2425680" cy="17798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ايجا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3580920"/>
            <a:ext cx="7467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سهم إلى اليمين 7"/>
          <p:cNvSpPr/>
          <p:nvPr/>
        </p:nvSpPr>
        <p:spPr>
          <a:xfrm rot="18559800">
            <a:off x="3468960" y="1607400"/>
            <a:ext cx="1913040" cy="15112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سل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1814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لتزام المرؤوسي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مناسبة الاقتراحات للإمكانيات المتاح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يجابية النتائج المحققة عن هذه الاجراءات المستجد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مستطيل 1"/>
          <p:cNvSpPr/>
          <p:nvPr/>
        </p:nvSpPr>
        <p:spPr>
          <a:xfrm>
            <a:off x="3059280" y="620640"/>
            <a:ext cx="5616360" cy="806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رابعة: اقتراح الحلول البديل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مستطيل 2"/>
          <p:cNvSpPr/>
          <p:nvPr/>
        </p:nvSpPr>
        <p:spPr>
          <a:xfrm>
            <a:off x="3882960" y="2581200"/>
            <a:ext cx="482760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خامسة: المتابع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84360" y="1023840"/>
            <a:ext cx="17715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109440" y="0"/>
            <a:ext cx="913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Franklin Gothic Book"/>
              </a:rPr>
              <a:t>خصائص الرقابة الفعال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8000" y="1413000"/>
            <a:ext cx="87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معايير الرقابية والوسائل المستخدمة مناسب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وسائل الرقابية اقتصادية بقدر الإمكا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يكون المراقب ملماً بكيفية استخدام هذه الوسائ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عدد وتتنوع الوسائل والأدوات الرقابية المستعمل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نظم الرقابية مرن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يتم مراعاة التوازن بين كل من اعتباري الكم والنو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b0f0"/>
                </a:solidFill>
                <a:latin typeface="Franklin Gothic Book"/>
              </a:rPr>
              <a:t>المحتويات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فهوم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وائد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خطوات عملية الرقابة الإدا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نواع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خصائص الرقابة الفع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تعريف الرقاب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تنسيق1"/>
          <p:cNvPicPr/>
          <p:nvPr/>
        </p:nvPicPr>
        <p:blipFill>
          <a:blip r:embed="rId1"/>
          <a:stretch/>
        </p:blipFill>
        <p:spPr>
          <a:xfrm>
            <a:off x="0" y="4108320"/>
            <a:ext cx="9144000" cy="2749680"/>
          </a:xfrm>
          <a:prstGeom prst="rect">
            <a:avLst/>
          </a:prstGeom>
          <a:ln w="0">
            <a:noFill/>
          </a:ln>
        </p:spPr>
      </p:pic>
      <p:sp>
        <p:nvSpPr>
          <p:cNvPr id="261" name="شكل بيضاوي 3"/>
          <p:cNvSpPr/>
          <p:nvPr/>
        </p:nvSpPr>
        <p:spPr>
          <a:xfrm>
            <a:off x="539640" y="1341360"/>
            <a:ext cx="6912000" cy="25192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ahoma"/>
              </a:rPr>
              <a:t>هو التأكد من أن كل شيء في المنظمة يتم وفق الخطط الموضوعة , والتعليمات الصادرة, والمبادئ المعتمدة, وذلك لهدف كشف مواطن الضعف وتصحيح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نواع الانحرافات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سلبي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إيجابية الغير مقبول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علم وفن"/>
          <p:cNvPicPr/>
          <p:nvPr/>
        </p:nvPicPr>
        <p:blipFill>
          <a:blip r:embed="rId1"/>
          <a:stretch/>
        </p:blipFill>
        <p:spPr>
          <a:xfrm>
            <a:off x="0" y="3753000"/>
            <a:ext cx="8964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رسم تخطيطي 1" descr=""/>
          <p:cNvPicPr/>
          <p:nvPr/>
        </p:nvPicPr>
        <p:blipFill>
          <a:blip r:embed="rId1"/>
          <a:stretch/>
        </p:blipFill>
        <p:spPr>
          <a:xfrm>
            <a:off x="249120" y="500040"/>
            <a:ext cx="8510760" cy="514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C:\Program Files\Microsoft Office\MEDIA\CAGCAT10\j0195812.wmf"/>
          <p:cNvPicPr/>
          <p:nvPr/>
        </p:nvPicPr>
        <p:blipFill>
          <a:blip r:embed="rId2"/>
          <a:stretch/>
        </p:blipFill>
        <p:spPr>
          <a:xfrm>
            <a:off x="3635280" y="3068640"/>
            <a:ext cx="17733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9152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صنفي الجهات التالية إلى جهات رقابية داخلية وجهات رقابية خارجية 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16280"/>
            <a:ext cx="7467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مشرف على العمال بالمصن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ديوان المراقبة العام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رئيس قسم التسويق على مرؤوسين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team-work"/>
          <p:cNvPicPr/>
          <p:nvPr/>
        </p:nvPicPr>
        <p:blipFill>
          <a:blip r:embed="rId1"/>
          <a:stretch/>
        </p:blipFill>
        <p:spPr>
          <a:xfrm>
            <a:off x="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100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ولاً: فوائد الرقابة للمنظم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تحقيق الأهداف للخطط المرسوم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مطابقة الأداء الفعلي لمسارات الخطط المرسوم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ناسبة الموارد البشرية ، والمادية ، لمتطلبات الخطط (كما ونوعا ووقتا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الاستخدام الكفء للموار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1476360" y="4076640"/>
            <a:ext cx="17463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Franklin Gothic Book"/>
              </a:rPr>
              <a:t>ثانياً: فوائد الرقابة للأفراد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280" y="1628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كفء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مقصر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فظ الحقوق لجمهور المتعاملين مع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15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Franklin Gothic Book"/>
              </a:rPr>
              <a:t>خطوات الرقابة الإدارية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547640" y="1487520"/>
            <a:ext cx="7272360" cy="4614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work-stress"/>
          <p:cNvPicPr/>
          <p:nvPr/>
        </p:nvPicPr>
        <p:blipFill>
          <a:blip r:embed="rId2"/>
          <a:stretch/>
        </p:blipFill>
        <p:spPr>
          <a:xfrm>
            <a:off x="0" y="0"/>
            <a:ext cx="15476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5:47Z</dcterms:created>
  <dc:creator/>
  <dc:description/>
  <dc:language>en-US</dc:language>
  <cp:lastModifiedBy/>
  <dcterms:modified xsi:type="dcterms:W3CDTF">2015-11-25T18:05:27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