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8.png" ContentType="image/png"/>
  <Override PartName="/ppt/media/image17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D83-A3E0-4075-BBEF-1BB0940A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A0B-B0F3-47F8-A957-8EC0CAE7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852-2CBB-4B69-B7FF-C74E9AA7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D7E-8511-4AF7-9F55-E699D6C7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0192-3848-4113-88DB-CC7E64DA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4087-2FB0-4DDB-BD66-C35D4E2B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6828-0289-4037-932D-98943805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696F-48A6-4A07-BC09-0A148CEB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85C-EAAC-44A5-940B-AFD9E525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8DBE-3103-4112-BEE2-02E3D682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4EB7-A428-4CC3-8218-7F610644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791-4711-4C97-B1A3-24FF798A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58C5-BF71-4FF4-939E-3C7D841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212F-E232-486E-9CB2-C74A55E0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855D-2351-4B36-80B0-2B81B343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A887-335A-4B5E-B15B-3A1CBFAC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FAB3-6B6A-40B0-B34F-ECA16A57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ECAB-F9A5-4028-879A-D4C800E0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CE76-148A-4984-A5B4-CB330926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9634B-B8EA-49F8-97F4-6C51273D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3DE1-EF7D-4023-8A2D-6E5E3FEC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BA47-04D7-4B36-A8CE-05754CB8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2B6-E0F6-46B3-A395-EFDA6458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5C49-633D-45B7-BE49-ADE38899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1B50-83F1-40CD-B21E-A209BA71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2391-9500-43E4-9EAC-C657AB06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6084-9B34-47C5-86C3-52D4436E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5935-072A-4322-8130-DF2B7F62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3337-72E4-4D3D-8099-FCAF57A4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8104-14EB-4752-934E-4C4AEE7C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992D-457D-46A6-A6AC-C9166907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38D19-85FE-4967-85B5-86D35B87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7C16A-EEAA-433E-9877-551D79D3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2D7-3047-49A2-A898-E9210C8E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1C2A-7DD1-4AD3-A215-3C538703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EC642-FEC0-4E0F-AFF9-89891231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D8E6-86D5-4F45-AACC-C8329314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44D39-B47B-4F32-92A7-1F6B844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B594-1C1B-49C4-9CEF-65A8B229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93D8-9219-4B90-B4BF-1CCE3B59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6646-774E-476E-8125-FCD02492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2545-5AA0-4F79-B3E7-1991A9C3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688E3-3ACA-4615-93B6-466C5E9C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05CF0-69CC-482A-89FF-B8F325C8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36A-3025-4214-90FA-993C02F7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3285-7B96-4A9A-9C05-461313CF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93A59-2DC0-408F-B404-9A28DECF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72A8-4260-4C22-B3B8-92C03675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A3028-F675-4743-8502-5A8468FE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A4168-FCEA-47C3-AF11-25959281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20AA8-B993-4A4B-9E41-36884D8E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EA8BE-0F91-437D-AB62-C959CFAA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F2E3-06AA-43A9-8F1C-1A1CA756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20713-997C-46FE-8E8F-DE2F24A3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D9177-FA75-4F58-884D-ADB655A2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3B8-E32C-47D5-B8DF-294B79C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2C44-ACE9-4164-8DF5-B4637D9E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4BD27-64F4-4080-9CB8-D4B70CEE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EC332-103C-4480-ADFF-2F3A752C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41E27-7338-477C-B932-0DDE7D0E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EE787-A8CA-43DE-88FF-FF7571BA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B25D6-7039-4607-ADA6-8B357CA4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AEEFB-D215-4C28-9397-F2C1B8BC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5D6A9-AEB8-4798-A507-98432272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511F8-2292-4399-A8F9-680FF723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8CF2F-081B-4A3C-B1D8-9E8D85C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B19-823F-4CA3-A575-4763F6D8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8E9FF-F79C-42BC-8892-E9584F70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BF82E-0727-4086-BC47-148845DC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D1942-4BED-47A9-9928-3297AB36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366-A2FB-42BB-BF7D-34DEB77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538-1790-4219-B519-440A603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28EB-DE06-45E1-9901-0850862939E5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BB51-4E31-4C90-82F6-AE771BB6272C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79F9-6CC4-4D03-90CC-8081F407B771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5A5-6388-4859-BB92-50CDC4852475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02BA-7402-45FB-A0BC-3EC2133A64C6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F7B9-5649-401E-B74F-EF691E34AB39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9040" y="6480"/>
            <a:ext cx="7772400" cy="241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financial_planning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عنصر نائب للمحتوى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791920" cy="584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dollar"/>
          <p:cNvPicPr/>
          <p:nvPr/>
        </p:nvPicPr>
        <p:blipFill>
          <a:blip r:embed="rId2"/>
          <a:stretch/>
        </p:blipFill>
        <p:spPr>
          <a:xfrm>
            <a:off x="3419640" y="2565360"/>
            <a:ext cx="24606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2840" y="146160"/>
            <a:ext cx="8997840" cy="5979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Users\General\AppData\Local\Microsoft\Windows\Temporary Internet Files\Content.IE5\ZF1RAK9B\MP900430503[1].jpg"/>
          <p:cNvPicPr/>
          <p:nvPr/>
        </p:nvPicPr>
        <p:blipFill>
          <a:blip r:embed="rId2"/>
          <a:stretch/>
        </p:blipFill>
        <p:spPr>
          <a:xfrm>
            <a:off x="3116160" y="2349360"/>
            <a:ext cx="273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رسم تخطيطي 1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8894880" cy="63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7020000" y="260280"/>
            <a:ext cx="1795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مستطيل 2"/>
          <p:cNvSpPr/>
          <p:nvPr/>
        </p:nvSpPr>
        <p:spPr>
          <a:xfrm>
            <a:off x="1979640" y="620640"/>
            <a:ext cx="5113440" cy="5238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News_Paper_Employe"/>
          <p:cNvPicPr/>
          <p:nvPr/>
        </p:nvPicPr>
        <p:blipFill>
          <a:blip r:embed="rId1"/>
          <a:stretch/>
        </p:blipFill>
        <p:spPr>
          <a:xfrm>
            <a:off x="1042920" y="3638520"/>
            <a:ext cx="6881760" cy="3219480"/>
          </a:xfrm>
          <a:prstGeom prst="rect">
            <a:avLst/>
          </a:prstGeom>
          <a:ln w="0">
            <a:noFill/>
          </a:ln>
        </p:spPr>
      </p:pic>
      <p:sp>
        <p:nvSpPr>
          <p:cNvPr id="289" name="مربع نص 1"/>
          <p:cNvSpPr/>
          <p:nvPr/>
        </p:nvSpPr>
        <p:spPr>
          <a:xfrm>
            <a:off x="1763640" y="620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خطوة الثالثة: تصويب الانحراف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سهم إلى اليمين 3"/>
          <p:cNvSpPr/>
          <p:nvPr/>
        </p:nvSpPr>
        <p:spPr>
          <a:xfrm rot="18400800">
            <a:off x="1033920" y="1757520"/>
            <a:ext cx="2425680" cy="1779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ايجا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3580920"/>
            <a:ext cx="7467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سهم إلى اليمين 7"/>
          <p:cNvSpPr/>
          <p:nvPr/>
        </p:nvSpPr>
        <p:spPr>
          <a:xfrm rot="18559800">
            <a:off x="3468960" y="1607400"/>
            <a:ext cx="1913040" cy="15112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سل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1814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لتزام المرؤوسي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مناسبة الاقتراحات للإمكانيات المتاح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يجابية النتائج المحققة عن هذه الاجراءات المستجد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مستطيل 1"/>
          <p:cNvSpPr/>
          <p:nvPr/>
        </p:nvSpPr>
        <p:spPr>
          <a:xfrm>
            <a:off x="3059280" y="620640"/>
            <a:ext cx="5616360" cy="806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رابعة: اقتراح الحلول البدي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مستطيل 2"/>
          <p:cNvSpPr/>
          <p:nvPr/>
        </p:nvSpPr>
        <p:spPr>
          <a:xfrm>
            <a:off x="3882960" y="2581200"/>
            <a:ext cx="482760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خامسة: المتاب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84360" y="1023840"/>
            <a:ext cx="17715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109440" y="0"/>
            <a:ext cx="913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Franklin Gothic Book"/>
              </a:rPr>
              <a:t>خصائص الرقابة الفعال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8000" y="1413000"/>
            <a:ext cx="87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معايير الرقابية والوسائل المستخدمة مناسب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وسائل الرقابية اقتصادية بقدر الإمكا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يكون المراقب ملماً بكيفية استخدام هذه الوسائ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عدد وتتنوع الوسائل والأدوات الرقابية المستعمل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نظم الرقابية مرن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يتم مراعاة التوازن بين كل من اعتباري الكم والنو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b0f0"/>
                </a:solidFill>
                <a:latin typeface="Franklin Gothic Book"/>
              </a:rPr>
              <a:t>المحتويات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فهوم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وائد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خطوات عملية الرقابة الإدا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نواع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خصائص الرقابة الفع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تعريف الرقاب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تنسيق1"/>
          <p:cNvPicPr/>
          <p:nvPr/>
        </p:nvPicPr>
        <p:blipFill>
          <a:blip r:embed="rId1"/>
          <a:stretch/>
        </p:blipFill>
        <p:spPr>
          <a:xfrm>
            <a:off x="0" y="4108320"/>
            <a:ext cx="9144000" cy="2749680"/>
          </a:xfrm>
          <a:prstGeom prst="rect">
            <a:avLst/>
          </a:prstGeom>
          <a:ln w="0">
            <a:noFill/>
          </a:ln>
        </p:spPr>
      </p:pic>
      <p:sp>
        <p:nvSpPr>
          <p:cNvPr id="261" name="شكل بيضاوي 3"/>
          <p:cNvSpPr/>
          <p:nvPr/>
        </p:nvSpPr>
        <p:spPr>
          <a:xfrm>
            <a:off x="539640" y="1341360"/>
            <a:ext cx="6912000" cy="25192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ahoma"/>
              </a:rPr>
              <a:t>هو التأكد من أن كل شيء في المنظمة يتم وفق الخطط الموضوعة , والتعليمات الصادرة, والمبادئ المعتمدة, وذلك لهدف كشف مواطن الضعف وتصحيح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نواع الانحرافات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سلبي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إيجابية الغير مقبول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علم وفن"/>
          <p:cNvPicPr/>
          <p:nvPr/>
        </p:nvPicPr>
        <p:blipFill>
          <a:blip r:embed="rId1"/>
          <a:stretch/>
        </p:blipFill>
        <p:spPr>
          <a:xfrm>
            <a:off x="0" y="3753000"/>
            <a:ext cx="8964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رسم تخطيطي 1" descr=""/>
          <p:cNvPicPr/>
          <p:nvPr/>
        </p:nvPicPr>
        <p:blipFill>
          <a:blip r:embed="rId1"/>
          <a:stretch/>
        </p:blipFill>
        <p:spPr>
          <a:xfrm>
            <a:off x="249120" y="500040"/>
            <a:ext cx="8510760" cy="514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Program Files\Microsoft Office\MEDIA\CAGCAT10\j0195812.wmf"/>
          <p:cNvPicPr/>
          <p:nvPr/>
        </p:nvPicPr>
        <p:blipFill>
          <a:blip r:embed="rId2"/>
          <a:stretch/>
        </p:blipFill>
        <p:spPr>
          <a:xfrm>
            <a:off x="3635280" y="3068640"/>
            <a:ext cx="17733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صنفي الجهات التالية إلى جهات رقابية داخلية وجهات رقابية خارجية 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16280"/>
            <a:ext cx="7467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مشرف على العمال بالمصن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ديوان المراقبة العام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رئيس قسم التسويق على مرؤوسين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team-work"/>
          <p:cNvPicPr/>
          <p:nvPr/>
        </p:nvPicPr>
        <p:blipFill>
          <a:blip r:embed="rId1"/>
          <a:stretch/>
        </p:blipFill>
        <p:spPr>
          <a:xfrm>
            <a:off x="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ولاً: فوائد الرقابة للمنظم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تحقيق الأهداف للخطط المرسوم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مطابقة الأداء الفعلي لمسارات الخطط المرسوم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ناسبة الموارد البشرية ، والمادية ، لمتطلبات الخطط (كما ونوعا ووقتا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الاستخدام الكفء للموار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1476360" y="4076640"/>
            <a:ext cx="17463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Franklin Gothic Book"/>
              </a:rPr>
              <a:t>ثانياً: فوائد الرقابة للأفراد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280" y="1628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كفء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مقصر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فظ الحقوق لجمهور المتعاملين مع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15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Franklin Gothic Book"/>
              </a:rPr>
              <a:t>خطوات الرقابة الإدارية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547640" y="1487520"/>
            <a:ext cx="7272360" cy="4614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work-stress"/>
          <p:cNvPicPr/>
          <p:nvPr/>
        </p:nvPicPr>
        <p:blipFill>
          <a:blip r:embed="rId2"/>
          <a:stretch/>
        </p:blipFill>
        <p:spPr>
          <a:xfrm>
            <a:off x="0" y="0"/>
            <a:ext cx="15476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5:47Z</dcterms:created>
  <dc:creator/>
  <dc:description/>
  <dc:language>en-US</dc:language>
  <cp:lastModifiedBy/>
  <dcterms:modified xsi:type="dcterms:W3CDTF">2015-11-25T18:05:27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