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DFC-08C3-45FD-B158-CD06E67E8C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DA2-AA8C-405F-B975-26C30A2CB36F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E5E-5106-4FA7-93C5-D6F177A2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C9C-C343-4B73-A9A2-1F8AC45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29C-25BA-4769-92E3-86F4E699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8F9-46E3-47AC-AB28-B86D98A9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4F33-3619-4267-9C68-5FB7ECF2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01A-386A-4763-97BA-03D722A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4EA-25B7-4C44-AA5C-8292A885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98C8-0AA7-4E24-A89B-F50AD5E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D8C6-707E-4275-985C-B6D2D76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462-63A3-49DA-97BA-E3B8113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11A1-8E00-43B2-9DAD-2A630F2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FB1-16A5-43C5-B98A-4CD0F64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C24E-6158-413F-A13F-7DD7939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C87-9EFE-423B-8F8B-2C2C6AA0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B7A-1B25-49B1-823F-35C37BAC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83D3-7728-4DCF-90D1-A1C5DC25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F7C-6974-4332-887D-7AFA9C16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6ED1-891B-4182-A033-200D9CE9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B28F-1EBE-4F3D-AC7B-78946602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6E8D-A98C-4D6F-B4DC-006FA8B6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7ECC-279A-4AD0-9F82-E7B9521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8EA0-536E-49C5-B5D3-38D1F50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5AA-E1B3-46D3-AD53-C649EFA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3B40-BCB4-40F8-8F42-9EE0711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422D-5617-4B5F-9385-B93F8E1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1B62-8A80-4C7B-8CB8-DF297D72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AA78-E650-470E-BC3D-A6A43AE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656E-0857-4956-809D-340EF988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D095-28DF-440C-B6B6-5D4CBB76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FAC4-015B-4BC4-B2E2-ADA9FE37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5E1F-ACEA-4695-B322-514B3134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E3EB-8282-4638-A197-162BE29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93C0A-1B0E-492B-9F1D-A55E9DB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1B5-7D15-46F5-B71A-C21A247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9B89-635A-4277-8FF5-396D5796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1172-F44E-4CD1-A053-EBD04CD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D1A6-468D-4211-AF0B-4FF1AC82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53EC-D9DD-4B75-A26E-71441F5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2890-DF56-4806-9374-56A21DA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F0CD-288E-42B6-A72D-44504C3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C002-185D-4DBD-98D8-FC1BF89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91302-2B09-4F4E-95B3-035B6287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05EC-8700-4C8D-859F-2B1773B9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5866-F22A-40D5-93B6-B51C9472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48B-E0C4-4563-B65B-F824860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178C-5F93-426B-AE1D-FB62CEA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CEF5-F85A-4FFC-9921-BEB802C6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F2D4-BDAC-408E-AE3B-0DE5A2D2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BF2D-F59C-4ECA-889B-CF3AD45E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AC0E-DAF4-4720-8E9F-AF0A19FF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B78F-3A3A-441A-9EF0-4D0ECCE5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283F-3F80-436D-A16A-628401B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DCC7-4CBA-4F48-AB22-88118D4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D834-31CF-4DCC-B01D-47396E6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300E-000A-4F2B-A523-E447BCD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8A5-60F0-4F26-B533-3EF30EB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0C78-5780-4683-87BB-961691E1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E7F-4007-4041-B649-FDFC122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9E1-A2C8-4060-8F87-B6DDFD2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7E1-A02C-4875-8999-D48F996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3752-204A-41BA-B639-F5A69EE869A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C15-B81A-4A73-9715-9EBAFC6BEC3C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FA1-D8E6-423B-8373-4703FD42C37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4791-9C89-4DE9-92A6-908046AD39A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02D-0809-4AB3-841A-39DC0E575C6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5-11-25T18:11:18Z</dcterms:modified>
  <cp:revision>32</cp:revision>
  <dc:subject/>
  <dc:title>التسويق..</dc:title>
</cp:coreProperties>
</file>