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3284-E8A0-45F4-BA02-508B7C69A6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C82E-58E1-455C-9AEC-8D670495E417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45F-38E3-49AA-86DB-274A42BB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325-E29F-464B-B1DC-CECD8FB8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680-C0F8-46D5-AF11-2C813E11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69D-6788-44E5-BE48-050FF7E4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6997-8479-4E4E-B4A6-C25B8F0B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7FEF-3F4A-4066-A2C6-7EAF687B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B2A8-1EF6-48FF-A76B-A605A5CD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94AF-F95D-44EB-B5DE-9E41E6ED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DB59-75C4-46BF-9865-718811FF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286E-DF66-48F4-884C-E904E3B4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2D97-A241-4519-9AC0-093F526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A59-2DD0-4FCD-82D4-08D9B081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37B1-DD62-40B3-BFDD-40A6DCA2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B8F7-575F-479B-B939-236F8392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E547-F381-44AB-AF00-DD17073B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A2BB-62E7-44B0-9CBB-B0B25C45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4811-A5B9-49D6-B628-FF474667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9C679-FC61-44AD-8E0F-AA48A840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E01B-1239-4800-AAAD-B3486598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1CE7-5BD9-46EF-85B1-8E2028FC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E914-A291-46AE-8ED0-0EC780E1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6F61-63AC-4F66-971D-B9AC4BA8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6C6-B105-4F37-BC1D-CDF45B17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D482-0054-4D7C-9499-758D983D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9028-B0E7-4B21-B8E6-9F3EC607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41E3-F671-42A7-947D-129976D9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DD1A-C6AA-46BA-A02F-706442AE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AA1E-8B77-4512-9FA8-22B01814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3F20-75F2-480A-A659-3311D538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51732-B0EF-41B0-B79D-F4A0434C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CC272-1538-4F93-BC74-91DDEF2A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D3BDF-B890-43D9-AEC4-82FC68FA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B0709-D4DD-4FF9-BEB6-B682F603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427-4D3A-4B85-85B4-559CE43C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F708-3DB4-44CF-8923-C7126E1E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ADA30-7553-4E92-A743-409CC39A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D10E-8588-441A-9ACE-F07DEB64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8FD84-AA7B-487C-90B2-898A7017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97E1-7C04-4C22-ADD2-49312319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44883-C616-441C-BBD5-07DA755C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3ACA9-9003-4BCA-9F56-B90BD6F0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B1D83-C266-44C2-A174-02848DA8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5ECDB-7D67-4F85-B843-BDDECD27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AE4CD-206C-40BA-ACA2-E8FBF1DD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535-8718-40FE-8426-FCB1D599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A8382-A5DF-4D2B-A0DD-827742B3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89EDA-DC44-49AD-BF49-10496A7D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81AAF-F933-40F6-BDB4-3790EFA5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58AB0-2417-419A-88F0-86D601CD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55D7D-106D-406C-AEB5-A99B8BF8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272BE-D740-4B56-8047-502F4F1B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3776D-A475-4199-BCE3-113010AD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B939C-B5CF-4F1C-80C9-D857BF80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5F128-2856-4E65-AEDE-E45B4F77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40BC8-F07E-4E1B-94B9-CE0D1162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AB6-F76D-43DD-ABEE-5AE1DB5D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7AFD-D706-4B37-B717-3F5214B6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076-3F99-49D2-B98B-485D244D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486-5E50-42DB-A0E3-93DAC19C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886-CF90-453E-97F5-2D6AFEC7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773A-7FAB-443A-BB05-7E3C12BE4090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641F-F0FC-4F3B-83FC-9143E16B097A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0110-05FE-4ED2-BF54-24E4B2EFA4D8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72C0-54C8-45C5-9B58-A4892A1C5AD0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AC26-B1C8-456F-AD9F-9A1B7296D39F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Verdana"/>
                <a:cs typeface="Akhbar MT"/>
              </a:rPr>
              <a:t>إدارة الأنتاج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9766f"/>
                </a:solidFill>
                <a:latin typeface="Verdana"/>
                <a:ea typeface="Akhbar MT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:\Users\General\AppData\Local\Microsoft\Windows\Temporary Internet Files\Content.IE5\7JNVQ0DU\MP900438597[1].jpg"/>
          <p:cNvPicPr/>
          <p:nvPr/>
        </p:nvPicPr>
        <p:blipFill>
          <a:blip r:embed="rId1"/>
          <a:stretch/>
        </p:blipFill>
        <p:spPr>
          <a:xfrm>
            <a:off x="1368360" y="3789360"/>
            <a:ext cx="640728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07f09"/>
                </a:solidFill>
                <a:latin typeface="Verdana"/>
              </a:rPr>
              <a:t>المحتويا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فهوم إدارة الانتا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وامل المؤثرة على العمل الانتاج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ور حياة العمل الانتاج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C:\Program Files\Microsoft Office\MEDIA\CAGCAT10\j0195812.wmf"/>
          <p:cNvPicPr/>
          <p:nvPr/>
        </p:nvPicPr>
        <p:blipFill>
          <a:blip r:embed="rId1"/>
          <a:stretch/>
        </p:blipFill>
        <p:spPr>
          <a:xfrm rot="21100800">
            <a:off x="760320" y="1843200"/>
            <a:ext cx="24494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8"/>
          <p:cNvSpPr/>
          <p:nvPr/>
        </p:nvSpPr>
        <p:spPr>
          <a:xfrm>
            <a:off x="257040" y="291960"/>
            <a:ext cx="8418600" cy="9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26b02"/>
                </a:solidFill>
                <a:latin typeface="Times New Roman"/>
                <a:cs typeface="Times New Roman"/>
              </a:rPr>
              <a:t>مفهوم الإنتا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تاج العناصر التي تستخدم في عملية التشغيل، والتي تتمثل في القوى البشرية،و المادية  خلال مدة زمنية معين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منت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اتج النهائي لعملية التشغيل،قد يكون سلعة او خدمة..وهذا المنتج ليس بالضرورة ان يكون بصورته النهائية فقد يكون منتج تحت التصنيع والذي يسوق للمستهلك الصناعي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عمليات 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سلة اجراءات التشغيل التي تجري على المادة لتحولها من صورتها الاولية الى صورتها الانتاج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اخيرا يمكن تعريف </a:t>
            </a:r>
            <a:r>
              <a:rPr b="0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ظيفة الانتاج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نها: ذلك النشاط المسؤول عن تحويل المدخلات لمخرجات نهائ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428760" y="428760"/>
            <a:ext cx="8215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07f09"/>
                </a:solidFill>
                <a:latin typeface="Comic Sans MS"/>
              </a:rPr>
              <a:t>عوامل تؤثر على العمل الانتاجي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1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خارجية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يات السوق المتضاربة وتقلبات رغبات المستهلكي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ظروف البيئية المحيطة: سياسية ،اقتصادية، تشريعية، اجتماعية، تكنولوج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2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داخلية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عمالة المتاح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مواد المستخدم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الات والمعدا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لوائح التنظيمية الداخلية لسير العمل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3" descr="C:\Program Files\Microsoft Office\MEDIA\CAGCAT10\j0199549.wmf"/>
          <p:cNvPicPr/>
          <p:nvPr/>
        </p:nvPicPr>
        <p:blipFill>
          <a:blip r:embed="rId1"/>
          <a:stretch/>
        </p:blipFill>
        <p:spPr>
          <a:xfrm rot="21021600">
            <a:off x="475920" y="4582800"/>
            <a:ext cx="1895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500040" y="0"/>
            <a:ext cx="8072640" cy="9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ورة حياة النشاط الانتاج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نبؤ بحجم المبيعات لتحديد حجم الانتاج المبدئي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صميم في الاقسام الفن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التكلفة  والكمية الكلية لإنتاج الوحد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حجم الانتاج النهائي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وضع خطة للإنتا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وافقة قسم الرقاب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رسال الانتاج التام الى المخازن تمهيدا لتسويق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مستهل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3" descr="C:\Users\General\AppData\Local\Microsoft\Windows\Temporary Internet Files\Content.IE5\9KOXUAMG\MP900438675[1].jpg"/>
          <p:cNvPicPr/>
          <p:nvPr/>
        </p:nvPicPr>
        <p:blipFill>
          <a:blip r:embed="rId1"/>
          <a:stretch/>
        </p:blipFill>
        <p:spPr>
          <a:xfrm>
            <a:off x="-17640" y="4292640"/>
            <a:ext cx="3076920" cy="2468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Users\General\AppData\Local\Microsoft\Windows\Temporary Internet Files\Content.IE5\9KOXUAMG\MP900438695[1].jpg"/>
          <p:cNvPicPr/>
          <p:nvPr/>
        </p:nvPicPr>
        <p:blipFill>
          <a:blip r:embed="rId2"/>
          <a:stretch/>
        </p:blipFill>
        <p:spPr>
          <a:xfrm>
            <a:off x="7920" y="2060640"/>
            <a:ext cx="3051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Sultan H. Binsaeed</cp:lastModifiedBy>
  <dcterms:modified xsi:type="dcterms:W3CDTF">2015-11-25T18:11:18Z</dcterms:modified>
  <cp:revision>32</cp:revision>
  <dc:subject/>
  <dc:title>التسويق..</dc:title>
</cp:coreProperties>
</file>