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E40B7-A553-49B3-A5D5-F1AD94C34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E211B-3C65-405A-9610-CAA984D39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B3754-0C1B-4CC1-AD6D-2332F3199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AEE32-F9E1-4745-A5A8-49CBEA54C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66E79-7BDD-4E19-8EE6-1ADEDF0B0A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3E0B7-6B7D-4D2D-9B8A-61257EC45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65612-E608-4538-88EA-ADC205CD0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1A8FF-5033-49A6-BF93-57CEBBA7C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6F34D-59EE-4441-B0D5-05280106C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FF1EF-2CE7-4AD4-B7A4-E4DDBEF87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E4FC3-58BE-460B-87F2-3668ADDFE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4EFB5-C643-4123-A7A0-A7C916A2E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784E1-4569-4DDC-BD62-4AD2BEFCE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592A8-A583-431B-AF4A-BBFD48475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BAD1B-28C4-4CB3-BF11-BF5F589A9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A6008B-A93B-4F35-AF5A-DB24AFD65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B051A-6994-40DB-9449-1EF3389972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D284CB-76B3-4E61-9555-2F43D104AD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27DB9D-37B9-4A54-8FC3-B3493679BC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3FC969-A4CF-4BB0-B884-7ECC48B9F9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0BC490-71E2-4C5D-A14B-4BAD2139AF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EB2F2D-0E2D-4EB7-AC98-CDF7ABEA41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5064C-E6FF-4408-AC55-BE8356AD1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24911B-619A-4598-A0FC-1DB9173129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FFB7CF-692A-427F-883F-71E81F4F9F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9102CA-1986-4208-84E0-8DD45977BE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CDA9D2-A367-4932-AC74-8C553A71A1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90D3E4-7D13-4B50-B186-722C9880DF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047E8C-4B27-4828-9BA1-C6AE9CA145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23F90E-A42E-4B2F-8AAF-B3E8DD9268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B56613-1EB3-43C3-BC94-3E5F681210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C9D4E4-0B8F-48D8-8EF5-5CC87B2627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376873-59BF-41F0-BAEF-9566936E60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A5F3E-990B-49B0-B82C-5EED2B8B2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430094-F6B1-4F26-B14D-1920D48A5C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9DF5BD-AD84-4EE0-8211-B2886A7EE6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01230C-BF47-482E-BB26-00778FF8D0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3640F6-1D63-4257-B646-BBE58D4245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D498C5-816F-4014-A440-F4F9A588D5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1A2F14-B994-4AB5-9214-0BC86B0956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2A480F-8A14-4ACF-A0F2-121399654D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5AF945-049E-493C-A4EF-DE63C02FD9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7B01FC-EB0A-48DF-949A-61994DB836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3FE5D-0DF6-4676-A227-547E6745C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61BAE-A201-4CE9-B327-71D89935E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9434A-06C1-4E66-AC2B-FFAAB5584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1E3E9-A2BD-457D-B473-59A7F222E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EB04D-A2BE-4A24-A125-181D8D103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CA66A3-E3C4-462F-861B-285579A0C9B2}"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7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68473-D4DD-4334-B37F-C0550A749973}"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2B0DB8-1F39-407B-BA98-FD15F1599E36}"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9B99F2-BE13-4B69-A37A-F3A01C132DE2}"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5400" spc="-1" strike="noStrike">
                <a:solidFill>
                  <a:srgbClr val="90c226"/>
                </a:solidFill>
                <a:latin typeface="Trebuchet MS"/>
                <a:cs typeface="Tahoma"/>
              </a:rPr>
              <a:t>إنشاء وحدات المراجعة الداخلية</a:t>
            </a:r>
            <a:endParaRPr b="0" lang="en-US" sz="5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77520" y="609480"/>
            <a:ext cx="8596440" cy="1090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90c226"/>
                </a:solidFill>
                <a:latin typeface="Trebuchet MS"/>
                <a:cs typeface="Tahoma"/>
              </a:rPr>
              <a:t>معايير المراجعة الداخلية</a:t>
            </a:r>
            <a:endParaRPr b="0" lang="en-US" sz="4400" spc="-1" strike="noStrike">
              <a:solidFill>
                <a:srgbClr val="90c226"/>
              </a:solidFill>
              <a:latin typeface="Trebuchet MS"/>
            </a:endParaRPr>
          </a:p>
        </p:txBody>
      </p:sp>
      <p:sp>
        <p:nvSpPr>
          <p:cNvPr id="230" name=""/>
          <p:cNvSpPr txBox="1"/>
          <p:nvPr/>
        </p:nvSpPr>
        <p:spPr>
          <a:xfrm>
            <a:off x="468000" y="1584360"/>
            <a:ext cx="9015480" cy="459720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Trebuchet MS"/>
                <a:cs typeface="Tahoma"/>
              </a:rPr>
              <a:t>السمات الأساسية لمعايير المراجعة الداخلي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قد تم تصميم مجموعتي المعايير بما يتفق مع طبيعة المراجعة الداخلية المتمثلة في النقاط الآت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أنها مراجعة تغطي كل الجوانب المالية والتشغيلية الداخل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أنها تنطوي على تقديم تأكيدات عن الأداء المالي والأداء التشغيلي كما أنها تشمل تقديم خدمات استشار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أن المستفيد المباشر من نتائج المراجعة الداخلية هو الإدارة على اختلاف المستويات التنفيذية ، أما استفادة الأطراف الخارجية منها فهي غير مباشرة</a:t>
            </a:r>
            <a:r>
              <a:rPr b="0" lang="ar-SA" sz="1800" spc="-1" strike="noStrike">
                <a:solidFill>
                  <a:srgbClr val="404040"/>
                </a:solidFill>
                <a:latin typeface="Trebuchet MS"/>
                <a:ea typeface="Tahoma"/>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Content Placeholder 3" descr=""/>
          <p:cNvPicPr/>
          <p:nvPr/>
        </p:nvPicPr>
        <p:blipFill>
          <a:blip r:embed="rId1"/>
          <a:stretch/>
        </p:blipFill>
        <p:spPr>
          <a:xfrm>
            <a:off x="0" y="0"/>
            <a:ext cx="1032516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ea typeface="Tahoma"/>
              </a:rPr>
              <a:t>1</a:t>
            </a:r>
            <a:r>
              <a:rPr b="0" lang="ar-SA" sz="4000" spc="-1" strike="noStrike">
                <a:solidFill>
                  <a:srgbClr val="90c226"/>
                </a:solidFill>
                <a:latin typeface="Trebuchet MS"/>
                <a:ea typeface="Tahoma"/>
              </a:rPr>
              <a:t> - معيار الاستقلال التنظيمي</a:t>
            </a:r>
            <a:endParaRPr b="0" lang="en-US" sz="4000" spc="-1" strike="noStrike">
              <a:solidFill>
                <a:srgbClr val="90c226"/>
              </a:solidFill>
              <a:latin typeface="Trebuchet MS"/>
            </a:endParaRPr>
          </a:p>
        </p:txBody>
      </p:sp>
      <p:sp>
        <p:nvSpPr>
          <p:cNvPr id="233"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استقلال إدارة المراجعة الداخلية عن الإدارات الأخرى المعنية حتى يمكن للإدارة التقرير عن كل ما يجب التقرير عنه فيما يتعلق بفحص أداء الإدارات الأخرى. كما يغطي معيار الاستقلال تنظيم إدارة المراجعة الداخلية من حيث:</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لتعيين والعزل.</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وضع الخطط التنفيذية لعمليات المراجع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لتنظيم الداخلي لإدارة المراجعة الداخل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ستقلالية الإدارة في تنفيذ خططها وبرامجها دون تدخل</a:t>
            </a:r>
            <a:r>
              <a:rPr b="0" lang="ar-SA" sz="1800" spc="-1" strike="noStrike">
                <a:solidFill>
                  <a:srgbClr val="404040"/>
                </a:solidFill>
                <a:latin typeface="Trebuchet MS"/>
                <a:ea typeface="Tahoma"/>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ea typeface="Tahoma"/>
              </a:rPr>
              <a:t> معيار الموضوعية </a:t>
            </a:r>
            <a:r>
              <a:rPr b="0" lang="en-US" sz="3600" spc="-1" strike="noStrike">
                <a:solidFill>
                  <a:srgbClr val="90c226"/>
                </a:solidFill>
                <a:latin typeface="Trebuchet MS"/>
              </a:rPr>
              <a:t>-</a:t>
            </a:r>
            <a:r>
              <a:rPr b="0" lang="en-US" sz="3600" spc="-1" strike="noStrike">
                <a:solidFill>
                  <a:srgbClr val="90c226"/>
                </a:solidFill>
                <a:latin typeface="Trebuchet MS"/>
              </a:rPr>
              <a:t>2</a:t>
            </a:r>
            <a:endParaRPr b="0" lang="en-US" sz="3600" spc="-1" strike="noStrike">
              <a:solidFill>
                <a:srgbClr val="90c226"/>
              </a:solidFill>
              <a:latin typeface="Trebuchet MS"/>
            </a:endParaRPr>
          </a:p>
        </p:txBody>
      </p:sp>
      <p:sp>
        <p:nvSpPr>
          <p:cNvPr id="235" name=""/>
          <p:cNvSpPr txBox="1"/>
          <p:nvPr/>
        </p:nvSpPr>
        <p:spPr>
          <a:xfrm>
            <a:off x="677520" y="2160360"/>
            <a:ext cx="8596440" cy="3881160"/>
          </a:xfrm>
          <a:prstGeom prst="rect">
            <a:avLst/>
          </a:prstGeom>
          <a:noFill/>
          <a:ln w="0">
            <a:noFill/>
          </a:ln>
        </p:spPr>
        <p:txBody>
          <a:bodyPr anchor="t">
            <a:normAutofit/>
          </a:bodyPr>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404040"/>
                </a:solidFill>
                <a:latin typeface="Trebuchet MS"/>
                <a:cs typeface="Tahoma"/>
              </a:rPr>
              <a:t>يتطلب المعيار موضوعية الأفراد العاملين في إدارة المراجعة الداخلية وعدم تحيزهم وتجنبهم المواقف التي تضعهم في موقف أصحاب مصلحة في كل أنشطة المراجعة الداخلية. </a:t>
            </a:r>
            <a:endParaRPr b="0" lang="en-US" sz="1900" spc="-1" strike="noStrike">
              <a:solidFill>
                <a:srgbClr val="404040"/>
              </a:solidFill>
              <a:latin typeface="Trebuchet MS"/>
            </a:endParaRPr>
          </a:p>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404040"/>
                </a:solidFill>
                <a:latin typeface="Trebuchet MS"/>
                <a:cs typeface="Tahoma"/>
              </a:rPr>
              <a:t>يحدد المعيار بعض النقاط الأساسية التي تدعم موضوعية المراجعين وهما:</a:t>
            </a:r>
            <a:endParaRPr b="0" lang="en-US" sz="19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404040"/>
                </a:solidFill>
                <a:latin typeface="Trebuchet MS"/>
                <a:cs typeface="Tahoma"/>
              </a:rPr>
              <a:t>يجب ألا تتأثر أحكام المراجعين الداخليين بأحكام الآخرين.</a:t>
            </a:r>
            <a:endParaRPr b="0" lang="en-US" sz="19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404040"/>
                </a:solidFill>
                <a:latin typeface="Trebuchet MS"/>
                <a:cs typeface="Tahoma"/>
              </a:rPr>
              <a:t>القيام بأعمال المراجعة بالطريقة التي تجعلهم يعتقدون اعتقادًا صادقًا في نتائج عملهم وبعدم تقديم أي تنازلات مهمة على حساب جودة العمل . ويجب عدم وضع المراجعين الداخليين في مواقف يشعرون فيها أنهم غير قادرين على إصدار أحكام مهنية موضوعية .</a:t>
            </a:r>
            <a:endParaRPr b="0" lang="en-US" sz="19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404040"/>
                </a:solidFill>
                <a:latin typeface="Trebuchet MS"/>
                <a:cs typeface="Tahoma"/>
              </a:rPr>
              <a:t>يجب على المراجعين الداخليين إخطار المسئول عن إدارة المراجعة الداخلية عن أي حالات قد يحدث فيها تضارب في المصالح أو تحيز أو قد يمكن استنتاجه بطريقة معقولة.</a:t>
            </a:r>
            <a:endParaRPr b="0" lang="en-US" sz="19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ea typeface="Tahoma"/>
              </a:rPr>
              <a:t> </a:t>
            </a: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معيار الموضوعية</a:t>
            </a:r>
            <a:endParaRPr b="0" lang="en-US" sz="4000" spc="-1" strike="noStrike">
              <a:solidFill>
                <a:srgbClr val="90c226"/>
              </a:solidFill>
              <a:latin typeface="Trebuchet MS"/>
            </a:endParaRPr>
          </a:p>
        </p:txBody>
      </p:sp>
      <p:sp>
        <p:nvSpPr>
          <p:cNvPr id="237"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تغيير توزيع المراجعين على العمليات بصفة دورية كلما كان ذلك ممكنًا.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على المراجعين الداخليين عدم القيام بأي مسئوليات تشغيلية، وإذا أمرت الإدارة العليا المراجعين الداخليين بالقيام بأعمال ليست من أعمال المراجعة، فيجب أن يكون مفهومًا أنهم لا يباشرون هذه الأعمال كمراجعين داخليين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عدم تكليف الأشخاص المنقولين إلى الإدارة للعمل فيها بصفة مؤقتة، بمراجعة الأنشطة التي كانوا يقومون بها سابقًا إلا بعد مضي مدة معقولة.</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يقوم مدير إدارة المراجعة الداخلية بفحص نتائج أعمال المراجعة الداخلية قبل إصدار التقرير النهائي وذلك للحصول على تأكيد معقول بأن أعمال المراجعة قد تم القيام بها بموضوعية.</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cs typeface="Tahoma"/>
              </a:rPr>
              <a:t>٣</a:t>
            </a:r>
            <a:r>
              <a:rPr b="0" lang="ar-SA" sz="4000" spc="-1" strike="noStrike">
                <a:solidFill>
                  <a:srgbClr val="90c226"/>
                </a:solidFill>
                <a:latin typeface="Trebuchet MS"/>
                <a:ea typeface="Tahoma"/>
              </a:rPr>
              <a:t>- معيار التأهيل المهني</a:t>
            </a:r>
            <a:endParaRPr b="0" lang="en-US" sz="4000" spc="-1" strike="noStrike">
              <a:solidFill>
                <a:srgbClr val="90c226"/>
              </a:solidFill>
              <a:latin typeface="Trebuchet MS"/>
            </a:endParaRPr>
          </a:p>
        </p:txBody>
      </p:sp>
      <p:sp>
        <p:nvSpPr>
          <p:cNvPr id="239"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قضي المعيار بضرورة إنجاز مهام المراجعة الداخلية بواسطة أفراد مؤهلين تأهيلا علميا ومهنيا بصورة تلائم طبيعة هذه المهام. وتجدر الإشارة هنا إلى أن طبيعة مهام المراجعة الداخلية قد تتطلب معرفة عريضة بمجالات أخري هندسية وإدارية واقتصادية بخلاف المعرفة المحاسبي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وقد غطي المعيار النقاط الأساسية التي تكفل التأهيل العملي المناسب ومنها ما يلي: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تخصص إدارة المراجعة الداخلية لكل عملية مراجعة، الأشخاص الذين يمتلكون بصفة جماعية المعرفة، والمهارات، والتدريب وغيرها من عناصر التأهيل اللازمة للقيام بالمراجعة بطريقة سليمة.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cs typeface="Tahoma"/>
              </a:rPr>
              <a:t>٣</a:t>
            </a:r>
            <a:r>
              <a:rPr b="0" lang="ar-SA" sz="4000" spc="-1" strike="noStrike">
                <a:solidFill>
                  <a:srgbClr val="90c226"/>
                </a:solidFill>
                <a:latin typeface="Trebuchet MS"/>
                <a:ea typeface="Tahoma"/>
              </a:rPr>
              <a:t>- معيار التأهيل المهني</a:t>
            </a:r>
            <a:endParaRPr b="0" lang="en-US" sz="4000" spc="-1" strike="noStrike">
              <a:solidFill>
                <a:srgbClr val="90c226"/>
              </a:solidFill>
              <a:latin typeface="Trebuchet MS"/>
            </a:endParaRPr>
          </a:p>
        </p:txBody>
      </p:sp>
      <p:sp>
        <p:nvSpPr>
          <p:cNvPr id="241"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توفر إدارة المراجعة الداخلية تأكيدًا بأن المهارة الفنية والخلفية التعليمية للمراجعين الداخليين ملائمة لعمليات المراجعة التي سيتم القيام بها.</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تتوافر لدى إدارة المراجعة الداخلية المعرفة، والمهارات، والتدريب وغيرها من عناصر التأهيل اللازمة للقيام بمسئولياتها.</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تسند مهام المراجعة الداخلية إلى موظفين مؤهلين، أو الاستعانة بمستشارين مؤهلين ومتخصصين.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تكون لدى المراجعين الداخليين معرفة عامة بالجوانب الرقابية والمخاطر الأساسية المتعلقة بتكنولوجيا المعلومات وأساليب المراجعة التي تعتمد على تكنولوجيا المعلومات . </a:t>
            </a:r>
            <a:endParaRPr b="0" lang="en-US" sz="20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ct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ea typeface="Tahoma"/>
              </a:rPr>
              <a:t>4</a:t>
            </a:r>
            <a:r>
              <a:rPr b="0" lang="ar-SA" sz="4000" spc="-1" strike="noStrike">
                <a:solidFill>
                  <a:srgbClr val="90c226"/>
                </a:solidFill>
                <a:latin typeface="Trebuchet MS"/>
                <a:ea typeface="Tahoma"/>
              </a:rPr>
              <a:t>- معيار العناية المهنية</a:t>
            </a:r>
            <a:endParaRPr b="0" lang="en-US" sz="4000" spc="-1" strike="noStrike">
              <a:solidFill>
                <a:srgbClr val="90c226"/>
              </a:solidFill>
              <a:latin typeface="Trebuchet MS"/>
            </a:endParaRPr>
          </a:p>
        </p:txBody>
      </p:sp>
      <p:sp>
        <p:nvSpPr>
          <p:cNvPr id="243" name=""/>
          <p:cNvSpPr txBox="1"/>
          <p:nvPr/>
        </p:nvSpPr>
        <p:spPr>
          <a:xfrm>
            <a:off x="806040" y="2278080"/>
            <a:ext cx="8596440" cy="3881520"/>
          </a:xfrm>
          <a:prstGeom prst="rect">
            <a:avLst/>
          </a:prstGeom>
          <a:noFill/>
          <a:ln w="0">
            <a:noFill/>
          </a:ln>
        </p:spPr>
        <p:txBody>
          <a:bodyPr anchor="t">
            <a:norm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قضي المعيار بضرورة بذل المراجع الداخلي العناية المهنية اللازمة في جميع عمليات المراجعة والعمليات الاستشارية التي يقوم بها .وأن يقوم بتطبيق المعايير المهنية للمراجعة الداخلية بدرجة من الحرص المتوقعة من المراجع الداخلي الحريص المؤهل تأهيلا مهنيًا كافيًا.</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معايير الصفــات</a:t>
            </a:r>
            <a:br>
              <a:rPr sz="3600"/>
            </a:br>
            <a:r>
              <a:rPr b="0" lang="ar-SA" sz="3600" spc="-1" strike="noStrike">
                <a:solidFill>
                  <a:srgbClr val="90c226"/>
                </a:solidFill>
                <a:latin typeface="Trebuchet MS"/>
                <a:cs typeface="Tahoma"/>
              </a:rPr>
              <a:t>٥</a:t>
            </a:r>
            <a:r>
              <a:rPr b="0" lang="ar-SA" sz="3600" spc="-1" strike="noStrike">
                <a:solidFill>
                  <a:srgbClr val="90c226"/>
                </a:solidFill>
                <a:latin typeface="Trebuchet MS"/>
                <a:ea typeface="Tahoma"/>
              </a:rPr>
              <a:t> - معيار الرقابة النوعية</a:t>
            </a:r>
            <a:br>
              <a:rPr sz="3600"/>
            </a:br>
            <a:endParaRPr b="0" lang="en-US" sz="3600" spc="-1" strike="noStrike">
              <a:solidFill>
                <a:srgbClr val="90c226"/>
              </a:solidFill>
              <a:latin typeface="Trebuchet MS"/>
            </a:endParaRPr>
          </a:p>
        </p:txBody>
      </p:sp>
      <p:sp>
        <p:nvSpPr>
          <p:cNvPr id="245" name=""/>
          <p:cNvSpPr txBox="1"/>
          <p:nvPr/>
        </p:nvSpPr>
        <p:spPr>
          <a:xfrm>
            <a:off x="360000" y="2160720"/>
            <a:ext cx="8913960" cy="40464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معايير النوعية (الجودة) والرقابة عليها اعتبرت مقوما أساسيا من مقومات المراجعة الداخلية ، وتهدف معايير الجودة إلى ضمان مستوي عالي من الأداء.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وألقت المعايير بالمسئولية عن الجودة على مدير إدارة المراجعة وعلى المراجعين أنفسهم.</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أ- مسئولية مدير المراجع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تشمل مسئولية مدير المراجعة الداخلية ما يلي:</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إعداد وتنفيذ برنامج لتأكيد الجودة وتحسين الأداء ويراقب فاعليته.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تضمن برنامج الجودة تقويم داخلي مستقل للأداء.</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توفير تقويم خارجي للأداء عن طريق طرف خارجي مستقل على فترات متباعد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تقرير عن نتائج تقويم الجودة.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cs typeface="Tahoma"/>
              </a:rPr>
              <a:t>٥</a:t>
            </a:r>
            <a:r>
              <a:rPr b="0" lang="ar-SA" sz="4000" spc="-1" strike="noStrike">
                <a:solidFill>
                  <a:srgbClr val="90c226"/>
                </a:solidFill>
                <a:latin typeface="Trebuchet MS"/>
                <a:ea typeface="Tahoma"/>
              </a:rPr>
              <a:t> - معيار الرقابة النوعية</a:t>
            </a:r>
            <a:br>
              <a:rPr sz="4000"/>
            </a:br>
            <a:endParaRPr b="0" lang="en-US" sz="4000" spc="-1" strike="noStrike">
              <a:solidFill>
                <a:srgbClr val="90c226"/>
              </a:solidFill>
              <a:latin typeface="Trebuchet MS"/>
            </a:endParaRPr>
          </a:p>
        </p:txBody>
      </p:sp>
      <p:sp>
        <p:nvSpPr>
          <p:cNvPr id="247" name=""/>
          <p:cNvSpPr txBox="1"/>
          <p:nvPr/>
        </p:nvSpPr>
        <p:spPr>
          <a:xfrm>
            <a:off x="360000" y="2160720"/>
            <a:ext cx="8913960" cy="40464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ب- مسئولية المراجعين الداخليين:</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تقرير عن الالتزام بمعايير المراجعة الداخلي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التزام بقواعد السلوك المهني.</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77520" y="609480"/>
            <a:ext cx="8596440" cy="11685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90c226"/>
                </a:solidFill>
                <a:latin typeface="Trebuchet MS"/>
                <a:cs typeface="Tahoma"/>
              </a:rPr>
              <a:t>إنشاء وحدات المراجعة الداخلية</a:t>
            </a:r>
            <a:endParaRPr b="0" lang="en-US" sz="4400" spc="-1" strike="noStrike">
              <a:solidFill>
                <a:srgbClr val="90c226"/>
              </a:solidFill>
              <a:latin typeface="Trebuchet MS"/>
            </a:endParaRPr>
          </a:p>
        </p:txBody>
      </p:sp>
      <p:sp>
        <p:nvSpPr>
          <p:cNvPr id="214" name=""/>
          <p:cNvSpPr txBox="1"/>
          <p:nvPr/>
        </p:nvSpPr>
        <p:spPr>
          <a:xfrm>
            <a:off x="818640" y="1660320"/>
            <a:ext cx="8596440" cy="4289400"/>
          </a:xfrm>
          <a:prstGeom prst="rect">
            <a:avLst/>
          </a:prstGeom>
          <a:noFill/>
          <a:ln w="0">
            <a:noFill/>
          </a:ln>
        </p:spPr>
        <p:txBody>
          <a:bodyPr anchor="t">
            <a:normAutofit/>
          </a:bodyPr>
          <a:p>
            <a:pPr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Aharoni"/>
                <a:cs typeface="Tahoma"/>
              </a:rPr>
              <a:t>الهدف من عرض هذا الجزء هو تعريف بالقواعد المنظمة لإنشاء وحدات المراجعة الداخلية.</a:t>
            </a:r>
            <a:endParaRPr b="0" lang="en-US" sz="2800" spc="-1" strike="noStrike">
              <a:solidFill>
                <a:srgbClr val="404040"/>
              </a:solidFill>
              <a:latin typeface="Trebuchet MS"/>
            </a:endParaRPr>
          </a:p>
          <a:p>
            <a:pPr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Aharoni"/>
                <a:cs typeface="Tahoma"/>
              </a:rPr>
              <a:t>ولتحقيق ذلك سيتم عرض الموضوعات التالية:</a:t>
            </a:r>
            <a:endParaRPr b="0" lang="en-US" sz="2800" spc="-1" strike="noStrike">
              <a:solidFill>
                <a:srgbClr val="404040"/>
              </a:solidFill>
              <a:latin typeface="Trebuchet MS"/>
            </a:endParaRPr>
          </a:p>
          <a:p>
            <a:pPr algn="just" rtl="1">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Aharoni"/>
                <a:ea typeface="Tahoma"/>
              </a:rPr>
              <a:t>•اللائحة الموحدة لوحدات المراجعة الداخلية في الأجهزة الحكومية والمؤسسات العامة.</a:t>
            </a:r>
            <a:r>
              <a:rPr b="0" lang="en-US" sz="2800" spc="-1" strike="noStrike">
                <a:solidFill>
                  <a:srgbClr val="404040"/>
                </a:solidFill>
                <a:latin typeface="Aharoni"/>
                <a:ea typeface="Aharoni"/>
              </a:rPr>
              <a:t>)</a:t>
            </a:r>
            <a:r>
              <a:rPr b="0" lang="ar-SA" sz="2800" spc="-1" strike="noStrike">
                <a:solidFill>
                  <a:srgbClr val="404040"/>
                </a:solidFill>
                <a:latin typeface="Aharoni"/>
                <a:cs typeface="Tahoma"/>
              </a:rPr>
              <a:t>للأطلاع)</a:t>
            </a:r>
            <a:endParaRPr b="0" lang="en-US" sz="2800" spc="-1" strike="noStrike">
              <a:solidFill>
                <a:srgbClr val="404040"/>
              </a:solidFill>
              <a:latin typeface="Trebuchet MS"/>
            </a:endParaRPr>
          </a:p>
          <a:p>
            <a:pPr algn="just" rtl="1">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Aharoni"/>
                <a:ea typeface="Aharoni"/>
              </a:rPr>
              <a:t> </a:t>
            </a:r>
            <a:r>
              <a:rPr b="0" lang="ar-SA" sz="2800" spc="-1" strike="noStrike">
                <a:solidFill>
                  <a:srgbClr val="404040"/>
                </a:solidFill>
                <a:latin typeface="Aharoni"/>
                <a:ea typeface="Tahoma"/>
              </a:rPr>
              <a:t>•معايير المراجعة الداخلية.</a:t>
            </a:r>
            <a:endParaRPr b="0" lang="en-US" sz="2800" spc="-1" strike="noStrike">
              <a:solidFill>
                <a:srgbClr val="404040"/>
              </a:solidFill>
              <a:latin typeface="Trebuchet MS"/>
            </a:endParaRPr>
          </a:p>
          <a:p>
            <a:pPr algn="just" rtl="1">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Aharoni"/>
                <a:ea typeface="Tahoma"/>
              </a:rPr>
              <a:t>•قواعد سلوك وآداب المهنة.</a:t>
            </a:r>
            <a:endParaRPr b="0" lang="en-US" sz="2800" spc="-1" strike="noStrike">
              <a:solidFill>
                <a:srgbClr val="404040"/>
              </a:solidFill>
              <a:latin typeface="Trebuchet MS"/>
            </a:endParaRPr>
          </a:p>
          <a:p>
            <a:pPr algn="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1</a:t>
            </a:r>
            <a:r>
              <a:rPr b="0" lang="ar-SA" sz="4000" spc="-1" strike="noStrike">
                <a:solidFill>
                  <a:srgbClr val="90c226"/>
                </a:solidFill>
                <a:latin typeface="Trebuchet MS"/>
                <a:ea typeface="Tahoma"/>
              </a:rPr>
              <a:t>- إدارة أنشطة المراجعة الداخلية</a:t>
            </a:r>
            <a:br>
              <a:rPr sz="3200"/>
            </a:br>
            <a:endParaRPr b="0" lang="en-US" sz="4000" spc="-1" strike="noStrike">
              <a:solidFill>
                <a:srgbClr val="90c226"/>
              </a:solidFill>
              <a:latin typeface="Trebuchet MS"/>
            </a:endParaRPr>
          </a:p>
        </p:txBody>
      </p:sp>
      <p:sp>
        <p:nvSpPr>
          <p:cNvPr id="249"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تناول معيار إدارة الأنشطة مسئوليات مدير إدارة المراجعة عن تخطيط وتنفيذ أنشطة الإدارة والتقرير عن نتائج ممارسة تلك الأنشط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ولقد جاء بالمعيار ما يل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على مدير الإدارة تخطيط أنشطة الإدارة بصورة تضيف قيمة للمنشأ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توضع خطة الإدارة على أساس المخاطر حتى تسمح بتحديد الأولويات وتساهم في تحقيق أهداف الوحدة الحكومي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عد مدير الإدارة تقديرا للاحتياجات المالية والبشرية اللازمة لتنفيذ الخط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رفع الخطة والاحتياجات إلى المستوي الإداري للمراجعة والتصديق.</a:t>
            </a:r>
            <a:endParaRPr b="0" lang="en-US" sz="2000" spc="-1" strike="noStrike">
              <a:solidFill>
                <a:srgbClr val="404040"/>
              </a:solidFill>
              <a:latin typeface="Trebuchet MS"/>
            </a:endParaRPr>
          </a:p>
          <a:p>
            <a:pPr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1</a:t>
            </a:r>
            <a:r>
              <a:rPr b="0" lang="ar-SA" sz="4000" spc="-1" strike="noStrike">
                <a:solidFill>
                  <a:srgbClr val="90c226"/>
                </a:solidFill>
                <a:latin typeface="Trebuchet MS"/>
                <a:ea typeface="Tahoma"/>
              </a:rPr>
              <a:t>- إدارة أنشطة المراجعة الداخلية</a:t>
            </a:r>
            <a:br>
              <a:rPr sz="3200"/>
            </a:br>
            <a:endParaRPr b="0" lang="en-US" sz="4000" spc="-1" strike="noStrike">
              <a:solidFill>
                <a:srgbClr val="90c226"/>
              </a:solidFill>
              <a:latin typeface="Trebuchet MS"/>
            </a:endParaRPr>
          </a:p>
        </p:txBody>
      </p:sp>
      <p:sp>
        <p:nvSpPr>
          <p:cNvPr id="251" name=""/>
          <p:cNvSpPr txBox="1"/>
          <p:nvPr/>
        </p:nvSpPr>
        <p:spPr>
          <a:xfrm>
            <a:off x="677520" y="2160360"/>
            <a:ext cx="8596440" cy="3881160"/>
          </a:xfrm>
          <a:prstGeom prst="rect">
            <a:avLst/>
          </a:prstGeom>
          <a:noFill/>
          <a:ln w="0">
            <a:noFill/>
          </a:ln>
        </p:spPr>
        <p:txBody>
          <a:bodyPr anchor="t">
            <a:normAutofit/>
          </a:bodyPr>
          <a:p>
            <a:pPr marL="343080" indent="-343080" algn="just" rtl="1">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تأكد مدير الإدارة من كفاية الموارد ويتولي إدارتها بما يحقق الخطة.</a:t>
            </a:r>
            <a:endParaRPr b="0" lang="en-US" sz="2000" spc="-1" strike="noStrike">
              <a:solidFill>
                <a:srgbClr val="404040"/>
              </a:solidFill>
              <a:latin typeface="Trebuchet MS"/>
            </a:endParaRPr>
          </a:p>
          <a:p>
            <a:pPr marL="343080" indent="-343080" algn="just" rtl="1">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ضع السياسات والإجراءات التي تحكم أداء العاملين بالإدارة.</a:t>
            </a:r>
            <a:endParaRPr b="0" lang="en-US" sz="2000" spc="-1" strike="noStrike">
              <a:solidFill>
                <a:srgbClr val="404040"/>
              </a:solidFill>
              <a:latin typeface="Trebuchet MS"/>
            </a:endParaRPr>
          </a:p>
          <a:p>
            <a:pPr marL="343080" indent="-343080" algn="just" rtl="1">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تقاسم المعلومات مع المراجع الخارجي أو أي فاحص خارجي وينسق معهم الأنشطة والجهود بما يدني من عمليات الازدواج.</a:t>
            </a:r>
            <a:endParaRPr b="0" lang="en-US" sz="2000" spc="-1" strike="noStrike">
              <a:solidFill>
                <a:srgbClr val="404040"/>
              </a:solidFill>
              <a:latin typeface="Trebuchet MS"/>
            </a:endParaRPr>
          </a:p>
          <a:p>
            <a:pPr marL="343080" indent="-343080" algn="just" rtl="1">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قدم تقريرا دوريا عن أهداف أنشطة الإدارة ومدي التقدم في تحقيق خطة الإدارة ، ويجب أن يغطي التقرير الأمور المرتبطة بالتعرض للمخاطر، الحوكمة ، والرقابة.</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طبيعة خدمات المراجعة الداخلية</a:t>
            </a:r>
            <a:br>
              <a:rPr sz="4000"/>
            </a:br>
            <a:endParaRPr b="0" lang="en-US" sz="4000" spc="-1" strike="noStrike">
              <a:solidFill>
                <a:srgbClr val="90c226"/>
              </a:solidFill>
              <a:latin typeface="Trebuchet MS"/>
            </a:endParaRPr>
          </a:p>
        </p:txBody>
      </p:sp>
      <p:sp>
        <p:nvSpPr>
          <p:cNvPr id="253" name=""/>
          <p:cNvSpPr txBox="1"/>
          <p:nvPr/>
        </p:nvSpPr>
        <p:spPr>
          <a:xfrm>
            <a:off x="909720" y="2263680"/>
            <a:ext cx="8596080" cy="38815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حددت المعايير المهنية طبيعة نشاط المراجعة الداخلية بأنه نشاط يعتمد على مدخل منظم يسهم في تحسين عمليات:</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إدارة المخاطر.</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لرقاب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لحوكمة.</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طبيعة خدمات المراجعة الداخلية</a:t>
            </a:r>
            <a:endParaRPr b="0" lang="en-US" sz="4000" spc="-1" strike="noStrike">
              <a:solidFill>
                <a:srgbClr val="90c226"/>
              </a:solidFill>
              <a:latin typeface="Trebuchet MS"/>
            </a:endParaRPr>
          </a:p>
        </p:txBody>
      </p:sp>
      <p:sp>
        <p:nvSpPr>
          <p:cNvPr id="255" name=""/>
          <p:cNvSpPr txBox="1"/>
          <p:nvPr/>
        </p:nvSpPr>
        <p:spPr>
          <a:xfrm>
            <a:off x="677520" y="2160360"/>
            <a:ext cx="8596440" cy="388116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Trebuchet MS"/>
                <a:cs typeface="Tahoma"/>
              </a:rPr>
              <a:t>إدارة </a:t>
            </a:r>
            <a:r>
              <a:rPr b="1" lang="ar-SA" sz="2000" spc="-1" strike="noStrike">
                <a:solidFill>
                  <a:srgbClr val="404040"/>
                </a:solidFill>
                <a:latin typeface="Trebuchet MS"/>
                <a:cs typeface="Tahoma"/>
              </a:rPr>
              <a:t>المخاطر</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ساعد نشاط المراجعة الداخلية الوحدة الحكومية في تعيين وتقويم المخاطر التي تتعرض لها الوحدة الحكومية وذلك للمساعدة في إدارة هذه المخاطر.</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مراقبة وتقويم فاعلية نظام إدارة المخاطر.</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تم تقويم للمخاطر المؤثرة في حوكمة الوحدة الحكومية وفي عملياتها، وفي نظام المعلومات.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أن يقدر المراجع الداخلي المخاطر المرتبطة بأهداف مهام الخدمات الاستشارية ومدي ارتباط هذه المخاطر بالأنواع التي تتعرض لها الوحدة الحكومية.</a:t>
            </a:r>
            <a:endParaRPr b="0" lang="en-US" sz="20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طبيعة خدمات المراجعة الداخلية</a:t>
            </a:r>
            <a:endParaRPr b="0" lang="en-US" sz="4000" spc="-1" strike="noStrike">
              <a:solidFill>
                <a:srgbClr val="90c226"/>
              </a:solidFill>
              <a:latin typeface="Trebuchet MS"/>
            </a:endParaRPr>
          </a:p>
        </p:txBody>
      </p:sp>
      <p:sp>
        <p:nvSpPr>
          <p:cNvPr id="257" name=""/>
          <p:cNvSpPr txBox="1"/>
          <p:nvPr/>
        </p:nvSpPr>
        <p:spPr>
          <a:xfrm>
            <a:off x="677520" y="2160360"/>
            <a:ext cx="8596440" cy="388116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Trebuchet MS"/>
                <a:cs typeface="Tahoma"/>
              </a:rPr>
              <a:t>الرقاب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تساعد المراجعة الداخلية الوحدة الحكومية في الحفاظ على رقابة فعالة ويقيم كفايتها وفاعليتها ويقترح التحسينات الممكنة بصفة دور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لتأكد من تحقيق أهداف الرقاب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أخذ في الاعتبار الرقابة المترتبة على الخدمات الاستشارية ومدي تأثر النظام القائم بنتائج هذه الخدمات.</a:t>
            </a:r>
            <a:endParaRPr b="0" lang="en-US" sz="24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طبيعة خدمات المراجعة الداخلية</a:t>
            </a:r>
            <a:endParaRPr b="0" lang="en-US" sz="4000" spc="-1" strike="noStrike">
              <a:solidFill>
                <a:srgbClr val="90c226"/>
              </a:solidFill>
              <a:latin typeface="Trebuchet MS"/>
            </a:endParaRPr>
          </a:p>
        </p:txBody>
      </p:sp>
      <p:sp>
        <p:nvSpPr>
          <p:cNvPr id="259"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Trebuchet MS"/>
                <a:cs typeface="Tahoma"/>
              </a:rPr>
              <a:t>الحوكمة</a:t>
            </a:r>
            <a:endParaRPr b="0" lang="en-US" sz="2000" spc="-1" strike="noStrike">
              <a:solidFill>
                <a:srgbClr val="404040"/>
              </a:solidFill>
              <a:latin typeface="Trebuchet MS"/>
            </a:endParaRPr>
          </a:p>
          <a:p>
            <a:pPr algn="just"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قدر ملائمة إجراءات الحوكمة ويدخل عليها تحسينات فيما يتعلق بالآت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عمل عل شيوع القيم والأخلاقيات داخل الوحدة الحكومي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ضمان مسائلة وإدارة فعالة للأداء التنظيم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توصيل الجيد لمعلومات الرقابة والخطر للمستوي الملائم من الإدار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تنسيق مع بين الإدارة والإدارة التنفيذية والمراجعين الخارجيين والمراجعين الداخليين من حيث الأنشطة وتداول المعلومات.</a:t>
            </a:r>
            <a:endParaRPr b="0" lang="en-US" sz="2000" spc="-1" strike="noStrike">
              <a:solidFill>
                <a:srgbClr val="404040"/>
              </a:solidFill>
              <a:latin typeface="Trebuchet MS"/>
            </a:endParaRPr>
          </a:p>
          <a:p>
            <a:pPr algn="just"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التأكد من أن أهداف الخدمات الاستشارية تتفق مع القيم والأهداف العليا للمنشأة.</a:t>
            </a:r>
            <a:endParaRPr b="0" lang="en-US" sz="20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3</a:t>
            </a:r>
            <a:r>
              <a:rPr b="0" lang="ar-SA" sz="4000" spc="-1" strike="noStrike">
                <a:solidFill>
                  <a:srgbClr val="90c226"/>
                </a:solidFill>
                <a:latin typeface="Trebuchet MS"/>
                <a:ea typeface="Tahoma"/>
              </a:rPr>
              <a:t>- معيار التخطيط</a:t>
            </a:r>
            <a:br>
              <a:rPr sz="3200"/>
            </a:br>
            <a:endParaRPr b="0" lang="en-US" sz="4000" spc="-1" strike="noStrike">
              <a:solidFill>
                <a:srgbClr val="90c226"/>
              </a:solidFill>
              <a:latin typeface="Trebuchet MS"/>
            </a:endParaRPr>
          </a:p>
        </p:txBody>
      </p:sp>
      <p:sp>
        <p:nvSpPr>
          <p:cNvPr id="261"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معيار التخطيط هنا يتناول الجوانب المهنية للمراجعة الداخلية بعكس معيار إدارة الأنشطة الذي يتناول التخطيط التنظيمي لإدارة المراجعة الداخلية.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ضع المراجع الداخلي خطة لكل مهمة مراجعة تتضمن النطاق ، والأهداف ، والتوقيت ، والموارد المخصصة لها.</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4</a:t>
            </a:r>
            <a:r>
              <a:rPr b="0" lang="ar-SA" sz="4000" spc="-1" strike="noStrike">
                <a:solidFill>
                  <a:srgbClr val="90c226"/>
                </a:solidFill>
                <a:latin typeface="Trebuchet MS"/>
                <a:ea typeface="Tahoma"/>
              </a:rPr>
              <a:t>- معيار تنفيذ العمليات</a:t>
            </a:r>
            <a:endParaRPr b="0" lang="en-US" sz="4000" spc="-1" strike="noStrike">
              <a:solidFill>
                <a:srgbClr val="90c226"/>
              </a:solidFill>
              <a:latin typeface="Trebuchet MS"/>
            </a:endParaRPr>
          </a:p>
        </p:txBody>
      </p:sp>
      <p:sp>
        <p:nvSpPr>
          <p:cNvPr id="263" name=""/>
          <p:cNvSpPr txBox="1"/>
          <p:nvPr/>
        </p:nvSpPr>
        <p:spPr>
          <a:xfrm>
            <a:off x="677520" y="2160360"/>
            <a:ext cx="8596440" cy="403380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يتناول المعيار عمليات تحديد المعلومات وتقويمها وتحليلها وتسجيلها بما يحقق أهداف المهمة. نلاحظ هنا أن المعيار يتعامل مع معلومات قد تكون مالية أو غير مالية بما في ذلك أدلة الإثبات التي يغطيها برنامج المراجعة الخارجية.</a:t>
            </a: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بعض النقاط الأساسية في معيار التنفيذ تشمل الآتي:</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يجب أن يحدد المراجع الداخلي المعلومات الكافية والملائمة والموثوق فيها والنافعة لتحقيق أهداف المهمة.</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ضرورة إجراء تحليل وتقويم مناسب للمعلومات لاستخلاص نتائج يبني عليها استنتاجات المراجع الداخلي.</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يجب أن يوضع نظام يتفق مع سياسة الوحدة الحكومية لحفظ وتداول سجلات إدارة المراجعة الداخلية.</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يجب تنسيق مهام المراجعة الداخلية بصورة تضمن تحقيق الأهداف وتضمن جودة الأداء وتنمية المهارات.</a:t>
            </a:r>
            <a:endParaRPr b="0" lang="en-US" sz="18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5</a:t>
            </a:r>
            <a:r>
              <a:rPr b="0" lang="ar-SA" sz="4000" spc="-1" strike="noStrike">
                <a:solidFill>
                  <a:srgbClr val="90c226"/>
                </a:solidFill>
                <a:latin typeface="Trebuchet MS"/>
                <a:ea typeface="Tahoma"/>
              </a:rPr>
              <a:t>- معيار التقرير وتوصيل النتائج</a:t>
            </a:r>
            <a:endParaRPr b="0" lang="en-US" sz="4000" spc="-1" strike="noStrike">
              <a:solidFill>
                <a:srgbClr val="90c226"/>
              </a:solidFill>
              <a:latin typeface="Trebuchet MS"/>
            </a:endParaRPr>
          </a:p>
        </p:txBody>
      </p:sp>
      <p:sp>
        <p:nvSpPr>
          <p:cNvPr id="265"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قارير المراجعة الداخلية ليست نمطية ، وإنما تتوقف على اعتبارات عديدة منها أهداف المهمة ، واحتياجات الإدارة ، وطبيعة والقيود المفروضة على المهمة. وبناءً عليه لا تقترح المعايير المهنية شكلا محددا لتقارير المراجعة الداخلية.</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معايير الأداء</a:t>
            </a:r>
            <a:br>
              <a:rPr sz="3600"/>
            </a:br>
            <a:r>
              <a:rPr b="0" lang="ar-SA" sz="3600" spc="-1" strike="noStrike">
                <a:solidFill>
                  <a:srgbClr val="90c226"/>
                </a:solidFill>
                <a:latin typeface="Trebuchet MS"/>
                <a:ea typeface="Tahoma"/>
              </a:rPr>
              <a:t>6</a:t>
            </a:r>
            <a:r>
              <a:rPr b="0" lang="ar-SA" sz="3600" spc="-1" strike="noStrike">
                <a:solidFill>
                  <a:srgbClr val="90c226"/>
                </a:solidFill>
                <a:latin typeface="Trebuchet MS"/>
                <a:ea typeface="Tahoma"/>
              </a:rPr>
              <a:t>- المتابعة</a:t>
            </a:r>
            <a:endParaRPr b="0" lang="en-US" sz="3600" spc="-1" strike="noStrike">
              <a:solidFill>
                <a:srgbClr val="90c226"/>
              </a:solidFill>
              <a:latin typeface="Trebuchet MS"/>
            </a:endParaRPr>
          </a:p>
        </p:txBody>
      </p:sp>
      <p:sp>
        <p:nvSpPr>
          <p:cNvPr id="267" name=""/>
          <p:cNvSpPr txBox="1"/>
          <p:nvPr/>
        </p:nvSpPr>
        <p:spPr>
          <a:xfrm>
            <a:off x="677520" y="2022480"/>
            <a:ext cx="8596440" cy="46353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نظرا لأن خدمات المراجعة الداخلية تنتهي إلى نتائج ومقترحات وتوصيات بأفعال معينة ، فإن المعايير المهنية استحدثت معيارا لمتابعة مرحلة ما بعد توصيات النتائج.</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تضمن معيار المتابعة النقاط الأساسية التالي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يجب على المراجعين الداخليين القيام بالمتابعة للتأكد من اتخاذ الإجراء المناسب المترتب على نتائج المراجعة التي تم التقرير عنها . ويجب على المراجعين الداخليين التأكد من أن الإجراء التصحيحي الذي تم اتخاذه يحقق النتائج المرغوب فيها، أو أن الإدارة قد قررت تحمل مخاطر عدم اتخاذ إجراء تصحيحي لما أظهرته نتائج المراجعة التي تم التقرير عنها.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يجب تحديد المسئولية عن المتابعة في دليل المراجعة الداخلية المعتمد.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قد تكون بعض النتائج التي تم التقرير عنها من الأهمية بحيث تستدعي اتخاذ إجراء فور ي من جانب الإدارة. ويجب مراقبة هذه الظروف من قبل المراجعين الداخليين حتى يتم تصحيحها نظرًا للأثر الذي قد تتركه على الوحدة الحكومية. </a:t>
            </a:r>
            <a:endParaRPr b="0" lang="en-US" sz="1800" spc="-1" strike="noStrike">
              <a:solidFill>
                <a:srgbClr val="404040"/>
              </a:solidFill>
              <a:latin typeface="Trebuchet MS"/>
            </a:endParaRPr>
          </a:p>
          <a:p>
            <a:pPr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90c226"/>
                </a:solidFill>
                <a:latin typeface="Trebuchet MS"/>
                <a:cs typeface="Tahoma"/>
              </a:rPr>
              <a:t>المعايير المهنية للمراجعة الداخلية</a:t>
            </a:r>
            <a:br>
              <a:rPr sz="4400"/>
            </a:br>
            <a:endParaRPr b="0" lang="en-US" sz="4400" spc="-1" strike="noStrike">
              <a:solidFill>
                <a:srgbClr val="90c226"/>
              </a:solidFill>
              <a:latin typeface="Trebuchet MS"/>
            </a:endParaRPr>
          </a:p>
        </p:txBody>
      </p:sp>
      <p:sp>
        <p:nvSpPr>
          <p:cNvPr id="216" name=""/>
          <p:cNvSpPr txBox="1"/>
          <p:nvPr/>
        </p:nvSpPr>
        <p:spPr>
          <a:xfrm>
            <a:off x="677520" y="1687320"/>
            <a:ext cx="8596440" cy="45162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cs typeface="Tahoma"/>
              </a:rPr>
              <a:t>نتناول في عرض المعايير المهنية للمراجعة الداخلية ثلاث موضوعات أساسية :</a:t>
            </a:r>
            <a:endParaRPr b="0" lang="en-US" sz="2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أهمية معايير المراجعة الداخلية.</a:t>
            </a:r>
            <a:endParaRPr b="0" lang="en-US" sz="2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المتطلبات الأساسية لتطبيق معايير المراجعة  الداخلية.</a:t>
            </a:r>
            <a:endParaRPr b="0" lang="en-US" sz="2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معايير المراجعة الداخلية.</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77520" y="609480"/>
            <a:ext cx="8596440" cy="11289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درجة الإلزام في المملكة العربية السعودية</a:t>
            </a:r>
            <a:br>
              <a:rPr sz="3200"/>
            </a:br>
            <a:endParaRPr b="0" lang="en-US" sz="4000" spc="-1" strike="noStrike">
              <a:solidFill>
                <a:srgbClr val="90c226"/>
              </a:solidFill>
              <a:latin typeface="Trebuchet MS"/>
            </a:endParaRPr>
          </a:p>
        </p:txBody>
      </p:sp>
      <p:sp>
        <p:nvSpPr>
          <p:cNvPr id="269" name=""/>
          <p:cNvSpPr txBox="1"/>
          <p:nvPr/>
        </p:nvSpPr>
        <p:spPr>
          <a:xfrm>
            <a:off x="677520" y="2160360"/>
            <a:ext cx="8596440" cy="3881160"/>
          </a:xfrm>
          <a:prstGeom prst="rect">
            <a:avLst/>
          </a:prstGeom>
          <a:noFill/>
          <a:ln w="0">
            <a:noFill/>
          </a:ln>
        </p:spPr>
        <p:txBody>
          <a:bodyPr anchor="t">
            <a:normAutofit fontScale="99000"/>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ما هو الوضع في المملكة العربية السعودية؟ وما هي المعايير التي يجب أن يلتزم بها المراجعين الداخليين في المملكة؟.</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جاء بمشروع معايير المراجعة الداخلية السعودي الصادر عن الهيئة السعودية للمحاسبين القانونيين ما يفيد أن هذه المعايير غير إلزامية على الأقل في الفترة الحالية.</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كما أن الهيئات السعودية المعنية بالمراجعة ، ومنها ديوان المراقبة العامة ، تقوم على تفعيل قرار مجلس الوزراء بتاريخ </a:t>
            </a:r>
            <a:r>
              <a:rPr b="0" lang="ar-SA" sz="1800" spc="-1" strike="noStrike">
                <a:solidFill>
                  <a:srgbClr val="404040"/>
                </a:solidFill>
                <a:latin typeface="Trebuchet MS"/>
                <a:ea typeface="Tahoma"/>
              </a:rPr>
              <a:t>6/4/1428</a:t>
            </a:r>
            <a:r>
              <a:rPr b="0" lang="ar-SA" sz="1800" spc="-1" strike="noStrike">
                <a:solidFill>
                  <a:srgbClr val="404040"/>
                </a:solidFill>
                <a:latin typeface="Trebuchet MS"/>
                <a:ea typeface="Tahoma"/>
              </a:rPr>
              <a:t> هـ القاضي بالموافقة على اللائحة الموحدة لوحدات المراجعة الداخلية في الأجهزة الحكومية والمؤسسات العامة.</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ولقد ألزمت اللائحة الوحدات الحكومية والمؤسسات العامة بتأسيس وحدات للمراجعة الداخلية كما جاء بتلك اللائحة.</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على الرغم من أن اللائحة قد تضمنت بعض معايير المراجعة الداخلية ، إلا أن ما ورد بها يمثل حدا أدنى لهذه المعايير ولابد من الاسترشاد بما صدر عن الهيئات المهنية المحلية والدولي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كونات السلوك المهني القويم</a:t>
            </a:r>
            <a:endParaRPr b="0" lang="en-US" sz="4000" spc="-1" strike="noStrike">
              <a:solidFill>
                <a:srgbClr val="90c226"/>
              </a:solidFill>
              <a:latin typeface="Trebuchet MS"/>
            </a:endParaRPr>
          </a:p>
        </p:txBody>
      </p:sp>
      <p:sp>
        <p:nvSpPr>
          <p:cNvPr id="271" name=""/>
          <p:cNvSpPr txBox="1"/>
          <p:nvPr/>
        </p:nvSpPr>
        <p:spPr>
          <a:xfrm>
            <a:off x="677520" y="2160360"/>
            <a:ext cx="8596440" cy="3881160"/>
          </a:xfrm>
          <a:prstGeom prst="rect">
            <a:avLst/>
          </a:prstGeom>
          <a:noFill/>
          <a:ln w="0">
            <a:noFill/>
          </a:ln>
        </p:spPr>
        <p:txBody>
          <a:bodyPr anchor="t">
            <a:normAutofit fontScale="99000"/>
          </a:bodyPr>
          <a:p>
            <a:pPr marL="339480" indent="-3394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المجموعة الأولى: المبادئ. وهي مستويات عامة تحكم المهنة والسلوك المهني بشكل عام ، والمبادئ بطبيعتها غير قابلة للتطبيق المباشر.</a:t>
            </a:r>
            <a:endParaRPr b="0" lang="en-US" sz="2400" spc="-1" strike="noStrike">
              <a:solidFill>
                <a:srgbClr val="404040"/>
              </a:solidFill>
              <a:latin typeface="Trebuchet MS"/>
            </a:endParaRPr>
          </a:p>
          <a:p>
            <a:pPr marL="339480" indent="-3394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المجموعة الثانية: القواعد. تعتبر القواعد أكثر ارتباطا بالأداء المهني على أرض الواقع ، وتمثل أنماط من السلوك المتوقع من المراجعين الداخليين في علاقتهم بالمستفيدين من وظيفة المراجعة الداخلية ، وبزملاء المهنة ، وبالعملاء وبالغير بصفة عامة. وتعتبر القواعد الترجمة العملية لمبادئ السلوك المهني والتي تحكم سلوك المراجعين الداخليين.</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Content Placeholder 3" descr=""/>
          <p:cNvPicPr/>
          <p:nvPr/>
        </p:nvPicPr>
        <p:blipFill>
          <a:blip r:embed="rId1"/>
          <a:stretch/>
        </p:blipFill>
        <p:spPr>
          <a:xfrm>
            <a:off x="0" y="90360"/>
            <a:ext cx="9504360" cy="6767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مبادئ السلوك المهني</a:t>
            </a:r>
            <a:br>
              <a:rPr sz="3600"/>
            </a:br>
            <a:r>
              <a:rPr b="0" lang="ar-SA" sz="3600" spc="-1" strike="noStrike">
                <a:solidFill>
                  <a:srgbClr val="90c226"/>
                </a:solidFill>
                <a:latin typeface="Trebuchet MS"/>
                <a:ea typeface="Tahoma"/>
              </a:rPr>
              <a:t>1</a:t>
            </a:r>
            <a:r>
              <a:rPr b="0" lang="ar-SA" sz="3600" spc="-1" strike="noStrike">
                <a:solidFill>
                  <a:srgbClr val="90c226"/>
                </a:solidFill>
                <a:latin typeface="Trebuchet MS"/>
                <a:ea typeface="Tahoma"/>
              </a:rPr>
              <a:t>- النزاهة</a:t>
            </a:r>
            <a:endParaRPr b="0" lang="en-US" sz="3600" spc="-1" strike="noStrike">
              <a:solidFill>
                <a:srgbClr val="90c226"/>
              </a:solidFill>
              <a:latin typeface="Trebuchet MS"/>
            </a:endParaRPr>
          </a:p>
        </p:txBody>
      </p:sp>
      <p:sp>
        <p:nvSpPr>
          <p:cNvPr id="274"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ؤدي المراجع الداخلي عمله بنزاهة تامة تحرره من أي شبهات وتجعل من عمله محل ثقة ومصداقية للغير. فنزاهة المراجع الداخلي تؤدي إلى تدعيم الثقة فيما يقوم به من أعمال وتعتبر أساس الاعتماد على أحكامه.</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تحرر من التبعية الفكرية للإدار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بذل عناية مهنية واجبة في كل أعمال المراجع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عمل على تحقيق مصلحة التنظيم بما لا يتعرض مع القيم الأخلاقية.</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بادئ السلوك المهني</a:t>
            </a:r>
            <a:br>
              <a:rPr sz="4000"/>
            </a:b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الموضوعية</a:t>
            </a:r>
            <a:endParaRPr b="0" lang="en-US" sz="4000" spc="-1" strike="noStrike">
              <a:solidFill>
                <a:srgbClr val="90c226"/>
              </a:solidFill>
              <a:latin typeface="Trebuchet MS"/>
            </a:endParaRPr>
          </a:p>
        </p:txBody>
      </p:sp>
      <p:sp>
        <p:nvSpPr>
          <p:cNvPr id="276"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برهن المراجع في عمله على درجة عالية من الموضوعية المهنية ، وذلك أثناء جمع وتقويم المعلومات وتوصيل النتائج عن نتائج العمل الخاص بالعملية أو النشاط محل الفحص. وتقضي الموضوعية أن يوازن المراجع الداخلي بين كل الأمور المحيطة بالفحص ويقدر بصورة متوازنة جميع الاهتمامات دون أن يتأثر باهتماماته الشخصية أو بأحكامه السابقة.</a:t>
            </a:r>
            <a:endParaRPr b="0" lang="en-US" sz="24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بادئ السلوك المهني</a:t>
            </a:r>
            <a:br>
              <a:rPr sz="4000"/>
            </a:br>
            <a:r>
              <a:rPr b="0" lang="ar-SA" sz="4000" spc="-1" strike="noStrike">
                <a:solidFill>
                  <a:srgbClr val="90c226"/>
                </a:solidFill>
                <a:latin typeface="Trebuchet MS"/>
                <a:ea typeface="Tahoma"/>
              </a:rPr>
              <a:t>3</a:t>
            </a:r>
            <a:r>
              <a:rPr b="0" lang="ar-SA" sz="4000" spc="-1" strike="noStrike">
                <a:solidFill>
                  <a:srgbClr val="90c226"/>
                </a:solidFill>
                <a:latin typeface="Trebuchet MS"/>
                <a:ea typeface="Tahoma"/>
              </a:rPr>
              <a:t>- الأمانة</a:t>
            </a:r>
            <a:endParaRPr b="0" lang="en-US" sz="4000" spc="-1" strike="noStrike">
              <a:solidFill>
                <a:srgbClr val="90c226"/>
              </a:solidFill>
              <a:latin typeface="Trebuchet MS"/>
            </a:endParaRPr>
          </a:p>
        </p:txBody>
      </p:sp>
      <p:sp>
        <p:nvSpPr>
          <p:cNvPr id="278"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حترم المراجع الداخلي قيمة المعلومات التي يحصل عليها ويحترم خصوصيتها وملكيتها للآخرين. فالمعلومات التي يحصل عليها المراجع الداخلي يجب ألا تستخدم بصورة شخصية كما يجب ألا يعلن أو يفصح عنها بدون سلطة حقيقية تتيح له ذلك ما لم يكن هناك متطلب قانوني أو مهني يلزمه بالإفصاح عنها.</a:t>
            </a:r>
            <a:endParaRPr b="0" lang="en-US" sz="2400" spc="-1" strike="noStrike">
              <a:solidFill>
                <a:srgbClr val="404040"/>
              </a:solidFill>
              <a:latin typeface="Trebuchet MS"/>
            </a:endParaRPr>
          </a:p>
          <a:p>
            <a:pPr marL="343080" indent="-343080"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بادئ السلوك المهني</a:t>
            </a:r>
            <a:br>
              <a:rPr sz="4000"/>
            </a:br>
            <a:r>
              <a:rPr b="0" lang="ar-SA" sz="4000" spc="-1" strike="noStrike">
                <a:solidFill>
                  <a:srgbClr val="90c226"/>
                </a:solidFill>
                <a:latin typeface="Trebuchet MS"/>
                <a:ea typeface="Tahoma"/>
              </a:rPr>
              <a:t>4</a:t>
            </a:r>
            <a:r>
              <a:rPr b="0" lang="ar-SA" sz="4000" spc="-1" strike="noStrike">
                <a:solidFill>
                  <a:srgbClr val="90c226"/>
                </a:solidFill>
                <a:latin typeface="Trebuchet MS"/>
                <a:ea typeface="Tahoma"/>
              </a:rPr>
              <a:t>- التأهيل</a:t>
            </a:r>
            <a:endParaRPr b="0" lang="en-US" sz="4000" spc="-1" strike="noStrike">
              <a:solidFill>
                <a:srgbClr val="90c226"/>
              </a:solidFill>
              <a:latin typeface="Trebuchet MS"/>
            </a:endParaRPr>
          </a:p>
        </p:txBody>
      </p:sp>
      <p:sp>
        <p:nvSpPr>
          <p:cNvPr id="280" name=""/>
          <p:cNvSpPr txBox="1"/>
          <p:nvPr/>
        </p:nvSpPr>
        <p:spPr>
          <a:xfrm>
            <a:off x="677520" y="2160360"/>
            <a:ext cx="859644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قدم المراجع الداخلي المعارف والمهارات والخبرات اللازمة لإنجاز مهام المراجعة الداخلية.</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هذا المبدأ يتطلب من المراجع الداخلي الآتي:</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لا يقبل المراجع الداخلي أي مهام تفوق تأهيله المهني.</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أن يرفع المراجع الداخلي بصورة ، مستمرة ، تأهيله المهني ويسعى لكسب أنواع جديدة من المعرفة والمهارة</a:t>
            </a:r>
            <a:r>
              <a:rPr b="0" lang="ar-SA" sz="1800" spc="-1" strike="noStrike">
                <a:solidFill>
                  <a:srgbClr val="404040"/>
                </a:solidFill>
                <a:latin typeface="Trebuchet MS"/>
                <a:ea typeface="Tahoma"/>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قواعد السلوك المهني</a:t>
            </a:r>
            <a:br>
              <a:rPr sz="4000"/>
            </a:br>
            <a:r>
              <a:rPr b="0" lang="ar-SA" sz="4000" spc="-1" strike="noStrike">
                <a:solidFill>
                  <a:srgbClr val="90c226"/>
                </a:solidFill>
                <a:latin typeface="Trebuchet MS"/>
                <a:ea typeface="Tahoma"/>
              </a:rPr>
              <a:t>1</a:t>
            </a:r>
            <a:r>
              <a:rPr b="0" lang="ar-SA" sz="4000" spc="-1" strike="noStrike">
                <a:solidFill>
                  <a:srgbClr val="90c226"/>
                </a:solidFill>
                <a:latin typeface="Trebuchet MS"/>
                <a:ea typeface="Tahoma"/>
              </a:rPr>
              <a:t>- النزاهة</a:t>
            </a:r>
            <a:endParaRPr b="0" lang="en-US" sz="4000" spc="-1" strike="noStrike">
              <a:solidFill>
                <a:srgbClr val="90c226"/>
              </a:solidFill>
              <a:latin typeface="Trebuchet MS"/>
            </a:endParaRPr>
          </a:p>
        </p:txBody>
      </p:sp>
      <p:sp>
        <p:nvSpPr>
          <p:cNvPr id="282" name=""/>
          <p:cNvSpPr txBox="1"/>
          <p:nvPr/>
        </p:nvSpPr>
        <p:spPr>
          <a:xfrm>
            <a:off x="677520" y="1929960"/>
            <a:ext cx="8596440" cy="441972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يؤدي المراجعون الداخليون عملهم بأمانة ، واجتهاد ، وحرص. الجد والاجتهاد والحرص هنا تحمل الآخرين على إدراك نزاهة ومصداقية المراجع الداخلي.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يضع المراجع الداخلي النظم والقوانين نصب عينيه أثناء تنفيذه لمراحل المراجعة وأن ينجز الإفصاح المتوقع وفقا للنظام والقانون.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على المراجعين الداخليين عدم الاشتراك ، عن علم مسبق ، في أي عمل أو نشاط غير قانوني ، كما يحظر عليه أن يأتي بأفعال أو يشترك في أفعال تسئ إلى كرامة مهنة المراجعة الداخلية أو إلى الوحدة الحكومية التي ينتمي إليها.</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يحترم المراجع الداخلي الأهداف المشروعة والأخلاقية للمنشأة التي ينتمي إليها ويضيف إليها ويدعمها. احترام المراجع الداخلي لأهداف منشأته يجعل الآخرين أكثر ميلا لاحترام تلك الأهداف.</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قواعد السلوك المهني</a:t>
            </a:r>
            <a:br>
              <a:rPr sz="4000"/>
            </a:b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الموضوعية</a:t>
            </a:r>
            <a:endParaRPr b="0" lang="en-US" sz="4000" spc="-1" strike="noStrike">
              <a:solidFill>
                <a:srgbClr val="90c226"/>
              </a:solidFill>
              <a:latin typeface="Trebuchet MS"/>
            </a:endParaRPr>
          </a:p>
        </p:txBody>
      </p:sp>
      <p:sp>
        <p:nvSpPr>
          <p:cNvPr id="284" name=""/>
          <p:cNvSpPr txBox="1"/>
          <p:nvPr/>
        </p:nvSpPr>
        <p:spPr>
          <a:xfrm>
            <a:off x="677520" y="2160360"/>
            <a:ext cx="8596440" cy="3881160"/>
          </a:xfrm>
          <a:prstGeom prst="rect">
            <a:avLst/>
          </a:prstGeom>
          <a:noFill/>
          <a:ln w="0">
            <a:noFill/>
          </a:ln>
        </p:spPr>
        <p:txBody>
          <a:bodyPr anchor="t">
            <a:normAutofit fontScale="96000"/>
          </a:bodyPr>
          <a:p>
            <a:pPr marL="329040" indent="-32904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تجنب المراجع الداخلي الاشتراك في أي أنشطة أو الدخول في أي علاقات تؤدي إلى فقدانه أو إلى احتمال فقدانه عدم التحيز في القيام بالتقديرات. </a:t>
            </a:r>
            <a:endParaRPr b="0" lang="en-US" sz="2400" spc="-1" strike="noStrike">
              <a:solidFill>
                <a:srgbClr val="404040"/>
              </a:solidFill>
              <a:latin typeface="Trebuchet MS"/>
            </a:endParaRPr>
          </a:p>
          <a:p>
            <a:pPr marL="329040" indent="-32904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فإذا ما وضع المراجع في موقف أو دخل في علاقة تتعارض فيها مصالحه أو مصالح الوحدة الحكومية التي ينتمي إليها فأنه يجب ألا يقبل أي شيء من أي طرف مما قد يفقده أو يحتمل أن يفقده حكمه المهني غير المتحيز.</a:t>
            </a:r>
            <a:endParaRPr b="0" lang="en-US" sz="2400" spc="-1" strike="noStrike">
              <a:solidFill>
                <a:srgbClr val="404040"/>
              </a:solidFill>
              <a:latin typeface="Trebuchet MS"/>
            </a:endParaRPr>
          </a:p>
          <a:p>
            <a:pPr marL="329040" indent="-32904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فصح المراجع الداخلي عن الحقائق المعلومة له التي ، إذا لم يتم الإفصاح عنها ، تؤدي إلي إفساد التقرير عن الأنشطة محل الفحص.</a:t>
            </a:r>
            <a:endParaRPr b="0" lang="en-US" sz="24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قواعد السلوك المهني</a:t>
            </a:r>
            <a:br>
              <a:rPr sz="4000"/>
            </a:br>
            <a:r>
              <a:rPr b="0" lang="ar-SA" sz="4000" spc="-1" strike="noStrike">
                <a:solidFill>
                  <a:srgbClr val="90c226"/>
                </a:solidFill>
                <a:latin typeface="Trebuchet MS"/>
                <a:ea typeface="Tahoma"/>
              </a:rPr>
              <a:t>3</a:t>
            </a:r>
            <a:r>
              <a:rPr b="0" lang="ar-SA" sz="4000" spc="-1" strike="noStrike">
                <a:solidFill>
                  <a:srgbClr val="90c226"/>
                </a:solidFill>
                <a:latin typeface="Trebuchet MS"/>
                <a:ea typeface="Tahoma"/>
              </a:rPr>
              <a:t>- الأمانة</a:t>
            </a:r>
            <a:endParaRPr b="0" lang="en-US" sz="4000" spc="-1" strike="noStrike">
              <a:solidFill>
                <a:srgbClr val="90c226"/>
              </a:solidFill>
              <a:latin typeface="Trebuchet MS"/>
            </a:endParaRPr>
          </a:p>
        </p:txBody>
      </p:sp>
      <p:sp>
        <p:nvSpPr>
          <p:cNvPr id="286"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رتبط الأمانة بالحفاظ علي سرية وخصوصية المعلومات التي يحصل عليها المراجع الداخلي أثناء أدائه لمهام المراجعة. والقواعد المهنية التي تمكن الأمانة تتضمن ما يلي:</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توخي المراجع الحذر في استخدام وحماية المعلومات التي حصل عليها أثناء أدائه لواجباته.</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لا يستخدم المعلومات التي حصل عليها لتحقيق أي مكسب شخصي بأي صورة تتعارض مع القانون والنظام أو تضر بالأهداف المشروعة والأخلاقية للمنشأة التي ينتمي إليها.</a:t>
            </a:r>
            <a:endParaRPr b="0" lang="en-US" sz="24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77520" y="609480"/>
            <a:ext cx="8596440" cy="1193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أهمية معايير المراجعة الداخلية</a:t>
            </a:r>
            <a:br>
              <a:rPr sz="3200"/>
            </a:br>
            <a:endParaRPr b="0" lang="en-US" sz="4000" spc="-1" strike="noStrike">
              <a:solidFill>
                <a:srgbClr val="90c226"/>
              </a:solidFill>
              <a:latin typeface="Trebuchet MS"/>
            </a:endParaRPr>
          </a:p>
        </p:txBody>
      </p:sp>
      <p:sp>
        <p:nvSpPr>
          <p:cNvPr id="218" name=""/>
          <p:cNvSpPr txBox="1"/>
          <p:nvPr/>
        </p:nvSpPr>
        <p:spPr>
          <a:xfrm>
            <a:off x="528480" y="1982520"/>
            <a:ext cx="8745840" cy="47149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معايير المراجعة الداخلية تخدم الأغراض الآت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تشكل المبادئ الأساسية التي تصور ممارسة المراجعة الداخلية كما يجب أن يكون.</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تقدم المعايير إطارا للتشجيع على والقيام بنطاق عريض من أنشطة المراجعة الداخلية التي تضيف قيمة للمنشأ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تشكل أساسا لتقويم أداء المراجعة الداخل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تكفل تحسين وتطوير الأنشطة والعمليات التنظيمية.</a:t>
            </a:r>
            <a:endParaRPr b="0" lang="en-US" sz="24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قواعد السلوك المهني</a:t>
            </a:r>
            <a:br>
              <a:rPr sz="4000"/>
            </a:br>
            <a:r>
              <a:rPr b="0" lang="ar-SA" sz="4000" spc="-1" strike="noStrike">
                <a:solidFill>
                  <a:srgbClr val="90c226"/>
                </a:solidFill>
                <a:latin typeface="Trebuchet MS"/>
                <a:ea typeface="Tahoma"/>
              </a:rPr>
              <a:t>4</a:t>
            </a:r>
            <a:r>
              <a:rPr b="0" lang="ar-SA" sz="4000" spc="-1" strike="noStrike">
                <a:solidFill>
                  <a:srgbClr val="90c226"/>
                </a:solidFill>
                <a:latin typeface="Trebuchet MS"/>
                <a:ea typeface="Tahoma"/>
              </a:rPr>
              <a:t>- الكفاية</a:t>
            </a:r>
            <a:endParaRPr b="0" lang="en-US" sz="4000" spc="-1" strike="noStrike">
              <a:solidFill>
                <a:srgbClr val="90c226"/>
              </a:solidFill>
              <a:latin typeface="Trebuchet MS"/>
            </a:endParaRPr>
          </a:p>
        </p:txBody>
      </p:sp>
      <p:sp>
        <p:nvSpPr>
          <p:cNvPr id="288"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رتبط المراجع الداخلي بالخدمات التي يمتلك لها المعرفة والمهارات والخبرات الضرورية التي تمكنه من تقديمها بالصورة المرضي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نجز المراجع الداخلي الخدمات التي يرتبط بها وفقا لمعايير الممارسة المهنية للمراجعة الداخلي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على المراجع الداخلي أن يحسن بصورة مستمرة كفاءته ومن فاعلية وجودة الخدمات التي يقدمها.</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المتطلبات الأساسية لتطبيق معايير المراجعة الداخلية</a:t>
            </a:r>
            <a:br>
              <a:rPr sz="3200"/>
            </a:br>
            <a:endParaRPr b="0" lang="en-US" sz="4000" spc="-1" strike="noStrike">
              <a:solidFill>
                <a:srgbClr val="90c226"/>
              </a:solidFill>
              <a:latin typeface="Trebuchet MS"/>
            </a:endParaRPr>
          </a:p>
        </p:txBody>
      </p:sp>
      <p:sp>
        <p:nvSpPr>
          <p:cNvPr id="22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cs typeface="Tahoma"/>
              </a:rPr>
              <a:t>هناك مجموعة من المتطلبات الأساسية التي يجب أن يراعيها المراجعين الداخليين عند تطبيق هذه المعايير الدوليةتتضمن ما يلي:</a:t>
            </a:r>
            <a:endParaRPr b="0" lang="en-US" sz="2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الالتزام.</a:t>
            </a:r>
            <a:endParaRPr b="0" lang="en-US" sz="28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تقديم خدمات التأكيد.</a:t>
            </a:r>
            <a:endParaRPr b="0" lang="en-US" sz="28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تقديم الخدمات الاستشارية.</a:t>
            </a:r>
            <a:endParaRPr b="0" lang="en-US" sz="2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المتطلبات الأساسية لتطبيق معايير المراجعة الداخلية</a:t>
            </a:r>
            <a:endParaRPr b="0" lang="en-US" sz="4000" spc="-1" strike="noStrike">
              <a:solidFill>
                <a:srgbClr val="90c226"/>
              </a:solidFill>
              <a:latin typeface="Trebuchet MS"/>
            </a:endParaRPr>
          </a:p>
        </p:txBody>
      </p:sp>
      <p:sp>
        <p:nvSpPr>
          <p:cNvPr id="222" name=""/>
          <p:cNvSpPr txBox="1"/>
          <p:nvPr/>
        </p:nvSpPr>
        <p:spPr>
          <a:xfrm>
            <a:off x="677520" y="2160360"/>
            <a:ext cx="8596440" cy="3881160"/>
          </a:xfrm>
          <a:prstGeom prst="rect">
            <a:avLst/>
          </a:prstGeom>
          <a:noFill/>
          <a:ln w="0">
            <a:noFill/>
          </a:ln>
        </p:spPr>
        <p:txBody>
          <a:bodyPr anchor="t">
            <a:normAutofit fontScale="97000"/>
          </a:bodyPr>
          <a:p>
            <a:pPr marL="332640" indent="-332640" algn="r"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1" lang="ar-SA" sz="2800" spc="-1" strike="noStrike">
                <a:solidFill>
                  <a:srgbClr val="404040"/>
                </a:solidFill>
                <a:latin typeface="Trebuchet MS"/>
                <a:cs typeface="Tahoma"/>
              </a:rPr>
              <a:t>الالتزام.</a:t>
            </a:r>
            <a:endParaRPr b="0" lang="en-US" sz="2800" spc="-1" strike="noStrike">
              <a:solidFill>
                <a:srgbClr val="404040"/>
              </a:solidFill>
              <a:latin typeface="Trebuchet MS"/>
            </a:endParaRPr>
          </a:p>
          <a:p>
            <a:pPr marL="332640" indent="-33264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مارس أنشطة المراجعة الداخلية في وحدات تعمل في بيئات ثقافية وقانونية متنوعة ، هذه الوحدات تختلف فيما بينها من حيث الأهداف والحجم والهيكل والأطراف الخارجية والداخلية المرتبطة بها. على الرغم من أن الاختلافات قد تؤثر في ممارسة أنشطة المراجعة الداخلية في كل بيئة من البيئات ، فإن الالتزام بالمعايير المهنية للمراجعة الداخلية يعد جوهريا للوفاء بمسئوليات المراجعين الداخليين. فإذا ما حالت القوانين والنظم دون التزام المراجعين الداخليين ببعض أجزاء من المعايير فإنه يتعين عليهم الالتزام بالأجزاء الأخرى من المعايير والقيام بإفصاح مناسب عن ذلك.</a:t>
            </a:r>
            <a:endParaRPr b="0" lang="en-US" sz="2400" spc="-1" strike="noStrike">
              <a:solidFill>
                <a:srgbClr val="404040"/>
              </a:solidFill>
              <a:latin typeface="Trebuchet MS"/>
            </a:endParaRPr>
          </a:p>
          <a:p>
            <a:pPr marL="332640" indent="-33264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المتطلبات الأساسية لتطبيق معايير المراجعة الداخلية</a:t>
            </a:r>
            <a:endParaRPr b="0" lang="en-US" sz="4000" spc="-1" strike="noStrike">
              <a:solidFill>
                <a:srgbClr val="90c226"/>
              </a:solidFill>
              <a:latin typeface="Trebuchet MS"/>
            </a:endParaRPr>
          </a:p>
        </p:txBody>
      </p:sp>
      <p:sp>
        <p:nvSpPr>
          <p:cNvPr id="224" name=""/>
          <p:cNvSpPr txBox="1"/>
          <p:nvPr/>
        </p:nvSpPr>
        <p:spPr>
          <a:xfrm>
            <a:off x="677520" y="2160360"/>
            <a:ext cx="8596440" cy="388116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Trebuchet MS"/>
                <a:cs typeface="Tahoma"/>
              </a:rPr>
              <a:t>تقديم خدمات التأكيد.</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تقويم الأدلة والنظم بواسطة المراجع الداخلي بصورة موضوعية لتقديم رأي أو استنتاج مستقل ومحايد. طبيعة ونطاق ارتباط التأكيد تحدده معرفة وثقافة وخبرة المراجع.</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وجد ثلاث أطراف مرتبطة بخدمات التأكيد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أشخاص العاملين بالعملية أو النظام أو القضية موضوع الاهتمام. (غالبا إدارة أو قسم داخل الجه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أشخاص الذين يقومون بعملية التقويم. (المراجع الداخل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أشخاص المستفيدين من التقويم. (غالبا الإدارة العليا أو أطراف أخرى خارجية)</a:t>
            </a:r>
            <a:endParaRPr b="0" lang="en-US" sz="20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المتطلبات الأساسية لتطبيق معايير المراجعة الداخلية</a:t>
            </a:r>
            <a:endParaRPr b="0" lang="en-US" sz="4000" spc="-1" strike="noStrike">
              <a:solidFill>
                <a:srgbClr val="90c226"/>
              </a:solidFill>
              <a:latin typeface="Trebuchet MS"/>
            </a:endParaRPr>
          </a:p>
        </p:txBody>
      </p:sp>
      <p:sp>
        <p:nvSpPr>
          <p:cNvPr id="226" name=""/>
          <p:cNvSpPr txBox="1"/>
          <p:nvPr/>
        </p:nvSpPr>
        <p:spPr>
          <a:xfrm>
            <a:off x="677520" y="2160360"/>
            <a:ext cx="8596440" cy="388116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Trebuchet MS"/>
                <a:cs typeface="Tahoma"/>
              </a:rPr>
              <a:t>تقديم الخدمات الاستشاري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تقديم المشورة وتتحدد بناءً على طلب العميل المستفيد. طبيعة ونطاق ارتباطات الخدمات تخضع للاتفاق مع العميل (الإدارة).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رتبط بالخدمات الاستشارية طرفين:</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الشخص أو مجموعة المقدمين للخدمة.  (المراجعين الداخليين)</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شخص أو المجموعة الطالبة للخدمة.(الإدار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عند تقديم الخدمات الاستشارية، يجب أن يحافظ المراجع الداخلي على موضوعيته وألا يتحمل أي مسئولية من مسئوليات الإدارة. أي لا يدخل نفسه في العمليات التنفيذية ويؤكد على أن رأيه إستشاري فقط.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77520" y="609480"/>
            <a:ext cx="8596440" cy="1193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90c226"/>
                </a:solidFill>
                <a:latin typeface="Trebuchet MS"/>
                <a:cs typeface="Tahoma"/>
              </a:rPr>
              <a:t>معايير المراجعة الداخلية</a:t>
            </a:r>
            <a:endParaRPr b="0" lang="en-US" sz="4400" spc="-1" strike="noStrike">
              <a:solidFill>
                <a:srgbClr val="90c226"/>
              </a:solidFill>
              <a:latin typeface="Trebuchet MS"/>
            </a:endParaRPr>
          </a:p>
        </p:txBody>
      </p:sp>
      <p:sp>
        <p:nvSpPr>
          <p:cNvPr id="228" name=""/>
          <p:cNvSpPr txBox="1"/>
          <p:nvPr/>
        </p:nvSpPr>
        <p:spPr>
          <a:xfrm>
            <a:off x="677520" y="1803240"/>
            <a:ext cx="8596440" cy="4430880"/>
          </a:xfrm>
          <a:prstGeom prst="rect">
            <a:avLst/>
          </a:prstGeom>
          <a:noFill/>
          <a:ln w="0">
            <a:noFill/>
          </a:ln>
        </p:spPr>
        <p:txBody>
          <a:bodyPr anchor="t">
            <a:normAutofit/>
          </a:bodyPr>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Trebuchet MS"/>
                <a:cs typeface="Tahoma"/>
              </a:rPr>
              <a:t>المجموعة الأولى: معايير الصفات </a:t>
            </a:r>
            <a:endParaRPr b="0" lang="en-US" sz="2400" spc="-1" strike="noStrike">
              <a:solidFill>
                <a:srgbClr val="404040"/>
              </a:solidFill>
              <a:latin typeface="Trebuchet MS"/>
            </a:endParaRPr>
          </a:p>
          <a:p>
            <a:pPr marL="343080" indent="-343080"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وتتعلق هذه المعايير بالمستويات الأساسية لمقومات أو صفات المراجعة الداخلية. وتحدد هذه المجموعة من المعايير المستويات المقبولة لإدارة المراجعة الداخلية ككل ، وسلطات ومسئوليات مدير إدارة المراجعة الداخلية والمراجعون الداخليون.</a:t>
            </a:r>
            <a:endParaRPr b="0" lang="en-US" sz="2400" spc="-1" strike="noStrike">
              <a:solidFill>
                <a:srgbClr val="404040"/>
              </a:solidFill>
              <a:latin typeface="Trebuchet MS"/>
            </a:endParaRPr>
          </a:p>
          <a:p>
            <a:pPr marL="343080" indent="-343080"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Trebuchet MS"/>
                <a:cs typeface="Tahoma"/>
              </a:rPr>
              <a:t>المجموعة الثانية: معايير الأداء </a:t>
            </a:r>
            <a:endParaRPr b="0" lang="en-US" sz="2400" spc="-1" strike="noStrike">
              <a:solidFill>
                <a:srgbClr val="404040"/>
              </a:solidFill>
              <a:latin typeface="Trebuchet MS"/>
            </a:endParaRPr>
          </a:p>
          <a:p>
            <a:pPr marL="343080" indent="-343080"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تعلق هذه المجموعة بمستويات أداء المراجعة الداخلية على الجانب العملي ، وتتناول إدارة أنشطة إدارة المراجعة ، وطبيعة أنشطة المراجعة الداخلية، والتخطيط ، والتنفيذ ، والتقرير وتوصيل النتائج ، والمتابعة.</a:t>
            </a:r>
            <a:endParaRPr b="0" lang="en-US" sz="2400" spc="-1" strike="noStrike">
              <a:solidFill>
                <a:srgbClr val="404040"/>
              </a:solidFill>
              <a:latin typeface="Trebuchet MS"/>
            </a:endParaRPr>
          </a:p>
          <a:p>
            <a:pPr marL="343080" indent="-343080" algn="just">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2T18:01:06Z</dcterms:created>
  <dc:creator>hana</dc:creator>
  <dc:description/>
  <dc:language>en-US</dc:language>
  <cp:lastModifiedBy>hnae</cp:lastModifiedBy>
  <dcterms:modified xsi:type="dcterms:W3CDTF">2014-02-03T17:34:06Z</dcterms:modified>
  <cp:revision>26</cp:revision>
  <dc:subject/>
  <dc:title>PowerPoint Presentation</dc:title>
</cp:coreProperties>
</file>