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F78A3-61E2-41AC-8055-9DB759D68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67222-FC6B-4BDE-A2EA-9D567020D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DD582-0FC1-4B18-A777-5ED74B6A4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1BA79-9899-4A6F-B7D3-35DC73E02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262B8-A09D-4C54-B3DF-FD2786C66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34B3E-79B5-41E3-8D19-406632473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7BD59-BFB7-4B4A-B36B-19B63EE92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795AD-D91A-46E9-B86B-75A2B11E7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F521E-6C72-49AD-B96D-51A7FE9E0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ADE7B-4581-4672-9005-0A91C890F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81EB8-A0EE-472E-BA7B-1A0A5EDE2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20CCC-283B-43D0-B5BA-B1DDA1516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B4BB8-A44B-45D9-BC0D-D6CA18F6A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A06F4-9F47-4D07-A6A2-EFF349BF3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2079-9F9C-4F09-95A3-60AADA6F0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7490B-2E19-44A9-9C42-7117506EA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C7B7C-D562-4EDA-86DE-8FD1851A67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C7533-A833-4DFE-9A97-544F34369C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0A952-1413-4BD6-93EB-4D656DDB5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89C15-B33B-404C-947D-47E3FAAE1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692AD6-B9B2-4152-A613-480B087B8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57588-CD83-497B-A7BF-5F08719C5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A9386-E247-49B7-B877-DCB5C6E39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E8A2A-4202-477A-B67E-2646BC05C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A1994-7EBF-4416-80B7-5F4E4CA9A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233C2-36BE-469B-A3FC-A41B114AC9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3F7F0-CE79-4B16-99DD-CEB520B12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5597F6-758D-493C-98BD-3B1D6068D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FAFBFB-80C2-42D7-BB87-1CD349E0D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D0B658-DB83-4ACD-956A-85B29C1A1E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342653-20E6-4D92-A0CF-DD3C55A9AC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A77E3-C508-415E-BEEC-DB24D5777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FB8FB8-57CC-46E9-907F-D93735277B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9F3A8-92C5-41EF-9C61-E81A40850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DE2229-04E5-4334-9031-FE4B5C0B4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9734D-2B99-4748-9A4D-56AE31322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257CE-81ED-4FEF-AB33-C9C7263AE6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D478A-B55C-4AAE-95AB-D03B7C8F11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9BEF83-337D-4A1E-8986-98C752C1F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1FF05E-9661-4AB2-B862-ECEC8EAF9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AE9A4-1387-42A7-A28C-F23E0773D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3D9CED-69F6-4A2D-BB93-53787B6182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2A475-5117-4280-B177-62421731AA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F9A8-787A-44B0-B408-5D817B15E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9C771-706B-4261-92C0-F432F6BF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398D-C6FE-49D2-99F9-D568A397E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2F728-0390-42A8-B227-B8BB9A796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5690B-7C57-4125-9CC2-5831DCE34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DEB35-6FEE-4143-87CA-EA57F725A0B8}"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956F9-5464-4553-8B44-843C8A5F563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781E6E-8A04-4F38-B7C6-28348025870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FC184B-6659-4822-B808-5416DC7EC4A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90c226"/>
                </a:solidFill>
                <a:latin typeface="Trebuchet MS"/>
                <a:cs typeface="Tahoma"/>
              </a:rPr>
              <a:t>إنشاء وحدات المراجعة الداخلية</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480"/>
            <a:ext cx="859644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0" name=""/>
          <p:cNvSpPr txBox="1"/>
          <p:nvPr/>
        </p:nvSpPr>
        <p:spPr>
          <a:xfrm>
            <a:off x="468000" y="1584360"/>
            <a:ext cx="9015480" cy="459720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قد تم تصميم مجموعتي المعايير بما يتفق مع طبيعة المراجعة الداخلية المتمثلة في النقاط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مراجعة تغطي كل الجوانب المالية والتشغيلي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تنطوي على تقديم تأكيدات عن الأداء المالي والأداء التشغيلي كما أنها تشمل تقديم خدمات استشا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 المستفيد المباشر من نتائج المراجعة الداخلية هو الإدارة على اختلاف المستويات التنفيذية ، أما استفادة الأطراف الخارجية منها فهي غير مباشرة</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Content Placeholder 3" descr=""/>
          <p:cNvPicPr/>
          <p:nvPr/>
        </p:nvPicPr>
        <p:blipFill>
          <a:blip r:embed="rId1"/>
          <a:stretch/>
        </p:blipFill>
        <p:spPr>
          <a:xfrm>
            <a:off x="0" y="0"/>
            <a:ext cx="103251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 معيار الاستقلال التنظيمي</a:t>
            </a:r>
            <a:endParaRPr b="0" lang="en-US" sz="4000" spc="-1" strike="noStrike">
              <a:solidFill>
                <a:srgbClr val="90c226"/>
              </a:solidFill>
              <a:latin typeface="Trebuchet MS"/>
            </a:endParaRPr>
          </a:p>
        </p:txBody>
      </p:sp>
      <p:sp>
        <p:nvSpPr>
          <p:cNvPr id="233"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ستقلال إدارة المراجعة الداخلية عن الإدارات الأخرى المعنية حتى يمكن للإدارة التقرير عن كل ما يجب التقرير عنه فيما يتعلق بفحص أداء الإدارات الأخرى. كما يغطي معيار الاستقلال تنظيم إدارة المراجعة الداخلية من حيث:</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عيين والعز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وضع الخطط التنفيذية ل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نظيم الداخلي لإدارة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ستقلالية الإدارة في تنفيذ خططها وبرامجها دون تدخل</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معيار الموضوعية </a:t>
            </a:r>
            <a:r>
              <a:rPr b="0" lang="en-US" sz="3600" spc="-1" strike="noStrike">
                <a:solidFill>
                  <a:srgbClr val="90c226"/>
                </a:solidFill>
                <a:latin typeface="Trebuchet MS"/>
              </a:rPr>
              <a:t>-</a:t>
            </a:r>
            <a:r>
              <a:rPr b="0" lang="en-US" sz="3600" spc="-1" strike="noStrike">
                <a:solidFill>
                  <a:srgbClr val="90c226"/>
                </a:solidFill>
                <a:latin typeface="Trebuchet MS"/>
              </a:rPr>
              <a:t>2</a:t>
            </a:r>
            <a:endParaRPr b="0" lang="en-US" sz="36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تطلب المعيار موضوعية الأفراد العاملين في إدارة المراجعة الداخلية وعدم تحيزهم وتجنبهم المواقف التي تضعهم في موقف أصحاب مصلحة في كل أنشطة المراجعة الداخلية. </a:t>
            </a:r>
            <a:endParaRPr b="0" lang="en-US" sz="19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حدد المعيار بعض النقاط الأساسية التي تدعم موضوعية المراجعين وهما:</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ألا تتأثر أحكام المراجعين الداخليين بأحكام الآخرين.</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القيام بأعمال المراجعة بالطريقة التي تجعلهم يعتقدون اعتقادًا صادقًا في نتائج عملهم وبعدم تقديم أي تنازلات مهمة على حساب جودة العمل . ويجب عدم وضع المراجعين الداخليين في مواقف يشعرون فيها أنهم غير قادرين على إصدار أحكام مهنية موضوعية .</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على المراجعين الداخليين إخطار المسئول عن إدارة المراجعة الداخلية عن أي حالات قد يحدث فيها تضارب في المصالح أو تحيز أو قد يمكن استنتاجه بطريقة معقولة.</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a:t>
            </a: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معيار الموضوعية</a:t>
            </a:r>
            <a:endParaRPr b="0" lang="en-US" sz="40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تغيير توزيع المراجعين على العمليات بصفة دورية كلما كان ذلك ممكنً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قيام بأي مسئوليات تشغيلية، وإذا أمرت الإدارة العليا المراجعين الداخليين بالقيام بأعمال ليست من أعمال المراجعة، فيجب أن يكون مفهومًا أنهم لا يباشرون هذه الأعمال كمراجعين داخلي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دم تكليف الأشخاص المنقولين إلى الإدارة للعمل فيها بصفة مؤقتة، بمراجعة الأنشطة التي كانوا يقومون بها سابقًا إلا بعد مضي مدة معقول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قوم مدير إدارة المراجعة الداخلية بفحص نتائج أعمال المراجعة الداخلية قبل إصدار التقرير النهائي وذلك للحصول على تأكيد معقول بأن أعمال المراجعة قد تم القيام بها بموضوع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قضي المعيار بضرورة إنجاز مهام المراجعة الداخلية بواسطة أفراد مؤهلين تأهيلا علميا ومهنيا بصورة تلائم طبيعة هذه المهام. وتجدر الإشارة هنا إلى أن طبيعة مهام المراجعة الداخلية قد تتطلب معرفة عريضة بمجالات أخري هندسية وإدارية واقتصادية بخلاف المعرفة المحاسب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غطي المعيار النقاط الأساسية التي تكفل التأهيل العملي المناسب ومنها ما ي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خصص إدارة المراجعة الداخلية لكل عملية مراجعة، الأشخاص الذين يمتلكون بصفة جماعية المعرفة، والمهارات، والتدريب وغيرها من عناصر التأهيل اللازمة للقيام بالمراجعة بطريقة سليم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وفر إدارة المراجعة الداخلية تأكيدًا بأن المهارة الفنية والخلفية التعليمية للمراجعين الداخليين ملائمة لعمليات المراجعة التي سيتم القيام ب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توافر لدى إدارة المراجعة الداخلية المعرفة، والمهارات، والتدريب وغيرها من عناصر التأهيل اللازمة للقيام بمسئوليا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سند مهام المراجعة الداخلية إلى موظفين مؤهلين، أو الاستعانة بمستشارين مؤهلين ومتخصص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كون لدى المراجعين الداخليين معرفة عامة بالجوانب الرقابية والمخاطر الأساسية المتعلقة بتكنولوجيا المعلومات وأساليب المراجعة التي تعتمد على تكنولوجيا المعلومات . </a:t>
            </a:r>
            <a:endParaRPr b="0" lang="en-US" sz="20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ct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العناية المهنية</a:t>
            </a:r>
            <a:endParaRPr b="0" lang="en-US" sz="4000" spc="-1" strike="noStrike">
              <a:solidFill>
                <a:srgbClr val="90c226"/>
              </a:solidFill>
              <a:latin typeface="Trebuchet MS"/>
            </a:endParaRPr>
          </a:p>
        </p:txBody>
      </p:sp>
      <p:sp>
        <p:nvSpPr>
          <p:cNvPr id="243" name=""/>
          <p:cNvSpPr txBox="1"/>
          <p:nvPr/>
        </p:nvSpPr>
        <p:spPr>
          <a:xfrm>
            <a:off x="806040" y="2278080"/>
            <a:ext cx="8596440" cy="388152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ضي المعيار بضرورة بذل المراجع الداخلي العناية المهنية اللازمة في جميع عمليات المراجعة والعمليات الاستشارية التي يقوم بها .وأن يقوم بتطبيق المعايير المهنية للمراجعة الداخلية بدرجة من الحرص المتوقعة من المراجع الداخلي الحريص المؤهل تأهيلا مهنيًا كافيً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5"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عايير النوعية (الجودة) والرقابة عليها اعتبرت مقوما أساسيا من مقومات المراجعة الداخلية ، وتهدف معايير الجودة إلى ضمان مستوي عالي من الأداء.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ألقت المعايير بالمسئولية عن الجودة على مدير إدارة المراجعة وعلى المراجعين أنفسهم.</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 مسئولية مدير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شمل مسئولية مدير المراجعة الداخلية ما يل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إعداد وتنفيذ برنامج لتأكيد الجودة وتحسين الأداء ويراقب فاعليته.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تضمن برنامج الجودة تقويم داخلي مستقل للأداء.</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فير تقويم خارجي للأداء عن طريق طرف خارجي مستقل على فترات متباع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نتائج تقويم الجود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٥</a:t>
            </a:r>
            <a:r>
              <a:rPr b="0" lang="ar-SA" sz="4000" spc="-1" strike="noStrike">
                <a:solidFill>
                  <a:srgbClr val="90c226"/>
                </a:solidFill>
                <a:latin typeface="Trebuchet MS"/>
                <a:ea typeface="Tahoma"/>
              </a:rPr>
              <a:t> - معيار الرقابة النوعية</a:t>
            </a:r>
            <a:br>
              <a:rPr sz="4000"/>
            </a:br>
            <a:endParaRPr b="0" lang="en-US" sz="4000" spc="-1" strike="noStrike">
              <a:solidFill>
                <a:srgbClr val="90c226"/>
              </a:solidFill>
              <a:latin typeface="Trebuchet MS"/>
            </a:endParaRPr>
          </a:p>
        </p:txBody>
      </p:sp>
      <p:sp>
        <p:nvSpPr>
          <p:cNvPr id="247"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 مسئولية المراجعين الداخليين:</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الالتزام بمعايير المراجعة الداخل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التزام بقواعد السلوك المهن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480"/>
            <a:ext cx="8596440" cy="1168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إنشاء وحدات المراجعة الداخلية</a:t>
            </a:r>
            <a:endParaRPr b="0" lang="en-US" sz="4400" spc="-1" strike="noStrike">
              <a:solidFill>
                <a:srgbClr val="90c226"/>
              </a:solidFill>
              <a:latin typeface="Trebuchet MS"/>
            </a:endParaRPr>
          </a:p>
        </p:txBody>
      </p:sp>
      <p:sp>
        <p:nvSpPr>
          <p:cNvPr id="214" name=""/>
          <p:cNvSpPr txBox="1"/>
          <p:nvPr/>
        </p:nvSpPr>
        <p:spPr>
          <a:xfrm>
            <a:off x="818640" y="1660320"/>
            <a:ext cx="8596440" cy="4289400"/>
          </a:xfrm>
          <a:prstGeom prst="rect">
            <a:avLst/>
          </a:prstGeom>
          <a:noFill/>
          <a:ln w="0">
            <a:noFill/>
          </a:ln>
        </p:spPr>
        <p:txBody>
          <a:bodyPr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هدف من عرض هذا الجزء هو تعريف بالقواعد المنظمة لإنشاء وحدات المراجعة الداخلية.</a:t>
            </a:r>
            <a:endParaRPr b="0" lang="en-US" sz="2800" spc="-1" strike="noStrike">
              <a:solidFill>
                <a:srgbClr val="404040"/>
              </a:solidFill>
              <a:latin typeface="Trebuchet MS"/>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ولتحقيق ذلك سيتم عرض الموضوعات التا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ea typeface="Tahoma"/>
              </a:rPr>
              <a:t>•اللائحة الموحدة لوحدات المراجعة الداخلية في الأجهزة الحكومية والمؤسسات العامة.</a:t>
            </a:r>
            <a:r>
              <a:rPr b="0" lang="en-US" sz="2800" spc="-1" strike="noStrike">
                <a:solidFill>
                  <a:srgbClr val="404040"/>
                </a:solidFill>
                <a:latin typeface="Aharoni"/>
                <a:ea typeface="Aharoni"/>
              </a:rPr>
              <a:t>)</a:t>
            </a:r>
            <a:r>
              <a:rPr b="0" lang="ar-SA" sz="2800" spc="-1" strike="noStrike">
                <a:solidFill>
                  <a:srgbClr val="404040"/>
                </a:solidFill>
                <a:latin typeface="Aharoni"/>
                <a:cs typeface="Tahoma"/>
              </a:rPr>
              <a:t>للأطلاع)</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Aharoni"/>
                <a:ea typeface="Aharoni"/>
              </a:rPr>
              <a:t> </a:t>
            </a:r>
            <a:r>
              <a:rPr b="0" lang="ar-SA" sz="2800" spc="-1" strike="noStrike">
                <a:solidFill>
                  <a:srgbClr val="404040"/>
                </a:solidFill>
                <a:latin typeface="Aharoni"/>
                <a:ea typeface="Tahoma"/>
              </a:rPr>
              <a:t>•معايير المراجعة الداخ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ea typeface="Tahoma"/>
              </a:rPr>
              <a:t>•قواعد سلوك وآداب المهنة.</a:t>
            </a:r>
            <a:endParaRPr b="0" lang="en-US" sz="2800" spc="-1" strike="noStrike">
              <a:solidFill>
                <a:srgbClr val="404040"/>
              </a:solidFill>
              <a:latin typeface="Trebuchet MS"/>
            </a:endParaRPr>
          </a:p>
          <a:p>
            <a:pPr algn="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4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ناول معيار إدارة الأنشطة مسئوليات مدير إدارة المراجعة عن تخطيط وتنفيذ أنشطة الإدارة والتقرير عن نتائج ممارسة تلك الأنشط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ولقد جاء بالمعيا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على مدير الإدارة تخطيط أنشطة الإدارة بصورة تضيف قيمة للمنشأ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ضع خطة الإدارة على أساس المخاطر حتى تسمح بتحديد الأولويات وتساهم في تحقيق أهداف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عد مدير الإدارة تقديرا للاحتياجات المالية والبشرية اللازمة لتنفيذ الخ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رفع الخطة والاحتياجات إلى المستوي الإداري للمراجعة والتصديق.</a:t>
            </a:r>
            <a:endParaRPr b="0" lang="en-US" sz="20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أكد مدير الإدارة من كفاية الموارد ويتولي إدارتها بما يحقق الخط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ضع السياسات والإجراءات التي تحكم أداء العاملين بالإدار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قاسم المعلومات مع المراجع الخارجي أو أي فاحص خارجي وينسق معهم الأنشطة والجهود بما يدني من عمليات الازدواج.</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م تقريرا دوريا عن أهداف أنشطة الإدارة ومدي التقدم في تحقيق خطة الإدارة ، ويجب أن يغطي التقرير الأمور المرتبطة بالتعرض للمخاطر، الحوكمة ، والرقابة.</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br>
              <a:rPr sz="4000"/>
            </a:br>
            <a:endParaRPr b="0" lang="en-US" sz="4000" spc="-1" strike="noStrike">
              <a:solidFill>
                <a:srgbClr val="90c226"/>
              </a:solidFill>
              <a:latin typeface="Trebuchet MS"/>
            </a:endParaRPr>
          </a:p>
        </p:txBody>
      </p:sp>
      <p:sp>
        <p:nvSpPr>
          <p:cNvPr id="253" name=""/>
          <p:cNvSpPr txBox="1"/>
          <p:nvPr/>
        </p:nvSpPr>
        <p:spPr>
          <a:xfrm>
            <a:off x="909720" y="2263680"/>
            <a:ext cx="859608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حددت المعايير المهنية طبيعة نشاط المراجعة الداخلية بأنه نشاط يعتمد على مدخل منظم يسهم في تحسين عمليات:</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إدارة المخاطر.</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حوكم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5"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إدارة </a:t>
            </a:r>
            <a:r>
              <a:rPr b="1" lang="ar-SA" sz="2000" spc="-1" strike="noStrike">
                <a:solidFill>
                  <a:srgbClr val="404040"/>
                </a:solidFill>
                <a:latin typeface="Trebuchet MS"/>
                <a:cs typeface="Tahoma"/>
              </a:rPr>
              <a:t>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ساعد نشاط المراجعة الداخلية الوحدة الحكومية في تعيين وتقويم المخاطر التي تتعرض لها الوحدة الحكومية وذلك للمساعدة في إدارة هذه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مراقبة وتقويم فاعلية نظام إدارة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م تقويم للمخاطر المؤثرة في حوكمة الوحدة الحكومية وفي عملياتها، وفي نظام المعلومات.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أن يقدر المراجع الداخلي المخاطر المرتبطة بأهداف مهام الخدمات الاستشارية ومدي ارتباط هذه المخاطر بالأنواع التي تتعرض لها الوحدة الحكوم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تساعد المراجعة الداخلية الوحدة الحكومية في الحفاظ على رقابة فعالة ويقيم كفايتها وفاعليتها ويقترح التحسينات الممكنة بصفة دو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أكد من تحقيق أهداف 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أخذ في الاعتبار الرقابة المترتبة على الخدمات الاستشارية ومدي تأثر النظام القائم بنتائج هذه الخدمات.</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الحوكم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ر ملائمة إجراءات الحوكمة ويدخل عليها تحسينات فيما يتعلق بالآت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عمل عل شيوع القيم والأخلاقيات داخل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ضمان مسائلة وإدارة فعالة للأداء التنظيم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وصيل الجيد لمعلومات الرقابة والخطر للمستوي الملائم من الإدار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نسيق مع بين الإدارة والإدارة التنفيذية والمراجعين الخارجيين والمراجعين الداخليين من حيث الأنشطة وتداول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التأكد من أن أهداف الخدمات الاستشارية تتفق مع القيم والأهداف العليا للمنشأ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معيار التخطيط</a:t>
            </a:r>
            <a:br>
              <a:rPr sz="3200"/>
            </a:br>
            <a:endParaRPr b="0" lang="en-US" sz="4000" spc="-1" strike="noStrike">
              <a:solidFill>
                <a:srgbClr val="90c226"/>
              </a:solidFill>
              <a:latin typeface="Trebuchet MS"/>
            </a:endParaRPr>
          </a:p>
        </p:txBody>
      </p:sp>
      <p:sp>
        <p:nvSpPr>
          <p:cNvPr id="26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يار التخطيط هنا يتناول الجوانب المهنية للمراجعة الداخلية بعكس معيار إدارة الأنشطة الذي يتناول التخطيط التنظيمي لإدارة المراجعة ال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ضع المراجع الداخلي خطة لكل مهمة مراجعة تتضمن النطاق ، والأهداف ، والتوقيت ، والموارد المخصصة لها.</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تنفيذ العمليات</a:t>
            </a:r>
            <a:endParaRPr b="0" lang="en-US" sz="4000" spc="-1" strike="noStrike">
              <a:solidFill>
                <a:srgbClr val="90c226"/>
              </a:solidFill>
              <a:latin typeface="Trebuchet MS"/>
            </a:endParaRPr>
          </a:p>
        </p:txBody>
      </p:sp>
      <p:sp>
        <p:nvSpPr>
          <p:cNvPr id="263" name=""/>
          <p:cNvSpPr txBox="1"/>
          <p:nvPr/>
        </p:nvSpPr>
        <p:spPr>
          <a:xfrm>
            <a:off x="677520" y="2160360"/>
            <a:ext cx="8596440" cy="403380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تناول المعيار عمليات تحديد المعلومات وتقويمها وتحليلها وتسجيلها بما يحقق أهداف المهمة. نلاحظ هنا أن المعيار يتعامل مع معلومات قد تكون مالية أو غير مالية بما في ذلك أدلة الإثبات التي يغطيها برنامج المراجعة الخارج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عض النقاط الأساسية في معيار التنفيذ تشمل الآت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حدد المراجع الداخلي المعلومات الكافية والملائمة والموثوق فيها والنافعة لتحقيق أهداف المهم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ضرورة إجراء تحليل وتقويم مناسب للمعلومات لاستخلاص نتائج يبني عليها استنتاجات المراجع الداخل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وضع نظام يتفق مع سياسة الوحدة الحكومية لحفظ وتداول سجلات إدارة المراجعة الداخلي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تنسيق مهام المراجعة الداخلية بصورة تضمن تحقيق الأهداف وتضمن جودة الأداء وتنمية المهارات.</a:t>
            </a:r>
            <a:endParaRPr b="0" lang="en-US" sz="18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5</a:t>
            </a:r>
            <a:r>
              <a:rPr b="0" lang="ar-SA" sz="4000" spc="-1" strike="noStrike">
                <a:solidFill>
                  <a:srgbClr val="90c226"/>
                </a:solidFill>
                <a:latin typeface="Trebuchet MS"/>
                <a:ea typeface="Tahoma"/>
              </a:rPr>
              <a:t>- معيار التقرير وتوصيل النتائج</a:t>
            </a:r>
            <a:endParaRPr b="0" lang="en-US" sz="4000" spc="-1" strike="noStrike">
              <a:solidFill>
                <a:srgbClr val="90c226"/>
              </a:solidFill>
              <a:latin typeface="Trebuchet MS"/>
            </a:endParaRPr>
          </a:p>
        </p:txBody>
      </p:sp>
      <p:sp>
        <p:nvSpPr>
          <p:cNvPr id="26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قارير المراجعة الداخلية ليست نمطية ، وإنما تتوقف على اعتبارات عديدة منها أهداف المهمة ، واحتياجات الإدارة ، وطبيعة والقيود المفروضة على المهمة. وبناءً عليه لا تقترح المعايير المهنية شكلا محددا لتقارير المراجعة الداخل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6</a:t>
            </a:r>
            <a:r>
              <a:rPr b="0" lang="ar-SA" sz="3600" spc="-1" strike="noStrike">
                <a:solidFill>
                  <a:srgbClr val="90c226"/>
                </a:solidFill>
                <a:latin typeface="Trebuchet MS"/>
                <a:ea typeface="Tahoma"/>
              </a:rPr>
              <a:t>- المتابعة</a:t>
            </a:r>
            <a:endParaRPr b="0" lang="en-US" sz="3600" spc="-1" strike="noStrike">
              <a:solidFill>
                <a:srgbClr val="90c226"/>
              </a:solidFill>
              <a:latin typeface="Trebuchet MS"/>
            </a:endParaRPr>
          </a:p>
        </p:txBody>
      </p:sp>
      <p:sp>
        <p:nvSpPr>
          <p:cNvPr id="267" name=""/>
          <p:cNvSpPr txBox="1"/>
          <p:nvPr/>
        </p:nvSpPr>
        <p:spPr>
          <a:xfrm>
            <a:off x="677520" y="2022480"/>
            <a:ext cx="8596440" cy="463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نظرا لأن خدمات المراجعة الداخلية تنتهي إلى نتائج ومقترحات وتوصيات بأفعال معينة ، فإن المعايير المهنية استحدثت معيارا لمتابعة مرحلة ما بعد توصيات النتائج.</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تضمن معيار المتابعة النقاط الأساسية الت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جب على المراجعين الداخليين القيام بالمتابعة للتأكد من اتخاذ الإجراء المناسب المترتب على نتائج المراجعة التي تم التقرير عنها . ويجب على المراجعين الداخليين التأكد من أن الإجراء التصحيحي الذي تم اتخاذه يحقق النتائج المرغوب فيها، أو أن الإدارة قد قررت تحمل مخاطر عدم اتخاذ إجراء تصحيحي لما أظهرته نتائج المراجعة التي تم التقرير عن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جب تحديد المسئولية عن المتابعة في دليل المراجعة الداخلية المعتمد.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قد تكون بعض النتائج التي تم التقرير عنها من الأهمية بحيث تستدعي اتخاذ إجراء فور ي من جانب الإدارة. ويجب مراقبة هذه الظروف من قبل المراجعين الداخليين حتى يتم تصحيحها نظرًا للأثر الذي قد تتركه على الوحدة الحكومية. </a:t>
            </a:r>
            <a:endParaRPr b="0" lang="en-US" sz="18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المعايير المهنية للمراجعة الداخلية</a:t>
            </a:r>
            <a:br>
              <a:rPr sz="4400"/>
            </a:br>
            <a:endParaRPr b="0" lang="en-US" sz="4400" spc="-1" strike="noStrike">
              <a:solidFill>
                <a:srgbClr val="90c226"/>
              </a:solidFill>
              <a:latin typeface="Trebuchet MS"/>
            </a:endParaRPr>
          </a:p>
        </p:txBody>
      </p:sp>
      <p:sp>
        <p:nvSpPr>
          <p:cNvPr id="216" name=""/>
          <p:cNvSpPr txBox="1"/>
          <p:nvPr/>
        </p:nvSpPr>
        <p:spPr>
          <a:xfrm>
            <a:off x="677520" y="1687320"/>
            <a:ext cx="8596440" cy="4516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نتناول في عرض المعايير المهنية للمراجعة الداخلية ثلاث موضوعات أساسية :</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أهمية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متطلبات الأساسية لتطبيق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معايير المراجعة الداخلية.</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480"/>
            <a:ext cx="8596440" cy="11289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درجة الإلزام في المملكة العربية السعودية</a:t>
            </a:r>
            <a:br>
              <a:rPr sz="3200"/>
            </a:br>
            <a:endParaRPr b="0" lang="en-US" sz="4000" spc="-1" strike="noStrike">
              <a:solidFill>
                <a:srgbClr val="90c226"/>
              </a:solidFill>
              <a:latin typeface="Trebuchet MS"/>
            </a:endParaRPr>
          </a:p>
        </p:txBody>
      </p:sp>
      <p:sp>
        <p:nvSpPr>
          <p:cNvPr id="269" name=""/>
          <p:cNvSpPr txBox="1"/>
          <p:nvPr/>
        </p:nvSpPr>
        <p:spPr>
          <a:xfrm>
            <a:off x="677520" y="2160360"/>
            <a:ext cx="8596440" cy="388116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ما هو الوضع في المملكة العربية السعودية؟ وما هي المعايير التي يجب أن يلتزم بها المراجعين الداخليين في المملك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جاء بمشروع معايير المراجعة الداخلية السعودي الصادر عن الهيئة السعودية للمحاسبين القانونيين ما يفيد أن هذه المعايير غير إلزامية على الأقل في الفترة الحا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كما أن الهيئات السعودية المعنية بالمراجعة ، ومنها ديوان المراقبة العامة ، تقوم على تفعيل قرار مجلس الوزراء بتاريخ </a:t>
            </a:r>
            <a:r>
              <a:rPr b="0" lang="ar-SA" sz="1800" spc="-1" strike="noStrike">
                <a:solidFill>
                  <a:srgbClr val="404040"/>
                </a:solidFill>
                <a:latin typeface="Trebuchet MS"/>
                <a:ea typeface="Tahoma"/>
              </a:rPr>
              <a:t>6/4/1428</a:t>
            </a:r>
            <a:r>
              <a:rPr b="0" lang="ar-SA" sz="1800" spc="-1" strike="noStrike">
                <a:solidFill>
                  <a:srgbClr val="404040"/>
                </a:solidFill>
                <a:latin typeface="Trebuchet MS"/>
                <a:ea typeface="Tahoma"/>
              </a:rPr>
              <a:t> هـ القاضي بالموافقة على اللائحة الموحدة لوحدات المراجعة الداخلية في الأجهزة الحكومية والمؤسسات العام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ولقد ألزمت اللائحة الوحدات الحكومية والمؤسسات العامة بتأسيس وحدات للمراجعة الداخلية كما جاء بتلك اللائح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وعلى الرغم من أن اللائحة قد تضمنت بعض معايير المراجعة الداخلية ، إلا أن ما ورد بها يمثل حدا أدنى لهذه المعايير ولابد من الاسترشاد بما صدر عن الهيئات المهنية المحلية والدولية.</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كونات السلوك المهني القويم</a:t>
            </a:r>
            <a:endParaRPr b="0" lang="en-US" sz="4000" spc="-1" strike="noStrike">
              <a:solidFill>
                <a:srgbClr val="90c226"/>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أولى: المبادئ. وهي مستويات عامة تحكم المهنة والسلوك المهني بشكل عام ، والمبادئ بطبيعتها غير قابلة للتطبيق المباشر.</a:t>
            </a:r>
            <a:endParaRPr b="0" lang="en-US" sz="24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ثانية: القواعد. تعتبر القواعد أكثر ارتباطا بالأداء المهني على أرض الواقع ، وتمثل أنماط من السلوك المتوقع من المراجعين الداخليين في علاقتهم بالمستفيدين من وظيفة المراجعة الداخلية ، وبزملاء المهنة ، وبالعملاء وبالغير بصفة عامة. وتعتبر القواعد الترجمة العملية لمبادئ السلوك المهني والتي تحكم سلوك المراجعين الداخليين.</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Content Placeholder 3" descr=""/>
          <p:cNvPicPr/>
          <p:nvPr/>
        </p:nvPicPr>
        <p:blipFill>
          <a:blip r:embed="rId1"/>
          <a:stretch/>
        </p:blipFill>
        <p:spPr>
          <a:xfrm>
            <a:off x="0" y="90360"/>
            <a:ext cx="9504360" cy="67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بادئ السلوك المهني</a:t>
            </a:r>
            <a:br>
              <a:rPr sz="3600"/>
            </a:br>
            <a:r>
              <a:rPr b="0" lang="ar-SA" sz="3600" spc="-1" strike="noStrike">
                <a:solidFill>
                  <a:srgbClr val="90c226"/>
                </a:solidFill>
                <a:latin typeface="Trebuchet MS"/>
                <a:ea typeface="Tahoma"/>
              </a:rPr>
              <a:t>1</a:t>
            </a:r>
            <a:r>
              <a:rPr b="0" lang="ar-SA" sz="3600" spc="-1" strike="noStrike">
                <a:solidFill>
                  <a:srgbClr val="90c226"/>
                </a:solidFill>
                <a:latin typeface="Trebuchet MS"/>
                <a:ea typeface="Tahoma"/>
              </a:rPr>
              <a:t>- النزاهة</a:t>
            </a:r>
            <a:endParaRPr b="0" lang="en-US" sz="3600" spc="-1" strike="noStrike">
              <a:solidFill>
                <a:srgbClr val="90c226"/>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ؤدي المراجع الداخلي عمله بنزاهة تامة تحرره من أي شبهات وتجعل من عمله محل ثقة ومصداقية للغير. فنزاهة المراجع الداخلي تؤدي إلى تدعيم الثقة فيما يقوم به من أعمال وتعتبر أساس الاعتماد على أحكامه.</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تحرر من التبعية الفكرية للإدار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ذل عناية مهنية واجبة في كل أعمال المراجع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عمل على تحقيق مصلحة التنظيم بما لا يتعرض مع القيم الأخلاقي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7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رهن المراجع في عمله على درجة عالية من الموضوعية المهنية ، وذلك أثناء جمع وتقويم المعلومات وتوصيل النتائج عن نتائج العمل الخاص بالعملية أو النشاط محل الفحص. وتقضي الموضوعية أن يوازن المراجع الداخلي بين كل الأمور المحيطة بالفحص ويقدر بصورة متوازنة جميع الاهتمامات دون أن يتأثر باهتماماته الشخصية أو بأحكامه السابق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حترم المراجع الداخلي قيمة المعلومات التي يحصل عليها ويحترم خصوصيتها وملكيتها للآخرين. فالمعلومات التي يحصل عليها المراجع الداخلي يجب ألا تستخدم بصورة شخصية كما يجب ألا يعلن أو يفصح عنها بدون سلطة حقيقية تتيح له ذلك ما لم يكن هناك متطلب قانوني أو مهني يلزمه بالإفصاح عنها.</a:t>
            </a:r>
            <a:endParaRPr b="0" lang="en-US" sz="24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تأهيل</a:t>
            </a:r>
            <a:endParaRPr b="0" lang="en-US" sz="40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قدم المراجع الداخلي المعارف والمهارات والخبرات اللازمة لإنجاز مهام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هذا المبدأ يتطلب من المراجع الداخلي الآت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لا يقبل المراجع الداخلي أي مهام تفوق تأهيله المهن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أن يرفع المراجع الداخلي بصورة ، مستمرة ، تأهيله المهني ويسعى لكسب أنواع جديدة من المعرفة والمهارة</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النزاهة</a:t>
            </a:r>
            <a:endParaRPr b="0" lang="en-US" sz="4000" spc="-1" strike="noStrike">
              <a:solidFill>
                <a:srgbClr val="90c226"/>
              </a:solidFill>
              <a:latin typeface="Trebuchet MS"/>
            </a:endParaRPr>
          </a:p>
        </p:txBody>
      </p:sp>
      <p:sp>
        <p:nvSpPr>
          <p:cNvPr id="282" name=""/>
          <p:cNvSpPr txBox="1"/>
          <p:nvPr/>
        </p:nvSpPr>
        <p:spPr>
          <a:xfrm>
            <a:off x="677520" y="1929960"/>
            <a:ext cx="8596440" cy="441972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ؤدي المراجعون الداخليون عملهم بأمانة ، واجتهاد ، وحرص. الجد والاجتهاد والحرص هنا تحمل الآخرين على إدراك نزاهة ومصداقية المراجع الداخل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ضع المراجع الداخلي النظم والقوانين نصب عينيه أثناء تنفيذه لمراحل المراجعة وأن ينجز الإفصاح المتوقع وفقا للنظام والقانو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اشتراك ، عن علم مسبق ، في أي عمل أو نشاط غير قانوني ، كما يحظر عليه أن يأتي بأفعال أو يشترك في أفعال تسئ إلى كرامة مهنة المراجعة الداخلية أو إلى الوحدة الحكومية التي ينتمي إلي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حترم المراجع الداخلي الأهداف المشروعة والأخلاقية للمنشأة التي ينتمي إليها ويضيف إليها ويدعمها. احترام المراجع الداخلي لأهداف منشأته يجعل الآخرين أكثر ميلا لاحترام تلك الأهداف.</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fontScale="96000"/>
          </a:bodyPr>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جنب المراجع الداخلي الاشتراك في أي أنشطة أو الدخول في أي علاقات تؤدي إلى فقدانه أو إلى احتمال فقدانه عدم التحيز في القيام بالتقديرات. </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إذا ما وضع المراجع في موقف أو دخل في علاقة تتعارض فيها مصالحه أو مصالح الوحدة الحكومية التي ينتمي إليها فأنه يجب ألا يقبل أي شيء من أي طرف مما قد يفقده أو يحتمل أن يفقده حكمه المهني غير المتحيز.</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فصح المراجع الداخلي عن الحقائق المعلومة له التي ، إذا لم يتم الإفصاح عنها ، تؤدي إلي إفساد التقرير عن الأنشطة محل الفح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تبط الأمانة بالحفاظ علي سرية وخصوصية المعلومات التي يحصل عليها المراجع الداخلي أثناء أدائه لمهام المراجعة. والقواعد المهنية التي تمكن الأمانة تتضمن ما يلي:</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وخي المراجع الحذر في استخدام وحماية المعلومات التي حصل عليها أثناء أدائه لواجباته.</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لا يستخدم المعلومات التي حصل عليها لتحقيق أي مكسب شخصي بأي صورة تتعارض مع القانون والنظام أو تضر بالأهداف المشروعة والأخلاقية للمنشأة التي ينتمي إليها.</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أهمية معايير المراجعة الداخلية</a:t>
            </a:r>
            <a:br>
              <a:rPr sz="3200"/>
            </a:br>
            <a:endParaRPr b="0" lang="en-US" sz="4000" spc="-1" strike="noStrike">
              <a:solidFill>
                <a:srgbClr val="90c226"/>
              </a:solidFill>
              <a:latin typeface="Trebuchet MS"/>
            </a:endParaRPr>
          </a:p>
        </p:txBody>
      </p:sp>
      <p:sp>
        <p:nvSpPr>
          <p:cNvPr id="218" name=""/>
          <p:cNvSpPr txBox="1"/>
          <p:nvPr/>
        </p:nvSpPr>
        <p:spPr>
          <a:xfrm>
            <a:off x="528480" y="1982520"/>
            <a:ext cx="8745840" cy="47149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ايير المراجعة الداخلية تخدم الأغراض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المبادئ الأساسية التي تصور ممارسة المراجعة الداخلية كما يجب أن يكون.</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قدم المعايير إطارا للتشجيع على والقيام بنطاق عريض من أنشطة المراجعة الداخلية التي تضيف قيمة للمنشأ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أساسا لتقويم أداء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كفل تحسين وتطوير الأنشطة والعمليات التنظيم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كفاية</a:t>
            </a:r>
            <a:endParaRPr b="0" lang="en-US" sz="40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رتبط المراجع الداخلي بالخدمات التي يمتلك لها المعرفة والمهارات والخبرات الضرورية التي تمكنه من تقديمها بالصورة المرض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نجز المراجع الداخلي الخدمات التي يرتبط بها وفقا لمعايير الممارسة المهنية للمراجعة الداخل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على المراجع الداخلي أن يحسن بصورة مستمرة كفاءته ومن فاعلية وجودة الخدمات التي يقدمها.</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br>
              <a:rPr sz="3200"/>
            </a:br>
            <a:endParaRPr b="0" lang="en-US" sz="40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هناك مجموعة من المتطلبات الأساسية التي يجب أن يراعيها المراجعين الداخليين عند تطبيق هذه المعايير الدوليةتتضمن ما يلي:</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خدمات التأكيد.</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الخدمات الاستشارية.</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marL="332640" indent="-332640" algn="r"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marL="332640" indent="-33264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مارس أنشطة المراجعة الداخلية في وحدات تعمل في بيئات ثقافية وقانونية متنوعة ، هذه الوحدات تختلف فيما بينها من حيث الأهداف والحجم والهيكل والأطراف الخارجية والداخلية المرتبطة بها. على الرغم من أن الاختلافات قد تؤثر في ممارسة أنشطة المراجعة الداخلية في كل بيئة من البيئات ، فإن الالتزام بالمعايير المهنية للمراجعة الداخلية يعد جوهريا للوفاء بمسئوليات المراجعين الداخليين. فإذا ما حالت القوانين والنظم دون التزام المراجعين الداخليين ببعض أجزاء من المعايير فإنه يتعين عليهم الالتزام بالأجزاء الأخرى من المعايير والقيام بإفصاح مناسب عن ذلك.</a:t>
            </a:r>
            <a:endParaRPr b="0" lang="en-US" sz="2400" spc="-1" strike="noStrike">
              <a:solidFill>
                <a:srgbClr val="404040"/>
              </a:solidFill>
              <a:latin typeface="Trebuchet MS"/>
            </a:endParaRPr>
          </a:p>
          <a:p>
            <a:pPr marL="332640" indent="-3326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تقديم خدمات التأكيد.</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ويم الأدلة والنظم بواسطة المراجع الداخلي بصورة موضوعية لتقديم رأي أو استنتاج مستقل ومحايد. طبيعة ونطاق ارتباط التأكيد تحدده معرفة وثقافة وخبرة المراج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وجد ثلاث أطراف مرتبطة بخدمات التأكيد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عاملين بالعملية أو النظام أو القضية موضوع الاهتمام. (غالبا إدارة أو قسم داخل الجه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ذين يقومون بعملية التقويم. (المراجع الداخ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مستفيدين من التقويم. (غالبا الإدارة العليا أو أطراف أخرى خارج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م الخدمات الاستشار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ديم المشورة وتتحدد بناءً على طلب العميل المستفيد. طبيعة ونطاق ارتباطات الخدمات تخضع للاتفاق مع العميل (الإدار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رتبط بالخدمات الاستشارية طرف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شخص أو مجموعة المقدمين للخدمة.  (المراجعين الداخلي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شخص أو المجموعة الطالبة للخدمة.(الإدار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 تقديم الخدمات الاستشارية، يجب أن يحافظ المراجع الداخلي على موضوعيته وألا يتحمل أي مسئولية من مسئوليات الإدارة. أي لا يدخل نفسه في العمليات التنفيذية ويؤكد على أن رأيه إستشاري فقط.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28" name=""/>
          <p:cNvSpPr txBox="1"/>
          <p:nvPr/>
        </p:nvSpPr>
        <p:spPr>
          <a:xfrm>
            <a:off x="677520" y="1803240"/>
            <a:ext cx="8596440" cy="443088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أولى: معايير الصفات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وتتعلق هذه المعايير بالمستويات الأساسية لمقومات أو صفات المراجعة الداخلية. وتحدد هذه المجموعة من المعايير المستويات المقبولة لإدارة المراجعة الداخلية ككل ، وسلطات ومسئوليات مدير إدارة المراجعة الداخلية والمراجعون الداخليون.</a:t>
            </a: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ثانية: معايير الأداء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تعلق هذه المجموعة بمستويات أداء المراجعة الداخلية على الجانب العملي ، وتتناول إدارة أنشطة إدارة المراجعة ، وطبيعة أنشطة المراجعة الداخلية، والتخطيط ، والتنفيذ ، والتقرير وتوصيل النتائج ، والمتابعة.</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2T18:01:06Z</dcterms:created>
  <dc:creator>hana</dc:creator>
  <dc:description/>
  <dc:language>en-US</dc:language>
  <cp:lastModifiedBy>hnae</cp:lastModifiedBy>
  <dcterms:modified xsi:type="dcterms:W3CDTF">2014-02-03T17:34:06Z</dcterms:modified>
  <cp:revision>26</cp:revision>
  <dc:subject/>
  <dc:title>PowerPoint Presentation</dc:title>
</cp:coreProperties>
</file>