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BD9B5-C7CC-4B24-9C53-1C0AF4A1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4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إختيار مدير وحدة المراجعة الداخلية: يراعى أن يكون مدير وحدة المراجعة الداخلية من الحاصلين على درجة البكالوريوس في المحاسبة ولديه خبرة في مجال المراجعة لا تقل عن سبع سنوات وتكون درجته المالية لا تقل عن الحادية عشر</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A6240-AED8-408D-AE7A-76C19BA9E1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95CC1-DA02-454B-A146-FF761DC73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4017A-DBF1-453A-BE2F-719295E97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28B45-CD41-42ED-B631-F0AFCE43B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95F5F-DAE6-4A30-B5F2-7A65334A2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B9124-CCCF-4219-AC53-F8CD4CEED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34E6A-593B-460B-A4B8-F1D01C0AB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13FA-B7B4-4DB0-A6B2-329E98F96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CEAE7-2D65-4BBA-8588-CF5C42C03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DE5C-8933-425B-84F1-190C3C348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24BB0-E596-4861-872C-B0C164BD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43040-4DC0-4A0D-BB1D-D8BCED0A1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ACEA0-633D-44C5-A7B1-9EBFF6D64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1C4D-CDAC-4655-9302-9AB71D26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265E-24F3-4195-85AA-6A26F615A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5F85C-7EEB-4A61-A5A2-2A061B68C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3FD47-D0DC-44B4-88C0-78B8AAA1A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6CECF-FC8F-4ADC-8F98-9941C0784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032D4-DBA2-4123-9F0D-072EC49DDA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3E6CF-5B2E-42C1-86E7-0C33CC1DF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976CA-D653-4108-A092-9DFF29B7B0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BF337-E009-44D6-9898-0F338F771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00BAB-ADA3-4071-8D43-FECAECE13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2BEE-A545-4FB5-9F87-6DD6FF1F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E9814-3E7C-453C-985E-C098A51D2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0A958-D5EF-4432-BD72-B4B18C14B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5B56C-D00A-474D-A57C-0BE7759AA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6B45C-2A64-40AD-9D66-6EB232648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F3DBD-15DE-4865-9475-FB4863533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C5A52-4552-40DD-B328-C14BF7227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57B865-0112-4FF9-BBAE-606CD6749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F4296-89A5-4758-8386-64576D5F3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5C723-A8A6-4522-B16D-AFBB4045F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03599-FC96-47BA-A4E1-AE4694375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78AB9-504E-4D0B-BB77-6EFF0FC19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BAB7C-95A6-403D-B9B9-AC2150A4F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8FE06-F060-4AD9-BDDC-E196E9959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41FFEB-BB1D-4F95-B188-A696E55FD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D9B68-CFDA-4BDE-87A3-0A611453A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3F930-87B8-456E-A921-50A704F5A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EB8A7-ACD5-4D06-B4F2-40480E7ED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1E944-3A25-44A0-9BAF-75FAFF4E9D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E1DD75-080F-4D1B-97E2-855FE8910E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E8E14B-A067-4364-AA88-66495E30E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EBCDB1-4CE5-4C89-931D-D7BF9FBB2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CC919-BD88-4C0B-B429-4D325B7E4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C59F7-DFBA-4DDF-9639-6C1FCABE9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CC128-1C29-449D-B9DE-26342DF10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49DEF-5F3F-4480-88FE-78012F79D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4FC43-0AA9-4FA4-B151-6DA7395B8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B10B6-0569-4991-9195-0862D7C74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3FB65-AA0B-4557-9006-25A308F1A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8F7D3-34B7-42DA-A4B5-FA5425051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74506-98BD-4BCC-9E7B-536233FD7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B10F8-5E2D-4F9E-8686-2DF7CC2B6E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88E973-651C-4499-879A-EFB2A084D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B7886-A6A8-4432-AD47-F9372469B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47C88F-12EC-40AD-8D19-492C4AD4E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80564D-85A0-48E0-A6F2-5C992850F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926EC-A1A3-44E9-ADA5-530632E91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D84648-0837-4735-A2AE-BAB29D0057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555B3-54D1-4907-B171-F0C1673D2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E98D0-C101-4DE0-BC90-F36BA5F6E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CB40F-36DB-4D13-B694-DC0F2780B9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30B4A-6F9A-4DCE-9FDF-7F3A20274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A5701-C66C-4B4D-8498-939479E68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73D4C-7B4A-436C-86A7-E1B075F46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36EC-0EC4-4B07-B9BE-2AC401AE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D120A-9BE1-4ED5-9975-E0192F35F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2D727C-C2B7-4EF3-9707-3FA90AD5E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971B13-07B0-480D-9B2E-D2047C70D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0F9B9B-6847-444A-8B90-9ACBE7F5C7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F53E0F-47CA-48FC-B6DE-0EEF1595C0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8563B-C671-4B7F-8E08-2FB476D72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AF77B-49BC-41E5-8466-7BAF42ABD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E7EB2-5C9D-4572-AD44-9E332D5CD5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CC185-ACB3-46F5-A049-8C4C9B7659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F7FC3F-1202-45B0-AB09-626AC53EB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DB91E-BDF8-41D1-B48E-1DF3B6FE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4180C-5232-4FD6-9BA0-34FDEF9A6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BAC58-E2A3-4CF7-9BF5-64A11038E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3A5C9-785B-46E6-B130-293E2D052A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96A215-0359-40EF-A6B7-D8173DE9A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68F0FE-4930-4A81-A50F-21DDB374D3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EAB2-BE6B-4C87-A1CF-D9EB39A8F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A6D4D-C88A-44E9-B5F3-19DF73FC093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C6A21-EA60-4127-99EE-45AF45C2E7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93BA1-C9BA-4870-879F-C9BA60646E4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E645F-0D6D-4EBE-A04F-7EB56C0E117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C96A6-990E-49D5-B572-D7F424592A50}"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D49F7-5393-400A-B107-F85317DFAFD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A3B0F-4B5E-4B09-876E-05504A4536E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262626"/>
                </a:solidFill>
                <a:latin typeface="Times New Roman"/>
                <a:cs typeface="Arabic Transparent"/>
              </a:rPr>
              <a:t>إجراءات إنشاء وتنظيم وحدات المراجعة الداخلية وإداراتها</a:t>
            </a:r>
            <a:endParaRPr b="0" lang="en-US" sz="5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توزيع دليل المراجعة الداخلية</a:t>
            </a:r>
            <a:endParaRPr b="0" lang="en-US" sz="40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تطوير وإصدار الدليل ليتم استخدامه فقط من قبل وحدة المراجعة الداخلية بالجهة. كما يتم توزيع الدليل على موظفي المراجعة الداخلية للاستخدام الداخلي فقط. لذا فإن إعطاء الدليل لأشخاص من خارج وحدة المراجعة الداخلية يعتبر عملاً ممنوعاً ما لم يتم إصدار موافقة خطية من قبل المسؤول الأول بالجه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إحداث تعديلات على دليل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ضمان مواكبة وحدة المراجعة الداخلية في الجهة للتطورات التي قد تحدث في المستقبل نتيجة معايير جديدة أو تعليمات جديدة تصدر عن معهد المراجعين الداخليين أو الهيئة السعودية للمحاسبين القانونيين، فإنه من فترة لأخرى يجب إعادة النظر في الدليل وإدخال إي تعديلات عليه من فترة لأخرى بحيث تضمن فعالية وكفاءة أعمال المراجعة الداخلية. من الممكن أن تأخذ هذه التعديلات شكل تغييرات في فقرات الدليل أو إضافة فقرات أو تعليقات أو اقتراحات جديدة من قبل فرق ومدراء المراجعة الداخلية أو المسئول الأول بالحهة نفسه. علماً بأنه يجب أخذ موافقة المسؤول الأول بالجهة على هذه التعديلات أو الإضافات قبل إصدارها. بالإضافة إلى ما تقدم، فإنه يجب إجراء مراجعة شاملة لمحتويات الدليل كل فترة لضمان حداثة المعلومات داخل الدلي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نية: الجهة الحكومية التي تعمل بها وحدة المراجعة</a:t>
            </a:r>
            <a:endParaRPr b="0" lang="en-US" sz="4800" spc="-1" strike="noStrike">
              <a:solidFill>
                <a:srgbClr val="404040"/>
              </a:solidFill>
              <a:latin typeface="Calibri Light"/>
            </a:endParaRPr>
          </a:p>
        </p:txBody>
      </p:sp>
      <p:sp>
        <p:nvSpPr>
          <p:cNvPr id="33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قدم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وحدة المراجعة من حيث تاريخ إنشائها والتطورات التي حدثت فيها.</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داف ورسالة الجه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 الحكومية التي تنتمي إليها وحدة المراجع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لثة: معلومات عن وحدة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022640"/>
          </a:xfrm>
          <a:prstGeom prst="rect">
            <a:avLst/>
          </a:prstGeom>
          <a:noFill/>
          <a:ln w="0">
            <a:noFill/>
          </a:ln>
        </p:spPr>
        <p:txBody>
          <a:bodyPr lIns="0" rIns="0" anchor="t">
            <a:normAutofit fontScale="99000"/>
          </a:bodyPr>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فهوم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ع التنظيمي لوحدة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ؤيا (الرسالة)الخاصة بوحدة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صياغة رسالة (رؤيا) واضحة لوحدة المراجعة الداخلية يكون جميع العاملين بالوحدة على علم تام بها</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يجب صياغة هدف عام للوحدة يكون جميع العاملين بالوحدة على علم تام وقناعة تامة به</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ر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مثال على الرسالة والهدف</a:t>
            </a:r>
            <a:r>
              <a:rPr b="0" lang="ar-SA" sz="4800" spc="-1" strike="noStrike">
                <a:solidFill>
                  <a:srgbClr val="2683c6"/>
                </a:solidFill>
                <a:latin typeface="Calibri Light"/>
                <a:ea typeface="Times New Roman"/>
              </a:rPr>
              <a:t> </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fontScale="89000"/>
          </a:bodyPr>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نموذج عملي لرسالة وحدة المراجعة الداخلية بإحدى المستشفيات الحكومي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a:t>
            </a:r>
            <a:r>
              <a:rPr b="0" lang="ar-SA" sz="2400" spc="-1" strike="noStrike">
                <a:solidFill>
                  <a:srgbClr val="000000"/>
                </a:solidFill>
                <a:latin typeface="Calibri"/>
                <a:cs typeface="Arial"/>
              </a:rPr>
              <a:t>تزويد الإدارة العليا بتقييمات شاملة وذات قيمة لكل التسهيلات الصحية بـ.....أسم الجهة.. والمشاريع والنشاطات لضمان جودة عالية ومتميزة في الرعاية الصحية والتي تقدم إلى كافة المرضى</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يمكن أن يتحقق بتشجيع فعالية الضوابط الداخلية من خلال فعالية التدقيق والوصول للهدف ومن خلال الإتباع والامتثال لقوانين وأنظمة البرنامج والضوابط الداخلية والاستخدام الإقتصادي والكفء للموارد البشري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a:t>
            </a:r>
            <a:r>
              <a:rPr b="1" lang="ar-SA" sz="2400" spc="-1" strike="noStrike">
                <a:solidFill>
                  <a:srgbClr val="000000"/>
                </a:solidFill>
                <a:latin typeface="Calibri"/>
                <a:cs typeface="Arial"/>
              </a:rPr>
              <a:t>لهدف المصاغ للوحدة المراجعة التي سبق عرض رؤيتها</a:t>
            </a:r>
            <a:r>
              <a:rPr b="1"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تعزيز القدرة على صنع القرار بتعريف المشاكل والسياسات لحماية موارد البرنامج من الخسارة أو سوء الاستخدام و/أو أي وجه من أوجه التقصير. وتعزيز الدقة والمصداقية في تدوين جميع التقارير المالية والتشغيلية لجميع بيانات التشغيل</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 ونعرض فيما يلي لأهم ما يجب أن يتضمنه دليل المراجعة في هذا الخصوص وهو: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ويم أداء العاملين بوحدة المراجعة الداخل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رقابة الجود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حقق من رضاء العمي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ثيق حفظ السجلات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a:t>
            </a:r>
            <a:r>
              <a:rPr b="0" lang="ar-SA" sz="4800" spc="-1" strike="noStrike">
                <a:solidFill>
                  <a:srgbClr val="2683c6"/>
                </a:solidFill>
                <a:latin typeface="Times New Roman"/>
                <a:cs typeface="Arabic Transparent"/>
              </a:rPr>
              <a:t>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على رأس العمل</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ويعني التدريب على رأس العمل الإستفادة من الخبرات التي يكتسبها المراجع الداخلي بنفسه أثناء تنفيذ عمله</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دريب المخطط</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يجب على الجهة ووحدة المراجعة الداخلية بها أن يلتزمان بتقديم دورات تدريب منتظمة للعاملين بوحدة المراجعة الداخ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عليم المستمر والشهادات المهنية: </a:t>
            </a:r>
            <a:endParaRPr b="0" lang="en-US" sz="2400" spc="-1" strike="noStrike">
              <a:solidFill>
                <a:srgbClr val="404040"/>
              </a:solidFill>
              <a:latin typeface="Calibri"/>
            </a:endParaRPr>
          </a:p>
        </p:txBody>
      </p:sp>
      <p:graphicFrame>
        <p:nvGraphicFramePr>
          <p:cNvPr id="344" name=""/>
          <p:cNvGraphicFramePr/>
          <p:nvPr/>
        </p:nvGraphicFramePr>
        <p:xfrm>
          <a:off x="1096920" y="2224080"/>
          <a:ext cx="10058400" cy="4108320"/>
        </p:xfrm>
        <a:graphic>
          <a:graphicData uri="http://schemas.openxmlformats.org/drawingml/2006/table">
            <a:tbl>
              <a:tblPr/>
              <a:tblGrid>
                <a:gridCol w="5783400"/>
                <a:gridCol w="4275000"/>
              </a:tblGrid>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7700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76968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وحدة المراجعة الداخلية نظام جيد لتقويم أداء العاملين بها وبصفة خاصة المراجعين الداخليين.ويستخدم تقويم أداء المراجعين الداخليين كأداة لتعزيز عمليات الإشراف ومراقبة تطور الأداء. بالإضافة إلى ذلك، فإن تقويم الأداء يستخدم لمساعدة المراجعين في تحديد نقاط ضعفهم والعمل على تحسينها قبل موعد عمليات التقويم اللاحقة. ويجب الاحتفاظ بنماذج تقويم المراجعين الداخليين داخل ملفاتهم الشخصية وليس في ملف مراجعة المه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صفة عامة يمكن استخدام نوعين مختلفين لعمليات تقويم أداء المراجعين الداخليين ، و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8" name=""/>
          <p:cNvSpPr txBox="1"/>
          <p:nvPr/>
        </p:nvSpPr>
        <p:spPr>
          <a:xfrm>
            <a:off x="1096920" y="1860120"/>
            <a:ext cx="10058400" cy="438948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هذا النوع من التقويم يتم تقويم أداء المراجعين في نهاية كل مهمة يتم تنفيذها ، ويقوم مدير وحدة المراجعة بإعداد هذا التقويم لكل أعضاء فرق مهمة المراجعة الداخلي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الملاحظات بغرض تقويم أداء المراجعين الى:</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استيفائية: </a:t>
            </a:r>
            <a:r>
              <a:rPr b="0" lang="ar-SA" sz="2400" spc="-1" strike="noStrike">
                <a:solidFill>
                  <a:srgbClr val="000000"/>
                </a:solidFill>
                <a:latin typeface="Calibri"/>
                <a:cs typeface="Arial"/>
              </a:rPr>
              <a:t>وهي الملاحظات التي تتضمن طلب استيفاء مستندات صرف مبلغ معين أو الاستفسار عن مبررات صرف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ة النظامية: </a:t>
            </a:r>
            <a:r>
              <a:rPr b="0" lang="ar-SA" sz="2400" spc="-1" strike="noStrike">
                <a:solidFill>
                  <a:srgbClr val="000000"/>
                </a:solidFill>
                <a:latin typeface="Calibri"/>
                <a:cs typeface="Arial"/>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مالية: </a:t>
            </a:r>
            <a:r>
              <a:rPr b="0" lang="ar-SA" sz="2400" spc="-1" strike="noStrike">
                <a:solidFill>
                  <a:srgbClr val="000000"/>
                </a:solidFill>
                <a:latin typeface="Calibri"/>
                <a:cs typeface="Arial"/>
              </a:rPr>
              <a:t>وهي الملاحظات التي تتضمن تحصيل مبلغ معين أو توفير مبلغ معين أو حمايته من الضياع.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الاهداف</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طبيقا لأحكام اللائحة الموحدة لوحدات المراجعة الداخلية بالوحدات الحكومية والمؤسسات العامة تلتزم كل جهة أو مؤسسة عامة بإنشاء وحدة للمراجعة الداخلية. وتقع مسئولية إنشاء وحدة المراجعة الداخلية على عاتق المسئول الأول بالجهة. وسوف </a:t>
            </a:r>
            <a:r>
              <a:rPr b="0" lang="ar-EG" sz="3600" spc="-1" strike="noStrike">
                <a:solidFill>
                  <a:srgbClr val="000000"/>
                </a:solidFill>
                <a:latin typeface="Calibri"/>
                <a:cs typeface="Arial"/>
              </a:rPr>
              <a:t>نتناول في هذا اليوم عرض للإجراءات التنفيذية لإنشاء وحدات المراجعة الداخلية وتنظيمها وإداراتها وإعداد دليل المراجعة. </a:t>
            </a:r>
            <a:endParaRPr b="0" lang="en-US" sz="3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فر التقويم السنوي النتيجة النهائية لعملية تقويم المراجعين الداخليين والتي تستخدم كأساس في أخذ القرارات الإدارية مثل الترقية، تقييم الراتب، والتوصيات بالتدريب، أو الإجراءات التصحيحية. ويجب أن يرتكز التقويم السنوي كذلك على تجميع نماذج التقويم الخاصة بالمهام والتي تم إعدادها طوال العام في نهاية كل مهمة. ويجب أن يكون هناك نموذج للتقويم السنوي تتبناه وحدة المراجعة الداخل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مدير وحدة المراجعة على ضمان الالتزام بمعايير المراجعة الداخلية والسياسات المرسومة لوحدة المراجعة الداخلية وكذلك برامج المراجعة. ولتحقيق ذلك يجب أن يكون هناك  عمليات تقويم  مستمرة لعمل الوحدة وسياساتها وبرامجها. و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ويمكن أن تتم عملية رقابة الجودة عن طريق ما يل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4"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يث 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دليل المراجعة الداخلية ورفع تقرير للمسئول الأو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عمل التقويم الداخلي من خلا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ات الدور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6" name=""/>
          <p:cNvSpPr txBox="1"/>
          <p:nvPr/>
        </p:nvSpPr>
        <p:spPr>
          <a:xfrm>
            <a:off x="1096920" y="1996560"/>
            <a:ext cx="10058400" cy="40230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هذا التأكيد يجب أن يتضمن </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المراجعين الداخليين يعملون وفق منهجية وحدة المراجعة الداخلية والدليل المعتمد.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ن نوعية العمل المنفذ يتفق مع معايير ممارسة مهن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ات الدور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وتقويم لمدى التزام المراجعين والمراجعة الداخلية بالدليل الذي أعدته وحدة المراجعة الداخلية ومعايير ممارسة المه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قدم هذا النوع من التقويم تأكيداً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ودة كل من إدارة وحدة المراجعة الداخلية وتدريب العامل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60" name=""/>
          <p:cNvSpPr txBox="1"/>
          <p:nvPr/>
        </p:nvSpPr>
        <p:spPr>
          <a:xfrm>
            <a:off x="1096920" y="1846440"/>
            <a:ext cx="10058400" cy="4022640"/>
          </a:xfrm>
          <a:prstGeom prst="rect">
            <a:avLst/>
          </a:prstGeom>
          <a:noFill/>
          <a:ln w="0">
            <a:noFill/>
          </a:ln>
        </p:spPr>
        <p:txBody>
          <a:bodyPr lIns="0" rIns="0" anchor="t">
            <a:normAutofit fontScale="94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وحدة المراجعة الداخلية من جانب جهة خارجية على فترات متباعدة مثلا كل ثلاث سنوات. وفي هذا النوع من التقويم يدعو المسئول الأول بالجهة جهة مهنية مستقلة لعمل تقويم خارجي مستقل وإبداء الرأي عن مدى فعالية وكفاءة وحدة المراجعة الداخلية. كما 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طاق خطة المراجعة الداخلية.                                   مراجعة المهام التي تم إنجازها.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ياسات والإجراءات.                                           جودة ملفات المراجعة وأوراق العمل.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ات الاتصال ورفع التقارير.                                 إدارة الموارد البشر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دريب العاملين.</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حقق من رضاء العميل</a:t>
            </a:r>
            <a:endParaRPr b="0" lang="en-US" sz="4800" spc="-1" strike="noStrike">
              <a:solidFill>
                <a:srgbClr val="404040"/>
              </a:solidFill>
              <a:latin typeface="Calibri Light"/>
            </a:endParaRPr>
          </a:p>
        </p:txBody>
      </p:sp>
      <p:sp>
        <p:nvSpPr>
          <p:cNvPr id="36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جزء من التزامها بعمل التحسينات المستمرة لأداء المراجعة الداخلية ومراقبة جودتها، يمكن أن تقوم وحدة المراجعة الداخلية بتبني استبيان رضاء العميل  وذلك ل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قائمة تقويم الأد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واء كان تقويم الأداء يتم ذاتيا ، أي تقويم وحدة المراجعة الداخلية لنفسها ، أو كان من جانب طرف خارجي يمكن الاسترشاد بقائمة تقويم الأداء التالية. وهذه القائمة مقتبسة بتصرف من دليل تقويم الأداء بديوان المراقب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0" y="0"/>
          <a:ext cx="12192120" cy="6156360"/>
        </p:xfrm>
        <a:graphic>
          <a:graphicData uri="http://schemas.openxmlformats.org/drawingml/2006/table">
            <a:tbl>
              <a:tblPr/>
              <a:tblGrid>
                <a:gridCol w="2176560"/>
                <a:gridCol w="955440"/>
                <a:gridCol w="997200"/>
                <a:gridCol w="969840"/>
                <a:gridCol w="7093080"/>
              </a:tblGrid>
              <a:tr h="235440">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الملاحظات</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raditional Arabic"/>
                        </a:rPr>
                        <a:t>الإنجـــاز</a:t>
                      </a:r>
                      <a:endParaRPr b="0" lang="en-US" sz="11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عناصر تقويم جودة الأداء</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لا ينطبق</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لا</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نعم</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ولاً- اختيار مهمة المراجع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قررت إدارة المراجعة عند تقييمها للمهمة المتوقعة أنها من المهام التي يمكن أن تسفر عن تقرير هام؟</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343080" indent="-343080" algn="r" rtl="1">
                        <a:lnSpc>
                          <a:spcPct val="100000"/>
                        </a:lnSpc>
                        <a:buClr>
                          <a:srgbClr val="000000"/>
                        </a:buClr>
                        <a:buFont typeface="Times New Roman"/>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تشجيع إنفاق حكومي كفء وفعال من حيث التكلفة.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الكشف عن التبذير، والتلاعب، وسوء الاستعمال، وسوء الإدار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التأثير بشكل كبير على إنجازات برامج وعمليات الجهة المراجع عليها.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ضمان الالتزام بالأنظمة والسياسات واللوائح الهام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2</a:t>
                      </a:r>
                      <a:r>
                        <a:rPr b="0" lang="ar-SA" sz="2000" spc="-1" strike="noStrike">
                          <a:solidFill>
                            <a:srgbClr val="000000"/>
                          </a:solidFill>
                          <a:latin typeface="Times New Roman"/>
                          <a:ea typeface="Traditional Arabic"/>
                        </a:rPr>
                        <a:t>- هل قررت إدارة المراجعة أنه:</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أ- يوجد مراجعين داخليين لديهم المعرفة، والخبرة والمهارات المطلوبة لتنفيذ العمل؟</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8298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يوجد وقت كافٍ للمراجعين الداخليين وموارد أخرى لإنجاز العمل آخذين في الاعتبار الأهداف والنطاق المقترحين.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4" name=""/>
          <p:cNvGraphicFramePr/>
          <p:nvPr/>
        </p:nvGraphicFramePr>
        <p:xfrm>
          <a:off x="0" y="95400"/>
          <a:ext cx="12192120" cy="6240240"/>
        </p:xfrm>
        <a:graphic>
          <a:graphicData uri="http://schemas.openxmlformats.org/drawingml/2006/table">
            <a:tbl>
              <a:tblPr/>
              <a:tblGrid>
                <a:gridCol w="1882800"/>
                <a:gridCol w="1092240"/>
                <a:gridCol w="1106280"/>
                <a:gridCol w="995400"/>
                <a:gridCol w="7115400"/>
              </a:tblGrid>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الفوائد المحتملة للمهمة المقترحة تفوق التكاليف المتوقعة؟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ثانياً- بدء مهمة المراجع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أعد وحدة المراجعة الداخلية خطاباً بتنفيذ المهمة وتكليف المراجعين الداخليين؟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2</a:t>
                      </a:r>
                      <a:r>
                        <a:rPr b="0" lang="ar-SA" sz="2000" spc="-1" strike="noStrike">
                          <a:solidFill>
                            <a:srgbClr val="000000"/>
                          </a:solidFill>
                          <a:latin typeface="Times New Roman"/>
                          <a:ea typeface="Traditional Arabic"/>
                        </a:rPr>
                        <a:t>- هل قام وحدة المراجعة الداخلية بإشعار الجهة المراجع عليها المعنية كتابة بمهمة المراجعة المخطط لها؟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3</a:t>
                      </a:r>
                      <a:r>
                        <a:rPr b="0" lang="ar-SA" sz="2000" spc="-1" strike="noStrike">
                          <a:solidFill>
                            <a:srgbClr val="000000"/>
                          </a:solidFill>
                          <a:latin typeface="Times New Roman"/>
                          <a:ea typeface="Traditional Arabic"/>
                        </a:rPr>
                        <a:t>- هل تم تنسيق المهمة مع المهام الأخرى ذات الصلة في كافة إدارات وحدة المراجعة الداخلية؟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4</a:t>
                      </a:r>
                      <a:r>
                        <a:rPr b="0" lang="ar-SA" sz="2000" spc="-1" strike="noStrike">
                          <a:solidFill>
                            <a:srgbClr val="000000"/>
                          </a:solidFill>
                          <a:latin typeface="Times New Roman"/>
                          <a:ea typeface="Traditional Arabic"/>
                        </a:rPr>
                        <a:t>- هل تم عقد اجتماع مع مسؤولي الجهة المراجع عليها لمناقشة أهداف المراجعة والبدء في الحصول على البيانات والمعلومات؟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ثالثاً- اقتراح مهمة المراجعة وتحديد نطاقها:</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تم القيام بعمل كافٍ فيما يتعلق بمرحلة الاقتراح لما يأتي ؟ :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أ – تحديد الأهداف المقترحة والتأكد من مشروعيتها</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وضع مساهمة وحدة المراجعة الداخلية المتوقع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تحديد التكاليف والفوائد المتوقعة للمهم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تحديد ما إذا كانت نتائج المراجعة ستكون مفيدة وفي الوقت المناسب.</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6" name=""/>
          <p:cNvSpPr txBox="1"/>
          <p:nvPr/>
        </p:nvSpPr>
        <p:spPr>
          <a:xfrm>
            <a:off x="1096920" y="1846440"/>
            <a:ext cx="10058400" cy="4417920"/>
          </a:xfrm>
          <a:prstGeom prst="rect">
            <a:avLst/>
          </a:prstGeom>
          <a:noFill/>
          <a:ln w="0">
            <a:noFill/>
          </a:ln>
        </p:spPr>
        <p:txBody>
          <a:bodyPr lIns="0" rIns="0" anchor="t">
            <a:normAutofit fontScale="88000"/>
          </a:bodyPr>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وحدة المراجعة على ضرورة التوثيق الكافي لكل إجراءات المراجعة بما يحقق وجود مستند يؤيد كل إجراء تم تنفيذه. وتحتاج عملية التوثيق إلى الإحتفاظ بأوراق العمل (أوراق المراجعة) وتنظيمها.</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تطلب التوثيق الجيد ما يلي: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تغطية كافة أنشطة المراجعة</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أن تكون وثيقة الصلة بموضوع المراجع</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أن ترقم وترتبط ببعضها.</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ناقشنا سابقا </a:t>
            </a:r>
            <a:r>
              <a:rPr b="0" lang="ar-SA" sz="4000" spc="-1" strike="noStrike">
                <a:solidFill>
                  <a:srgbClr val="000000"/>
                </a:solidFill>
                <a:latin typeface="Calibri Light"/>
                <a:ea typeface="Times New Roman"/>
              </a:rPr>
              <a:t>1</a:t>
            </a:r>
            <a:r>
              <a:rPr b="0" lang="ar-SA" sz="4000" spc="-1" strike="noStrike">
                <a:solidFill>
                  <a:srgbClr val="000000"/>
                </a:solidFill>
                <a:latin typeface="Calibri Light"/>
                <a:ea typeface="Times New Roman"/>
              </a:rPr>
              <a:t>-القواعد المنظمة لإنشاء وتنظيم وحدات المراجعة الداخلية وإداراتها</a:t>
            </a:r>
            <a:r>
              <a:rPr b="0" lang="ar-SA" sz="4000" spc="-1" strike="noStrike">
                <a:solidFill>
                  <a:srgbClr val="2683c6"/>
                </a:solidFill>
                <a:latin typeface="Calibri Light"/>
                <a:cs typeface="Times New Roman"/>
              </a:rPr>
              <a:t>،سوف نناقش اليوم</a:t>
            </a:r>
            <a:r>
              <a:rPr b="0" lang="ar-SA" sz="4000" spc="-1" strike="noStrike">
                <a:solidFill>
                  <a:srgbClr val="2683c6"/>
                </a:solidFill>
                <a:latin typeface="Calibri Light"/>
                <a:ea typeface="Times New Roman"/>
              </a:rPr>
              <a:t>:</a:t>
            </a:r>
            <a:endParaRPr b="0" lang="en-US" sz="40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جراءات انشاء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3</a:t>
            </a:r>
            <a:r>
              <a:rPr b="1" lang="ar-SA" sz="2400" spc="-1" strike="noStrike">
                <a:solidFill>
                  <a:srgbClr val="000000"/>
                </a:solidFill>
                <a:latin typeface="Calibri"/>
                <a:ea typeface="Arial"/>
              </a:rPr>
              <a:t>- تنظيم العمل بوحدات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ريف المراجعين الداخلين بمهام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رتب الوظيفية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أقسام أو الإدارات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عداد وإصدار دليل المراجعة الداخلية(تتضمن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فقرات سوف نناقش اليوم الاربع فقرات الاولى فقط ونناقش الفقرات المتبقية للمحاضرات القادمة بأذن الله)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8" name=""/>
          <p:cNvSpPr txBox="1"/>
          <p:nvPr/>
        </p:nvSpPr>
        <p:spPr>
          <a:xfrm>
            <a:off x="1096920" y="1846080"/>
            <a:ext cx="10058400" cy="443196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مية التوثيق:</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دليل على التزام الإدارة بالمعايير وإجراءات العمل المعتمد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ط الإرشادية لعملية حفظ السجل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الخاص بالمراجعة الداخلية توضيحا أو إرشادات لضوابط حفظ السجلات من قبل وحدة المراجعة الداخلية. فمثلا يمكن أن يتضمن الدليل أن برنامج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الإحتفاظ بالنسخة الأخيرة فقط وأوراق عمل المراجعة يتم الاحتفاظ بها ثلاث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ملفات المراجعة الدائمة خمس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تقارير المراجعة الداخلية مدة غير محد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أوراق المراجعة، وتساعد هذه الملفات في حفظ الأوراق والمستندات بطريقة تسهل الرجوع إليها. كما أنها تفتح لكل مهمة أو عملية 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ملفات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وحدة المراجعة الداخلية نوعين من الملفات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والملف الجار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4" name=""/>
          <p:cNvSpPr txBox="1"/>
          <p:nvPr/>
        </p:nvSpPr>
        <p:spPr>
          <a:xfrm>
            <a:off x="1096920" y="1846440"/>
            <a:ext cx="10058400" cy="4471920"/>
          </a:xfrm>
          <a:prstGeom prst="rect">
            <a:avLst/>
          </a:prstGeom>
          <a:noFill/>
          <a:ln w="0">
            <a:noFill/>
          </a:ln>
        </p:spPr>
        <p:txBody>
          <a:bodyPr lIns="0" rIns="0" anchor="t">
            <a:normAutofit fontScale="89000"/>
          </a:bodyPr>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 مثل الأوراق والمستندات التي يحتاجها عادة المراجع في كل مهمة مراجعة ولا يحدث عليها تغيرات مستمرة أو لا يقوم المراجع بتأسيسها مع كل مهمة مراجعة. مع هذا فمثل هذه البيانات تحتاج إلى تغيير على فترات بعيدة نسبيا كلما حدث عليها تحديث أو إضافة.</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تنظيمي للوحدة.                                    نظام الترخيص بالأعمال.</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لوائح والتعميمات.                                        الوصف الوظيفي.</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خرائط وصف نظام الرقابة الداخلية.                     دليل السياسات والإجراءات.</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دليل المراجعة.                                            ملخص نتائج المراجعة للمهام السابقة.</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6" name=""/>
          <p:cNvSpPr txBox="1"/>
          <p:nvPr/>
        </p:nvSpPr>
        <p:spPr>
          <a:xfrm>
            <a:off x="1096920" y="1846080"/>
            <a:ext cx="10058400" cy="444492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 المراجعة الجاري (ملف المهم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حتوي ملف مراجعة المهمة عادة على ما يلي</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كتشاف عمليات الغش والاحتيال والتلاعبات الأخرى لا يعتبر من مسؤوليات وحدة المرجعة الداخلية. ف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ففي كل الظروف تتمثل مسئولية المراجع الداخلي الالتزام بتطبيق العناية المهنية الواجبة والتي تتطلب منه  تطبيق الإجراءات المناسبة واستخدام الحكم المهني بدون تقصير للدرجة التي يطمئن بها إلى أنه لو كان هناك حالات غش أو إحتيال أو تلاعبات أخرى سوف يتم اكتشاف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80"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طلب العناية المهنية من المراجع الداخلي الالتزام بتطبيق إجراءات المراجعة اللازمة وتأكيد صحة المعطيات بدرجة معقولة وهو لا يطالب، في ظل الظروف العادية، بعمل مرجعة مفصلة لكل التعاملات التي تجريها الوحدة. وبالتالي غير مسئول عن اكتشاف الغش والاحتيال والتلاعبات الأخرى ، لكن عند الشك في ارتكاب عمليات غش أو احتيال أو تلاعبات أخرى، يجب على المراجع  أن يخبر قائد الفريق مدير وحدة المراجعة والذي يجب عليه أن يرفع الأمر إلى بدوره المسئول الأول بالجهة. حيث 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وحدا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endParaRPr b="0" lang="en-US" sz="4800" spc="-1" strike="noStrike">
              <a:solidFill>
                <a:srgbClr val="404040"/>
              </a:solidFill>
              <a:latin typeface="Calibri Light"/>
            </a:endParaRPr>
          </a:p>
        </p:txBody>
      </p:sp>
      <p:sp>
        <p:nvSpPr>
          <p:cNvPr id="382" name=""/>
          <p:cNvSpPr txBox="1"/>
          <p:nvPr/>
        </p:nvSpPr>
        <p:spPr>
          <a:xfrm>
            <a:off x="1096920" y="1846440"/>
            <a:ext cx="10058400" cy="44719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صل مع المستويات الإدارية الع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المسئول الأول بالجهة على ترتيب لقاءات دورية مع مدير وحدة المراجعة الداخلية ،هذا وتمثل القائمة التالية المواضيع التي تطرح على المسئول الأول بالجهة أو (المستويات الإدارية العليا الأخرى) بشكل دور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وحدة المراجعة الداخلية (الاستراتيج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798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لإنشاء وحدة مراجعة داخلية تتخذ الإجراءات التالية</a:t>
            </a:r>
            <a:br>
              <a:rPr sz="4800"/>
            </a:br>
            <a:endParaRPr b="0" lang="en-US" sz="4800" spc="-1" strike="noStrike">
              <a:solidFill>
                <a:srgbClr val="404040"/>
              </a:solidFill>
              <a:latin typeface="Calibri Light"/>
            </a:endParaRPr>
          </a:p>
        </p:txBody>
      </p:sp>
      <p:sp>
        <p:nvSpPr>
          <p:cNvPr id="317" name=""/>
          <p:cNvSpPr txBox="1"/>
          <p:nvPr/>
        </p:nvSpPr>
        <p:spPr>
          <a:xfrm>
            <a:off x="1211400" y="1906200"/>
            <a:ext cx="9943920" cy="39625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 إختيار مدير 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2</a:t>
            </a:r>
            <a:r>
              <a:rPr b="0" lang="ar-SA" sz="2800" spc="-1" strike="noStrike">
                <a:solidFill>
                  <a:srgbClr val="000000"/>
                </a:solidFill>
                <a:latin typeface="Calibri"/>
                <a:ea typeface="Arial"/>
              </a:rPr>
              <a:t>- تحديد الموقع التنظيمي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3</a:t>
            </a:r>
            <a:r>
              <a:rPr b="0" lang="ar-SA" sz="2800" spc="-1" strike="noStrike">
                <a:solidFill>
                  <a:srgbClr val="000000"/>
                </a:solidFill>
                <a:latin typeface="Calibri"/>
                <a:ea typeface="Arial"/>
              </a:rPr>
              <a:t>- تخصيص مكان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4</a:t>
            </a:r>
            <a:r>
              <a:rPr b="0" lang="ar-SA" sz="2800" spc="-1" strike="noStrike">
                <a:solidFill>
                  <a:srgbClr val="000000"/>
                </a:solidFill>
                <a:latin typeface="Calibri"/>
                <a:ea typeface="Arial"/>
              </a:rPr>
              <a:t>- إختيار الأفراد المؤهلين للعمل ب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حيث المؤه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 من حيث الخبرة العم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 من حيث الصفات الشخص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نظيم العمل بوحدات المراجعة الداخلية يعتبر من المسئوليات الأساسية لمدير الوحدة ويشمل تنظيم العمل بوحدات المراجعة الداخلية ما يلي:</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عريف المراجعين الداخلين بمهام وحدة المراجعة الداخل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رتب الوظيفية داخل وحدة المراجع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أقسام أو الإدارات داخل وحدة المراجعة: </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المراجعة</a:t>
            </a:r>
            <a:r>
              <a:rPr b="0" lang="ar-SA" sz="2400" spc="-1" strike="noStrike">
                <a:solidFill>
                  <a:srgbClr val="000000"/>
                </a:solidFill>
                <a:latin typeface="Calibri"/>
                <a:ea typeface="Arial"/>
              </a:rPr>
              <a:t>: وتختص بأعمال المراجعة والفحص.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إستشارات</a:t>
            </a:r>
            <a:r>
              <a:rPr b="0" lang="ar-SA" sz="2400" spc="-1" strike="noStrike">
                <a:solidFill>
                  <a:srgbClr val="000000"/>
                </a:solidFill>
                <a:latin typeface="Calibri"/>
                <a:ea typeface="Arial"/>
              </a:rPr>
              <a:t>: وتختص بتقديم الإستشارات للإدارات الأخرى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fontScale="92000"/>
          </a:bodyPr>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مراقبة الجودة</a:t>
            </a:r>
            <a:r>
              <a:rPr b="0" lang="ar-SA" sz="2400" spc="-1" strike="noStrike">
                <a:solidFill>
                  <a:srgbClr val="000000"/>
                </a:solidFill>
                <a:latin typeface="Calibri"/>
                <a:ea typeface="Arial"/>
              </a:rPr>
              <a:t>: وتختص بمراقبة وتقويم جودة الأداء بوحدة المراجعة الداخلية. </a:t>
            </a:r>
            <a:endParaRPr b="0" lang="en-US" sz="2400" spc="-1" strike="noStrike">
              <a:solidFill>
                <a:srgbClr val="404040"/>
              </a:solidFill>
              <a:latin typeface="Calibri"/>
            </a:endParaRPr>
          </a:p>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أعمال المساندة والإتصالات</a:t>
            </a:r>
            <a:r>
              <a:rPr b="0" lang="ar-SA" sz="2400" spc="-1" strike="noStrike">
                <a:solidFill>
                  <a:srgbClr val="000000"/>
                </a:solidFill>
                <a:latin typeface="Calibri"/>
                <a:ea typeface="Arial"/>
              </a:rPr>
              <a:t>: وتختص بالأعمال المساندة كالنسخ والحفظ والإتصال بالإدارات الأخرى داخل الجهة. </a:t>
            </a:r>
            <a:endParaRPr b="0" lang="en-US" sz="2400" spc="-1" strike="noStrike">
              <a:solidFill>
                <a:srgbClr val="404040"/>
              </a:solidFill>
              <a:latin typeface="Calibri"/>
            </a:endParaRPr>
          </a:p>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عمليات الخاصة</a:t>
            </a:r>
            <a:r>
              <a:rPr b="0" lang="ar-SA" sz="24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endParaRPr b="0" lang="en-US" sz="24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cade4"/>
                </a:solidFill>
                <a:latin typeface="Calibri"/>
                <a:ea typeface="Arial"/>
              </a:rPr>
              <a:t>4</a:t>
            </a:r>
            <a:r>
              <a:rPr b="0" lang="ar-SA" sz="2800" spc="-1" strike="noStrike">
                <a:solidFill>
                  <a:srgbClr val="1cade4"/>
                </a:solidFill>
                <a:latin typeface="Calibri"/>
                <a:ea typeface="Arial"/>
              </a:rPr>
              <a:t>) </a:t>
            </a:r>
            <a:r>
              <a:rPr b="1" lang="ar-SA" sz="2800" spc="-1" strike="noStrike">
                <a:solidFill>
                  <a:srgbClr val="000000"/>
                </a:solidFill>
                <a:latin typeface="Calibri"/>
                <a:cs typeface="Arial"/>
              </a:rPr>
              <a:t>إعداد وإصدار دليل المراجعة الداخلية</a:t>
            </a: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أهم مسئوليات مدير وحدة المراجعة الداخلية بالتنسيق مع المسئول الأول بالجهة إعداد دليل للمراجعة الداخلية. وقد يلجا مدير الوحدة إلى جهة خارجية تتولى إعداد هذا الدليل. والذي يجب أن يبين الإجراءات والسياسات الواجب أتباعها أثناء ممارسة وحدة المراجعة الداخلية لأعمالها.</a:t>
            </a:r>
            <a:endParaRPr b="0" lang="en-US" sz="24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هيكل العام لدليل المراجعة</a:t>
            </a:r>
            <a:endParaRPr b="0" lang="en-US" sz="4800" spc="-1" strike="noStrike">
              <a:solidFill>
                <a:srgbClr val="404040"/>
              </a:solidFill>
              <a:latin typeface="Calibri Light"/>
            </a:endParaRPr>
          </a:p>
        </p:txBody>
      </p:sp>
      <p:sp>
        <p:nvSpPr>
          <p:cNvPr id="323" name=""/>
          <p:cNvSpPr txBox="1"/>
          <p:nvPr/>
        </p:nvSpPr>
        <p:spPr>
          <a:xfrm>
            <a:off x="1096920" y="186048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دليل على الفقرات التالية (على الأق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أولى: معلومات عـ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فقرة الثانية: معلومات عن الوحدة الحكوم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ثالثة: معلومات عن 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رابعة: إدارة وحد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خامسة: تخطيط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دسة: تنفيذ مشاريع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بعة: إعداد ورفع التقارير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معلومات عام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بارة عن مقدمة موجزة تصف دليل المراجعة الداخلية وعلاقته مع المستندات الأخرى التي تقدم المعلومات الإضافية أو ذات العلاقة، كما تتضمن هذه الفقرة الهدف والغاية من صياغة الدليل بالإضافة إلى أي معلومات يرغب رئيس وحدة المراجعة والمسئول الأول وضعها مثل إجراءات تداول الدليل وإشارة إلى ملكيته لوحدة المراجعة.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أهداف دليل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6000"/>
          </a:bodyPr>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ea typeface="Arabic Transparent"/>
              </a:rPr>
              <a:t> </a:t>
            </a:r>
            <a:endParaRPr b="0" lang="en-US" sz="20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سعودية إن وجدت.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وحد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وحدة المراجعة.</a:t>
            </a:r>
            <a:endParaRPr b="0" lang="en-US" sz="2400" spc="-1" strike="noStrike">
              <a:solidFill>
                <a:srgbClr val="404040"/>
              </a:solidFill>
              <a:latin typeface="Calibri"/>
            </a:endParaRPr>
          </a:p>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ea typeface="Arabic Transparent"/>
              </a:rPr>
              <a:t> </a:t>
            </a:r>
            <a:endParaRPr b="0" lang="en-US" sz="2400" spc="-1" strike="noStrike">
              <a:solidFill>
                <a:srgbClr val="404040"/>
              </a:solidFill>
              <a:latin typeface="Calibri"/>
            </a:endParaRPr>
          </a:p>
          <a:p>
            <a:pPr marL="85320" indent="-85320">
              <a:lnSpc>
                <a:spcPct val="90000"/>
              </a:lnSpc>
              <a:spcBef>
                <a:spcPts val="1199"/>
              </a:spcBef>
              <a:spcAft>
                <a:spcPts val="201"/>
              </a:spcAft>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hnae</cp:lastModifiedBy>
  <dcterms:modified xsi:type="dcterms:W3CDTF">2014-02-03T17:34:20Z</dcterms:modified>
  <cp:revision>28</cp:revision>
  <dc:subject/>
  <dc:title>إجراءات إنشاء وتنظيم وحدات المراجعة الداخلية وإداراتها</dc:title>
</cp:coreProperties>
</file>