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4D13D-C751-4D7D-A1A7-B48D17967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685800" y="1143000"/>
            <a:ext cx="5486400" cy="3086280"/>
          </a:xfrm>
          <a:prstGeom prst="rect">
            <a:avLst/>
          </a:prstGeom>
          <a:ln w="0">
            <a:noFill/>
          </a:ln>
        </p:spPr>
      </p:sp>
      <p:sp>
        <p:nvSpPr>
          <p:cNvPr id="3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إختيار مدير وحدة المراجعة الداخلية: يراعى أن يكون مدير وحدة المراجعة الداخلية من الحاصلين على درجة البكالوريوس في المحاسبة ولديه خبرة في مجال المراجعة لا تقل عن سبع سنوات وتكون درجته المالية لا تقل عن الحادية عشر</a:t>
            </a:r>
            <a:r>
              <a:rPr b="0" lang="ar-SA" sz="1200" spc="-1" strike="noStrike">
                <a:solidFill>
                  <a:srgbClr val="000000"/>
                </a:solidFill>
                <a:latin typeface="Calibri"/>
                <a:ea typeface="Arial"/>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F4020-2E62-4F94-A1F9-96F742623D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158EB-7212-4581-BA48-A32259D66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CA95D-2792-4746-90C4-BA9734D68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B32CC-7F54-4B51-BA26-1C2D04BB9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1FD3D-73F3-4F3B-A029-BB5DCA3D7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64406-B983-41C2-A202-D4566FCC08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53C3B-F440-4A33-805F-D77ABC574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07F47-2843-4CC1-AAAF-09CFA391F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B8EAA-2547-4C72-AE54-98268CA8A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46351-69A6-4577-86E5-95BC6EF86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D873F-F55A-4C2D-BF47-ACF25334D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E712E-E35D-42D3-9E35-1F3F8E4F6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ADD0B-864A-4CED-BD7E-E796A545E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E5E47-9C94-4988-A5E4-CDF66F384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DB5F6-D812-424A-8FFE-5D59A10E6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71D3C-F31B-4200-B909-8093150D9B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B0348F-A124-44A1-930C-29D734F34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D6A47F-CF00-4423-985C-D727EEF46B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276527-3F2A-47CC-A635-C40423C908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6B2F76-BB79-4163-A404-0D6E3E1740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F17451-E31B-4AC8-80AE-8485921321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3EF8B4-3B8C-43B8-A391-A8FCD938AB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03BC20-DC80-4193-A1DA-5E1083A269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5AF0F-8BC2-4915-93F0-ABD6E87C3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9C0C8-B51E-4DAE-9037-E0E950A1BB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8558F-53B7-466B-B904-91AA8FC86E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947377-BD90-4714-B1E6-DB4D69E40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A0B415-0A9A-4228-8614-52AE8E5F4A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460028-F2B1-44E5-9C05-11676C5501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A646CF-17EB-4AC9-AABA-2C67443837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E214CD-9C4E-4AD0-8385-F2C393FD57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BDB123-CA54-4A15-97DF-15503AFE48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87947B-8847-4B3C-8521-9639568006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13EAFB-3DAF-4DA6-9223-D75D447F65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A86C3-8891-4AF6-B02C-1694FC9BD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B0262B-610A-416C-BE04-D2EEF6E1E1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92000F-DCE2-4F8E-A7BD-6174E6B68B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834AFA-7DE8-4498-A1FE-38A1CC7B6E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A114D-3437-4D6D-B07D-0CAD81111A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BD2B38-4FE4-453A-9BA7-F25326F449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2A6402-632C-4716-A6F2-7B647F546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4CBACD-51D4-4F8D-AEB7-3823F22E30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442775-2F0B-47B1-8B7C-2F76F644F5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E9BAB7-FA4C-4B5F-8A3E-E321AC3A61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48D35D-B6B7-4169-B3E0-B2E1A20AAB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F3241-D8DD-4BBD-8638-C8F00F008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458EA9-3F48-455A-A2AB-743B08E993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D65F3F-EE8E-4EC7-BA7A-EC98219931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3573B9-A8E0-44CF-9B61-81D6919A1D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BAEBD9-DE09-4BBE-AE92-10167409A2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533DAC-3444-4F3E-985D-6CF92DA003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971C56-0AE3-48D7-93DA-0E371F533C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4982F6-754E-46F2-8B46-46CD3D064D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D03196-4E56-449B-B461-193F479361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4D2CFF-8738-4AF0-92CD-99D5CD3132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E42209-0B82-4E02-A35E-1304000534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DC457-1127-45BA-A97A-ACBE56868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F0E068-295A-4E15-B23F-D82990CB77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B1D25C-19D7-429E-B6C4-43FFFE53CA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02A8B7-3AE2-41A0-9258-B87587CE16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288B63-4566-43B3-85ED-96F1E7C0D9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601900-237E-43A9-93B2-6B9419C602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E9D0E6-B88E-4B22-8BDD-75ABE0F449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54B48B-F4FF-4F35-A28B-9FA7F2F515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341FC8-713D-4707-A819-B8DA082549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122F67-7BCF-4C7A-8D71-5127E6E47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D26A7D-5071-4DEA-826A-CF5B254510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4618E-F412-4734-89E3-FFF81B3F1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CB2ABD-4C8B-4F3B-ACB2-26F51DD386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5F659E-CDB5-489E-BFAC-B3959C8AEA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BC4C59-E51C-4C50-81D6-B02DF84B27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1118C4-DB1A-4110-8079-F99E6C3A1E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81630A-D5F4-4EF1-9088-A8967BA2E5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7562E7-E317-43B3-A74B-563E750628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35FC76-1A03-4229-AF1C-82739DE381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DCEB0E-B475-4E3E-BE51-E69D877C48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53276C-8E93-4CED-A9BB-C4FB88B1D9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3D08DF-4854-4731-A6A2-9609577479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69F91-E90C-4204-A751-DED4C3DE7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03AC17-6215-49A7-B259-EF215CB7F4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7B4509-011F-4A19-ADB6-709BB3F4D9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3FDFF6-B956-49EC-9439-355E9F60C2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F1F911-9369-4E69-9BD4-D2447CC0B4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AD4E5A-760A-4D57-9203-E153EDBA32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AD7A0-5C9D-4730-B112-90BD67044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6F9A23-4BED-4B79-BE78-7DD4F28429D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0" y="6400800"/>
            <a:ext cx="1219212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9212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A4D01-4DD9-4C86-92A7-BFDAF1CDFAB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CC2675-E715-4B27-91B5-E0FF55D94FE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56F2EC-0D04-4F45-94E3-7BE4AAEDA5E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34406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007B3-5417-4C45-AE3B-74629BA705E6}" type="slidenum">
              <a:rPr b="0" lang="en-US"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D042AF-DE50-47FF-A2D7-7A27A2D8D10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062CB-022A-45EE-A338-108A57E49A0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96920" y="758880"/>
            <a:ext cx="10058400" cy="35654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262626"/>
                </a:solidFill>
                <a:latin typeface="Times New Roman"/>
                <a:cs typeface="Arabic Transparent"/>
              </a:rPr>
              <a:t>إجراءات إنشاء وتنظيم وحدات المراجعة الداخلية وإداراتها</a:t>
            </a:r>
            <a:endParaRPr b="0" lang="en-US" sz="54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2683c6"/>
                </a:solidFill>
                <a:latin typeface="Calibri Light"/>
                <a:cs typeface="Times New Roman"/>
              </a:rPr>
              <a:t>توزيع دليل المراجعة الداخلية</a:t>
            </a:r>
            <a:endParaRPr b="0" lang="en-US" sz="4000" spc="-1" strike="noStrike">
              <a:solidFill>
                <a:srgbClr val="404040"/>
              </a:solidFill>
              <a:latin typeface="Calibri Light"/>
            </a:endParaRPr>
          </a:p>
        </p:txBody>
      </p:sp>
      <p:sp>
        <p:nvSpPr>
          <p:cNvPr id="32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تم تطوير وإصدار الدليل ليتم استخدامه فقط من قبل وحدة المراجعة الداخلية بالجهة. كما يتم توزيع الدليل على موظفي المراجعة الداخلية للاستخدام الداخلي فقط. لذا فإن إعطاء الدليل لأشخاص من خارج وحدة المراجعة الداخلية يعتبر عملاً ممنوعاً ما لم يتم إصدار موافقة خطية من قبل المسؤول الأول بالجه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إحداث تعديلات على دليل المراجعة الداخلية</a:t>
            </a:r>
            <a:endParaRPr b="0" lang="en-US" sz="4800" spc="-1" strike="noStrike">
              <a:solidFill>
                <a:srgbClr val="404040"/>
              </a:solidFill>
              <a:latin typeface="Calibri Light"/>
            </a:endParaRPr>
          </a:p>
        </p:txBody>
      </p:sp>
      <p:sp>
        <p:nvSpPr>
          <p:cNvPr id="331" name=""/>
          <p:cNvSpPr txBox="1"/>
          <p:nvPr/>
        </p:nvSpPr>
        <p:spPr>
          <a:xfrm>
            <a:off x="1096920" y="1846440"/>
            <a:ext cx="10058400" cy="4022640"/>
          </a:xfrm>
          <a:prstGeom prst="rect">
            <a:avLst/>
          </a:prstGeom>
          <a:noFill/>
          <a:ln w="0">
            <a:noFill/>
          </a:ln>
        </p:spPr>
        <p:txBody>
          <a:bodyPr lIns="0" rIns="0" anchor="t">
            <a:normAutofit fontScale="92000"/>
          </a:bodyPr>
          <a:p>
            <a:pPr marL="82800" indent="-828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لضمان مواكبة وحدة المراجعة الداخلية في الجهة للتطورات التي قد تحدث في المستقبل نتيجة معايير جديدة أو تعليمات جديدة تصدر عن معهد المراجعين الداخليين أو الهيئة السعودية للمحاسبين القانونيين، فإنه من فترة لأخرى يجب إعادة النظر في الدليل وإدخال إي تعديلات عليه من فترة لأخرى بحيث تضمن فعالية وكفاءة أعمال المراجعة الداخلية. من الممكن أن تأخذ هذه التعديلات شكل تغييرات في فقرات الدليل أو إضافة فقرات أو تعليقات أو اقتراحات جديدة من قبل فرق ومدراء المراجعة الداخلية أو المسئول الأول بالحهة نفسه. علماً بأنه يجب أخذ موافقة المسؤول الأول بالجهة على هذه التعديلات أو الإضافات قبل إصدارها. بالإضافة إلى ما تقدم، فإنه يجب إجراء مراجعة شاملة لمحتويات الدليل كل فترة لضمان حداثة المعلومات داخل الدليل.</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ثانية: الجهة الحكومية التي تعمل بها وحدة المراجعة</a:t>
            </a:r>
            <a:endParaRPr b="0" lang="en-US" sz="4800" spc="-1" strike="noStrike">
              <a:solidFill>
                <a:srgbClr val="404040"/>
              </a:solidFill>
              <a:latin typeface="Calibri Light"/>
            </a:endParaRPr>
          </a:p>
        </p:txBody>
      </p:sp>
      <p:sp>
        <p:nvSpPr>
          <p:cNvPr id="333"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قدمة:</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رض فيها معلومات عن الجهة التي تعمل بها وحدة المراجعة من حيث تاريخ إنشائها والتطورات التي حدثت فيها.</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هداف ورسالة الجهة:</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رض في هذا الجزء أهداف ورسالة الجهة الحكومية التي تنتمي إليها وحدة المراجع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ثالثة: معلومات عن وحدة المراجعة الداخلية</a:t>
            </a:r>
            <a:endParaRPr b="0" lang="en-US" sz="4800" spc="-1" strike="noStrike">
              <a:solidFill>
                <a:srgbClr val="404040"/>
              </a:solidFill>
              <a:latin typeface="Calibri Light"/>
            </a:endParaRPr>
          </a:p>
        </p:txBody>
      </p:sp>
      <p:sp>
        <p:nvSpPr>
          <p:cNvPr id="335" name=""/>
          <p:cNvSpPr txBox="1"/>
          <p:nvPr/>
        </p:nvSpPr>
        <p:spPr>
          <a:xfrm>
            <a:off x="1096920" y="1846440"/>
            <a:ext cx="10058400" cy="4022640"/>
          </a:xfrm>
          <a:prstGeom prst="rect">
            <a:avLst/>
          </a:prstGeom>
          <a:noFill/>
          <a:ln w="0">
            <a:noFill/>
          </a:ln>
        </p:spPr>
        <p:txBody>
          <a:bodyPr lIns="0" rIns="0" anchor="t">
            <a:normAutofit fontScale="99000"/>
          </a:bodyPr>
          <a:p>
            <a:pPr marL="89280" indent="-8928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فهوم المراجعة الداخلية</a:t>
            </a:r>
            <a:endParaRPr b="0" lang="en-US" sz="2400" spc="-1" strike="noStrike">
              <a:solidFill>
                <a:srgbClr val="404040"/>
              </a:solidFill>
              <a:latin typeface="Calibri"/>
            </a:endParaRPr>
          </a:p>
          <a:p>
            <a:pPr marL="89280" indent="-8928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وضع التنظيمي لوحدة المراجعة الداخلية</a:t>
            </a:r>
            <a:endParaRPr b="0" lang="en-US" sz="2400" spc="-1" strike="noStrike">
              <a:solidFill>
                <a:srgbClr val="404040"/>
              </a:solidFill>
              <a:latin typeface="Calibri"/>
            </a:endParaRPr>
          </a:p>
          <a:p>
            <a:pPr marL="89280" indent="-8928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رؤيا (الرسالة)الخاصة بوحدة المراجعة الداخلية</a:t>
            </a:r>
            <a:endParaRPr b="0" lang="en-US" sz="2400" spc="-1" strike="noStrike">
              <a:solidFill>
                <a:srgbClr val="404040"/>
              </a:solidFill>
              <a:latin typeface="Calibri"/>
            </a:endParaRPr>
          </a:p>
          <a:p>
            <a:pPr marL="89280" indent="-8928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صياغة رسالة (رؤيا) واضحة لوحدة المراجعة الداخلية يكون جميع العاملين بالوحدة على علم تام بها</a:t>
            </a:r>
            <a:endParaRPr b="0" lang="en-US" sz="2400" spc="-1" strike="noStrike">
              <a:solidFill>
                <a:srgbClr val="404040"/>
              </a:solidFill>
              <a:latin typeface="Calibri"/>
            </a:endParaRPr>
          </a:p>
          <a:p>
            <a:pPr marL="89280" indent="-8928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ما يجب صياغة هدف عام للوحدة يكون جميع العاملين بالوحدة على علم تام وقناعة تامة به</a:t>
            </a:r>
            <a:endParaRPr b="0" lang="en-US" sz="2400" spc="-1" strike="noStrike">
              <a:solidFill>
                <a:srgbClr val="404040"/>
              </a:solidFill>
              <a:latin typeface="Calibri"/>
            </a:endParaRPr>
          </a:p>
          <a:p>
            <a:pPr marL="89280" indent="-8928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سرية</a:t>
            </a:r>
            <a:endParaRPr b="0" lang="en-US" sz="2400" spc="-1" strike="noStrike">
              <a:solidFill>
                <a:srgbClr val="404040"/>
              </a:solidFill>
              <a:latin typeface="Calibri"/>
            </a:endParaRPr>
          </a:p>
          <a:p>
            <a:pPr marL="89280" indent="-8928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9280" indent="-892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مثال على الرسالة والهدف</a:t>
            </a:r>
            <a:r>
              <a:rPr b="0" lang="ar-SA" sz="4800" spc="-1" strike="noStrike">
                <a:solidFill>
                  <a:srgbClr val="2683c6"/>
                </a:solidFill>
                <a:latin typeface="Calibri Light"/>
                <a:ea typeface="Times New Roman"/>
              </a:rPr>
              <a:t> </a:t>
            </a:r>
            <a:endParaRPr b="0" lang="en-US" sz="4800" spc="-1" strike="noStrike">
              <a:solidFill>
                <a:srgbClr val="404040"/>
              </a:solidFill>
              <a:latin typeface="Calibri Light"/>
            </a:endParaRPr>
          </a:p>
        </p:txBody>
      </p:sp>
      <p:sp>
        <p:nvSpPr>
          <p:cNvPr id="337" name=""/>
          <p:cNvSpPr txBox="1"/>
          <p:nvPr/>
        </p:nvSpPr>
        <p:spPr>
          <a:xfrm>
            <a:off x="1096920" y="1846440"/>
            <a:ext cx="10058400" cy="4022640"/>
          </a:xfrm>
          <a:prstGeom prst="rect">
            <a:avLst/>
          </a:prstGeom>
          <a:noFill/>
          <a:ln w="0">
            <a:noFill/>
          </a:ln>
        </p:spPr>
        <p:txBody>
          <a:bodyPr lIns="0" rIns="0" anchor="t">
            <a:normAutofit fontScale="89000"/>
          </a:bodyPr>
          <a:p>
            <a:pPr marL="80280" indent="-8028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نموذج عملي لرسالة وحدة المراجعة الداخلية بإحدى المستشفيات الحكومية</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80280" indent="-8028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a:t>
            </a:r>
            <a:r>
              <a:rPr b="0" lang="ar-SA" sz="2400" spc="-1" strike="noStrike">
                <a:solidFill>
                  <a:srgbClr val="000000"/>
                </a:solidFill>
                <a:latin typeface="Calibri"/>
                <a:cs typeface="Arial"/>
              </a:rPr>
              <a:t>تزويد الإدارة العليا بتقييمات شاملة وذات قيمة لكل التسهيلات الصحية بـ.....أسم الجهة.. والمشاريع والنشاطات لضمان جودة عالية ومتميزة في الرعاية الصحية والتي تقدم إلى كافة المرضى</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80280" indent="-8028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ذا يمكن أن يتحقق بتشجيع فعالية الضوابط الداخلية من خلال فعالية التدقيق والوصول للهدف ومن خلال الإتباع والامتثال لقوانين وأنظمة البرنامج والضوابط الداخلية والاستخدام الإقتصادي والكفء للموارد البشرية</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80280" indent="-8028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a:t>
            </a:r>
            <a:r>
              <a:rPr b="1" lang="ar-SA" sz="2400" spc="-1" strike="noStrike">
                <a:solidFill>
                  <a:srgbClr val="000000"/>
                </a:solidFill>
                <a:latin typeface="Calibri"/>
                <a:cs typeface="Arial"/>
              </a:rPr>
              <a:t>لهدف المصاغ للوحدة المراجعة التي سبق عرض رؤيتها</a:t>
            </a:r>
            <a:r>
              <a:rPr b="1" lang="ar-SA" sz="2400" spc="-1" strike="noStrike">
                <a:solidFill>
                  <a:srgbClr val="000000"/>
                </a:solidFill>
                <a:latin typeface="Calibri"/>
                <a:ea typeface="Arial"/>
              </a:rPr>
              <a:t>:</a:t>
            </a:r>
            <a:endParaRPr b="0" lang="en-US" sz="2400" spc="-1" strike="noStrike">
              <a:solidFill>
                <a:srgbClr val="404040"/>
              </a:solidFill>
              <a:latin typeface="Calibri"/>
            </a:endParaRPr>
          </a:p>
          <a:p>
            <a:pPr marL="80280" indent="-8028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cs typeface="Arial"/>
              </a:rPr>
              <a:t>تعزيز القدرة على صنع القرار بتعريف المشاكل والسياسات لحماية موارد البرنامج من الخسارة أو سوء الاستخدام و/أو أي وجه من أوجه التقصير. وتعزيز الدقة والمصداقية في تدوين جميع التقارير المالية والتشغيلية لجميع بيانات التشغيل</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80280" indent="-802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 إدارة وحدة المراجعة الداخلية</a:t>
            </a:r>
            <a:endParaRPr b="0" lang="en-US" sz="4800" spc="-1" strike="noStrike">
              <a:solidFill>
                <a:srgbClr val="404040"/>
              </a:solidFill>
              <a:latin typeface="Calibri Light"/>
            </a:endParaRPr>
          </a:p>
        </p:txBody>
      </p:sp>
      <p:sp>
        <p:nvSpPr>
          <p:cNvPr id="339"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ضمن الدليل فقرة مستقلة عن الإجراءات التي يجب اتباعها لإدارة وحدة المراجعة الداخلية بشكل يضمن الحفاظ على مستوى جودة مقبول ويضمن الإلتزام بباقي فقرات الدليل. ونعرض فيما يلي لأهم ما يجب أن يتضمنه دليل المراجعة في هذا الخصوص وهو: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دريب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قويم أداء العاملين بوحدة المراجعة الداخلي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رقابة الجود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حقق من رضاء العميل</a:t>
            </a:r>
            <a:r>
              <a:rPr b="1" lang="ar-SA" sz="2400" spc="-1" strike="noStrike">
                <a:solidFill>
                  <a:srgbClr val="000000"/>
                </a:solidFill>
                <a:latin typeface="Calibri"/>
                <a:ea typeface="Arial"/>
              </a:rPr>
              <a:t>	</a:t>
            </a:r>
            <a:r>
              <a:rPr b="1" lang="ar-SA" sz="2400" spc="-1" strike="noStrike">
                <a:solidFill>
                  <a:srgbClr val="000000"/>
                </a:solidFill>
                <a:latin typeface="Calibri"/>
                <a:ea typeface="Arial"/>
              </a:rPr>
              <a:t>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وثيق حفظ السجلات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 </a:t>
            </a:r>
            <a:r>
              <a:rPr b="0" lang="ar-SA" sz="4800" spc="-1" strike="noStrike">
                <a:solidFill>
                  <a:srgbClr val="2683c6"/>
                </a:solidFill>
                <a:latin typeface="Times New Roman"/>
                <a:cs typeface="Arabic Transparent"/>
              </a:rPr>
              <a:t>إدارة وحدة المراجعة الداخلية </a:t>
            </a:r>
            <a:br>
              <a:rPr sz="4800"/>
            </a:br>
            <a:r>
              <a:rPr b="0" lang="ar-SA" sz="4800" spc="-1" strike="noStrike">
                <a:solidFill>
                  <a:srgbClr val="2683c6"/>
                </a:solidFill>
                <a:latin typeface="Calibri Light"/>
                <a:cs typeface="Times New Roman"/>
              </a:rPr>
              <a:t>التدريب</a:t>
            </a:r>
            <a:endParaRPr b="0" lang="en-US" sz="4800" spc="-1" strike="noStrike">
              <a:solidFill>
                <a:srgbClr val="404040"/>
              </a:solidFill>
              <a:latin typeface="Calibri Light"/>
            </a:endParaRPr>
          </a:p>
        </p:txBody>
      </p:sp>
      <p:sp>
        <p:nvSpPr>
          <p:cNvPr id="341" name=""/>
          <p:cNvSpPr txBox="1"/>
          <p:nvPr/>
        </p:nvSpPr>
        <p:spPr>
          <a:xfrm>
            <a:off x="1096920" y="1846440"/>
            <a:ext cx="10058400" cy="4022640"/>
          </a:xfrm>
          <a:prstGeom prst="rect">
            <a:avLst/>
          </a:prstGeom>
          <a:noFill/>
          <a:ln w="0">
            <a:noFill/>
          </a:ln>
        </p:spPr>
        <p:txBody>
          <a:bodyPr lIns="0" rIns="0" anchor="t">
            <a:normAutofit/>
          </a:bodyPr>
          <a:p>
            <a:pPr marL="90360" indent="-9036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دريب على رأس العمل</a:t>
            </a:r>
            <a:r>
              <a:rPr b="1" lang="ar-SA" sz="2400" spc="-1" strike="noStrike">
                <a:solidFill>
                  <a:srgbClr val="000000"/>
                </a:solidFill>
                <a:latin typeface="Calibri"/>
                <a:ea typeface="Arial"/>
              </a:rPr>
              <a:t>: </a:t>
            </a:r>
            <a:endParaRPr b="0" lang="en-US" sz="2400" spc="-1" strike="noStrike">
              <a:solidFill>
                <a:srgbClr val="404040"/>
              </a:solidFill>
              <a:latin typeface="Calibri"/>
            </a:endParaRPr>
          </a:p>
          <a:p>
            <a:pPr marL="90360" indent="-9036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cs typeface="Arial"/>
              </a:rPr>
              <a:t>ويعني التدريب على رأس العمل الإستفادة من الخبرات التي يكتسبها المراجع الداخلي بنفسه أثناء تنفيذ عمله</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90360" indent="-9036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لتدريب المخطط</a:t>
            </a: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marL="90360" indent="-90360" algn="r">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cs typeface="Arial"/>
              </a:rPr>
              <a:t>يجب على الجهة ووحدة المراجعة الداخلية بها أن يلتزمان بتقديم دورات تدريب منتظمة للعاملين بوحدة المراجعة الداخلية</a:t>
            </a:r>
            <a:r>
              <a:rPr b="0" lang="ar-SA" sz="2400" spc="-1" strike="noStrike">
                <a:solidFill>
                  <a:srgbClr val="000000"/>
                </a:solidFill>
                <a:latin typeface="Calibri"/>
                <a:ea typeface="Arial"/>
              </a:rPr>
              <a:t>.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 إدارة وحدة المراجعة الداخلية </a:t>
            </a:r>
            <a:br>
              <a:rPr sz="4800"/>
            </a:br>
            <a:r>
              <a:rPr b="0" lang="ar-SA" sz="4800" spc="-1" strike="noStrike">
                <a:solidFill>
                  <a:srgbClr val="2683c6"/>
                </a:solidFill>
                <a:latin typeface="Calibri Light"/>
                <a:cs typeface="Times New Roman"/>
              </a:rPr>
              <a:t>التدريب</a:t>
            </a:r>
            <a:endParaRPr b="0" lang="en-US" sz="4800" spc="-1" strike="noStrike">
              <a:solidFill>
                <a:srgbClr val="404040"/>
              </a:solidFill>
              <a:latin typeface="Calibri Light"/>
            </a:endParaRPr>
          </a:p>
        </p:txBody>
      </p:sp>
      <p:sp>
        <p:nvSpPr>
          <p:cNvPr id="343"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عليم المستمر والشهادات المهنية: </a:t>
            </a:r>
            <a:endParaRPr b="0" lang="en-US" sz="2400" spc="-1" strike="noStrike">
              <a:solidFill>
                <a:srgbClr val="404040"/>
              </a:solidFill>
              <a:latin typeface="Calibri"/>
            </a:endParaRPr>
          </a:p>
        </p:txBody>
      </p:sp>
      <p:graphicFrame>
        <p:nvGraphicFramePr>
          <p:cNvPr id="344" name=""/>
          <p:cNvGraphicFramePr/>
          <p:nvPr/>
        </p:nvGraphicFramePr>
        <p:xfrm>
          <a:off x="1096920" y="2224080"/>
          <a:ext cx="10058400" cy="4108320"/>
        </p:xfrm>
        <a:graphic>
          <a:graphicData uri="http://schemas.openxmlformats.org/drawingml/2006/table">
            <a:tbl>
              <a:tblPr/>
              <a:tblGrid>
                <a:gridCol w="5783400"/>
                <a:gridCol w="4275000"/>
              </a:tblGrid>
              <a:tr h="5126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Internal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راجع داخ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5144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Financial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راجع ما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r>
              <a:tr h="5126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Fraud Examine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راجع اختلاس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5144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Financial Manage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دير ما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7700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Information System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راجع أنظمة المعلومات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5144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Public Accountant</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حاسب قانون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76968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Management Accountant</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حاسب إداري مرخص .</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 </a:t>
            </a:r>
            <a:br>
              <a:rPr sz="4800"/>
            </a:br>
            <a:r>
              <a:rPr b="0" lang="ar-SA" sz="4800" spc="-1" strike="noStrike">
                <a:solidFill>
                  <a:srgbClr val="2683c6"/>
                </a:solidFill>
                <a:latin typeface="Calibri Light"/>
                <a:cs typeface="Times New Roman"/>
              </a:rPr>
              <a:t>تقويم أداء العاملين بوحدة المراجعة الداخلية</a:t>
            </a:r>
            <a:endParaRPr b="0" lang="en-US" sz="4800" spc="-1" strike="noStrike">
              <a:solidFill>
                <a:srgbClr val="404040"/>
              </a:solidFill>
              <a:latin typeface="Calibri Light"/>
            </a:endParaRPr>
          </a:p>
        </p:txBody>
      </p:sp>
      <p:sp>
        <p:nvSpPr>
          <p:cNvPr id="346"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تتبنى وحدة المراجعة الداخلية نظام جيد لتقويم أداء العاملين بها وبصفة خاصة المراجعين الداخليين.ويستخدم تقويم أداء المراجعين الداخليين كأداة لتعزيز عمليات الإشراف ومراقبة تطور الأداء. بالإضافة إلى ذلك، فإن تقويم الأداء يستخدم لمساعدة المراجعين في تحديد نقاط ضعفهم والعمل على تحسينها قبل موعد عمليات التقويم اللاحقة. ويجب الاحتفاظ بنماذج تقويم المراجعين الداخليين داخل ملفاتهم الشخصية وليس في ملف مراجعة المهم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بصفة عامة يمكن استخدام نوعين مختلفين لعمليات تقويم أداء المراجعين الداخليين ، وهم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 الخاص بكل مه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 السنوي.</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 </a:t>
            </a:r>
            <a:br>
              <a:rPr sz="4800"/>
            </a:br>
            <a:r>
              <a:rPr b="0" lang="ar-SA" sz="4800" spc="-1" strike="noStrike">
                <a:solidFill>
                  <a:srgbClr val="2683c6"/>
                </a:solidFill>
                <a:latin typeface="Calibri Light"/>
                <a:cs typeface="Times New Roman"/>
              </a:rPr>
              <a:t>تقويم أداء العاملين بوحدة المراجعة الداخلية</a:t>
            </a:r>
            <a:endParaRPr b="0" lang="en-US" sz="4800" spc="-1" strike="noStrike">
              <a:solidFill>
                <a:srgbClr val="404040"/>
              </a:solidFill>
              <a:latin typeface="Calibri Light"/>
            </a:endParaRPr>
          </a:p>
        </p:txBody>
      </p:sp>
      <p:sp>
        <p:nvSpPr>
          <p:cNvPr id="348" name=""/>
          <p:cNvSpPr txBox="1"/>
          <p:nvPr/>
        </p:nvSpPr>
        <p:spPr>
          <a:xfrm>
            <a:off x="1096920" y="1860120"/>
            <a:ext cx="10058400" cy="4389480"/>
          </a:xfrm>
          <a:prstGeom prst="rect">
            <a:avLst/>
          </a:prstGeom>
          <a:noFill/>
          <a:ln w="0">
            <a:noFill/>
          </a:ln>
        </p:spPr>
        <p:txBody>
          <a:bodyPr lIns="0" rIns="0" anchor="t">
            <a:normAutofit fontScale="94000"/>
          </a:bodyPr>
          <a:p>
            <a:pPr marL="84600" indent="-846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 الخاص بكل مهمة:</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ي هذا النوع من التقويم يتم تقويم أداء المراجعين في نهاية كل مهمة يتم تنفيذها ، ويقوم مدير وحدة المراجعة بإعداد هذا التقويم لكل أعضاء فرق مهمة المراجعة الداخلية.</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مكن تصنيف الملاحظات بغرض تقويم أداء المراجعين الى:</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احظات الاستيفائية: </a:t>
            </a:r>
            <a:r>
              <a:rPr b="0" lang="ar-SA" sz="2400" spc="-1" strike="noStrike">
                <a:solidFill>
                  <a:srgbClr val="000000"/>
                </a:solidFill>
                <a:latin typeface="Calibri"/>
                <a:cs typeface="Arial"/>
              </a:rPr>
              <a:t>وهي الملاحظات التي تتضمن طلب استيفاء مستندات صرف مبلغ معين أو الاستفسار عن مبررات صرفة. </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احظة النظامية: </a:t>
            </a:r>
            <a:r>
              <a:rPr b="0" lang="ar-SA" sz="2400" spc="-1" strike="noStrike">
                <a:solidFill>
                  <a:srgbClr val="000000"/>
                </a:solidFill>
                <a:latin typeface="Calibri"/>
                <a:cs typeface="Arial"/>
              </a:rPr>
              <a:t>وهي الملاحظات التي تتضمن عدم الالتزام بالأنظمة أو القرارات والتعاميم المعمول بها في الجهة ولا يترتب عليها ضياع مبالغ نقدية على الجهة. </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احظات المالية: </a:t>
            </a:r>
            <a:r>
              <a:rPr b="0" lang="ar-SA" sz="2400" spc="-1" strike="noStrike">
                <a:solidFill>
                  <a:srgbClr val="000000"/>
                </a:solidFill>
                <a:latin typeface="Calibri"/>
                <a:cs typeface="Arial"/>
              </a:rPr>
              <a:t>وهي الملاحظات التي تتضمن تحصيل مبلغ معين أو توفير مبلغ معين أو حمايته من الضياع.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70c0"/>
                </a:solidFill>
                <a:latin typeface="Calibri Light"/>
                <a:cs typeface="Times New Roman"/>
              </a:rPr>
              <a:t>الاهداف</a:t>
            </a:r>
            <a:endParaRPr b="0" lang="en-US" sz="4800" spc="-1" strike="noStrike">
              <a:solidFill>
                <a:srgbClr val="404040"/>
              </a:solidFill>
              <a:latin typeface="Calibri Light"/>
            </a:endParaRPr>
          </a:p>
        </p:txBody>
      </p:sp>
      <p:sp>
        <p:nvSpPr>
          <p:cNvPr id="313" name=""/>
          <p:cNvSpPr txBox="1"/>
          <p:nvPr/>
        </p:nvSpPr>
        <p:spPr>
          <a:xfrm>
            <a:off x="1096920" y="1846440"/>
            <a:ext cx="10058400" cy="4022640"/>
          </a:xfrm>
          <a:prstGeom prst="rect">
            <a:avLst/>
          </a:prstGeom>
          <a:noFill/>
          <a:ln w="0">
            <a:noFill/>
          </a:ln>
        </p:spPr>
        <p:txBody>
          <a:bodyPr lIns="0" rIns="0" anchor="t">
            <a:normAutofit fontScale="99000"/>
          </a:bodyPr>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تطبيقا لأحكام اللائحة الموحدة لوحدات المراجعة الداخلية بالوحدات الحكومية والمؤسسات العامة تلتزم كل جهة أو مؤسسة عامة بإنشاء وحدة للمراجعة الداخلية. وتقع مسئولية إنشاء وحدة المراجعة الداخلية على عاتق المسئول الأول بالجهة. وسوف </a:t>
            </a:r>
            <a:r>
              <a:rPr b="0" lang="ar-EG" sz="3600" spc="-1" strike="noStrike">
                <a:solidFill>
                  <a:srgbClr val="000000"/>
                </a:solidFill>
                <a:latin typeface="Calibri"/>
                <a:cs typeface="Arial"/>
              </a:rPr>
              <a:t>نتناول في هذا اليوم عرض للإجراءات التنفيذية لإنشاء وحدات المراجعة الداخلية وتنظيمها وإداراتها وإعداد دليل المراجعة. </a:t>
            </a:r>
            <a:endParaRPr b="0" lang="en-US" sz="3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 </a:t>
            </a:r>
            <a:br>
              <a:rPr sz="4800"/>
            </a:br>
            <a:r>
              <a:rPr b="0" lang="ar-SA" sz="4800" spc="-1" strike="noStrike">
                <a:solidFill>
                  <a:srgbClr val="2683c6"/>
                </a:solidFill>
                <a:latin typeface="Calibri Light"/>
                <a:cs typeface="Times New Roman"/>
              </a:rPr>
              <a:t>تقويم أداء العاملين بوحدة المراجعة الداخلية</a:t>
            </a:r>
            <a:endParaRPr b="0" lang="en-US" sz="4800" spc="-1" strike="noStrike">
              <a:solidFill>
                <a:srgbClr val="404040"/>
              </a:solidFill>
              <a:latin typeface="Calibri Light"/>
            </a:endParaRPr>
          </a:p>
        </p:txBody>
      </p:sp>
      <p:sp>
        <p:nvSpPr>
          <p:cNvPr id="350"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 السنو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وفر التقويم السنوي النتيجة النهائية لعملية تقويم المراجعين الداخليين والتي تستخدم كأساس في أخذ القرارات الإدارية مثل الترقية، تقييم الراتب، والتوصيات بالتدريب، أو الإجراءات التصحيحية. ويجب أن يرتكز التقويم السنوي كذلك على تجميع نماذج التقويم الخاصة بالمهام والتي تم إعدادها طوال العام في نهاية كل مهمة. ويجب أن يكون هناك نموذج للتقويم السنوي تتبناه وحدة المراجعة الداخلية.</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2"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عمل مدير وحدة المراجعة على ضمان الالتزام بمعايير المراجعة الداخلية والسياسات المرسومة لوحدة المراجعة الداخلية وكذلك برامج المراجعة. ولتحقيق ذلك يجب أن يكون هناك  عمليات تقويم  مستمرة لعمل الوحدة وسياساتها وبرامجها. ويمكن أن يقوم بدور رقابة الجودة قسم مستقل داخل وحدة المراجعة الداخلية تكون مهمته إدارة وضبط الجودة  عن طريق إنشاء ومتابعة برنامج ضبط الجودة وذلك لتقويم أداء المراجعة الداخلية في مختلف الأنشطة. ويمكن أن تتم عملية رقابة الجودة عن طريق ما يل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ولا: التقويم الداخلي لوحدة المراجعة الداخ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ثانيا: التقويم الخارجي لوحدة المراجعة الداخل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4"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ولا: التقويم الداخلي لوحدة المراجع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حيث يقوم القسم الخاص بضبط الجودة باختيار عينة من مهام المراجعة التي تم تنفيذها خلال العام  لمطابقتها على المعايير والإجراءات المعتمدة للتأكد من جودة عمل المراجعة ومستوى الإلتزام  بالسياسات المعتمدة لتقييم المخاطر والمراجع الداخلية ودليل المراجعة الداخلية ورفع تقرير للمسئول الأول.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مكن عمل التقويم الداخلي من خلال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راجعة المستمر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ات الدوري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6" name=""/>
          <p:cNvSpPr txBox="1"/>
          <p:nvPr/>
        </p:nvSpPr>
        <p:spPr>
          <a:xfrm>
            <a:off x="1096920" y="1996560"/>
            <a:ext cx="10058400" cy="402300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راجعة المستمر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قوم بها مدير المراجعة الداخلية من خلال الإشراف المباشر على المهام للتأكيد على أن موظفي المراجعة الداخلية يقومون بالأعمال الواجب عملها خلال تنفيذ المهام.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هذا التأكيد يجب أن يتضمن </a:t>
            </a: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ن المراجعين الداخليين يعملون وفق منهجية وحدة المراجعة الداخلية والدليل المعتمد.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ان نوعية العمل المنفذ يتفق مع معايير ممارسة مهنة المراجعة الداخل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8"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راجعات الدور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ؤدى المراجعة الدورية من قبل إدارة القسم الخاص بضبط الجود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وتقويم لمدى التزام المراجعين والمراجعة الداخلية بالدليل الذي أعدته وحدة المراجعة الداخلية ومعايير ممارسة المه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يقدم هذا النوع من التقويم تأكيداً على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جودة كل من إدارة وحدة المراجعة الداخلية وتدريب العاملين.</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60" name=""/>
          <p:cNvSpPr txBox="1"/>
          <p:nvPr/>
        </p:nvSpPr>
        <p:spPr>
          <a:xfrm>
            <a:off x="1096920" y="1846440"/>
            <a:ext cx="10058400" cy="4022640"/>
          </a:xfrm>
          <a:prstGeom prst="rect">
            <a:avLst/>
          </a:prstGeom>
          <a:noFill/>
          <a:ln w="0">
            <a:noFill/>
          </a:ln>
        </p:spPr>
        <p:txBody>
          <a:bodyPr lIns="0" rIns="0" anchor="t">
            <a:normAutofit fontScale="94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ثانيا: التقويم الخارجي لوحدة المراجعة الداخلي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أن يتم عمل تقويم لوحدة المراجعة الداخلية من جانب جهة خارجية على فترات متباعدة مثلا كل ثلاث سنوات. وفي هذا النوع من التقويم يدعو المسئول الأول بالجهة جهة مهنية مستقلة لعمل تقويم خارجي مستقل وإبداء الرأي عن مدى فعالية وكفاءة وحدة المراجعة الداخلية. كما يجب أن يشمل نطاق المراجعة </a:t>
            </a:r>
            <a:r>
              <a:rPr b="1" lang="ar-SA" sz="2400" spc="-1" strike="noStrike">
                <a:solidFill>
                  <a:srgbClr val="000000"/>
                </a:solidFill>
                <a:latin typeface="Calibri"/>
                <a:cs typeface="Arial"/>
              </a:rPr>
              <a:t>تقويماً لـلأمور التالية</a:t>
            </a: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نطاق خطة المراجعة الداخلية.                                   مراجعة المهام التي تم إنجازها.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سياسات والإجراءات.                                           جودة ملفات المراجعة وأوراق العمل.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مليات الاتصال ورفع التقارير.                                 إدارة الموارد البشر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دريب العاملين.</a:t>
            </a:r>
            <a:endParaRPr b="0" lang="en-US" sz="2400" spc="-1" strike="noStrike">
              <a:solidFill>
                <a:srgbClr val="404040"/>
              </a:solidFill>
              <a:latin typeface="Calibri"/>
            </a:endParaRPr>
          </a:p>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حقق من رضاء العميل</a:t>
            </a:r>
            <a:endParaRPr b="0" lang="en-US" sz="4800" spc="-1" strike="noStrike">
              <a:solidFill>
                <a:srgbClr val="404040"/>
              </a:solidFill>
              <a:latin typeface="Calibri Light"/>
            </a:endParaRPr>
          </a:p>
        </p:txBody>
      </p:sp>
      <p:sp>
        <p:nvSpPr>
          <p:cNvPr id="362"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جزء من التزامها بعمل التحسينات المستمرة لأداء المراجعة الداخلية ومراقبة جودتها، يمكن أن تقوم وحدة المراجعة الداخلية بتبني استبيان رضاء العميل  وذلك ليتم تعبئته من قبل الإدارات التي يتم مراجعتها على أن تتم إعادته مباشرة إلى مدير وحدة المراجعة. ويجب تسجيل وتلخيص وحفظ الرد على الاستبانات في ملف أوراق عمل المه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قائمة تقويم الأداء:</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سواء كان تقويم الأداء يتم ذاتيا ، أي تقويم وحدة المراجعة الداخلية لنفسها ، أو كان من جانب طرف خارجي يمكن الاسترشاد بقائمة تقويم الأداء التالية. وهذه القائمة مقتبسة بتصرف من دليل تقويم الأداء بديوان المراقبة العا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3" name=""/>
          <p:cNvGraphicFramePr/>
          <p:nvPr/>
        </p:nvGraphicFramePr>
        <p:xfrm>
          <a:off x="0" y="0"/>
          <a:ext cx="12192120" cy="6156360"/>
        </p:xfrm>
        <a:graphic>
          <a:graphicData uri="http://schemas.openxmlformats.org/drawingml/2006/table">
            <a:tbl>
              <a:tblPr/>
              <a:tblGrid>
                <a:gridCol w="2176560"/>
                <a:gridCol w="955440"/>
                <a:gridCol w="997200"/>
                <a:gridCol w="969840"/>
                <a:gridCol w="7093080"/>
              </a:tblGrid>
              <a:tr h="235440">
                <a:tc rowSpan="2">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raditional Arabic"/>
                        </a:rPr>
                        <a:t>الملاحظات</a:t>
                      </a:r>
                      <a:endParaRPr b="0" lang="en-US" sz="16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cs typeface="Traditional Arabic"/>
                        </a:rPr>
                        <a:t>الإنجـــاز</a:t>
                      </a:r>
                      <a:endParaRPr b="0" lang="en-US" sz="11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raditional Arabic"/>
                        </a:rPr>
                        <a:t>عناصر تقويم جودة الأداء</a:t>
                      </a:r>
                      <a:endParaRPr b="0" lang="en-US" sz="16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raditional Arabic"/>
                        </a:rPr>
                        <a:t>لا ينطبق</a:t>
                      </a:r>
                      <a:endParaRPr b="0" lang="en-US" sz="16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raditional Arabic"/>
                        </a:rPr>
                        <a:t>لا</a:t>
                      </a:r>
                      <a:endParaRPr b="0" lang="en-US" sz="16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raditional Arabic"/>
                        </a:rPr>
                        <a:t>نعم</a:t>
                      </a:r>
                      <a:endParaRPr b="0" lang="en-US" sz="16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528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أولاً- اختيار مهمة المراجعة:</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1</a:t>
                      </a:r>
                      <a:r>
                        <a:rPr b="0" lang="ar-SA" sz="2000" spc="-1" strike="noStrike">
                          <a:solidFill>
                            <a:srgbClr val="000000"/>
                          </a:solidFill>
                          <a:latin typeface="Times New Roman"/>
                          <a:ea typeface="Traditional Arabic"/>
                        </a:rPr>
                        <a:t>- هل قررت إدارة المراجعة عند تقييمها للمهمة المتوقعة أنها من المهام التي يمكن أن تسفر عن تقرير هام؟</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marL="343080" indent="-343080" algn="r" rtl="1">
                        <a:lnSpc>
                          <a:spcPct val="100000"/>
                        </a:lnSpc>
                        <a:buClr>
                          <a:srgbClr val="000000"/>
                        </a:buClr>
                        <a:buFont typeface="Times New Roman"/>
                        <a:buAutoNum type="alphaL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تشجيع إنفاق حكومي كفء وفعال من حيث التكلفة.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ب- الكشف عن التبذير، والتلاعب، وسوء الاستعمال، وسوء الإدارة.</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ج- التأثير بشكل كبير على إنجازات برامج وعمليات الجهة المراجع عليها.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د- ضمان الالتزام بالأنظمة والسياسات واللوائح الهامة.</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30996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2</a:t>
                      </a:r>
                      <a:r>
                        <a:rPr b="0" lang="ar-SA" sz="2000" spc="-1" strike="noStrike">
                          <a:solidFill>
                            <a:srgbClr val="000000"/>
                          </a:solidFill>
                          <a:latin typeface="Times New Roman"/>
                          <a:ea typeface="Traditional Arabic"/>
                        </a:rPr>
                        <a:t>- هل قررت إدارة المراجعة أنه:</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أ- يوجد مراجعين داخليين لديهم المعرفة، والخبرة والمهارات المطلوبة لتنفيذ العمل؟</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8298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ب- يوجد وقت كافٍ للمراجعين الداخليين وموارد أخرى لإنجاز العمل آخذين في الاعتبار الأهداف والنطاق المقترحين.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52560" rIns="5256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 </a:t>
                      </a:r>
                      <a:endParaRPr b="0" lang="en-US" sz="2000" spc="-1" strike="noStrike">
                        <a:solidFill>
                          <a:srgbClr val="000000"/>
                        </a:solidFill>
                        <a:latin typeface="Calibri"/>
                      </a:endParaRPr>
                    </a:p>
                  </a:txBody>
                  <a:tcPr anchor="ctr" marL="52560" marR="52560">
                    <a:lnL w="5760">
                      <a:solidFill>
                        <a:srgbClr val="000000"/>
                      </a:solidFill>
                    </a:lnL>
                    <a:lnR w="5760">
                      <a:solidFill>
                        <a:srgbClr val="000000"/>
                      </a:solidFill>
                    </a:lnR>
                    <a:lnT w="5760">
                      <a:solidFill>
                        <a:srgbClr val="000000"/>
                      </a:solidFill>
                    </a:lnT>
                    <a:lnB w="5760">
                      <a:solidFill>
                        <a:srgbClr val="000000"/>
                      </a:solidFill>
                    </a:lnB>
                    <a:noFill/>
                  </a:tcPr>
                </a:tc>
                <a:tc>
                  <a:txBody>
                    <a:bodyPr lIns="52560" rIns="5256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ج- لا توجد أمثلة رئيسة لم يتم حسمها حول الأهداف، والنطاق، والمنهج، ومدى توفر البيانات؟</a:t>
                      </a:r>
                      <a:endParaRPr b="0" lang="en-US" sz="2000" spc="-1" strike="noStrike">
                        <a:solidFill>
                          <a:srgbClr val="000000"/>
                        </a:solidFill>
                        <a:latin typeface="Calibri"/>
                      </a:endParaRPr>
                    </a:p>
                  </a:txBody>
                  <a:tcPr anchor="t" marL="52560" marR="52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4" name=""/>
          <p:cNvGraphicFramePr/>
          <p:nvPr/>
        </p:nvGraphicFramePr>
        <p:xfrm>
          <a:off x="0" y="95400"/>
          <a:ext cx="12192120" cy="6240240"/>
        </p:xfrm>
        <a:graphic>
          <a:graphicData uri="http://schemas.openxmlformats.org/drawingml/2006/table">
            <a:tbl>
              <a:tblPr/>
              <a:tblGrid>
                <a:gridCol w="1882800"/>
                <a:gridCol w="1092240"/>
                <a:gridCol w="1106280"/>
                <a:gridCol w="995400"/>
                <a:gridCol w="7115400"/>
              </a:tblGrid>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ج- لا توجد أمثلة رئيسة لم يتم حسمها حول الأهداف، والنطاق، والمنهج، ومدى توفر البيانات؟</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299880" indent="-1141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د- الفوائد المحتملة للمهمة المقترحة تفوق التكاليف المتوقعة؟ </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ثانياً- بدء مهمة المراجعة:</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1</a:t>
                      </a:r>
                      <a:r>
                        <a:rPr b="0" lang="ar-SA" sz="2000" spc="-1" strike="noStrike">
                          <a:solidFill>
                            <a:srgbClr val="000000"/>
                          </a:solidFill>
                          <a:latin typeface="Times New Roman"/>
                          <a:ea typeface="Traditional Arabic"/>
                        </a:rPr>
                        <a:t>- هل أعد وحدة المراجعة الداخلية خطاباً بتنفيذ المهمة وتكليف المراجعين الداخليين؟ </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2</a:t>
                      </a:r>
                      <a:r>
                        <a:rPr b="0" lang="ar-SA" sz="2000" spc="-1" strike="noStrike">
                          <a:solidFill>
                            <a:srgbClr val="000000"/>
                          </a:solidFill>
                          <a:latin typeface="Times New Roman"/>
                          <a:ea typeface="Traditional Arabic"/>
                        </a:rPr>
                        <a:t>- هل قام وحدة المراجعة الداخلية بإشعار الجهة المراجع عليها المعنية كتابة بمهمة المراجعة المخطط لها؟ </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3</a:t>
                      </a:r>
                      <a:r>
                        <a:rPr b="0" lang="ar-SA" sz="2000" spc="-1" strike="noStrike">
                          <a:solidFill>
                            <a:srgbClr val="000000"/>
                          </a:solidFill>
                          <a:latin typeface="Times New Roman"/>
                          <a:ea typeface="Traditional Arabic"/>
                        </a:rPr>
                        <a:t>- هل تم تنسيق المهمة مع المهام الأخرى ذات الصلة في كافة إدارات وحدة المراجعة الداخلية؟ </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4</a:t>
                      </a:r>
                      <a:r>
                        <a:rPr b="0" lang="ar-SA" sz="2000" spc="-1" strike="noStrike">
                          <a:solidFill>
                            <a:srgbClr val="000000"/>
                          </a:solidFill>
                          <a:latin typeface="Times New Roman"/>
                          <a:ea typeface="Traditional Arabic"/>
                        </a:rPr>
                        <a:t>- هل تم عقد اجتماع مع مسؤولي الجهة المراجع عليها لمناقشة أهداف المراجعة والبدء في الحصول على البيانات والمعلومات؟ </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ثالثاً- اقتراح مهمة المراجعة وتحديد نطاقها:</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185760" indent="-185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raditional Arabic"/>
                        </a:rPr>
                        <a:t>1</a:t>
                      </a:r>
                      <a:r>
                        <a:rPr b="0" lang="ar-SA" sz="2000" spc="-1" strike="noStrike">
                          <a:solidFill>
                            <a:srgbClr val="000000"/>
                          </a:solidFill>
                          <a:latin typeface="Times New Roman"/>
                          <a:ea typeface="Traditional Arabic"/>
                        </a:rPr>
                        <a:t>- هل تم القيام بعمل كافٍ فيما يتعلق بمرحلة الاقتراح لما يأتي ؟ : </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0996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أ – تحديد الأهداف المقترحة والتأكد من مشروعيتها</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0996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ب- وضع مساهمة وحدة المراجعة الداخلية المتوقعة.</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ج- تحديد التكاليف والفوائد المتوقعة للمهمة.</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43200" rIns="4320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Times New Roman"/>
                          <a:ea typeface="Traditional Arabic"/>
                        </a:rPr>
                        <a:t> </a:t>
                      </a:r>
                      <a:endParaRPr b="0" lang="en-US" sz="900" spc="-1" strike="noStrike">
                        <a:solidFill>
                          <a:srgbClr val="000000"/>
                        </a:solidFill>
                        <a:latin typeface="Calibri"/>
                      </a:endParaRPr>
                    </a:p>
                  </a:txBody>
                  <a:tcPr anchor="ctr" marL="43200" marR="43200">
                    <a:lnL w="5760">
                      <a:solidFill>
                        <a:srgbClr val="000000"/>
                      </a:solidFill>
                    </a:lnL>
                    <a:lnR w="5760">
                      <a:solidFill>
                        <a:srgbClr val="000000"/>
                      </a:solidFill>
                    </a:lnR>
                    <a:lnT w="5760">
                      <a:solidFill>
                        <a:srgbClr val="000000"/>
                      </a:solidFill>
                    </a:lnT>
                    <a:lnB w="5760">
                      <a:solidFill>
                        <a:srgbClr val="000000"/>
                      </a:solidFill>
                    </a:lnB>
                    <a:noFill/>
                  </a:tcPr>
                </a:tc>
                <a:tc>
                  <a:txBody>
                    <a:bodyPr lIns="43200" rIns="43200" tIns="0" bIns="0" anchor="t">
                      <a:noAutofit/>
                    </a:bodyPr>
                    <a:p>
                      <a:pPr marL="414360" indent="-228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raditional Arabic"/>
                        </a:rPr>
                        <a:t>د- تحديد ما إذا كانت نتائج المراجعة ستكون مفيدة وفي الوقت المناسب.</a:t>
                      </a:r>
                      <a:endParaRPr b="0" lang="en-US" sz="2000" spc="-1" strike="noStrike">
                        <a:solidFill>
                          <a:srgbClr val="000000"/>
                        </a:solidFill>
                        <a:latin typeface="Calibri"/>
                      </a:endParaRPr>
                    </a:p>
                  </a:txBody>
                  <a:tcPr anchor="t" marL="43200" marR="43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66" name=""/>
          <p:cNvSpPr txBox="1"/>
          <p:nvPr/>
        </p:nvSpPr>
        <p:spPr>
          <a:xfrm>
            <a:off x="1096920" y="1846440"/>
            <a:ext cx="10058400" cy="4417920"/>
          </a:xfrm>
          <a:prstGeom prst="rect">
            <a:avLst/>
          </a:prstGeom>
          <a:noFill/>
          <a:ln w="0">
            <a:noFill/>
          </a:ln>
        </p:spPr>
        <p:txBody>
          <a:bodyPr lIns="0" rIns="0" anchor="t">
            <a:normAutofit fontScale="88000"/>
          </a:bodyPr>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حرص مدير وحدة المراجعة على ضرورة التوثيق الكافي لكل إجراءات المراجعة بما يحقق وجود مستند يؤيد كل إجراء تم تنفيذه. وتحتاج عملية التوثيق إلى الإحتفاظ بأوراق العمل (أوراق المراجعة) وتنظيمها.</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يتطلب التوثيق الجيد ما يلي: </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بساطة والوضوح                                           تغطية كافة أنشطة المراجعة</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ن تعد في شكل نماذج كلما أمكن ذلك                      أن تكون وثيقة الصلة بموضوع المراجع</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ن تتصف بالدقة                                             أن ترقم وترتبط ببعضها.</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ضرورة وضع خطة تنظيمية لتصميم وتداول وحفظ أوراق العمل بالإدارة.</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ضرورة أن يتم التوقيع على أوراق العمل بما يساعد في تحديد المسئولية عن الأعمال التي تمت.</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2683c6"/>
                </a:solidFill>
                <a:latin typeface="Calibri Light"/>
                <a:cs typeface="Times New Roman"/>
              </a:rPr>
              <a:t>ناقشنا سابقا </a:t>
            </a:r>
            <a:r>
              <a:rPr b="0" lang="ar-SA" sz="4000" spc="-1" strike="noStrike">
                <a:solidFill>
                  <a:srgbClr val="000000"/>
                </a:solidFill>
                <a:latin typeface="Calibri Light"/>
                <a:ea typeface="Times New Roman"/>
              </a:rPr>
              <a:t>1</a:t>
            </a:r>
            <a:r>
              <a:rPr b="0" lang="ar-SA" sz="4000" spc="-1" strike="noStrike">
                <a:solidFill>
                  <a:srgbClr val="000000"/>
                </a:solidFill>
                <a:latin typeface="Calibri Light"/>
                <a:ea typeface="Times New Roman"/>
              </a:rPr>
              <a:t>-القواعد المنظمة لإنشاء وتنظيم وحدات المراجعة الداخلية وإداراتها</a:t>
            </a:r>
            <a:r>
              <a:rPr b="0" lang="ar-SA" sz="4000" spc="-1" strike="noStrike">
                <a:solidFill>
                  <a:srgbClr val="2683c6"/>
                </a:solidFill>
                <a:latin typeface="Calibri Light"/>
                <a:cs typeface="Times New Roman"/>
              </a:rPr>
              <a:t>،سوف نناقش اليوم</a:t>
            </a:r>
            <a:r>
              <a:rPr b="0" lang="ar-SA" sz="4000" spc="-1" strike="noStrike">
                <a:solidFill>
                  <a:srgbClr val="2683c6"/>
                </a:solidFill>
                <a:latin typeface="Calibri Light"/>
                <a:ea typeface="Times New Roman"/>
              </a:rPr>
              <a:t>:</a:t>
            </a:r>
            <a:endParaRPr b="0" lang="en-US" sz="4000" spc="-1" strike="noStrike">
              <a:solidFill>
                <a:srgbClr val="404040"/>
              </a:solidFill>
              <a:latin typeface="Calibri Light"/>
            </a:endParaRPr>
          </a:p>
        </p:txBody>
      </p:sp>
      <p:sp>
        <p:nvSpPr>
          <p:cNvPr id="315"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2</a:t>
            </a: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جراءات انشاء وحدة المراجعة الداخل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3</a:t>
            </a:r>
            <a:r>
              <a:rPr b="1" lang="ar-SA" sz="2400" spc="-1" strike="noStrike">
                <a:solidFill>
                  <a:srgbClr val="000000"/>
                </a:solidFill>
                <a:latin typeface="Calibri"/>
                <a:ea typeface="Arial"/>
              </a:rPr>
              <a:t>- تنظيم العمل بوحدات المراجعة الداخلي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ريف المراجعين الداخلين بمهام وحدة المراجعة الداخلي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حديد الرتب الوظيفية داخل وحدة المراجع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حديد الأقسام أو الإدارات داخل وحدة المراجع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عداد وإصدار دليل المراجعة الداخلية(تتضمن </a:t>
            </a:r>
            <a:r>
              <a:rPr b="0" lang="ar-SA" sz="2400" spc="-1" strike="noStrike">
                <a:solidFill>
                  <a:srgbClr val="000000"/>
                </a:solidFill>
                <a:latin typeface="Calibri"/>
                <a:ea typeface="Arial"/>
              </a:rPr>
              <a:t>7</a:t>
            </a:r>
            <a:r>
              <a:rPr b="0" lang="ar-SA" sz="2400" spc="-1" strike="noStrike">
                <a:solidFill>
                  <a:srgbClr val="000000"/>
                </a:solidFill>
                <a:latin typeface="Calibri"/>
                <a:ea typeface="Arial"/>
              </a:rPr>
              <a:t> فقرات سوف نناقش اليوم الاربع فقرات الاولى فقط ونناقش الفقرات المتبقية للمحاضرات القادمة بأذن الله)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68" name=""/>
          <p:cNvSpPr txBox="1"/>
          <p:nvPr/>
        </p:nvSpPr>
        <p:spPr>
          <a:xfrm>
            <a:off x="1096920" y="1846080"/>
            <a:ext cx="10058400" cy="4431960"/>
          </a:xfrm>
          <a:prstGeom prst="rect">
            <a:avLst/>
          </a:prstGeom>
          <a:noFill/>
          <a:ln w="0">
            <a:noFill/>
          </a:ln>
        </p:spPr>
        <p:txBody>
          <a:bodyPr lIns="0" rIns="0" anchor="t">
            <a:normAutofit fontScale="94000"/>
          </a:bodyPr>
          <a:p>
            <a:pPr marL="84600" indent="-846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همية التوثيق:</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تبر أوراق العمل دليل على التزام الإدارة بالمعايير وإجراءات العمل المعتمدة </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عملية التوثيق مدير المراجعة في متابعة تقدم سير العمل وتحديد ما يجب عمله.</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في تحديد مدى العمل الذي تم في كل مهمة ، وما هو مطلوب لإنجاز المهمة.</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تبر أوراق العمل المصدر الأساسي لاستخلاص النتائج وكتابة التقارير ومتابعة تنفيذ التوصيات والمقترحات.</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تبر مرجعا للتحقق من جودة عمل المراجع الداخلي والرقابة على الجودة بواسطة المعنيين بذلك.</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تخدم كأدلة على العمل الذي تم عند تقويم أداء الإدارة.</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مدير المراجعة في تخطيط عملية المراجعة للسنة التالية.</a:t>
            </a:r>
            <a:endParaRPr b="0" lang="en-US" sz="2400" spc="-1" strike="noStrike">
              <a:solidFill>
                <a:srgbClr val="404040"/>
              </a:solidFill>
              <a:latin typeface="Calibri"/>
            </a:endParaRPr>
          </a:p>
          <a:p>
            <a:pPr marL="84600" indent="-846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70"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ط الإرشادية لعملية حفظ السجل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ضمن الدليل الخاص بالمراجعة الداخلية توضيحا أو إرشادات لضوابط حفظ السجلات من قبل وحدة المراجعة الداخلية. فمثلا يمكن أن يتضمن الدليل أن برنامج المراجع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م الإحتفاظ بالنسخة الأخيرة فقط وأوراق عمل المراجعة يتم الاحتفاظ بها ثلاث سنو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ملفات المراجعة الدائمة خمس سنو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تقارير المراجعة الداخلية مدة غير محدد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72"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لفات ا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 وسائل لحفظ أوراق المراجعة، وتساعد هذه الملفات في حفظ الأوراق والمستندات بطريقة تسهل الرجوع إليها. كما أنها تفتح لكل مهمة أو عملية 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نواع ملفات المراجعة</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كون لدى وحدة المراجعة الداخلية نوعين من الملفات هم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ف الدائم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والملف الجار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74" name=""/>
          <p:cNvSpPr txBox="1"/>
          <p:nvPr/>
        </p:nvSpPr>
        <p:spPr>
          <a:xfrm>
            <a:off x="1096920" y="1846440"/>
            <a:ext cx="10058400" cy="4471920"/>
          </a:xfrm>
          <a:prstGeom prst="rect">
            <a:avLst/>
          </a:prstGeom>
          <a:noFill/>
          <a:ln w="0">
            <a:noFill/>
          </a:ln>
        </p:spPr>
        <p:txBody>
          <a:bodyPr lIns="0" rIns="0" anchor="t">
            <a:normAutofit fontScale="89000"/>
          </a:bodyPr>
          <a:p>
            <a:pPr marL="80280" indent="-80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ف الدائم:</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حتوي على البيانات الهامة التي يحتاج لها المراجع الداخلي بشكل مستمر ، مثل الأوراق والمستندات التي يحتاجها عادة المراجع في كل مهمة مراجعة ولا يحدث عليها تغيرات مستمرة أو لا يقوم المراجع بتأسيسها مع كل مهمة مراجعة. مع هذا فمثل هذه البيانات تحتاج إلى تغيير على فترات بعيدة نسبيا كلما حدث عليها تحديث أو إضافة.</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تشمل بيانات ملف المراجعة الدائم ما يلي:</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هيكل التنظيمي للوحدة.                                    نظام الترخيص بالأعمال.</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لوائح والتعميمات.                                        الوصف الوظيفي.</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خرائط وصف نظام الرقابة الداخلية.                     دليل السياسات والإجراءات.</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دليل المراجعة.                                            ملخص نتائج المراجعة للمهام السابقة.</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76" name=""/>
          <p:cNvSpPr txBox="1"/>
          <p:nvPr/>
        </p:nvSpPr>
        <p:spPr>
          <a:xfrm>
            <a:off x="1096920" y="1846080"/>
            <a:ext cx="10058400" cy="4444920"/>
          </a:xfrm>
          <a:prstGeom prst="rect">
            <a:avLst/>
          </a:prstGeom>
          <a:noFill/>
          <a:ln w="0">
            <a:noFill/>
          </a:ln>
        </p:spPr>
        <p:txBody>
          <a:bodyPr lIns="0" rIns="0" anchor="t">
            <a:normAutofit fontScale="95000"/>
          </a:bodyPr>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لف المراجعة الجاري (ملف المهمة):</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ضمن توثيق تطبيق إجراءات المراجعة ، ونتائج تطبيق الإجراءات والاستفسارات والردود عليه وغيرها من الأوراق والمستندات والملخصات التي تعكس عمل المراجع على المهمة المحدد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يحتوي ملف مراجعة المهمة عادة على ما يلي</a:t>
            </a: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لاحظات برنامج العمل المكتمل.</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راجع أوراق العمل.</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وراق العمل التي تصف الجهة التي تمت مراجعتها وإجراءات المراجعة التي تم تأديتها.</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لاحظات، النتائج، والتوصيات.</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قارير المراجعة الرسمية الخاصة بالجه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endParaRPr b="0" lang="en-US" sz="4800" spc="-1" strike="noStrike">
              <a:solidFill>
                <a:srgbClr val="404040"/>
              </a:solidFill>
              <a:latin typeface="Calibri Light"/>
            </a:endParaRPr>
          </a:p>
        </p:txBody>
      </p:sp>
      <p:sp>
        <p:nvSpPr>
          <p:cNvPr id="378"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سؤولية عن اكتشاف عمليات الغش والاحتيال:</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ن اكتشاف عمليات الغش والاحتيال والتلاعبات الأخرى لا يعتبر من مسؤوليات وحدة المرجعة الداخلية. فهو هدف ثانوي يمكن الوصول إليه أثناء تنفيذ إجراءات المراجعة العادية ولكنه هام ، لذلك يجب على موظفي المراجعة الداخلية ممارسة العناية المهنية تحت ظروف المراجعة العادية وأن يكونوا مدركين لاحتمال وجود مثل هذه العمليات. ففي كل الظروف تتمثل مسئولية المراجع الداخلي الالتزام بتطبيق العناية المهنية الواجبة والتي تتطلب منه  تطبيق الإجراءات المناسبة واستخدام الحكم المهني بدون تقصير للدرجة التي يطمئن بها إلى أنه لو كان هناك حالات غش أو إحتيال أو تلاعبات أخرى سوف يتم اكتشافه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endParaRPr b="0" lang="en-US" sz="4800" spc="-1" strike="noStrike">
              <a:solidFill>
                <a:srgbClr val="404040"/>
              </a:solidFill>
              <a:latin typeface="Calibri Light"/>
            </a:endParaRPr>
          </a:p>
        </p:txBody>
      </p:sp>
      <p:sp>
        <p:nvSpPr>
          <p:cNvPr id="380" name=""/>
          <p:cNvSpPr txBox="1"/>
          <p:nvPr/>
        </p:nvSpPr>
        <p:spPr>
          <a:xfrm>
            <a:off x="1096920" y="1846440"/>
            <a:ext cx="10058400" cy="4022640"/>
          </a:xfrm>
          <a:prstGeom prst="rect">
            <a:avLst/>
          </a:prstGeom>
          <a:noFill/>
          <a:ln w="0">
            <a:noFill/>
          </a:ln>
        </p:spPr>
        <p:txBody>
          <a:bodyPr lIns="0" rIns="0" anchor="t">
            <a:normAutofit fontScale="92000"/>
          </a:bodyPr>
          <a:p>
            <a:pPr marL="82800" indent="-828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سؤولية عن اكتشاف عمليات الغش والاحتيال:</a:t>
            </a:r>
            <a:endParaRPr b="0" lang="en-US" sz="2400" spc="-1" strike="noStrike">
              <a:solidFill>
                <a:srgbClr val="404040"/>
              </a:solidFill>
              <a:latin typeface="Calibri"/>
            </a:endParaRPr>
          </a:p>
          <a:p>
            <a:pPr marL="82800" indent="-828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تطلب العناية المهنية من المراجع الداخلي الالتزام بتطبيق إجراءات المراجعة اللازمة وتأكيد صحة المعطيات بدرجة معقولة وهو لا يطالب، في ظل الظروف العادية، بعمل مرجعة مفصلة لكل التعاملات التي تجريها الوحدة. وبالتالي غير مسئول عن اكتشاف الغش والاحتيال والتلاعبات الأخرى ، لكن عند الشك في ارتكاب عمليات غش أو احتيال أو تلاعبات أخرى، يجب على المراجع  أن يخبر قائد الفريق مدير وحدة المراجعة والذي يجب عليه أن يرفع الأمر إلى بدوره المسئول الأول بالجهة. حيث سيقوم الأخير بمراجعة الأمر وتحديد مجريات الأحداث الملائمة. التي قد تشمل توسيع نطاق المراجعة لتحديد درجة وطبيعة هذه العمليات، وتحديد المستويات الإدارية أو الرقابية التي يجب إبلاغها بالأمر.  </a:t>
            </a:r>
            <a:endParaRPr b="0" lang="en-US" sz="2400" spc="-1" strike="noStrike">
              <a:solidFill>
                <a:srgbClr val="404040"/>
              </a:solidFill>
              <a:latin typeface="Calibri"/>
            </a:endParaRPr>
          </a:p>
          <a:p>
            <a:pPr marL="82800" indent="-828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ي بعض الوحدات قد يتضمن تنظيم وحدة المراجعة الداخلية قسم خاص بمراجعة الحالات الخاصة التي تنطوى على عمليات غش أو احتيال أو تلاعبات أخرى.</a:t>
            </a:r>
            <a:endParaRPr b="0" lang="en-US" sz="2400" spc="-1" strike="noStrike">
              <a:solidFill>
                <a:srgbClr val="404040"/>
              </a:solidFill>
              <a:latin typeface="Calibri"/>
            </a:endParaRPr>
          </a:p>
          <a:p>
            <a:pPr marL="82800" indent="-828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2800" indent="-828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endParaRPr b="0" lang="en-US" sz="4800" spc="-1" strike="noStrike">
              <a:solidFill>
                <a:srgbClr val="404040"/>
              </a:solidFill>
              <a:latin typeface="Calibri Light"/>
            </a:endParaRPr>
          </a:p>
        </p:txBody>
      </p:sp>
      <p:sp>
        <p:nvSpPr>
          <p:cNvPr id="382" name=""/>
          <p:cNvSpPr txBox="1"/>
          <p:nvPr/>
        </p:nvSpPr>
        <p:spPr>
          <a:xfrm>
            <a:off x="1096920" y="1846440"/>
            <a:ext cx="10058400" cy="447192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واصل مع المستويات الإدارية العلي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عمل المسئول الأول بالجهة على ترتيب لقاءات دورية مع مدير وحدة المراجعة الداخلية ،هذا وتمثل القائمة التالية المواضيع التي تطرح على المسئول الأول بالجهة أو (المستويات الإدارية العليا الأخرى) بشكل دور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رض لخطة  وحدة المراجعة الداخلية (الاستراتيج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لاصة نتائج تقدير المخاطر السنو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لاصة نتائج أعمال المراجعة الداخ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قارير السنوية لإنجازات وأداء وحدة المراجعة الداخ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نزاعات القائمة مع الإدارة العلي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96920" y="287280"/>
            <a:ext cx="10058400" cy="17985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70c0"/>
                </a:solidFill>
                <a:latin typeface="Calibri Light"/>
                <a:cs typeface="Times New Roman"/>
              </a:rPr>
              <a:t>لإنشاء وحدة مراجعة داخلية تتخذ الإجراءات التالية</a:t>
            </a:r>
            <a:br>
              <a:rPr sz="4800"/>
            </a:br>
            <a:endParaRPr b="0" lang="en-US" sz="4800" spc="-1" strike="noStrike">
              <a:solidFill>
                <a:srgbClr val="404040"/>
              </a:solidFill>
              <a:latin typeface="Calibri Light"/>
            </a:endParaRPr>
          </a:p>
        </p:txBody>
      </p:sp>
      <p:sp>
        <p:nvSpPr>
          <p:cNvPr id="317" name=""/>
          <p:cNvSpPr txBox="1"/>
          <p:nvPr/>
        </p:nvSpPr>
        <p:spPr>
          <a:xfrm>
            <a:off x="1211400" y="1906200"/>
            <a:ext cx="9943920" cy="396252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1</a:t>
            </a:r>
            <a:r>
              <a:rPr b="0" lang="ar-SA" sz="2800" spc="-1" strike="noStrike">
                <a:solidFill>
                  <a:srgbClr val="000000"/>
                </a:solidFill>
                <a:latin typeface="Calibri"/>
                <a:ea typeface="Arial"/>
              </a:rPr>
              <a:t>- إختيار مدير وحدة المراجعة الداخل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2</a:t>
            </a:r>
            <a:r>
              <a:rPr b="0" lang="ar-SA" sz="2800" spc="-1" strike="noStrike">
                <a:solidFill>
                  <a:srgbClr val="000000"/>
                </a:solidFill>
                <a:latin typeface="Calibri"/>
                <a:ea typeface="Arial"/>
              </a:rPr>
              <a:t>- تحديد الموقع التنظيمي لوحدة المراجعة الداخل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3</a:t>
            </a:r>
            <a:r>
              <a:rPr b="0" lang="ar-SA" sz="2800" spc="-1" strike="noStrike">
                <a:solidFill>
                  <a:srgbClr val="000000"/>
                </a:solidFill>
                <a:latin typeface="Calibri"/>
                <a:ea typeface="Arial"/>
              </a:rPr>
              <a:t>- تخصيص مكان لوحدة المراجعة الداخل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4</a:t>
            </a:r>
            <a:r>
              <a:rPr b="0" lang="ar-SA" sz="2800" spc="-1" strike="noStrike">
                <a:solidFill>
                  <a:srgbClr val="000000"/>
                </a:solidFill>
                <a:latin typeface="Calibri"/>
                <a:ea typeface="Arial"/>
              </a:rPr>
              <a:t>- إختيار الأفراد المؤهلين للعمل بوحدة المراجعة الداخل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0" lang="ar-SA" sz="2400" spc="-1" strike="noStrike">
                <a:solidFill>
                  <a:srgbClr val="000000"/>
                </a:solidFill>
                <a:latin typeface="Calibri"/>
                <a:cs typeface="Arial"/>
              </a:rPr>
              <a:t>من حيث المؤهل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 من حيث الخبرة العم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 من حيث الصفات الشخص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تنظيم العمل بوحدات المراجعة الداخلية</a:t>
            </a:r>
            <a:endParaRPr b="0" lang="en-US" sz="4800" spc="-1" strike="noStrike">
              <a:solidFill>
                <a:srgbClr val="404040"/>
              </a:solidFill>
              <a:latin typeface="Calibri Light"/>
            </a:endParaRPr>
          </a:p>
        </p:txBody>
      </p:sp>
      <p:sp>
        <p:nvSpPr>
          <p:cNvPr id="319"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نظيم العمل بوحدات المراجعة الداخلية يعتبر من المسئوليات الأساسية لمدير الوحدة ويشمل تنظيم العمل بوحدات المراجعة الداخلية ما يلي:</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عريف المراجعين الداخلين بمهام وحدة المراجعة الداخلية</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حديد الرتب الوظيفية داخل وحدة المراجعة</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حديد الأقسام أو الإدارات داخل وحدة المراجعة: </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1" lang="ar-SA" sz="2400" spc="-1" strike="noStrike">
                <a:solidFill>
                  <a:srgbClr val="000000"/>
                </a:solidFill>
                <a:latin typeface="Calibri"/>
                <a:cs typeface="Arial"/>
              </a:rPr>
              <a:t>إدارة المراجعة</a:t>
            </a:r>
            <a:r>
              <a:rPr b="0" lang="ar-SA" sz="2400" spc="-1" strike="noStrike">
                <a:solidFill>
                  <a:srgbClr val="000000"/>
                </a:solidFill>
                <a:latin typeface="Calibri"/>
                <a:ea typeface="Arial"/>
              </a:rPr>
              <a:t>: وتختص بأعمال المراجعة والفحص.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إدارة الإستشارات</a:t>
            </a:r>
            <a:r>
              <a:rPr b="0" lang="ar-SA" sz="2400" spc="-1" strike="noStrike">
                <a:solidFill>
                  <a:srgbClr val="000000"/>
                </a:solidFill>
                <a:latin typeface="Calibri"/>
                <a:ea typeface="Arial"/>
              </a:rPr>
              <a:t>: وتختص بتقديم الإستشارات للإدارات الأخرى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تنظيم العمل بوحدات المراجعة الداخلية</a:t>
            </a:r>
            <a:endParaRPr b="0" lang="en-US" sz="4800" spc="-1" strike="noStrike">
              <a:solidFill>
                <a:srgbClr val="404040"/>
              </a:solidFill>
              <a:latin typeface="Calibri Light"/>
            </a:endParaRPr>
          </a:p>
        </p:txBody>
      </p:sp>
      <p:sp>
        <p:nvSpPr>
          <p:cNvPr id="321" name=""/>
          <p:cNvSpPr txBox="1"/>
          <p:nvPr/>
        </p:nvSpPr>
        <p:spPr>
          <a:xfrm>
            <a:off x="1096920" y="1846440"/>
            <a:ext cx="10058400" cy="4022640"/>
          </a:xfrm>
          <a:prstGeom prst="rect">
            <a:avLst/>
          </a:prstGeom>
          <a:noFill/>
          <a:ln w="0">
            <a:noFill/>
          </a:ln>
        </p:spPr>
        <p:txBody>
          <a:bodyPr lIns="0" rIns="0" anchor="t">
            <a:normAutofit fontScale="92000"/>
          </a:bodyPr>
          <a:p>
            <a:pPr marL="82800" indent="-828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1" lang="ar-SA" sz="2400" spc="-1" strike="noStrike">
                <a:solidFill>
                  <a:srgbClr val="000000"/>
                </a:solidFill>
                <a:latin typeface="Calibri"/>
                <a:cs typeface="Arial"/>
              </a:rPr>
              <a:t>إدارة مراقبة الجودة</a:t>
            </a:r>
            <a:r>
              <a:rPr b="0" lang="ar-SA" sz="2400" spc="-1" strike="noStrike">
                <a:solidFill>
                  <a:srgbClr val="000000"/>
                </a:solidFill>
                <a:latin typeface="Calibri"/>
                <a:ea typeface="Arial"/>
              </a:rPr>
              <a:t>: وتختص بمراقبة وتقويم جودة الأداء بوحدة المراجعة الداخلية. </a:t>
            </a:r>
            <a:endParaRPr b="0" lang="en-US" sz="2400" spc="-1" strike="noStrike">
              <a:solidFill>
                <a:srgbClr val="404040"/>
              </a:solidFill>
              <a:latin typeface="Calibri"/>
            </a:endParaRPr>
          </a:p>
          <a:p>
            <a:pPr marL="82800" indent="-828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إدارة الأعمال المساندة والإتصالات</a:t>
            </a:r>
            <a:r>
              <a:rPr b="0" lang="ar-SA" sz="2400" spc="-1" strike="noStrike">
                <a:solidFill>
                  <a:srgbClr val="000000"/>
                </a:solidFill>
                <a:latin typeface="Calibri"/>
                <a:ea typeface="Arial"/>
              </a:rPr>
              <a:t>: وتختص بالأعمال المساندة كالنسخ والحفظ والإتصال بالإدارات الأخرى داخل الجهة. </a:t>
            </a:r>
            <a:endParaRPr b="0" lang="en-US" sz="2400" spc="-1" strike="noStrike">
              <a:solidFill>
                <a:srgbClr val="404040"/>
              </a:solidFill>
              <a:latin typeface="Calibri"/>
            </a:endParaRPr>
          </a:p>
          <a:p>
            <a:pPr marL="82800" indent="-8280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إدارة العمليات الخاصة</a:t>
            </a:r>
            <a:r>
              <a:rPr b="0" lang="ar-SA" sz="2400" spc="-1" strike="noStrike">
                <a:solidFill>
                  <a:srgbClr val="000000"/>
                </a:solidFill>
                <a:latin typeface="Calibri"/>
                <a:ea typeface="Arial"/>
              </a:rPr>
              <a:t>: يمكن أن يكون هناك إدارة خاصة تتولى أعمال الفحص والمراجعة ذات الطبيعة الخاصة مثل التي تتضمن فحص عمليات غش أو إختلاسات.</a:t>
            </a:r>
            <a:endParaRPr b="0" lang="en-US" sz="2400" spc="-1" strike="noStrike">
              <a:solidFill>
                <a:srgbClr val="404040"/>
              </a:solidFill>
              <a:latin typeface="Calibri"/>
            </a:endParaRPr>
          </a:p>
          <a:p>
            <a:pPr marL="82800" indent="-8280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cade4"/>
                </a:solidFill>
                <a:latin typeface="Calibri"/>
                <a:ea typeface="Arial"/>
              </a:rPr>
              <a:t>4</a:t>
            </a:r>
            <a:r>
              <a:rPr b="0" lang="ar-SA" sz="2800" spc="-1" strike="noStrike">
                <a:solidFill>
                  <a:srgbClr val="1cade4"/>
                </a:solidFill>
                <a:latin typeface="Calibri"/>
                <a:ea typeface="Arial"/>
              </a:rPr>
              <a:t>) </a:t>
            </a:r>
            <a:r>
              <a:rPr b="1" lang="ar-SA" sz="2800" spc="-1" strike="noStrike">
                <a:solidFill>
                  <a:srgbClr val="000000"/>
                </a:solidFill>
                <a:latin typeface="Calibri"/>
                <a:cs typeface="Arial"/>
              </a:rPr>
              <a:t>إعداد وإصدار دليل المراجعة الداخلية</a:t>
            </a:r>
            <a:r>
              <a:rPr b="0" lang="ar-SA" sz="2800" spc="-1" strike="noStrike">
                <a:solidFill>
                  <a:srgbClr val="000000"/>
                </a:solidFill>
                <a:latin typeface="Calibri"/>
                <a:ea typeface="Arial"/>
              </a:rPr>
              <a:t>: </a:t>
            </a:r>
            <a:r>
              <a:rPr b="0" lang="ar-SA" sz="2400" spc="-1" strike="noStrike">
                <a:solidFill>
                  <a:srgbClr val="000000"/>
                </a:solidFill>
                <a:latin typeface="Calibri"/>
                <a:cs typeface="Arial"/>
              </a:rPr>
              <a:t>من أهم مسئوليات مدير وحدة المراجعة الداخلية بالتنسيق مع المسئول الأول بالجهة إعداد دليل للمراجعة الداخلية. وقد يلجا مدير الوحدة إلى جهة خارجية تتولى إعداد هذا الدليل. والذي يجب أن يبين الإجراءات والسياسات الواجب أتباعها أثناء ممارسة وحدة المراجعة الداخلية لأعمالها.</a:t>
            </a:r>
            <a:endParaRPr b="0" lang="en-US" sz="2400" spc="-1" strike="noStrike">
              <a:solidFill>
                <a:srgbClr val="404040"/>
              </a:solidFill>
              <a:latin typeface="Calibri"/>
            </a:endParaRPr>
          </a:p>
          <a:p>
            <a:pPr marL="82800" indent="-8280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2800" indent="-8280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هيكل العام لدليل المراجعة</a:t>
            </a:r>
            <a:endParaRPr b="0" lang="en-US" sz="4800" spc="-1" strike="noStrike">
              <a:solidFill>
                <a:srgbClr val="404040"/>
              </a:solidFill>
              <a:latin typeface="Calibri Light"/>
            </a:endParaRPr>
          </a:p>
        </p:txBody>
      </p:sp>
      <p:sp>
        <p:nvSpPr>
          <p:cNvPr id="323" name=""/>
          <p:cNvSpPr txBox="1"/>
          <p:nvPr/>
        </p:nvSpPr>
        <p:spPr>
          <a:xfrm>
            <a:off x="1096920" y="186048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شتمل الدليل على الفقرات التالية (على الأقل):</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أولى: معلومات عـا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لفقرة الثانية: معلومات عن الوحدة الحكوم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ثالثة: معلومات عن وحدة المراجع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رابعة: إدارة وحدة المراجع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خامسة: تخطيط المراجع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سادسة: تنفيذ مشاريع المراجع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سابعة: إعداد ورفع التقارير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أولى: معلومات عامة</a:t>
            </a:r>
            <a:endParaRPr b="0" lang="en-US" sz="4800" spc="-1" strike="noStrike">
              <a:solidFill>
                <a:srgbClr val="404040"/>
              </a:solidFill>
              <a:latin typeface="Calibri Light"/>
            </a:endParaRPr>
          </a:p>
        </p:txBody>
      </p:sp>
      <p:sp>
        <p:nvSpPr>
          <p:cNvPr id="32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عبارة عن مقدمة موجزة تصف دليل المراجعة الداخلية وعلاقته مع المستندات الأخرى التي تقدم المعلومات الإضافية أو ذات العلاقة، كما تتضمن هذه الفقرة الهدف والغاية من صياغة الدليل بالإضافة إلى أي معلومات يرغب رئيس وحدة المراجعة والمسئول الأول وضعها مثل إجراءات تداول الدليل وإشارة إلى ملكيته لوحدة المراجعة.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أهداف دليل المراجعة الداخلية</a:t>
            </a:r>
            <a:endParaRPr b="0" lang="en-US" sz="4800" spc="-1" strike="noStrike">
              <a:solidFill>
                <a:srgbClr val="404040"/>
              </a:solidFill>
              <a:latin typeface="Calibri Light"/>
            </a:endParaRPr>
          </a:p>
        </p:txBody>
      </p:sp>
      <p:sp>
        <p:nvSpPr>
          <p:cNvPr id="327" name=""/>
          <p:cNvSpPr txBox="1"/>
          <p:nvPr/>
        </p:nvSpPr>
        <p:spPr>
          <a:xfrm>
            <a:off x="1096920" y="1846440"/>
            <a:ext cx="10058400" cy="4022640"/>
          </a:xfrm>
          <a:prstGeom prst="rect">
            <a:avLst/>
          </a:prstGeom>
          <a:noFill/>
          <a:ln w="0">
            <a:noFill/>
          </a:ln>
        </p:spPr>
        <p:txBody>
          <a:bodyPr lIns="0" rIns="0" anchor="t">
            <a:normAutofit fontScale="96000"/>
          </a:bodyPr>
          <a:p>
            <a:pPr marL="85320" indent="-85320" algn="r" rtl="1">
              <a:lnSpc>
                <a:spcPct val="90000"/>
              </a:lnSpc>
              <a:buClr>
                <a:srgbClr val="1cade4"/>
              </a:buClr>
              <a:buFont typeface="Calibri"/>
              <a:buChar char=" "/>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imes New Roman"/>
                <a:ea typeface="Arabic Transparent"/>
              </a:rPr>
              <a:t> </a:t>
            </a:r>
            <a:endParaRPr b="0" lang="en-US" sz="2000" spc="-1" strike="noStrike">
              <a:solidFill>
                <a:srgbClr val="404040"/>
              </a:solidFill>
              <a:latin typeface="Calibri"/>
            </a:endParaRPr>
          </a:p>
          <a:p>
            <a:pPr marL="85320" indent="-85320" algn="r"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وضع سياسات ومعايير لتخطيط عمليات المراجعة وتنفيذها وكتابة التقارير ، بحيث تتفق مع المعايير العالمية لمعهد المراجعين الداخليين والمعايير السعودية إن وجدت. </a:t>
            </a:r>
            <a:endParaRPr b="0" lang="en-US" sz="2400" spc="-1" strike="noStrike">
              <a:solidFill>
                <a:srgbClr val="404040"/>
              </a:solidFill>
              <a:latin typeface="Calibri"/>
            </a:endParaRPr>
          </a:p>
          <a:p>
            <a:pPr marL="85320" indent="-85320" algn="r"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وضع إجراءات محددة تضمن التزام المراجعين الداخليين بالمعايير المهنية. </a:t>
            </a:r>
            <a:endParaRPr b="0" lang="en-US" sz="2400" spc="-1" strike="noStrike">
              <a:solidFill>
                <a:srgbClr val="404040"/>
              </a:solidFill>
              <a:latin typeface="Calibri"/>
            </a:endParaRPr>
          </a:p>
          <a:p>
            <a:pPr marL="85320" indent="-85320" algn="r"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شكيل السياسات الإدارية والتنظيمية بوحدة المراجعة الداخلية.</a:t>
            </a:r>
            <a:endParaRPr b="0" lang="en-US" sz="2400" spc="-1" strike="noStrike">
              <a:solidFill>
                <a:srgbClr val="404040"/>
              </a:solidFill>
              <a:latin typeface="Calibri"/>
            </a:endParaRPr>
          </a:p>
          <a:p>
            <a:pPr marL="85320" indent="-85320" algn="r"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تحديد الواضح للمسؤوليات والسلطات داخل وحدة المراجعة الداخلية.</a:t>
            </a:r>
            <a:endParaRPr b="0" lang="en-US" sz="2400" spc="-1" strike="noStrike">
              <a:solidFill>
                <a:srgbClr val="404040"/>
              </a:solidFill>
              <a:latin typeface="Calibri"/>
            </a:endParaRPr>
          </a:p>
          <a:p>
            <a:pPr marL="85320" indent="-85320" algn="r"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حقيق التناسق بين أنشطة المراجعة الداخلية.</a:t>
            </a:r>
            <a:endParaRPr b="0" lang="en-US" sz="2400" spc="-1" strike="noStrike">
              <a:solidFill>
                <a:srgbClr val="404040"/>
              </a:solidFill>
              <a:latin typeface="Calibri"/>
            </a:endParaRPr>
          </a:p>
          <a:p>
            <a:pPr marL="85320" indent="-85320" algn="r"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لخيص وتوحيد أساليب المراجعة الداخلية في الوحدة وتوفير التعليمات الخاصة بالمراجعة الداخلية.</a:t>
            </a:r>
            <a:endParaRPr b="0" lang="en-US" sz="2400" spc="-1" strike="noStrike">
              <a:solidFill>
                <a:srgbClr val="404040"/>
              </a:solidFill>
              <a:latin typeface="Calibri"/>
            </a:endParaRPr>
          </a:p>
          <a:p>
            <a:pPr marL="85320" indent="-85320" algn="r"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مساعدة فرق المراجعة في أداء مهامهم. </a:t>
            </a:r>
            <a:endParaRPr b="0" lang="en-US" sz="2400" spc="-1" strike="noStrike">
              <a:solidFill>
                <a:srgbClr val="404040"/>
              </a:solidFill>
              <a:latin typeface="Calibri"/>
            </a:endParaRPr>
          </a:p>
          <a:p>
            <a:pPr marL="85320" indent="-85320" algn="r"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نظيم عملية التدريب داخل وحدة المراجعة.</a:t>
            </a:r>
            <a:endParaRPr b="0" lang="en-US" sz="2400" spc="-1" strike="noStrike">
              <a:solidFill>
                <a:srgbClr val="404040"/>
              </a:solidFill>
              <a:latin typeface="Calibri"/>
            </a:endParaRPr>
          </a:p>
          <a:p>
            <a:pPr marL="85320" indent="-85320" algn="r" rtl="1">
              <a:lnSpc>
                <a:spcPct val="90000"/>
              </a:lnSpc>
              <a:buClr>
                <a:srgbClr val="1cade4"/>
              </a:buClr>
              <a:buFont typeface="Calibri"/>
              <a:buChar char=" "/>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Times New Roman"/>
                <a:ea typeface="Arabic Transparent"/>
              </a:rPr>
              <a:t> </a:t>
            </a:r>
            <a:endParaRPr b="0" lang="en-US" sz="2400" spc="-1" strike="noStrike">
              <a:solidFill>
                <a:srgbClr val="404040"/>
              </a:solidFill>
              <a:latin typeface="Calibri"/>
            </a:endParaRPr>
          </a:p>
          <a:p>
            <a:pPr marL="85320" indent="-85320">
              <a:lnSpc>
                <a:spcPct val="90000"/>
              </a:lnSpc>
              <a:spcBef>
                <a:spcPts val="1199"/>
              </a:spcBef>
              <a:spcAft>
                <a:spcPts val="201"/>
              </a:spcAft>
              <a:buClr>
                <a:srgbClr val="1cade4"/>
              </a:buClr>
              <a:buFont typeface="Calibri"/>
              <a:buChar char=" "/>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8T14:48:40Z</dcterms:created>
  <dc:creator>hana</dc:creator>
  <dc:description/>
  <dc:language>en-US</dc:language>
  <cp:lastModifiedBy>hnae</cp:lastModifiedBy>
  <dcterms:modified xsi:type="dcterms:W3CDTF">2014-02-03T17:34:20Z</dcterms:modified>
  <cp:revision>28</cp:revision>
  <dc:subject/>
  <dc:title>إجراءات إنشاء وتنظيم وحدات المراجعة الداخلية وإداراتها</dc:title>
</cp:coreProperties>
</file>