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4C933-294C-4FEE-80BB-CC38B75C8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7959B-A5E3-48BA-808F-13150F723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4F8AC-6277-4F11-A444-CA5FE479D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63D4E-4E97-4F23-BB5D-5A5BE052D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24389-8060-428E-BA4D-965C24C8E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8A18A-05DE-435D-81B4-1FAE91E62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D338C-F245-4F04-BFA0-613C18A7C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4F80A-46E1-4FB7-970D-2C1DEFDC3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B420A-B32B-42C0-BBD0-4AAF94B0A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DDA60-A0AF-4461-BD95-262D03071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8BC5D-59C9-4324-86DF-81C71DFAE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7AE82-43F3-422D-83A4-3CAB6D164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98A99-448B-444A-AAEB-E73381949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94546-6612-4B31-A2AC-D75D4C249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3D1A5-DCFA-45F6-93D7-F10C4ACB7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BDB0C-FA62-493D-B75D-92B9E0F22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2EDA7-E58B-4978-84BE-B156F0C62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504791-F997-40D4-8CE4-A683838AD4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5CCEA3-46E3-49EC-A073-512376606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97271-C997-4160-9A28-04CD70F98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3C2EB9-4EC3-416F-9715-D20887CE52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C77955-72E5-43E5-B909-B05E17CBA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5E4AB-AAD9-4849-A267-92717F849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D3DF96-03A0-47DA-BC73-D04C2D3B3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46BCD-CC3F-4617-9FE8-EF7D399035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E7786-C765-43BC-8025-B9879216A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4265CB-3FEE-4559-8AAB-C2FD5493A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277ED6-807A-4627-BAD4-9E88A0124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09939D-7862-4268-A393-8FFBCBD2F1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108A2E-48CD-4986-BFA6-60087C5AEA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071258-BB2B-43FF-8A5E-D4B37AE831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FFB885-5970-4792-9FAC-9B0DB668A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8326F-C527-4C77-B5D4-1930173593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22868-9A10-46C5-BE7D-6DDA43CDA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70AE6-DF49-4AD8-B0ED-0919556E3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26EEB-14C3-43EF-B74A-4A159F3BC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FD9CF5-A42F-474C-BBC3-9241D8BE72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C88F32-6CBB-401D-A2E8-874E32920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525348-B732-479C-A084-E1D646605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B9D00-C866-4549-9C94-5F86AFFFA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82CAC2-C8D4-4091-B745-C353FB771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82F0A8-26DB-4F40-8278-ECB5DF79B1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5ED5DD-2F14-43A6-9576-1DBA5F68EB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B9D3D-A39C-4898-9EE3-8E81100A0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41483-3B63-4B78-A1E8-B3D0923C4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B45A0-AE02-418B-A21A-490318E32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2A84-F6CE-40B8-9EC6-53F3A8E3E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336E1-61C0-48E2-8B63-598A36F3D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C2970-4836-4458-9384-01EFA315BC6D}"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850D5-2C38-4622-A7BB-A0BBB9E39DB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B74AA-22AA-4281-A0D2-DD2D3DEFD5AD}"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B289E-5722-452B-BE01-83CF2B6B737D}"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1596600"/>
            <a:ext cx="7767720" cy="35672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br>
              <a:rPr sz="4800"/>
            </a:br>
            <a:br>
              <a:rPr sz="4800"/>
            </a:br>
            <a:r>
              <a:rPr b="0" lang="ar-SA" sz="3600" spc="-1" strike="noStrike">
                <a:solidFill>
                  <a:srgbClr val="90c226"/>
                </a:solidFill>
                <a:latin typeface="Trebuchet MS"/>
                <a:cs typeface="Tahoma"/>
              </a:rPr>
              <a:t>دليل المراجعة</a:t>
            </a:r>
            <a:br>
              <a:rPr sz="3600"/>
            </a:br>
            <a:r>
              <a:rPr b="0" lang="ar-SA" sz="3600" spc="-1" strike="noStrike">
                <a:solidFill>
                  <a:srgbClr val="90c226"/>
                </a:solidFill>
                <a:latin typeface="Trebuchet MS"/>
                <a:cs typeface="Tahoma"/>
              </a:rPr>
              <a:t>الفقرة الخامسة</a:t>
            </a:r>
            <a:br>
              <a:rPr sz="4800"/>
            </a:br>
            <a:r>
              <a:rPr b="0" lang="ar-SA" sz="4800" spc="-1" strike="noStrike">
                <a:solidFill>
                  <a:srgbClr val="90c226"/>
                </a:solidFill>
                <a:latin typeface="Trebuchet MS"/>
                <a:cs typeface="Tahoma"/>
              </a:rPr>
              <a:t>تخطيط المراجعة الداخلية</a:t>
            </a:r>
            <a:br>
              <a:rPr sz="5400"/>
            </a:br>
            <a:endParaRPr b="0" lang="en-US" sz="48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بع...</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قابلية للتغيير</a:t>
            </a:r>
            <a:r>
              <a:rPr b="0" lang="ar-SA" sz="2000" spc="-1" strike="noStrike">
                <a:solidFill>
                  <a:srgbClr val="000000"/>
                </a:solidFill>
                <a:latin typeface="Trebuchet MS"/>
                <a:ea typeface="Tahoma"/>
              </a:rPr>
              <a:t>: الأنشطة التي تكون عرضة للتغير يجب أن يكون لها أولوية عند تحديد المهام أكثر من تلك التي لا تكون معرضة للتغيي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الإضافة إلى ما سبق يجب على القائم بتحديد المهام التي ستخضع للمراجعة مراعاة</a:t>
            </a:r>
            <a:r>
              <a:rPr b="1" lang="ar-SA" sz="2000" spc="-1" strike="noStrike">
                <a:solidFill>
                  <a:srgbClr val="000000"/>
                </a:solidFill>
                <a:latin typeface="Trebuchet MS"/>
                <a:ea typeface="Tahoma"/>
              </a:rPr>
              <a:t> ما يلي</a:t>
            </a:r>
            <a:r>
              <a:rPr b="0" lang="ar-SA" sz="2000" spc="-1" strike="noStrike">
                <a:solidFill>
                  <a:srgbClr val="000000"/>
                </a:solidFill>
                <a:latin typeface="Trebuchet MS"/>
                <a:ea typeface="Tahoma"/>
              </a:rPr>
              <a:t>: (قراءة)</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كفاية المراجعين الداخليين بوحدة المراجعة الداخلية.</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توفر الوقت اللازم لإنجاز المهام.</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توفر الموارد الأخرى اللازمة لإنجاز أعمال الفحص.</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إعداد الميزانية التقديرية للوقت المطلوب للمهمة الواحد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م تجهيز الميزانية التقديرية لكل مهمة أثناء تحضير خطة المراجعة الداخلية حتى يمكن تحقيق التناسق بين احتياجات كل مهمة وخطة المراجعة الداخلية ككل. وعند إعداد ميزانية الوقت التقديرية للمهمة  يجب أخذ </a:t>
            </a:r>
            <a:r>
              <a:rPr b="1" lang="ar-SA" sz="2000" spc="-1" strike="noStrike">
                <a:solidFill>
                  <a:srgbClr val="000000"/>
                </a:solidFill>
                <a:latin typeface="Trebuchet MS"/>
                <a:cs typeface="Tahoma"/>
              </a:rPr>
              <a:t>العوامل التالية في الاعتبار</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نطاق المهمة وأهداف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درجة التدريب والإشراف اللازمة لتنفيذ المهمة في ضوء الخبرات المتوفرة لدى الفريق المعين لأداء مهمة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درجة تعقد مهمة المراجعة ومدى تناسبها مع خبرات الفريق المكلف ب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وقت الذي استغرقته نفس المهمة في مراجعات سابق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4"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إصدار خطة المراجعة الداخلي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بعد تجهيز خطة المراجعة الداخلية يتم عرضها على المسئول الأول  بالجهة لاعتمادها وقد يتم إجراء تعديلات عليها قبل الموافقة النهائية عليها. </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90c226"/>
                </a:solidFill>
                <a:latin typeface="Trebuchet MS"/>
                <a:cs typeface="Tahoma"/>
              </a:rPr>
              <a:t>خطة المراجعة الداخلية (استراتيجية المراجعة)</a:t>
            </a:r>
            <a:br>
              <a:rPr sz="3200"/>
            </a:br>
            <a:endParaRPr b="0" lang="en-US" sz="3200" spc="-1" strike="noStrike">
              <a:solidFill>
                <a:srgbClr val="90c226"/>
              </a:solidFill>
              <a:latin typeface="Trebuchet MS"/>
            </a:endParaRPr>
          </a:p>
        </p:txBody>
      </p:sp>
      <p:sp>
        <p:nvSpPr>
          <p:cNvPr id="236" name=""/>
          <p:cNvSpPr txBox="1"/>
          <p:nvPr/>
        </p:nvSpPr>
        <p:spPr>
          <a:xfrm>
            <a:off x="677520" y="2147760"/>
            <a:ext cx="859644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إحداث التعديلات على خطة المراجعة الداخل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إذا حدث تعديلات على خطة المراجعة التي سبق الموافقة عليها يجب أن تراجع التعديلات ويوافق عليها من قبل المسئول الأول بالجهة.</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تخطيط مهمة المراجعة</a:t>
            </a:r>
            <a:endParaRPr b="0" lang="en-US" sz="3600" spc="-1" strike="noStrike">
              <a:solidFill>
                <a:srgbClr val="90c226"/>
              </a:solidFill>
              <a:latin typeface="Trebuchet MS"/>
            </a:endParaRPr>
          </a:p>
        </p:txBody>
      </p:sp>
      <p:sp>
        <p:nvSpPr>
          <p:cNvPr id="238" name=""/>
          <p:cNvSpPr txBox="1"/>
          <p:nvPr/>
        </p:nvSpPr>
        <p:spPr>
          <a:xfrm>
            <a:off x="677520" y="2160360"/>
            <a:ext cx="8596440" cy="3881160"/>
          </a:xfrm>
          <a:prstGeom prst="rect">
            <a:avLst/>
          </a:prstGeom>
          <a:noFill/>
          <a:ln w="0">
            <a:noFill/>
          </a:ln>
        </p:spPr>
        <p:txBody>
          <a:bodyPr anchor="t">
            <a:normAutofit fontScale="97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عد خطة مراجعة خاصة بكل مهمة من قبل المراجع المسؤول عن تنفيذ المهمة ويقوم باعتمادها من مدير المراجعة الداخلية ويجب أن يتم </a:t>
            </a:r>
            <a:r>
              <a:rPr b="1" lang="ar-SA" sz="2200" spc="-1" strike="noStrike">
                <a:solidFill>
                  <a:srgbClr val="000000"/>
                </a:solidFill>
                <a:latin typeface="Trebuchet MS"/>
                <a:cs typeface="Tahoma"/>
              </a:rPr>
              <a:t>توثيقها</a:t>
            </a:r>
            <a:r>
              <a:rPr b="0" lang="ar-SA" sz="2200" spc="-1" strike="noStrike">
                <a:solidFill>
                  <a:srgbClr val="000000"/>
                </a:solidFill>
                <a:latin typeface="Trebuchet MS"/>
                <a:ea typeface="Tahoma"/>
              </a:rPr>
              <a:t>.</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عند تخطيط مهمة المراجعة يجب على القائم بالتخطيط أن يبني خطته استنادا إلى </a:t>
            </a:r>
            <a:r>
              <a:rPr b="1" lang="ar-SA" sz="2200" spc="-1" strike="noStrike">
                <a:solidFill>
                  <a:srgbClr val="000000"/>
                </a:solidFill>
                <a:latin typeface="Trebuchet MS"/>
                <a:cs typeface="Tahoma"/>
              </a:rPr>
              <a:t>الأمور التالية:  </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حديد الأهداف المطلوب تحقيقها من تنفيذ المهمة والتي يجب أن تكون متسقة مع  أهداف خطة وحدة المراجعة ككل.</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حصول على معلومات كافية عن الأنشطة التي سيتم مراجعتها.</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حديد الموارد اللازمة لإنجاز مهمة المراجع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إبلاغ الأطراف المعنية ببدء عملية المراجع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خطيط مهمة المراجعة</a:t>
            </a:r>
            <a:endParaRPr b="0" lang="en-US" sz="3600" spc="-1" strike="noStrike">
              <a:solidFill>
                <a:srgbClr val="90c226"/>
              </a:solidFill>
              <a:latin typeface="Trebuchet MS"/>
            </a:endParaRPr>
          </a:p>
        </p:txBody>
      </p:sp>
      <p:sp>
        <p:nvSpPr>
          <p:cNvPr id="240" name=""/>
          <p:cNvSpPr txBox="1"/>
          <p:nvPr/>
        </p:nvSpPr>
        <p:spPr>
          <a:xfrm>
            <a:off x="677520" y="2160360"/>
            <a:ext cx="8596440" cy="3881160"/>
          </a:xfrm>
          <a:prstGeom prst="rect">
            <a:avLst/>
          </a:prstGeom>
          <a:noFill/>
          <a:ln w="0">
            <a:noFill/>
          </a:ln>
        </p:spPr>
        <p:txBody>
          <a:bodyPr anchor="t">
            <a:normAutofit fontScale="96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بع...(قراء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مل دراسة حول الأنشطة والمخاطر ذات الصلة بالمهمة ووسائل الرقابة المستخدمة للحد منها.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راجعة دليل المراجعة لتحديد الإجراءات التي يتعين القيام بها في نطاق العمل.</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ديد كيف ومتى ولمن سيتم الإبلاغ بنتائج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حصول على موافقة مدير المراجعة الداخلية باعتماد خطة المراجع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وثيق خطة مراجعة المهمة في مذكرة تخطيط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2" name=""/>
          <p:cNvSpPr txBox="1"/>
          <p:nvPr/>
        </p:nvSpPr>
        <p:spPr>
          <a:xfrm>
            <a:off x="677520" y="1929960"/>
            <a:ext cx="8596440" cy="4251240"/>
          </a:xfrm>
          <a:prstGeom prst="rect">
            <a:avLst/>
          </a:prstGeom>
          <a:noFill/>
          <a:ln w="0">
            <a:noFill/>
          </a:ln>
        </p:spPr>
        <p:txBody>
          <a:bodyPr anchor="t">
            <a:normAutofit fontScale="99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أهمية تحديد أهداف المهم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ركيز الموارد المتاحة للمهمة على الجوانب الضرورية لتحقيق أهداف مهمة المراجعة أو التي تحتوي على نسبة تعرض للمخاطر عالي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جنب ضياع الوقت في مراجعة العمليات غير الضرورية لتحقيق أهداف المراجعة أو التي تحتوي على نسبة تعرض للمخاطر قليلة أو غير هام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سين عمليات الاتصال مع الإدارة المراد مراجعتها على جميع المستويات.</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ضمان تغطية كل عمليات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4" name=""/>
          <p:cNvSpPr txBox="1"/>
          <p:nvPr/>
        </p:nvSpPr>
        <p:spPr>
          <a:xfrm>
            <a:off x="677520" y="1816200"/>
            <a:ext cx="8596440" cy="4365360"/>
          </a:xfrm>
          <a:prstGeom prst="rect">
            <a:avLst/>
          </a:prstGeom>
          <a:noFill/>
          <a:ln w="0">
            <a:noFill/>
          </a:ln>
        </p:spPr>
        <p:txBody>
          <a:bodyPr anchor="t">
            <a:normAutofit fontScale="99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لتحديد أهداف مهمة المراجعة يمكن إتباع الخطوات الآتية</a:t>
            </a:r>
            <a:r>
              <a:rPr b="0" lang="ar-SA" sz="2200" spc="-1" strike="noStrike">
                <a:solidFill>
                  <a:srgbClr val="000000"/>
                </a:solidFill>
                <a:latin typeface="Wingdings"/>
                <a:ea typeface="Wingdings"/>
              </a:rPr>
              <a:t></a:t>
            </a:r>
            <a:r>
              <a:rPr b="0" lang="ar-SA" sz="2200" spc="-1" strike="noStrike">
                <a:solidFill>
                  <a:srgbClr val="000000"/>
                </a:solidFill>
                <a:latin typeface="Trebuchet MS"/>
                <a:cs typeface="Tahoma"/>
              </a:rPr>
              <a:t>قراء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اطلاع على خطة المراجعة الشاملة للإدارة ودور المهمة في تحقيق أهداف الخط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عمل مناقشة للأهداف العريضة للمهمة بين فريق العمل ومدير إدارة المراجعة الداخلي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قيام ببعض الإجراءات التمهيدية لتقدير المخاطر.</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مناقشة فريق عمل المهمة في المخاطر المحيطة بها وتحديد الأهداف على ضوء المراجعة التمهيدي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اتفاق على الأهداف المحددة للمهمة سواء كانت مرتبطة بالفحص أو التحقق أو التقويم أو مراجعة الالتزام.</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6" name=""/>
          <p:cNvSpPr txBox="1"/>
          <p:nvPr/>
        </p:nvSpPr>
        <p:spPr>
          <a:xfrm>
            <a:off x="677520" y="1816200"/>
            <a:ext cx="8596440" cy="43653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التوثيق:</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يجب توثيق أهداف التخطيط ونطاق العمل عن طريق إدراجها في مذكرة تخطيط المراجعة. وإذا حدث تعديلات على أهداف ونطاق عمل المراجعة التي تم الموافقة عليها وتم توثيقها ، يجب مناقشة هذه التعديلات مع مدير المراجعة الداخلية والحصول على موافقة المسئول الأول بالجهة قبل البدء في تنفيذ هذه التعديلات.</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4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شمل مراجعة الهياكل التنظيمية، السياسات، الإجراءات، تفعيل تقنية المعلومات، وأي نوع آخر من المعلومات التي ستساعد فريق مهمة المراجعة الداخلية على الفهم الجيد للمناطق المراد مراجعتها.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يعتمد الوقت المستنفذ في عمل المراجعة التمهيدية على مدى تعقد الأعمال المراد مراجعتها وعلى الوقت الذي استغرقته آخر عملية مراجعة لهذه الأعمال.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حديد عمق وطول المراجعة التمهيدية يأتي من ضمن مسؤوليات مدير المراجعة الداخلية.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عمل المراجعة التمهيدية على تزويد فريق المهمة بصورة واضحة عن العمليات وعن الرقابة الداخلية المعتمدة داخل الإدارة المراد مراجعتها.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وضوع اليوم سيشتمل بأذن الله على التالي:</a:t>
            </a:r>
            <a:endParaRPr b="0" lang="en-US" sz="3600" spc="-1" strike="noStrike">
              <a:solidFill>
                <a:srgbClr val="90c226"/>
              </a:solidFill>
              <a:latin typeface="Trebuchet MS"/>
            </a:endParaRPr>
          </a:p>
        </p:txBody>
      </p:sp>
      <p:sp>
        <p:nvSpPr>
          <p:cNvPr id="214" name=""/>
          <p:cNvSpPr txBox="1"/>
          <p:nvPr/>
        </p:nvSpPr>
        <p:spPr>
          <a:xfrm>
            <a:off x="677520" y="2163240"/>
            <a:ext cx="8596440" cy="410868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قدير المخاطر وترجمتها الى خطة مراجعة داخلي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خطة المراجعة الداخلية (الخطة الاستراتيجية)</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ختيار مهام المراجع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عداد الميزانية التقديرية للوقت المطلوب للمهمة الواحد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صدار خطة المراجعة الداخلية إحداث التعديلات عليها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خطيط مهمة المراجعة</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حديد نطاق واهداف مهمة المراجع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مراجعات التمهيدي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رامج المراجع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وراق العمل</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توثيق:</a:t>
            </a:r>
            <a:r>
              <a:rPr b="0" lang="ar-SA" sz="2400" spc="-1" strike="noStrike">
                <a:solidFill>
                  <a:srgbClr val="000000"/>
                </a:solidFill>
                <a:latin typeface="Trebuchet MS"/>
                <a:ea typeface="Tahoma"/>
              </a:rPr>
              <a:t>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r>
              <a:rPr b="0" lang="ar-SA" sz="2400" spc="-1" strike="noStrike">
                <a:solidFill>
                  <a:srgbClr val="000000"/>
                </a:solidFill>
                <a:latin typeface="Trebuchet MS"/>
                <a:ea typeface="Tahoma"/>
              </a:rPr>
              <a:t> توثيق نتائج المراجعة التمهيدية، تحتاج وحدة المراجعة الداخلية إلى استخدام النماذج التالية لتعبئتها من قبل أعضاء </a:t>
            </a:r>
            <a:r>
              <a:rPr b="1" lang="ar-SA" sz="2400" spc="-1" strike="noStrike">
                <a:solidFill>
                  <a:srgbClr val="000000"/>
                </a:solidFill>
                <a:latin typeface="Trebuchet MS"/>
                <a:cs typeface="Tahoma"/>
              </a:rPr>
              <a:t>فريق المهم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قائمة أعمال المراجعة الواجب تنفيذها.</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ذكرة تخطيط المراجع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ea typeface="Tahoma"/>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قائمة أعمال المراجعة الواجب تنفيذها:</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مثلة</a:t>
            </a:r>
            <a:r>
              <a:rPr b="0" lang="ar-SA" sz="2000" spc="-1" strike="noStrike">
                <a:solidFill>
                  <a:srgbClr val="000000"/>
                </a:solidFill>
                <a:latin typeface="Trebuchet MS"/>
                <a:ea typeface="Tahoma"/>
              </a:rPr>
              <a:t> على بعض ما تتضمنه قائمة أعمال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إدارات التي يجب زيارتها والأشخاص اللذين يجب مناقشت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توثيق المطلوب للعمل الذي ت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شكل تقرير نتائج 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وقت اللازم للانتهاء من المهمة وشكل التقرير النهائي ل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راجعون المكلفون ب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خاطر المرتبطة ب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نتائج المتوقع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مذكرة تخطيط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مثلة</a:t>
            </a:r>
            <a:r>
              <a:rPr b="0" lang="ar-SA" sz="2000" spc="-1" strike="noStrike">
                <a:solidFill>
                  <a:srgbClr val="000000"/>
                </a:solidFill>
                <a:latin typeface="Trebuchet MS"/>
                <a:ea typeface="Tahoma"/>
              </a:rPr>
              <a:t> على مايجب أن تتضمنه مذكرة تخطيط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علومات عن الإدارات أو الأقسام التي سيتم مراجعة أعمالها وطبيعة تلك الأعمال والمخاطر المرتبطة بكل من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فراد والمسئولين عن الإدارات أو الأقسام التي سيتم مراجعة أعمالها والمهام المنوطة بكل من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يان واضح بنطاق مهمة المراجعة وحدود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وقيت القيام بالمراحل الأساسية للمهم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بع..</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ريق العمل المكلف بالمهمة ودور كل منهم ومتى يعود إلى رئيس فريق عمل المهم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نشطة التي سيتم القيام ب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شكل التقرير وتوقيت تقديمه لإدارة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مراجعة وتوثيق الظروف والأوضاع التي قد تؤثر على المهمة أو على أداء فريق العمل في مذكرة تخطيط المراجعة، هذه الظروف والأوضاع</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مسئولية إعداد قائمة أعمال مراجعة المهمة ومذكرة التخطيط تقع على عاتق رئيس فريق المراجعة ويتعين عليه اعتمادها من مدير إدارة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ea typeface="Tahoma"/>
              </a:rPr>
              <a:t>(قراءة)بالإضافة</a:t>
            </a:r>
            <a:r>
              <a:rPr b="0" lang="ar-SA" sz="2000" spc="-1" strike="noStrike">
                <a:solidFill>
                  <a:srgbClr val="000000"/>
                </a:solidFill>
                <a:latin typeface="Trebuchet MS"/>
                <a:ea typeface="Tahoma"/>
              </a:rPr>
              <a:t> إلى كل ما ذكر فإن مذكرة تخطيط المراجعة يجب أن تلخص تفاصيل </a:t>
            </a:r>
            <a:r>
              <a:rPr b="1" lang="ar-SA" sz="2000" spc="-1" strike="noStrike">
                <a:solidFill>
                  <a:srgbClr val="54a021"/>
                </a:solidFill>
                <a:latin typeface="Trebuchet MS"/>
                <a:cs typeface="Tahoma"/>
              </a:rPr>
              <a:t>الاجتماع الافتتاحي </a:t>
            </a:r>
            <a:r>
              <a:rPr b="0" lang="ar-SA" sz="2000" spc="-1" strike="noStrike">
                <a:solidFill>
                  <a:srgbClr val="000000"/>
                </a:solidFill>
                <a:latin typeface="Trebuchet MS"/>
                <a:cs typeface="Tahoma"/>
              </a:rPr>
              <a:t>المنعقد. </a:t>
            </a:r>
            <a:r>
              <a:rPr b="1" lang="ar-SA" sz="2000" spc="-1" strike="noStrike">
                <a:solidFill>
                  <a:srgbClr val="000000"/>
                </a:solidFill>
                <a:latin typeface="Trebuchet MS"/>
                <a:cs typeface="Tahoma"/>
              </a:rPr>
              <a:t>من هذه التفاصيل:</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وقت ومكان الاجتماع، (</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الحضور، (</a:t>
            </a: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 الموضوعات التي تم مناقشتها، (</a:t>
            </a:r>
            <a:r>
              <a:rPr b="0" lang="ar-SA" sz="2000" spc="-1" strike="noStrike">
                <a:solidFill>
                  <a:srgbClr val="000000"/>
                </a:solidFill>
                <a:latin typeface="Trebuchet MS"/>
                <a:ea typeface="Tahoma"/>
              </a:rPr>
              <a:t>4</a:t>
            </a:r>
            <a:r>
              <a:rPr b="0" lang="ar-SA" sz="2000" spc="-1" strike="noStrike">
                <a:solidFill>
                  <a:srgbClr val="000000"/>
                </a:solidFill>
                <a:latin typeface="Trebuchet MS"/>
                <a:ea typeface="Tahoma"/>
              </a:rPr>
              <a:t>) الاستنتاجات التي تم التوصل إليها، (</a:t>
            </a:r>
            <a:r>
              <a:rPr b="0" lang="ar-SA" sz="2000" spc="-1" strike="noStrike">
                <a:solidFill>
                  <a:srgbClr val="000000"/>
                </a:solidFill>
                <a:latin typeface="Trebuchet MS"/>
                <a:ea typeface="Tahoma"/>
              </a:rPr>
              <a:t>5</a:t>
            </a:r>
            <a:r>
              <a:rPr b="0" lang="ar-SA" sz="2000" spc="-1" strike="noStrike">
                <a:solidFill>
                  <a:srgbClr val="000000"/>
                </a:solidFill>
                <a:latin typeface="Trebuchet MS"/>
                <a:ea typeface="Tahoma"/>
              </a:rPr>
              <a:t>) التوقيتات المتوقعة للمراحل الأساسية للمراجعة، (</a:t>
            </a:r>
            <a:r>
              <a:rPr b="0" lang="ar-SA" sz="2000" spc="-1" strike="noStrike">
                <a:solidFill>
                  <a:srgbClr val="000000"/>
                </a:solidFill>
                <a:latin typeface="Trebuchet MS"/>
                <a:ea typeface="Tahoma"/>
              </a:rPr>
              <a:t>6</a:t>
            </a:r>
            <a:r>
              <a:rPr b="0" lang="ar-SA" sz="2000" spc="-1" strike="noStrike">
                <a:solidFill>
                  <a:srgbClr val="000000"/>
                </a:solidFill>
                <a:latin typeface="Trebuchet MS"/>
                <a:ea typeface="Tahoma"/>
              </a:rPr>
              <a:t>) تسجيل المواعيد المناسبة لبداية ونهاية </a:t>
            </a:r>
            <a:r>
              <a:rPr b="1" lang="ar-SA" sz="2000" spc="-1" strike="noStrike">
                <a:solidFill>
                  <a:srgbClr val="000000"/>
                </a:solidFill>
                <a:latin typeface="Trebuchet MS"/>
                <a:cs typeface="Tahoma"/>
              </a:rPr>
              <a:t>الأمور التالية الخاصة بالمهم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خطيط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العمل الميداني.</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اريخ إصدار مسودة التقرير.</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اريخ إصدار التقرير النهائي المؤقت.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اجتماع الافتتاحي مع الجهة المراجع عليها</a:t>
            </a:r>
            <a:endParaRPr b="0" lang="en-US" sz="3600" spc="-1" strike="noStrike">
              <a:solidFill>
                <a:srgbClr val="90c226"/>
              </a:solidFill>
              <a:latin typeface="Trebuchet MS"/>
            </a:endParaRPr>
          </a:p>
        </p:txBody>
      </p:sp>
      <p:sp>
        <p:nvSpPr>
          <p:cNvPr id="26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حضور الاجتماع من قبل أعضاء الإدارة المهتمين بعملية المراجعة والذين يستطيعون تسهيل عمل المراجعة على الجهة المراد مراجعت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على مدير المراجعة الداخلية أن يرأس فريق المراجعة في الاجتماع الافتتاحي.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تبرز أهمية الإجتماع الافتتاحي من أنه </a:t>
            </a:r>
            <a:r>
              <a:rPr b="1" lang="ar-SA" sz="2000" spc="-1" strike="noStrike">
                <a:solidFill>
                  <a:srgbClr val="000000"/>
                </a:solidFill>
                <a:latin typeface="Trebuchet MS"/>
                <a:cs typeface="Tahoma"/>
              </a:rPr>
              <a:t>يعتبر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بمثابة الفرصة الأولى للقاء موظفي الإدارة المراد مراجعتها بشكل رسمي،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كما أنه يرسم الاتجاهات العامة لباقي مراحل مهمة المراجعة.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اجتماع الافتتاحي مع الجهة المراجع عليها</a:t>
            </a:r>
            <a:endParaRPr b="0" lang="en-US" sz="3600" spc="-1" strike="noStrike">
              <a:solidFill>
                <a:srgbClr val="90c226"/>
              </a:solidFill>
              <a:latin typeface="Trebuchet MS"/>
            </a:endParaRPr>
          </a:p>
        </p:txBody>
      </p:sp>
      <p:sp>
        <p:nvSpPr>
          <p:cNvPr id="262"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الأمور التي يتم مناقشتها في الاجتماع الافتتاحي عادة هي:</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هدف المراجع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عريف المصطلحات</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تطلبات الجهة المراجع عليها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رفع التقارير</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عاليات الاختتام</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1" lang="ar-SA" sz="1800" spc="-1" strike="noStrike">
                <a:solidFill>
                  <a:srgbClr val="000000"/>
                </a:solidFill>
                <a:latin typeface="Trebuchet MS"/>
                <a:cs typeface="Tahoma"/>
              </a:rPr>
              <a:t>أهداف برنامج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أسس ثابتة لعملية توزيع العمل على فريق المراجعة الداخلي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وسائل للسيطرة على الميزانيات الوقتية لمهمة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عمل كأداة تدريب للمراجعين الداخليين حديثي الخبر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سجل تلخيصي بالعمل الذي تم إنجازه.</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مساعدة في جعل المهمة مألوفة لدى المراجع الداخلي.</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خفيض الوقت المطلوب للإشراف المباشر على فريق المراجعة الداخلية. </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انتهاء خطوات المراجعة، يجب أن يعلن المراجع عن انتهاء الواجبات المحددة في البرنامج وأن يحتفظ بأوراق العمل التي توثيق نتائج المراجعة.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6"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شكل ومضمون برنامج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تجزئة البرنامج إلى مجموعة مقاطع تقوم كل منها بخدمة هدف أو أكثر من أهداف مهمة المراجعة ومن ثم تبدأ عملية تنفيذ الإجراءات اللازمة بتحقيق هذا الهدف.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في بعض الحالات الخاصة قد يكون مفيداً استشارة اختصاصيين متمرسين للمساعدة في تحديد وتسلسل الإجراءات التي يجب تنفيذ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أن يشمل برنامج المراجعة كل التفاصيل الضرورية لتنفيذ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أن توقع وتؤرخ كل الإجراءات داخل برنامج العمل من قبل المعد مع ضرورة عمل مرجعية لها في أوراق العمل.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كما يجب عمل حيز خاص للتوقيع وكتابة مرجعية أوراق العمل داخل البرنامج.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الإضافة إلى كل ما ذكر فإنه يجب أن تصف أوراق العمل الفحص الذي تم إنجازه ونتائج هذا الفحص.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عدها تعبأ هذه النتائج في برنامج المراجعة وملف أوراق العمل الحالي.</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8"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مسؤولية تحضير برنامج المراجعة</a:t>
            </a:r>
            <a:r>
              <a:rPr b="0" lang="ar-SA" sz="1800" spc="-1" strike="noStrike">
                <a:solidFill>
                  <a:srgbClr val="000000"/>
                </a:solidFill>
                <a:latin typeface="Trebuchet MS"/>
                <a:ea typeface="Tahoma"/>
              </a:rPr>
              <a:t>:</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2000" spc="-1" strike="noStrike">
                <a:solidFill>
                  <a:srgbClr val="000000"/>
                </a:solidFill>
                <a:latin typeface="Trebuchet MS"/>
                <a:cs typeface="Tahoma"/>
              </a:rPr>
              <a:t>يعتبر تحضير برنامج المراجعة من مسؤولية رئيس فريق مهمة المراجعة أو المرجع المسؤول بالاعتماد على:</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فهم طبيعة العمل بالجهة المراجع عليها و</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المخاطر التي تم تحديدها خلال مرحلة تقويم المخاطر و</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 المخاطر التي تم الإبلاغ عنها عن طريق موظفي الجهة المراجع علي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مع العلم بأن برنامج المراجعة يجب أن يراجع ويعتمد من قبل رئيس المهمة قبل البدء بالعمل الميداني. كما يجب أن يقوم مدير المراجعة بالمراجعة والموافقة على كل المستندات وذلك لضمان أن إدراك فريق المراجعة كافٍ لإعداد وتنفيذ برنامج المراجعة الذي سيستخدم في تحقيق أهداف وغايات مهمة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خطيط المراجعة الداخلية</a:t>
            </a:r>
            <a:endParaRPr b="0" lang="en-US" sz="3600" spc="-1" strike="noStrike">
              <a:solidFill>
                <a:srgbClr val="90c226"/>
              </a:solidFill>
              <a:latin typeface="Trebuchet MS"/>
            </a:endParaRPr>
          </a:p>
        </p:txBody>
      </p:sp>
      <p:sp>
        <p:nvSpPr>
          <p:cNvPr id="21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لزم المعيار الأول من معايير المراجعة الداخلية مدير المراجعة بوضع خطة لعملية المراجعة بناء على تقدير المخاطر بهدف تحديد المهام التي يجب على المراجعة الداخلية تنفيذها مع مراعاة أن تكون الخطة متسقة مع أهداف الوحد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جب أن تكون أولوية اختيار مهام المراجعة الداخلية بناء على قوة تأثيرها في تحسين عملية إدارة المخاطر بالوحد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0"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فهم طبيعة العمل بالجهة المراجع عليها</a:t>
            </a:r>
            <a:r>
              <a:rPr b="0" lang="ar-SA" sz="1800" spc="-1" strike="noStrike">
                <a:solidFill>
                  <a:srgbClr val="000000"/>
                </a:solidFill>
                <a:latin typeface="Trebuchet MS"/>
                <a:ea typeface="Tahoma"/>
              </a:rPr>
              <a:t>:</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أن الفهم المناسب لطبيعة العمل بالجهة المراجع عليها يمكن فريق المراجعة من تحديد أساليب الرقابة المستخدمة والمخاطر المصاحبة لها قبل وضع برنامج مراجعة. لذلك فإن عملية فهم طبيعة العمل بالجهة المراجع عليها تعتبر الأساس في:</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ييم الرقابة الداخلية و</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في إعداد برنامج مراجعة جيد. </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ويوجد طريقتين يمكن استخدامهما لتوثيق فهم طبيعة العمل وبيئة الرقابة بالجهة المراجع عليها هما: </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وصف النثري للإجراءات</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خرائط التدفق البيان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2"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وصف النثري للإجراءات</a:t>
            </a:r>
            <a:r>
              <a:rPr b="0" lang="ar-SA" sz="2000" spc="-1" strike="noStrike">
                <a:solidFill>
                  <a:srgbClr val="000000"/>
                </a:solidFill>
                <a:latin typeface="Trebuchet MS"/>
                <a:ea typeface="Tahoma"/>
              </a:rPr>
              <a:t>:</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قوم هذه الطريقة على وصف إجراءات العمل بطريقة نثرية منفصلة، وعلى توثيق الأنظمة والإجراءات عندم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كون عملية تغييرات جذرية في النظام متوقعة الحدوث.</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لا تتوافر إجراءات واضحة ومتبعة للرقابة الداخل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كون النظام غير معقد، وبالتالي يمكن توثيقه بسهولة على نماذج وصف الإجراءات كتابياً.</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4"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خرائط التدفق البياني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صور خرائط التدفق باستخدام الرسوم البيانية تدفق الإجراءات وأنظمة الرقابة على هيئة نماذج مرسومة لتسهيل عملية فهم طبيعة العمل وبيئة الرقابة بالجهة المراجع عليها. </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وفي بعض الأوقات قد يكون من الأكثر فعالية توثيق بعض أنواع الرقابة بطريقة وصف الإجراءات كتابياً ملحقة ومكملة بخرائط التدفق البيا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6"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تطوير البرنامج</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عد الانتهاء من مهمة المراجعة، يقوم فريق المراجعة الداخلية بتدوين –داخل أوراق العمل- اقتراحاتهم بتغيير وتعديل برنامج المراجعة، والذي سيتم تطبيقه قبل البدء بمهمة المرجعة اللاحق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إحداث التعديلات في برامج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ي بعض الحالات، قد يكون من الضروري أن يقوم رئيس الفريق بتطوير أو تعديل فقرات من برنامج المراجعة أثناء العمل الميداني. مما يوجب إبلاغ مدير المراجعة بكل هذه التعديلات، قبل البدء بعملها، وذلك لضمان أن مثل هذه التغيرات لن تؤثر على نطاق وأهداف مهمة المراجعة العام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7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تستخدم أوراق العمل كوسيلة لـ (قراء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توثيق العمل الذي قامت وحدة المراجعة الداخلية بإنجازه خلال مراحل المهمة و</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تدوين المعلومات والبيانات والأدلة التي تم تجميعها و</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 توثيق الاختبارات والتحاليل التي تم تنفيذها على عينات المراجع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وتحفظ أوراق المراجعة كما سبق أن ذكرنا في ملفين هم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لف المراجعة الدائ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ملف مراجعة المهمة (الملف الجار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قراءة)يبدأ استخدام أوراق العمل منذ بداية التخطيط للمهمة وحتى الإنتهاء من تنفيذ المهمة وإصدار التقرير. أي أن </a:t>
            </a:r>
            <a:r>
              <a:rPr b="1" lang="ar-SA" sz="1800" spc="-1" strike="noStrike">
                <a:solidFill>
                  <a:srgbClr val="000000"/>
                </a:solidFill>
                <a:latin typeface="Trebuchet MS"/>
                <a:cs typeface="Tahoma"/>
              </a:rPr>
              <a:t>أوراق العمل تستخدم في توثيق الخطوات التال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خطط المراجعة، بما في ذلك برنامج المراجع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فحص وتقييم كفاءة وفعالية أنظمة الرقابة الداخل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إجراءات المراجعة المستخدمة، المعلومات التي تم الحصول عليها، والنتائج التي تم التوصل إلي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إشراف.</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متابعة الخاصة بتطبيق الإجراءات التصحيحي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فهرس الموحد لأوراق العمل:</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يجب أن يصمم مدير المراجعة نظام فهرسة لأوراق العمل بالإتفاق مع العاملين بالوحدة لتوحيد هيكل ومحتوى ملفات المراجعة و لضمان التماثل في جميع ملفات المراجعة لكي يسهل التعامل معه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أهداف أوراق العمل: </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هيل تنفيذ وإدارة مهمة المراجعة بكفاءة وفعال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قديم الدعم والتأييد لتقارير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هيل مراجعة الأطراف الخارجية الأخرى.</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ساعدة في التطور المه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اهم أوراق العمل في تنفيذ </a:t>
            </a:r>
            <a:r>
              <a:rPr b="1" lang="ar-SA" sz="2000" spc="-1" strike="noStrike">
                <a:solidFill>
                  <a:srgbClr val="54a021"/>
                </a:solidFill>
                <a:latin typeface="Trebuchet MS"/>
                <a:cs typeface="Tahoma"/>
              </a:rPr>
              <a:t>الواجبات الإدارية </a:t>
            </a:r>
            <a:r>
              <a:rPr b="0" lang="ar-SA" sz="2000" spc="-1" strike="noStrike">
                <a:solidFill>
                  <a:srgbClr val="000000"/>
                </a:solidFill>
                <a:latin typeface="Trebuchet MS"/>
                <a:cs typeface="Tahoma"/>
              </a:rPr>
              <a:t>المختلفة لوحدة المراجعة الداخلية بكفاءة وفعال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والمقصود بالواجبات الإدارية في الهدف الأخير ما يلي</a:t>
            </a:r>
            <a:r>
              <a:rPr b="1" lang="ar-SA" sz="2000" spc="-1" strike="noStrike">
                <a:solidFill>
                  <a:srgbClr val="000000"/>
                </a:solidFill>
                <a:latin typeface="Wingdings"/>
                <a:ea typeface="Wingdings"/>
              </a:rPr>
              <a:t></a:t>
            </a:r>
            <a:r>
              <a:rPr b="1" lang="ar-SA" sz="2000" spc="-1" strike="noStrike">
                <a:solidFill>
                  <a:srgbClr val="000000"/>
                </a:solidFill>
                <a:latin typeface="Trebuchet MS"/>
                <a:ea typeface="Tahoma"/>
              </a:rPr>
              <a:t>)(قراء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يسير عملية تخطيط مهمة المراجعة بكفاءة (بما في ذلك تحديد الموارد الأساس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تحقيق رقابة فعالة على العمل الميدان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تنقيح وكتابة تقارير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قديم الدعم لتقرير المراجع الداخل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مراجعة الطرف الثالث</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ea typeface="Tahoma"/>
              </a:rPr>
              <a:t> المساعدة في التطور المه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معايير المتعلقة بأوراق العمل: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وضوح وسهولة الف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كون وثيقة الصلة بالموضوع.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سم بالدق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اكتمال والثقة فيها وإمكانية الاعتماد عليه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بساط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وضوع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تقدير المخاطر</a:t>
            </a:r>
            <a:br>
              <a:rPr sz="3600"/>
            </a:br>
            <a:endParaRPr b="0" lang="en-US" sz="3600" spc="-1" strike="noStrike">
              <a:solidFill>
                <a:srgbClr val="90c226"/>
              </a:solidFill>
              <a:latin typeface="Trebuchet MS"/>
            </a:endParaRPr>
          </a:p>
        </p:txBody>
      </p:sp>
      <p:sp>
        <p:nvSpPr>
          <p:cNvPr id="21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000000"/>
                </a:solidFill>
                <a:latin typeface="Trebuchet MS"/>
                <a:cs typeface="Tahoma"/>
              </a:rPr>
              <a:t>يجب أن يعد مدير وحدة المراجعة نموذج إرشادي لتقدير المخاطر يستخدمه المراجعين الداخليين.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قدير المخاطر يعني تقدير احتمالات حدوث أخطاء أو عمليات غش ولا تستطيع الإجراءات الرقابية الموضوعة إكتشافها أو منعها.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عتمد عملية تقدير المخاطر بصفة عامة على تحقيق المعرفة الكاملة بعمليات الوحدة الحكومية وربط هذه المعرفة بالإجراءات الرقابية الموضوعة لمعرفة ما إذا كانت هذه الإجراءات يمكنها منع حدوث أخطاء أو عمليات غش أو اكتشافها حال حدوثها.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يجب أن تتضمن كل ورقة عمل على نص واضح يبين (قراءة)</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هداف.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حجم وأساليب اختيار العينة (النطاق)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صادر المعلومات.</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فاصيل الفحص الذي تم إنجازه.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نتائج الفحص (الاستنتاجات) .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رجعية برنامج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ستخدام الرموز والإشارات في أوراق العمل: (قراء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قد يتم استخدام علامات أو رموز في أوراق العمل لترمز إلى خطوات عمل معين أو ترمز إلي إجراء معين أو تحمل معنى معين يعلمه المراجع. في هذه الحالة يجب عمل قائمة تفسيرية لشرح رموز الإشارات التي تستخدمها وحدة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رقيم أوراق العمل وربطها ببعضها بطريقة ملائمة يعتبر من متطلبات ملف أوراق العمل.</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حفظ أوراق العمل: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عتبر أوراق العمل وملفات المراجعة من ملكية وحدة المراجعة الداخلية، ولا يسمح بالاحتفاظ بها أو الإطلاع على محتواها إلا من المراجعين الداخليين المعنيين أو من يصرح لهم المسئول الأول بالجهة ، وبهذا يجب حفظ أوراق العمل وملفات المراجعة بمكان آمن في الشركة بما يحفظها من التلف، والعبث، أو الاستخدام غير المسموح به.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6" name=""/>
          <p:cNvSpPr txBox="1"/>
          <p:nvPr/>
        </p:nvSpPr>
        <p:spPr>
          <a:xfrm>
            <a:off x="909720" y="203184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أوراق العمل الإلكترونية</a:t>
            </a:r>
            <a:r>
              <a:rPr b="0" lang="ar-SA" sz="2000" spc="-1" strike="noStrike">
                <a:solidFill>
                  <a:srgbClr val="000000"/>
                </a:solidFill>
                <a:latin typeface="Trebuchet MS"/>
                <a:ea typeface="Tahoma"/>
              </a:rPr>
              <a:t>:</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أن تكون كل الملفات الالكترونية مراقبة ومحفوظة جيدا لتجنب المخاطر المصاحبة لاستخدامها. والتي قد تشمل: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دخول غير المصرح به وإحداث تغيير غير ملائم على البيانات.</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إتلاف أو فقدان البيانات.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استخدام أساليب رقابة محددة عند استخدام أوراق العمل الإلكترونية وذلك للمحافظة على سلامة الملفات ومن أهم الأساليب الرقابية في هذا المجال الرقابة على الدخول والنسخ الاحتياطي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قدير المخاطر</a:t>
            </a:r>
            <a:endParaRPr b="0" lang="en-US" sz="3600" spc="-1" strike="noStrike">
              <a:solidFill>
                <a:srgbClr val="90c226"/>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مثلة لبعض الطرق التي من الممكن ان يطبقها المراجع الداخلي للحصول على المعلومات تساعده في تقدير الخطر :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حص  نظام العمل بالوحدة والوحدات الفرعية التابعة ل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إجراء المقابلات مع المسئولين والاستفسار منهم عن طبيعة العمل وكيفية أداء ذلك العمل ، والاحتياجات المحتملة للتقرير بالنسبة ل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ستقصاء الموظفين ودراسة طبيعة عملهم والتعرف على مؤهلاتهم وخبراتهم الوظيف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ستقصاء المستفيدين من الخدمة التي تقدمها الوحدة عن طبيعة احتياجاتهم ومدى الوفاء بهذه الاحتياجات.</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رجمة نتائج تقدير المخاطر إلى خطة مراجعة داخلية</a:t>
            </a:r>
            <a:endParaRPr b="0" lang="en-US" sz="3600" spc="-1" strike="noStrike">
              <a:solidFill>
                <a:srgbClr val="90c226"/>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جب أن يقوم مدير المراجعة الداخلية بالتنسيق مع المسؤول الأول بالعمل على ترجمة نتائج تقدير المخاطر إلى خطة مراجعة داخلي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كما يجب توزيع جهود وحدة المراجعة الداخلية للحصول على أفضل تغطية للمخاطر المحددة مع الأخذ بعين الاعتبار الأهداف العامة للجهة وإعطاء الأولوية للمهام التي تتضمن خطر مرتفع.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يجب أن يراعي عند صياغة خطة المراجعة الداخلية أن تكون مرنة وان تستجيب للظروف المتغير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م استخدام هذه الإستراتيجية كدليل إرشادي بالأنشطة والإدارات الأخرى المراد مراجعتها خلال فترة طويلة نسبيا (يمكن أن تكون من ثلاثة إلى خمس سنوات).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بعد ذلك تقسم الإستراتيجية إلى خطط سنوية وتقسم كل خطة سنوية إلى عدة مهام.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لماً بأن خطة المراجعة تحتوي على إيضاحات إضافية للفترة التي تحتاج لها كل مهمة مراجعة والموارد المطلوبة في سبيل تحقيق ذلك.</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54a021"/>
                </a:solidFill>
                <a:latin typeface="Trebuchet MS"/>
                <a:ea typeface="Tahoma"/>
              </a:rPr>
              <a:t>«بتنفيذالمهام تتنفذ الخطط وبتنفيذ الخطط تتنفذ الاستراتج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يراعى عند وضع الإستراتيجية العمل على تحقيق الأهداف التالية(قراءة</a:t>
            </a:r>
            <a:r>
              <a:rPr b="0" lang="ar-SA" sz="2400" spc="-1" strike="noStrike">
                <a:solidFill>
                  <a:srgbClr val="000000"/>
                </a:solidFill>
                <a:latin typeface="Trebuchet MS"/>
                <a:ea typeface="Tahoma"/>
              </a:rPr>
              <a:t>)</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ضع إطار مناسب لاختيار المهام.</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مكين وحدة المراجعة من توجيه جهودها نحو المجالات الأكثر أهمية.</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ديد المجالات التي ستكون محل تركيز أعمال المراجعة الداخلية في المستقبل.</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وضيح طبيعة أعمال المراجعة الداخلية.</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قدير كمية الموارد المطلوبة لتنفيذ الإستراتيجي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8" name=""/>
          <p:cNvSpPr txBox="1"/>
          <p:nvPr/>
        </p:nvSpPr>
        <p:spPr>
          <a:xfrm>
            <a:off x="677520" y="1930320"/>
            <a:ext cx="8596440" cy="492768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ختيار مهام المراجعة:</a:t>
            </a:r>
            <a:endParaRPr b="0" lang="en-US" sz="20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عند اختيار مهام المراجعة يجب مراعاة ما يلي</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أهمية</a:t>
            </a:r>
            <a:r>
              <a:rPr b="0" lang="ar-SA" sz="2000" spc="-1" strike="noStrike">
                <a:solidFill>
                  <a:srgbClr val="000000"/>
                </a:solidFill>
                <a:latin typeface="Trebuchet MS"/>
                <a:ea typeface="Tahoma"/>
              </a:rPr>
              <a:t>: تتحدد أهمية مهمة معينة على أساس ما يمكن أن تسفر عنه عملية تنفيذها.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قابلية للتلاعب</a:t>
            </a:r>
            <a:r>
              <a:rPr b="0" lang="ar-SA" sz="2000" spc="-1" strike="noStrike">
                <a:solidFill>
                  <a:srgbClr val="000000"/>
                </a:solidFill>
                <a:latin typeface="Trebuchet MS"/>
                <a:ea typeface="Tahoma"/>
              </a:rPr>
              <a:t>: قابلية تعرض نشاط معين للتلاعب والاحتيال يجعل له الأولوية عند تحديد المهام التي يجب تنفيذها في الخط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مدى ارتباط النشاط بأهداف أو رسالة الجهة</a:t>
            </a:r>
            <a:r>
              <a:rPr b="0" lang="ar-SA" sz="2000" spc="-1" strike="noStrike">
                <a:solidFill>
                  <a:srgbClr val="000000"/>
                </a:solidFill>
                <a:latin typeface="Trebuchet MS"/>
                <a:ea typeface="Tahoma"/>
              </a:rPr>
              <a:t>: الأنشطة التي يكون لها ارتباط كبير بأهداف أو رسالة الجهة يكون لها الأولوية في عملية المراجع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1" lang="ar-SA" sz="2000" spc="-1" strike="noStrike">
                <a:solidFill>
                  <a:srgbClr val="000000"/>
                </a:solidFill>
                <a:latin typeface="Trebuchet MS"/>
                <a:cs typeface="Tahoma"/>
              </a:rPr>
              <a:t>تاريخ أخر مراجعة ونتيجتها</a:t>
            </a:r>
            <a:r>
              <a:rPr b="0" lang="ar-SA" sz="2000" spc="-1" strike="noStrike">
                <a:solidFill>
                  <a:srgbClr val="000000"/>
                </a:solidFill>
                <a:latin typeface="Trebuchet MS"/>
                <a:ea typeface="Tahoma"/>
              </a:rPr>
              <a:t>: إن تاريخ أخر مراجعة ونتيجتها يكون لها دور في اختيار المهام التي يجب تنفيذها.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5:36:00Z</dcterms:created>
  <dc:creator>hana</dc:creator>
  <dc:description/>
  <dc:language>en-US</dc:language>
  <cp:lastModifiedBy>hnae</cp:lastModifiedBy>
  <dcterms:modified xsi:type="dcterms:W3CDTF">2014-02-03T17:34:34Z</dcterms:modified>
  <cp:revision>37</cp:revision>
  <dc:subject/>
  <dc:title>PowerPoint Presentation</dc:title>
</cp:coreProperties>
</file>