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383A4-F531-4504-BD86-63B8ADDFB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D10F-541E-4F8A-AAC2-347EAD43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EF6B6-B38C-4BB3-B6F4-2B990D025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F9E02-B6B3-49F4-8967-40B13C73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94A66-2720-4E5A-9297-16CB65F0F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F5555-CFFF-4970-A20C-E56E678D6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E34DA-6746-4F5F-8E62-48E25A816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B21A2-F4F7-4806-A032-526C3B7C0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23D78-DFA4-4536-BF4C-B2ACF64D0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EC949-34C7-4831-AAD8-763622D3A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8EA78-CAE8-4D88-BAD5-C1AC88A2D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2995-2494-4EE4-9763-19C8612F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A054-A6C4-4DDE-B945-79A290CC9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D9824-2EB2-444E-B63C-9E7EEA0DA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2006F-118B-4172-A9AC-6EA72843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85B27-3800-4042-9D5A-29AAB0390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474AE-4767-474C-B5B1-BB96DCC99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42ED4A-A6E1-4D71-9213-64070A078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F7662-044B-42C6-AD85-C8AEBCBE0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7C2A6-D5F5-4557-B5DC-CBB7E383A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17430-895E-49C5-8277-898340499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01483-3562-4FD1-9BE2-385D3F943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F6DB-934F-411C-82CD-075F6DF17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2718B-3A26-4F23-89B7-C2C336087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97D86-35F5-4D4B-B8F5-E345401FF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76A51-B6DC-45DB-B438-73DC884B6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CFBF0-A069-4B9E-B49C-AF71C98A9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41ADE-59F8-4D50-AD85-2F1F8E8C1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2B0BA2-2BEC-456F-B829-2E9A9AF3AE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00FA4-0F4C-4C45-B86D-A8B4AA692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9C00AE-BD97-451A-B718-026CD5CF34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3B5F4-989C-463B-A620-FFD9321C2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91D99-C5AC-4797-A5D7-B9ED321B4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492AC-B594-4701-B1A3-2CBC9728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76D39-CE05-4D7F-A4B2-1592749BAE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EA5F9-A0B8-4D35-9CA3-583F2C4982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F77FD-55B4-4868-B9E9-CEEE0ECD4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95396-1DD2-4BBB-AC28-04ACBFE45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A3B6A-EE4B-4E87-A8E8-2F7096FD0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DB52D-8B2D-478E-9FFF-852DD025C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5A81E-8443-407E-8F2C-1E47B7242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C22265-8B63-4377-A2D1-939F2FABA5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DB4401-50D4-4657-8054-AB83DF6AFA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60E8C-08DD-4174-9B98-93A4D9B216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FA4B0-04E0-4632-B5D9-0CA04623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98FBE6-7678-408B-9FEB-8A7426CD7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66EF0-6B31-400D-96D4-71DC54AC68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3D4C28-C34E-4A9D-BFE4-283F92FE72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92E1F0-F146-47E0-ADF1-EDCA0E7C2F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00804-6739-4ECC-A777-A2095520B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A3AA9-8601-48CB-A107-8974C5701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7DF34-32A1-4F26-B381-0FEF7E934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944A2-0B4E-42FD-BED0-AD37E4018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5A60E-6B8E-4068-BD6F-42FC9AA59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E7334-D6BE-40CE-94CA-69C90645A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906C-0021-460E-8BD1-DE65D82A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458D08-2256-4269-80F8-467103A720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1DAF02-25C7-43B3-9539-7E0F08308B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12B46-ADC5-4A7E-B992-7A93A98A77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41C817-4133-4DD0-B9A3-75249C2C8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6C8AA9-4AA7-47A5-B103-AE567E7043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46F12-EBCB-449B-99AE-0F2F4983A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1C4FB1-A3E1-4F1D-A18F-85E7E15F0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99564-AAE7-4EF8-9F2D-51E5C9438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67467-347C-487F-B6A2-467EEC3D4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D61BE-456E-43AE-9692-5739D61B5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06C3-D971-4D17-A5EA-178647AFC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03282B-4616-4925-BD92-D840B1A1F2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DE0115-90A6-4E30-B5C3-1E95C8B30B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0C678D-316B-4BBA-A1D7-90EC423A3D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593DE-3B7F-4476-9FB8-B68EE3CFF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859D2-B036-45CD-8BF3-0B92E4149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F69C2-E44C-4A23-8D54-D03DE2E056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173BA-A6C6-41C2-A0E0-62BE534B2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E4571-D7D3-4BFD-9D74-7681909E3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A99C0-4668-4B58-BEE8-C5973A050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3BAFB-A476-4845-BEA1-B3A55D4F3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06D4-FC42-4F9C-867E-50EBE79B7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572DA-2F9C-49C1-8C16-668678D4D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7932F-1D2F-4ADB-92B1-D7FA59F59A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08B15-678D-4B90-A6B4-2D36CB379D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FAD692-7767-4BB2-8E46-627E21D708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F160F-7FB8-436E-95E9-DE6BC87885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F444-943A-4D79-9C23-F0E30EA93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0DB92-96A2-4041-8BDB-83622ED82C7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88786-9B20-44BA-BAB9-0AE43EC8D9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B29A3-8FBC-485C-A67F-346CB65B11E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AAEE5-8A9A-47F7-9CE1-FAEF7E509F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BD9BF-DCB5-42C7-8A9C-90552B6BBB93}"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D5AF6-D657-4F04-B138-81046E94181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2EEDD-A7E6-460B-8C04-B6792D6F3CE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83c6"/>
                </a:solidFill>
                <a:latin typeface="Times New Roman"/>
                <a:cs typeface="Arabic Transparent"/>
              </a:rPr>
              <a:t>تابع دليل المراجعة الفقرة السادسة</a:t>
            </a:r>
            <a:br>
              <a:rPr sz="4400"/>
            </a:br>
            <a:r>
              <a:rPr b="1" lang="ar-SA" sz="4400" spc="-1" strike="noStrike">
                <a:solidFill>
                  <a:srgbClr val="000000"/>
                </a:solidFill>
                <a:latin typeface="Times New Roman"/>
                <a:cs typeface="Arabic Transparent"/>
              </a:rPr>
              <a:t>تنفيذ مهام المراجعة الداخلية</a:t>
            </a:r>
            <a:endParaRPr b="0" lang="en-US" sz="4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0"/>
          <a:ext cx="12192120" cy="6864480"/>
        </p:xfrm>
        <a:graphic>
          <a:graphicData uri="http://schemas.openxmlformats.org/drawingml/2006/table">
            <a:tbl>
              <a:tblPr/>
              <a:tblGrid>
                <a:gridCol w="5113440"/>
                <a:gridCol w="3425760"/>
                <a:gridCol w="3652920"/>
              </a:tblGrid>
              <a:tr h="48708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عمليات والمستندات الحكومية</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Arial"/>
                        </a:rPr>
                        <a:t> </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أدلة أو القرائن المتحصل عليها</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إجراءات</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مستودع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عهد النقدية والصناديق.</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عاينة الأصول والموجود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وجود الفعل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لاحظ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عاينة والجرد</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صادقات الحسابات المدينة والدائن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ثل العهد والأما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قرارات من الغير</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طلب المصادق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ستمارات اعتماد الصرف</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أذون التسو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فواتير المشتر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ستندات</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مستند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6710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ل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على الفواتير</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البنك</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حسابات الموردين والمقاول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طابقات والتسو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0476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الأرصدة للسنة الحالية مع أرصدة السنة الماض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بنود الصرف الفعلية مع البنود المعتمد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دى المعقول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قار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83772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ات من الموظف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 من المسئول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قصى كفاءة الموظف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استنتاجات من الاستفسارات والتقص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بحث والتقصي</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علاقة بين الأداء الفعلي والمتوقع</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قرينة) مدى المعقول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دراسة العلاقة بين البيانات وبعضها</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6920"/>
            <a:ext cx="10058400" cy="17859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23" name=""/>
          <p:cNvSpPr txBox="1"/>
          <p:nvPr/>
        </p:nvSpPr>
        <p:spPr>
          <a:xfrm>
            <a:off x="1096920" y="1762200"/>
            <a:ext cx="10058400" cy="4132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صائص التي يجب توافرها في ا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أن يكون وثيق الصلة بالموضوع محل الفحص</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قوة الإقناعية ل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كفا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يف سيتم تحديد حجم الدليل الذي يجب جمعه لتحقيق أهداف عملية المراجعة أو لتأييد النتائج؟</a:t>
            </a: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صفة عامة أصبح من المتعارف عليه مهنيا أن يعتمد المراجع الداخلي أو الخارجي على نظام العينة ، حيث يقوم بفحص عينة من المجتمع محل المراجعة للوصول إلى استنتاجات عن المجتمع كك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عينات في المراجعة:</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إن مجموعة البيانات التي يتم من خلالها اختيار العينة تسمى المجتمع،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عناصر المكونة للمجتمع والمتاحة للاختيار تسمى وحدات العين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مكن تطبيق هذه العملية إما استنادا إلى التقدير الشخصي للمراجع وتسمى في هذه الحالة (معاينة حكمية أو تقديرية) أو بإستخدام الأساليب الرياضية والإحصائية (معاينة إحصائ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نطق من استخدام أسلوب العينات إحصائية كانت أو التقديرية هو </a:t>
            </a:r>
            <a:r>
              <a:rPr b="0" lang="ar-SA" sz="2400" spc="-1" strike="noStrike">
                <a:solidFill>
                  <a:srgbClr val="000000"/>
                </a:solidFill>
                <a:latin typeface="Calibri"/>
                <a:cs typeface="Arial"/>
              </a:rPr>
              <a:t>عدم الحاجة لمزيد من الفحص في حالة التأكد من فعالية الأدلة المؤيدة للحكم. فآلية الفحص المستخدمة هنا هي الحكم وبالتالي فإن القرار يجب أن يصدر عن المراجعين ذوي الخبرة مثل قائد ومدير الفريق. هذا وكلما كانت النتائج أكثر حساسية، كلما تطلب جعل الفحص أكثر عمقا وبالتالي يكون حجم العينة أكب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منطق السابق يرتكز على تحقيق </a:t>
            </a:r>
            <a:r>
              <a:rPr b="1" lang="ar-SA" sz="2400" spc="-1" strike="noStrike">
                <a:solidFill>
                  <a:srgbClr val="000000"/>
                </a:solidFill>
                <a:latin typeface="Calibri"/>
                <a:cs typeface="Arial"/>
              </a:rPr>
              <a:t>مبدأ الكفاءة والفعالية</a:t>
            </a:r>
            <a:r>
              <a:rPr b="0" lang="ar-SA" sz="2400" spc="-1" strike="noStrike">
                <a:solidFill>
                  <a:srgbClr val="000000"/>
                </a:solidFill>
                <a:latin typeface="Calibri"/>
                <a:ea typeface="Arial"/>
              </a:rPr>
              <a:t> في عملية المراجعة ، حيث تعني الكفاءة تنفيذ عملية المراجعة بأقل تكلفة ممكنة بينما تعني الفعالية توفير أكبر قدر من الثقة في النتائج التي يتوصل إليها المراجع أي تحقيق هدف المراجعة ، بمعنى أخر تحقيق الهدف بأقل تكلفة ممكن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48920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أساليب المعاينة بحسب الغرض من استخدامها إل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1" lang="ar-SA" sz="2400" spc="-1" strike="noStrike">
                <a:solidFill>
                  <a:srgbClr val="000000"/>
                </a:solidFill>
                <a:latin typeface="Calibri"/>
                <a:ea typeface="Arial"/>
              </a:rPr>
              <a:t>) معاينة الصف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1" lang="ar-SA" sz="2400" spc="-1" strike="noStrike">
                <a:solidFill>
                  <a:srgbClr val="000000"/>
                </a:solidFill>
                <a:latin typeface="Calibri"/>
                <a:ea typeface="Arial"/>
              </a:rPr>
              <a:t>) معاينة المتغير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تحقق التفصيلية من الأرصدة والعمليات. وفي هذا النوع من الاختبارات يهتم المراجع بالقيم النقدية التي تعرضها القوائم المالي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1" lang="ar-SA" sz="2400" spc="-1" strike="noStrike">
                <a:solidFill>
                  <a:srgbClr val="000000"/>
                </a:solidFill>
                <a:latin typeface="Calibri"/>
                <a:ea typeface="Arial"/>
              </a:rPr>
              <a:t>) العينات ذات الغرض المزدوج:</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حديث عن استخدام العينات لأغراض المراجعة يصنف الخطر الذي يتعرض له المراجع إلى نوعين هم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خطر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يعني خطر المعاينة احتمال أن تكون النتائج التي يتوصل إليها المراجع من فحصه للعينة ليست هي نفس النتائج التي يمكن أن يتوصل إليها إذا قام بفحص شامل للمجتمع كله. ويرجع ذلك بصفة أساسية إلى احتمال أن تكون العينة غير ممثلة للمجتمع محل الفحص.</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ر غير المرتبط باستخدام العين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ي التي تتضمن جميع جوانب مخاطر المراجعة التي لا ترجع إلى استخدام أساليب المعاينة والتي تعرض لها المراجع حتى وأن قام بفحص المجتمع كله أو قام بفحص مفردة واحدة. هذه الأخطار مصدرها استخدام إجراءات مراجعة لا تتناسب مع الهدف محل الفحص أو استخدام أساليب مراجعة صحيحة ولكن يتم تطبيقها بطريقة خاطئة أو حتى استخدام أساليب مراجعة صحيحة وتطبيقها بطريقة لكن يتم تفسير النتائج بطريقة خاطئ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اختيار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1</a:t>
            </a:r>
            <a:r>
              <a:rPr b="1" lang="ar-SA" sz="2400" spc="-1" strike="noStrike">
                <a:solidFill>
                  <a:srgbClr val="000000"/>
                </a:solidFill>
                <a:latin typeface="Calibri"/>
                <a:ea typeface="Arial"/>
              </a:rPr>
              <a:t>- طرق الاختيار الحكم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2</a:t>
            </a:r>
            <a:r>
              <a:rPr b="1" lang="ar-SA" sz="2400" spc="-1" strike="noStrike">
                <a:solidFill>
                  <a:srgbClr val="000000"/>
                </a:solidFill>
                <a:latin typeface="Calibri"/>
                <a:ea typeface="Arial"/>
              </a:rPr>
              <a:t>- طرق الاختيار العشوائي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على أساس الأرقام ال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المنتظم مع بداية 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ea typeface="Times New Roman"/>
              </a:rPr>
              <a:t>4</a:t>
            </a:r>
            <a:r>
              <a:rPr b="0" lang="ar-SA" sz="4800" spc="-1" strike="noStrike">
                <a:solidFill>
                  <a:srgbClr val="2683c6"/>
                </a:solidFill>
                <a:latin typeface="Calibri Light"/>
                <a:ea typeface="Times New Roman"/>
              </a:rPr>
              <a:t>- استخدام العينات لأغراض المراجعة الداخلية</a:t>
            </a:r>
            <a:endParaRPr b="0" lang="en-US" sz="4800" spc="-1" strike="noStrike">
              <a:solidFill>
                <a:srgbClr val="404040"/>
              </a:solidFill>
              <a:latin typeface="Calibri Light"/>
            </a:endParaRPr>
          </a:p>
        </p:txBody>
      </p:sp>
      <p:sp>
        <p:nvSpPr>
          <p:cNvPr id="337" name=""/>
          <p:cNvSpPr txBox="1"/>
          <p:nvPr/>
        </p:nvSpPr>
        <p:spPr>
          <a:xfrm>
            <a:off x="1096920" y="1846440"/>
            <a:ext cx="10058400" cy="465768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000000"/>
                </a:solidFill>
                <a:latin typeface="Calibri"/>
                <a:cs typeface="Arial"/>
              </a:rPr>
              <a:t>المصطلحات المستخدمة عند تطبيق العينات لأغراض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عينات لأغراض المراجعة                                       المجتمع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خطيط العينة                                                      وحدة المعاين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خاطر المعاينة                                                    معدل الانحراف المسموح به</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نحراف المتوقع                                                 قيمة الخطأ المسموح به</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قيمة النقدية للخطأ المتوقع                                       المخاطر غير مخاطر المعاين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إحصائية                                                المعاينة غير الإحصائية (المعاينة الحكمي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9"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سواء كان الأسلوب المستخدم هو المعاينة الحكمية أو الإحصائية فإن الخطوات التالية يجب القيام بها عند استخدام أساليب المعاينة لفحص نظام الرقاب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اهداف</a:t>
            </a:r>
            <a:endParaRPr b="0" lang="en-US" sz="4800" spc="-1" strike="noStrike">
              <a:solidFill>
                <a:srgbClr val="404040"/>
              </a:solidFill>
              <a:latin typeface="Calibri Light"/>
            </a:endParaRPr>
          </a:p>
        </p:txBody>
      </p:sp>
      <p:sp>
        <p:nvSpPr>
          <p:cNvPr id="30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دليل المراجعة توضيح لبعض النقاط الهامة الخاصة بتنفيذ عملية المراجعة أهمها 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طاب الإعلان عن مهم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لرقابة على تنفيذ مهام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راءات المراجعة التي يمكن استخدام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دلة وقرائن المراجعة التي يمكن الاعتماد ع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ستخدام أساليب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ea typeface="Times New Roman"/>
              </a:rPr>
              <a:t> </a:t>
            </a: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1"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ضمن هذه الخطوة قيام المراجع بالإجراء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تحديد الهدف من الفحص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عريف المجتمع ووحدة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تعريف الخطأ والانحراف عن نظام الرقابة             </a:t>
            </a: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تحديد معدل الانحراف المسموح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تحديد مستوى الثقة المرغوب فيه                        </a:t>
            </a:r>
            <a:r>
              <a:rPr b="0" lang="ar-SA" sz="2400" spc="-1" strike="noStrike">
                <a:solidFill>
                  <a:srgbClr val="000000"/>
                </a:solidFill>
                <a:latin typeface="Calibri"/>
                <a:ea typeface="Arial"/>
              </a:rPr>
              <a:t>6</a:t>
            </a:r>
            <a:r>
              <a:rPr b="0" lang="ar-SA" sz="2400" spc="-1" strike="noStrike">
                <a:solidFill>
                  <a:srgbClr val="000000"/>
                </a:solidFill>
                <a:latin typeface="Calibri"/>
                <a:ea typeface="Arial"/>
              </a:rPr>
              <a:t>- تحديد معدل الانحراف المتوقع في المجتمع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تحديد حجم العينة (حكمي او احصائي)</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ختيار مفردات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فيذ إجراءات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ل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حكمي لنتائج فحص العين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المقياس الوحيد الذي يمكن حسابه كميا هو معدل الأخطاء أو الانحرافات بالعينة ويحسب ك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دل الانحرافات بالعينة = عدد الانحرافات / حج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ثاني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إحصائي لنتائج فحص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7"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 </a:t>
            </a:r>
            <a:r>
              <a:rPr b="0" lang="ar-SA" sz="2400" spc="-1" strike="noStrike">
                <a:solidFill>
                  <a:srgbClr val="000000"/>
                </a:solidFill>
                <a:latin typeface="Calibri"/>
                <a:ea typeface="Arial"/>
              </a:rPr>
              <a:t>•</a:t>
            </a:r>
            <a:r>
              <a:rPr b="0" lang="ar-SA" sz="2000" spc="-1" strike="noStrike">
                <a:solidFill>
                  <a:srgbClr val="000000"/>
                </a:solidFill>
                <a:latin typeface="Calibri"/>
                <a:cs typeface="Arial"/>
              </a:rPr>
              <a:t>وصف للإجراء الرقابي الذي تم اختباره ،والهدف من الاختبار، بما في ذلك علاقته باختبارات التحقق التفصيلية المخطط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حديد للمجتمع ووحدة المعاينة، تحديد للظروف التي تعبر عن وجود انحراف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أساس الذي استند إليه المراجع في تحديد مستوى الثقة، ومعدل الانحراف المسموح به، والمعدل المتوقع للانحراف في المجتم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طريقة المستخدمة في تحديد حجم العينة، والطريقة المستخدمة في اختيار مفردات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وصف لإجراءات المعاينة التي تم اتباعها، وقائمة بالانحرافات التي تم اكتشافها في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قويم العينة وملخص بالاستنتاجات العامة التي توصل إليها المراج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ff0000"/>
                </a:solidFill>
                <a:latin typeface="Calibri Light"/>
                <a:cs typeface="Times New Roman"/>
              </a:rPr>
              <a:t>قراءة</a:t>
            </a:r>
            <a:r>
              <a:rPr b="0" lang="ar-SA" sz="4300" spc="-1" strike="noStrike">
                <a:solidFill>
                  <a:srgbClr val="2683c6"/>
                </a:solidFill>
                <a:latin typeface="Calibri Light"/>
                <a:ea typeface="Times New Roman"/>
              </a:rPr>
              <a:t> معاينة المتغيرات</a:t>
            </a:r>
            <a:endParaRPr b="0" lang="en-US" sz="4300" spc="-1" strike="noStrike">
              <a:solidFill>
                <a:srgbClr val="404040"/>
              </a:solidFill>
              <a:latin typeface="Calibri Light"/>
            </a:endParaRPr>
          </a:p>
        </p:txBody>
      </p:sp>
      <p:sp>
        <p:nvSpPr>
          <p:cNvPr id="349"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 ويمكن للمراجع استخدام أي من أساليب المعاينة الإحصائية أو المعاينة غير الإحصائ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تطلب تطبيق معاينة المتغيرات ضرورة  قيام المراجع بخطوات محددة مثل تلك التي يقوم بها عند استخدام عينات المراجعة لأغراض اختبارات الرقابة. وتبدأ هذه الخطوات بتخطيط العينة وتنتهي بتوثيق الإجراءات مروراً باختيار مفردات العينة وتنفيذ إجراءات المراجعة عليها وتقويم نتائج العينة. و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r>
              <a:rPr b="0" lang="ar-SA" sz="2400" spc="-1" strike="noStrike">
                <a:solidFill>
                  <a:srgbClr val="40404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1" name=""/>
          <p:cNvSpPr txBox="1"/>
          <p:nvPr/>
        </p:nvSpPr>
        <p:spPr>
          <a:xfrm>
            <a:off x="990720" y="1722600"/>
            <a:ext cx="10166400" cy="4657680"/>
          </a:xfrm>
          <a:prstGeom prst="rect">
            <a:avLst/>
          </a:prstGeom>
          <a:noFill/>
          <a:ln w="0">
            <a:noFill/>
          </a:ln>
        </p:spPr>
        <p:txBody>
          <a:bodyPr lIns="0" rIns="0" anchor="t">
            <a:normAutofit fontScale="97000"/>
          </a:bodyPr>
          <a:p>
            <a:pPr marL="87480" indent="-8748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استخدام أساليب المعاينة الإحصائية التقليدي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للمراجع  استخدام أحد أساليب المعاينة الإحصائية التقليدية :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طريقة المتوسط،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طريقة الفروق،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طريقة النسب،</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ذلك لأغراض اختبارات التحقق من الأرصدة والعمليات. ولا تختلف الإجراءات المتبعة في أي من هذه الطرق عن غيرها إلا في الطريقة التي يتم بها تقدير قيمة المجتمع.</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ى: تخطيط العينة</a:t>
            </a:r>
            <a:r>
              <a:rPr b="1" lang="ar-SA" sz="2400" spc="-1" strike="noStrike">
                <a:solidFill>
                  <a:srgbClr val="ff0000"/>
                </a:solidFill>
                <a:latin typeface="Calibri"/>
                <a:ea typeface="Arial"/>
              </a:rPr>
              <a:t>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1800" spc="-1" strike="noStrike">
                <a:solidFill>
                  <a:srgbClr val="000000"/>
                </a:solidFill>
                <a:latin typeface="Calibri"/>
                <a:ea typeface="Arial"/>
              </a:rPr>
              <a:t>. تحديد الهدف من الاختبار                                                         </a:t>
            </a: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تحديد المجتمع ووحدة المعا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تحديد مستوى الثقة                                                                 </a:t>
            </a:r>
            <a:r>
              <a:rPr b="0" lang="ar-SA" sz="1800" spc="-1" strike="noStrike">
                <a:solidFill>
                  <a:srgbClr val="000000"/>
                </a:solidFill>
                <a:latin typeface="Calibri"/>
                <a:ea typeface="Arial"/>
              </a:rPr>
              <a:t>4</a:t>
            </a:r>
            <a:r>
              <a:rPr b="0" lang="ar-SA" sz="1800" spc="-1" strike="noStrike">
                <a:solidFill>
                  <a:srgbClr val="000000"/>
                </a:solidFill>
                <a:latin typeface="Calibri"/>
                <a:ea typeface="Arial"/>
              </a:rPr>
              <a:t>. تحديد الانحراف المعياري المتوقع للمجتمع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5</a:t>
            </a:r>
            <a:r>
              <a:rPr b="0" lang="ar-SA" sz="1800" spc="-1" strike="noStrike">
                <a:solidFill>
                  <a:srgbClr val="000000"/>
                </a:solidFill>
                <a:latin typeface="Calibri"/>
                <a:ea typeface="Arial"/>
              </a:rPr>
              <a:t>. تحديد الخطأ المسموح به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تحديد حجم الع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3" name=""/>
          <p:cNvSpPr txBox="1"/>
          <p:nvPr/>
        </p:nvSpPr>
        <p:spPr>
          <a:xfrm>
            <a:off x="1096920" y="1736640"/>
            <a:ext cx="10058400" cy="465768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r>
              <a:rPr b="0" lang="ar-SA" sz="2400" spc="-1" strike="noStrike">
                <a:solidFill>
                  <a:srgbClr val="000000"/>
                </a:solidFill>
                <a:latin typeface="Calibri"/>
                <a:ea typeface="Arial"/>
              </a:rPr>
              <a:t> يجب على المراجع استخدام طريقة اختيار العينة التي يترتب عليها اختيار عينة ممثلة للمجتمع. ويفضل في اختبارات التحقق التفصيلية استخدام إحدى طرق الاختيار العشوائي التي سبق الإشارة إلي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نفيذ إجراءات المراجع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تنفيذ إجراءات المراجعة على جميع مفردات العينة ، وتنفيذ إجراءات المراجعة أمر لا علاقة له بعملية المعاينة وإذا لم يتمكن المراجع من تنفيذ إجراءات المراجعة المخططة على بعض مفردات العينة فإن معالجة هذه المفردات تتوقف على أثرها في تقويمه لنتائج العينة. ف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5"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قويم نتائج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ويقوم المراجع بمقارنة الخطأ الإجمالي المقدر في المجتمع مع القيمة النقدية ل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خطوة الخامس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وثيق جميع الإجراءات التي قام بها عند استخدام عينات المراجعة لأغراض اختبارات التحقق التفصيلية للأرصدة والعمليات.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7" name=""/>
          <p:cNvSpPr txBox="1"/>
          <p:nvPr/>
        </p:nvSpPr>
        <p:spPr>
          <a:xfrm>
            <a:off x="1096920" y="1736640"/>
            <a:ext cx="10058400" cy="465768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استخدام المعاينة الحكمية في التحقق من صحة الأرص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 ما يميز المعاينة الحكمية هو أن تحديد حجم العينة وإختيار مفرداتها وكذلك تقويم نتائج المعاينة يتم وفقا للتقدير الشخصي للمراجع. و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تحديد حجم العينة: </a:t>
            </a:r>
            <a:r>
              <a:rPr b="0" lang="ar-SA" sz="2400" spc="-1" strike="noStrike">
                <a:solidFill>
                  <a:srgbClr val="000000"/>
                </a:solidFill>
                <a:latin typeface="Calibri"/>
                <a:cs typeface="Arial"/>
              </a:rPr>
              <a:t>يتحدد حجم العينة حكم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اختيار مفردات العينة</a:t>
            </a: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ff0000"/>
                </a:solidFill>
                <a:latin typeface="Calibri Light"/>
                <a:ea typeface="Times New Roman"/>
              </a:rPr>
              <a:t> قراءة </a:t>
            </a: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9"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لاف في تقويم نتائج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تقويم نتائج المعاينة حكميا القيام بالخطوات التا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حصر الأخطاء ب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قدير الأخطاء المحتمل أن يتضمنها المجتمع المحاسب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المقارنة مع مبلغ ا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دراسة وتحليل الأخط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اتخاذ القرار النهائ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1- </a:t>
            </a:r>
            <a:r>
              <a:rPr b="0" lang="ar-SA" sz="4800" spc="-1" strike="noStrike">
                <a:solidFill>
                  <a:srgbClr val="2683c6"/>
                </a:solidFill>
                <a:latin typeface="Calibri Light"/>
                <a:cs typeface="Times New Roman"/>
              </a:rPr>
              <a:t>خطاب الإعلان عن مهمة المراجعة</a:t>
            </a:r>
            <a:endParaRPr b="0" lang="en-US" sz="4800" spc="-1" strike="noStrike">
              <a:solidFill>
                <a:srgbClr val="404040"/>
              </a:solidFill>
              <a:latin typeface="Calibri Light"/>
            </a:endParaRPr>
          </a:p>
        </p:txBody>
      </p:sp>
      <p:sp>
        <p:nvSpPr>
          <p:cNvPr id="30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بدأ مرحلة تنفيذ مهام المراجعة الداخلية بإعلام الجهة المراد المراجعة عليها بمهمة المراجعة. ويتم إعلام الجهة المراد مراجعتها عن الرغبة في البدء بمهمة المراجعة عن طريق خطاب الإعلان الصادر عن المسئول الأول بالجهة، ويجب أن يكون هذا الخطاب قبل فترة معقولة من تاريخ بدأ المهمة (الفترة المعقولة قد تكون من أسبوع إلى ثلاثة أسابيع من تاريخ البدء في المهمة). تتضمن محتويات هذا الخطاب أهداف ونطاق المراجعة، أسماء المراجعين المسئولين عن تنفيذ المهمة، والمعلومات الأخرى ذات العلاق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6920" y="476280"/>
            <a:ext cx="10058400" cy="16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800" spc="-1" strike="noStrike">
                <a:solidFill>
                  <a:srgbClr val="2683c6"/>
                </a:solidFill>
                <a:latin typeface="Calibri Light"/>
                <a:cs typeface="Times New Roman"/>
              </a:rPr>
              <a:t>الرقابة على تنفيذ مهام المراجعة</a:t>
            </a:r>
            <a:br>
              <a:rPr sz="4300"/>
            </a:br>
            <a:endParaRPr b="0" lang="en-US" sz="4800" spc="-1" strike="noStrike">
              <a:solidFill>
                <a:srgbClr val="404040"/>
              </a:solidFill>
              <a:latin typeface="Calibri Light"/>
            </a:endParaRPr>
          </a:p>
        </p:txBody>
      </p:sp>
      <p:sp>
        <p:nvSpPr>
          <p:cNvPr id="310"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الرقابة على تنفيذ مهام المراجع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تابعة والإشراف الدقيق على سير عمل فريق المراجعة في تنفيذ مهمة المراجعة عاملان أساسيان لضمان تحقيق أهداف مهمة المراجعة.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راقبة الوقت الفعلي المستهلك في تنفيذ المهمة لضمان فعالية فريق العمل والالتزام بالخطط والجداول الزمنية للمهمة وذلك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مكن من اكتشاف أية تجاوزات في تنفيذ مهمة المراجعة والتعامل معها أولاً بأول.</a:t>
            </a:r>
            <a:endParaRPr b="0" lang="en-US" sz="2800" spc="-1" strike="noStrike">
              <a:solidFill>
                <a:srgbClr val="404040"/>
              </a:solidFill>
              <a:latin typeface="Calibri"/>
            </a:endParaRPr>
          </a:p>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669960"/>
            <a:ext cx="10058400" cy="15192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300" spc="-1" strike="noStrike">
                <a:solidFill>
                  <a:srgbClr val="2683c6"/>
                </a:solidFill>
                <a:latin typeface="Calibri Light"/>
                <a:cs typeface="Times New Roman"/>
              </a:rPr>
              <a:t>الرقابة على تنفيذ مهام المراجعة</a:t>
            </a:r>
            <a:br>
              <a:rPr sz="4300"/>
            </a:br>
            <a:endParaRPr b="0" lang="en-US" sz="4300" spc="-1" strike="noStrike">
              <a:solidFill>
                <a:srgbClr val="404040"/>
              </a:solidFill>
              <a:latin typeface="Calibri Light"/>
            </a:endParaRPr>
          </a:p>
        </p:txBody>
      </p:sp>
      <p:sp>
        <p:nvSpPr>
          <p:cNvPr id="31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آليات الرقابة على تنفيذ مهام المراجعة</a:t>
            </a:r>
            <a:r>
              <a:rPr b="0" lang="ar-SA" sz="2800" spc="-1" strike="noStrike">
                <a:solidFill>
                  <a:srgbClr val="000000"/>
                </a:solidFill>
                <a:latin typeface="Calibri"/>
                <a:ea typeface="Arial"/>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دول ضبط الوقت لكل مراجع.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ملخص زمني للمه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تقارير درجة التقدم في العم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811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3- </a:t>
            </a:r>
            <a:r>
              <a:rPr b="0" lang="ar-SA" sz="4300" spc="-1" strike="noStrike">
                <a:solidFill>
                  <a:srgbClr val="2683c6"/>
                </a:solidFill>
                <a:latin typeface="Calibri Light"/>
                <a:cs typeface="Times New Roman"/>
              </a:rPr>
              <a:t>إجراءات المراجعة الداخلية</a:t>
            </a:r>
            <a:br>
              <a:rPr sz="4300"/>
            </a:br>
            <a:endParaRPr b="0" lang="en-US" sz="43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قصد بإجراء المراجعة الأسلوب أو الوسيلة التي يستخدمها المراجع للحصول على دليل أو قرينة بغرض تحقيق هدف المراجعة. وفيما يلي عرض لأهم إجراءات المراجعة المتعارف عليها والأكثر استخداما:</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 </a:t>
            </a:r>
            <a:r>
              <a:rPr b="1" lang="ar-SA" sz="2000" spc="-1" strike="noStrike">
                <a:solidFill>
                  <a:srgbClr val="000000"/>
                </a:solidFill>
                <a:latin typeface="Calibri"/>
                <a:cs typeface="Arial"/>
              </a:rPr>
              <a:t>إجراء المقابلات الشخصية                                                                         - التقصي والاستفسار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احظة                                                                                             - المعاينة والجرد</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قارانات                                                                                            - المطابقات والتسوي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طلب المصادقات والشهادات وال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راجعة التحليلية والحسابية والمستندية والانتقادية</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6920"/>
            <a:ext cx="10058400" cy="1760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16" name=""/>
          <p:cNvSpPr txBox="1"/>
          <p:nvPr/>
        </p:nvSpPr>
        <p:spPr>
          <a:xfrm>
            <a:off x="1096920" y="1846440"/>
            <a:ext cx="100584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فهوم الإثبات</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إثبات في المراجعة هو الحصول على القناعة بصحة أو عدم صحة قضية أو أمر معين ، وهذا المفهوم للإثبات لا يقصره على الأدلة المادية الملموسة بل أن نقاش معين بين المراجع وأي مسئول في الوحدة الحكومية قد تنتهي بالحصول على القناعة المطلوبة (غير قطعية).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دلة والقرائ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دلة مباشرة على القضية وتتصل بإثباتها مباشرة والدليل يحوز قوة إقناعية لإثبات الحقيقة. أما القرينة فإنها ترتبط بقضية معينة وتثبت قضية أخرى بصورة غير مباشرة أي أنها تتضمن إستنتاج إحتمالي بشئ معي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endParaRPr b="0" lang="en-US" sz="4300" spc="-1" strike="noStrike">
              <a:solidFill>
                <a:srgbClr val="404040"/>
              </a:solidFill>
              <a:latin typeface="Calibri Light"/>
            </a:endParaRPr>
          </a:p>
        </p:txBody>
      </p:sp>
      <p:sp>
        <p:nvSpPr>
          <p:cNvPr id="318"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الأدلة والقرائن:</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مراجع الداخلي في الوحدات </a:t>
            </a:r>
            <a:r>
              <a:rPr b="1" lang="ar-SA" sz="2000" spc="-1" strike="noStrike">
                <a:solidFill>
                  <a:srgbClr val="000000"/>
                </a:solidFill>
                <a:latin typeface="Calibri"/>
                <a:cs typeface="Arial"/>
              </a:rPr>
              <a:t>التجارية</a:t>
            </a:r>
            <a:r>
              <a:rPr b="0" lang="ar-SA" sz="2000" spc="-1" strike="noStrike">
                <a:solidFill>
                  <a:srgbClr val="000000"/>
                </a:solidFill>
                <a:latin typeface="Calibri"/>
                <a:ea typeface="Arial"/>
              </a:rPr>
              <a:t> يركز كثيرا على العمليات التجارية وما يرتبط بها من حسابات كالمخزون والمدينين والدائنين ، أما التركيز في العمليات </a:t>
            </a:r>
            <a:r>
              <a:rPr b="1" lang="ar-SA" sz="2000" spc="-1" strike="noStrike">
                <a:solidFill>
                  <a:srgbClr val="000000"/>
                </a:solidFill>
                <a:latin typeface="Calibri"/>
                <a:cs typeface="Arial"/>
              </a:rPr>
              <a:t>الحكومية</a:t>
            </a:r>
            <a:r>
              <a:rPr b="0" lang="ar-SA" sz="2000" spc="-1" strike="noStrike">
                <a:solidFill>
                  <a:srgbClr val="000000"/>
                </a:solidFill>
                <a:latin typeface="Calibri"/>
                <a:ea typeface="Arial"/>
              </a:rPr>
              <a:t> فينصب على المصروفات وتحقيق أهداف الوحدة والمخاطر المرتبطة ب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دلة وقرائن المراجعة لا حصر لها حيث يحق للمراجع إثبات الحقيقة بكل الوسائل الممكنة ، ومنها:   </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وجود الفعلي.                                                                           - 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مستندات الداخلية والخارجية.                                                         - الدقة الحسابية.</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تأكيدات الشفهية.                                                                        - العلاقة بين البيانات وبعض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استنتاجات (من الملاحظة والمقابلات والاستفسارات والتقصي).</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889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20" name=""/>
          <p:cNvSpPr txBox="1"/>
          <p:nvPr/>
        </p:nvSpPr>
        <p:spPr>
          <a:xfrm>
            <a:off x="1096920" y="1736280"/>
            <a:ext cx="10058400" cy="4132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لاقة أدلة الإثبات بالأساليب الفنية للمراجعة في الوحدات الحكوم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دول التالي يوضح العلاقة بين أدلة وقرائن المراجعة والإجراءات التي يطبقها المراجع.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hnae</cp:lastModifiedBy>
  <dcterms:modified xsi:type="dcterms:W3CDTF">2014-04-01T07:01:35Z</dcterms:modified>
  <cp:revision>31</cp:revision>
  <dc:subject/>
  <dc:title>PowerPoint Presentation</dc:title>
</cp:coreProperties>
</file>