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48557-08B3-4080-8931-3B99F5695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A575E-ABDC-46A5-B236-652C79D6C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B06E3-B00E-4DD9-B3AB-70A37DE0C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0C8FA-C0C4-473A-A07D-BB1AB8DE5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EE189-267E-4606-9531-534ADDA9B1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7D19F-5175-4824-A67C-1C49298F1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406D4-E005-4A7B-B8FD-A81849564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099F8-1DF6-4E7D-BBD9-25FFE248D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E990F-0780-4E2F-B62A-31EA40E79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5AC34-AEF2-4378-B64C-6F890E6FB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206E1-E31F-4C34-9E6F-59F667D53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4F2F8-2D22-4B4A-A37C-90B142A85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DBB7A-85A1-4131-A2C6-BC5C040F9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2F190-4D5C-4889-A976-F57DE670E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1B39F-CA34-448C-A7B2-6864BDF97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10DA9-E197-453C-B6D1-2A4AC5399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1ADD6-EDD6-4DD9-A748-758E6697A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F1EF27-47A0-49BC-B8F7-5A48DF1DD7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D827F0-E02E-4389-8256-459C69F19F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A8EED-35AD-4708-B033-F12149C30E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227230-9EA8-4871-8092-35E9A9339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ABF5D6-93AE-49E6-A02B-A87C6855C0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EE24B-AA83-49AB-8856-D0475CFA4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2EE390-9EE0-4872-BE13-C62F94CE9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13A49-E288-49FF-B03C-35F06FA98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871FD-CB66-4007-B3F6-B4AFB18F6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06EFD-FDDC-42A2-B885-712C2AFC7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10548-C5EC-4770-8460-4711D433A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24A5DF-591B-4B5E-A056-6484358165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4455D0-5B17-4AF1-B5F2-72F207930E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7239EE-4E7E-427C-90EB-A4EA52E4CC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34CBE4-1D36-4746-BC74-13C5261381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098A9C-2D58-4901-B7FE-C72B52910C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A2FAA-C2DF-4A78-9693-BA05DE8B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D848C-63B2-4A54-A6DA-A056D75EE7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B98A73-6D5F-4035-8DAF-1C01C3BA3D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FF0DCD-A6E7-4619-A280-2262DAF3B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7427B-0578-4974-8434-993BCF936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9E40A-83EC-486F-82D8-64187F8CB8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2C04C1-0DB5-4FAD-9F1A-B93F5A7B7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31C032-0301-4D45-AF82-739AE0A106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0DCBCC-4949-4FAE-A033-66CB37DC66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E5777A-4135-4727-9546-670FA8490E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39C6B3-84AE-475E-843E-F18233F408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512D0-8EED-4809-9A48-B019011DC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92A602-F8EE-4583-BD7C-DDF3622AE5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A7679F-FA02-40E0-A89C-32701B3103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1D79A4-8BA6-445D-9CAA-618F2E5CD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FC84BA-22CE-443C-80A3-55D8DEEAA0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43BE03-3FE8-49E8-8211-1E43D51579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FF161A-58AF-4038-878F-90F96A273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AA432-00BA-4BC3-869D-249A55F86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8C3300-5623-4253-8EA7-3AD1CF13C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1216D5-FACF-4083-9580-A1ECE710E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7F97B1-9224-4F93-98DB-1F273732CE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A836C-E90F-4EFF-9ED4-18986F36F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EE7C72-A4FF-4875-B7E7-E400A0F74A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D29E16-798A-42E9-B752-4897A1D74C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6EAC74-4A7D-4B18-A74C-9263EE3E07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3B930B-7B86-44CD-86F3-6959101418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CC5F1A-3D2D-45B8-83D9-34984C9836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882857-6968-4D17-B05B-32CEDF59B5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9F0E47-B47D-4E82-A128-CDBBC14865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978B1-1DAC-432B-887D-349C25E81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69153D-898B-47BC-92CC-E156EF25DE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BCE68B-D6EC-4C3D-BD84-50F742FA56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D352-F2B8-47D4-84F1-250BE0E26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33B5BD-5FE7-49BC-911B-7B39BA3F96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FE4566-6E81-4220-BBED-5201933955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77223F-F880-41A1-98C3-C53489E464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9CE0C5-D91A-46CA-910A-2F6F78743B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3F9E6C-E898-40B4-95DE-A252AD9113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97BF9D-4F91-42A4-A0AD-E686DF0C66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AFEFD6-D94F-47F5-BFD8-5EEBB1994A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818432-B905-47F4-BE25-6ED90F4D85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731BE4-FF4F-49E6-921E-418328727B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13EECD-B96A-4071-87BE-8F4048B791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728F6-092E-4EFD-86E4-EDF1CB74B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23908E-E201-4818-8954-2B096498E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E7244A-392E-4205-B759-C896AFE699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EB7E3B-C6DF-48E1-96D8-443BDE3BE0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429F0B-DB39-41DE-8D58-613F23A400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65C4FB-C0C2-4BA4-B270-E541ECC0E6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13722-D1CC-4854-A470-A5DFC7BCE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7411CD-527D-43DE-9769-2B692741A85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C100B2-FF73-4395-B04A-0112C763239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3DFC2-7AB0-40F2-B60D-3F31D50A935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B3D575-7500-44EA-AB79-45D58C329DE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5f51"/>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55f5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7376F-F4A1-413D-9969-843D3D930B97}" type="slidenum">
              <a:rPr b="0" lang="en-US"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5D68E-F8DB-40F3-A963-259D3D16368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A38548-7CA4-4524-9DF3-E943FD5D2CE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Calibri Light"/>
                <a:cs typeface="Times New Roman"/>
              </a:rPr>
              <a:t>تنفيذ مهام المراجعة الداخلية</a:t>
            </a:r>
            <a:endParaRPr b="0" lang="en-US" sz="8000" spc="-1" strike="noStrike">
              <a:solidFill>
                <a:srgbClr val="404040"/>
              </a:solidFill>
              <a:latin typeface="Calibri Light"/>
            </a:endParaRPr>
          </a:p>
        </p:txBody>
      </p:sp>
      <p:sp>
        <p:nvSpPr>
          <p:cNvPr id="305" name="PlaceHolder 2"/>
          <p:cNvSpPr>
            <a:spLocks noGrp="1"/>
          </p:cNvSpPr>
          <p:nvPr>
            <p:ph type="subTitle"/>
          </p:nvPr>
        </p:nvSpPr>
        <p:spPr>
          <a:xfrm>
            <a:off x="1100160" y="4455720"/>
            <a:ext cx="10058400" cy="1143000"/>
          </a:xfrm>
          <a:prstGeom prst="rect">
            <a:avLst/>
          </a:prstGeom>
          <a:noFill/>
          <a:ln w="0">
            <a:noFill/>
          </a:ln>
        </p:spPr>
        <p:txBody>
          <a:bodyPr anchor="t">
            <a:noAutofit/>
          </a:bodyPr>
          <a:p>
            <a:pPr indent="0" algn="r" rtl="1">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55f51"/>
                </a:solidFill>
                <a:latin typeface="Calibri Light"/>
                <a:cs typeface="Arial"/>
              </a:rPr>
              <a:t>اولا:مراجعة النظم</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مفهوم </a:t>
            </a:r>
            <a:r>
              <a:rPr b="1" lang="ar-SA" sz="2400" spc="-1" strike="noStrike">
                <a:solidFill>
                  <a:srgbClr val="404040"/>
                </a:solidFill>
                <a:latin typeface="Calibri"/>
                <a:ea typeface="Arial"/>
              </a:rPr>
              <a:t>(تأكيدا معقولا) </a:t>
            </a:r>
            <a:r>
              <a:rPr b="0" lang="ar-SA" sz="2400" spc="-1" strike="noStrike">
                <a:solidFill>
                  <a:srgbClr val="404040"/>
                </a:solidFill>
                <a:latin typeface="Calibri"/>
                <a:cs typeface="Arial"/>
              </a:rPr>
              <a:t>هنا يأخذ في الاعتبار عدم زيادة تكاليف نظام الرقابة الداخلية عن المنافع المتوقعة منه. وعليه فان التعريف يأخذ في الاعتبار حقيقة أن وجود نظام للرقابة الداخلية لا يوفر  ضمان أو تأكيد مطلق على تحقيق الأهداف التى وضع من اجلها ذلك النظام.</a:t>
            </a:r>
            <a:endParaRPr b="0" lang="en-US" sz="24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تعريف اخر لأنظمة الرقاب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هي مجموعة الوسائل والإجراءات والأساليب التي تستخدم بقصد حماية النقدية وغيرها من الأصول وضمان الدقة المحاسبية وتنمية الكفاية الإنتاجية وتشجيع الالتزام بالسياسات الإدارية المرسوم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مكونات نظم الرقابة الداخ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بيئة الرقاب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تقدير المخاطر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معلومات والاتصال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أنشطة الرقا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مراقبة الأنشطة الرقاب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7" name=""/>
          <p:cNvSpPr txBox="1"/>
          <p:nvPr/>
        </p:nvSpPr>
        <p:spPr>
          <a:xfrm>
            <a:off x="1096920" y="1846440"/>
            <a:ext cx="10058400" cy="4579920"/>
          </a:xfrm>
          <a:prstGeom prst="rect">
            <a:avLst/>
          </a:prstGeom>
          <a:noFill/>
          <a:ln w="0">
            <a:noFill/>
          </a:ln>
        </p:spPr>
        <p:txBody>
          <a:bodyPr lIns="0" rIns="0" anchor="t">
            <a:normAutofit fontScale="91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بيئة الرقاب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حدد البيئة الرقابية اتجاهات المنشأة ، وتؤثر على مدى وعي الأفراد الذين ينتمون إليها بالأنشطة الرقابية. وهي الأساس لجميع مكونات الرقابة الداخلية الأخرى.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من أهم العوامل البيئية الرقابية ما يلي</a:t>
            </a:r>
            <a:r>
              <a:rPr b="1" lang="ar-SA" sz="2400" spc="-1" strike="noStrike">
                <a:solidFill>
                  <a:srgbClr val="ff0000"/>
                </a:solidFill>
                <a:latin typeface="Calibri"/>
                <a:ea typeface="Arial"/>
              </a:rPr>
              <a:t>(قراءة) </a:t>
            </a:r>
            <a:r>
              <a:rPr b="0" lang="ar-SA" sz="2400" spc="-1" strike="noStrike">
                <a:solidFill>
                  <a:srgbClr val="404040"/>
                </a:solidFill>
                <a:latin typeface="Calibri"/>
                <a:ea typeface="Arial"/>
              </a:rPr>
              <a:t>: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طرق الرقابة المتعلقة بالإشراف والمتابعة                                        - الهيكل التنظيمي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أسلوب الفلسفي والعملي المتبع بواسطة الادارة                                 - لجنة المراجع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سياسات والإجراءات المتعلقة بالأفراد (العاملين)                               - المؤثرات الخارج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أمانة والقيم الأخلاقية التي يتصف بها الأفراد والعاملون في الجهة           - طرق الاتصال</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9" name=""/>
          <p:cNvSpPr txBox="1"/>
          <p:nvPr/>
        </p:nvSpPr>
        <p:spPr>
          <a:xfrm>
            <a:off x="1096920" y="1846440"/>
            <a:ext cx="10058400" cy="4579920"/>
          </a:xfrm>
          <a:prstGeom prst="rect">
            <a:avLst/>
          </a:prstGeom>
          <a:noFill/>
          <a:ln w="0">
            <a:noFill/>
          </a:ln>
        </p:spPr>
        <p:txBody>
          <a:bodyPr lIns="0" rIns="0" anchor="t">
            <a:normAutofit/>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تقديـر المخاطـر : </a:t>
            </a:r>
            <a:endParaRPr b="0" lang="en-US" sz="2400" spc="-1" strike="noStrike">
              <a:solidFill>
                <a:srgbClr val="404040"/>
              </a:solidFill>
              <a:latin typeface="Calibri"/>
            </a:endParaRPr>
          </a:p>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قصد بتقدير المخاطر تقدير احتمال حدوث غش أو أخطاء أثناء تنفيذ العمليات المالية أو غير المالية.</a:t>
            </a:r>
            <a:endParaRPr b="0" lang="en-US" sz="2400" spc="-1" strike="noStrike">
              <a:solidFill>
                <a:srgbClr val="404040"/>
              </a:solidFill>
              <a:latin typeface="Calibri"/>
            </a:endParaRPr>
          </a:p>
          <a:p>
            <a:pPr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دارة المخاطر</a:t>
            </a:r>
            <a:endParaRPr b="0" lang="en-US" sz="2400" spc="-1" strike="noStrike">
              <a:solidFill>
                <a:srgbClr val="404040"/>
              </a:solidFill>
              <a:latin typeface="Calibri"/>
            </a:endParaRPr>
          </a:p>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ضع الإجراءات التي تؤدي إلى تقليل إحتمال حدوث هذه الأخطار.</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1" name=""/>
          <p:cNvSpPr txBox="1"/>
          <p:nvPr/>
        </p:nvSpPr>
        <p:spPr>
          <a:xfrm>
            <a:off x="1096920" y="1846440"/>
            <a:ext cx="10058400" cy="457992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أنشطـة الرقابيـ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أنشطة الرقابية هي السياسات والإجراءات التي تساعد في التأكد من أن تعليمات الجهات العليا يتم تنفيذها.</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أنشطة الرقابية لها أهداف عديدة ويتم تطبيقها عند مستويات تنظيمية ووظيفية متعدد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جب على المراجع الداخلي أن يكون على دراية تامة بالانشطة الرقابية المطبقة بالجهة التابع لها.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3" name=""/>
          <p:cNvSpPr txBox="1"/>
          <p:nvPr/>
        </p:nvSpPr>
        <p:spPr>
          <a:xfrm>
            <a:off x="1096920" y="1846440"/>
            <a:ext cx="10058400" cy="457992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علومات والاتصال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تختلف احتياجات المعلومات من نشاط لآخر ومن وحدة لأخرى ، كما تختلف وسائل الاتصال والتقرير تبعا لاختلاف المعلومات ودورية الحاجة إليها.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الرقابة الداخلية الحكومية ، فيما يتعلق بالمعلومات والاتصال ، تركز اهتمامها الأساسي على الاستخدامات الداخلية لتمكين الإدارة من فرض الرقابة على العمليات والأنشطة والموارد.</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5" name=""/>
          <p:cNvSpPr txBox="1"/>
          <p:nvPr/>
        </p:nvSpPr>
        <p:spPr>
          <a:xfrm>
            <a:off x="1096920" y="1846440"/>
            <a:ext cx="10058400" cy="457992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مراقبة الانشطة الرقاب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قبة الأنشطة الرقابية هي عملية تقويم جودة أداء الرقابة الداخلية بصفة مستمرة للتحقق من أن الأنشطة الرقابية تعمل وفق ما هو مخطط لها أن تعمل ، وأنها تتعامل بفاعلية مع المخاطر التي تنشأ عن الأحداث والظروف الطارئة ، وتوصي باتخاذ أي إجراءات تصحيحية في حالة وجود أي قصور في هذه الأنشطة. كما تقرر مدي ملائمة الأنشطة الرقابية الحالية وهل مازلت فاعلة في تخفيض المخاطر ، وهل هناك مخاطر جديدة لم تكن متوقعة عند تخطيط الأنشطة الرقابية الحالية ، وما هي الأنشطة الرقابية الإضافية التي يجب تصميمها للتعامل مع الأنواع الجديدة من المخاطر. ويتم تحقيق مراقبة الأنشطة الرقابية عن طريق أنشطة مستمرة ، أو إجراء تقويمات مستقلة أو عن طريق الجمع بين الأسلوبين.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7" name=""/>
          <p:cNvSpPr txBox="1"/>
          <p:nvPr/>
        </p:nvSpPr>
        <p:spPr>
          <a:xfrm>
            <a:off x="1096920" y="1846440"/>
            <a:ext cx="10058400" cy="4579920"/>
          </a:xfrm>
          <a:prstGeom prst="rect">
            <a:avLst/>
          </a:prstGeom>
          <a:noFill/>
          <a:ln w="0">
            <a:noFill/>
          </a:ln>
        </p:spPr>
        <p:txBody>
          <a:bodyPr lIns="0" rIns="0" anchor="t">
            <a:normAutofit/>
          </a:bodyPr>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Calibri"/>
                <a:ea typeface="Arial"/>
              </a:rPr>
              <a:t>3</a:t>
            </a:r>
            <a:r>
              <a:rPr b="1" lang="ar-SA" sz="2200" spc="-1" strike="noStrike">
                <a:solidFill>
                  <a:srgbClr val="404040"/>
                </a:solidFill>
                <a:latin typeface="Calibri"/>
                <a:ea typeface="Arial"/>
              </a:rPr>
              <a:t>- حدود الرقابة الداخلية</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Calibri"/>
                <a:ea typeface="Arial"/>
              </a:rPr>
              <a:t> </a:t>
            </a:r>
            <a:r>
              <a:rPr b="0" lang="ar-SA" sz="2200" spc="-1" strike="noStrike">
                <a:solidFill>
                  <a:srgbClr val="404040"/>
                </a:solidFill>
                <a:latin typeface="Calibri"/>
                <a:cs typeface="Arial"/>
              </a:rPr>
              <a:t>إن نظام الرقابة الداخلية الجيد يقدم تأكيدا معقولا على ضمان تحقيق الأهداف من وراء تطبيقه ، ولكنه لا يقدم ضمانا مطلقا على تحقيق تلك الأهداف نتيجة لوجود معوقات تحد من فعالية أي نظام رقابة داخلية.  هذه المعوقات تشمل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1</a:t>
            </a:r>
            <a:r>
              <a:rPr b="0" lang="ar-SA" sz="2200" spc="-1" strike="noStrike">
                <a:solidFill>
                  <a:srgbClr val="404040"/>
                </a:solidFill>
                <a:latin typeface="Calibri"/>
                <a:ea typeface="Arial"/>
              </a:rPr>
              <a:t>-  إساءة فهم التعليمات.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2</a:t>
            </a:r>
            <a:r>
              <a:rPr b="0" lang="ar-SA" sz="2200" spc="-1" strike="noStrike">
                <a:solidFill>
                  <a:srgbClr val="404040"/>
                </a:solidFill>
                <a:latin typeface="Calibri"/>
                <a:ea typeface="Arial"/>
              </a:rPr>
              <a:t>-  الخطأ في التقديـر.</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3</a:t>
            </a:r>
            <a:r>
              <a:rPr b="0" lang="ar-SA" sz="2200" spc="-1" strike="noStrike">
                <a:solidFill>
                  <a:srgbClr val="404040"/>
                </a:solidFill>
                <a:latin typeface="Calibri"/>
                <a:ea typeface="Arial"/>
              </a:rPr>
              <a:t>-  اللامبــــالاة.</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4</a:t>
            </a:r>
            <a:r>
              <a:rPr b="0" lang="ar-SA" sz="2200" spc="-1" strike="noStrike">
                <a:solidFill>
                  <a:srgbClr val="404040"/>
                </a:solidFill>
                <a:latin typeface="Calibri"/>
                <a:ea typeface="Arial"/>
              </a:rPr>
              <a:t>-  عدم التركيـــز.</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5</a:t>
            </a:r>
            <a:r>
              <a:rPr b="0" lang="ar-SA" sz="2200" spc="-1" strike="noStrike">
                <a:solidFill>
                  <a:srgbClr val="404040"/>
                </a:solidFill>
                <a:latin typeface="Calibri"/>
                <a:ea typeface="Arial"/>
              </a:rPr>
              <a:t>-  التعــــــب.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6</a:t>
            </a:r>
            <a:r>
              <a:rPr b="0" lang="ar-SA" sz="2200" spc="-1" strike="noStrike">
                <a:solidFill>
                  <a:srgbClr val="404040"/>
                </a:solidFill>
                <a:latin typeface="Calibri"/>
                <a:ea typeface="Arial"/>
              </a:rPr>
              <a:t>-  التواطـــــؤ.</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7</a:t>
            </a:r>
            <a:r>
              <a:rPr b="0" lang="ar-SA" sz="2200" spc="-1" strike="noStrike">
                <a:solidFill>
                  <a:srgbClr val="404040"/>
                </a:solidFill>
                <a:latin typeface="Calibri"/>
                <a:ea typeface="Arial"/>
              </a:rPr>
              <a:t>-  تجاوزات الادارة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6920"/>
            <a:ext cx="10058400" cy="2430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الرقابة الداخلية</a:t>
            </a:r>
            <a:br>
              <a:rPr sz="4300"/>
            </a:br>
            <a:r>
              <a:rPr b="0" lang="ar-SA" sz="4300" spc="-1" strike="noStrike">
                <a:solidFill>
                  <a:srgbClr val="404040"/>
                </a:solidFill>
                <a:latin typeface="Calibri Light"/>
                <a:ea typeface="Times New Roman"/>
              </a:rPr>
              <a:t> في ظل التشغيل اليدوي للبيانات المحاسبية</a:t>
            </a:r>
            <a:br>
              <a:rPr sz="4300"/>
            </a:br>
            <a:br>
              <a:rPr sz="4300"/>
            </a:br>
            <a:endParaRPr b="0" lang="en-US" sz="4300" spc="-1" strike="noStrike">
              <a:solidFill>
                <a:srgbClr val="404040"/>
              </a:solidFill>
              <a:latin typeface="Calibri Light"/>
            </a:endParaRPr>
          </a:p>
        </p:txBody>
      </p:sp>
      <p:sp>
        <p:nvSpPr>
          <p:cNvPr id="339" name=""/>
          <p:cNvSpPr txBox="1"/>
          <p:nvPr/>
        </p:nvSpPr>
        <p:spPr>
          <a:xfrm>
            <a:off x="1096920" y="1846440"/>
            <a:ext cx="10058400" cy="402264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أ - الحصول على فهم كاف لنظام الرقابة الداخلية وتوثيق ذلك الفهم:</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القيام بدراسة المكونات الخمس لنظام الرقابة الداخلية.</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اتخاذ قرار فيما يختص بإجراء او عدم إجراء اختبارات رقابة في مرحلة الفهم (مرحلة التقييم المبدئي).</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توثيق عملية فهم النظام باستخدام خرائط التدفق ، المذكرات ، قوائم الاستقصاء (الاستبيان) جداول القرارات ، ...  الخ. </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ب- تقييم مخاطر الرقابة </a:t>
            </a:r>
            <a:r>
              <a:rPr b="0" lang="ar-SA" sz="2000" spc="-1" strike="noStrike">
                <a:solidFill>
                  <a:srgbClr val="404040"/>
                </a:solidFill>
                <a:latin typeface="Calibri"/>
                <a:ea typeface="Arial"/>
              </a:rPr>
              <a:t>:</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اذا لم يتم إجراء اختبارات رقابة فان مخاطر الرقابة يجب تحديدها عند الحد الأقصى. </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اذا تم إجراء اختبارات رقابة فان مستوى ما من مستويات مخاطر الرقابة يمكن تحديده أقل من الحد الأقصى. </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تحديد ما اذا كان هناك حاجة لإجراء المزيد من اختبارات الرقابة. </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6920"/>
            <a:ext cx="10058400" cy="2430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r>
              <a:rPr b="1" lang="ar-SA" sz="4300" spc="-1" strike="noStrike" u="sng">
                <a:solidFill>
                  <a:srgbClr val="404040"/>
                </a:solidFill>
                <a:uFillTx/>
                <a:latin typeface="Calibri Light"/>
                <a:cs typeface="Times New Roman"/>
              </a:rPr>
              <a:t>تقويم</a:t>
            </a:r>
            <a:r>
              <a:rPr b="0" lang="ar-SA" sz="4300" spc="-1" strike="noStrike">
                <a:solidFill>
                  <a:srgbClr val="404040"/>
                </a:solidFill>
                <a:latin typeface="Calibri Light"/>
                <a:ea typeface="Times New Roman"/>
              </a:rPr>
              <a:t> الرقابة الداخلية</a:t>
            </a:r>
            <a:br>
              <a:rPr sz="4300"/>
            </a:br>
            <a:r>
              <a:rPr b="0" lang="ar-SA" sz="4300" spc="-1" strike="noStrike">
                <a:solidFill>
                  <a:srgbClr val="404040"/>
                </a:solidFill>
                <a:latin typeface="Calibri Light"/>
                <a:ea typeface="Times New Roman"/>
              </a:rPr>
              <a:t> في ظل التشغيل اليدوي للبيانات المحاسبية</a:t>
            </a:r>
            <a:br>
              <a:rPr sz="4300"/>
            </a:br>
            <a:br>
              <a:rPr sz="4300"/>
            </a:br>
            <a:endParaRPr b="0" lang="en-US" sz="4300" spc="-1" strike="noStrike">
              <a:solidFill>
                <a:srgbClr val="404040"/>
              </a:solidFill>
              <a:latin typeface="Calibri Light"/>
            </a:endParaRPr>
          </a:p>
        </p:txBody>
      </p:sp>
      <p:sp>
        <p:nvSpPr>
          <p:cNvPr id="341" name=""/>
          <p:cNvSpPr txBox="1"/>
          <p:nvPr/>
        </p:nvSpPr>
        <p:spPr>
          <a:xfrm>
            <a:off x="1096920" y="1846440"/>
            <a:ext cx="10058400" cy="4022640"/>
          </a:xfrm>
          <a:prstGeom prst="rect">
            <a:avLst/>
          </a:prstGeom>
          <a:noFill/>
          <a:ln w="0">
            <a:noFill/>
          </a:ln>
        </p:spPr>
        <p:txBody>
          <a:bodyPr lIns="0" rIns="0" anchor="t">
            <a:normAutofit fontScale="92000"/>
          </a:bodyPr>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ج- اختبارات الرقابة :</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إجراء اختبارات رقابة لمعرفة ما اذا كانت الأساليب الرقابية (السياسات والإجراءات) تعمل بكفاءة وتتم تلك الاختبارات </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باستخدام الاستفسارات ، فحص المستندات ، ملاحظة الموظفين خلال تأدية أعمالهم، وإعادة تنفيذ الأساليب الرقابية.</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توثيق نتائج اختبارات الرقابة حسب نوع العملية وحسب تأكيدات القوائم المالية. </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د -  إعادة تقييم مخاطر الرقابة الداخلية : </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تقييم مخاطر الرقابة الداخلية في ضوء اختبارات الرقابة. </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اذا كانت نتيجة التقييم هي أن مخاطر الرقابة أقل من الحد الأقصى فيجب توثيق الأسس التي قام عليها هذا الاستنتاج. </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كتابة التقرير.</a:t>
            </a:r>
            <a:endParaRPr b="0" lang="en-US" sz="2000" spc="-1" strike="noStrike">
              <a:solidFill>
                <a:srgbClr val="404040"/>
              </a:solidFill>
              <a:latin typeface="Calibri"/>
            </a:endParaRPr>
          </a:p>
          <a:p>
            <a:pPr marL="82800" indent="-828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07"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سبق أن ذكرنا أن مهام وحدة المراجعة الداخلية (مجالات عمل المراجع الداخلي) تشمل على الأقل المهام التا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النظم (عرض اليوم بأذن الله)</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راجعة التشغيل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الإلتزام</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راجعة المال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السلوك</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قديم المشورة والدعم للإدار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96920" y="287280"/>
            <a:ext cx="10058400" cy="3408480"/>
          </a:xfrm>
          <a:prstGeom prst="rect">
            <a:avLst/>
          </a:prstGeom>
          <a:noFill/>
          <a:ln w="0">
            <a:noFill/>
          </a:ln>
        </p:spPr>
        <p:txBody>
          <a:bodyPr tIns="91440" bIns="0"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r>
              <a:rPr b="0" lang="ar-SA" sz="3600" spc="-1" strike="noStrike">
                <a:solidFill>
                  <a:srgbClr val="404040"/>
                </a:solidFill>
                <a:latin typeface="Calibri Light"/>
                <a:cs typeface="Times New Roman"/>
              </a:rPr>
              <a:t>خريطة تدفق توضح كيفية دراسة وتقييم  نظام</a:t>
            </a:r>
            <a:br>
              <a:rPr sz="3600"/>
            </a:br>
            <a:r>
              <a:rPr b="0" lang="ar-SA" sz="3600" spc="-1" strike="noStrike">
                <a:solidFill>
                  <a:srgbClr val="404040"/>
                </a:solidFill>
                <a:latin typeface="Calibri Light"/>
                <a:cs typeface="Times New Roman"/>
              </a:rPr>
              <a:t>الرقابة الداخلية بواسطة المراجع الداخلي في الوحدات الحكومية</a:t>
            </a:r>
            <a:br>
              <a:rPr sz="3600"/>
            </a:br>
            <a:br>
              <a:rPr sz="4300"/>
            </a:br>
            <a:br>
              <a:rPr sz="4300"/>
            </a:br>
            <a:br>
              <a:rPr sz="4300"/>
            </a:br>
            <a:endParaRPr b="0" lang="en-US" sz="36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5"/>
          <p:cNvSpPr/>
          <p:nvPr/>
        </p:nvSpPr>
        <p:spPr>
          <a:xfrm>
            <a:off x="896760" y="74520"/>
            <a:ext cx="504216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قد تتضمن هذة الخطوة اختبارات رقابة في بعض الاحيان</a:t>
            </a:r>
            <a:endParaRPr b="0" lang="en-US" sz="1600" spc="-1" strike="noStrike">
              <a:solidFill>
                <a:srgbClr val="000000"/>
              </a:solidFill>
              <a:latin typeface="Calibri"/>
            </a:endParaRPr>
          </a:p>
        </p:txBody>
      </p:sp>
      <p:sp>
        <p:nvSpPr>
          <p:cNvPr id="344" name="Rectangle 24"/>
          <p:cNvSpPr/>
          <p:nvPr/>
        </p:nvSpPr>
        <p:spPr>
          <a:xfrm>
            <a:off x="896760" y="882720"/>
            <a:ext cx="504216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ما لم تتم اختبارات رقابة فإن مخاطر الرقابة تحدد عند الحد الأقصى (المستوى الأعلى)</a:t>
            </a:r>
            <a:endParaRPr b="0" lang="en-US" sz="1600" spc="-1" strike="noStrike">
              <a:solidFill>
                <a:srgbClr val="000000"/>
              </a:solidFill>
              <a:latin typeface="Calibri"/>
            </a:endParaRPr>
          </a:p>
        </p:txBody>
      </p:sp>
      <p:sp>
        <p:nvSpPr>
          <p:cNvPr id="345" name="Line 23"/>
          <p:cNvSpPr/>
          <p:nvPr/>
        </p:nvSpPr>
        <p:spPr>
          <a:xfrm flipH="1">
            <a:off x="5971680" y="349200"/>
            <a:ext cx="822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Rectangle 22"/>
          <p:cNvSpPr/>
          <p:nvPr/>
        </p:nvSpPr>
        <p:spPr>
          <a:xfrm>
            <a:off x="6753240" y="74520"/>
            <a:ext cx="496404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أحصل على فهم كاف لنظام الرقابة الداخلية ووثقه لغرض تقويمه</a:t>
            </a:r>
            <a:endParaRPr b="0" lang="en-US" sz="1600" spc="-1" strike="noStrike">
              <a:solidFill>
                <a:srgbClr val="000000"/>
              </a:solidFill>
              <a:latin typeface="Calibri"/>
            </a:endParaRPr>
          </a:p>
        </p:txBody>
      </p:sp>
      <p:sp>
        <p:nvSpPr>
          <p:cNvPr id="347" name="Rectangle 21"/>
          <p:cNvSpPr/>
          <p:nvPr/>
        </p:nvSpPr>
        <p:spPr>
          <a:xfrm>
            <a:off x="6718320" y="879480"/>
            <a:ext cx="496260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قم بتقييم مخاطر الرقابة وحــدد مستــوى المخاطـر</a:t>
            </a:r>
            <a:endParaRPr b="0" lang="en-US" sz="1600" spc="-1" strike="noStrike">
              <a:solidFill>
                <a:srgbClr val="000000"/>
              </a:solidFill>
              <a:latin typeface="Calibri"/>
            </a:endParaRPr>
          </a:p>
        </p:txBody>
      </p:sp>
      <p:sp>
        <p:nvSpPr>
          <p:cNvPr id="348" name="AutoShape 20"/>
          <p:cNvSpPr/>
          <p:nvPr/>
        </p:nvSpPr>
        <p:spPr>
          <a:xfrm>
            <a:off x="8067600" y="1650960"/>
            <a:ext cx="2362320" cy="15080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هـل مخاطر الرقابة أقل من الحد الأقصى ؟</a:t>
            </a:r>
            <a:endParaRPr b="0" lang="en-US" sz="1600" spc="-1" strike="noStrike">
              <a:solidFill>
                <a:srgbClr val="000000"/>
              </a:solidFill>
              <a:latin typeface="Calibri"/>
            </a:endParaRPr>
          </a:p>
        </p:txBody>
      </p:sp>
      <p:sp>
        <p:nvSpPr>
          <p:cNvPr id="349" name="Rectangle 19"/>
          <p:cNvSpPr/>
          <p:nvPr/>
        </p:nvSpPr>
        <p:spPr>
          <a:xfrm>
            <a:off x="880920" y="2030400"/>
            <a:ext cx="5031000" cy="569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المخاطر الرقابية عند مستوى مرتفع ويجب اقتراح وسائل التصحيح</a:t>
            </a:r>
            <a:endParaRPr b="0" lang="en-US" sz="1600" spc="-1" strike="noStrike">
              <a:solidFill>
                <a:srgbClr val="000000"/>
              </a:solidFill>
              <a:latin typeface="Calibri"/>
            </a:endParaRPr>
          </a:p>
        </p:txBody>
      </p:sp>
      <p:sp>
        <p:nvSpPr>
          <p:cNvPr id="350" name="Rectangle 18"/>
          <p:cNvSpPr/>
          <p:nvPr/>
        </p:nvSpPr>
        <p:spPr>
          <a:xfrm>
            <a:off x="6948360" y="5450040"/>
            <a:ext cx="4724640" cy="550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قدم تقريرك بأن نظام الرقابة الداخلية فعال وإن كان لك ملاحظات لتحسينه أذكرها</a:t>
            </a:r>
            <a:endParaRPr b="0" lang="en-US" sz="1600" spc="-1" strike="noStrike">
              <a:solidFill>
                <a:srgbClr val="000000"/>
              </a:solidFill>
              <a:latin typeface="Calibri"/>
            </a:endParaRPr>
          </a:p>
        </p:txBody>
      </p:sp>
      <p:sp>
        <p:nvSpPr>
          <p:cNvPr id="351" name="Rectangle 17"/>
          <p:cNvSpPr/>
          <p:nvPr/>
        </p:nvSpPr>
        <p:spPr>
          <a:xfrm>
            <a:off x="6953400" y="4357800"/>
            <a:ext cx="4724280" cy="436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هل هناك التزام بالإجراءات الرقابي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2" name="Rectangle 16"/>
          <p:cNvSpPr/>
          <p:nvPr/>
        </p:nvSpPr>
        <p:spPr>
          <a:xfrm>
            <a:off x="880920" y="2857680"/>
            <a:ext cx="5031000" cy="504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قم بعمل الملاحظات اللازمة ووثقها واقترح وسائل التصحيح وقدم تقريرك إلى الجهة المناسبة</a:t>
            </a:r>
            <a:endParaRPr b="0" lang="en-US" sz="1600" spc="-1" strike="noStrike">
              <a:solidFill>
                <a:srgbClr val="000000"/>
              </a:solidFill>
              <a:latin typeface="Calibri"/>
            </a:endParaRPr>
          </a:p>
        </p:txBody>
      </p:sp>
      <p:sp>
        <p:nvSpPr>
          <p:cNvPr id="353" name="Line 15"/>
          <p:cNvSpPr/>
          <p:nvPr/>
        </p:nvSpPr>
        <p:spPr>
          <a:xfrm flipH="1">
            <a:off x="9248760" y="3174840"/>
            <a:ext cx="14400" cy="358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Line 14"/>
          <p:cNvSpPr/>
          <p:nvPr/>
        </p:nvSpPr>
        <p:spPr>
          <a:xfrm>
            <a:off x="9236160" y="4002120"/>
            <a:ext cx="12600" cy="320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5" name="Line 13"/>
          <p:cNvSpPr/>
          <p:nvPr/>
        </p:nvSpPr>
        <p:spPr>
          <a:xfrm flipH="1">
            <a:off x="9248760" y="4865760"/>
            <a:ext cx="6480" cy="525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6" name="Rectangle 12"/>
          <p:cNvSpPr/>
          <p:nvPr/>
        </p:nvSpPr>
        <p:spPr>
          <a:xfrm>
            <a:off x="6954840" y="3556080"/>
            <a:ext cx="472428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قم بإجراء اختبارات الرقابة</a:t>
            </a:r>
            <a:endParaRPr b="0" lang="en-US" sz="1600" spc="-1" strike="noStrike">
              <a:solidFill>
                <a:srgbClr val="000000"/>
              </a:solidFill>
              <a:latin typeface="Calibri"/>
            </a:endParaRPr>
          </a:p>
        </p:txBody>
      </p:sp>
      <p:sp>
        <p:nvSpPr>
          <p:cNvPr id="357" name="Line 11"/>
          <p:cNvSpPr/>
          <p:nvPr/>
        </p:nvSpPr>
        <p:spPr>
          <a:xfrm flipH="1">
            <a:off x="3381120" y="2597040"/>
            <a:ext cx="19080" cy="26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8" name="Line 10"/>
          <p:cNvSpPr/>
          <p:nvPr/>
        </p:nvSpPr>
        <p:spPr>
          <a:xfrm>
            <a:off x="9236160" y="1428840"/>
            <a:ext cx="1260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9" name="Line 9"/>
          <p:cNvSpPr/>
          <p:nvPr/>
        </p:nvSpPr>
        <p:spPr>
          <a:xfrm flipH="1" flipV="1">
            <a:off x="5929200" y="2388960"/>
            <a:ext cx="213840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60" name="Line 8"/>
          <p:cNvSpPr/>
          <p:nvPr/>
        </p:nvSpPr>
        <p:spPr>
          <a:xfrm flipH="1">
            <a:off x="6000480" y="1171440"/>
            <a:ext cx="711000" cy="11160"/>
          </a:xfrm>
          <a:prstGeom prst="line">
            <a:avLst/>
          </a:prstGeom>
          <a:ln w="1908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61" name="Rectangle 7"/>
          <p:cNvSpPr/>
          <p:nvPr/>
        </p:nvSpPr>
        <p:spPr>
          <a:xfrm>
            <a:off x="7896240" y="2046240"/>
            <a:ext cx="2746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PT Bold Heading"/>
              </a:rPr>
              <a:t>لا</a:t>
            </a:r>
            <a:endParaRPr b="0" lang="en-US" sz="1200" spc="-1" strike="noStrike">
              <a:solidFill>
                <a:srgbClr val="000000"/>
              </a:solidFill>
              <a:latin typeface="Calibri"/>
            </a:endParaRPr>
          </a:p>
        </p:txBody>
      </p:sp>
      <p:sp>
        <p:nvSpPr>
          <p:cNvPr id="362" name="Rectangle 6"/>
          <p:cNvSpPr/>
          <p:nvPr/>
        </p:nvSpPr>
        <p:spPr>
          <a:xfrm>
            <a:off x="8834400" y="3119400"/>
            <a:ext cx="42876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نعم</a:t>
            </a:r>
            <a:endParaRPr b="0" lang="en-US" sz="1200" spc="-1" strike="noStrike">
              <a:solidFill>
                <a:srgbClr val="000000"/>
              </a:solidFill>
              <a:latin typeface="Calibri"/>
            </a:endParaRPr>
          </a:p>
        </p:txBody>
      </p:sp>
      <p:sp>
        <p:nvSpPr>
          <p:cNvPr id="363" name="Text Box 5"/>
          <p:cNvSpPr/>
          <p:nvPr/>
        </p:nvSpPr>
        <p:spPr>
          <a:xfrm>
            <a:off x="8237520" y="4943520"/>
            <a:ext cx="5716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نعم</a:t>
            </a:r>
            <a:endParaRPr b="0" lang="en-US" sz="1200" spc="-1" strike="noStrike">
              <a:solidFill>
                <a:srgbClr val="000000"/>
              </a:solidFill>
              <a:latin typeface="Calibri"/>
            </a:endParaRPr>
          </a:p>
        </p:txBody>
      </p:sp>
      <p:sp>
        <p:nvSpPr>
          <p:cNvPr id="364" name="Line 4"/>
          <p:cNvSpPr/>
          <p:nvPr/>
        </p:nvSpPr>
        <p:spPr>
          <a:xfrm flipH="1" flipV="1">
            <a:off x="5928840" y="4597560"/>
            <a:ext cx="1019160" cy="252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65" name="Text Box 3"/>
          <p:cNvSpPr/>
          <p:nvPr/>
        </p:nvSpPr>
        <p:spPr>
          <a:xfrm>
            <a:off x="880920" y="4289400"/>
            <a:ext cx="50310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قم بعمل الملاحظات اللازمة ووثقها واقترح وسائل التصحيح وقدم تقريرك إلى الجهة المناسب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66" name="Text Box 2"/>
          <p:cNvSpPr/>
          <p:nvPr/>
        </p:nvSpPr>
        <p:spPr>
          <a:xfrm>
            <a:off x="6261120" y="4091040"/>
            <a:ext cx="342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لا</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Line 1"/>
          <p:cNvSpPr/>
          <p:nvPr/>
        </p:nvSpPr>
        <p:spPr>
          <a:xfrm>
            <a:off x="9248760" y="650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Rectangle 26"/>
          <p:cNvSpPr/>
          <p:nvPr/>
        </p:nvSpPr>
        <p:spPr>
          <a:xfrm>
            <a:off x="774720" y="231840"/>
            <a:ext cx="9671040" cy="20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9" name="Rectangle 42"/>
          <p:cNvSpPr/>
          <p:nvPr/>
        </p:nvSpPr>
        <p:spPr>
          <a:xfrm>
            <a:off x="7615080" y="34380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0000"/>
                </a:solidFill>
                <a:latin typeface="Calibri Light"/>
                <a:cs typeface="Times New Roman"/>
              </a:rPr>
              <a:t>الرقابة الداخلية </a:t>
            </a:r>
            <a:br>
              <a:rPr sz="4300"/>
            </a:br>
            <a:r>
              <a:rPr b="0" lang="ar-SA" sz="4300" spc="-1" strike="noStrike">
                <a:solidFill>
                  <a:srgbClr val="ff000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71"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قد أصبح الأن استخدام الحاسبات الآلية فى الوحدات الحكومية فى المملكة حقيقة ملموسة، وهذا الاستخدام آخذ فى الازدياد والتطور والتوسع. وقد أثر استخدام الحاسبات الآلية في معالجة البيانات المحاسبية في عمل المراجع من ناحيتين: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ناحية الأولى: تطوير أساليب الرقابة الداخلية </a:t>
            </a:r>
            <a:r>
              <a:rPr b="0" lang="ar-SA" sz="2400" spc="-1" strike="noStrike">
                <a:solidFill>
                  <a:srgbClr val="404040"/>
                </a:solidFill>
                <a:latin typeface="Calibri"/>
                <a:cs typeface="Arial"/>
              </a:rPr>
              <a:t>، فقد ترتب على استخدام الحاسبات الآلية في معالجة البيانات المحاسبية ضرورة تطوير أساليب الرقابة الداخلية التي كانت قائمة في ظل نظام التشغيل اليدوي للبيانات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الناحية الثانية: أساليب المراجعة التي يعتمد عليها المراجع </a:t>
            </a:r>
            <a:r>
              <a:rPr b="0" lang="ar-SA" sz="2400" spc="-1" strike="noStrike">
                <a:solidFill>
                  <a:srgbClr val="404040"/>
                </a:solidFill>
                <a:latin typeface="Calibri"/>
                <a:cs typeface="Arial"/>
              </a:rPr>
              <a:t>، الأساليب الفنية وإجراءات المراجعة التي كان يعتمد عليها المراجع لتجميع الأدلة والقرائن في ظل النظم التقليدية لتشغيل البيانات أصبحت غير مناسبة في ظل استخدام الحاسب الآلي في تشغيل البيانات المحاسب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7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سوف نركز في هذا الجزء على الموضوعات التا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شاكل المرتبطة بنظم معالجة البيانات المحاسبية آلي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إجراءات الرقابة الداخلية في ظل التشغيل الآلي للبيانات المحاسب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أساليب المراجعة في ظل نظام التشغيل الالكتروني للبيانات المحاسب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7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ولا : المشاكل التي اثرت على عمل المراجع المرتبطة بنظم معالجة البيانات المحاسبية ألي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توسع فى استخدام الحاسب الآلي فى تطبيقات محاسب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عدم وجود مستندات للمدخل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عدم وجود مسار مستندي ل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عدم وجود مخرجات مرئ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ضعف الحماية حول البيانات وبرامج الحاسب الآلى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يروسات الحاسب</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77"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نيا:  إجراءات الرقابة الداخلية في ظل نظم التشغيل الالكتروني للبيانات المحاسب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نقسم إجراءات الرقابة الداخلية فى بيئة الحاسب الآلي إلى ثلاث مجموعات رئيس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جموعة الاولى:الإجراءات الرقابية الع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مجموعة الثانية:الإجراءات الرقابية على التطبيق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جموعة الثالثة:الإجراءات الرقابية على نظم قاعدة البيان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7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لمجموعة الاولى:الإجراءات الرقابية العام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الإجراءات الرقابية العامة هي الإجراءات التي تتصل بجميع (أو معظم) التطبيقات المحاسبية التي تتم بواسطة الحاسب الآلي.  وتتعلق تلك الإجراءات بالرقابة على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1</a:t>
            </a:r>
            <a:r>
              <a:rPr b="1" lang="ar-SA" sz="2000" spc="-1" strike="noStrike">
                <a:solidFill>
                  <a:srgbClr val="404040"/>
                </a:solidFill>
                <a:latin typeface="Calibri"/>
                <a:ea typeface="Arial"/>
              </a:rPr>
              <a:t>-  فصل الوظائف.</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2</a:t>
            </a:r>
            <a:r>
              <a:rPr b="1" lang="ar-SA" sz="2000" spc="-1" strike="noStrike">
                <a:solidFill>
                  <a:srgbClr val="404040"/>
                </a:solidFill>
                <a:latin typeface="Calibri"/>
                <a:ea typeface="Arial"/>
              </a:rPr>
              <a:t>-  تفويض واختبار وتصديق عمليات تطوير , شراء , وتغيير البرامج قبل استخدامها فى معالجة البيانات.</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3</a:t>
            </a:r>
            <a:r>
              <a:rPr b="1" lang="ar-SA" sz="2000" spc="-1" strike="noStrike">
                <a:solidFill>
                  <a:srgbClr val="404040"/>
                </a:solidFill>
                <a:latin typeface="Calibri"/>
                <a:ea typeface="Arial"/>
              </a:rPr>
              <a:t>-  الوصول الى ملفات البيانات.</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4</a:t>
            </a:r>
            <a:r>
              <a:rPr b="1" lang="ar-SA" sz="2000" spc="-1" strike="noStrike">
                <a:solidFill>
                  <a:srgbClr val="404040"/>
                </a:solidFill>
                <a:latin typeface="Calibri"/>
                <a:ea typeface="Arial"/>
              </a:rPr>
              <a:t>-  الإجراءات الرقابية العامة المبنية فى النظام نفسه.</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5</a:t>
            </a:r>
            <a:r>
              <a:rPr b="1" lang="ar-SA" sz="2000" spc="-1" strike="noStrike">
                <a:solidFill>
                  <a:srgbClr val="404040"/>
                </a:solidFill>
                <a:latin typeface="Calibri"/>
                <a:ea typeface="Arial"/>
              </a:rPr>
              <a:t>-  إجراءات رقابية عامة أخرى.</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جموعة الثانية:الإجراءات الرقابية على التطبيق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تعلق هذا النوع من الإجراءات الرقابية باستخدام الحاسب الآلي للقيام بتطبيقات محاسبية محددة. ويمكن ان تكون هذه الإجراءات إجراءات يدوية أو إجراءات  الكترونية. وتقسم هذه الإجراءات إلى ثلاثة أنواع ه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الإجراءات الرقابية على المدخل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الإجراءات الرقابية على التشغيل (المعالجة الالكترون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3</a:t>
            </a:r>
            <a:r>
              <a:rPr b="1" lang="ar-SA" sz="2400" spc="-1" strike="noStrike">
                <a:solidFill>
                  <a:srgbClr val="404040"/>
                </a:solidFill>
                <a:latin typeface="Calibri"/>
                <a:ea typeface="Arial"/>
              </a:rPr>
              <a:t>- الإجراءات الرقابية على المخرج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3" name=""/>
          <p:cNvSpPr txBox="1"/>
          <p:nvPr/>
        </p:nvSpPr>
        <p:spPr>
          <a:xfrm>
            <a:off x="1096920" y="1846440"/>
            <a:ext cx="10058400" cy="4022640"/>
          </a:xfrm>
          <a:prstGeom prst="rect">
            <a:avLst/>
          </a:prstGeom>
          <a:noFill/>
          <a:ln w="0">
            <a:noFill/>
          </a:ln>
        </p:spPr>
        <p:txBody>
          <a:bodyPr lIns="0" rIns="0" anchor="t">
            <a:normAutofit fontScale="94000"/>
          </a:bodyPr>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لمجموعة الثالثة:الإجراءات الرقابية على نظم قاعدة البيانات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ا تختلف الأهداف الأساسية للاجراءات الرقابية فى نظام قاعدة المعلومات عنها فى النظم التى لا تستخدم قاعدة المعلومات. ولكن نظرا لأن البيانات فى نظام قاعدة المعلومات تكون مركزية ويتم اشتراك عدد كبير ومتنوع من المستخدمين فى هذه البيانات ; فان هناك بعض الاجراءات الرقابية الخاصة بنظم قاعدة البيانات. من تلك الاجراءات الرقابية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وجود اجراءات رقابية تحدد حرية الوصول الى قاعدة البيانات فقط عن طريق الاشخاص المصرح لهم.</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تنسيق أنشطة مستخدمى قاعدة البيانات والتحكم فيها بحيث تكون الرقابة على البيانات متناسبة مع أهمية تلك البيانات.</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يقتضي اشتراك عدد كبير من المستخدمين فى نفس ملفات البيانات ان تكون هناك رقابة محكمة على تلك الملفات لمنع التغيير أو الضياع.</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4</a:t>
            </a:r>
            <a:r>
              <a:rPr b="0" lang="ar-SA" sz="2000" spc="-1" strike="noStrike">
                <a:solidFill>
                  <a:srgbClr val="404040"/>
                </a:solidFill>
                <a:latin typeface="Calibri"/>
                <a:ea typeface="Arial"/>
              </a:rPr>
              <a:t>- اتخاذ الإجراءات الاحتياطية اللازمة للمحافظة على استمرار النظام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لثا:أساليب المراجعة في ظل نظام التشغيل الالكتروني للبيانات المحاسب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سلوب المراجعة حول الحاسب</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سلوب المراجعة بأستخدام الحاسب</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0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بداية يجب أن نشير إلى أن المراجع الداخلي عند تنفيذ مهام المراجعة المذكورة يمكنه استخدام نوعين من أنواع المراجعة هم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a:t>
            </a:r>
            <a:r>
              <a:rPr b="0" lang="ar-SA" sz="2400" spc="-1" strike="noStrike">
                <a:solidFill>
                  <a:srgbClr val="404040"/>
                </a:solidFill>
                <a:latin typeface="Calibri"/>
                <a:ea typeface="Arial"/>
              </a:rPr>
              <a:t>1</a:t>
            </a:r>
            <a:r>
              <a:rPr b="0" lang="ar-SA" sz="2400" spc="-1" strike="noStrike">
                <a:solidFill>
                  <a:srgbClr val="404040"/>
                </a:solidFill>
                <a:latin typeface="Calibri"/>
                <a:ea typeface="Arial"/>
              </a:rPr>
              <a:t>) المراجعة المستمر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t>
            </a:r>
            <a:r>
              <a:rPr b="0" lang="en-US" sz="2400" spc="-1" strike="noStrike">
                <a:solidFill>
                  <a:srgbClr val="404040"/>
                </a:solidFill>
                <a:latin typeface="Calibri"/>
              </a:rPr>
              <a:t>2</a:t>
            </a:r>
            <a:r>
              <a:rPr b="0" lang="en-US" sz="2400" spc="-1" strike="noStrike">
                <a:solidFill>
                  <a:srgbClr val="404040"/>
                </a:solidFill>
                <a:latin typeface="Calibri"/>
              </a:rPr>
              <a:t>) </a:t>
            </a:r>
            <a:r>
              <a:rPr b="0" lang="ar-SA" sz="2400" spc="-1" strike="noStrike">
                <a:solidFill>
                  <a:srgbClr val="404040"/>
                </a:solidFill>
                <a:latin typeface="Calibri"/>
                <a:cs typeface="Arial"/>
              </a:rPr>
              <a:t>المراجعة الدور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كما أن المراجعة المستمرة يمكن تصنيفها إلى: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أ) المراجعة السابق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ب) المراجعة اللاحق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7"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هدف الأساسي الذي يسعى المراجع إلى تحقيقه من دراسة وتقويم نظام الرقابة الداخلية هو تحديد مدى الثقة في أن نظام الرقابة الداخلية المطبق يستطيع أن يمنع حدوث الاخطاء والغش أو يستطيع اكتشافهما عند حدوثهما وإجراء التصحيح اللازم.</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عند تقويم نظام الرقابة الداخلية في المنشآت التي تستخدم نظم معالجة البيانات إلكترونياً يقوم المراجع بتطبيق الخطوات التا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أولاً: الدراسة المبدئية للنظام</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نيا: تقدير نتائج الدراسة المبدئ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لثا: إجراء اختبارات مدى تنفيذ النظام والالتزام ب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9" name=""/>
          <p:cNvSpPr txBox="1"/>
          <p:nvPr/>
        </p:nvSpPr>
        <p:spPr>
          <a:xfrm>
            <a:off x="1096920" y="1846440"/>
            <a:ext cx="10058400" cy="4022640"/>
          </a:xfrm>
          <a:prstGeom prst="rect">
            <a:avLst/>
          </a:prstGeom>
          <a:noFill/>
          <a:ln w="0">
            <a:noFill/>
          </a:ln>
        </p:spPr>
        <p:txBody>
          <a:bodyPr lIns="0" rIns="0" anchor="t">
            <a:normAutofit fontScale="94000"/>
          </a:bodyPr>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أولاً: الدراسة المبدئية للنظام</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قوم المراجع بدراسة مبدئية للنظام بهدف تفهمه وتحديد معالمه الرقابية. ويجب أن تشمل دراسة المراجع المبدئية لنظام الرقابة الداخلية جميع النشاطات اليدوية ، والمالية ، والإلكترونية الهامة والعلاقات المترابطة بين إدارة معالجة البيانات إلكترونياً والإدارات المستخدمة أو المستفيدة لمعرفة كيفية تدفق العمليات خلال النظام ، ومدى استخدام النظام الإلكتروني في كل تطبيق من التطبيقات المحاسبية الهامة ، والهيكل الأساسي للرقابة المحاسبية . وتشمل الدراسة المبدئية التي يقوم بها المراجع عادة الإجراءات الرقابية التي سبق الإشارة إليها . ويقوم المراجع بتجميع المعلومات الخاصة بدراسة النظام من خلال الاستفسارات من الموظفين ، وملاحظة توزيع الأعمال وإجراءات التشغيل ، والرجوع إلى الوثائق المكتوبة كما في حالة النظام اليدوي. ودراسة النظام تتم عادة باستخدام قائمة استقصاء خاصة عن نظام الرقابة الداخلية مصممة لأغراض الأنظمة الإلكترون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1" name=""/>
          <p:cNvSpPr txBox="1"/>
          <p:nvPr/>
        </p:nvSpPr>
        <p:spPr>
          <a:xfrm>
            <a:off x="1096920" y="1846440"/>
            <a:ext cx="10058400" cy="4022640"/>
          </a:xfrm>
          <a:prstGeom prst="rect">
            <a:avLst/>
          </a:prstGeom>
          <a:noFill/>
          <a:ln w="0">
            <a:noFill/>
          </a:ln>
        </p:spPr>
        <p:txBody>
          <a:bodyPr lIns="0" rIns="0" anchor="t">
            <a:normAutofit fontScale="97000"/>
          </a:bodyPr>
          <a:p>
            <a:pPr marL="87480" indent="-87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ثانيا: تقدير نتائج الدراسة المبدئية </a:t>
            </a: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يستطيع المراجع أن يقرر من خلال تقييمه للمعلومات التي حصل عليها من الدراسة المبدئية ما إذا كان سيستمر في دراسته لنظام الرقابة الداخلية أو يتوقف عن ذلك. فإذا قرر الاستمرار فإنه ينتقل إلى مرحلة استكمال الدراسة : ويقوم باختبارات مدى تنفيذ الأنظمة الرقابية ، وتقويم الإجراءات الرقابية لتحديد مدى اعتماده عليها والمدى الذي ستقتصر عليه اختباراته لتحقيق العمليات.</a:t>
            </a:r>
            <a:endParaRPr b="0" lang="en-US" sz="20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إذا أشارت نتائج الدراسة المبدئية للنظام إلى أن هناك ضعفاً في إجراءات الرقابة المتعلقة بنظام معالجة البيانات إلكترونيا في هذه الحالة لا يجب الاستمرار في دراسة نظام الرقابة الداخلية ويجب على المراجع أن يعد تقريره بأن النظام الرقابي المصمم غير جيد ويجب تضمين تقريره توصيات ومقترحات لتحسينه. </a:t>
            </a:r>
            <a:endParaRPr b="0" lang="en-US" sz="20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أما إذا أشارت نتائج الدراسة المبدئية للنظام إلى أن النظام الرقابي مصمم بشكل جيد فيجب على المراجع الإنتقال إلى مرحلة التأكد من مدى الالتزام به عن طريق إجراء اختبارات مدى تنفيذ النظام والالتزام به.</a:t>
            </a:r>
            <a:endParaRPr b="0" lang="en-US" sz="20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لثا: إجراء اختبارات مدى تنفيذ النظام والالتزام به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ذا قرر المراجع الاستمرار في دراسة النظام بناءا على تقييمه لنتائج الدراسة المبدئية فإنه يقوم بإجراء اختبارات مدى تنفيذ النظام والالتزام به ليتأكد من أن الإجراءات الرقابية المصممة يتم تطبيقها فعلا وأنها تؤدي وظيفتها بطريقة مرض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شمل هذه المرحل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ختبار تنفيذ الإجراءات الرقابية الع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الإجراءات الرقابية على قاعدة البيان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إختبار إجراءات الرقابة التطبيق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ختبارات تنفيذ الإجراءات الرقابية :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0" lang="ar-SA" sz="2000" spc="-1" strike="noStrike">
                <a:solidFill>
                  <a:srgbClr val="404040"/>
                </a:solidFill>
                <a:latin typeface="Calibri"/>
                <a:cs typeface="Arial"/>
              </a:rPr>
              <a:t>الغرض من اختبارات تنفيذ أنظمة الرقابة الداخلية هو إعطاء تأكيد معقول بأن الإجراءات الرقابية يتم تنفيذها كما هي موضوعة. وتتعلق اختبارات تنفيذ أنظمة الرقابة الداخلية أساساً بالأسئلة الآتي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أ - هل تم تنفيذ الإجراءات الرقابية الضروري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ب- كيف تم تنفيذها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جـ- من الذي قام بالتنفيذ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وبالنسبة للإجراءات الرقابية العامة والإجراءات الرقابية على قاعدة البيانات فإن اختبارات المراجع لها تتم أساسا عن طريق الاستفسار والملاحظة وفحص الوثائق المختلفة. أما </a:t>
            </a:r>
            <a:r>
              <a:rPr b="1" lang="ar-SA" sz="2000" spc="-1" strike="noStrike" u="sng">
                <a:solidFill>
                  <a:srgbClr val="404040"/>
                </a:solidFill>
                <a:uFillTx/>
                <a:latin typeface="Calibri"/>
                <a:cs typeface="Arial"/>
              </a:rPr>
              <a:t>إجراءات الرقابة التطبيقية</a:t>
            </a:r>
            <a:r>
              <a:rPr b="1" lang="ar-SA" sz="2000" spc="-1" strike="noStrike">
                <a:solidFill>
                  <a:srgbClr val="404040"/>
                </a:solidFill>
                <a:latin typeface="Calibri"/>
                <a:ea typeface="Arial"/>
              </a:rPr>
              <a:t> فإنها تركز على إختبار تنفيذ برامج الحاسب الآلي المستخدمة ، ذلك لأنها تشمل إجراءات الرقابة على مراحل البرنامج الثلاثة (المدخلات ، عمليات التشغيل ، المخرجات).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7"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ختبار تنفيذ إجراءات الرقابة التطبيقية (مراجعة برامج الحاسب الآلي):</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أ). اختبار تنفيذ إجراءات الرقابة التطبيقية (مراجعة برامج الحاسب) بدون الحاسب</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ب). اختبار إجراءات الرقابة التطبيقية (مراجعة برامج الحاسب) بالحاسب</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9" name=""/>
          <p:cNvSpPr txBox="1"/>
          <p:nvPr/>
        </p:nvSpPr>
        <p:spPr>
          <a:xfrm>
            <a:off x="1096920" y="1846440"/>
            <a:ext cx="10058400" cy="4022640"/>
          </a:xfrm>
          <a:prstGeom prst="rect">
            <a:avLst/>
          </a:prstGeom>
          <a:noFill/>
          <a:ln w="0">
            <a:noFill/>
          </a:ln>
        </p:spPr>
        <p:txBody>
          <a:bodyPr lIns="0" rIns="0" anchor="t">
            <a:normAutofit fontScale="99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أ). </a:t>
            </a:r>
            <a:r>
              <a:rPr b="1" lang="ar-SA" sz="2400" spc="-1" strike="noStrike">
                <a:solidFill>
                  <a:srgbClr val="404040"/>
                </a:solidFill>
                <a:latin typeface="Calibri"/>
                <a:cs typeface="Arial"/>
              </a:rPr>
              <a:t>اختبار تنفيذ إجراءات الرقابة التطبيقية (مراجعة برامج الحاسب) بدون الحاسب</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ي بعض نظم معالجة المعلومات إذا كان هناك مسار مستندي يمكن الاعتماد عليه في شكل مستند ونتائج مطبوعة بحيث يمكن متابعة العمليات من مصادرها الأصلية إلى نهايتها فيستطيع المراجع في هذه الحالة اختبار وجود وفعالية إجراءات الرقابة التطبيقية يدويا بدون استخدام الحاسب.</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تم ذلك بالحصول على المستندات الأصلية وتشغيلها يدويا ثم يقوم المراجع بمقارنة النتائج التي توصل إليها بمخرجات الحاسب المطبوعة ، ويطلق على هذا النوع من المراجعة في بعض الأحيان "</a:t>
            </a:r>
            <a:r>
              <a:rPr b="1" lang="ar-SA" sz="2400" spc="-1" strike="noStrike">
                <a:solidFill>
                  <a:srgbClr val="404040"/>
                </a:solidFill>
                <a:latin typeface="Calibri"/>
                <a:cs typeface="Arial"/>
              </a:rPr>
              <a:t>المراجعة حول الحاسب"</a:t>
            </a:r>
            <a:r>
              <a:rPr b="0" lang="ar-SA" sz="2400" spc="-1" strike="noStrike">
                <a:solidFill>
                  <a:srgbClr val="404040"/>
                </a:solidFill>
                <a:latin typeface="Calibri"/>
                <a:ea typeface="Arial"/>
              </a:rPr>
              <a:t> ولا تختلف أساليب المراجع في هذه الحالة عن الأساليب المتبعة في مراجعة الأنظمة المحاسبية اليدو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1" name=""/>
          <p:cNvSpPr txBox="1"/>
          <p:nvPr/>
        </p:nvSpPr>
        <p:spPr>
          <a:xfrm>
            <a:off x="1096920" y="1846440"/>
            <a:ext cx="10058400" cy="4022640"/>
          </a:xfrm>
          <a:prstGeom prst="rect">
            <a:avLst/>
          </a:prstGeom>
          <a:noFill/>
          <a:ln w="0">
            <a:noFill/>
          </a:ln>
        </p:spPr>
        <p:txBody>
          <a:bodyPr lIns="0" rIns="0" anchor="t">
            <a:normAutofit fontScale="86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ب). اختبار إجراءات الرقابة التطبيقية (مراجعة برامج الحاسب) بالحاسب</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ي حالة نظم معالجة البيانات إلكترونياً التي لا يصاحبها وجود مستندات، او إذا كان حجم العمليات المراد اختبارها ضخما ، فأننا نستخدم المراجعة بالحاسب.</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اساليب التي يمكن للمراجع استخدامها عند استخدام الحاسب في اختبار إجراءات الرقابة التطبيقية :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1</a:t>
            </a:r>
            <a:r>
              <a:rPr b="0" lang="ar-SA" sz="2400" spc="-1" strike="noStrike">
                <a:solidFill>
                  <a:srgbClr val="404040"/>
                </a:solidFill>
                <a:latin typeface="Calibri"/>
                <a:ea typeface="Arial"/>
              </a:rPr>
              <a:t>.اسلوب البيانات الاختبار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2</a:t>
            </a:r>
            <a:r>
              <a:rPr b="0" lang="ar-SA" sz="2400" spc="-1" strike="noStrike">
                <a:solidFill>
                  <a:srgbClr val="404040"/>
                </a:solidFill>
                <a:latin typeface="Calibri"/>
                <a:ea typeface="Arial"/>
              </a:rPr>
              <a:t>.البرامج الخاضعة لرقابة المراجع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3</a:t>
            </a:r>
            <a:r>
              <a:rPr b="0" lang="ar-SA" sz="2400" spc="-1" strike="noStrike">
                <a:solidFill>
                  <a:srgbClr val="404040"/>
                </a:solidFill>
                <a:latin typeface="Calibri"/>
                <a:ea typeface="Arial"/>
              </a:rPr>
              <a:t>.اسلوب المحاكاة المتوازية كأحد تطبيقات برامج المراجعة العام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4</a:t>
            </a:r>
            <a:r>
              <a:rPr b="0" lang="ar-SA" sz="2400" spc="-1" strike="noStrike">
                <a:solidFill>
                  <a:srgbClr val="404040"/>
                </a:solidFill>
                <a:latin typeface="Calibri"/>
                <a:ea typeface="Arial"/>
              </a:rPr>
              <a:t>.أسلوب فحص تعليمات البرامج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5</a:t>
            </a:r>
            <a:r>
              <a:rPr b="0" lang="ar-SA" sz="2400" spc="-1" strike="noStrike">
                <a:solidFill>
                  <a:srgbClr val="404040"/>
                </a:solidFill>
                <a:latin typeface="Calibri"/>
                <a:ea typeface="Arial"/>
              </a:rPr>
              <a:t>.أسلوب تحقيق خريطة التدفق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3" name=""/>
          <p:cNvSpPr txBox="1"/>
          <p:nvPr/>
        </p:nvSpPr>
        <p:spPr>
          <a:xfrm>
            <a:off x="1096920" y="1846440"/>
            <a:ext cx="10058400" cy="402264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سلوب البيانات الاختبارية : </a:t>
            </a:r>
            <a:r>
              <a:rPr b="1" lang="ar-SA" sz="2400" spc="-1" strike="noStrike">
                <a:solidFill>
                  <a:srgbClr val="ff0000"/>
                </a:solidFill>
                <a:latin typeface="Calibri"/>
                <a:ea typeface="Arial"/>
              </a:rPr>
              <a:t>(قراءة)</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عند استخدام هذا الأسلوب يقوم المراجع بتحضير عمليات وهمية (مشابهة للعمليات التي تقوم الأقسام الأخرى بتشغيلها عادة) ثم يتم تشغيل هذه العمليات تحت رقابة المراجع بواسطة البرنامج الذي تطبقه الأقسام الأخرى ، وبعد الحصول على نتائج العمليات التي تم تشغيلها تقارن هذه النتائج بالنتائج التي تم تحديدها مقدما لمعرفة ما إذا كانت البيانات الاختبارية قد تم تشغيلها بطريقة صحيح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جب أن تشتمل البيانات الاختبارية على عمليات تعكس الأوضاع الصحيحة وغير الصحيحة التي يريد المراجع اختبارها ، ويلاحظ أن اسلوب البيانات الاختبارية يختبر البرنامج المطبق في نقطة معينة من الزمن وليس خلال مدة المراجعة بأكملها ، كما أن هذا الاسلوب لا يعطي المراجع أي معلومات عن العمليات التي يتم تشغيلها فعلا فهو مجرد اختبار لوجود وتنفيذ الإجراءات الرقابية التي يتضمنها البرنامج محل الاختبار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5" name=""/>
          <p:cNvSpPr txBox="1"/>
          <p:nvPr/>
        </p:nvSpPr>
        <p:spPr>
          <a:xfrm>
            <a:off x="1096920" y="1736640"/>
            <a:ext cx="10058400" cy="4022640"/>
          </a:xfrm>
          <a:prstGeom prst="rect">
            <a:avLst/>
          </a:prstGeom>
          <a:noFill/>
          <a:ln w="0">
            <a:noFill/>
          </a:ln>
        </p:spPr>
        <p:txBody>
          <a:bodyPr lIns="0" rIns="0" anchor="t">
            <a:normAutofit fontScale="87000"/>
          </a:bodyPr>
          <a:p>
            <a:pPr marL="78480" indent="-78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400" spc="-1" strike="noStrike">
                <a:solidFill>
                  <a:srgbClr val="404040"/>
                </a:solidFill>
                <a:latin typeface="Calibri"/>
                <a:cs typeface="Arial"/>
              </a:rPr>
              <a:t>البرامج الخاضعة لرقابة المراجع </a:t>
            </a:r>
            <a:r>
              <a:rPr b="1" lang="ar-SA" sz="2400" spc="-1" strike="noStrike">
                <a:solidFill>
                  <a:srgbClr val="ff0000"/>
                </a:solidFill>
                <a:latin typeface="Calibri"/>
                <a:ea typeface="Arial"/>
              </a:rPr>
              <a:t>(قراءة)</a:t>
            </a:r>
            <a:endParaRPr b="0" lang="en-US" sz="2400" spc="-1" strike="noStrike">
              <a:solidFill>
                <a:srgbClr val="404040"/>
              </a:solidFill>
              <a:latin typeface="Calibri"/>
            </a:endParaRPr>
          </a:p>
          <a:p>
            <a:pPr marL="78480" indent="-78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78480" indent="-78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a:t>
            </a:r>
            <a:r>
              <a:rPr b="0" lang="ar-SA" sz="2400" spc="-1" strike="noStrike">
                <a:solidFill>
                  <a:srgbClr val="404040"/>
                </a:solidFill>
                <a:latin typeface="Calibri"/>
                <a:cs typeface="Arial"/>
              </a:rPr>
              <a:t>تستخدم هذه الطريقة كبديل أو كمكمل لمدخل البيانات الاختبارية ، وفي هذه الطريقة يقوم المراجع تحت ظروف خاضعة لرقابته بإعادة تشغيل عينات من البيانات الفعلية الخاصة بالفترة محل الفحص. ولكي يقوم المراجع بعملية إعادة تشغيل البيانات فإما أن يستخدم أحد برامج البرامج المطبقة التي سبق اختبارها أو يستخدم نسخة من برنامج يكون خاضعا لرقابته. وبعد إكمال عملية إعادة التشغيل تتم مقارنة نتائج العينة مع البيانات الأصلية المقيدة في سجلات العميل .</a:t>
            </a:r>
            <a:endParaRPr b="0" lang="en-US" sz="2400" spc="-1" strike="noStrike">
              <a:solidFill>
                <a:srgbClr val="404040"/>
              </a:solidFill>
              <a:latin typeface="Calibri"/>
            </a:endParaRPr>
          </a:p>
          <a:p>
            <a:pPr marL="78480" indent="-78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هذه الطريقة تتميز عن اسلوب البيانات الاختبارية في أنها لا تمكن المراجع من الحكم على برنامج العميل فقط وإنما تمكنه أيضا من الحكم على صحة بعض العمليات محل المراجعة ، ومن مزايا هذه الطريقة أيضا أنه يمكن استخدامها على كمبيوتر خارجي دون استخدام الكمبيوتر الخاص بالأقسام التي تتم المراجعة عليها أو الاستعانة بموظفيها.</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1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المراجعة المستمرة السابقة </a:t>
            </a:r>
            <a:r>
              <a:rPr b="0" lang="ar-SA" sz="2400" spc="-1" strike="noStrike">
                <a:solidFill>
                  <a:srgbClr val="404040"/>
                </a:solidFill>
                <a:latin typeface="Calibri"/>
                <a:cs typeface="Arial"/>
              </a:rPr>
              <a:t>تستخدم</a:t>
            </a:r>
            <a:r>
              <a:rPr b="1" lang="ar-SA" sz="2400" spc="-1" strike="noStrike">
                <a:solidFill>
                  <a:srgbClr val="404040"/>
                </a:solidFill>
                <a:latin typeface="Calibri"/>
                <a:ea typeface="Arial"/>
              </a:rPr>
              <a:t> </a:t>
            </a:r>
            <a:r>
              <a:rPr b="0" lang="ar-SA" sz="2400" spc="-1" strike="noStrike">
                <a:solidFill>
                  <a:srgbClr val="404040"/>
                </a:solidFill>
                <a:latin typeface="Calibri"/>
                <a:cs typeface="Arial"/>
              </a:rPr>
              <a:t>عند الرغبة في التحقق من جميع العمليات بشكل مستقل قبل الانتهاء منها. ويتم القيام بهذا الشكل من المراجعة عند تنفيذ المراجعة الداخلية على مستوى إدارة أو قسم معين.</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المراجعة المستمرة اللاحقة </a:t>
            </a:r>
            <a:r>
              <a:rPr b="0" lang="ar-SA" sz="2400" spc="-1" strike="noStrike">
                <a:solidFill>
                  <a:srgbClr val="404040"/>
                </a:solidFill>
                <a:latin typeface="Calibri"/>
                <a:cs typeface="Arial"/>
              </a:rPr>
              <a:t>تختلف عن سابقتها من حيث توقيت القيام بها فقط إذ يقوم بها المراجع بعد الانتهاء من العملية المراد فحص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راجعة الدورية </a:t>
            </a:r>
            <a:r>
              <a:rPr b="0" lang="ar-SA" sz="2400" spc="-1" strike="noStrike">
                <a:solidFill>
                  <a:srgbClr val="404040"/>
                </a:solidFill>
                <a:latin typeface="Calibri"/>
                <a:cs typeface="Arial"/>
              </a:rPr>
              <a:t>يقوم بها المراجع الداخلي بشكل دوري لتحقيق الفحص الدوري للعمليات او أرصدة الحساب الختامي للوحد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7" name=""/>
          <p:cNvSpPr txBox="1"/>
          <p:nvPr/>
        </p:nvSpPr>
        <p:spPr>
          <a:xfrm>
            <a:off x="1096920" y="1846440"/>
            <a:ext cx="10058400" cy="4022640"/>
          </a:xfrm>
          <a:prstGeom prst="rect">
            <a:avLst/>
          </a:prstGeom>
          <a:noFill/>
          <a:ln w="0">
            <a:noFill/>
          </a:ln>
        </p:spPr>
        <p:txBody>
          <a:bodyPr lIns="0" rIns="0" anchor="t">
            <a:normAutofit fontScale="92000"/>
          </a:bodyPr>
          <a:p>
            <a:pPr marL="82800" indent="-8280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ea typeface="Arial"/>
              </a:rPr>
              <a:t> أسلوب المحاكاة المتوازية </a:t>
            </a:r>
            <a:r>
              <a:rPr b="1" lang="ar-SA" sz="1900" spc="-1" strike="noStrike">
                <a:solidFill>
                  <a:srgbClr val="ff0000"/>
                </a:solidFill>
                <a:latin typeface="Calibri"/>
                <a:ea typeface="Arial"/>
              </a:rPr>
              <a:t>(قراءة)</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04040"/>
                </a:solidFill>
                <a:latin typeface="Calibri"/>
                <a:cs typeface="Arial"/>
              </a:rPr>
              <a:t>السبب في إطلاق تعبير "المحاكاة المتوازية" هو أن البرنامج مصمم لإعادة إنتاج (أو محاكاة) البيانات الحقيقية للأقسام الأخرى التي تم تشغيلها.</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04040"/>
                </a:solidFill>
                <a:latin typeface="Calibri"/>
                <a:ea typeface="Arial"/>
              </a:rPr>
              <a:t>    ويمكن إجراء المحاكاة المتوازية في أوقات مختلفة خلال السنة المالية محل المراجعة ويمكن أيضا استخدامها في إعادة تشغيل بيانات تاريخية . وهذا المدخل لا يؤدي إلى تلوث ملفات العميل (ببيانات وهمية إذ ربما يحدث ذلك في حالة البيانات الاختبارية) ويمكن إجراؤه في مركز كمبيوتر خارجي مستقل ، وهذا المدخل يتمتع بالمزايا الآتية :</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04040"/>
                </a:solidFill>
                <a:latin typeface="Calibri"/>
                <a:cs typeface="Arial"/>
              </a:rPr>
              <a:t>بما أن البيانات الحقيقية هي التي تستخدم فيستطيع المراجع تحقيق العمليات بمتابعتها إلى مصادرها الأصلية (المستندات) المعتمدة .</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04040"/>
                </a:solidFill>
                <a:latin typeface="Calibri"/>
                <a:cs typeface="Arial"/>
              </a:rPr>
              <a:t>يمكن زيادة حجم العينة زيادة كبيرة بتكاليف ضئيلة نسبيا .</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04040"/>
                </a:solidFill>
                <a:latin typeface="Calibri"/>
                <a:cs typeface="Arial"/>
              </a:rPr>
              <a:t>يستطيع المراجع أن يقوم بتشغيل الاختبار بنفسه بطريقة مستقلة .</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404040"/>
                </a:solidFill>
                <a:latin typeface="Calibri"/>
                <a:cs typeface="Arial"/>
              </a:rPr>
              <a:t>وإذا تقرر استخدام طريقة المحاكاة المتوازية فيجب التأكد من أن تكون البيانات المختارة للمحاكاة ممثلة للعمليات الفعلية ، ويلاحظ أنه من الممكن أن يقوم النظام المطبق بالوحدة بعمليات تخرج عن نطاق برامج المراجعة العامة التي تستخدم في عملية المحاكاة بحيث لا تستطيع هذه البرامج محاكاتها.</a:t>
            </a:r>
            <a:endParaRPr b="0" lang="en-US" sz="1900" spc="-1" strike="noStrike">
              <a:solidFill>
                <a:srgbClr val="404040"/>
              </a:solidFill>
              <a:latin typeface="Calibri"/>
            </a:endParaRPr>
          </a:p>
          <a:p>
            <a:pPr marL="82800" indent="-8280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أسلوب فحص تعليمات البرامج </a:t>
            </a:r>
            <a:r>
              <a:rPr b="1" lang="ar-SA" sz="2400" spc="-1" strike="noStrike">
                <a:solidFill>
                  <a:srgbClr val="ff0000"/>
                </a:solidFill>
                <a:latin typeface="Calibri"/>
                <a:ea typeface="Arial"/>
              </a:rPr>
              <a:t>(قراء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فقاً لهذا الأسلوب يتم فحص وتعديل التعليمات التي يتضمنها البرنامج الخاص بمعالجة عملية معينة للتحقق من أن هذه التعليمات تؤدي إلى المعالجة المطلوبة. ومع إجراء عملية الفحص بشكل مفاجئ وبصفة متكررة وإجراء المقارنات – في حالة وجود تعديلات – بين البرنامج قبل وبعد التعديل يمكن التعرف على أي تعديلات تكون قد تمت على البرنامج  وإذا كانت هذه التعديلات مصرح بها أم لا. ولا شك أن هذا الأسلوب يتطلب توافر درجة كافية من الخبرة لدى المراجع  بكيفية إعداد البرامج وكيفية صياغتها , كما أنه يستغرق وقت أطول من أي أسلوب آخر سبق عرضه ولاسيما في ظل النظم المعقدة لمعالجة البيانات حيث يكون من الصعب فحص كل سطر في مختلف البرامج المكتوب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1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أسلوب تحقيق خريطة التدفق </a:t>
            </a:r>
            <a:r>
              <a:rPr b="1" lang="ar-SA" sz="2400" spc="-1" strike="noStrike">
                <a:solidFill>
                  <a:srgbClr val="ff0000"/>
                </a:solidFill>
                <a:latin typeface="Calibri"/>
                <a:ea typeface="Arial"/>
              </a:rPr>
              <a:t>(قراء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a:t>
            </a:r>
            <a:r>
              <a:rPr b="0" lang="ar-SA" sz="2400" spc="-1" strike="noStrike">
                <a:solidFill>
                  <a:srgbClr val="404040"/>
                </a:solidFill>
                <a:latin typeface="Calibri"/>
                <a:cs typeface="Arial"/>
              </a:rPr>
              <a:t>تبعاً لهذا الأسلوب يتم فحص خريطة التدفق والتي تعكس منطق المعالجة الخاصة بتطبيق معين بدلاً من فحص كل سطر من سطور البرنامج المكتوب , ومن ثم فإن هذا الأسلوب يعتبر تطويراً لأسلوب فحص تعليمات البرنامج. ويتم إعداد خرائط التدفق إما يدوياً وهذا هو الأسلوب الأكثر انتشاراً أو  باستخدام الحاسب في إعداد خرائط تدفق آلية مقابلة للبرنامج الموضوع.</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يمكن للمراجع أن يعد يدوياً خريطة تدفق تحتوي على التفاصيل اللازمة إلى المدى الذي يمكنه من متابعة كل سطر في البرنامج الذي يؤدي في النهاية إلى أسلوب فحص تعليمات البرنامج. ويتطلب ذلك معرفة من المراجع في إعداد البرامج وخرائط التدفق.</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1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ستخدام نوع معين من أنواع المراجعة يعتمد على الوضع التنظيمي للمراجعة الداخلية والأهداف المنوطة ب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المراجعة الداخلية لا تعمل في شكل "قوالب جاهزة" بل ينبغي أن تكون من نوع "التفصيل بحسب الحاجة" لكل عملية حتى تكون فعالة وقادرة على خدمة أهداف الإدار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6920" y="244440"/>
            <a:ext cx="10058400" cy="20606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Light"/>
                <a:cs typeface="Times New Roman"/>
              </a:rPr>
              <a:t>أولا: مراجعة النظم</a:t>
            </a:r>
            <a:br>
              <a:rPr sz="4000"/>
            </a:br>
            <a:r>
              <a:rPr b="0" lang="ar-SA" sz="3600" spc="-1" strike="noStrike">
                <a:solidFill>
                  <a:srgbClr val="404040"/>
                </a:solidFill>
                <a:latin typeface="Calibri Light"/>
                <a:ea typeface="Times New Roman"/>
              </a:rPr>
              <a:t> نظم الرقابة الداخلية</a:t>
            </a:r>
            <a:br>
              <a:rPr sz="3600"/>
            </a:br>
            <a:r>
              <a:rPr b="0" lang="ar-SA" sz="3600" spc="-1" strike="noStrike">
                <a:solidFill>
                  <a:srgbClr val="404040"/>
                </a:solidFill>
                <a:latin typeface="Calibri Light"/>
                <a:cs typeface="Times New Roman"/>
              </a:rPr>
              <a:t>دراسة وتقويم نظام الرقابة الداخلية</a:t>
            </a:r>
            <a:br>
              <a:rPr sz="4000"/>
            </a:br>
            <a:endParaRPr b="0" lang="en-US" sz="3600" spc="-1" strike="noStrike">
              <a:solidFill>
                <a:srgbClr val="404040"/>
              </a:solidFill>
              <a:latin typeface="Calibri Light"/>
            </a:endParaRPr>
          </a:p>
        </p:txBody>
      </p:sp>
      <p:sp>
        <p:nvSpPr>
          <p:cNvPr id="31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نظم  </a:t>
            </a:r>
            <a:r>
              <a:rPr b="0" lang="en-US" sz="2400" spc="-1" strike="noStrike">
                <a:solidFill>
                  <a:srgbClr val="404040"/>
                </a:solidFill>
                <a:latin typeface="Calibri"/>
              </a:rPr>
              <a:t>Systems Audit</a:t>
            </a:r>
            <a:r>
              <a:rPr b="0" lang="en-US" sz="2400" spc="-1" strike="noStrike">
                <a:solidFill>
                  <a:srgbClr val="404040"/>
                </a:solidFill>
                <a:latin typeface="Calibri"/>
              </a:rPr>
              <a:t>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همة الأولى لنشاط المراجعة الداخلية هي تقويم النظم وعلى رأسها نظام الرقابة الداخ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كي يستطيع المراجع تقويم نظم الرقابة الداخلية يجب أن يكون لديه إلمام كافي بالمتطلبات المهنية التي يجب توافرها في نظم الرقابة الداخلية لكي تكون فعال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6920" y="244440"/>
            <a:ext cx="10058400" cy="20606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أولا: مراجعة النظم</a:t>
            </a:r>
            <a:br>
              <a:rPr sz="4400"/>
            </a:br>
            <a:endParaRPr b="0" lang="en-US" sz="4400" spc="-1" strike="noStrike">
              <a:solidFill>
                <a:srgbClr val="404040"/>
              </a:solidFill>
              <a:latin typeface="Calibri Light"/>
            </a:endParaRPr>
          </a:p>
        </p:txBody>
      </p:sp>
      <p:sp>
        <p:nvSpPr>
          <p:cNvPr id="317"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م تقسيم هذا الجزء إلى أربعة أقسام رئيسية على النحو التالي:</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1</a:t>
            </a:r>
            <a:r>
              <a:rPr b="0" lang="ar-SA" sz="2400" spc="-1" strike="noStrike">
                <a:solidFill>
                  <a:srgbClr val="ff0000"/>
                </a:solidFill>
                <a:latin typeface="Calibri"/>
                <a:ea typeface="Arial"/>
              </a:rPr>
              <a:t>. الرقابة الداخلية في ظل التشغيل اليدو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2</a:t>
            </a:r>
            <a:r>
              <a:rPr b="0" lang="ar-SA" sz="2400" spc="-1" strike="noStrike">
                <a:solidFill>
                  <a:srgbClr val="ff0000"/>
                </a:solidFill>
                <a:latin typeface="Calibri"/>
                <a:ea typeface="Arial"/>
              </a:rPr>
              <a:t>. </a:t>
            </a:r>
            <a:r>
              <a:rPr b="1" lang="ar-SA" sz="2400" spc="-1" strike="noStrike" u="sng">
                <a:solidFill>
                  <a:srgbClr val="ff0000"/>
                </a:solidFill>
                <a:uFillTx/>
                <a:latin typeface="Calibri"/>
                <a:cs typeface="Arial"/>
              </a:rPr>
              <a:t>تقويم</a:t>
            </a:r>
            <a:r>
              <a:rPr b="0" lang="ar-SA" sz="2400" spc="-1" strike="noStrike">
                <a:solidFill>
                  <a:srgbClr val="ff0000"/>
                </a:solidFill>
                <a:latin typeface="Calibri"/>
                <a:ea typeface="Arial"/>
              </a:rPr>
              <a:t> الرقابة الداخلية في ظل التشغيل اليدو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3</a:t>
            </a:r>
            <a:r>
              <a:rPr b="0" lang="ar-SA" sz="2400" spc="-1" strike="noStrike">
                <a:solidFill>
                  <a:srgbClr val="ff0000"/>
                </a:solidFill>
                <a:latin typeface="Calibri"/>
                <a:ea typeface="Arial"/>
              </a:rPr>
              <a:t>. الرقابة الداخلية في ظل التشغيل الآل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4</a:t>
            </a:r>
            <a:r>
              <a:rPr b="0" lang="ar-SA" sz="2400" spc="-1" strike="noStrike">
                <a:solidFill>
                  <a:srgbClr val="ff0000"/>
                </a:solidFill>
                <a:latin typeface="Calibri"/>
                <a:ea typeface="Arial"/>
              </a:rPr>
              <a:t>. </a:t>
            </a:r>
            <a:r>
              <a:rPr b="1" lang="ar-SA" sz="2400" spc="-1" strike="noStrike" u="sng">
                <a:solidFill>
                  <a:srgbClr val="ff0000"/>
                </a:solidFill>
                <a:uFillTx/>
                <a:latin typeface="Calibri"/>
                <a:cs typeface="Arial"/>
              </a:rPr>
              <a:t>تقويم</a:t>
            </a:r>
            <a:r>
              <a:rPr b="0" lang="ar-SA" sz="2400" spc="-1" strike="noStrike">
                <a:solidFill>
                  <a:srgbClr val="ff0000"/>
                </a:solidFill>
                <a:latin typeface="Calibri"/>
                <a:ea typeface="Arial"/>
              </a:rPr>
              <a:t> الرقابة الداخلية في ظل التشغيل الآل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19"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حتى يمكن تكوين فكرة كاملة عن نظم الرقابة الداخلية سوف نعرض النقاط التال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مفهوم الرقابة الداخلية وأهدافها.</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مكونات نظام الرقابة الداخل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3</a:t>
            </a:r>
            <a:r>
              <a:rPr b="1" lang="ar-SA" sz="2400" spc="-1" strike="noStrike">
                <a:solidFill>
                  <a:srgbClr val="404040"/>
                </a:solidFill>
                <a:latin typeface="Calibri"/>
                <a:ea typeface="Arial"/>
              </a:rPr>
              <a:t>. حدود نظام الرقابة الداخ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1" name=""/>
          <p:cNvSpPr txBox="1"/>
          <p:nvPr/>
        </p:nvSpPr>
        <p:spPr>
          <a:xfrm>
            <a:off x="1096920" y="1846440"/>
            <a:ext cx="10058400" cy="4022640"/>
          </a:xfrm>
          <a:prstGeom prst="rect">
            <a:avLst/>
          </a:prstGeom>
          <a:noFill/>
          <a:ln w="0">
            <a:noFill/>
          </a:ln>
        </p:spPr>
        <p:txBody>
          <a:bodyPr lIns="0" rIns="0" anchor="t">
            <a:normAutofit/>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مفهوم الرقابة الداخلية وأهدافها:</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هي الطرق أو الأساليب التي تتبناها إدارة المنشأة بما في ذلك مجلس إدارتها ومديروها وموظفوها لتوفر تأكيدا معقولا بتحقيق أهداف المنشأة التال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حماية أصول المنشأة ، والحد من وقوع الغش والأخطاء واكتشافها فور وقوعها ودقة السجلات المحاسبية واكتمالها.</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فاعلية وكفاءة الأحداث والعمليات أو الظروف التي تتأثر بها المنشأة بما في ذلك استخدام الموارد بكفاءة وبشكل ملائم وزيادة الإنتاج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تقيد بالأنظمة والتعليمات والسياسات التي تتبناها الإدارة لتحقيق أهداف المنشأة بكفاءة وبطريقة منتظم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57:18Z</dcterms:created>
  <dc:creator>hana</dc:creator>
  <dc:description/>
  <dc:language>en-US</dc:language>
  <cp:lastModifiedBy>hana</cp:lastModifiedBy>
  <dcterms:modified xsi:type="dcterms:W3CDTF">2014-04-09T17:34:12Z</dcterms:modified>
  <cp:revision>44</cp:revision>
  <dc:subject/>
  <dc:title>تنفيذ مهام المراجعة الداخلية</dc:title>
</cp:coreProperties>
</file>