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F666B-E057-47F1-8D8F-C0E1979A4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B56B-E5BF-4334-B228-815CCDFD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2373-8818-47C9-A105-D494113A9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93856-0A5A-47EB-96E9-A93DFA371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5947A-4D5B-4BE8-AC45-841CF5622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27C5F-AF9F-4A9D-A99C-EC8F82C6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5E5E0-9681-4518-B0CC-17304A599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E8386-8C66-45B4-9B2B-A0C9E6843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0760C-67D8-4EBD-BD66-F385A074D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8EE9F-CFA0-4DF8-AD01-3D6FD5BE0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F2D6-7C10-4C72-9638-5439E91D9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49E1-0D35-45A0-9A20-66CF92BD7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7FFBF-92E9-463F-A2C8-B5678B3B6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CDCB-2E1F-4652-8D57-E5D32B488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93E5E-C7AB-42CA-B8C3-04DF86C8A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0C53E-EE8D-4298-B6E5-51336528D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17B49-1421-406D-911F-88A63B6C0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A3B39-02B3-4F31-907E-79D3FA9C6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443BF-3690-4F21-8E69-A62E11E15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12D2F-2833-4989-AB42-A64999CFC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9ECF9-170E-4BF2-B774-3B869B5CA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13B40-EB4A-426F-BA9B-68D8681D9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F6EF6-1C39-4326-A550-A5E90F54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1AFC2-6872-4DF3-AE00-503DCE394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FF8D6-6A15-4F21-BD39-295BDB9A7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4C111-5707-459E-8AAF-B9CD62DA4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9FF43-AECB-4ED5-A3AF-856774B8C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D01EE-E289-4B48-BE49-03BEE8ADF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FE674-6427-4D51-B8AC-62B3037FD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6B565-6A05-4223-928B-B87AF91631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6FF51-215D-4423-9C03-9EED23364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CCE3D-9953-4B53-8655-F9FF0B64D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DF0A8-7682-4D5F-A067-87891E433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97EC-7109-4FED-81BE-11143F9E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4A51A7-C08A-440A-A90F-076861ACD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B6940-971D-4C40-988F-E28788DA9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90528-53CE-4756-B542-5621457ED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83BA9-FFEA-4A48-8A56-51B476DE7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CC337-D050-4B4C-A04C-519EDB388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46D96-9783-403D-92E3-8EE8CAB73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7836C-5A35-4A70-A8C8-5FC75C3954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8AAA4D-3A8D-4663-B419-A281755623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C3872B-C9D7-4844-8D98-6FBE8B8345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A25E26-095E-41C8-BF7E-1E82A3BF12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8DBD-4201-42A7-90E4-70A1CE7A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BC693-4CCC-4870-9BF3-383EAD83E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28424-696A-41F6-8B0C-35F87F99A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CC8FD-7EF4-454A-833A-4DCAF1884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85BCA-C641-43A1-9742-1B10633CBB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AF691-24D4-49AE-B4B5-62A1046E6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4CBC0-B89B-49EB-9218-9AED22A88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3CD969-FFF9-4106-84DE-4443E2DF9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28BF9-D805-4718-92BB-E788EA9A0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112CA-BA8F-4CE6-8225-FB205815F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A16DA5-B0C8-4146-BB39-A6FC00F9FF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9B00-2BA7-41B8-8B80-844454629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54B79A-46A7-48B4-9EA5-63F978E5C6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FC631C-ABA7-4659-ADB2-53433921A3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9950C-0C43-4E4C-892E-BC7C3CCCE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A16D3-4888-4883-A19E-3F20DD1079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8DFC5-7284-4E0A-9A4F-2FD593D31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74FC9-BA3B-457A-826D-8281B5BA7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8F2E7-F586-48B9-B8A5-A33B7908C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9E080-7B8C-4D8C-9AD3-BCFC1EB99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9C8CF-5883-4A59-996C-F212506DB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57B72-6E1C-4D6C-AA67-2360EC334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ADBC-45E1-46E1-BE51-7E00EFBB9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62445D-7005-44CE-86E3-192B22591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251E2A-D7B9-46B4-AEEC-1D080D56FB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83F98-F23A-496B-818D-EE7E3F5D4D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2BD448-E7EB-45D1-8700-F1AFB671B5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C4DC9-AB04-466E-84BA-0CDA63391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1A8D27-9D2C-4752-A9EA-FD450D259E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D3E22-5596-44D6-A1D4-60A941BCA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EB83DF-E1CA-4A2A-B559-ABB1A3249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617CC-70F9-4F81-92DD-F477F0885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38630-DB8A-45E7-A8C6-3F63A5293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6286-A3DB-41A9-A312-4031E73E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75F06-6072-4560-9188-686546D8C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52E43-6A92-4112-A7E8-5F0950285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60F38-AAD6-42DD-9121-B95AEF28F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CD6550-56B1-414A-9E9A-9612D1F44C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6B1731-2EC1-4249-A47F-51B564FA4C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590D-8D6C-4819-A25E-6F5855EBE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01F9E-ACF3-4DFE-ADEA-4894218BB9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3E28-9A7C-4CEB-886F-31F145DD1CD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B7A46-24AC-490C-9669-D8C09A9459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F0A63-1005-42BA-92D0-94025321193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5f5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55f5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0C3EB-BC5C-421F-A52D-1CD1C31597E5}"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18890-21DC-49F2-85FF-829291771E3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2CC25-D35E-4064-A785-ACCF2E7076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تنفيذ مهام المراجعة الداخلية</a:t>
            </a: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anchor="t">
            <a:noAutofit/>
          </a:bodyPr>
          <a:p>
            <a:pPr indent="0" algn="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5f51"/>
                </a:solidFill>
                <a:latin typeface="Calibri Light"/>
                <a:cs typeface="Arial"/>
              </a:rPr>
              <a:t>اولا:مراجعة النظم</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فهوم </a:t>
            </a:r>
            <a:r>
              <a:rPr b="1" lang="ar-SA" sz="2400" spc="-1" strike="noStrike">
                <a:solidFill>
                  <a:srgbClr val="404040"/>
                </a:solidFill>
                <a:latin typeface="Calibri"/>
                <a:ea typeface="Arial"/>
              </a:rPr>
              <a:t>(تأكيدا معقولا) </a:t>
            </a:r>
            <a:r>
              <a:rPr b="0" lang="ar-SA" sz="2400" spc="-1" strike="noStrike">
                <a:solidFill>
                  <a:srgbClr val="404040"/>
                </a:solidFill>
                <a:latin typeface="Calibri"/>
                <a:cs typeface="Arial"/>
              </a:rPr>
              <a:t>هنا يأخذ في الاعتبار عدم زيادة تكاليف نظام الرقابة الداخلية عن المنافع المتوقعة منه. وعليه فان التعريف يأخذ في الاعتبار حقيقة أن وجود نظام للرقابة الداخلية لا يوفر  ضمان أو تأكيد مطلق على تحقيق الأهداف التى وضع من اجلها ذلك ا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عريف اخر لأنظمة الرقاب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قدير المخاطر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نشطة الرقا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مراقبة الأنشطة الرقاب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7" name=""/>
          <p:cNvSpPr txBox="1"/>
          <p:nvPr/>
        </p:nvSpPr>
        <p:spPr>
          <a:xfrm>
            <a:off x="1096920" y="1846440"/>
            <a:ext cx="10058400" cy="4579920"/>
          </a:xfrm>
          <a:prstGeom prst="rect">
            <a:avLst/>
          </a:prstGeom>
          <a:noFill/>
          <a:ln w="0">
            <a:noFill/>
          </a:ln>
        </p:spPr>
        <p:txBody>
          <a:bodyPr lIns="0" rIns="0" anchor="t">
            <a:normAutofit fontScale="91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حدد البيئة الرقابية اتجاهات المنشأة ، وتؤثر على مدى وعي الأفراد الذين ينتمون إليها بالأنشطة الرقابية. وهي الأساس لجميع مكونات الرقابة الداخلية الأخرى.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ن أهم العوامل البيئية الرقابية ما يلي</a:t>
            </a:r>
            <a:r>
              <a:rPr b="1" lang="ar-SA" sz="2400" spc="-1" strike="noStrike">
                <a:solidFill>
                  <a:srgbClr val="ff0000"/>
                </a:solidFill>
                <a:latin typeface="Calibri"/>
                <a:ea typeface="Arial"/>
              </a:rPr>
              <a:t>(قراءة) </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طرق الرقابة المتعلقة بالإشراف والمتابعة                                        - الهيكل التنظيم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سلوب الفلسفي والعملي المتبع بواسطة الادارة                                 - لجنة المراجع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سياسات والإجراءات المتعلقة بالأفراد (العاملين)                               - المؤثرات الخارج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مانة والقيم الأخلاقية التي يتصف بها الأفراد والعاملون في الجهة           - طرق الاتصال</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9" name=""/>
          <p:cNvSpPr txBox="1"/>
          <p:nvPr/>
        </p:nvSpPr>
        <p:spPr>
          <a:xfrm>
            <a:off x="1096920" y="1846440"/>
            <a:ext cx="10058400" cy="457992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قديـر المخاطـر : </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قصد بتقدير المخاطر تقدير احتمال حدوث غش أو أخطاء أثناء تنفيذ العمليات المالية أو غير المالية.</a:t>
            </a:r>
            <a:endParaRPr b="0" lang="en-US" sz="24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دارة المخاطر</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ضع الإجراءات التي تؤدي إلى تقليل إحتمال حدوث هذه الأخطار.</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1"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أنشطـة الرقابيـ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هي السياسات والإجراءات التي تساعد في التأكد من أن تعليمات الجهات العليا يتم تنفيذ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لها أهداف عديدة ويتم تطبيقها عند مستويات تنظيمية ووظيفية متعدد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جب على المراجع الداخلي أن يكون على دراية تامة بالانشطة الرقابية المطبقة بالجهة التابع لها.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3"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5"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راقبة الانشطة الرقاب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قبة الأنشطة الرقابية هي عملية تقويم جودة أداء الرقابة الداخلية بصفة مستمرة للتحقق من أن الأنشطة الرقابية تعمل وفق ما هو مخطط لها أن تعمل ، وأنها تتعامل بفاعلية مع المخاطر التي تنشأ عن الأحداث والظروف الطارئة ، وتوصي باتخاذ أي إجراءات تصحيحية في حالة وجود أي قصور في هذه الأنشطة. كما 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ويتم تحقيق مراقبة الأنشطة الرقابية عن طريق أنشطة مستمرة ، أو إجراء تقويمات مستقلة أو عن طريق الجمع بين الأسلوبين.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7" name=""/>
          <p:cNvSpPr txBox="1"/>
          <p:nvPr/>
        </p:nvSpPr>
        <p:spPr>
          <a:xfrm>
            <a:off x="1096920" y="1846440"/>
            <a:ext cx="10058400" cy="4579920"/>
          </a:xfrm>
          <a:prstGeom prst="rect">
            <a:avLst/>
          </a:prstGeom>
          <a:noFill/>
          <a:ln w="0">
            <a:noFill/>
          </a:ln>
        </p:spPr>
        <p:txBody>
          <a:bodyPr lIns="0" rIns="0" anchor="t">
            <a:normAutofit/>
          </a:bodyPr>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3</a:t>
            </a:r>
            <a:r>
              <a:rPr b="1" lang="ar-SA" sz="2200" spc="-1" strike="noStrike">
                <a:solidFill>
                  <a:srgbClr val="404040"/>
                </a:solidFill>
                <a:latin typeface="Calibri"/>
                <a:ea typeface="Arial"/>
              </a:rPr>
              <a:t>- حدود الرقابة الداخلي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 </a:t>
            </a:r>
            <a:r>
              <a:rPr b="0" lang="ar-SA" sz="2200" spc="-1" strike="noStrike">
                <a:solidFill>
                  <a:srgbClr val="404040"/>
                </a:solidFill>
                <a:latin typeface="Calibri"/>
                <a:cs typeface="Arial"/>
              </a:rPr>
              <a:t>إن نظام الرقابة الداخلية الجيد يقدم تأكيدا معقولا على ضمان تحقيق الأهداف من وراء تطبيقه ، ولكنه لا يقدم ضمانا مطلقا على تحقيق تلك الأهداف نتيجة لوجود معوقات تحد من فعالية أي نظام رقابة داخلية.  هذه المعوقات تشمل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1</a:t>
            </a:r>
            <a:r>
              <a:rPr b="0" lang="ar-SA" sz="2200" spc="-1" strike="noStrike">
                <a:solidFill>
                  <a:srgbClr val="404040"/>
                </a:solidFill>
                <a:latin typeface="Calibri"/>
                <a:ea typeface="Arial"/>
              </a:rPr>
              <a:t>-  إساءة فهم التعليمات.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2</a:t>
            </a:r>
            <a:r>
              <a:rPr b="0" lang="ar-SA" sz="2200" spc="-1" strike="noStrike">
                <a:solidFill>
                  <a:srgbClr val="404040"/>
                </a:solidFill>
                <a:latin typeface="Calibri"/>
                <a:ea typeface="Arial"/>
              </a:rPr>
              <a:t>-  الخطأ في التقديـر.</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3</a:t>
            </a:r>
            <a:r>
              <a:rPr b="0" lang="ar-SA" sz="2200" spc="-1" strike="noStrike">
                <a:solidFill>
                  <a:srgbClr val="404040"/>
                </a:solidFill>
                <a:latin typeface="Calibri"/>
                <a:ea typeface="Arial"/>
              </a:rPr>
              <a:t>-  اللامبــــالا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4</a:t>
            </a:r>
            <a:r>
              <a:rPr b="0" lang="ar-SA" sz="2200" spc="-1" strike="noStrike">
                <a:solidFill>
                  <a:srgbClr val="404040"/>
                </a:solidFill>
                <a:latin typeface="Calibri"/>
                <a:ea typeface="Arial"/>
              </a:rPr>
              <a:t>-  عدم التركيـــز.</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5</a:t>
            </a:r>
            <a:r>
              <a:rPr b="0" lang="ar-SA" sz="2200" spc="-1" strike="noStrike">
                <a:solidFill>
                  <a:srgbClr val="404040"/>
                </a:solidFill>
                <a:latin typeface="Calibri"/>
                <a:ea typeface="Arial"/>
              </a:rPr>
              <a:t>-  التعــــــب.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6</a:t>
            </a:r>
            <a:r>
              <a:rPr b="0" lang="ar-SA" sz="2200" spc="-1" strike="noStrike">
                <a:solidFill>
                  <a:srgbClr val="404040"/>
                </a:solidFill>
                <a:latin typeface="Calibri"/>
                <a:ea typeface="Arial"/>
              </a:rPr>
              <a:t>-  التواطـــــؤ.</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تجاوزات الادارة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أ - الحصول على فهم كاف لنظام الرقابة الداخلية وتوثيق ذلك الفهم:</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قيام بدراسة المكونات الخمس لنظام الرقابة الداخلية.</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تخاذ قرار فيما يختص بإجراء او عدم إجراء اختبارات رقابة في مرحلة الفهم (مرحلة التقييم المبدئي).</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وثيق عملية فهم النظام باستخدام خرائط التدفق ، المذكرات ، قوائم الاستقصاء (الاستبيان) جداول القرارات ، ...  الخ.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ب- تقييم مخاطر الرقابة </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ذا لم يتم إجراء اختبارات رقابة فان مخاطر الرقابة يجب تحديدها عند الحد الأقصى.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ذا تم إجراء اختبارات رقابة فان مستوى ما من مستويات مخاطر الرقابة يمكن تحديده أقل من الحد الأقصى.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حديد ما اذا كان هناك حاجة لإجراء المزيد من اختبارات الرقابة.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40404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ج- اختبارات الرقاب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إجراء اختبارات رقابة لمعرفة ما اذا كانت الأساليب الرقابية (السياسات والإجراءات) تعمل بكفاءة وتتم تلك الاختبارات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ستخدام الاستفسارات ، فحص المستندات ، ملاحظة الموظفين خلال تأدية أعمالهم، وإعادة تنفيذ الأساليب الرقابية.</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وثيق نتائج اختبارات الرقابة حسب نوع العملية وحسب تأكيدات القوائم المالي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د -  إعادة تقييم مخاطر الرقابة الداخلية :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تقييم مخاطر الرقابة الداخلية في ضوء اختبارات الرقاب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ذا كانت نتيجة التقييم هي أن مخاطر الرقابة أقل من الحد الأقصى فيجب توثيق الأسس التي قام عليها هذا الاستنتاج.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كتابة التقرير.</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سبق أن ذكرنا أن مهام وحدة المراجعة الداخلية (مجالات عمل المراجع الداخلي) تشمل على الأقل المهام التا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نظم (عرض اليوم بأذن الله)</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تشغي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إلتزام</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م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سلوك</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قديم المشورة والدعم للإدار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3408480"/>
          </a:xfrm>
          <a:prstGeom prst="rect">
            <a:avLst/>
          </a:prstGeom>
          <a:noFill/>
          <a:ln w="0">
            <a:noFill/>
          </a:ln>
        </p:spPr>
        <p:txBody>
          <a:bodyPr tIns="91440" bIns="0"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ar-SA" sz="3600" spc="-1" strike="noStrike">
                <a:solidFill>
                  <a:srgbClr val="404040"/>
                </a:solidFill>
                <a:latin typeface="Calibri Light"/>
                <a:cs typeface="Times New Roman"/>
              </a:rPr>
              <a:t>خريطة تدفق توضح كيفية دراسة وتقييم  نظام</a:t>
            </a:r>
            <a:br>
              <a:rPr sz="3600"/>
            </a:br>
            <a:r>
              <a:rPr b="0" lang="ar-SA" sz="3600" spc="-1" strike="noStrike">
                <a:solidFill>
                  <a:srgbClr val="404040"/>
                </a:solidFill>
                <a:latin typeface="Calibri Light"/>
                <a:cs typeface="Times New Roman"/>
              </a:rPr>
              <a:t>الرقابة الداخلية بواسطة المراجع الداخلي في الوحدات الحكومية</a:t>
            </a:r>
            <a:br>
              <a:rPr sz="3600"/>
            </a:br>
            <a:br>
              <a:rPr sz="4300"/>
            </a:br>
            <a:br>
              <a:rPr sz="4300"/>
            </a:br>
            <a:br>
              <a:rPr sz="4300"/>
            </a:br>
            <a:endParaRPr b="0" lang="en-US" sz="3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5"/>
          <p:cNvSpPr/>
          <p:nvPr/>
        </p:nvSpPr>
        <p:spPr>
          <a:xfrm>
            <a:off x="896760" y="745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د تتضمن هذة الخطوة اختبارات رقابة في بعض الاحيان</a:t>
            </a:r>
            <a:endParaRPr b="0" lang="en-US" sz="1600" spc="-1" strike="noStrike">
              <a:solidFill>
                <a:srgbClr val="000000"/>
              </a:solidFill>
              <a:latin typeface="Calibri"/>
            </a:endParaRPr>
          </a:p>
        </p:txBody>
      </p:sp>
      <p:sp>
        <p:nvSpPr>
          <p:cNvPr id="344" name="Rectangle 24"/>
          <p:cNvSpPr/>
          <p:nvPr/>
        </p:nvSpPr>
        <p:spPr>
          <a:xfrm>
            <a:off x="896760" y="8827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45" name="Line 23"/>
          <p:cNvSpPr/>
          <p:nvPr/>
        </p:nvSpPr>
        <p:spPr>
          <a:xfrm flipH="1">
            <a:off x="5971680" y="349200"/>
            <a:ext cx="822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22"/>
          <p:cNvSpPr/>
          <p:nvPr/>
        </p:nvSpPr>
        <p:spPr>
          <a:xfrm>
            <a:off x="6753240" y="74520"/>
            <a:ext cx="496404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أحصل على فهم كاف لنظام الرقابة الداخلية ووثقه لغرض تقويمه</a:t>
            </a:r>
            <a:endParaRPr b="0" lang="en-US" sz="1600" spc="-1" strike="noStrike">
              <a:solidFill>
                <a:srgbClr val="000000"/>
              </a:solidFill>
              <a:latin typeface="Calibri"/>
            </a:endParaRPr>
          </a:p>
        </p:txBody>
      </p:sp>
      <p:sp>
        <p:nvSpPr>
          <p:cNvPr id="347" name="Rectangle 21"/>
          <p:cNvSpPr/>
          <p:nvPr/>
        </p:nvSpPr>
        <p:spPr>
          <a:xfrm>
            <a:off x="6718320" y="879480"/>
            <a:ext cx="496260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تقييم مخاطر الرقابة وحــدد مستــوى المخاطـر</a:t>
            </a:r>
            <a:endParaRPr b="0" lang="en-US" sz="1600" spc="-1" strike="noStrike">
              <a:solidFill>
                <a:srgbClr val="000000"/>
              </a:solidFill>
              <a:latin typeface="Calibri"/>
            </a:endParaRPr>
          </a:p>
        </p:txBody>
      </p:sp>
      <p:sp>
        <p:nvSpPr>
          <p:cNvPr id="348" name="AutoShape 20"/>
          <p:cNvSpPr/>
          <p:nvPr/>
        </p:nvSpPr>
        <p:spPr>
          <a:xfrm>
            <a:off x="8067600" y="1650960"/>
            <a:ext cx="2362320" cy="1508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هـل مخاطر الرقابة أقل من الحد الأقصى ؟</a:t>
            </a:r>
            <a:endParaRPr b="0" lang="en-US" sz="1600" spc="-1" strike="noStrike">
              <a:solidFill>
                <a:srgbClr val="000000"/>
              </a:solidFill>
              <a:latin typeface="Calibri"/>
            </a:endParaRPr>
          </a:p>
        </p:txBody>
      </p:sp>
      <p:sp>
        <p:nvSpPr>
          <p:cNvPr id="349" name="Rectangle 19"/>
          <p:cNvSpPr/>
          <p:nvPr/>
        </p:nvSpPr>
        <p:spPr>
          <a:xfrm>
            <a:off x="880920" y="2030400"/>
            <a:ext cx="5031000" cy="56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50" name="Rectangle 18"/>
          <p:cNvSpPr/>
          <p:nvPr/>
        </p:nvSpPr>
        <p:spPr>
          <a:xfrm>
            <a:off x="6948360" y="5450040"/>
            <a:ext cx="47246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51" name="Rectangle 17"/>
          <p:cNvSpPr/>
          <p:nvPr/>
        </p:nvSpPr>
        <p:spPr>
          <a:xfrm>
            <a:off x="6953400" y="4357800"/>
            <a:ext cx="472428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2" name="Rectangle 16"/>
          <p:cNvSpPr/>
          <p:nvPr/>
        </p:nvSpPr>
        <p:spPr>
          <a:xfrm>
            <a:off x="880920" y="2857680"/>
            <a:ext cx="5031000" cy="504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53" name="Line 15"/>
          <p:cNvSpPr/>
          <p:nvPr/>
        </p:nvSpPr>
        <p:spPr>
          <a:xfrm flipH="1">
            <a:off x="9248760" y="3174840"/>
            <a:ext cx="14400" cy="3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4"/>
          <p:cNvSpPr/>
          <p:nvPr/>
        </p:nvSpPr>
        <p:spPr>
          <a:xfrm>
            <a:off x="9236160" y="4002120"/>
            <a:ext cx="12600" cy="320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Line 13"/>
          <p:cNvSpPr/>
          <p:nvPr/>
        </p:nvSpPr>
        <p:spPr>
          <a:xfrm flipH="1">
            <a:off x="9248760" y="4865760"/>
            <a:ext cx="6480" cy="52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Rectangle 12"/>
          <p:cNvSpPr/>
          <p:nvPr/>
        </p:nvSpPr>
        <p:spPr>
          <a:xfrm>
            <a:off x="6954840" y="3556080"/>
            <a:ext cx="472428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إجراء اختبارات الرقابة</a:t>
            </a:r>
            <a:endParaRPr b="0" lang="en-US" sz="1600" spc="-1" strike="noStrike">
              <a:solidFill>
                <a:srgbClr val="000000"/>
              </a:solidFill>
              <a:latin typeface="Calibri"/>
            </a:endParaRPr>
          </a:p>
        </p:txBody>
      </p:sp>
      <p:sp>
        <p:nvSpPr>
          <p:cNvPr id="357" name="Line 11"/>
          <p:cNvSpPr/>
          <p:nvPr/>
        </p:nvSpPr>
        <p:spPr>
          <a:xfrm flipH="1">
            <a:off x="3381120" y="2597040"/>
            <a:ext cx="19080" cy="26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Line 10"/>
          <p:cNvSpPr/>
          <p:nvPr/>
        </p:nvSpPr>
        <p:spPr>
          <a:xfrm>
            <a:off x="9236160" y="1428840"/>
            <a:ext cx="1260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Line 9"/>
          <p:cNvSpPr/>
          <p:nvPr/>
        </p:nvSpPr>
        <p:spPr>
          <a:xfrm flipH="1" flipV="1">
            <a:off x="5929200" y="2388960"/>
            <a:ext cx="21384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0" name="Line 8"/>
          <p:cNvSpPr/>
          <p:nvPr/>
        </p:nvSpPr>
        <p:spPr>
          <a:xfrm flipH="1">
            <a:off x="6000480" y="1171440"/>
            <a:ext cx="711000" cy="11160"/>
          </a:xfrm>
          <a:prstGeom prst="line">
            <a:avLst/>
          </a:prstGeom>
          <a:ln w="1908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1" name="Rectangle 7"/>
          <p:cNvSpPr/>
          <p:nvPr/>
        </p:nvSpPr>
        <p:spPr>
          <a:xfrm>
            <a:off x="7896240" y="204624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sp>
        <p:nvSpPr>
          <p:cNvPr id="362" name="Rectangle 6"/>
          <p:cNvSpPr/>
          <p:nvPr/>
        </p:nvSpPr>
        <p:spPr>
          <a:xfrm>
            <a:off x="8834400" y="3119400"/>
            <a:ext cx="4287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63" name="Text Box 5"/>
          <p:cNvSpPr/>
          <p:nvPr/>
        </p:nvSpPr>
        <p:spPr>
          <a:xfrm>
            <a:off x="8237520" y="4943520"/>
            <a:ext cx="5716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64" name="Line 4"/>
          <p:cNvSpPr/>
          <p:nvPr/>
        </p:nvSpPr>
        <p:spPr>
          <a:xfrm flipH="1" flipV="1">
            <a:off x="5928840" y="4597560"/>
            <a:ext cx="1019160" cy="252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5" name="Text Box 3"/>
          <p:cNvSpPr/>
          <p:nvPr/>
        </p:nvSpPr>
        <p:spPr>
          <a:xfrm>
            <a:off x="880920" y="4289400"/>
            <a:ext cx="50310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6" name="Text Box 2"/>
          <p:cNvSpPr/>
          <p:nvPr/>
        </p:nvSpPr>
        <p:spPr>
          <a:xfrm>
            <a:off x="6261120" y="409104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Line 1"/>
          <p:cNvSpPr/>
          <p:nvPr/>
        </p:nvSpPr>
        <p:spPr>
          <a:xfrm>
            <a:off x="9248760" y="650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Calibri Light"/>
                <a:cs typeface="Times New Roman"/>
              </a:rPr>
              <a:t>الرقابة الداخلية </a:t>
            </a:r>
            <a:br>
              <a:rPr sz="4300"/>
            </a:br>
            <a:r>
              <a:rPr b="0" lang="ar-SA" sz="4300" spc="-1" strike="noStrike">
                <a:solidFill>
                  <a:srgbClr val="ff000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1"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قد أصبح الأن استخدام الحاسبات الآلية فى الوحدات الحكومية فى المملكة حقيقة ملموسة، وهذا الاستخدام آخذ فى الازدياد والتطور والتوسع. وقد أثر استخدام الحاسبات الآلية في معالجة البيانات المحاسبية في عمل المراجع من ناحيتين: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ناحية الأولى: تطوير أساليب الرقابة الداخلية </a:t>
            </a:r>
            <a:r>
              <a:rPr b="0" lang="ar-SA" sz="2400" spc="-1" strike="noStrike">
                <a:solidFill>
                  <a:srgbClr val="404040"/>
                </a:solidFill>
                <a:latin typeface="Calibri"/>
                <a:cs typeface="Arial"/>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ناحية الثانية: أساليب المراجعة التي يعتمد عليها المراجع </a:t>
            </a:r>
            <a:r>
              <a:rPr b="0" lang="ar-SA" sz="2400" spc="-1" strike="noStrike">
                <a:solidFill>
                  <a:srgbClr val="404040"/>
                </a:solidFill>
                <a:latin typeface="Calibri"/>
                <a:cs typeface="Arial"/>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سوف نركز في هذا الجزء على الموضوع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شاكل المرتبطة بنظم معالجة البيانات المحاسبية آ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إجراءات الرقابة الداخلية في ظل التشغيل الآل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ساليب المراجعة في ظل نظام التشغيل الالكترون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ولا : المشاكل التي اثرت على عمل المراجع المرتبطة بنظم معالجة البيانات المحاسبية أ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توسع فى استخدام الحاسب الآلي فى تطبيقات 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ستندات ل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سار مستندي ل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خرجات مر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ضعف الحماية حول البيانات وبرامج الحاسب الآ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روسات الحاس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إجراءات الرقابة الداخلية في ظل نظ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نقسم إجراءات الرقابة الداخلية فى بيئة الحاسب الآلي إلى ثلاث مجموعات رئيس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اولى: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لثة:الإجراءات الرقابية على نظم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اولى:الإجراءات الرقابية العام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لإجراءات الرقابية العامة هي الإجراءات التي تتصل بجميع (أو معظم) التطبيقات المحاسبية التي تتم بواسطة الحاسب الآلي.  وتتعلق تلك الإجراءات بالرقابة على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1</a:t>
            </a:r>
            <a:r>
              <a:rPr b="1" lang="ar-SA" sz="2000" spc="-1" strike="noStrike">
                <a:solidFill>
                  <a:srgbClr val="404040"/>
                </a:solidFill>
                <a:latin typeface="Calibri"/>
                <a:ea typeface="Arial"/>
              </a:rPr>
              <a:t>-  فصل الوظائف.</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2</a:t>
            </a:r>
            <a:r>
              <a:rPr b="1" lang="ar-SA" sz="2000" spc="-1" strike="noStrike">
                <a:solidFill>
                  <a:srgbClr val="404040"/>
                </a:solidFill>
                <a:latin typeface="Calibri"/>
                <a:ea typeface="Arial"/>
              </a:rPr>
              <a:t>-  تفويض واختبار وتصديق عمليات تطوير , شراء , وتغيير البرامج قبل استخدامها فى معالجة البيانات.</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3</a:t>
            </a:r>
            <a:r>
              <a:rPr b="1" lang="ar-SA" sz="2000" spc="-1" strike="noStrike">
                <a:solidFill>
                  <a:srgbClr val="404040"/>
                </a:solidFill>
                <a:latin typeface="Calibri"/>
                <a:ea typeface="Arial"/>
              </a:rPr>
              <a:t>-  الوصول الى ملفات البيانات.</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4</a:t>
            </a:r>
            <a:r>
              <a:rPr b="1" lang="ar-SA" sz="2000" spc="-1" strike="noStrike">
                <a:solidFill>
                  <a:srgbClr val="404040"/>
                </a:solidFill>
                <a:latin typeface="Calibri"/>
                <a:ea typeface="Arial"/>
              </a:rPr>
              <a:t>-  الإجراءات الرقابية العامة المبنية فى النظام نفسه.</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5</a:t>
            </a:r>
            <a:r>
              <a:rPr b="1" lang="ar-SA" sz="2000" spc="-1" strike="noStrike">
                <a:solidFill>
                  <a:srgbClr val="404040"/>
                </a:solidFill>
                <a:latin typeface="Calibri"/>
                <a:ea typeface="Arial"/>
              </a:rPr>
              <a:t>-  إجراءات رقابية عامة أخرى.</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تعلق هذا النوع من الإجراءات الرقابية باستخدام الحاسب الآلي للقيام بتطبيقات محاسبية محددة. ويمكن ان تكون هذه الإجراءات إجراءات يدوية أو إجراءات  الكترونية. وتقسم هذه الإجراءات إلى ثلاثة أنواع ه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إجراءات الرقابية على ا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الإجراءات الرقابية على التشغيل (المعالجة الالكترون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الإجراءات الرقابية على المخرج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3"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ثالثة:الإجراءات الرقابية على نظم قاعدة البيان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من تلك الاجراءات الرقاب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وجود اجراءات رقابية تحدد حرية الوصول الى قاعدة البيانات فقط عن طريق الاشخاص المصرح لهم.</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نسيق أنشطة مستخدمى قاعدة البيانات والتحكم فيها بحيث تكون الرقابة على البيانات متناسبة مع أهمية تلك البيانات.</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قتضي اشتراك عدد كبير من المستخدمين فى نفس ملفات البيانات ان تكون هناك رقابة محكمة على تلك الملفات لمنع التغيير أو الضياع.</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تخاذ الإجراءات الاحتياطية اللازمة للمحافظة على استمرار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أساليب المراجعة في ظل نظا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لوب المراجعة حول الحاس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لوب المراجعة بأستخدام 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بداية يجب أن نشير إلى أن المراجع الداخلي عند تنفيذ مهام المراجعة المذكورة يمكنه استخدام نوعين من أنواع المراجعة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a:t>
            </a: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 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a:r>
            <a:r>
              <a:rPr b="0" lang="en-US" sz="2400" spc="-1" strike="noStrike">
                <a:solidFill>
                  <a:srgbClr val="404040"/>
                </a:solidFill>
                <a:latin typeface="Calibri"/>
              </a:rPr>
              <a:t>2</a:t>
            </a:r>
            <a:r>
              <a:rPr b="0" lang="en-US" sz="2400" spc="-1" strike="noStrike">
                <a:solidFill>
                  <a:srgbClr val="404040"/>
                </a:solidFill>
                <a:latin typeface="Calibri"/>
              </a:rPr>
              <a:t>) </a:t>
            </a:r>
            <a:r>
              <a:rPr b="0" lang="ar-SA" sz="2400" spc="-1" strike="noStrike">
                <a:solidFill>
                  <a:srgbClr val="404040"/>
                </a:solidFill>
                <a:latin typeface="Calibri"/>
                <a:cs typeface="Arial"/>
              </a:rPr>
              <a:t>المراجعة الدور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ما أن المراجعة المستمرة يمكن تصنيفها إ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أ) المراجعة السابق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ب) المراجعة اللاحق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تقدير نتائج الدراسة المبد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وم المراجع بدراسة مبدئية للنظام بهدف تفهمه وتحديد معالمه الرقابية. و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و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1" name=""/>
          <p:cNvSpPr txBox="1"/>
          <p:nvPr/>
        </p:nvSpPr>
        <p:spPr>
          <a:xfrm>
            <a:off x="1096920" y="1846440"/>
            <a:ext cx="10058400" cy="4022640"/>
          </a:xfrm>
          <a:prstGeom prst="rect">
            <a:avLst/>
          </a:prstGeom>
          <a:noFill/>
          <a:ln w="0">
            <a:noFill/>
          </a:ln>
        </p:spPr>
        <p:txBody>
          <a:bodyPr lIns="0" rIns="0" anchor="t">
            <a:normAutofit fontScale="97000"/>
          </a:bodyPr>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ثانيا: تقدير نتائج الدراسة المبدئية </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ستطيع المراجع أن يقرر من خلال تقييمه للمعلومات التي حصل عليها من الدراسة المبدئية ما إذا كان سيستمر في دراسته لنظام الرقابة الداخلية أو يتوقف عن ذلك. فإذا قرر الاستمرار فإنه ينتقل إلى مرحلة استكمال الدراسة : و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ذا أشارت نتائج الدراسة المبدئية للنظام إلى أن هناك ضعفاً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إذا أشارت نتائج الدراسة المبدئية للنظام إلى أن النظام الرقابي مصمم بشكل جيد فيجب على المراجع الإنتقال إلى مرحلة التأكد من مدى الالتزام به عن طريق إجراء اختبارات مدى تنفيذ النظام والالتزام به.</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ذا قرر المراجع الاستمرار في دراسة النظام بناءا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شمل هذه المرحل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ختبار تنفيذ 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إجراءات الرقابية على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إختبار إجراءات الرقابة التطبيق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ختبارات تنفيذ الإجراءات الرقاب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الغرض من اختبارات تنفيذ أنظمة الرقابة الداخلية هو إعطاء تأكيد معقول بأن الإجراءات الرقابية يتم تنفيذها كما هي موضوعة. وتتعلق اختبارات تنفيذ أنظمة الرقابة الداخلية أساساً بالأسئلة الآت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أ - هل تم تنفيذ الإجراءات الرقابية الضرور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 كيف تم تنفيذها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جـ- من الذي قام بالتنفيذ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وبالنسبة للإجراءات الرقابية العامة والإجراءات الرقابية على قاعدة البيانات فإن اختبارات المراجع لها تتم أساسا عن طريق الاستفسار والملاحظة وفحص الوثائق المختلفة. أما </a:t>
            </a:r>
            <a:r>
              <a:rPr b="1" lang="ar-SA" sz="2000" spc="-1" strike="noStrike" u="sng">
                <a:solidFill>
                  <a:srgbClr val="404040"/>
                </a:solidFill>
                <a:uFillTx/>
                <a:latin typeface="Calibri"/>
                <a:cs typeface="Arial"/>
              </a:rPr>
              <a:t>إجراءات الرقابة التطبيقية</a:t>
            </a:r>
            <a:r>
              <a:rPr b="1" lang="ar-SA" sz="2000" spc="-1" strike="noStrike">
                <a:solidFill>
                  <a:srgbClr val="404040"/>
                </a:solidFill>
                <a:latin typeface="Calibri"/>
                <a:ea typeface="Arial"/>
              </a:rPr>
              <a:t> فإنها تركز على إختبار تنفيذ برامج الحاسب الآلي المستخدمة ، ذلك لأنها تشمل إجراءات الرقابة على مراحل البرنامج الثلاثة (المدخلات ، عمليات التشغيل ، المخرجات).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ختبار تنفيذ إجراءات الرقابة التطبيقية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أ). 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9" name=""/>
          <p:cNvSpPr txBox="1"/>
          <p:nvPr/>
        </p:nvSpPr>
        <p:spPr>
          <a:xfrm>
            <a:off x="1096920" y="1846440"/>
            <a:ext cx="100584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أ). </a:t>
            </a:r>
            <a:r>
              <a:rPr b="1" lang="ar-SA" sz="2400" spc="-1" strike="noStrike">
                <a:solidFill>
                  <a:srgbClr val="404040"/>
                </a:solidFill>
                <a:latin typeface="Calibri"/>
                <a:cs typeface="Arial"/>
              </a:rPr>
              <a:t>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بعض نظم معالجة المعلومات إذا كان هناك مسار مستندي يمكن الاعتماد عليه في شكل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م ذلك بالحصول على المستندات الأصلية وتشغيلها يدويا ثم يقوم المراجع بمقارنة النتائج التي توصل إليها بمخرجات الحاسب المطبوعة ، ويطلق على هذا النوع من المراجعة في بعض الأحيان "</a:t>
            </a:r>
            <a:r>
              <a:rPr b="1" lang="ar-SA" sz="2400" spc="-1" strike="noStrike">
                <a:solidFill>
                  <a:srgbClr val="404040"/>
                </a:solidFill>
                <a:latin typeface="Calibri"/>
                <a:cs typeface="Arial"/>
              </a:rPr>
              <a:t>المراجعة حول الحاسب"</a:t>
            </a:r>
            <a:r>
              <a:rPr b="0" lang="ar-SA" sz="2400" spc="-1" strike="noStrike">
                <a:solidFill>
                  <a:srgbClr val="404040"/>
                </a:solidFill>
                <a:latin typeface="Calibri"/>
                <a:ea typeface="Arial"/>
              </a:rPr>
              <a:t> ولا تختلف أساليب المراجع في هذه الحالة عن الأساليب المتبعة في مراجعة الأنظمة المحاسبية اليدو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1" name=""/>
          <p:cNvSpPr txBox="1"/>
          <p:nvPr/>
        </p:nvSpPr>
        <p:spPr>
          <a:xfrm>
            <a:off x="1096920" y="1846440"/>
            <a:ext cx="10058400" cy="4022640"/>
          </a:xfrm>
          <a:prstGeom prst="rect">
            <a:avLst/>
          </a:prstGeom>
          <a:noFill/>
          <a:ln w="0">
            <a:noFill/>
          </a:ln>
        </p:spPr>
        <p:txBody>
          <a:bodyPr lIns="0" rIns="0" anchor="t">
            <a:normAutofit fontScale="86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اساليب التي يمكن للمراجع استخدامها عند استخدام الحاسب في اختبار إجراءات الرقابة التطبيقية :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اسلوب البيانات الاختبار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البرامج الخاضعة لرقابة المراجع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اسلوب المحاكاة المتوازية كأحد تطبيقات برامج المراجعة العام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4</a:t>
            </a:r>
            <a:r>
              <a:rPr b="0" lang="ar-SA" sz="2400" spc="-1" strike="noStrike">
                <a:solidFill>
                  <a:srgbClr val="404040"/>
                </a:solidFill>
                <a:latin typeface="Calibri"/>
                <a:ea typeface="Arial"/>
              </a:rPr>
              <a:t>.أسلوب فحص تعليمات البرامج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5</a:t>
            </a:r>
            <a:r>
              <a:rPr b="0" lang="ar-SA" sz="2400" spc="-1" strike="noStrike">
                <a:solidFill>
                  <a:srgbClr val="404040"/>
                </a:solidFill>
                <a:latin typeface="Calibri"/>
                <a:ea typeface="Arial"/>
              </a:rPr>
              <a:t>.أسلوب تحقيق خريطة التدفق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3" name=""/>
          <p:cNvSpPr txBox="1"/>
          <p:nvPr/>
        </p:nvSpPr>
        <p:spPr>
          <a:xfrm>
            <a:off x="1096920" y="1846440"/>
            <a:ext cx="10058400" cy="402264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لوب البيانات الاختبارية :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 ، و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جب أن تشتمل البيانات الاختبارية على عمليات تعكس الأوضاع الصحيحة وغير الصحيحة التي يريد المراجع اختبارها ، ويلاحظ أن اسلوب البيانات الاختبارية يختبر البرنامج المطبق في نقطة معينة من الزمن وليس خلال مدة المراجعة بأكملها ، كما أن 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5" name=""/>
          <p:cNvSpPr txBox="1"/>
          <p:nvPr/>
        </p:nvSpPr>
        <p:spPr>
          <a:xfrm>
            <a:off x="1096920" y="1736640"/>
            <a:ext cx="10058400" cy="4022640"/>
          </a:xfrm>
          <a:prstGeom prst="rect">
            <a:avLst/>
          </a:prstGeom>
          <a:noFill/>
          <a:ln w="0">
            <a:noFill/>
          </a:ln>
        </p:spPr>
        <p:txBody>
          <a:bodyPr lIns="0" rIns="0" anchor="t">
            <a:normAutofit fontScale="87000"/>
          </a:bodyPr>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400" spc="-1" strike="noStrike">
                <a:solidFill>
                  <a:srgbClr val="404040"/>
                </a:solidFill>
                <a:latin typeface="Calibri"/>
                <a:cs typeface="Arial"/>
              </a:rPr>
              <a:t>البرامج الخاضعة لرقابة المراجع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ستخدم هذه الطريقة كبديل أو كمكمل لمدخل البيانات الاختبارية ، وفي هذه الطريقة يقوم المراجع تحت ظروف خاضعة لرقابته بإعادة تشغيل عينات من البيانات الفعلية الخاصة بالفترة محل الفحص. ولكي يقوم المراجع بعملية إعادة تشغيل البيانات فإما أن يستخدم أحد برامج البرامج المطبقة التي سبق اختبارها أو يستخدم نسخة من برنامج يكون خاضعا لرقابته. وبعد إكمال عملية إعادة التشغيل تتم مقارنة نتائج العينة مع البيانات الأصلية المقيدة في سجلات العميل .</a:t>
            </a: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هذه الطريقة تتميز عن اسلوب البيانات الاختبارية في أنها لا تمكن المراجع من الحكم على برنامج العميل فقط وإنما تمكنه أيضا من الحكم على صحة بعض العمليات محل المراجعة ، ومن مزايا هذه الطريقة أيضا أنه يمكن استخدامها على كمبيوتر خارجي دون استخدام الكمبيوتر الخاص بالأقسام التي تتم المراجعة عليها أو الاستعانة بموظفيها.</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سابقة </a:t>
            </a:r>
            <a:r>
              <a:rPr b="0" lang="ar-SA" sz="2400" spc="-1" strike="noStrike">
                <a:solidFill>
                  <a:srgbClr val="404040"/>
                </a:solidFill>
                <a:latin typeface="Calibri"/>
                <a:cs typeface="Arial"/>
              </a:rPr>
              <a:t>تستخدم</a:t>
            </a: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عند الرغبة في التحقق من جميع العمليات بشكل مستقل قبل الانتهاء منها. ويتم القيام بهذا الشكل من المراجعة عند تنفيذ المراجعة الداخلية على مستوى إدارة أو قسم مع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لاحقة </a:t>
            </a:r>
            <a:r>
              <a:rPr b="0" lang="ar-SA" sz="2400" spc="-1" strike="noStrike">
                <a:solidFill>
                  <a:srgbClr val="404040"/>
                </a:solidFill>
                <a:latin typeface="Calibri"/>
                <a:cs typeface="Arial"/>
              </a:rPr>
              <a:t>تختلف عن سابقتها من حيث توقيت القيام بها فقط إذ يقوم بها المراجع بعد الانتهاء من العملية المراد فحص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راجعة الدورية </a:t>
            </a:r>
            <a:r>
              <a:rPr b="0" lang="ar-SA" sz="2400" spc="-1" strike="noStrike">
                <a:solidFill>
                  <a:srgbClr val="404040"/>
                </a:solidFill>
                <a:latin typeface="Calibri"/>
                <a:cs typeface="Arial"/>
              </a:rPr>
              <a:t>يقوم بها المراجع الداخلي بشكل دوري لتحقيق الفحص الدوري للعمليات او أرصدة الحساب الختامي للوحد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7"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ea typeface="Arial"/>
              </a:rPr>
              <a:t> أسلوب المحاكاة المتوازية </a:t>
            </a:r>
            <a:r>
              <a:rPr b="1" lang="ar-SA" sz="1900" spc="-1" strike="noStrike">
                <a:solidFill>
                  <a:srgbClr val="ff0000"/>
                </a:solidFill>
                <a:latin typeface="Calibri"/>
                <a:ea typeface="Arial"/>
              </a:rPr>
              <a:t>(قراءة)</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السبب في إطلاق تعبير "المحاكاة المتوازية" هو أن البرنامج مصمم لإعادة إنتاج (أو محاكاة) البيانات الحقيقية للأقسام الأخرى التي تم تشغيلها.</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ea typeface="Arial"/>
              </a:rPr>
              <a:t>    ويمكن إجراء المحاكاة المتوازية في أوقات مختلفة خلال السنة المالية محل المراجعة ويمكن أيضا استخدامها في إعادة تشغيل بيانات تاريخية . وهذا المدخل لا يؤدي إلى تلوث ملفات العميل (ببيانات وهمية إذ ربما يحدث ذلك في حالة البيانات الاختبارية) ويمكن إجراؤه في مركز كمبيوتر خارجي مستقل ، وهذا المدخل يتمتع بالمزايا الآتي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بما أن البيانات الحقيقية هي التي تستخدم فيستطيع المراجع تحقيق العمليات بمتابعتها إلى مصادرها الأصلية (المستندات) المعتمد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يمكن زيادة حجم العينة زيادة كبيرة بتكاليف ضئيلة نسبيا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يستطيع المراجع أن يقوم بتشغيل الاختبار بنفسه بطريقة مستقل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وإذا تقرر استخدام طريقة المحاكاة المتوازية فيجب التأكد من أن تكون البيانات المختارة للمحاكاة ممثلة للعمليات الفعلية ، و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فحص تعليمات البرامج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فقاً لهذا الأسلوب يتم فحص وتعديل التعليمات التي يتضمنها البرنامج الخاص بمعالجة عملية معينة للتحقق من أن هذه التعليمات تؤدي إلى المعالجة المطلوبة. و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ولا شك أن هذا الأسلوب يتطلب توافر درجة كافية من الخبرة لدى المراجع  بكيفية إعداد البرامج وكيفية صياغتها , كما أنه يستغرق وقت أطول من أي أسلوب آخر سبق عرضه ولاسيما في ظل النظم المعقدة لمعالجة البيانات حيث يكون من الصعب فحص كل سطر في مختلف البرامج المكتوب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تحقيق خريطة التدفق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بعاً لهذا الأسلوب يتم فحص خريطة التدفق والتي تعكس منطق المعالجة الخاصة بتطبيق معين بدلاً من فحص كل سطر من سطور البرنامج المكتوب , ومن ثم فإن هذا الأسلوب يعتبر تطويراً لأسلوب فحص تعليمات البرنامج. ويتم إعداد خرائط التدفق إما يدوياً وهذا هو الأسلوب الأكثر انتشاراً أو  باستخدام الحاسب في إعداد خرائط تدفق آلية مقابلة للبرنامج الموضوع.</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ويتطلب ذلك معرفة من المراجع في إعداد البرامج وخرائط التدفق.</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تخدام نوع معين من أنواع المراجعة يعتمد على الوضع التنظيمي للمراجعة الداخلية والأهداف المنوطة ب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المراجعة الداخلية لا تعمل في شكل "قوالب جاهزة" بل ينبغي أن تكون من نوع "التفصيل بحسب الحاجة" لكل عملية حتى تكون فعالة وقادرة على خدمة أهداف الإدار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أولا: مراجعة النظم</a:t>
            </a:r>
            <a:br>
              <a:rPr sz="4000"/>
            </a:br>
            <a:r>
              <a:rPr b="0" lang="ar-SA" sz="3600" spc="-1" strike="noStrike">
                <a:solidFill>
                  <a:srgbClr val="404040"/>
                </a:solidFill>
                <a:latin typeface="Calibri Light"/>
                <a:ea typeface="Times New Roman"/>
              </a:rPr>
              <a:t> نظم الرقابة الداخلية</a:t>
            </a:r>
            <a:br>
              <a:rPr sz="3600"/>
            </a:br>
            <a:r>
              <a:rPr b="0" lang="ar-SA" sz="3600" spc="-1" strike="noStrike">
                <a:solidFill>
                  <a:srgbClr val="404040"/>
                </a:solidFill>
                <a:latin typeface="Calibri Light"/>
                <a:cs typeface="Times New Roman"/>
              </a:rPr>
              <a:t>دراسة وتقويم نظام الرقابة الداخلية</a:t>
            </a:r>
            <a:br>
              <a:rPr sz="4000"/>
            </a:br>
            <a:endParaRPr b="0" lang="en-US" sz="36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نظم  </a:t>
            </a:r>
            <a:r>
              <a:rPr b="0" lang="en-US" sz="2400" spc="-1" strike="noStrike">
                <a:solidFill>
                  <a:srgbClr val="404040"/>
                </a:solidFill>
                <a:latin typeface="Calibri"/>
              </a:rPr>
              <a:t>Systems Audit</a:t>
            </a:r>
            <a:r>
              <a:rPr b="0" lang="en-US" sz="2400" spc="-1" strike="noStrike">
                <a:solidFill>
                  <a:srgbClr val="404040"/>
                </a:solidFill>
                <a:latin typeface="Calibri"/>
              </a:rPr>
              <a:t>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همة الأولى لنشاط المراجعة الداخلية هي تقويم النظم وعلى رأسها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أولا: مراجعة النظم</a:t>
            </a:r>
            <a:br>
              <a:rPr sz="4400"/>
            </a:br>
            <a:endParaRPr b="0" lang="en-US" sz="44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م تقسيم هذا الجزء إلى أربعة أقسام رئيسية على النحو التالي:</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1</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2</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3</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4</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حتى يمكن تكوين فكرة كاملة عن نظم الرقابة الداخلية سوف نعرض النقاط التال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ام الرقاب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حدود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الطرق أو الأساليب التي تتبناها إدارة المنشأة بما في ذلك مجلس إدارتها ومديروها وموظفوها لتوفر تأكيدا معقولا بتحقيق أهداف المنشأة الت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حماية أصول المنشأة ، والحد من وقوع الغش والأخطاء واكتشافها فور وقوعها ودقة السجلات المحاسبية واكتمال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اعلية وكفاءة الأحداث والعمليات أو الظروف التي تتأثر بها المنشأة بما في ذلك استخدام الموارد بكفاءة وبشكل ملائم وزيادة الإنتاج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تقيد بالأنظمة والتعليمات والسياسات التي تتبناها الإدارة لتحقيق أهداف المنشأة بكفاءة وبطريقة منتظم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hana</cp:lastModifiedBy>
  <dcterms:modified xsi:type="dcterms:W3CDTF">2014-04-09T17:34:12Z</dcterms:modified>
  <cp:revision>44</cp:revision>
  <dc:subject/>
  <dc:title>تنفيذ مهام المراجعة الداخلية</dc:title>
</cp:coreProperties>
</file>