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9636C-57FF-4100-BB05-DEA7DEEDE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6F28E-E532-48F8-A9F4-BD1672FC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D0EDC-031F-4261-A45A-3A98E0EA8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FBD3C-B2F7-4452-AAC1-6E910AF7D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779AC-0778-4021-81E9-CD3058FBE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B9639-E0B7-46BF-B015-C991F2EB8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05FDC-035A-4E80-88B2-B65D9B5AB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0DCBB-C121-471B-A69E-03E9BBE31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04C62-3599-4870-BA03-06F0D1CC7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8E859-B548-4D58-845C-60E692354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A8761-7E02-4C7A-AAFF-D858446F5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F6A9A-1838-4908-95B8-D1A73F46C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9688C-FF32-484F-BC9F-0151A5F1F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4881E-022E-4899-9F70-4BDE4CB06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D18F7-5769-44CC-AC22-4B8F1840E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7501C-EA4A-468B-B253-1A5C6114F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4CE22-2FD2-4A5A-839D-1C8AB2D76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D587DC-F42A-4315-9253-DF71712589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3C378-7F9F-4A0B-8453-D9488FB90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C8317-9CF5-4B40-927F-9CEC6AFA6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16E8D-96F8-4BC5-B9B8-EB160B850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C2E4D-FB6F-439A-B266-84FBA38937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4EA57-D9A7-4E91-9C64-F1E6E616C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96CAC-E423-4003-8F6C-FDE14F5DCC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65FF7-2FDF-497F-B73B-78AAADAFD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8C00D-046B-4369-85F2-3D3BDA28B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BC235-4409-4BAF-849F-B6E73605C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64CE4-AC01-4933-8571-EC19F4C5A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2AE30E-5913-4B9A-B0BA-B4FFE0AAC2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157D95-727A-4641-8B5A-4CFA106048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72D0ED-E34A-4A98-9AA7-F1EB3A4706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479A4-6758-4034-8B99-367E40035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5C937-7A43-4136-A042-83A833749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29FE6-8DE9-4CB0-B036-F815D1E67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F3E45-DF28-4170-B625-AD06BE372B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9601BA-8B20-4230-9730-59A61804C7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784892-749A-47A4-B0C2-A0CE832E21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E236C-E592-4A8F-B9C5-08D745DB9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5522E-5664-47B8-BF91-97E7392D6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AEB4E-093D-417D-9B4B-763D0B18D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7B3D6-DAA0-4A76-A69E-B072CE9E39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E2A404-608E-4A4D-AC8B-7E51EC8A46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2047ED-476D-48D5-8718-E813AB1DBD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7848F-2551-4DB8-BB44-554CBAB7D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82713-9BCE-407C-8A96-CDCD94FF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7D758-E949-4A04-920B-86D2BA4E4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3535F-D1EB-46EF-874B-AB48FAE35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2CE7D-2CCB-4FE1-9C04-42AB2D5CA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3"/>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prstGeom prst="pie">
              <a:avLst/>
            </a:pr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prstGeom prst="pie">
              <a:avLst/>
            </a:pr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prstGeom prst="pie">
              <a:avLst/>
            </a:pr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prstGeom prst="pie">
              <a:avLst/>
            </a:pr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prstGeom prst="pie">
              <a:avLst/>
            </a:pr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D4331-29AD-4FBD-956E-AC8616D0AC9C}"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0" y="-7920"/>
            <a:ext cx="12192120" cy="6865920"/>
            <a:chOff x="0" y="-7920"/>
            <a:chExt cx="12192120" cy="6865920"/>
          </a:xfrm>
        </p:grpSpPr>
        <p:sp>
          <p:nvSpPr>
            <p:cNvPr id="53" name="Freeform 28"/>
            <p:cNvSpPr/>
            <p:nvPr/>
          </p:nvSpPr>
          <p:spPr>
            <a:xfrm>
              <a:off x="0" y="-7920"/>
              <a:ext cx="863280" cy="5697720"/>
            </a:xfrm>
            <a:prstGeom prst="pie">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Straight Connector 3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3"/>
            <p:cNvSpPr/>
            <p:nvPr/>
          </p:nvSpPr>
          <p:spPr>
            <a:xfrm>
              <a:off x="9182160" y="-7920"/>
              <a:ext cx="3006720" cy="6865920"/>
            </a:xfrm>
            <a:prstGeom prst="pie">
              <a:avLst/>
            </a:pr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Rectangle 25"/>
            <p:cNvSpPr/>
            <p:nvPr/>
          </p:nvSpPr>
          <p:spPr>
            <a:xfrm>
              <a:off x="9603000" y="-7920"/>
              <a:ext cx="2589120" cy="6865920"/>
            </a:xfrm>
            <a:prstGeom prst="pie">
              <a:avLst/>
            </a:pr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Isosceles Triangle 3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7"/>
            <p:cNvSpPr/>
            <p:nvPr/>
          </p:nvSpPr>
          <p:spPr>
            <a:xfrm>
              <a:off x="9334800" y="-7920"/>
              <a:ext cx="2854080" cy="6865920"/>
            </a:xfrm>
            <a:prstGeom prst="pie">
              <a:avLst/>
            </a:pr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8"/>
            <p:cNvSpPr/>
            <p:nvPr/>
          </p:nvSpPr>
          <p:spPr>
            <a:xfrm>
              <a:off x="10898280" y="-7920"/>
              <a:ext cx="1290600" cy="6865920"/>
            </a:xfrm>
            <a:prstGeom prst="pie">
              <a:avLst/>
            </a:pr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Rectangle 29"/>
            <p:cNvSpPr/>
            <p:nvPr/>
          </p:nvSpPr>
          <p:spPr>
            <a:xfrm>
              <a:off x="10939680" y="-7920"/>
              <a:ext cx="1249200" cy="6865920"/>
            </a:xfrm>
            <a:prstGeom prst="pie">
              <a:avLst/>
            </a:pr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D4446-4B7E-4671-A674-B3373380124C}"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43"/>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prstGeom prst="pie">
              <a:avLst/>
            </a:pr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prstGeom prst="pie">
              <a:avLst/>
            </a:pr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prstGeom prst="pie">
              <a:avLst/>
            </a:pr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prstGeom prst="pie">
              <a:avLst/>
            </a:pr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prstGeom prst="pie">
              <a:avLst/>
            </a:pr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6"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9A5B8-6C7E-4BFE-87B1-84CA5F9263DC}"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43"/>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prstGeom prst="pie">
              <a:avLst/>
            </a:pr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prstGeom prst="pie">
              <a:avLst/>
            </a:pr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prstGeom prst="pie">
              <a:avLst/>
            </a:pr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prstGeom prst="pie">
              <a:avLst/>
            </a:pr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prstGeom prst="pie">
              <a:avLst/>
            </a:pr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0"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CA71A-B2AB-4955-BA08-F0587452EE8D}"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5fcbef"/>
                </a:solidFill>
                <a:latin typeface="Trebuchet MS"/>
                <a:cs typeface="Tahoma"/>
              </a:rPr>
              <a:t>تابع مهام المراجعة الداخلية</a:t>
            </a:r>
            <a:endParaRPr b="0" lang="en-US" sz="54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ضح مما سبق أن المراجعة التشغيلية وتقويم الأداء المالي والتشغيلي يكون التركيز فيها على الكفاءة والفاعلية في الأداء.</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والمقصود بالكفاءة هو الحصول علي نفس القدر من المخرجات باستخدام أقل قدر ممكن من المدخلات.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ما الفاعلية فهي علاقة الأهداف المحققة بالأهداف المستهدف تحقيقها أو هي مدي تحقيق الأهداف المخطط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بناءا علي ما تقدم فإن عملية تقويم الأداء تتطلب وجود مقومات معينة أهمها:</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جود أهداف محددة للوحد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إمكانية قياس الأداء باستخدام مؤشرات أو مقاييس مقبول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جود مجموعة من المؤشرات والمعايير تساعد فى المقارن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كم على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4" name=""/>
          <p:cNvSpPr txBox="1"/>
          <p:nvPr/>
        </p:nvSpPr>
        <p:spPr>
          <a:xfrm>
            <a:off x="677520" y="2160360"/>
            <a:ext cx="8596440" cy="3881160"/>
          </a:xfrm>
          <a:prstGeom prst="rect">
            <a:avLst/>
          </a:prstGeom>
          <a:noFill/>
          <a:ln w="0">
            <a:noFill/>
          </a:ln>
        </p:spPr>
        <p:txBody>
          <a:bodyPr anchor="t">
            <a:normAutofit fontScale="98000"/>
          </a:bodyPr>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كمن </a:t>
            </a:r>
            <a:r>
              <a:rPr b="1" lang="ar-SA" sz="2400" spc="-1" strike="noStrike">
                <a:solidFill>
                  <a:srgbClr val="000000"/>
                </a:solidFill>
                <a:latin typeface="Trebuchet MS"/>
                <a:cs typeface="Tahoma"/>
              </a:rPr>
              <a:t>مشكلة</a:t>
            </a:r>
            <a:r>
              <a:rPr b="0" lang="ar-SA" sz="2400" spc="-1" strike="noStrike">
                <a:solidFill>
                  <a:srgbClr val="000000"/>
                </a:solidFill>
                <a:latin typeface="Trebuchet MS"/>
                <a:ea typeface="Tahoma"/>
              </a:rPr>
              <a:t> تقويم الأداء في الوحدات الحكومية في أن مخرجات أو أهداف لكثير من هذه الوحدات لا يمكن قياسها بالمقاييس المالية أو الكمية. </a:t>
            </a:r>
            <a:endParaRPr b="0" lang="en-US" sz="2400" spc="-1" strike="noStrike">
              <a:solidFill>
                <a:srgbClr val="404040"/>
              </a:solidFill>
              <a:latin typeface="Trebuchet MS"/>
            </a:endParaRPr>
          </a:p>
          <a:p>
            <a:pPr marL="335880" indent="-3358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القياس المالي الحالي للإيرادات والمصروفات يحقق الأهداف الآتية:</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تحقق من أن الإنفاق تم في حدود الاعتمادات.</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ساءلة المسئولين عن الإنفاق.</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طبيق نظام مساءلة بالثواب والعقاب.</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صحيح مسار الأداء إذا دعت الضرورة لذلك أو تعديل الأهداف عندما لا يمكن تحقيقها أو أنها لم تعد واقعية.</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لكي يمكن للمراجع الداخلي أن ينفذ المراجعة التشغيلية وتقويم الأداء يجب أن يكون على علم تام بطرق قياس الأداء التي تتناسب مع طبيعة الوحدات الحكومية ثم يختار منها ما يتناسب وطبيعة نشاط الوحدة الحكومية التي يعمل بها. لذلك نعرض فيما يلي </a:t>
            </a:r>
            <a:r>
              <a:rPr b="1" lang="ar-SA" sz="2400" spc="-1" strike="noStrike">
                <a:solidFill>
                  <a:srgbClr val="000000"/>
                </a:solidFill>
                <a:latin typeface="Trebuchet MS"/>
                <a:cs typeface="Tahoma"/>
              </a:rPr>
              <a:t>لطرق قياس الأداء في الوحدات الحكومية </a:t>
            </a:r>
            <a:r>
              <a:rPr b="0" lang="ar-SA" sz="2400" spc="-1" strike="noStrike">
                <a:solidFill>
                  <a:srgbClr val="000000"/>
                </a:solidFill>
                <a:latin typeface="Trebuchet MS"/>
                <a:cs typeface="Tahoma"/>
              </a:rPr>
              <a:t>، ثم نتعرض بعد ذلك </a:t>
            </a:r>
            <a:r>
              <a:rPr b="1" lang="ar-SA" sz="2400" spc="-1" strike="noStrike">
                <a:solidFill>
                  <a:srgbClr val="000000"/>
                </a:solidFill>
                <a:latin typeface="Trebuchet MS"/>
                <a:cs typeface="Tahoma"/>
              </a:rPr>
              <a:t>لأنواع الأنشطة الحكومية ومقاييس الأداء </a:t>
            </a:r>
            <a:r>
              <a:rPr b="0" lang="ar-SA" sz="2400" spc="-1" strike="noStrike">
                <a:solidFill>
                  <a:srgbClr val="000000"/>
                </a:solidFill>
                <a:latin typeface="Trebuchet MS"/>
                <a:cs typeface="Tahoma"/>
              </a:rPr>
              <a:t>التي تتناسب معه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طرق قياس الأداء في الوحدات الحكوم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استخدام عدد المخرجات كمقياس</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ياس الانتاج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ؤشرات الاجتماع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العلاقة بين التدفقات النقدية الداخلة والتدفقات النقدية الخارج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طبيعة الأنشطة الحكومية ومقاييس الأداء </a:t>
            </a:r>
            <a:endParaRPr b="0" lang="en-US" sz="20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بصفة عامة يمكن التمييز بين ثلاثة أنواع من الأنشطة الحكومية ، من حيث إمكانية قياس المخرجات هي:</a:t>
            </a:r>
            <a:endParaRPr b="0" lang="en-US" sz="20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الأنشطة التي يمكن قياس مخرجاتها نقدا وهي التي تقدم خدماتها للمواطنين بمقابل نقدي ،بالتالي يفضل تسعير الخدمة المقدمة في ضوء اعتبارات التكلفة .يمكن تقييم كل من فعالية وكفاءة الأنشطة لان المخرجات والمدخلات كلاهما تقاس فى صورة نقدية. </a:t>
            </a:r>
            <a:endParaRPr b="0" lang="en-US" sz="20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الانشطة التي تقاس مخرجاتها بصورة كمية فقط ، مثل أنشطة الخدمات التعليمية. بالتالي وحدة القياس للمخرجات يختلف عن وحدة قياس المدخلات. </a:t>
            </a:r>
            <a:endParaRPr b="0" lang="en-US" sz="20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النوع الثالث يتمثل فى الأنشطة التى لا يمكن قياس مخرجاتها نقديا أو كميا مثل خدمات الأمن العام والدفاع. فيكون تقييم كفاءة وفاعلية تلك الأنشطة صعبا.</a:t>
            </a:r>
            <a:endParaRPr b="0" lang="en-US" sz="20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2" name=""/>
          <p:cNvSpPr txBox="1"/>
          <p:nvPr/>
        </p:nvSpPr>
        <p:spPr>
          <a:xfrm>
            <a:off x="677520" y="2160360"/>
            <a:ext cx="8596440" cy="3881160"/>
          </a:xfrm>
          <a:prstGeom prst="rect">
            <a:avLst/>
          </a:prstGeom>
          <a:noFill/>
          <a:ln w="0">
            <a:noFill/>
          </a:ln>
        </p:spPr>
        <p:txBody>
          <a:bodyPr anchor="t">
            <a:normAutofit fontScale="97000"/>
          </a:bodyPr>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طرق قياس الأنشطة التي يمكن قياس مخرجاتها في شكل كمي:</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أ- مقياس النتائج:   </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هو قياس للمخرجات معبراً عنها في شكل عناصر مرتبطة بأهداف المشروع.</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ب- مقياس الوسائل:</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ستخدام مقياس بديل للهدف ، ويرتبط هذا المقياس بالنشاط المنفذ بواسطة الوحدة ومن أمثلة ذلك عدد المستفيدين من أماكن الترفية يوميا. </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ج ـ المدخلات كمقياس للمخرجات: </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مع أن المدخلات لا تعتبر مقياس مرضى وحقيقي لمخرجات الأنشطة الحكومية إلا أنها تعتبر أفضل مقياس إذا تعذر وجود مقياس آخر ، مثل مشروعات الأبحاث.</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4" name=""/>
          <p:cNvSpPr txBox="1"/>
          <p:nvPr/>
        </p:nvSpPr>
        <p:spPr>
          <a:xfrm>
            <a:off x="677520" y="2160360"/>
            <a:ext cx="8596440" cy="3881160"/>
          </a:xfrm>
          <a:prstGeom prst="rect">
            <a:avLst/>
          </a:prstGeom>
          <a:noFill/>
          <a:ln w="0">
            <a:noFill/>
          </a:ln>
        </p:spPr>
        <p:txBody>
          <a:bodyPr anchor="t">
            <a:normAutofit/>
          </a:bodyPr>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cs typeface="Tahoma"/>
              </a:rPr>
              <a:t>طرق قياس الأنشطة التي يصعب قياس مخرجاتها في شكل نقدي أو كمي</a:t>
            </a:r>
            <a:r>
              <a:rPr b="0" lang="ar-SA" sz="1900" spc="-1" strike="noStrike">
                <a:solidFill>
                  <a:srgbClr val="000000"/>
                </a:solidFill>
                <a:latin typeface="Trebuchet MS"/>
                <a:ea typeface="Tahoma"/>
              </a:rPr>
              <a:t>:</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ea typeface="Tahoma"/>
              </a:rPr>
              <a:t>1</a:t>
            </a:r>
            <a:r>
              <a:rPr b="0" lang="ar-SA" sz="1900" spc="-1" strike="noStrike">
                <a:solidFill>
                  <a:srgbClr val="000000"/>
                </a:solidFill>
                <a:latin typeface="Trebuchet MS"/>
                <a:ea typeface="Tahoma"/>
              </a:rPr>
              <a:t>)نموذج المقارنة السابقة واللاحقة:</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مقارنة الأوضاع والظروف السائدة قبل وبعد إدخال البرنامج وان التغير الذي سيحدث على الظروف أو الأوضاع بعد إدخال البرنامج يعتبر أثر البرنامج وهو اكثرها استخداما لسهولتها وقلة تكفتها</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ea typeface="Tahoma"/>
              </a:rPr>
              <a:t>2</a:t>
            </a:r>
            <a:r>
              <a:rPr b="0" lang="ar-SA" sz="1900" spc="-1" strike="noStrike">
                <a:solidFill>
                  <a:srgbClr val="000000"/>
                </a:solidFill>
                <a:latin typeface="Trebuchet MS"/>
                <a:ea typeface="Tahoma"/>
              </a:rPr>
              <a:t>)نموذج المقارنة بالسلاسل الزمنية: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المقارنة على أساس السلاسل الزمنية لفترة زمنية معينة قبل وبعد إدخال البرنامج لتحديد أثر البرنامج في تحقيق أهدافه.</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ea typeface="Tahoma"/>
              </a:rPr>
              <a:t>3</a:t>
            </a:r>
            <a:r>
              <a:rPr b="0" lang="ar-SA" sz="1900" spc="-1" strike="noStrike">
                <a:solidFill>
                  <a:srgbClr val="000000"/>
                </a:solidFill>
                <a:latin typeface="Trebuchet MS"/>
                <a:ea typeface="Tahoma"/>
              </a:rPr>
              <a:t>)نموذج المقارنة بين المجموعات المتشابهة: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مقارنة بين مجموعتين أو أكثر متشابهتين ، إلا انه تكون أحداهما طبقت برنامجاً معيناً ـ يراد تقييمه ـ في حين أن المجموعة الأخرى لم تقم بتطبيقه ـ فعن طريق المقارنة بينهما يمكن تقييم هذا البرنامج.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6"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الأداء للحكم على كفاءة وفاعلي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ؤشرات هي علاقة بين عنصرين وهذه العلاقة قد تكون علاقة بين قيمة بند فى سنة وقيمة نفس البند فى سنوات سابقة وتقيس نمو وتطور عنصر معين لعدة سنوات، أو قد تكون علاقة بين قيمتين لعنصرين مترابطين أو بينهما علاقة مالية أو اقتصادية، وتفيد هذه العلاقات في عملية تقييم أداء الأنشطة الحكومية، وتختلف هذه المؤشرات باختلاف طبيعة الأنشطة الحكومية، فنجد أن المؤشرات التي تلائم برنامج تعليمي تختلف عن تلك التي تلائم برنامج أمنى.</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8"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الأداء للحكم على كفاءة وفاعلي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نقسم مؤشرات تقييم أداء الأنشطة الحكومية إلى نوعين رئيسيين هما </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ؤشرات تقييم كفاءة الأنشط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مؤشرات تقييم فعالية الأنشط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ابع تنفيذ مهام المراجعة الداخلية</a:t>
            </a:r>
            <a:endParaRPr b="0" lang="en-US" sz="4000" spc="-1" strike="noStrike">
              <a:solidFill>
                <a:srgbClr val="5fcbef"/>
              </a:solidFill>
              <a:latin typeface="Trebuchet MS"/>
            </a:endParaRPr>
          </a:p>
        </p:txBody>
      </p:sp>
      <p:sp>
        <p:nvSpPr>
          <p:cNvPr id="21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ناقشنا سابقا كيفية تنفيذ مهام المراجعة الخاصة بفحص وتقويم الرقابة الداخلية. ونستكمل اليوم عرض لكيفية تنفيذ باقي مهام المراجعة الداخلية والتي تتمثل في:</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راجعة التشغيلية وتقويم الأداء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راجعة الالتزام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راجعة السلوك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قديم المشورة والدعم للإدار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0"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كفاء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ختص هذه المؤشرات بالحكم على كفاءة استخدام الموارد الاقتصادية المستخدمة فى تنفيذ الأنشطة الحكومية ، وذلك عن طريق تحديد كل من الموارد المستخدمة في الأنشطة (المدخلات) وكذلك وحدات الأداء أو الانجازات (المخرجات) والربط بينهما مع المقارنة بالمعدلات المحددة مقدما أو بنتائج الفترات السابق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2"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فعالية الأنشط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هدف مؤشرات الفعالية إلى التحقق من أن الأنشطة قد نجحت في تحقيق الأهداف المرسومة لها ، لذلك يجب أن تكون تلك المؤشرات متعلقة بهذه الأهداف. لذلك يمكن القول أن مؤشرات الفعالية هي مقاييس إجمالية أو نهائية توجه إلى التعرف على مدى تحقيق الأنشطة للأهداف المحددة سلف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التزام </a:t>
            </a:r>
            <a:endParaRPr b="0" lang="en-US" sz="4000" spc="-1" strike="noStrike">
              <a:solidFill>
                <a:srgbClr val="5fcbef"/>
              </a:solidFill>
              <a:latin typeface="Trebuchet MS"/>
            </a:endParaRPr>
          </a:p>
        </p:txBody>
      </p:sp>
      <p:sp>
        <p:nvSpPr>
          <p:cNvPr id="254" name=""/>
          <p:cNvSpPr txBox="1"/>
          <p:nvPr/>
        </p:nvSpPr>
        <p:spPr>
          <a:xfrm>
            <a:off x="587520" y="1825560"/>
            <a:ext cx="8596080" cy="388152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هي مراجعة الالتزام بالمتطلبات النظامية والقانونية، وأيضاً ضمان الالتزام بالسياسات والإجراءات التي ترسمها الإدارة ومجلس المديرين.</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نشآت تعمل في إطار نظامي خارجي و إطار تنظيمي داخلي. وتعتبر مراجعة مدي التزام الإدارة وكل فرد في المنشأة بالأطر الداخلية والخارجية أحد الأدوار الأساسية للمراجع الداخلي.</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التزام </a:t>
            </a:r>
            <a:endParaRPr b="0" lang="en-US" sz="4000" spc="-1" strike="noStrike">
              <a:solidFill>
                <a:srgbClr val="5fcbef"/>
              </a:solidFill>
              <a:latin typeface="Trebuchet MS"/>
            </a:endParaRPr>
          </a:p>
        </p:txBody>
      </p:sp>
      <p:sp>
        <p:nvSpPr>
          <p:cNvPr id="256" name=""/>
          <p:cNvSpPr txBox="1"/>
          <p:nvPr/>
        </p:nvSpPr>
        <p:spPr>
          <a:xfrm>
            <a:off x="587520" y="1825560"/>
            <a:ext cx="8596080" cy="388152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تحقق من التزام العاملين بالأطر الداخلية والخارجية يتم لمصلحة الإدارة ويتم التقرير عنه للمستوي الإداري المناسب ، وهذا المجال يمارس فيه المراجع الداخلي دورا إيجابيا ملموسا يضيف إلى قيمة المنشأ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ثانية: أن مراجعة التزام الإدارة بالأطر هو أمر مشكوك فيه من الناحية العملية والنظرية. فالمراجعة الداخلية أساسا هي وظيفة معاونة للإدارة ، لكن مع آليات الحوكمة التي بدأت كثيرا من التشريعات تتبناها حاولت دعم هذه الجانب من عمل المراجعين الداخليين بتشكيل لجنة مستقلة يتم التقرير إليها عن مثل هذه التجاوزات هي لجنة المراجع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سلوك </a:t>
            </a:r>
            <a:endParaRPr b="0" lang="en-US" sz="4000" spc="-1" strike="noStrike">
              <a:solidFill>
                <a:srgbClr val="5fcbef"/>
              </a:solidFill>
              <a:latin typeface="Trebuchet MS"/>
            </a:endParaRPr>
          </a:p>
        </p:txBody>
      </p:sp>
      <p:sp>
        <p:nvSpPr>
          <p:cNvPr id="258"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قصد بمراجعة السلوك التأكد من إلتزام العاملين بالوحدة بالقواعد السلوكية التي تتبناها الوحدة مثل عدم التدخين في المكاتب أو الالتزام بزي معين.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قديم المشورة والدعم</a:t>
            </a:r>
            <a:endParaRPr b="0" lang="en-US" sz="4000" spc="-1" strike="noStrike">
              <a:solidFill>
                <a:srgbClr val="5fcbef"/>
              </a:solidFill>
              <a:latin typeface="Trebuchet MS"/>
            </a:endParaRPr>
          </a:p>
        </p:txBody>
      </p:sp>
      <p:sp>
        <p:nvSpPr>
          <p:cNvPr id="260" name=""/>
          <p:cNvSpPr txBox="1"/>
          <p:nvPr/>
        </p:nvSpPr>
        <p:spPr>
          <a:xfrm>
            <a:off x="587520" y="1825200"/>
            <a:ext cx="8596080" cy="426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معايير المهنية قد أجازت للمراجع الداخلي تقديم الخدمات الإدارية التي تحتاج إليها المنشأ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ثل عمليات تقديم المشورة وإعداد الدراسات الاستشارية والدعم للإدارة ولا يجب أن يتحمل فيها المراجع الداخلي مسئولية الإدار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طلب المنشآت للخدمات الاستشارية الإدارية قد تزايد بسبب:</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1</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عقد وتطور العمليات التشغيلية والبيئة المالية و البيئة القانونية. </a:t>
            </a:r>
            <a:r>
              <a:rPr b="0" lang="ar-SA" sz="2400" spc="-1" strike="noStrike">
                <a:solidFill>
                  <a:srgbClr val="000000"/>
                </a:solidFill>
                <a:latin typeface="Trebuchet MS"/>
                <a:ea typeface="Tahoma"/>
              </a:rPr>
              <a:t>4</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زيادة حدة المنافسة بين الشركات وتضخم احجامها.</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6</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زايد الأعباء الإدار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7</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التطور الهائل في أساليب التحليل الكمي.</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قديم المشورة والدعم</a:t>
            </a:r>
            <a:endParaRPr b="0" lang="en-US" sz="4000" spc="-1" strike="noStrike">
              <a:solidFill>
                <a:srgbClr val="5fcbef"/>
              </a:solidFill>
              <a:latin typeface="Trebuchet MS"/>
            </a:endParaRPr>
          </a:p>
        </p:txBody>
      </p:sp>
      <p:sp>
        <p:nvSpPr>
          <p:cNvPr id="262" name=""/>
          <p:cNvSpPr txBox="1"/>
          <p:nvPr/>
        </p:nvSpPr>
        <p:spPr>
          <a:xfrm>
            <a:off x="587520" y="1825560"/>
            <a:ext cx="8596080" cy="388152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صادر تقديم هذه الخدمات قد يكون داخليا،أو خارجيا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فضل الإدارة عادة الحصول على الخدمة من المراجعة الداخلية لسببين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خدمة تتعلق بأمور تشغيلية أو إستراتيجية داخلية لا تحتاج إلى خبرات ومعارف ومهارات غير عادية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تحول اعتبارات التكلفة مقارنة بالعائد المنتظر منها دون طلب الخدمة من المكاتب الخارجي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ن يعتمد على نتيجتها طرف ثالث خارجي يحتاج إلى درجة عالية من الاستقلال فيمن يعد مثل هذه الخدمات.</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1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رقابة التشغيلية وتقويم الأداء هي فحص هادف ومنتظم بغرض تقديم تقويم مستقل لجهة معينة أو برنامج أو نشاط لكي يمكن توفير معلومات تؤدي إلى تحسين المسائلة وتسهيل إتخاذ القرار.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تضمن المراجعة التشغيلية وتقويم الأداء المالي والتشغيلي التأكد من الالتزام بالقوانين والأوامر والأنظمة ، ويمكن اعتبارها تقويما مستقلا لعمليات الجهة الحكومية بهدف جعلها تعمل بشكل أفضل وأسرع وبتكلفة أقل.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1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راجعة التشغيلية تعنى بمراجعة الأنشطة والسياسات والإجراءات والعمليات للتحقق من كفايتها وانتظامها، وذلك بهدف تقويمها وإعداد تقرير عن كفاءة وفعالية التنفيذ وتقديم التوصيات اللازمة للإدارة لتحديد الطرق التي تتمكن بها من العمل بشكل أفضل وبتكلفة أقل.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من الأمثلة على المراجعة التشغيلية وتقويم الأداء قيام المراجع الداخلي بفحص المستودعات للتحقق من سلامة إجراءات الصرف وسلامة إجراءات الحفظ والتخزين.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المراجعة التشغيلية وتقويم الاداء تعتبر من اهم مجالات وظيفة المراجعة الداخلية, فهذا المجال يغطي الخطط التشغيلية الموضوعة في إطار نظم التخطيط والموازنات بالوحدة الحكومية، كما يغطي أيضا المقاييس المالية وغير المالية الناتجة عن عمليات التشغيل المختلف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وتتناول المراجعة التشغيلية وتقويم الأداء مدي القيام بالمهام الأساسية للعمليات التشغيلية المالية والإدارية ، والنتائج المترتبة علي هذه العمليات ، ثم ربط النتائج بأهداف الوحدة للتحقق من كفاءة وفاعلية العمليات.</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مكن هذه المراجعة من الوقوف على أوجه القصور في الإجراءات العملية والتقرير عنها لاتخاذ القرار المناسب بصورة فور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لاحظات التي قد يبديها المراجع الداخلي سوف تتمثل في:</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صور الخطط والسياسات التي تبنتها الإدار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دم مناسبة السياسات والخطط التي تبنتها الإدار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صور طرق تنفيذ السياسات والخطط التي تبنتها الإدارة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نحرافات سالبة في تقويم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توصيات المراجع الداخلي في هذا المجال فقد تشمل واحدا مما يلي:</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تخاذ إجراءات تصحيحية فورية لتعديل مسار التشغيل حتى لا ينحرف عن الأهداف المرسوم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قتراح إدخال تعديلات على الخطط والأهداف حتى تكون أكثر واقعية بصورة تتفق مع الموارد المالية والبشرية والمادية المتاح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قتراح إجراءات تنفيذية أكثر فعال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 </a:t>
            </a:r>
            <a:r>
              <a:rPr b="1" lang="ar-SA" sz="2200" spc="-1" strike="noStrike">
                <a:solidFill>
                  <a:srgbClr val="000000"/>
                </a:solidFill>
                <a:latin typeface="Trebuchet MS"/>
                <a:cs typeface="Tahoma"/>
              </a:rPr>
              <a:t>هناك عدة جوانب تركز المراجعة التشغيلية وتقويم الأداء على فحصها هي:</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1</a:t>
            </a:r>
            <a:r>
              <a:rPr b="1" lang="ar-SA" sz="2200" spc="-1" strike="noStrike">
                <a:solidFill>
                  <a:srgbClr val="000000"/>
                </a:solidFill>
                <a:latin typeface="Trebuchet MS"/>
                <a:ea typeface="Tahoma"/>
              </a:rPr>
              <a:t> - الإقتصاد: </a:t>
            </a:r>
            <a:endParaRPr b="0" lang="en-US" sz="22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يعني ذلك فحص العمليات للتأكد من حصول الجهة على الموارد التي تحتاجها بأقل تكلفة ممكنة مع عدم إهمال مستوى الجودة المطلوب فيها بالكمية الملائمة وفي المكان المناسب وفي الوقت المناسب.</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2</a:t>
            </a:r>
            <a:r>
              <a:rPr b="1" lang="ar-SA" sz="2200" spc="-1" strike="noStrike">
                <a:solidFill>
                  <a:srgbClr val="000000"/>
                </a:solidFill>
                <a:latin typeface="Trebuchet MS"/>
                <a:ea typeface="Tahoma"/>
              </a:rPr>
              <a:t> - الكفاءة: </a:t>
            </a:r>
            <a:endParaRPr b="0" lang="en-US" sz="22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تعنى القيام بالفحص للتأكد من تحقيق الاستفادة القصوى من الموارد المتاحة للجهة الحكومية والحصول على أكبر منفعة ممكنة منها. </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3</a:t>
            </a:r>
            <a:r>
              <a:rPr b="1" lang="ar-SA" sz="2200" spc="-1" strike="noStrike">
                <a:solidFill>
                  <a:srgbClr val="000000"/>
                </a:solidFill>
                <a:latin typeface="Trebuchet MS"/>
                <a:ea typeface="Tahoma"/>
              </a:rPr>
              <a:t> -  الفعالية: </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عنى الفعالية مدى تحقيق الجهة الحكومية للأهداف المحددة لها ويركز الفحص بهدف التحقق من الفعالية على فحص أثر السياسات والإجراءات المطبقة بالجهة على تحقيق أهدافها. </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4</a:t>
            </a:r>
            <a:r>
              <a:rPr b="1" lang="ar-SA" sz="2200" spc="-1" strike="noStrike">
                <a:solidFill>
                  <a:srgbClr val="000000"/>
                </a:solidFill>
                <a:latin typeface="Trebuchet MS"/>
                <a:ea typeface="Tahoma"/>
              </a:rPr>
              <a:t> - المحافظة على البيئة وتنميتها: </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عند تطبيق معايير الكفاءة والفعالية والإقتصاد لا يجب اهمال عنصر هام جدا وهو مدى تأثير النشاط محل الفحص على البيئة والمجتمع نظرا لما لتنمية البيئة والمحافظة عليها من تأثير هام لا يجب إغفاله. وإذا كان النشاط لا بد أن يصاحبه تأثير سلبي على البيئة فيجب البحث في ما اتخذته الجهة من إجراءات للتقليل من الأثار السلبية.</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3:18:34Z</dcterms:created>
  <dc:creator>hana</dc:creator>
  <dc:description/>
  <dc:language>en-US</dc:language>
  <cp:lastModifiedBy>hnae</cp:lastModifiedBy>
  <dcterms:modified xsi:type="dcterms:W3CDTF">2014-02-03T17:36:01Z</dcterms:modified>
  <cp:revision>24</cp:revision>
  <dc:subject/>
  <dc:title>تابع تنفيذ مهام المراجعة الداخلية</dc:title>
</cp:coreProperties>
</file>