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AE6-821E-49E4-BBD5-ABE0DBF9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86D-4B47-490A-AA83-25BDD801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E40-F0D7-4A90-9588-445F7B33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6CC-BAB3-40E0-95B1-8465D945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BC58-1986-4F5F-9374-58FCDEC0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B3C6-9C36-495D-BDDA-B9AC8A6B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CFD4-2642-4EF1-A740-D439E7AC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A99B-6C22-4CBC-B393-6823F09A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CD72-B7DB-4084-AF6D-102CC67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4996-3C8D-46A6-A62D-3808B1EC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952F-68D7-4807-9C49-AB48B18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25F-F7C1-43F3-8D2D-F96FD074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BACF-100D-4F09-A677-36FFA042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424B-8D1F-4BA2-86EF-C3D2CE49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6D41-336E-488F-BD4D-4D1A667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8DB4-B248-4B86-9419-FA392F27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BE5C-DB09-4930-A074-D172C983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94E5-CF34-403C-B293-56AE4106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9C88-192C-4867-B687-50C759E8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B51F-4C19-449F-8026-407ADEE6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1E8A-0DD1-44EC-B029-C7B17963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CD59-A0AC-433F-90F9-4C5FAE0B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50D-90AE-4411-B40A-2174BB39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2325-1192-4644-8E8E-18D3B945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FAB6-DB30-4EB8-BED0-7F4D88AC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34B2-777C-4B8E-B272-380BE6E7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9F3A-23C6-49D2-899C-994F6E87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94F6-4792-447B-8554-B40D955B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62D2-555E-46AB-A6D8-D025EDFB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44FE-D3D6-4D6C-AB2C-33D98045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B03-3957-4405-BFFE-71F4C34A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206-0C78-4156-94D4-6662A0A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F06-7417-4ED5-A8DA-8BE852F9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7B1-43FA-45EA-AE88-CD7906F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852-5CE5-4CAB-B11F-9E787BCE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559-B749-465F-B22B-C75479C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A6C6-0D01-41C6-8561-BDDA1A37DAA3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07A8-28E2-4B3E-9890-2370A2C49DB1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DA5D-6D3C-4D72-813E-A6B9E70B1B0F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7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8" name="Picture 4" descr="007-work_so-tired"/>
          <p:cNvPicPr/>
          <p:nvPr/>
        </p:nvPicPr>
        <p:blipFill>
          <a:blip r:embed="rId1"/>
          <a:stretch/>
        </p:blipFill>
        <p:spPr>
          <a:xfrm>
            <a:off x="1042920" y="1773360"/>
            <a:ext cx="612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وقائية : وتتمثل في / الأمن الوظيفي ، ظروف العمل ، سياسات الشركة ، الأجور ، نوعية الإشراف طبيعة العلاقات ، مكانة العمل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دافعة : وتتمثل في/ الإنجاز ، الاعتراف، طابع التحدي في العمل، المسؤولية ، النمو ، التقدم والتعلم ، عمل ذو معنى تا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f5897"/>
                </a:solidFill>
                <a:latin typeface="Palatino Linotype"/>
              </a:rPr>
              <a:t>رابعاً: نظرية دافع الإنجاز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إنجا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قوة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انتماء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1" name="Picture 4" descr="motivation_research"/>
          <p:cNvPicPr/>
          <p:nvPr/>
        </p:nvPicPr>
        <p:blipFill>
          <a:blip r:embed="rId1"/>
          <a:stretch/>
        </p:blipFill>
        <p:spPr>
          <a:xfrm>
            <a:off x="0" y="1557360"/>
            <a:ext cx="313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5-11-25T18:07:26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