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5D155-B3B6-4A35-ACDD-6B0C638E4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2452B-5F14-4B7E-9981-4425B2BE6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5791C5-CDC3-4BCC-A4C3-A8DC830375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BDAB35-384C-4A0E-859D-4A3A1E59BE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036161-FF59-493B-8288-5ADF233E16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2C6BD4-8FB1-4B81-876D-CB2E0FDAE3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AC38D6-BE36-4088-91D0-D635A6C33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BACC85-241C-4481-A902-251C4C90B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B0A9BF-4C09-442A-9FC8-EFD0D99A20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5E9B75-8D12-4730-BF42-A68B429154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27302B-5AB6-4E1E-887F-CD39E91779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09D6F5-7E5A-4389-9059-71FE62ABAA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A5719-43EC-4463-892B-844EE89C5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448F02-7616-457A-AF10-0E903F7A58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D7BE7A-B669-43A8-8B62-CB1CE277A0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099269-B82B-43E6-A1F1-8667DBB589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AE1920-51E3-436E-B861-7C1CBD77BF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E2FE6D-FCBF-4DA0-9D76-D4592D271F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F027A7-80BD-482D-96F7-23D64BB474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4E2262-DE0F-4BE8-A364-938AD7E8DD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D79448-BB55-4F1B-A745-F992E47E63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A4A533-2D34-45A2-985E-06B317C0F4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6A6995-C112-4028-9B15-4BD550B8F90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1B52F-CA2D-4AC1-AD73-9629C81A9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4FFD3F-4841-4656-AC65-194E3BE4BA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580374-2AD2-4045-9B07-DE19370D7C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6131B6-600D-4CEE-8FD8-9CF86AF159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6D40F7-35FE-49C7-9863-ABE14DE358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55EC63-9A3C-4097-AFB9-2A63F45878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E14FCF-3DB4-453B-B059-D000C6D50A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300303-2DCC-41EC-A9CB-FF73C6CC8A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696588-8E09-462B-B354-3577FD20C0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B9F3D3-0854-48ED-9EE8-7978B9256D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650366-1A25-470E-AE9D-B149DED477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88E34-1CC6-426E-A252-CBE95D31F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266485-B2FE-4722-AB22-C61770977C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5BBF2F-1F10-4BE3-8AB1-FB8BA228AC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A617BD-97D6-4789-A61E-088FAD782D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49D617-F936-48D4-819C-78A4B6E0D3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600B38-C1C1-4089-B250-EA8A1247DD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0CA6C0-0C88-41EA-BA59-DD96D4FA07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9F6478-5731-41BA-8B03-98F9849F09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85F774-F0CF-4254-BBC6-2724A73C10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F1AE38-CA16-49AB-9644-EF6590B875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E8F434-C086-4200-AEB0-F0FA147338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D2C36-1477-4612-B6F3-DF04AC108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299B38-BE85-43BD-AF5C-8895DBFF13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F219C7-BBDE-40B8-9458-B3DD997BB3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3EAA12-7C3F-4BC1-8384-1A13036605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A5E8A06-62B0-4710-AFFB-4CA724796C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135D77B-EC3B-4245-B3F4-1B9C922E10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5BD782A-7E7F-45DD-AFF1-A8ABF05A032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BD8C26-7FCE-4B2F-86F3-AD7CD7FC2A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4BBC67-10E1-4948-9938-8650D11ABF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78E012-6D05-4483-9A98-4A93972233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F00207-A610-4E9F-A8D2-003061510D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DC87C-B81D-4E71-AB8E-42509A75A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DB65C7-1B05-44D7-A0E0-B8E24B82D3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60617A-FBDC-4C81-A08C-97828992D7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847DF8-7384-4238-B1F2-D4AEB61AC5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90579E-E4F0-44A1-B8E5-A469BE7C82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2AF479-4212-4DB1-8586-C89F0E327B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DFA719D-0C64-4D63-8C6B-EEE7A6526E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1FB3EC8-DF24-43FC-9E88-4C5EEC8CCAA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EE2093A-2D17-4970-BF60-BBF8519E859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0708A9-2520-493E-9BDE-A429C1B239B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5CAD4C-D111-4ADD-BFE2-8423459D40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A654D-B958-418A-8354-F0AEB59EC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0BB4E3-A71C-43F0-A43A-F1464C9AD70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DE3492-771C-4129-8727-3CF8009DFD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BACA9E-D990-4845-9323-28F287C72D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6D604C-3F72-4697-98C4-5D8A3BF68C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96CB3C-F68C-4CD3-AA28-C93F87CFAF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DF8D49-D6B1-4BA0-8075-943FC6FE5B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661603-10E2-4397-A1E2-6BAA539631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0D92A8B-B780-4D71-BFD1-E6198D5E64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B8BAC2B-3953-4F38-AC8A-7C0D1E9E5F7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2002824-6458-406B-BCE3-3B750EC2679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63E4A-E486-42B6-86B4-645BA38E5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8ED690B-680A-4F3F-AF0D-5E76824727F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B03D94C-AD17-496C-907E-85DEBB126BB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E4867F2-5DC0-449B-AA8A-CAC5C1C077C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948666-7EE5-452F-BB21-6EEB01FC93E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BD0B990-0418-4409-BB26-FE93C0A4471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F8A837-13A7-4882-B5B9-46EC5C359A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3F5298-2FE3-4E8F-BB8A-5110587860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F5CC83-D9D3-4FC3-B0D8-8C142A9D3C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9EE1A2-C1C3-43E8-9A6F-60C8C93A073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69E8401-A7CA-4848-AE99-E7B30397FE8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E1E54-70EF-44F5-A392-2460EE610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0DECCB0-A732-45E4-A71B-3C83F6446FA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B02A803-F2D6-4EA6-98DC-65932179AC0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A749BDD-81AF-4D1D-8535-6E585A048F3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34639D-2555-4386-A718-270EC0FB203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4C6517-2C8F-40E4-9F62-9DFB2BDE55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4ECABD3-B45B-406F-9D7F-62F373C576B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E93E4E-DD07-436D-B0D1-FE6EDA06E5F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A1B0D0-8A39-4828-8EAB-81ED013F72B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3AE2E2-4BE1-42AD-AF37-8797B66F03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DECD3D-83F3-4F24-AA0E-1173442B06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642E2-FF0B-4F41-BDB4-3BA27CA47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3915CD8-3F22-4B34-A1F7-0CEFBB7603A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4B55241-DB3E-4853-BC94-EF71D5FDF32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B420B13-A373-4C4D-B050-90993F200AB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4A64568-F798-4C70-8F9F-968B7CBBC16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36680B1-B911-4BC4-9456-6E888FB2679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D4ADA39-968B-41F5-809A-77906F665F9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B52F3C2-0272-4F92-8887-49921F0FAD6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4A3BCC9-B87A-481C-8205-DE68A0DAC40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BFF4953-42BA-4ED4-BFC2-2F392CD43B7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0796680-31B6-44CC-AE86-B06C033E3DD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69957-23E8-4CC8-8AE0-92CCDEE99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38CA7-CDE0-4B1F-A770-5405D1EDF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42B4BF-4177-4265-B72E-EB61D7222A5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BBED5E-AC3B-4E78-8E23-624E35D932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3BB84B7-037C-401C-ABE7-EF9DCF8B068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708497D-EDFE-49EC-A100-8BF58BBC9DC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1137155-5011-4447-83B4-BEBCDFD0185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C3741-38E6-409B-90E6-BECDE9B03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3E16C-599E-4199-9129-26D07C749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B1E61-F636-45F7-9C2D-DCCF4ED3A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44C0F-B52D-41C1-90AE-5A5D054A6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A74410-F838-425E-B58D-822C8E8F75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98B3DF-B66B-40BD-BCEF-D79A720E7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DA99D8-6F36-4616-9BB5-A44DF848FE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BFA32-A10E-40A8-92A3-24C6F7C32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9D970-DF53-41BD-822B-D4A03D988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6CDA5-0C45-439F-A0F9-DCA63D3BA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18BF6-15A7-4746-9438-AED2521C7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2BB11-6602-45F5-B2F9-27B6B68C3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D8445-765C-4024-B8D2-A3BA3BF9B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76A99-CFEF-483C-9656-CFF8BE0D3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774B26-91B9-48E7-8D4B-AB60980C89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BD0408-F873-4CDC-A275-39EBF1D7AA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EE5005-0D97-4BC9-A96E-D7C5B2F7FB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0B44D1-6F6C-4C03-BDBA-283E5BE5FF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7352AE-1B2F-4A0F-9CB4-93142BBAE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9613C8-7D76-44E2-8A86-C120A54E8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7F7DB-0412-43F3-9C80-88C35411D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263670-F993-4953-A5EC-3C320B6CE1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2991C1-47E7-442A-BE5D-D011D9E9CE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9D1B3-E5A7-48F0-8B0A-1A0FB9D09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9BB61-BDE1-4DD5-988C-3A589A680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89152-5411-4170-9892-234264924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25293-A09C-430F-82D4-3DCA68118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2D91FB-205E-4B61-8CCB-903CF3B1E2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00A61C-D8D5-44B0-BDC3-4511EDF936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73D392-9C25-47C0-9F1C-705CAB8A77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0B1C28-E35F-4467-8CBE-1EEAEB7C15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EAD61-0910-4716-990D-C20F8E471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46D03-0C59-4928-990D-236F913DFA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04D50F-E0C4-4DD4-9497-3CB1F9BAAE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40F999-34A6-45B0-8361-40DB154D06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8F4FE5-51F8-4937-9732-CB12EB7427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9AF4BF-9383-4A9D-87F1-E807B35C4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D433DE-3DFC-40C3-9CBE-D567E589B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EA5DB-5220-438C-A465-464EBDFBD3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02E6F-D32F-4E67-9F62-47CA0A157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5D4A48-82FC-4A2B-ACDD-5B6F7FA088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07D741-CB35-43BA-A20E-0C870F1BC2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6A9B1-0359-4518-AF3C-310F11770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C5B088-99DC-447C-9D63-1A4D06F66B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CBC618-302F-43FC-8CC9-8F31FB1FB8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D39F33-CBF1-4CCD-890F-439633E565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96D256-3246-421E-AD67-E5B895037B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D6F058-CE27-41FA-B20C-8394868A6E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AFD2C0-0D4A-4525-A29D-F8B845EF77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77197E-5FD9-4A82-AC06-D485475681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5F88C-964C-432D-9D27-37E763E7B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41CD6-D4B0-4EFC-B995-547022EB6D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E8AD0-88B3-4939-885C-F41105DA4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836B6-EF18-454B-8745-091B494E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5AEA75-AFCC-47B7-A908-B096847D43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74F70E-6B82-41AC-950E-DD93A4C69C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7BDD72-F458-4978-8B93-34588CEB85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43A532-25A9-4B78-9AA9-3B0B934A85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B039AE-14E9-4CDD-A6B9-23D63705E0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D6D817-2790-4B7C-A17E-28A61EB226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AA3032-30EB-4E23-93C7-94EFB1845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A0A0A9-C953-475A-AA05-5F3F954A1A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CB3FF2-8AE2-475D-A8A4-A443AA669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6FB6A-2776-42CC-9912-F78EB0B9E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D001F-7E2B-48E5-A6D7-1631E327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A87E7-037A-44EB-B6D8-56FA1F7679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856385-6E3E-442F-B627-8F56A3E447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8FB1F9-AFAB-4A04-A8C1-8E5F385B05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86D9A5-4105-4A01-B07A-EBA1D34FF8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0A0C36-A147-4018-97AF-9895090E32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B43A05-8BFB-4B8C-BB65-912D2F022F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F132F8-5F73-4302-8D92-AD505ED054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33B13B-9AB9-4720-AB9C-20D20E1B7E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71DB72-E2D9-486B-AD05-E943E1C4A3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82648E-1CDC-4FEF-8D60-16FB076644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4F2B1-E1BB-4CD7-ACDB-35B4BD250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3677FB-008D-4867-A7BE-E2E4B73BA6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DCB8C1-7D00-46C7-ADA4-F48D7606E4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68FD3-3A7B-4274-AB08-34C059F0EA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745D4B-96EC-476E-8618-4388154521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760FAF-5FF5-48EE-86C9-BC4792A6D4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2EF94B-6137-491C-B804-4DCF87B94A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8F2CE8-E88D-4CC9-B415-CCA0D4E9BA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97A960-0E02-4228-AB87-093BDCEAC2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8ECE28-CA4D-4825-89B6-1083214471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BE6AE0-72CA-4FF2-A837-A0ACA19AC3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2A44-54C3-46FC-9606-6026EF4869B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45D0-1041-429B-A694-0A8ACA31086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614A-5D7C-4077-997C-8BE1F331C2C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78712"/>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78712"/>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A50B-053B-4103-9058-E3F5FC3C563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9007-1D26-4470-8863-F30CF43B583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78712"/>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78712"/>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2E7A-57F0-4641-89B8-AC39D47E7A8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9F5E-D2AD-4D7D-922F-7BC60298762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23A6-62AA-4501-B932-991842AF15B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6A7A-2B08-4970-856F-9113F713BB5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35"/>
          <p:cNvSpPr/>
          <p:nvPr/>
        </p:nvSpPr>
        <p:spPr>
          <a:xfrm>
            <a:off x="0" y="4324320"/>
            <a:ext cx="1744560" cy="77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FD20-E147-4426-A19F-0935DAF36D1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41E8-05FA-440C-89BA-787B6926CF0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CEDE-393B-4A81-8032-3845C699290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4814-C11A-4E66-B76C-23761452924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35"/>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1917-FDC4-4C95-9075-40A8AC50A05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789F-052F-45FA-9290-E52B86D9806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0732-968D-4DEB-9B6B-44449EECA02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B1DC-702E-4E1D-898A-29E8CD76B91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2588760" y="2514600"/>
            <a:ext cx="8915400" cy="22622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262626"/>
                </a:solidFill>
                <a:latin typeface="Century Gothic"/>
                <a:cs typeface="Tahoma"/>
              </a:rPr>
              <a:t>تابع مهام المراجعة الداخلية</a:t>
            </a:r>
            <a:endParaRPr b="0" lang="en-US" sz="5400" spc="-1" strike="noStrike">
              <a:solidFill>
                <a:srgbClr val="262626"/>
              </a:solidFill>
              <a:latin typeface="Century Gothic"/>
            </a:endParaRPr>
          </a:p>
        </p:txBody>
      </p:sp>
      <p:sp>
        <p:nvSpPr>
          <p:cNvPr id="1177" name="PlaceHolder 2"/>
          <p:cNvSpPr>
            <a:spLocks noGrp="1"/>
          </p:cNvSpPr>
          <p:nvPr>
            <p:ph type="subTitle"/>
          </p:nvPr>
        </p:nvSpPr>
        <p:spPr>
          <a:xfrm>
            <a:off x="2588760" y="4776480"/>
            <a:ext cx="8915400" cy="112716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cs typeface="Tahoma"/>
              </a:rPr>
              <a:t>المراجعة المالية</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95"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ea typeface="Tahoma"/>
              </a:rPr>
              <a:t>2</a:t>
            </a:r>
            <a:r>
              <a:rPr b="1" lang="ar-SA" sz="2000" spc="-1" strike="noStrike">
                <a:solidFill>
                  <a:srgbClr val="404040"/>
                </a:solidFill>
                <a:latin typeface="Century Gothic"/>
                <a:ea typeface="Tahoma"/>
              </a:rPr>
              <a:t>- كشف التوازن لجدول الحساب الشهر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هو عبارة عن تقرير مالي يعد بعد إعداد الجدول الشهري بهدف التأكد من صحة توازن الحسابات </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ويعتبر هذا الكشف بمثابة ميزان مراجعة بالأرصدة لجميع الحسابات الممسوكة بالجهة الحكومية حتى نهاية الشهر بالإضافة إلى جملة مصروفات وإيرادات الشهر.</a:t>
            </a:r>
            <a:endParaRPr b="0" lang="en-US" sz="20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ويتكون هذا الكشف من جانبين أحدهما مدين والآخر دائـن</a:t>
            </a:r>
            <a:endParaRPr b="0" lang="en-US" sz="20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نتيجة هذا الكشف إما توازن الجانبين المدين والدائن أو عدم توازنهما. </a:t>
            </a:r>
            <a:endParaRPr b="0" lang="en-US" sz="20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في حال عدم التوازن يجب تحديد الفرق وأسباب عدم التوازن بمذكرة ترفق بهذا الكشف.</a:t>
            </a:r>
            <a:endParaRPr b="0" lang="en-US" sz="20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97"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أهمية كشف التوازن</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تلخيص نتائج الجهة من بداية السنة وحتى نهاية الشهر المعد عنه الكشف.</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وسيلة للتحقق من صحة القيد في الدفاتر.</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يعتبر وسيلة لبيان أرصدة حسابات التسوية التي لا تزال مفتوحة حتى نهاية الشهر.</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إجراءات مراجعة كشف التوازن</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التأكد من العمليات الحسابية في الكشف.</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المطابقة بين أرصدة حسابات التسوية الواردة في الجدول الشهري مع الأرصدة الواردة في كشف التوازن.</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99" name=""/>
          <p:cNvSpPr txBox="1"/>
          <p:nvPr/>
        </p:nvSpPr>
        <p:spPr>
          <a:xfrm>
            <a:off x="2588760" y="2133360"/>
            <a:ext cx="8915400" cy="377820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Century Gothic"/>
                <a:ea typeface="Tahoma"/>
              </a:rPr>
              <a:t>3</a:t>
            </a:r>
            <a:r>
              <a:rPr b="1" lang="ar-SA" sz="2400" spc="-1" strike="noStrike">
                <a:solidFill>
                  <a:srgbClr val="404040"/>
                </a:solidFill>
                <a:latin typeface="Century Gothic"/>
                <a:ea typeface="Tahoma"/>
              </a:rPr>
              <a:t>- الحساب الختامي للوزارات والمصالح الحكومية</a:t>
            </a:r>
            <a:endParaRPr b="0" lang="en-US" sz="24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يعتبر الحساب الختامي من أهم التقارير المالية التي يلزم على الجهات الحكومية إعدادها نهاية السنة المالية بهدف التعرف على مركزها المالي في نهاية تلك الفترة. ويشتمل الحساب الختامي على مجموعة من الكشوف والبيانات المالية الخاصة بالمصروفات والإيرادات الفعلية والمقدرة إضافة إلى أرصدة لحسابات الأمانات والعهد والحسابات الجارية وغير ذلك من البيانات المالية التي تمت خلال السنة المالية المنتهية كالمناقلات ومحاضر الجرد والتي من شأنها مساعدة قارئ الحساب الختامي في تقييم مدى كفاءة وفاعلية الجهة الحكومية في استخدام وتحصيل مواردها.</a:t>
            </a:r>
            <a:endParaRPr b="0" lang="en-US" sz="24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201"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ويتم إعداد الحساب الختامي على النحو التالي:</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بعد إقفال حساب الشهر الأخير من السنة المالية في الموعد الذي تحدده وزارة المالية تقوم الوزارات والمصالح الحكومية ( كم ذكرنا سابقًا ) بإعداد التقارير والجداول الخاصة بها وإرسالها لوزارة المالية وديوان المراقبة العام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تقوم بعد ذلك الوزارات والمصالح الحكومية بإعداد حساباتها الختامية مع مذكرة إيضاحية مدعمة بالأرقام الخاصة بهذه الحسابات.</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بعد الانتهاء من إعداد الحساب الختامي للوزارة ( المكون من كشوف الإيرادات والمصروفات وحسابات التسوية) يتم التوقيع على كل الكشوف من رئيس المصلحة أو من ينوب عنه ومن مدير الإدارة الما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تم بعد ذلك  إرسال صورة من كشوف الحساب الختامي إلى وزارة المالية وديوان المراقبة العامة.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اجراءات مراجعة الحساب الختامي</a:t>
            </a:r>
            <a:endParaRPr b="0" lang="en-US" sz="3600" spc="-1" strike="noStrike">
              <a:solidFill>
                <a:srgbClr val="262626"/>
              </a:solidFill>
              <a:latin typeface="Century Gothic"/>
            </a:endParaRPr>
          </a:p>
        </p:txBody>
      </p:sp>
      <p:sp>
        <p:nvSpPr>
          <p:cNvPr id="1203"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Century Gothic"/>
                <a:ea typeface="Tahoma"/>
              </a:rPr>
              <a:t>	</a:t>
            </a:r>
            <a:r>
              <a:rPr b="1" lang="ar-SA" sz="2400" spc="-1" strike="noStrike">
                <a:solidFill>
                  <a:srgbClr val="404040"/>
                </a:solidFill>
                <a:latin typeface="Century Gothic"/>
                <a:cs typeface="Tahoma"/>
              </a:rPr>
              <a:t>الأهداف الرئيسة لمراجعة الحساب الختامي</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التأكد من إعداد الحساب الختامي وفقاً للتعليمات المالية لإعداد الحسابات الختامية والأنظمة والتعليمات المنظمة لها.</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التأكد من تقدير الاعتمادات المالية في ضوء الاحتياجات الفعلية، ومن أن صرف هذه الاعتمادات يتم بكفاءة وفاعلي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التأكد من تقدير وتحصيل الإيرادات الخاصة بالوحدة بكفاءة وفاعلي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2577600" y="623520"/>
            <a:ext cx="891252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اجراءات مراجعة الحساب الختامي</a:t>
            </a:r>
            <a:endParaRPr b="0" lang="en-US" sz="3600" spc="-1" strike="noStrike">
              <a:solidFill>
                <a:srgbClr val="262626"/>
              </a:solidFill>
              <a:latin typeface="Century Gothic"/>
            </a:endParaRPr>
          </a:p>
        </p:txBody>
      </p:sp>
      <p:sp>
        <p:nvSpPr>
          <p:cNvPr id="1205" name=""/>
          <p:cNvSpPr txBox="1"/>
          <p:nvPr/>
        </p:nvSpPr>
        <p:spPr>
          <a:xfrm>
            <a:off x="2588760" y="2133360"/>
            <a:ext cx="8915400" cy="3778200"/>
          </a:xfrm>
          <a:prstGeom prst="rect">
            <a:avLst/>
          </a:prstGeom>
          <a:noFill/>
          <a:ln w="0">
            <a:noFill/>
          </a:ln>
        </p:spPr>
        <p:txBody>
          <a:bodyPr anchor="t">
            <a:normAutofit fontScale="98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إجراءات مراجعة الحساب الختامي:</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أولاً : أوراق الحساب الختامي:</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يجب على المراجع التثبت من إرفاق الكشوف والبيانات المطلوبة ضمن أوراق الحساب الختامي مثل محاضر جرد الصناديق في نهاية السنة المالية ومثل كشوف الايرادات الفعلية والمقدر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ثانيًا: اجراءات المصـروفات:</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ثل مطابقة أرقام المصروفات الظاهرة بكشوف وبيانات الحساب الختامي على ما هو مقيد بجدول الحساب الشهري عن الشهر الأخير من السنة الما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ثالثاً: اجراءات الإيـرادات:</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و منهايتعين على المراجع الاهتمام بمراجعة الإيرادات المقدرة والفعلية خاصة في الجهات الإيرادية مثل مصلحة الجمارك ومصلحة الزكاة والدخل ووزارة البرق والبريد والهاتف.</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اجراءات مراجعة الحساب الختامي</a:t>
            </a:r>
            <a:endParaRPr b="0" lang="en-US" sz="3600" spc="-1" strike="noStrike">
              <a:solidFill>
                <a:srgbClr val="262626"/>
              </a:solidFill>
              <a:latin typeface="Century Gothic"/>
            </a:endParaRPr>
          </a:p>
        </p:txBody>
      </p:sp>
      <p:sp>
        <p:nvSpPr>
          <p:cNvPr id="1207"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رابعاً: اجراءات حسـابات التسـو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1</a:t>
            </a:r>
            <a:r>
              <a:rPr b="0" lang="ar-SA" sz="1800" spc="-1" strike="noStrike">
                <a:solidFill>
                  <a:srgbClr val="404040"/>
                </a:solidFill>
                <a:latin typeface="Century Gothic"/>
                <a:ea typeface="Tahoma"/>
              </a:rPr>
              <a:t>- حســابات العهــد:</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ثل التثبت من تسديد جميع أرصدة حساب العهد تحت التحصيل داخل حسابات السنة المالية وعدم ترحيلها إلى دفاتر السنة المالية التا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حسـابات الأمـانات:</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ثل التأكد من مطابقة الأرصدة الإفرادية لهذه الحسابات مع أرصدتها الإجمالية الواردة بالحساب الختامي وبجدول الحساب الشهري عن الشهر الأخير من السنة الما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خامساً: الحسابات الجار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ثل فحص ومتابعة المبالغ المقيدة بحساب المطلوبات وبحث الأسباب التي حالت دون تسويتها خاصةً المبالغ القديمة منها</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حساب الختامي في المؤسسات العامة</a:t>
            </a:r>
            <a:endParaRPr b="0" lang="en-US" sz="3600" spc="-1" strike="noStrike">
              <a:solidFill>
                <a:srgbClr val="262626"/>
              </a:solidFill>
              <a:latin typeface="Century Gothic"/>
            </a:endParaRPr>
          </a:p>
        </p:txBody>
      </p:sp>
      <p:sp>
        <p:nvSpPr>
          <p:cNvPr id="1209"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الحساب الختامي في المؤسسات العامة.(قراء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جب أن تقوم كل مؤسسة عامة بجرد كل موجوداتها نهاية كل عام.</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جب تقييم كل الموجودات التي تؤول إلى المؤسسة من الغير على شكل هبات أو تبرعات عينية وإثباتها ضمن أصول المؤسس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تم في نهاية السنة المالية إعداد قائمة المركز المالي لتظهر كافة أصولها وخصومها بالإضافة إلى الحسابات الخاصة بالإيرادات والمصروفات وجاري وزارة الما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جب أن يقوم مراجع الحسابات الخارجي بمراجعة الحساب الختامي والبيانات المرفقة به وقائمة المركز المالي بالإضافة إلى قوائم الجرد التي يجب أن تعد من قبل المؤسس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جب أن يشهد مراجع الحسابات الخارجي بصحة الحسابات ومطابقتها بما هو مسجل دفتريًا وذلك بعد التأكد من وجود نظام دفتري ومستندي سليم يخدم أغراض المؤسسة بالإضافة إلى نظام سليم للرقابة الداخ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حساب الختامي في المؤسسات العامة</a:t>
            </a:r>
            <a:endParaRPr b="0" lang="en-US" sz="3600" spc="-1" strike="noStrike">
              <a:solidFill>
                <a:srgbClr val="262626"/>
              </a:solidFill>
              <a:latin typeface="Century Gothic"/>
            </a:endParaRPr>
          </a:p>
        </p:txBody>
      </p:sp>
      <p:sp>
        <p:nvSpPr>
          <p:cNvPr id="1211" name=""/>
          <p:cNvSpPr txBox="1"/>
          <p:nvPr/>
        </p:nvSpPr>
        <p:spPr>
          <a:xfrm>
            <a:off x="2588760" y="2133360"/>
            <a:ext cx="8915400" cy="3778200"/>
          </a:xfrm>
          <a:prstGeom prst="rect">
            <a:avLst/>
          </a:prstGeom>
          <a:noFill/>
          <a:ln w="0">
            <a:noFill/>
          </a:ln>
        </p:spPr>
        <p:txBody>
          <a:bodyPr anchor="t">
            <a:normAutofit fontScale="97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إجراءات مراجعة الحساب الختامي في المؤسسات العامة</a:t>
            </a:r>
            <a:r>
              <a:rPr b="0" lang="ar-SA" sz="1800" spc="-1" strike="noStrike">
                <a:solidFill>
                  <a:srgbClr val="404040"/>
                </a:solidFill>
                <a:latin typeface="Century Gothic"/>
                <a:ea typeface="Tahoma"/>
              </a:rPr>
              <a:t>.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لا تختلف إجراءات مراجعة الحساب الختامي في المؤسسات العامة عنها في المنشآت الاقتصادية الهادفة للربح لذلك سوف نعرض فيما يلي إجراءات المراجعة التي تتبع عند مراجعة الحساب الختامي في المؤسسات العامة سواء قام بها المراجع الخارجي أو المراجع الداخلي.</a:t>
            </a:r>
            <a:endParaRPr b="0" lang="en-US" sz="18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u="sng">
                <a:solidFill>
                  <a:srgbClr val="404040"/>
                </a:solidFill>
                <a:uFillTx/>
                <a:latin typeface="Century Gothic"/>
                <a:cs typeface="Tahoma"/>
              </a:rPr>
              <a:t>النقد والنقد المماثل:</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الاعتبارات</a:t>
            </a:r>
            <a:r>
              <a:rPr b="0" lang="ar-SA" sz="1800" spc="-1" strike="noStrike">
                <a:solidFill>
                  <a:srgbClr val="404040"/>
                </a:solidFill>
                <a:latin typeface="Century Gothic"/>
                <a:ea typeface="Tahoma"/>
              </a:rPr>
              <a:t> الخاصة بمراجعة أرصدة النقد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طبيعة الأرصدة النقدية                                       نموذج خطاب مصادقة النقدية النمطى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الارصدة الوهمية                                              كشف حساب البنك للحد الفاصل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جدول التحويلات بين البنوك                                الأرصدة المعوضة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ذكرة تسوية البنك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حساب الختامي في المؤسسات العامة</a:t>
            </a:r>
            <a:endParaRPr b="0" lang="en-US" sz="3600" spc="-1" strike="noStrike">
              <a:solidFill>
                <a:srgbClr val="262626"/>
              </a:solidFill>
              <a:latin typeface="Century Gothic"/>
            </a:endParaRPr>
          </a:p>
        </p:txBody>
      </p:sp>
      <p:sp>
        <p:nvSpPr>
          <p:cNvPr id="1213"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ولمراجعة بند النقد والنقد المماثل يتم فحص الاتي:</a:t>
            </a:r>
            <a:endParaRPr b="0" lang="en-US" sz="24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الأرصدة النقدية</a:t>
            </a:r>
            <a:endParaRPr b="0" lang="en-US" sz="24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حسابات بنوك التحصيل</a:t>
            </a:r>
            <a:endParaRPr b="0" lang="en-US" sz="24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حسابات البنوك الجارية</a:t>
            </a:r>
            <a:endParaRPr b="0" lang="en-US" sz="24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حسابات القروض</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المراجعة الداخلية</a:t>
            </a:r>
            <a:endParaRPr b="0" lang="en-US" sz="3600" spc="-1" strike="noStrike">
              <a:solidFill>
                <a:srgbClr val="262626"/>
              </a:solidFill>
              <a:latin typeface="Century Gothic"/>
            </a:endParaRPr>
          </a:p>
        </p:txBody>
      </p:sp>
      <p:sp>
        <p:nvSpPr>
          <p:cNvPr id="1179" name=""/>
          <p:cNvSpPr txBox="1"/>
          <p:nvPr/>
        </p:nvSpPr>
        <p:spPr>
          <a:xfrm>
            <a:off x="2588760" y="2133360"/>
            <a:ext cx="8915400" cy="377820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محاضرة اليوم عن المراجعةالمالية وسنتعرض للمواضيع التالية:</a:t>
            </a:r>
            <a:endParaRPr b="0" lang="en-US" sz="20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إقفال الحسابـات</a:t>
            </a:r>
            <a:endParaRPr b="0" lang="en-US" sz="20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مخرجات النظام المحاسبي الحكومي </a:t>
            </a:r>
            <a:endParaRPr b="0" lang="en-US" sz="2000" spc="-1" strike="noStrike">
              <a:solidFill>
                <a:srgbClr val="404040"/>
              </a:solidFill>
              <a:latin typeface="Century Gothic"/>
            </a:endParaRPr>
          </a:p>
          <a:p>
            <a:pPr lvl="1" marL="743040" indent="-285840" algn="just" rtl="1">
              <a:lnSpc>
                <a:spcPct val="90000"/>
              </a:lnSpc>
              <a:spcBef>
                <a:spcPts val="1001"/>
              </a:spcBef>
              <a:buClr>
                <a:srgbClr val="e78712"/>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Century Gothic"/>
                <a:cs typeface="Tahoma"/>
              </a:rPr>
              <a:t>مراجعة الجدول الشهري </a:t>
            </a:r>
            <a:endParaRPr b="0" lang="en-US" sz="2000" spc="-1" strike="noStrike">
              <a:solidFill>
                <a:srgbClr val="404040"/>
              </a:solidFill>
              <a:latin typeface="Century Gothic"/>
            </a:endParaRPr>
          </a:p>
          <a:p>
            <a:pPr lvl="1" marL="743040" indent="-285840" algn="just" rtl="1">
              <a:lnSpc>
                <a:spcPct val="90000"/>
              </a:lnSpc>
              <a:spcBef>
                <a:spcPts val="1001"/>
              </a:spcBef>
              <a:buClr>
                <a:srgbClr val="e78712"/>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Century Gothic"/>
                <a:cs typeface="Tahoma"/>
              </a:rPr>
              <a:t>كشف التوازن </a:t>
            </a:r>
            <a:endParaRPr b="0" lang="en-US" sz="2000" spc="-1" strike="noStrike">
              <a:solidFill>
                <a:srgbClr val="404040"/>
              </a:solidFill>
              <a:latin typeface="Century Gothic"/>
            </a:endParaRPr>
          </a:p>
          <a:p>
            <a:pPr lvl="1" marL="743040" indent="-285840" algn="just" rtl="1">
              <a:lnSpc>
                <a:spcPct val="90000"/>
              </a:lnSpc>
              <a:spcBef>
                <a:spcPts val="1001"/>
              </a:spcBef>
              <a:buClr>
                <a:srgbClr val="e78712"/>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Century Gothic"/>
                <a:cs typeface="Tahoma"/>
              </a:rPr>
              <a:t>الحساب الختامي للجهة الحكومية </a:t>
            </a:r>
            <a:endParaRPr b="0" lang="en-US" sz="20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اجراءات مراجعة الحساب الختامي  </a:t>
            </a:r>
            <a:endParaRPr b="0" lang="en-US" sz="2000" spc="-1" strike="noStrike">
              <a:solidFill>
                <a:srgbClr val="404040"/>
              </a:solidFill>
              <a:latin typeface="Century Gothic"/>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اجراءات مراجعة الحساب الختامي في المؤسسات العامة </a:t>
            </a:r>
            <a:endParaRPr b="0" lang="en-US" sz="20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مراجعة أرصدة الحسابات في نهاية السنة والعمليات المالية</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graphicFrame>
        <p:nvGraphicFramePr>
          <p:cNvPr id="1215" name=""/>
          <p:cNvGraphicFramePr/>
          <p:nvPr/>
        </p:nvGraphicFramePr>
        <p:xfrm>
          <a:off x="0" y="0"/>
          <a:ext cx="12099960" cy="6846840"/>
        </p:xfrm>
        <a:graphic>
          <a:graphicData uri="http://schemas.openxmlformats.org/drawingml/2006/table">
            <a:tbl>
              <a:tblPr/>
              <a:tblGrid>
                <a:gridCol w="9537480"/>
                <a:gridCol w="105120"/>
                <a:gridCol w="2457360"/>
              </a:tblGrid>
              <a:tr h="635040">
                <a:tc gridSpan="2">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إجراءات التي يجب تطبيقها(ملخص برنامج مراجعة النقد والنقد المماثل)(قراءة)</a:t>
                      </a:r>
                      <a:endParaRPr b="0" lang="en-US" sz="1400" spc="-1" strike="noStrike">
                        <a:solidFill>
                          <a:srgbClr val="000000"/>
                        </a:solidFill>
                        <a:latin typeface="Century Gothic"/>
                      </a:endParaRPr>
                    </a:p>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أهداف</a:t>
                      </a:r>
                      <a:endParaRPr b="0" lang="en-US" sz="14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r h="1490760">
                <a:tc>
                  <a:txBody>
                    <a:bodyPr lIns="34560" rIns="34560" tIns="0" bIns="0" anchor="t">
                      <a:noAutofit/>
                    </a:bodyPr>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الحصول على مصادقات من البنوك التي تتعامل معها الهيئة للتحقق من الوجود الفعلى للمبالغ المودعة لديها والتحقق مما إذا كان هناك حقوق للبنك أو للغير عليها.</a:t>
                      </a:r>
                      <a:endParaRPr b="0" lang="en-US" sz="1200" spc="-1" strike="noStrike">
                        <a:solidFill>
                          <a:srgbClr val="000000"/>
                        </a:solidFill>
                        <a:latin typeface="Century Gothic"/>
                      </a:endParaRPr>
                    </a:p>
                    <a:p>
                      <a:pPr algn="r" rtl="1">
                        <a:lnSpc>
                          <a:spcPts val="1899"/>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جرد المبالغ النقدية الموجودة لدى المنشأة فى نهاية العام للتحقق من وجودها.</a:t>
                      </a:r>
                      <a:endParaRPr b="0" lang="en-US" sz="1200" spc="-1" strike="noStrike">
                        <a:solidFill>
                          <a:srgbClr val="000000"/>
                        </a:solidFill>
                        <a:latin typeface="Century Gothic"/>
                      </a:endParaRPr>
                    </a:p>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إعداد جدول التحويلات بين البنوك للاسبوع الاخير من السنة موضع المراجعة والاسبوع الاول من السنة التالية للكشف عن الارصدة النقدية الوهمية الناتجة عن الاختلاسات.</a:t>
                      </a:r>
                      <a:endParaRPr b="0" lang="en-US" sz="12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ctr">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تحقق من الوجود</a:t>
                      </a:r>
                      <a:endParaRPr b="0" lang="en-US" sz="1400" spc="-1" strike="noStrike">
                        <a:solidFill>
                          <a:srgbClr val="000000"/>
                        </a:solidFill>
                        <a:latin typeface="Century Gothic"/>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r h="1076040">
                <a:tc>
                  <a:txBody>
                    <a:bodyPr lIns="34560" rIns="34560" tIns="0" bIns="0" anchor="t">
                      <a:noAutofit/>
                    </a:bodyPr>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فحص الحد الفاصل للمقبوضات والمدفوعات عند نهاية العام للتحقق من ان العمليات الخاصة بالنقدية تم قيدها فى الفترة الصحيحة.</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فحص دفاتر الشيكات وكشوفات حسابات البنوك للتحقق من ان الارصدة حسب السجلات تمثل حقوقا للعميل.</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فحص إتفاقيات القروض للتحقق مما إذا كان هناك إلتزام للاحتفاظ بأرصدة معوضة.</a:t>
                      </a:r>
                      <a:endParaRPr b="0" lang="en-US" sz="12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ctr">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تحقق من ملكية المنشأة للأرصدة النقدية وحقها في التصرف فيها</a:t>
                      </a:r>
                      <a:endParaRPr b="0" lang="en-US" sz="1400" spc="-1" strike="noStrike">
                        <a:solidFill>
                          <a:srgbClr val="000000"/>
                        </a:solidFill>
                        <a:latin typeface="Century Gothic"/>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r h="1111320">
                <a:tc>
                  <a:txBody>
                    <a:bodyPr lIns="34560" rIns="34560" tIns="0" bIns="0" anchor="t">
                      <a:noAutofit/>
                    </a:bodyPr>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مراجعة حسابات البنوك بدفاتر الهيئة للتحقق من ان بنود التسويات فى مذكرات تسويات البنوك فى نهاية العام قد أخذت في الاعتبار بشكل صحيح.</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اختبار تحويلات العملات الأجنبية للتأكد من تطبيق أسعار الصرف الصحيحة في تاريخ الميزانية.</a:t>
                      </a:r>
                      <a:endParaRPr b="0" lang="en-US" sz="1200" spc="-1" strike="noStrike">
                        <a:solidFill>
                          <a:srgbClr val="000000"/>
                        </a:solidFill>
                        <a:latin typeface="Century Gothic"/>
                      </a:endParaRPr>
                    </a:p>
                    <a:p>
                      <a:pPr algn="r" rtl="1">
                        <a:lnSpc>
                          <a:spcPts val="1899"/>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جمع ملخصات جداول النقدية ومطابقة مجاميعها مع الاستاذ العام ومع المبلغ الذى سيظهر فى القوائم المالية.</a:t>
                      </a:r>
                      <a:endParaRPr b="0" lang="en-US" sz="12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ctr">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تحقق من صحة التقويم للأرصدة النقدية</a:t>
                      </a:r>
                      <a:endParaRPr b="0" lang="en-US" sz="1400" spc="-1" strike="noStrike">
                        <a:solidFill>
                          <a:srgbClr val="000000"/>
                        </a:solidFill>
                        <a:latin typeface="Century Gothic"/>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r h="1436760">
                <a:tc>
                  <a:txBody>
                    <a:bodyPr lIns="34560" rIns="34560" tIns="0" bIns="0" anchor="t">
                      <a:noAutofit/>
                    </a:bodyPr>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القيام باختبارات المراجعة التحليلية لتقييم معقولية ارصدة النقدية. ويمكن ان تتضمن الاختبارات هنا المقارنة بأرصدة العام السابق ونسبة النقدية إلى مجموع الأصول المتداولة وكذلك إلى مجموع الأصول.</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فحص مذكرات تسوية ارصدة البنوك فى نهاية العام للتحقق من صحة رصيد النقدية بالبنوك فى نهاية العام.</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فحص يومية المقبوضات ويومية المدفوعات وقسائم التحصيل وقسائم السداد للتأكد من احتواء أرصدة النقدية على كل العمليات التي تؤثر عليها.</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rowSpan="2">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ctr">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تحقق من الاكتمال</a:t>
                      </a:r>
                      <a:endParaRPr b="0" lang="en-US" sz="1400" spc="-1" strike="noStrike">
                        <a:solidFill>
                          <a:srgbClr val="000000"/>
                        </a:solidFill>
                        <a:latin typeface="Century Gothic"/>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r h="1096920">
                <a:tc>
                  <a:txBody>
                    <a:bodyPr lIns="34560" rIns="34560" tIns="0" bIns="0" anchor="t">
                      <a:noAutofit/>
                    </a:bodyPr>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cs typeface="Arial"/>
                        </a:rPr>
                        <a:t>تقويم الإفصاح عن أرصدة النقدية للتأكد من اتفاقه مع متطلبات المبادئ المحاسبة المتعارف عليها.</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cs typeface="Arial"/>
                        </a:rPr>
                        <a:t>الاستفسار من الادارة والحصول على إقرار منها حول متطلبات الأرصدة المعوضة والقيود على النقدية للتأكد من الإفصاح عنها إن وجدت.</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34560" rIns="34560" tIns="0" bIns="0" anchor="ctr">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alibri"/>
                          <a:cs typeface="Arial"/>
                        </a:rPr>
                        <a:t>التحقق من صحة العرض والإفصاح عن الأرصدة النقدية</a:t>
                      </a:r>
                      <a:endParaRPr b="0" lang="en-US" sz="1400" spc="-1" strike="noStrike">
                        <a:solidFill>
                          <a:srgbClr val="000000"/>
                        </a:solidFill>
                        <a:latin typeface="Century Gothic"/>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bl>
          </a:graphicData>
        </a:graphic>
      </p:graphicFrame>
      <p:sp>
        <p:nvSpPr>
          <p:cNvPr id="1216" name="Rectangle 3"/>
          <p:cNvSpPr/>
          <p:nvPr/>
        </p:nvSpPr>
        <p:spPr>
          <a:xfrm>
            <a:off x="5578560" y="466560"/>
            <a:ext cx="121917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entury Gothic"/>
            </a:endParaRPr>
          </a:p>
        </p:txBody>
      </p:sp>
      <p:sp>
        <p:nvSpPr>
          <p:cNvPr id="1217" name="Rectangle 5"/>
          <p:cNvSpPr/>
          <p:nvPr/>
        </p:nvSpPr>
        <p:spPr>
          <a:xfrm>
            <a:off x="11584080" y="381960"/>
            <a:ext cx="180720" cy="1084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حساب الختامي في المؤسسات العامة</a:t>
            </a:r>
            <a:endParaRPr b="0" lang="en-US" sz="3600" spc="-1" strike="noStrike">
              <a:solidFill>
                <a:srgbClr val="262626"/>
              </a:solidFill>
              <a:latin typeface="Century Gothic"/>
            </a:endParaRPr>
          </a:p>
        </p:txBody>
      </p:sp>
      <p:sp>
        <p:nvSpPr>
          <p:cNvPr id="1219" name=""/>
          <p:cNvSpPr txBox="1"/>
          <p:nvPr/>
        </p:nvSpPr>
        <p:spPr>
          <a:xfrm>
            <a:off x="2588760" y="2133360"/>
            <a:ext cx="8915400" cy="3778200"/>
          </a:xfrm>
          <a:prstGeom prst="rect">
            <a:avLst/>
          </a:prstGeom>
          <a:noFill/>
          <a:ln w="0">
            <a:noFill/>
          </a:ln>
        </p:spPr>
        <p:txBody>
          <a:bodyPr anchor="t">
            <a:normAutofit/>
          </a:bodyPr>
          <a:p>
            <a:pPr marL="343080" indent="-343080"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404040"/>
                </a:solidFill>
                <a:uFillTx/>
                <a:latin typeface="Century Gothic"/>
                <a:cs typeface="Tahoma"/>
              </a:rPr>
              <a:t>المدينون والأرصدة المدينة الأخرى:</a:t>
            </a:r>
            <a:endParaRPr b="0" lang="en-US" sz="2400" spc="-1" strike="noStrike">
              <a:solidFill>
                <a:srgbClr val="404040"/>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يعتبر هذا البند(الذمم) من العناصر الهامة في القوائم المالية لشركة الكهرباء وينقسم هذا البند إلى الآتي :</a:t>
            </a:r>
            <a:endParaRPr b="0" lang="en-US" sz="2400" spc="-1" strike="noStrike">
              <a:solidFill>
                <a:srgbClr val="404040"/>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 ذمم مستهلكي التيار.</a:t>
            </a:r>
            <a:endParaRPr b="0" lang="en-US" sz="2400" spc="-1" strike="noStrike">
              <a:solidFill>
                <a:srgbClr val="404040"/>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 دفعات مقدمة وأرصدة مدينة أخرى.</a:t>
            </a:r>
            <a:endParaRPr b="0" lang="en-US" sz="2400" spc="-1" strike="noStrike">
              <a:solidFill>
                <a:srgbClr val="404040"/>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graphicFrame>
        <p:nvGraphicFramePr>
          <p:cNvPr id="1221" name=""/>
          <p:cNvGraphicFramePr/>
          <p:nvPr/>
        </p:nvGraphicFramePr>
        <p:xfrm>
          <a:off x="0" y="38160"/>
          <a:ext cx="12192120" cy="6826320"/>
        </p:xfrm>
        <a:graphic>
          <a:graphicData uri="http://schemas.openxmlformats.org/drawingml/2006/table">
            <a:tbl>
              <a:tblPr/>
              <a:tblGrid>
                <a:gridCol w="9719280"/>
                <a:gridCol w="120240"/>
                <a:gridCol w="2352600"/>
              </a:tblGrid>
              <a:tr h="253800">
                <a:tc gridSpan="2">
                  <a:txBody>
                    <a:bodyPr lIns="42120" rIns="42120" tIns="0" bIns="0" anchor="ctr">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إجراءات التي يجب تطبيقها(ملخص برنامج مراجعة المدينين)(قراءاة)</a:t>
                      </a:r>
                      <a:endParaRPr b="0" lang="en-US" sz="1400" spc="-1" strike="noStrike">
                        <a:solidFill>
                          <a:srgbClr val="000000"/>
                        </a:solidFill>
                        <a:latin typeface="Century Gothic"/>
                      </a:endParaRPr>
                    </a:p>
                  </a:txBody>
                  <a:tcPr anchor="ctr" marL="42120" marR="4212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42120" rIns="42120" tIns="0" bIns="0" anchor="ctr">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400" spc="-1" strike="noStrike">
                          <a:solidFill>
                            <a:srgbClr val="ffffff"/>
                          </a:solidFill>
                          <a:latin typeface="Century Gothic"/>
                          <a:cs typeface="Tahoma"/>
                        </a:rPr>
                        <a:t>الأهداف</a:t>
                      </a:r>
                      <a:endParaRPr b="0" lang="en-US" sz="1400" spc="-1" strike="noStrike">
                        <a:solidFill>
                          <a:srgbClr val="000000"/>
                        </a:solidFill>
                        <a:latin typeface="Century Gothic"/>
                      </a:endParaRPr>
                    </a:p>
                  </a:txBody>
                  <a:tcPr anchor="ctr" marL="42120" marR="4212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r>
              <a:tr h="2033640">
                <a:tc>
                  <a:txBody>
                    <a:bodyPr lIns="42120" rIns="42120" tIns="0" bIns="0" anchor="t">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طلب قائمة بحركة المدينين خلال السنة المالية يوضح بها رصيد المدينين أول الفترة والتغيرات التي حدثت عليهما خلال الفترة ، ويوضح الخصم إن وجد وكذلك فوائد التأخير.</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الحصول على إقرارات من المدينين تفيد صحة المبالغ المستحقة عليهم مع مراعاة الأصول المهنية لإرسال واستلام المصادقات.</a:t>
                      </a:r>
                      <a:endParaRPr b="0" lang="en-US" sz="1400" spc="-1" strike="noStrike">
                        <a:solidFill>
                          <a:srgbClr val="000000"/>
                        </a:solidFill>
                        <a:latin typeface="Century Gothic"/>
                      </a:endParaRPr>
                    </a:p>
                    <a:p>
                      <a:pPr algn="r" rtl="1">
                        <a:lnSpc>
                          <a:spcPts val="1998"/>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تقصي كل الاستثناءات التى تثير الاهتمام والتركيز على الحسابات القديمة والحسابات التى تم اعدامها. </a:t>
                      </a:r>
                      <a:endParaRPr b="0" lang="en-US" sz="1400" spc="-1" strike="noStrike">
                        <a:solidFill>
                          <a:srgbClr val="000000"/>
                        </a:solidFill>
                        <a:latin typeface="Century Gothic"/>
                      </a:endParaRPr>
                    </a:p>
                    <a:p>
                      <a:pPr algn="r" rtl="1">
                        <a:lnSpc>
                          <a:spcPts val="1998"/>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بالنسبة لكل الحسابات يجب تتبع ترحيل المتحصلات النقدية خاصة التي تتم في نهاية السنة المالية ; فمثلا عندما يتضح من خطاب المصادقة ان الحساب تم دفعه فى </a:t>
                      </a:r>
                      <a:r>
                        <a:rPr b="0" lang="ar-SA" sz="1400" spc="-1" strike="noStrike">
                          <a:solidFill>
                            <a:srgbClr val="ffffff"/>
                          </a:solidFill>
                          <a:latin typeface="Century Gothic"/>
                          <a:ea typeface="Tahoma"/>
                        </a:rPr>
                        <a:t>29/12</a:t>
                      </a:r>
                      <a:r>
                        <a:rPr b="0" lang="ar-SA" sz="1400" spc="-1" strike="noStrike">
                          <a:solidFill>
                            <a:srgbClr val="ffffff"/>
                          </a:solidFill>
                          <a:latin typeface="Century Gothic"/>
                          <a:ea typeface="Tahoma"/>
                        </a:rPr>
                        <a:t> يجب فحص تاريخ ترحيل القيد الى دفتر الاستاذ.</a:t>
                      </a:r>
                      <a:endParaRPr b="0" lang="en-US" sz="1400" spc="-1" strike="noStrike">
                        <a:solidFill>
                          <a:srgbClr val="000000"/>
                        </a:solidFill>
                        <a:latin typeface="Century Gothic"/>
                      </a:endParaRPr>
                    </a:p>
                  </a:txBody>
                  <a:tcPr anchor="t" marL="42120" marR="4212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c>
                  <a:txBody>
                    <a:bodyPr lIns="42120" rIns="42120" tIns="0" bIns="0" anchor="t">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42120" marR="42120">
                    <a:lnL w="5760">
                      <a:solidFill>
                        <a:srgbClr val="ffffff"/>
                      </a:solidFill>
                    </a:lnL>
                    <a:lnR w="5760">
                      <a:solidFill>
                        <a:srgbClr val="ffffff"/>
                      </a:solidFill>
                    </a:lnR>
                    <a:lnT w="18720">
                      <a:solidFill>
                        <a:srgbClr val="ffffff"/>
                      </a:solidFill>
                    </a:lnT>
                    <a:lnB w="5760">
                      <a:solidFill>
                        <a:srgbClr val="ffffff"/>
                      </a:solidFill>
                    </a:lnB>
                    <a:solidFill>
                      <a:srgbClr val="f6d9cc"/>
                    </a:solidFill>
                  </a:tcPr>
                </a:tc>
                <a:tc>
                  <a:txBody>
                    <a:bodyPr lIns="42120" rIns="42120" tIns="0" bIns="0" anchor="ctr">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تحقق من الوجود</a:t>
                      </a:r>
                      <a:r>
                        <a:rPr b="1" lang="ar-EG" sz="1400" spc="-1" strike="noStrike">
                          <a:solidFill>
                            <a:srgbClr val="ffffff"/>
                          </a:solidFill>
                          <a:latin typeface="Century Gothic"/>
                          <a:ea typeface="Tahoma"/>
                        </a:rPr>
                        <a:t> </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ea typeface="Tahoma"/>
                        </a:rPr>
                        <a:t> </a:t>
                      </a:r>
                      <a:endParaRPr b="0" lang="en-US" sz="1400" spc="-1" strike="noStrike">
                        <a:solidFill>
                          <a:srgbClr val="000000"/>
                        </a:solidFill>
                        <a:latin typeface="Century Gothic"/>
                      </a:endParaRPr>
                    </a:p>
                  </a:txBody>
                  <a:tcPr anchor="ctr" marL="42120" marR="4212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r>
              <a:tr h="1359000">
                <a:tc>
                  <a:txBody>
                    <a:bodyPr lIns="42120" rIns="42120" tIns="0" bIns="0" anchor="t">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entury Gothic"/>
                      </a:endParaRPr>
                    </a:p>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ت</a:t>
                      </a:r>
                      <a:r>
                        <a:rPr b="0" lang="ar-EG" sz="1400" spc="-1" strike="noStrike">
                          <a:solidFill>
                            <a:srgbClr val="ffffff"/>
                          </a:solidFill>
                          <a:latin typeface="Century Gothic"/>
                          <a:cs typeface="Tahoma"/>
                        </a:rPr>
                        <a:t>تبع الفواتير المستحقة التي لم تسدد والتأكد من تسجيلها في حساب المدينين وتتبع عمليات التحصيل من المدينين.</a:t>
                      </a:r>
                      <a:endParaRPr b="0" lang="en-US" sz="1400" spc="-1" strike="noStrike">
                        <a:solidFill>
                          <a:srgbClr val="000000"/>
                        </a:solidFill>
                        <a:latin typeface="Century Gothic"/>
                      </a:endParaRPr>
                    </a:p>
                  </a:txBody>
                  <a:tcPr anchor="t" marL="42120" marR="4212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c>
                  <a:txBody>
                    <a:bodyPr lIns="42120" rIns="42120" tIns="0" bIns="0" anchor="t">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42120" marR="42120">
                    <a:lnL w="5760">
                      <a:solidFill>
                        <a:srgbClr val="ffffff"/>
                      </a:solidFill>
                    </a:lnL>
                    <a:lnR w="5760">
                      <a:solidFill>
                        <a:srgbClr val="ffffff"/>
                      </a:solidFill>
                    </a:lnR>
                    <a:lnT w="5760">
                      <a:solidFill>
                        <a:srgbClr val="ffffff"/>
                      </a:solidFill>
                    </a:lnT>
                    <a:lnB w="18720">
                      <a:solidFill>
                        <a:srgbClr val="ffffff"/>
                      </a:solidFill>
                    </a:lnB>
                    <a:solidFill>
                      <a:srgbClr val="f6d9cc"/>
                    </a:solidFill>
                  </a:tcPr>
                </a:tc>
                <a:tc>
                  <a:txBody>
                    <a:bodyPr lIns="42120" rIns="42120" tIns="0" bIns="0" anchor="ctr">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تحقق من أن أرصدة ا</a:t>
                      </a:r>
                      <a:r>
                        <a:rPr b="1" lang="ar-EG" sz="1400" spc="-1" strike="noStrike">
                          <a:solidFill>
                            <a:srgbClr val="ffffff"/>
                          </a:solidFill>
                          <a:latin typeface="Century Gothic"/>
                          <a:cs typeface="Tahoma"/>
                        </a:rPr>
                        <a:t>لمدينين تخص الهيئة</a:t>
                      </a:r>
                      <a:endParaRPr b="0" lang="en-US" sz="1400" spc="-1" strike="noStrike">
                        <a:solidFill>
                          <a:srgbClr val="000000"/>
                        </a:solidFill>
                        <a:latin typeface="Century Gothic"/>
                      </a:endParaRPr>
                    </a:p>
                  </a:txBody>
                  <a:tcPr anchor="ctr" marL="42120" marR="4212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r>
              <a:tr h="3179880">
                <a:tc>
                  <a:txBody>
                    <a:bodyPr lIns="42120" rIns="42120" tIns="0" bIns="0" anchor="t">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دراسة آجال حسابات المدينين ومعدل دورانها حيث أن التلاعب فى حسابات المدينين يزيد من آجالها ويقلل من معدل دورانها.</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فحص مواعيد استحقاق وتحديد الأرصدة التي استحقت ولم تحصل حتى تاريخ انتهاء السنة المالية مع الأخذ في الاعتبار مبلغ الدين ومدة التأخير وأثر ذلك على سياسة منح الائتمان لنفس العملاء المتأخرين في السداد مع الأخذ في الاعتبار أوراق القبض التي جددت أكثر من مرة. </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فحص الوضع الائتماني للعملاء المتأخرين في السداد خاصة ذوى الأرصدة الكبيرة.</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مناقشة المختصين في الهيئة خاصة مدير الائتمان في حسابات المدينين وأوراق القبض المشكوك في تحصيلها.</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أخذ آراء وكلاء التحصيل (إذا كان ذلك ممكنا) في الوضع المالي للعملاء المتعسرين.</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استخدام النسب المالية لدراسة العلاقة بين مخصص الديون المشكوك في تحصيلها وبعض العناصر مثل حجم رصيد المدينين وأوراق القبض والإيرادات المستحقة.</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تحديد مخصص الديون المشكوك في تحصيلها من وجهة نظر المراجع ومقارنته بقيمة المخصص الذي أعدته الهيئة وإتخاذ الاجراءات اللازمة لتسوية الفروق.</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ea typeface="Tahoma"/>
                        </a:rPr>
                        <a:t> </a:t>
                      </a:r>
                      <a:endParaRPr b="0" lang="en-US" sz="1400" spc="-1" strike="noStrike">
                        <a:solidFill>
                          <a:srgbClr val="000000"/>
                        </a:solidFill>
                        <a:latin typeface="Century Gothic"/>
                      </a:endParaRPr>
                    </a:p>
                  </a:txBody>
                  <a:tcPr anchor="t" marL="42120" marR="4212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c>
                  <a:txBody>
                    <a:bodyPr lIns="42120" rIns="42120" tIns="0" bIns="0" anchor="t">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42120" marR="4212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c>
                  <a:txBody>
                    <a:bodyPr lIns="42120" rIns="42120" tIns="0" bIns="0" anchor="ctr">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تحقق من صحة تقويم</a:t>
                      </a:r>
                      <a:r>
                        <a:rPr b="1" lang="ar-EG" sz="1400" spc="-1" strike="noStrike">
                          <a:solidFill>
                            <a:srgbClr val="ffffff"/>
                          </a:solidFill>
                          <a:latin typeface="Century Gothic"/>
                          <a:ea typeface="Tahoma"/>
                        </a:rPr>
                        <a:t> المدينين </a:t>
                      </a:r>
                      <a:endParaRPr b="0" lang="en-US" sz="1400" spc="-1" strike="noStrike">
                        <a:solidFill>
                          <a:srgbClr val="000000"/>
                        </a:solidFill>
                        <a:latin typeface="Century Gothic"/>
                      </a:endParaRPr>
                    </a:p>
                  </a:txBody>
                  <a:tcPr anchor="ctr" marL="42120" marR="4212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2" name=""/>
          <p:cNvGraphicFramePr/>
          <p:nvPr/>
        </p:nvGraphicFramePr>
        <p:xfrm>
          <a:off x="0" y="666720"/>
          <a:ext cx="12192120" cy="5657760"/>
        </p:xfrm>
        <a:graphic>
          <a:graphicData uri="http://schemas.openxmlformats.org/drawingml/2006/table">
            <a:tbl>
              <a:tblPr/>
              <a:tblGrid>
                <a:gridCol w="9612360"/>
                <a:gridCol w="148320"/>
                <a:gridCol w="2431440"/>
              </a:tblGrid>
              <a:tr h="3871800">
                <a:tc>
                  <a:txBody>
                    <a:bodyPr lIns="56160" rIns="56160" tIns="0" bIns="0" anchor="t">
                      <a:noAutofit/>
                    </a:bodyPr>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ea typeface="Tahoma"/>
                        </a:rPr>
                        <a:t>(قراءاة)</a:t>
                      </a: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فحص إيصالات التحصيل أو صور قسائم الإيداع بالبنوك أو اشعارات التحصيل من البنوك (إذا كان التحصيل عن طريق البنوك) ومقارنة الاسماء والتواريخ والمبالغ مع ما هو مسجل بالدفاتر. </a:t>
                      </a: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التحقق من صحة القيود الدائنة التى لم يصاحبها تحصيل نقدية فى حساب المدينين.</a:t>
                      </a: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جمع يومية المقبوضات النقدية وحسابات المدينين فى دفتر الاستاذ المساعد وحساب مراقبة المدينين (لإن وجدت حسابات المراقبة).</a:t>
                      </a: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تسوية حسابات المدينين الفردية مع حساب مراقبة المدينين.</a:t>
                      </a: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 </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مقارنة نسخ من كشوف الحسابات الشهرية مع حسابات المدينين.</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ea typeface="Tahoma"/>
                        </a:rPr>
                        <a:t> </a:t>
                      </a:r>
                      <a:endParaRPr b="0" lang="en-US" sz="1400" spc="-1" strike="noStrike">
                        <a:solidFill>
                          <a:srgbClr val="000000"/>
                        </a:solidFill>
                        <a:latin typeface="Century Gothic"/>
                      </a:endParaRPr>
                    </a:p>
                    <a:p>
                      <a:pPr algn="r" rtl="1">
                        <a:lnSpc>
                          <a:spcPts val="1998"/>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ea typeface="Tahoma"/>
                        </a:rPr>
                        <a:t> </a:t>
                      </a:r>
                      <a:endParaRPr b="0" lang="en-US" sz="1400" spc="-1" strike="noStrike">
                        <a:solidFill>
                          <a:srgbClr val="000000"/>
                        </a:solidFill>
                        <a:latin typeface="Century Gothic"/>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c>
                  <a:txBody>
                    <a:bodyPr lIns="56160" rIns="56160" tIns="0" bIns="0" anchor="t">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ea typeface="Tahoma"/>
                        </a:rPr>
                        <a:t> </a:t>
                      </a:r>
                      <a:endParaRPr b="0" lang="en-US" sz="1400" spc="-1" strike="noStrike">
                        <a:solidFill>
                          <a:srgbClr val="000000"/>
                        </a:solidFill>
                        <a:latin typeface="Century Gothic"/>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c>
                  <a:txBody>
                    <a:bodyPr lIns="56160" rIns="56160" tIns="0" bIns="0" anchor="ctr">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تحقق من اكتمال</a:t>
                      </a:r>
                      <a:r>
                        <a:rPr b="1" lang="ar-EG" sz="1400" spc="-1" strike="noStrike">
                          <a:solidFill>
                            <a:srgbClr val="ffffff"/>
                          </a:solidFill>
                          <a:latin typeface="Century Gothic"/>
                          <a:ea typeface="Tahoma"/>
                        </a:rPr>
                        <a:t> العمليات المتعلقة بالمدينين </a:t>
                      </a:r>
                      <a:endParaRPr b="0" lang="en-US" sz="1400" spc="-1" strike="noStrike">
                        <a:solidFill>
                          <a:srgbClr val="000000"/>
                        </a:solidFill>
                        <a:latin typeface="Century Gothic"/>
                      </a:endParaRPr>
                    </a:p>
                  </a:txBody>
                  <a:tcPr anchor="ctr" marL="56160" marR="5616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r>
              <a:tr h="1785960">
                <a:tc>
                  <a:txBody>
                    <a:bodyPr lIns="56160" rIns="56160" tIns="0" bIns="0" anchor="t">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تقييم الإفصاح عن المدينين وفقا لمعايير المحاسبة المتعارف عليها.</a:t>
                      </a:r>
                      <a:endParaRPr b="0" lang="en-US" sz="1400" spc="-1" strike="noStrike">
                        <a:solidFill>
                          <a:srgbClr val="000000"/>
                        </a:solidFill>
                        <a:latin typeface="Century Gothic"/>
                      </a:endParaRPr>
                    </a:p>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التأكد من الإفصاح عن حقوق الغير على حسابات المدينين إن وجدت.</a:t>
                      </a:r>
                      <a:endParaRPr b="0" lang="en-US" sz="1400" spc="-1" strike="noStrike">
                        <a:solidFill>
                          <a:srgbClr val="000000"/>
                        </a:solidFill>
                        <a:latin typeface="Century Gothic"/>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c>
                  <a:txBody>
                    <a:bodyPr lIns="56160" rIns="56160" tIns="0" bIns="0" anchor="t">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c>
                  <a:txBody>
                    <a:bodyPr lIns="56160" rIns="56160" tIns="0" bIns="0" anchor="ctr">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تحقق من صحة العرض والإفصاح</a:t>
                      </a:r>
                      <a:endParaRPr b="0" lang="en-US" sz="1400" spc="-1" strike="noStrike">
                        <a:solidFill>
                          <a:srgbClr val="000000"/>
                        </a:solidFill>
                        <a:latin typeface="Century Gothic"/>
                      </a:endParaRPr>
                    </a:p>
                  </a:txBody>
                  <a:tcPr anchor="ctr" marL="56160" marR="5616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حساب الختامي في المؤسسات العامة</a:t>
            </a:r>
            <a:endParaRPr b="0" lang="en-US" sz="3600" spc="-1" strike="noStrike">
              <a:solidFill>
                <a:srgbClr val="262626"/>
              </a:solidFill>
              <a:latin typeface="Century Gothic"/>
            </a:endParaRPr>
          </a:p>
        </p:txBody>
      </p:sp>
      <p:sp>
        <p:nvSpPr>
          <p:cNvPr id="1224" name=""/>
          <p:cNvSpPr txBox="1"/>
          <p:nvPr/>
        </p:nvSpPr>
        <p:spPr>
          <a:xfrm>
            <a:off x="2588760" y="2133360"/>
            <a:ext cx="8915400" cy="3778200"/>
          </a:xfrm>
          <a:prstGeom prst="rect">
            <a:avLst/>
          </a:prstGeom>
          <a:noFill/>
          <a:ln w="0">
            <a:noFill/>
          </a:ln>
        </p:spPr>
        <p:txBody>
          <a:bodyPr anchor="t">
            <a:normAutofit/>
          </a:bodyPr>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برنامج مراجعة المخزون</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استثمارات</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مشاريع تحت التنفيذ</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اصول الثابتة</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دائنون </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مصروفات المستحقة</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قروض طويلة الاجل</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مخصصات</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حقوق الملكية</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ايرادات</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مصروفات التشغيلية</a:t>
            </a: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عمليات والأرصدة في الوحدات الحكومية</a:t>
            </a:r>
            <a:endParaRPr b="0" lang="en-US" sz="3600" spc="-1" strike="noStrike">
              <a:solidFill>
                <a:srgbClr val="262626"/>
              </a:solidFill>
              <a:latin typeface="Century Gothic"/>
            </a:endParaRPr>
          </a:p>
        </p:txBody>
      </p:sp>
      <p:sp>
        <p:nvSpPr>
          <p:cNvPr id="1226"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أن الفحص والتحقق سوف يتم من خلال المراحل الأساسية الآتي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1</a:t>
            </a: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فحص نظام الرقابة الداخلية المرتبط بالعمليات الحكومي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2</a:t>
            </a: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التعرف على التعميمات والقرارات المالية المنظمة لعمليات الصرف والتحصيل.</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3</a:t>
            </a: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التعرف على بنود الموازنة فيما يتعلق بالإيرادات أو المصروفات تحت المراجع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4</a:t>
            </a: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تطبيق أساليب المراجعة المشار إليها في هذه الوحدة ، سواء كانت أساليب المراجعة مستندية أو حسابي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المراجعة المالية</a:t>
            </a:r>
            <a:endParaRPr b="0" lang="en-US" sz="3600" spc="-1" strike="noStrike">
              <a:solidFill>
                <a:srgbClr val="262626"/>
              </a:solidFill>
              <a:latin typeface="Century Gothic"/>
            </a:endParaRPr>
          </a:p>
        </p:txBody>
      </p:sp>
      <p:sp>
        <p:nvSpPr>
          <p:cNvPr id="1181" name=""/>
          <p:cNvSpPr txBox="1"/>
          <p:nvPr/>
        </p:nvSpPr>
        <p:spPr>
          <a:xfrm>
            <a:off x="2588760" y="2133360"/>
            <a:ext cx="8915400" cy="3778200"/>
          </a:xfrm>
          <a:prstGeom prst="rect">
            <a:avLst/>
          </a:prstGeom>
          <a:noFill/>
          <a:ln w="0">
            <a:noFill/>
          </a:ln>
        </p:spPr>
        <p:txBody>
          <a:bodyPr anchor="t">
            <a:normAutofit/>
          </a:bodyPr>
          <a:p>
            <a:pPr marL="343080" indent="-343080"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تتمثل المراجعة المالية في النشاط الذي يقوم به المراجع الداخلي في الفحص والمراجعة للجوانب المالية. </a:t>
            </a:r>
            <a:endParaRPr b="0" lang="en-US" sz="1800" spc="-1" strike="noStrike">
              <a:solidFill>
                <a:srgbClr val="404040"/>
              </a:solidFill>
              <a:latin typeface="Century Gothic"/>
            </a:endParaRPr>
          </a:p>
          <a:p>
            <a:pPr marL="343080" indent="-343080"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ويمارس المراجع الداخلي المراجعة المالية بنفس المنظور الذي تتم به هذه المراجعة من جانب المراجع الخارجي. إلا أن مجال عمل المراجع الداخلي فيها أكثر تفصيلا من المراجعة الخارجية.</a:t>
            </a:r>
            <a:endParaRPr b="0" lang="en-US" sz="1800" spc="-1" strike="noStrike">
              <a:solidFill>
                <a:srgbClr val="404040"/>
              </a:solidFill>
              <a:latin typeface="Century Gothic"/>
            </a:endParaRPr>
          </a:p>
          <a:p>
            <a:pPr marL="343080" indent="-343080"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ان تحقيق الضبط الداخلي في الدفاتر والحسابات وجميع الجوانب المالية للجهة سواء حكومية أو خاصة هو مطلب أساسي للإدارة لفرض الرقابة على العاملين ولا يمكنه أن يقوم بهذه الوظيفة بالتفصيل المطلوب وبطريقة وقتية ويقرر عن نتائجها للإدارة مباشرة سوي المراجع الداخلي.</a:t>
            </a:r>
            <a:endParaRPr b="0" lang="en-US" sz="1800" spc="-1" strike="noStrike">
              <a:solidFill>
                <a:srgbClr val="404040"/>
              </a:solidFill>
              <a:latin typeface="Century Gothic"/>
            </a:endParaRPr>
          </a:p>
          <a:p>
            <a:pPr marL="343080" indent="-343080"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262626"/>
                </a:solidFill>
                <a:latin typeface="Century Gothic"/>
                <a:cs typeface="Times New Roman"/>
              </a:rPr>
              <a:t>إقفال الحسابـات</a:t>
            </a:r>
            <a:endParaRPr b="0" lang="en-US" sz="4000" spc="-1" strike="noStrike">
              <a:solidFill>
                <a:srgbClr val="262626"/>
              </a:solidFill>
              <a:latin typeface="Century Gothic"/>
            </a:endParaRPr>
          </a:p>
        </p:txBody>
      </p:sp>
      <p:sp>
        <p:nvSpPr>
          <p:cNvPr id="1183"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يجب أن تقوم كل وحده حكومية بإقفال حساباتها في نهاية السنة المالية وإعداد حسابها الختام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   يتم إقفال الحسابات كما يلي: </a:t>
            </a:r>
            <a:endParaRPr b="0" lang="en-US" sz="2000" spc="-1" strike="noStrike">
              <a:solidFill>
                <a:srgbClr val="404040"/>
              </a:solidFill>
              <a:latin typeface="Century Gothic"/>
            </a:endParaRPr>
          </a:p>
          <a:p>
            <a:pPr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الاقفال اليومي </a:t>
            </a:r>
            <a:r>
              <a:rPr b="1" lang="ar-SA" sz="2000" spc="-1" strike="noStrike">
                <a:solidFill>
                  <a:srgbClr val="404040"/>
                </a:solidFill>
                <a:latin typeface="Century Gothic"/>
                <a:cs typeface="Tahoma"/>
              </a:rPr>
              <a:t>مثلا</a:t>
            </a:r>
            <a:r>
              <a:rPr b="0" lang="ar-SA" sz="2000" spc="-1" strike="noStrike">
                <a:solidFill>
                  <a:srgbClr val="404040"/>
                </a:solidFill>
                <a:latin typeface="Century Gothic"/>
                <a:ea typeface="Tahoma"/>
              </a:rPr>
              <a:t> في آخر كل يوم يتم </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جمع حسابات دفتر اليومية ومطابقة جملة جانبه الأيمن مع الأيسر</a:t>
            </a:r>
            <a:endParaRPr b="0" lang="en-US" sz="2000" spc="-1" strike="noStrike">
              <a:solidFill>
                <a:srgbClr val="404040"/>
              </a:solidFill>
              <a:latin typeface="Century Gothic"/>
            </a:endParaRPr>
          </a:p>
          <a:p>
            <a:pPr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الاقفال الشهري </a:t>
            </a:r>
            <a:r>
              <a:rPr b="1" lang="ar-SA" sz="2000" spc="-1" strike="noStrike">
                <a:solidFill>
                  <a:srgbClr val="404040"/>
                </a:solidFill>
                <a:latin typeface="Century Gothic"/>
                <a:cs typeface="Tahoma"/>
              </a:rPr>
              <a:t>مثلا </a:t>
            </a:r>
            <a:r>
              <a:rPr b="0" lang="ar-SA" sz="2000" spc="-1" strike="noStrike">
                <a:solidFill>
                  <a:srgbClr val="404040"/>
                </a:solidFill>
                <a:latin typeface="Century Gothic"/>
                <a:cs typeface="Tahoma"/>
              </a:rPr>
              <a:t>في نهاية كل شهر يتم مطابقة مجموع الشهر لكل حساب من المصروفات مع المجموع الوارد بدفتر اليومية</a:t>
            </a:r>
            <a:r>
              <a:rPr b="1"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الاقفال السنوي </a:t>
            </a:r>
            <a:r>
              <a:rPr b="1" lang="ar-SA" sz="2000" spc="-1" strike="noStrike">
                <a:solidFill>
                  <a:srgbClr val="404040"/>
                </a:solidFill>
                <a:latin typeface="Century Gothic"/>
                <a:cs typeface="Tahoma"/>
              </a:rPr>
              <a:t>مثلا </a:t>
            </a:r>
            <a:r>
              <a:rPr b="0" lang="ar-SA" sz="2000" spc="-1" strike="noStrike">
                <a:solidFill>
                  <a:srgbClr val="404040"/>
                </a:solidFill>
                <a:latin typeface="Century Gothic"/>
                <a:cs typeface="Tahoma"/>
              </a:rPr>
              <a:t>في نهاية الشهر الأخير من السنة يتم إقفال حسابات الشهر الأخير من السنة المالية بنفس الطريقة المتبعة لإقفال باقي الأشهر.</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85"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مخرجات النظام المحاسبي الحكومي : </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أن أهم مخرجات النظام المحاسبي الحكومي والتي تركز عليه المراجعة الداخلية فيما يتعلق بالمراجعة المالية ما يل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1</a:t>
            </a: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1" lang="ar-SA" sz="2000" spc="-1" strike="noStrike">
                <a:solidFill>
                  <a:srgbClr val="404040"/>
                </a:solidFill>
                <a:latin typeface="Century Gothic"/>
                <a:cs typeface="Tahoma"/>
              </a:rPr>
              <a:t>التقارير المالية الشهرية</a:t>
            </a:r>
            <a:r>
              <a:rPr b="0" lang="ar-SA" sz="2000" spc="-1" strike="noStrike">
                <a:solidFill>
                  <a:srgbClr val="404040"/>
                </a:solidFill>
                <a:latin typeface="Century Gothic"/>
                <a:ea typeface="Tahoma"/>
              </a:rPr>
              <a:t>. </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أ‌.</a:t>
            </a:r>
            <a:r>
              <a:rPr b="1"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جدول الحساب الشهر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ب‌.</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كشف التوازن لجدول الحساب الشهر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2</a:t>
            </a:r>
            <a:r>
              <a:rPr b="1" lang="ar-SA" sz="2000" spc="-1" strike="noStrike">
                <a:solidFill>
                  <a:srgbClr val="404040"/>
                </a:solidFill>
                <a:latin typeface="Century Gothic"/>
                <a:ea typeface="Tahoma"/>
              </a:rPr>
              <a:t>)</a:t>
            </a:r>
            <a:r>
              <a:rPr b="1" lang="ar-SA" sz="2000" spc="-1" strike="noStrike">
                <a:solidFill>
                  <a:srgbClr val="404040"/>
                </a:solidFill>
                <a:latin typeface="Century Gothic"/>
                <a:ea typeface="Tahoma"/>
              </a:rPr>
              <a:t>	</a:t>
            </a:r>
            <a:r>
              <a:rPr b="1" lang="ar-SA" sz="2000" spc="-1" strike="noStrike">
                <a:solidFill>
                  <a:srgbClr val="404040"/>
                </a:solidFill>
                <a:latin typeface="Century Gothic"/>
                <a:cs typeface="Tahoma"/>
              </a:rPr>
              <a:t>الحسابات الختامية</a:t>
            </a:r>
            <a:r>
              <a:rPr b="0" lang="ar-SA" sz="2000" spc="-1" strike="noStrike">
                <a:solidFill>
                  <a:srgbClr val="404040"/>
                </a:solidFill>
                <a:latin typeface="Century Gothic"/>
                <a:ea typeface="Tahoma"/>
              </a:rPr>
              <a:t>. </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ea typeface="Tahoma"/>
              </a:rPr>
              <a:t>3</a:t>
            </a:r>
            <a:r>
              <a:rPr b="1" lang="ar-SA" sz="2000" spc="-1" strike="noStrike">
                <a:solidFill>
                  <a:srgbClr val="404040"/>
                </a:solidFill>
                <a:latin typeface="Century Gothic"/>
                <a:ea typeface="Tahoma"/>
              </a:rPr>
              <a:t>)</a:t>
            </a:r>
            <a:r>
              <a:rPr b="1" lang="ar-SA" sz="2000" spc="-1" strike="noStrike">
                <a:solidFill>
                  <a:srgbClr val="404040"/>
                </a:solidFill>
                <a:latin typeface="Century Gothic"/>
                <a:ea typeface="Tahoma"/>
              </a:rPr>
              <a:t>	</a:t>
            </a:r>
            <a:r>
              <a:rPr b="1" lang="ar-SA" sz="2000" spc="-1" strike="noStrike">
                <a:solidFill>
                  <a:srgbClr val="404040"/>
                </a:solidFill>
                <a:latin typeface="Century Gothic"/>
                <a:cs typeface="Tahoma"/>
              </a:rPr>
              <a:t>أرصدة الحسابات في نهاية السنة</a:t>
            </a:r>
            <a:r>
              <a:rPr b="0" lang="ar-SA" sz="2000" spc="-1" strike="noStrike">
                <a:solidFill>
                  <a:srgbClr val="404040"/>
                </a:solidFill>
                <a:latin typeface="Century Gothic"/>
                <a:ea typeface="Tahoma"/>
              </a:rPr>
              <a:t>. </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87"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ea typeface="Tahoma"/>
              </a:rPr>
              <a:t>1</a:t>
            </a:r>
            <a:r>
              <a:rPr b="1" lang="ar-SA" sz="1800" spc="-1" strike="noStrike">
                <a:solidFill>
                  <a:srgbClr val="404040"/>
                </a:solidFill>
                <a:latin typeface="Century Gothic"/>
                <a:ea typeface="Tahoma"/>
              </a:rPr>
              <a:t>- مراجعة جدول الحساب الشهري</a:t>
            </a:r>
            <a:r>
              <a:rPr b="0" lang="ar-SA" sz="1800" spc="-1" strike="noStrike">
                <a:solidFill>
                  <a:srgbClr val="404040"/>
                </a:solidFill>
                <a:latin typeface="Century Gothic"/>
                <a:ea typeface="Tahoma"/>
              </a:rPr>
              <a:t>:</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فهوم الجدول الشهري: الجدول الشهري هو تقرير مالي ملخص لإيرادات ومصروفات وحسابات التسوية للجهة الحكومية خلال شهر.</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أهمية الجدول الشهري: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a:t>
            </a:r>
            <a:r>
              <a:rPr b="0"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يعطي مؤشر على تطابق وصحة البيانات الشهر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a:t>
            </a:r>
            <a:r>
              <a:rPr b="0"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يوفر مجموعة من البيانات الخاصة بإيرادات ومصروفات الجهة خلال شهر.</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a:t>
            </a:r>
            <a:r>
              <a:rPr b="0"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يعتبر أداة للمقارنة بين إيرادات الشهر المعد عنه الجدول والأشهر السابق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a:t>
            </a:r>
            <a:r>
              <a:rPr b="0"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يعتبر أداة للمقارنة بين مصروفات الشهر المعد عنه الجدول والأشهر السابق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a:t>
            </a:r>
            <a:r>
              <a:rPr b="0"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يعتبر مصدر مهم للتأكد من تحقيق أهداف الخط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89"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خطوات إعداد الجدول الشهري:</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1</a:t>
            </a:r>
            <a:r>
              <a:rPr b="0" lang="ar-SA" sz="1800" spc="-1" strike="noStrike">
                <a:solidFill>
                  <a:srgbClr val="404040"/>
                </a:solidFill>
                <a:latin typeface="Century Gothic"/>
                <a:ea typeface="Tahoma"/>
              </a:rPr>
              <a:t>.في نهاية كل شهر وبعد إقفال حسابات الشهر في الوزارات والمصالح الحكومية تقوم كل وحدة أو وزارة بإعداد جدول الحسابات الشهري.</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2</a:t>
            </a:r>
            <a:r>
              <a:rPr b="0" lang="ar-SA" sz="1800" spc="-1" strike="noStrike">
                <a:solidFill>
                  <a:srgbClr val="404040"/>
                </a:solidFill>
                <a:latin typeface="Century Gothic"/>
                <a:ea typeface="Tahoma"/>
              </a:rPr>
              <a:t>.يتم نقل كل مجاميع حسابات الإيرادات والمصروفات وإجمالي أرصدة الحسابات الأخرى المدينة والدائنة إلى جدول الحسابات الشهري بحيث تتم مطابقة الأرقام المثبتة في هذا الدفتر مع ما هو وارد بدفاتر الحسابات.</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3</a:t>
            </a:r>
            <a:r>
              <a:rPr b="0" lang="ar-SA" sz="1800" spc="-1" strike="noStrike">
                <a:solidFill>
                  <a:srgbClr val="404040"/>
                </a:solidFill>
                <a:latin typeface="Century Gothic"/>
                <a:ea typeface="Tahoma"/>
              </a:rPr>
              <a:t>.بعد إقفال حساب الشهر الأخير من السنة المالية في الموعد الذي تحدده وزارة المالية سنويًا ( يجب ألا يتعدى نهاية الشهر الثاني من السنة المالية التالية). يتم إعداد الجداول الخاصة بالحساب الشهري الأخير لكل الجهات الحكومية وإرسالها للجهات المختص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91"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هيكل الجدول الشهر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يتكون جدول الحساب الشهري من إحدى عشر صفحة بالإضافة إلى الغلاف الخارجي. وتوزع هذه الصفحات على الأربعة كشوف التالية:</a:t>
            </a:r>
            <a:endParaRPr b="0" lang="en-US" sz="2000" spc="-1" strike="noStrike">
              <a:solidFill>
                <a:srgbClr val="404040"/>
              </a:solidFill>
              <a:latin typeface="Century Gothic"/>
            </a:endParaRPr>
          </a:p>
          <a:p>
            <a:pPr algn="just" rtl="1">
              <a:spcBef>
                <a:spcPts val="1001"/>
              </a:spcBef>
              <a:buClr>
                <a:srgbClr val="e787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كشف الايرادات </a:t>
            </a:r>
            <a:r>
              <a:rPr b="0" lang="ar-SA" sz="2000" spc="-1" strike="noStrike">
                <a:solidFill>
                  <a:srgbClr val="404040"/>
                </a:solidFill>
                <a:latin typeface="Century Gothic"/>
                <a:ea typeface="Tahoma"/>
              </a:rPr>
              <a:t>(صفحة </a:t>
            </a:r>
            <a:r>
              <a:rPr b="0" lang="ar-SA" sz="2000" spc="-1" strike="noStrike">
                <a:solidFill>
                  <a:srgbClr val="404040"/>
                </a:solidFill>
                <a:latin typeface="Century Gothic"/>
                <a:ea typeface="Tahoma"/>
              </a:rPr>
              <a:t>2</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3</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buClr>
                <a:srgbClr val="e787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كشف المصروفات </a:t>
            </a:r>
            <a:r>
              <a:rPr b="0" lang="ar-SA" sz="2000" spc="-1" strike="noStrike">
                <a:solidFill>
                  <a:srgbClr val="404040"/>
                </a:solidFill>
                <a:latin typeface="Century Gothic"/>
                <a:ea typeface="Tahoma"/>
              </a:rPr>
              <a:t>(صفحة</a:t>
            </a:r>
            <a:r>
              <a:rPr b="1" lang="ar-SA" sz="2000" spc="-1" strike="noStrike">
                <a:solidFill>
                  <a:srgbClr val="404040"/>
                </a:solidFill>
                <a:latin typeface="Century Gothic"/>
                <a:ea typeface="Tahoma"/>
              </a:rPr>
              <a:t> </a:t>
            </a:r>
            <a:r>
              <a:rPr b="0" lang="ar-SA" sz="2000" spc="-1" strike="noStrike">
                <a:solidFill>
                  <a:srgbClr val="404040"/>
                </a:solidFill>
                <a:latin typeface="Century Gothic"/>
                <a:ea typeface="Tahoma"/>
              </a:rPr>
              <a:t>4</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5</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6</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7</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buClr>
                <a:srgbClr val="e787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ميزان الحساب الشهري </a:t>
            </a:r>
            <a:r>
              <a:rPr b="0" lang="ar-SA" sz="2000" spc="-1" strike="noStrike">
                <a:solidFill>
                  <a:srgbClr val="404040"/>
                </a:solidFill>
                <a:latin typeface="Century Gothic"/>
                <a:ea typeface="Tahoma"/>
              </a:rPr>
              <a:t>(صفحة </a:t>
            </a:r>
            <a:r>
              <a:rPr b="0" lang="ar-SA" sz="2000" spc="-1" strike="noStrike">
                <a:solidFill>
                  <a:srgbClr val="404040"/>
                </a:solidFill>
                <a:latin typeface="Century Gothic"/>
                <a:ea typeface="Tahoma"/>
              </a:rPr>
              <a:t>8</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9</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buClr>
                <a:srgbClr val="e787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كشف حساب تسوية </a:t>
            </a:r>
            <a:r>
              <a:rPr b="0" lang="ar-SA" sz="2000" spc="-1" strike="noStrike">
                <a:solidFill>
                  <a:srgbClr val="404040"/>
                </a:solidFill>
                <a:latin typeface="Century Gothic"/>
                <a:ea typeface="Tahoma"/>
              </a:rPr>
              <a:t>(صفحة </a:t>
            </a:r>
            <a:r>
              <a:rPr b="0" lang="ar-SA" sz="2000" spc="-1" strike="noStrike">
                <a:solidFill>
                  <a:srgbClr val="404040"/>
                </a:solidFill>
                <a:latin typeface="Century Gothic"/>
                <a:ea typeface="Tahoma"/>
              </a:rPr>
              <a:t>10</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11</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buClr>
                <a:srgbClr val="e787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93"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إجراءات المراجعة لجدول الحساب الشهر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التأكد من صحة المجاميع في كشف الإيرادات ومطابقتها مع ما ورد في صفحة (</a:t>
            </a:r>
            <a:r>
              <a:rPr b="0" lang="ar-SA" sz="2000" spc="-1" strike="noStrike">
                <a:solidFill>
                  <a:srgbClr val="404040"/>
                </a:solidFill>
                <a:latin typeface="Century Gothic"/>
                <a:ea typeface="Tahoma"/>
              </a:rPr>
              <a:t>9</a:t>
            </a:r>
            <a:r>
              <a:rPr b="0" lang="ar-SA" sz="2000" spc="-1" strike="noStrike">
                <a:solidFill>
                  <a:srgbClr val="404040"/>
                </a:solidFill>
                <a:latin typeface="Century Gothic"/>
                <a:ea typeface="Tahoma"/>
              </a:rPr>
              <a:t>) من الجدول نفسه.</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التأكد من صحة المجاميع في كشف المصروفات ومطابقتها مع ما المجاميع الواردة في صفحة (</a:t>
            </a:r>
            <a:r>
              <a:rPr b="0" lang="ar-SA" sz="2000" spc="-1" strike="noStrike">
                <a:solidFill>
                  <a:srgbClr val="404040"/>
                </a:solidFill>
                <a:latin typeface="Century Gothic"/>
                <a:ea typeface="Tahoma"/>
              </a:rPr>
              <a:t>8</a:t>
            </a:r>
            <a:r>
              <a:rPr b="0" lang="ar-SA" sz="2000" spc="-1" strike="noStrike">
                <a:solidFill>
                  <a:srgbClr val="404040"/>
                </a:solidFill>
                <a:latin typeface="Century Gothic"/>
                <a:ea typeface="Tahoma"/>
              </a:rPr>
              <a:t>) من الجدول نفسه.</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التأكد من توازن الحساب في الجانبين صفحة (</a:t>
            </a:r>
            <a:r>
              <a:rPr b="0" lang="ar-SA" sz="2000" spc="-1" strike="noStrike">
                <a:solidFill>
                  <a:srgbClr val="404040"/>
                </a:solidFill>
                <a:latin typeface="Century Gothic"/>
                <a:ea typeface="Tahoma"/>
              </a:rPr>
              <a:t>8</a:t>
            </a:r>
            <a:r>
              <a:rPr b="0" lang="ar-SA" sz="2000" spc="-1" strike="noStrike">
                <a:solidFill>
                  <a:srgbClr val="404040"/>
                </a:solidFill>
                <a:latin typeface="Century Gothic"/>
                <a:ea typeface="Tahoma"/>
              </a:rPr>
              <a:t> ، </a:t>
            </a:r>
            <a:r>
              <a:rPr b="0" lang="ar-SA" sz="2000" spc="-1" strike="noStrike">
                <a:solidFill>
                  <a:srgbClr val="404040"/>
                </a:solidFill>
                <a:latin typeface="Century Gothic"/>
                <a:ea typeface="Tahoma"/>
              </a:rPr>
              <a:t>9</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التأكد من صحة العمليات الحسابية لأرصدة حسابات التسوية في صفحة (</a:t>
            </a:r>
            <a:r>
              <a:rPr b="0" lang="ar-SA" sz="2000" spc="-1" strike="noStrike">
                <a:solidFill>
                  <a:srgbClr val="404040"/>
                </a:solidFill>
                <a:latin typeface="Century Gothic"/>
                <a:ea typeface="Tahoma"/>
              </a:rPr>
              <a:t>10</a:t>
            </a:r>
            <a:r>
              <a:rPr b="0" lang="ar-SA" sz="2000" spc="-1" strike="noStrike">
                <a:solidFill>
                  <a:srgbClr val="404040"/>
                </a:solidFill>
                <a:latin typeface="Century Gothic"/>
                <a:ea typeface="Tahoma"/>
              </a:rPr>
              <a:t> ، </a:t>
            </a:r>
            <a:r>
              <a:rPr b="0" lang="ar-SA" sz="2000" spc="-1" strike="noStrike">
                <a:solidFill>
                  <a:srgbClr val="404040"/>
                </a:solidFill>
                <a:latin typeface="Century Gothic"/>
                <a:ea typeface="Tahoma"/>
              </a:rPr>
              <a:t>11</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التأكد من سلامة الترحيل من الشهر إلى الشهر الأخر.</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6T12:06:26Z</dcterms:created>
  <dc:creator>hana</dc:creator>
  <dc:description/>
  <dc:language>en-US</dc:language>
  <cp:lastModifiedBy>hnae</cp:lastModifiedBy>
  <dcterms:modified xsi:type="dcterms:W3CDTF">2014-04-23T05:59:53Z</dcterms:modified>
  <cp:revision>25</cp:revision>
  <dc:subject/>
  <dc:title>PowerPoint Presentation</dc:title>
</cp:coreProperties>
</file>