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184-BFCF-4779-92DC-385EDA06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8D9-688C-4D7F-BD0C-F78908AD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4F8-39A3-40EF-BF38-D2DFEE64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487-7B31-4BB7-962A-B0B3048D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23E-3E46-465C-B6EA-95CBDF23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5D6-ED14-4C21-8490-209C9742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2A5-E0D7-412F-BFB3-0983B28D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60E-AD73-4677-83AA-9E2440BA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555-3BAB-4ED1-B3DA-6FB07E2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7BC-3982-4816-A335-07D37B97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2AD-614F-483A-A7F6-BE597A7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2B8-3B34-4A8B-8693-CE2A99DF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192D-27E1-4D69-9071-755265707D24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Calibri"/>
              </a:rPr>
              <a:t>الفصل الخام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C4A1-0B9B-44A2-8297-7ABFB7E942D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Calibri"/>
              </a:rPr>
              <a:t>الجنس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لاتوجد فروق واضحة بين الاناث والذكور في كفاءة اداء العمل  والانتاجية والرض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فارق في معدلات الغياببالنسبة للمراة اكثر من الرجل.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مراة اكثر طاعة للاوامر من الرجل.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مراة اكثر انتاجية.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رجل اكثر موضوعية ورغبة في تحقيق الذات.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حالة الاجتماع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متزوج اكثر رضاء واعلى اداء واقل غيابا واقل ترك للخدمة من الاعز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متزوجة اكثر انشغالابمسؤليات اجتماعية تجعلها عرضة للغي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عدد الابنا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كلما زاد عدد الابناء زاد عدد الغياب على الاخص بالنسبة للمراة العا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اقدم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ذا ارتبطت بالخبرة اثرت ايجابيا على الا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كلما زادت زاد الرضا وقل الغياب ومعدل ترك الخد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C521-C462-4384-83AA-20FE9537E84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علاقة الشخصية بالسلو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كل عمل له متطلبات شخصية مختل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ولا:الرغبة في الانجا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اشخاص ذوى الانجاز العالي لديهم الرغبة في اتمام العمل بنجاح وبذ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 u="sng">
                <a:solidFill>
                  <a:srgbClr val="003300"/>
                </a:solidFill>
                <a:uFillTx/>
                <a:latin typeface="Calibri"/>
              </a:rPr>
              <a:t>مجهود متميز والسيطرة على مشاكل العمل بشر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مناسبا لقدراتهم.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يزودهم بمعلومات مستمرة عن مدى تقدمهم في العم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يعطيهم التقدير والاحترام المتبادل.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حتواء العمل على شئ من التحدي.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ّ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: يجب البحث عن وقياس دافع الانجاز لدى العامل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ثانيا:الحساسية للعلاقات الاجتم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ناحجين في المجالات والوظائف ذات الطبيعة الاجتماعية (مندوب مبيعا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ثالثا:النزعة للسيطرة والهيم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ينجحون في القيادة وادارة الاخر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رابعا:الاستقراروالاعتماد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عضاء مثاليين في تكوين جماعات العمل وتماسك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940C-8BCE-4C7F-8DA1-E730D58E1F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خامسا:موقع السيطرة على الظواهر السلوك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البعض يظن ان الظواهر ترتبط وتتشكل وتتاثر بسلوكهم هم(الداخليي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9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البعض يعتقد ان الظواهر السلوكية تتشكل وتتاثر اساسا بعوامل خارجة عن الارادة(الخارجي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547640" y="2060640"/>
            <a:ext cx="6048720" cy="367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859280" y="2060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داخلي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268360" y="206064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خارجي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43280" y="2708280"/>
            <a:ext cx="2881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حبون العمل الذي يساهمون  في تشكي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ستمدون رضاهم من ادائهم لل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عتمدون على خبرات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مصدر تحفيز وتاثير نفوذ على الا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مديرون بطبع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ستخدمون سلطة الاقنا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حبون العمل المرن الح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619280" y="2565360"/>
            <a:ext cx="288144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حبون العمل الذي يتسم بتوجيه من الا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ستمدون رضاهم من اراء الاخرين عن ادائ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عتمدون على خبرات الا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خضعون اتاثير نفوذ الا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مروؤسون بطبع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ستخدمون سلطة الاجبار والقه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حبون العمل المحدد بالتفص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4572000" y="2060640"/>
            <a:ext cx="0" cy="367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1547640" y="2492280"/>
            <a:ext cx="60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رقم الشريحة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3C06-41E3-4037-A35B-D467D9B01CC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سادسا:شخصية(أ)او شخصية(ب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0920" y="1557360"/>
          <a:ext cx="5399280" cy="4614840"/>
        </p:xfrm>
        <a:graphic>
          <a:graphicData uri="http://schemas.openxmlformats.org/drawingml/2006/table">
            <a:tbl>
              <a:tblPr/>
              <a:tblGrid>
                <a:gridCol w="2016360"/>
                <a:gridCol w="2303280"/>
                <a:gridCol w="1079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شخصية(ب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شخصية(أ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المحاو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غير مناف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بط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هاد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ناف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ستعج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توت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س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سوأ في الاعمال التي تحتاج سر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فضل في الاعمال التي تحتاج الى تقدير وبحث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فضل في الاعمال التي تحتاج سر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واسوأ في الاعمال التي تحتاج الى تقدير وبح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اد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تحكم في اعصابه ويتماسك مع الاخ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فقد اعصابه ويدخل في صراع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سلو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صعب الاصابة بامراض القلب والشرايين والمع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نزعه الى الاصابة بامراض القلب والشرايين والمعدة على الاخص لو انه من ”الخارجين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صح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B4CE-1B3E-4BC7-A880-875197FE817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ثامنا:ضيق الاف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يحددوا اعمال موظفيهم بصورة تفصيلية وحاس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يحبون رؤوسائهم الذين يتبعون نفس النمط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تاسعا:الميكافيللية (الشخص الوسيلي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قدرات عالية على المناورة واقناع الاخرين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ينجح في الوظائف التي تحتوي على مواقف تفاوض واقناع ومقاب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حوافز المادية لها دور بارز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3E7-4E8D-4854-960E-082A011AF7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قياس الشخص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اولا: قوائم الاستقص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ثانيا: الاساليب الاسقاط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ولا:قوائد الاستقصا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اشهرها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مقياس كاليفورنيا النف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ثانيا:الاساليب الاسقاط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عرض مثير وغامض ويطلب تفسيره(بقع الحبر مثلا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اختبار تفهم الموضوع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6D52-9327-4B7D-86A3-BA62B009AA3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24000" y="620640"/>
            <a:ext cx="8496000" cy="80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الشخص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الشخصية هي نظام متكامل من الخصائص المميزة للفرد والعلاقة بين هذه الخصائص والتي تساعد الفرد على مواءمة نفسه مع الآخرين والبيئة من حول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نظام متكامل من الخصائ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يختلف من شخص لاخر (التمي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تتحدد بالعلاقة بين الخصائص المكونة ل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تحدد سلوك الفرد تجاه نفسه والاخرين والمجتمع والبي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8107-7EBF-4E1E-9377-DF6ABCF13F6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859280" y="907920"/>
            <a:ext cx="4068720" cy="547380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تحفظ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قليل الذكاء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Less Intelligent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نفعالي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Affected by feeling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خاضع ومذعن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ubmi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جاد ووقور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نفعي ووسيلي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xpedient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جبان    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i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صلب الراي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Rough minded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ثق في الغير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ru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عملي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Prac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صريح وواضح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Forth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واثق من نفسه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as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تقليدي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serv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4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عتمادي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5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منضبط ذاتيا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ro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6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هادئ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Relaxed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907920"/>
            <a:ext cx="4105440" cy="547380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نبساطي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Outgoing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عالي الذكاء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More Intelligent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تزن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motionally stabl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سيطر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Dominant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بتهج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Happy-go-lucky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حي الضمير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scientious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غامر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Venturesom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حساس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nsitiv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شك في الغير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uspicious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خيالي وتصوري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Imaginativ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خبيث وداهية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hrewd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خائف وقلق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Apprehensiv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تجريبي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xperimenting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كتفي ذاتيا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sufficient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غير منضبط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Uncontrolled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توتر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ens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916360" y="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سمات الشخص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رقم الشريحة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C874-502E-4A97-91ED-C85D4613820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هل يمكن الاعتماد على السمات للتنبؤ بسلوك الناس داخل العمل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332000" y="1989000"/>
            <a:ext cx="6769080" cy="3745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1835280" y="285264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835280" y="5445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1835280" y="3573360"/>
            <a:ext cx="4321080" cy="1776600"/>
          </a:xfrm>
          <a:custGeom>
            <a:avLst/>
            <a:gdLst>
              <a:gd name="textAreaLeft" fmla="*/ 0 w 4321080"/>
              <a:gd name="textAreaRight" fmla="*/ 4321440 w 4321080"/>
              <a:gd name="textAreaTop" fmla="*/ 0 h 1776600"/>
              <a:gd name="textAreaBottom" fmla="*/ 1776960 h 1776600"/>
            </a:gdLst>
            <a:ahLst/>
            <a:rect l="textAreaLeft" t="textAreaTop" r="textAreaRight" b="textAreaBottom"/>
            <a:pathLst>
              <a:path w="2722" h="1119">
                <a:moveTo>
                  <a:pt x="0" y="953"/>
                </a:moveTo>
                <a:cubicBezTo>
                  <a:pt x="106" y="1009"/>
                  <a:pt x="212" y="1066"/>
                  <a:pt x="408" y="907"/>
                </a:cubicBezTo>
                <a:cubicBezTo>
                  <a:pt x="604" y="748"/>
                  <a:pt x="892" y="0"/>
                  <a:pt x="1179" y="0"/>
                </a:cubicBezTo>
                <a:cubicBezTo>
                  <a:pt x="1466" y="0"/>
                  <a:pt x="1890" y="726"/>
                  <a:pt x="2132" y="907"/>
                </a:cubicBezTo>
                <a:cubicBezTo>
                  <a:pt x="2374" y="1088"/>
                  <a:pt x="2540" y="1059"/>
                  <a:pt x="2631" y="1089"/>
                </a:cubicBezTo>
                <a:cubicBezTo>
                  <a:pt x="2722" y="1119"/>
                  <a:pt x="2676" y="1096"/>
                  <a:pt x="2676" y="1089"/>
                </a:cubicBezTo>
                <a:cubicBezTo>
                  <a:pt x="2676" y="1082"/>
                  <a:pt x="2631" y="1044"/>
                  <a:pt x="2631" y="1044"/>
                </a:cubicBezTo>
                <a:cubicBezTo>
                  <a:pt x="2631" y="1044"/>
                  <a:pt x="2653" y="1066"/>
                  <a:pt x="2676" y="10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042920" y="2421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عدد الناس ونسبت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619280" y="299736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توافر الصفة بشكل حاد يجعل تفسير السلوك والتنبؤ به امر ممك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340000" y="4005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556000" y="44370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توافر الصفة بقيمة متوسطة يجعل تفسير السلوك والتنبؤ به امر صع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076720" y="3068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توافر الصفة بشكل حاد يجعل تفسير السلوك التنبؤ به امر ممك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5724360" y="41497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411280" y="508464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579600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عنصر نائب لرقم الشريحة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0863-1BCC-40BA-BE36-7745E0490F6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مكونات جوانب الشخص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419640" y="2708280"/>
            <a:ext cx="2016000" cy="2521080"/>
          </a:xfrm>
          <a:prstGeom prst="flowChart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 flipV="1">
            <a:off x="1116000" y="2707200"/>
            <a:ext cx="6408720" cy="25210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042920" y="2205000"/>
            <a:ext cx="6840720" cy="30243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3708360" y="3068640"/>
            <a:ext cx="144000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780000" y="3300480"/>
            <a:ext cx="122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435640" y="134136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H="1">
            <a:off x="4500360" y="1341360"/>
            <a:ext cx="9349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419640" y="134136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 flipV="1">
            <a:off x="3419280" y="1341000"/>
            <a:ext cx="108108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211640" y="191628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حا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059280" y="1989000"/>
            <a:ext cx="122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قد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403280" y="2781360"/>
            <a:ext cx="20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اتجاهات النف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547640" y="4292640"/>
            <a:ext cx="17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اهتمامات والمي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651640" y="450864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قيــ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5651640" y="2781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انفع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رقم الشريحة 1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6FA9-DF7B-4970-9588-FA59027171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اولا: القيم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Values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علاقةبالدين, مدى الالتزام بالوظيفة, احترام قولنين ولوائح العمل, العدالة, التقدم والنمو في العم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ثانيا:الانفعالات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Temperme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خصائص الاثارة والحالة المزاجية لل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ثالثا: الحاجات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Needs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حاجة للانجاز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Need for Achievemen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حاجة للقوة والنفوذ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Need for Power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حاجة للانتماء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Need for Affiliation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Calibri"/>
              </a:rPr>
              <a:t>(يمكن الرجوع الى فصل الدافع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195640" y="1844640"/>
            <a:ext cx="4249440" cy="2087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84360" y="2205000"/>
            <a:ext cx="0" cy="1368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484360" y="3573360"/>
            <a:ext cx="3240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2484360" y="2276640"/>
            <a:ext cx="1584360" cy="1188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98" h="749">
                <a:moveTo>
                  <a:pt x="0" y="688"/>
                </a:moveTo>
                <a:cubicBezTo>
                  <a:pt x="34" y="718"/>
                  <a:pt x="68" y="749"/>
                  <a:pt x="136" y="643"/>
                </a:cubicBezTo>
                <a:cubicBezTo>
                  <a:pt x="204" y="537"/>
                  <a:pt x="317" y="106"/>
                  <a:pt x="408" y="53"/>
                </a:cubicBezTo>
                <a:cubicBezTo>
                  <a:pt x="499" y="0"/>
                  <a:pt x="604" y="227"/>
                  <a:pt x="680" y="325"/>
                </a:cubicBezTo>
                <a:cubicBezTo>
                  <a:pt x="756" y="423"/>
                  <a:pt x="809" y="590"/>
                  <a:pt x="862" y="643"/>
                </a:cubicBezTo>
                <a:cubicBezTo>
                  <a:pt x="915" y="696"/>
                  <a:pt x="975" y="643"/>
                  <a:pt x="998" y="643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3635280" y="2205000"/>
            <a:ext cx="1871640" cy="11145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114560"/>
              <a:gd name="textAreaBottom" fmla="*/ 1114920 h 1114560"/>
            </a:gdLst>
            <a:ahLst/>
            <a:rect l="textAreaLeft" t="textAreaTop" r="textAreaRight" b="textAreaBottom"/>
            <a:pathLst>
              <a:path w="1179" h="702">
                <a:moveTo>
                  <a:pt x="0" y="604"/>
                </a:moveTo>
                <a:cubicBezTo>
                  <a:pt x="64" y="653"/>
                  <a:pt x="129" y="702"/>
                  <a:pt x="227" y="604"/>
                </a:cubicBezTo>
                <a:cubicBezTo>
                  <a:pt x="325" y="506"/>
                  <a:pt x="468" y="30"/>
                  <a:pt x="589" y="15"/>
                </a:cubicBezTo>
                <a:cubicBezTo>
                  <a:pt x="710" y="0"/>
                  <a:pt x="854" y="407"/>
                  <a:pt x="952" y="513"/>
                </a:cubicBezTo>
                <a:cubicBezTo>
                  <a:pt x="1050" y="619"/>
                  <a:pt x="1141" y="627"/>
                  <a:pt x="1179" y="65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195640" y="19162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3300"/>
                </a:solidFill>
                <a:latin typeface="Calibri"/>
              </a:rPr>
              <a:t>الادا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724360" y="3357720"/>
            <a:ext cx="6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3300"/>
                </a:solidFill>
                <a:latin typeface="Calibri"/>
              </a:rPr>
              <a:t>التوت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356000" y="1916280"/>
            <a:ext cx="10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3300"/>
                </a:solidFill>
                <a:latin typeface="Calibri"/>
              </a:rPr>
              <a:t>غير الانفعالي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059280" y="198900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3300"/>
                </a:solidFill>
                <a:latin typeface="Calibri"/>
              </a:rPr>
              <a:t>الانفعالي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عنصر نائب لرقم الشريحة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492F-78F2-4777-9A26-6BCC2B36630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رابعا:القدرات والاستعدادات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Abilities&amp; Aptitudes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قدرات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bilities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استعدادات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titudes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مهارات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kills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عقلية,ميكانيكية, حرك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خامسا:الاتجاهات النفسية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Attitudes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نظام المعتقدات والمفاهيم والمشاعر التي تؤدي إلى ميول سلوكية نحو مواقف مع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سادسا:الميول والاهتمامات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Intere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0C91-EE2C-469B-8C8F-462EDB87DA8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</a:rPr>
              <a:t>العوامل المؤثرة في تكوين الشخص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أولاً : العوامل الجسمان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 المخ والجهاز العصب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ذك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هرمون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شكل الخارج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ثانياُ : الاسرة والتعل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قيم والاتجاهات-ظروف الأسرة الاقتصادية والاجتم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والثقافية والان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ثالثاُ : البي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6EB6-12AC-438C-BF71-2B4AF628BCA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علاقة بعض بيانات الشخصية بالادا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تتصف بانها عامة ويمكن قياسها بسهولة وبسا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لاتحدد شخصية الفرد من الناحية النفسية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تحدد الشخصية من الناحية الديموجرافية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عمر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كلما زاد عمر الفرد قل معدل تركه للخدمة وغياب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كلما زاد عمر الفرد زاد الرضا مالم يشعر بالتقاد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كلما زاد عمر الفرد زادت انتاجي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0253f"/>
                </a:solidFill>
                <a:uFillTx/>
                <a:latin typeface="Calibri"/>
              </a:rPr>
              <a:t>ومن </a:t>
            </a:r>
            <a:r>
              <a:rPr b="1" lang="ar-SA" sz="3200" spc="-1" strike="noStrike" u="sng">
                <a:solidFill>
                  <a:srgbClr val="17375e"/>
                </a:solidFill>
                <a:uFillTx/>
                <a:latin typeface="Calibri"/>
              </a:rPr>
              <a:t>ناحية اخر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كلما زاد عمر الفرد تدهورت انتاجيته في اداء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54061"/>
                </a:solidFill>
                <a:latin typeface="Calibri"/>
              </a:rPr>
              <a:t>” اذا لاتوجد علاقة حاسمة لعلاقة العمر باداء الفرد وانتاجيته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21A9-81C0-4D9A-A04D-32FC152DF1B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2-07T20:07:18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4029C5F-1AEA-4879-9573-678FFF341C6D</vt:lpwstr>
  </property>
  <property fmtid="{D5CDD505-2E9C-101B-9397-08002B2CF9AE}" pid="3" name="ArticulatePath">
    <vt:lpwstr>الفصل الخامس- الشخصية</vt:lpwstr>
  </property>
</Properties>
</file>