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802-F07F-444A-A819-7EC49963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391-7388-4BF7-86D2-3FD40A29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9391-96A6-4503-8167-474A9FC6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4B45-E4D5-4683-BE19-36F9FF9C9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703-C590-4F37-8CD6-B4CA7B99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A01-ABC0-494B-B66D-BACA8348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B83-D0B8-4E39-813C-FCFADC1D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CCA-F8C6-438F-93D5-BC0DECDD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4ABC-CE59-4193-88D5-75D8738D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726-857F-4269-9846-84EFB851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FA8A-0DBD-4C14-9B36-E5266606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7DE-75A1-4C93-90CA-141F61A2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3EC3-BBD1-4832-A6DE-A5728B0D6A8F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Calibri"/>
              </a:rPr>
              <a:t>الفصل الخام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2ACA-E3B7-4CB7-B0E4-1189A3A783F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3300"/>
                </a:solidFill>
                <a:uFillTx/>
                <a:latin typeface="Calibri"/>
              </a:rPr>
              <a:t>الجنس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لاتوجد فروق واضحة بين الاناث والذكور في كفاءة اداء العمل  والانتاجية والرض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فارق في معدلات الغياببالنسبة للمراة اكثر من الرجل.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مراة اكثر طاعة للاوامر من الرجل. 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مراة اكثر انتاجية.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رجل اكثر موضوعية ورغبة في تحقيق الذات.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الحالة الاجتماع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متزوج اكثر رضاء واعلى اداء واقل غيابا واقل ترك للخدمة من الاعز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متزوجة اكثر انشغالابمسؤليات اجتماعية تجعلها عرضة للغي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عدد الابناء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كلما زاد عدد الابناء زاد عدد الغياب على الاخص بالنسبة للمراة العام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الاقدم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ذا ارتبطت بالخبرة اثرت ايجابيا على الاد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كلما زادت زاد الرضا وقل الغياب ومعدل ترك الخد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F2B0-6020-430B-91C8-424CA8A47C8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علاقة الشخصية بالسلو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كل عمل له متطلبات شخصية مختلف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اولا:الرغبة في الانجا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اشخاص ذوى الانجاز العالي لديهم الرغبة في اتمام العمل بنجاح وبذ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1800" spc="-1" strike="noStrike" u="sng">
                <a:solidFill>
                  <a:srgbClr val="003300"/>
                </a:solidFill>
                <a:uFillTx/>
                <a:latin typeface="Calibri"/>
              </a:rPr>
              <a:t>مجهود متميز والسيطرة على مشاكل العمل بشر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مناسبا لقدراتهم.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يزودهم بمعلومات مستمرة عن مدى تقدمهم في العم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يعطيهم التقدير والاحترام المتبادل.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حتواء العمل على شئ من التحدي.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ّ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: يجب البحث عن وقياس دافع الانجاز لدى العامل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ثانيا:الحساسية للعلاقات الاجتماع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ناحجين في المجالات والوظائف ذات الطبيعة الاجتماعية (مندوب مبيعات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ثالثا:النزعة للسيطرة والهيم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ينجحون في القيادة وادارة الاخر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رابعا:الاستقراروالاعتماد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عضاء مثاليين في تكوين جماعات العمل وتماسك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333C-F02D-4601-B362-5FF0714345B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خامسا:موقع السيطرة على الظواهر السلوك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البعض يظن ان الظواهر ترتبط وتتشكل وتتاثر بسلوكهم هم(الداخليي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9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البعض يعتقد ان الظواهر السلوكية تتشكل وتتاثر اساسا بعوامل خارجة عن الارادة(الخارجي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547640" y="2060640"/>
            <a:ext cx="6048720" cy="3672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859280" y="2060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داخلي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268360" y="2060640"/>
            <a:ext cx="11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خارجيو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643280" y="2708280"/>
            <a:ext cx="2881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حبون العمل الذي يساهمون  في تشكي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ستمدون رضاهم من ادائهم للع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عتمدون على خبراته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مصدر تحفيز وتاثير نفوذ على الاخ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مديرون بطبعه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ستخدمون سلطة الاقنا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حبون العمل المرن الح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619280" y="2565360"/>
            <a:ext cx="288144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حبون العمل الذي يتسم بتوجيه من الاخ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ستمدون رضاهم من اراء الاخرين عن ادائه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عتمدون على خبرات الاخ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خضعون اتاثير نفوذ الاخ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مروؤسون بطبعه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ستخدمون سلطة الاجبار والقه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حبون العمل المحدد بالتفص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4572000" y="2060640"/>
            <a:ext cx="0" cy="3673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1547640" y="2492280"/>
            <a:ext cx="604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عنصر نائب لرقم الشريحة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1F9A-884A-4DBA-A5C3-FDA5CC8F836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سادسا:شخصية(أ)او شخصية(ب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50920" y="1557360"/>
          <a:ext cx="5399280" cy="4614840"/>
        </p:xfrm>
        <a:graphic>
          <a:graphicData uri="http://schemas.openxmlformats.org/drawingml/2006/table">
            <a:tbl>
              <a:tblPr/>
              <a:tblGrid>
                <a:gridCol w="2016360"/>
                <a:gridCol w="2303280"/>
                <a:gridCol w="1079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شخصية(ب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شخصية(أ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المحاو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غير مناف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بط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هاد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ناف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ستعج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توت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السم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اسوأ في الاعمال التي تحتاج سر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افضل في الاعمال التي تحتاج الى تقدير وبحث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افضل في الاعمال التي تحتاج سر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واسوأ في الاعمال التي تحتاج الى تقدير وبح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الادا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يتحكم في اعصابه ويتماسك مع الاخر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يفقد اعصابه ويدخل في صراع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السلو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صعب الاصابة بامراض القلب والشرايين والمعد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نزعه الى الاصابة بامراض القلب والشرايين والمعدة على الاخص لو انه من ”الخارجين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الصح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9C7C-9B95-42A9-9B2C-48910392356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ثامنا:ضيق الاف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يحددوا اعمال موظفيهم بصورة تفصيلية وحاس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يحبون رؤوسائهم الذين يتبعون نفس النمط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تاسعا:الميكافيللية (الشخص الوسيلي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قدرات عالية على المناورة واقناع الاخرين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ينجح في الوظائف التي تحتوي على مواقف تفاوض واقناع ومقاب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حوافز المادية لها دور بارز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B7BE-F0FB-417E-B16D-26A69AAACE8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قياس الشخص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اولا: قوائم الاستقص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ثانيا: الاساليب الاسقاط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اولا:قوائد الاستقصا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اشهرها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مقياس كاليفورنيا النفس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ثانيا:الاساليب الاسقاط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عرض مثير وغامض ويطلب تفسيره(بقع الحبر مثلا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-اختبار تفهم الموضوع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F4CB-1002-4464-9648-E19CB2C36AA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24000" y="620640"/>
            <a:ext cx="8496000" cy="80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3300"/>
                </a:solidFill>
                <a:latin typeface="Calibri"/>
              </a:rPr>
              <a:t>الشخص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الشخصية هي نظام متكامل من الخصائص المميزة للفرد والعلاقة بين هذه الخصائص والتي تساعد الفرد على مواءمة نفسه مع الآخرين والبيئة من حول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نظام متكامل من الخصائ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يختلف من شخص لاخر (التمي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تتحدد بالعلاقة بين الخصائص المكونة ل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تحدد سلوك الفرد تجاه نفسه والاخرين والمجتمع والبي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CE87-5AEE-4DA6-BA8D-B3B7A677D5A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859280" y="907920"/>
            <a:ext cx="4068720" cy="547380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تحفظ 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قليل الذكاء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Less Intelligent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انفعالي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Affected by feeling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خاضع ومذعن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ubmi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جاد ووقور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r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نفعي ووسيلي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Expedient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جبان          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i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صلب الراي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Rough minded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يثق في الغير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ru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عملي  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Prac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صريح وواضح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Forth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واثق من نفسه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lf-as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تقليدي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serv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4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اعتمادي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5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منضبط ذاتيا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tro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6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هادئ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Relaxed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79280" y="907920"/>
            <a:ext cx="4105440" cy="547380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نبساطي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Outgoing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عالي الذكاء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More Intelligent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تزن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Emotionally stable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سيطر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Dominant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بتهج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Happy-go-lucky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حي الضمير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Conscientious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غامر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Venturesome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حساس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nsitive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يشك في الغير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uspicious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خيالي وتصوري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Imaginative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خبيث وداهية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hrewd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خائف وقلق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Apprehensive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تجريبي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Experimenting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كتفي ذاتيا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Self-sufficient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غير منضبط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Uncontrolled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توتر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Tense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916360" y="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سمات الشخص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عنصر نائب لرقم الشريحة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6466-B434-4356-A119-28B17E28EC9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هل يمكن الاعتماد على السمات للتنبؤ بسلوك الناس داخل العمل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332000" y="1989000"/>
            <a:ext cx="6769080" cy="37450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1835280" y="285264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835280" y="5445000"/>
            <a:ext cx="482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2"/>
          <p:cNvSpPr/>
          <p:nvPr/>
        </p:nvSpPr>
        <p:spPr>
          <a:xfrm>
            <a:off x="1835280" y="3573360"/>
            <a:ext cx="4321080" cy="1776600"/>
          </a:xfrm>
          <a:custGeom>
            <a:avLst/>
            <a:gdLst>
              <a:gd name="textAreaLeft" fmla="*/ 0 w 4321080"/>
              <a:gd name="textAreaRight" fmla="*/ 4321440 w 4321080"/>
              <a:gd name="textAreaTop" fmla="*/ 0 h 1776600"/>
              <a:gd name="textAreaBottom" fmla="*/ 1776960 h 1776600"/>
            </a:gdLst>
            <a:ahLst/>
            <a:rect l="textAreaLeft" t="textAreaTop" r="textAreaRight" b="textAreaBottom"/>
            <a:pathLst>
              <a:path w="2722" h="1119">
                <a:moveTo>
                  <a:pt x="0" y="953"/>
                </a:moveTo>
                <a:cubicBezTo>
                  <a:pt x="106" y="1009"/>
                  <a:pt x="212" y="1066"/>
                  <a:pt x="408" y="907"/>
                </a:cubicBezTo>
                <a:cubicBezTo>
                  <a:pt x="604" y="748"/>
                  <a:pt x="892" y="0"/>
                  <a:pt x="1179" y="0"/>
                </a:cubicBezTo>
                <a:cubicBezTo>
                  <a:pt x="1466" y="0"/>
                  <a:pt x="1890" y="726"/>
                  <a:pt x="2132" y="907"/>
                </a:cubicBezTo>
                <a:cubicBezTo>
                  <a:pt x="2374" y="1088"/>
                  <a:pt x="2540" y="1059"/>
                  <a:pt x="2631" y="1089"/>
                </a:cubicBezTo>
                <a:cubicBezTo>
                  <a:pt x="2722" y="1119"/>
                  <a:pt x="2676" y="1096"/>
                  <a:pt x="2676" y="1089"/>
                </a:cubicBezTo>
                <a:cubicBezTo>
                  <a:pt x="2676" y="1082"/>
                  <a:pt x="2631" y="1044"/>
                  <a:pt x="2631" y="1044"/>
                </a:cubicBezTo>
                <a:cubicBezTo>
                  <a:pt x="2631" y="1044"/>
                  <a:pt x="2653" y="1066"/>
                  <a:pt x="2676" y="10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042920" y="2421000"/>
            <a:ext cx="18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عدد الناس ونسبته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619280" y="299736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توافر الصفة بشكل حاد يجعل تفسير السلوك والتنبؤ به امر ممك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2340000" y="4005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2556000" y="44370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توافر الصفة بقيمة متوسطة يجعل تفسير السلوك والتنبؤ به امر صع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076720" y="3068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توافر الصفة بشكل حاد يجعل تفسير السلوك التنبؤ به امر ممك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5724360" y="414972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2411280" y="508464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3"/>
          <p:cNvSpPr/>
          <p:nvPr/>
        </p:nvSpPr>
        <p:spPr>
          <a:xfrm>
            <a:off x="579600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عنصر نائب لرقم الشريحة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06AA-A890-459E-A6C0-5DF1B42091E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مكونات جوانب الشخصي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419640" y="2708280"/>
            <a:ext cx="2016000" cy="2521080"/>
          </a:xfrm>
          <a:prstGeom prst="flowChart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 flipV="1">
            <a:off x="1116000" y="2707200"/>
            <a:ext cx="6408720" cy="25210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1042920" y="2205000"/>
            <a:ext cx="6840720" cy="30243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3708360" y="3068640"/>
            <a:ext cx="1440000" cy="100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780000" y="3300480"/>
            <a:ext cx="122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Verdana"/>
              </a:rPr>
              <a:t>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5435640" y="134136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H="1">
            <a:off x="4500360" y="1341360"/>
            <a:ext cx="93492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3419640" y="134136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H="1" flipV="1">
            <a:off x="3419280" y="1341000"/>
            <a:ext cx="108108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4211640" y="191628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Verdana"/>
              </a:rPr>
              <a:t>الحاج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059280" y="1989000"/>
            <a:ext cx="122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Verdana"/>
              </a:rPr>
              <a:t>القد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403280" y="2781360"/>
            <a:ext cx="201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Verdana"/>
              </a:rPr>
              <a:t>الاتجاهات النف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1547640" y="4292640"/>
            <a:ext cx="17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Verdana"/>
              </a:rPr>
              <a:t>الاهتمامات والمي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651640" y="450864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Verdana"/>
              </a:rPr>
              <a:t>القيــ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5651640" y="27813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Verdana"/>
              </a:rPr>
              <a:t>الانفعا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عنصر نائب لرقم الشريحة 1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9414-D4D5-4772-95BC-E6CE4BFBAA7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اولا: القيم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Values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علاقةبالدين, مدى الالتزام بالوظيفة, احترام قولنين ولوائح العمل, العدالة, التقدم والنمو في العم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ثانيا:الانفعالات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Tempermen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خصائص الاثارة والحالة المزاجية للف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ثالثا: الحاجات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Needs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حاجة للانجاز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Need for Achievement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حاجة للقوة والنفوذ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Need for Power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حاجة للانتماء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Need for Affiliation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3300"/>
                </a:solidFill>
                <a:uFillTx/>
                <a:latin typeface="Calibri"/>
              </a:rPr>
              <a:t>(يمكن الرجوع الى فصل الدافع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2195640" y="1844640"/>
            <a:ext cx="4249440" cy="2087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484360" y="2205000"/>
            <a:ext cx="0" cy="1368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2484360" y="3573360"/>
            <a:ext cx="3240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8"/>
          <p:cNvSpPr/>
          <p:nvPr/>
        </p:nvSpPr>
        <p:spPr>
          <a:xfrm>
            <a:off x="2484360" y="2276640"/>
            <a:ext cx="1584360" cy="11887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998" h="749">
                <a:moveTo>
                  <a:pt x="0" y="688"/>
                </a:moveTo>
                <a:cubicBezTo>
                  <a:pt x="34" y="718"/>
                  <a:pt x="68" y="749"/>
                  <a:pt x="136" y="643"/>
                </a:cubicBezTo>
                <a:cubicBezTo>
                  <a:pt x="204" y="537"/>
                  <a:pt x="317" y="106"/>
                  <a:pt x="408" y="53"/>
                </a:cubicBezTo>
                <a:cubicBezTo>
                  <a:pt x="499" y="0"/>
                  <a:pt x="604" y="227"/>
                  <a:pt x="680" y="325"/>
                </a:cubicBezTo>
                <a:cubicBezTo>
                  <a:pt x="756" y="423"/>
                  <a:pt x="809" y="590"/>
                  <a:pt x="862" y="643"/>
                </a:cubicBezTo>
                <a:cubicBezTo>
                  <a:pt x="915" y="696"/>
                  <a:pt x="975" y="643"/>
                  <a:pt x="998" y="643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9"/>
          <p:cNvSpPr/>
          <p:nvPr/>
        </p:nvSpPr>
        <p:spPr>
          <a:xfrm>
            <a:off x="3635280" y="2205000"/>
            <a:ext cx="1871640" cy="111456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114560"/>
              <a:gd name="textAreaBottom" fmla="*/ 1114920 h 1114560"/>
            </a:gdLst>
            <a:ahLst/>
            <a:rect l="textAreaLeft" t="textAreaTop" r="textAreaRight" b="textAreaBottom"/>
            <a:pathLst>
              <a:path w="1179" h="702">
                <a:moveTo>
                  <a:pt x="0" y="604"/>
                </a:moveTo>
                <a:cubicBezTo>
                  <a:pt x="64" y="653"/>
                  <a:pt x="129" y="702"/>
                  <a:pt x="227" y="604"/>
                </a:cubicBezTo>
                <a:cubicBezTo>
                  <a:pt x="325" y="506"/>
                  <a:pt x="468" y="30"/>
                  <a:pt x="589" y="15"/>
                </a:cubicBezTo>
                <a:cubicBezTo>
                  <a:pt x="710" y="0"/>
                  <a:pt x="854" y="407"/>
                  <a:pt x="952" y="513"/>
                </a:cubicBezTo>
                <a:cubicBezTo>
                  <a:pt x="1050" y="619"/>
                  <a:pt x="1141" y="627"/>
                  <a:pt x="1179" y="65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195640" y="19162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3300"/>
                </a:solidFill>
                <a:latin typeface="Calibri"/>
              </a:rPr>
              <a:t>الادا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5724360" y="3357720"/>
            <a:ext cx="6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3300"/>
                </a:solidFill>
                <a:latin typeface="Calibri"/>
              </a:rPr>
              <a:t>التوت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4356000" y="1916280"/>
            <a:ext cx="100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3300"/>
                </a:solidFill>
                <a:latin typeface="Calibri"/>
              </a:rPr>
              <a:t>غير الانفعالي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059280" y="1989000"/>
            <a:ext cx="7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3300"/>
                </a:solidFill>
                <a:latin typeface="Calibri"/>
              </a:rPr>
              <a:t>الانفعالي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عنصر نائب لرقم الشريحة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82A2-90E9-4084-A910-81DF159C55F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رابعا:القدرات والاستعدادات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Abilities&amp; Aptitudes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قدرات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bilities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استعدادات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ptitudes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مهارات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Skills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(عقلية,ميكانيكية, حركي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خامسا:الاتجاهات النفسية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Attitudes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نظام المعتقدات والمفاهيم والمشاعر التي تؤدي إلى ميول سلوكية نحو مواقف معي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3300"/>
                </a:solidFill>
                <a:uFillTx/>
                <a:latin typeface="Calibri"/>
              </a:rPr>
              <a:t>سادسا:الميول والاهتمامات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Intere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58FE-894D-4979-A932-32CD8E40569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Calibri"/>
              </a:rPr>
              <a:t>العوامل المؤثرة في تكوين الشخص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أولاً : العوامل الجسمان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 المخ والجهاز العصب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ذك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هرمون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شكل الخارج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ثانياُ : الاسرة والتعل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القيم والاتجاهات-ظروف الأسرة الاقتصادية والاجتما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والثقافية والانفع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ثالثاُ : البي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E080-D953-4563-B232-667564CB318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علاقة بعض بيانات الشخصية بالادا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تتصف بانها عامة ويمكن قياسها بسهولة وبسا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لاتحدد شخصية الفرد من الناحية النفسية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تحدد الشخصية من الناحية الديموجرافية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العمر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كلما زاد عمر الفرد قل معدل تركه للخدمة وغياب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كلما زاد عمر الفرد زاد الرضا مالم يشعر بالتقاد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كلما زاد عمر الفرد زادت انتاجي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10253f"/>
                </a:solidFill>
                <a:uFillTx/>
                <a:latin typeface="Calibri"/>
              </a:rPr>
              <a:t>ومن </a:t>
            </a:r>
            <a:r>
              <a:rPr b="1" lang="ar-SA" sz="3200" spc="-1" strike="noStrike" u="sng">
                <a:solidFill>
                  <a:srgbClr val="17375e"/>
                </a:solidFill>
                <a:uFillTx/>
                <a:latin typeface="Calibri"/>
              </a:rPr>
              <a:t>ناحية اخر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كلما زاد عمر الفرد تدهورت انتاجيته في اداء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54061"/>
                </a:solidFill>
                <a:latin typeface="Calibri"/>
              </a:rPr>
              <a:t>” اذا لاتوجد علاقة حاسمة لعلاقة العمر باداء الفرد وانتاجيته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E47B-1A87-4FED-AC9B-5191A76FF69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2-07T20:07:18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4029C5F-1AEA-4879-9573-678FFF341C6D</vt:lpwstr>
  </property>
  <property fmtid="{D5CDD505-2E9C-101B-9397-08002B2CF9AE}" pid="3" name="ArticulatePath">
    <vt:lpwstr>الفصل الخامس- الشخصية</vt:lpwstr>
  </property>
</Properties>
</file>