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5A749-96B1-45A7-B1C5-95AE3BE9C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DC858-4E92-4D9D-9ED3-9F2E0FC40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498D7-6E56-41F4-B66B-3782F7E34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25DCB-E075-461C-B8BD-6335D2F1D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80AFC-7350-4099-AFF3-FF135F2D45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F22D9-30C6-4F77-8AC5-265832172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C7D4A-90C7-436E-A3D6-C542A4E8F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1FDCE-9B46-468C-926F-EA18C0932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FC2EF-9753-4AEF-9C22-2C5C88F72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5506A-A146-4D49-BB1F-21A59E170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B27EF-7BC1-4917-98EC-6DBF3A505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3CDEE-9300-4315-9F0C-E487E2387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460CD-999B-4660-85FB-5F7FCA1AA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683BD-3D90-4779-9662-531F384A7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E3863-6B67-44D1-B397-15A7A7148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4B8C12-5916-4A8A-A345-2D1FBD39A5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A09724-C36D-4836-8974-476E935664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339BD-7F1E-4E27-A260-2EF20DFFC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CC461-0D2E-47A4-8400-01745F9C1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5DC62-50D3-424C-AC38-AFD8328F3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94F4A-5E61-4AD1-B7AD-B017B4B1A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940A6-39DA-4050-AA8D-4FE97F987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25D31-A267-4D6C-9AB0-4A4CBD20B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C0E00-86B4-4808-9D4C-7C90F8032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084C-A32D-405E-8246-8AE10F1A0FE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15A9-4236-4E68-8197-6EB5B9BF8674}"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b7"/>
                </a:solidFill>
                <a:latin typeface="Arial Black"/>
              </a:rPr>
              <a:t>الفصل الخامس :المحاسبة في المنشئات التجارية</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395280" y="3886200"/>
            <a:ext cx="8353440" cy="2782800"/>
          </a:xfrm>
          <a:prstGeom prst="rect">
            <a:avLst/>
          </a:prstGeom>
          <a:noFill/>
          <a:ln w="0">
            <a:noFill/>
          </a:ln>
        </p:spPr>
        <p:txBody>
          <a:bodyPr anchor="t">
            <a:no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سوف يتم التركيز على</a:t>
            </a:r>
            <a:r>
              <a:rPr b="1" lang="ar-SA" sz="2400" spc="-1" strike="noStrike">
                <a:solidFill>
                  <a:srgbClr val="ffffff"/>
                </a:solidFill>
                <a:latin typeface="Arial"/>
              </a:rPr>
              <a:t>	</a:t>
            </a:r>
            <a:endParaRPr b="0" lang="en-US" sz="2400" spc="-1" strike="noStrike">
              <a:solidFill>
                <a:srgbClr val="ffffff"/>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فرق بين المنشئات الخدمية والتجارية.</a:t>
            </a:r>
            <a:endParaRPr b="0" lang="en-US" sz="2400" spc="-1" strike="noStrike">
              <a:solidFill>
                <a:srgbClr val="ffffff"/>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يود المبيعات ومايتعلق بها من مردودات ومسموحات /والخصم /ومصاريف النقل وتأمين والشحن.</a:t>
            </a:r>
            <a:endParaRPr b="0" lang="en-US" sz="2400" spc="-1" strike="noStrike">
              <a:solidFill>
                <a:srgbClr val="ffffff"/>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يود المشتريات ومايتعلق بها من مردودات ومسموحات /والخصم/ومصاريف النقل وتامين والشحن.</a:t>
            </a:r>
            <a:endParaRPr b="0" lang="en-US" sz="2400" spc="-1" strike="noStrike">
              <a:solidFill>
                <a:srgbClr val="ffffff"/>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إعداد قائمة الدخل في المنشئات التجارية .</a:t>
            </a:r>
            <a:endParaRPr b="0" lang="en-US" sz="2400" spc="-1" strike="noStrike">
              <a:solidFill>
                <a:srgbClr val="ffffff"/>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إعداد قيود الإقفال في المنشئات التجار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1523880" y="1397160"/>
          <a:ext cx="6096240" cy="4063680"/>
        </p:xfrm>
        <a:graphic>
          <a:graphicData uri="http://schemas.openxmlformats.org/drawingml/2006/table">
            <a:tbl>
              <a:tblPr/>
              <a:tblGrid>
                <a:gridCol w="1524240"/>
                <a:gridCol w="1523880"/>
                <a:gridCol w="1523880"/>
                <a:gridCol w="1524240"/>
              </a:tblGrid>
              <a:tr h="4063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161616"/>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16161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161616"/>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كلفة البضاعة المتاحة للبيع</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ـــ</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خزون سلعي أخر المدة</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كلفة المبيعات</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جمل الربح</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ـــ</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صاريف بيعية وتشغيلية وإدارية</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صافي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161616"/>
                    </a:solidFill>
                  </a:tcPr>
                </a:tc>
              </a:tr>
            </a:tbl>
          </a:graphicData>
        </a:graphic>
      </p:graphicFrame>
      <p:sp>
        <p:nvSpPr>
          <p:cNvPr id="112" name="Line 17"/>
          <p:cNvSpPr/>
          <p:nvPr/>
        </p:nvSpPr>
        <p:spPr>
          <a:xfrm flipH="1">
            <a:off x="3851280" y="2708280"/>
            <a:ext cx="72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Line 18"/>
          <p:cNvSpPr/>
          <p:nvPr/>
        </p:nvSpPr>
        <p:spPr>
          <a:xfrm flipH="1">
            <a:off x="2268000" y="3213000"/>
            <a:ext cx="7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Line 19"/>
          <p:cNvSpPr/>
          <p:nvPr/>
        </p:nvSpPr>
        <p:spPr>
          <a:xfrm flipH="1">
            <a:off x="2124000" y="4581360"/>
            <a:ext cx="93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1258920" y="1697760"/>
            <a:ext cx="6265800" cy="1922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593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عداد قيود الإقفال للمنشئات التجارية:</a:t>
            </a:r>
            <a:endParaRPr b="0" lang="en-US" sz="2400" spc="-1" strike="noStrike">
              <a:solidFill>
                <a:srgbClr val="ffffff"/>
              </a:solidFill>
              <a:latin typeface="Arial"/>
            </a:endParaRPr>
          </a:p>
          <a:p>
            <a:pPr algn="r" rtl="1">
              <a:tabLst>
                <a:tab algn="l" pos="0"/>
                <a:tab algn="l" pos="593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قيد إقفال المصروفات </a:t>
            </a:r>
            <a:endParaRPr b="0" lang="en-US" sz="2400" spc="-1" strike="noStrike">
              <a:solidFill>
                <a:srgbClr val="ffffff"/>
              </a:solidFill>
              <a:latin typeface="Arial"/>
            </a:endParaRPr>
          </a:p>
          <a:p>
            <a:pPr algn="r" rtl="1">
              <a:tabLst>
                <a:tab algn="l" pos="0"/>
                <a:tab algn="l" pos="593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قيد إقفال الإيرادات</a:t>
            </a:r>
            <a:endParaRPr b="0" lang="en-US" sz="2400" spc="-1" strike="noStrike">
              <a:solidFill>
                <a:srgbClr val="ffffff"/>
              </a:solidFill>
              <a:latin typeface="Arial"/>
            </a:endParaRPr>
          </a:p>
          <a:p>
            <a:pPr algn="r" rtl="1">
              <a:tabLst>
                <a:tab algn="l" pos="0"/>
                <a:tab algn="l" pos="593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قيد إقفال المخزون السلعي </a:t>
            </a:r>
            <a:endParaRPr b="0" lang="en-US" sz="2400" spc="-1" strike="noStrike">
              <a:solidFill>
                <a:srgbClr val="ffffff"/>
              </a:solidFill>
              <a:latin typeface="Arial"/>
            </a:endParaRPr>
          </a:p>
          <a:p>
            <a:pPr algn="r" rtl="1">
              <a:tabLst>
                <a:tab algn="l" pos="0"/>
                <a:tab algn="l" pos="593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4</a:t>
            </a:r>
            <a:r>
              <a:rPr b="0" lang="ar-SA" sz="2400" spc="-1" strike="noStrike">
                <a:solidFill>
                  <a:srgbClr val="ffffff"/>
                </a:solidFill>
                <a:latin typeface="Arial"/>
              </a:rPr>
              <a:t>-قيد إقفال الأرباح والخسائر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0" y="2492280"/>
            <a:ext cx="8675640" cy="2654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نشئات التجارية تعتمد في إستمرارها على ماتحققه من فرق بين تكلفة البضائع التي نشتريها لإعادة بيعها وهو مايعرف بتكلفة البضاعة المباعة وبين إيرادات تلك البضائع وهو مايعرف بمجمل الربح.</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بيعات:</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ي عنصر هام في قائمة الدخل لأنها إيراد وقد تكون نقدا أوتكون بالأجل وقد تكون عينا إستلمته المنشأة والمبيعات لاتظهر إلا إذاكانت تمثل بيع العنصر الأساسي للمنشأ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0" y="487080"/>
            <a:ext cx="9144000" cy="588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103711320"/>
              </a:tabLst>
            </a:pPr>
            <a:r>
              <a:rPr b="1" lang="ar-SA" sz="2000" spc="-1" strike="noStrike">
                <a:solidFill>
                  <a:srgbClr val="ffffff"/>
                </a:solidFill>
                <a:latin typeface="Arial"/>
              </a:rPr>
              <a:t>أنواع الخصم على المبيعلت:</a:t>
            </a:r>
            <a:endParaRPr b="0" lang="en-US" sz="2000" spc="-1" strike="noStrike">
              <a:solidFill>
                <a:srgbClr val="ffffff"/>
              </a:solidFill>
              <a:latin typeface="Arial"/>
            </a:endParaRPr>
          </a:p>
          <a:p>
            <a:pPr algn="ctr" rtl="1">
              <a:tabLst>
                <a:tab algn="l" pos="0"/>
                <a:tab algn="l" pos="103711320"/>
              </a:tabLst>
            </a:pPr>
            <a:r>
              <a:rPr b="0" lang="ar-SA" sz="2000" spc="-1" strike="noStrike">
                <a:solidFill>
                  <a:srgbClr val="ffffff"/>
                </a:solidFill>
                <a:latin typeface="Arial"/>
              </a:rPr>
              <a:t>1</a:t>
            </a:r>
            <a:r>
              <a:rPr b="0" lang="ar-SA" sz="2000" spc="-1" strike="noStrike">
                <a:solidFill>
                  <a:srgbClr val="ffffff"/>
                </a:solidFill>
                <a:latin typeface="Arial"/>
              </a:rPr>
              <a:t>- خصم تجاري              </a:t>
            </a:r>
            <a:r>
              <a:rPr b="0" lang="ar-SA" sz="2000" spc="-1" strike="noStrike">
                <a:solidFill>
                  <a:srgbClr val="ffffff"/>
                </a:solidFill>
                <a:latin typeface="Arial"/>
              </a:rPr>
              <a:t>2</a:t>
            </a:r>
            <a:r>
              <a:rPr b="0" lang="ar-SA" sz="2000" spc="-1" strike="noStrike">
                <a:solidFill>
                  <a:srgbClr val="ffffff"/>
                </a:solidFill>
                <a:latin typeface="Arial"/>
              </a:rPr>
              <a:t>- خصم كمية               </a:t>
            </a:r>
            <a:r>
              <a:rPr b="0" lang="ar-SA" sz="2000" spc="-1" strike="noStrike">
                <a:solidFill>
                  <a:srgbClr val="ffffff"/>
                </a:solidFill>
                <a:latin typeface="Arial"/>
              </a:rPr>
              <a:t>3</a:t>
            </a:r>
            <a:r>
              <a:rPr b="0" lang="ar-SA" sz="2000" spc="-1" strike="noStrike">
                <a:solidFill>
                  <a:srgbClr val="ffffff"/>
                </a:solidFill>
                <a:latin typeface="Arial"/>
              </a:rPr>
              <a:t>- خصم نقدي (خصم تعجيل الدفع)</a:t>
            </a:r>
            <a:endParaRPr b="0" lang="en-US" sz="2000" spc="-1" strike="noStrike">
              <a:solidFill>
                <a:srgbClr val="ffffff"/>
              </a:solidFill>
              <a:latin typeface="Arial"/>
            </a:endParaRPr>
          </a:p>
          <a:p>
            <a:pPr algn="r" rtl="1">
              <a:tabLst>
                <a:tab algn="l" pos="0"/>
                <a:tab algn="l" pos="103711320"/>
              </a:tabLst>
            </a:pPr>
            <a:r>
              <a:rPr b="1" lang="ar-SA" sz="2000" spc="-1" strike="noStrike">
                <a:solidFill>
                  <a:srgbClr val="ffffff"/>
                </a:solidFill>
                <a:latin typeface="Arial"/>
              </a:rPr>
              <a:t>1</a:t>
            </a:r>
            <a:r>
              <a:rPr b="1" lang="ar-SA" sz="2000" spc="-1" strike="noStrike">
                <a:solidFill>
                  <a:srgbClr val="ffffff"/>
                </a:solidFill>
                <a:latin typeface="Arial"/>
              </a:rPr>
              <a:t>-الخصم التجاري:</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هو الفرق بين السعر المعلن على السلعة ومايتفق علية الطرفان (البائع والمشتري)عند البيع ولايظهر بالسجلات.</a:t>
            </a:r>
            <a:endParaRPr b="0" lang="en-US" sz="2000" spc="-1" strike="noStrike">
              <a:solidFill>
                <a:srgbClr val="ffffff"/>
              </a:solidFill>
              <a:latin typeface="Arial"/>
            </a:endParaRPr>
          </a:p>
          <a:p>
            <a:pPr algn="r" rtl="1">
              <a:tabLst>
                <a:tab algn="l" pos="0"/>
                <a:tab algn="l" pos="103711320"/>
              </a:tabLst>
            </a:pPr>
            <a:endParaRPr b="0" lang="en-US" sz="2000" spc="-1" strike="noStrike">
              <a:solidFill>
                <a:srgbClr val="ffffff"/>
              </a:solidFill>
              <a:latin typeface="Arial"/>
            </a:endParaRPr>
          </a:p>
          <a:p>
            <a:pPr algn="r" rtl="1">
              <a:tabLst>
                <a:tab algn="l" pos="0"/>
                <a:tab algn="l" pos="103711320"/>
              </a:tabLst>
            </a:pPr>
            <a:r>
              <a:rPr b="1" lang="ar-SA" sz="2000" spc="-1" strike="noStrike">
                <a:solidFill>
                  <a:srgbClr val="ffffff"/>
                </a:solidFill>
                <a:latin typeface="Arial"/>
              </a:rPr>
              <a:t>2</a:t>
            </a:r>
            <a:r>
              <a:rPr b="1" lang="ar-SA" sz="2000" spc="-1" strike="noStrike">
                <a:solidFill>
                  <a:srgbClr val="ffffff"/>
                </a:solidFill>
                <a:latin typeface="Arial"/>
              </a:rPr>
              <a:t>-خصم الكمية :</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هوخصم يحصل عليه المشتري بسبب شراءه كمية من البضاعة وهو تخفيض في السعر بسبب التعاقد وهو لايظهر بالسجلات.</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نحسب السعر الصافي بعد خصم قيمة الخصم ثم يسجل القيد بالقيمة الصافية.</a:t>
            </a:r>
            <a:endParaRPr b="0" lang="en-US" sz="2000" spc="-1" strike="noStrike">
              <a:solidFill>
                <a:srgbClr val="ffffff"/>
              </a:solidFill>
              <a:latin typeface="Arial"/>
            </a:endParaRPr>
          </a:p>
          <a:p>
            <a:pPr algn="r" rtl="1">
              <a:tabLst>
                <a:tab algn="l" pos="0"/>
                <a:tab algn="l" pos="103711320"/>
              </a:tabLst>
            </a:pPr>
            <a:endParaRPr b="0" lang="en-US" sz="2000" spc="-1" strike="noStrike">
              <a:solidFill>
                <a:srgbClr val="ffffff"/>
              </a:solidFill>
              <a:latin typeface="Arial"/>
            </a:endParaRPr>
          </a:p>
          <a:p>
            <a:pPr algn="r" rtl="1">
              <a:tabLst>
                <a:tab algn="l" pos="0"/>
                <a:tab algn="l" pos="103711320"/>
              </a:tabLst>
            </a:pPr>
            <a:r>
              <a:rPr b="1" lang="ar-SA" sz="2000" spc="-1" strike="noStrike">
                <a:solidFill>
                  <a:srgbClr val="ffffff"/>
                </a:solidFill>
                <a:latin typeface="Arial"/>
              </a:rPr>
              <a:t>3</a:t>
            </a:r>
            <a:r>
              <a:rPr b="1" lang="ar-SA" sz="2000" spc="-1" strike="noStrike">
                <a:solidFill>
                  <a:srgbClr val="ffffff"/>
                </a:solidFill>
                <a:latin typeface="Arial"/>
              </a:rPr>
              <a:t>-الخصم النقدي(المسموح به) :</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يسمى في القيد المحاسبي خصم مسموح به وهو الذي يمنحة البائع إذا قام المشتري بالسداد خلال فترة معينة وهذا الخصم يظهر بالسجلات إذا سدد المشتري خلال الفترة الممنوحة له.</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خطوات القيد المحاسبي:</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تقيد المبيعات بالقيمة كاملة عند التسجيل في اليومية </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يظهر الخصم عند السداد إذا سدد خلال الفترة الممنوح بها الخصم أما إذا سدد بعد نهاية الفترة فلا يستحق الخصم ولايظهر بالسجلات ويسدد الدين كاملا.</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1232640" y="2650680"/>
            <a:ext cx="11610720" cy="15570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ردودات ومسموحات المبيعات:</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ردودات يقصد بها أن العميل يقوم برد جزء أوكل البضاع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سموحات يقصد بها أن المنشأة سمحت بمبلغ معين مقابل إحتفاظ العميل بالبضاعة المعيبة.</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250920" y="1860480"/>
            <a:ext cx="8713800" cy="3143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مبيعات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تمثل في حصر تكلفة البضاعة المشتراة والمتبقية من فترة سابقة وتكلفة البضاعة المشتراة في الفترة الحالية ثم يطرح تكلفة مابقي في المستودعات في نهاية الفترة لتظهر تكلفة البضاعة المباعة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مشتريات</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هي عنصر من عناصر قائمة الدخل وتظهر كأحد بنود تكلفة البضاعة المباعة وقد يتم الشراء نقدا أو بشيك أوبالاجل أو مقابل أصل أومنفعة تم التنازل عنها .يظهر حساب المشتريات إذا تم شراء عناصر تمثل نشاط المنشأة أما شراء عناصر أخرى تعالج في حسابات مستقلة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0" y="1859040"/>
            <a:ext cx="9144000" cy="3143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03711320"/>
              </a:tabLst>
            </a:pPr>
            <a:r>
              <a:rPr b="1" lang="ar-SA" sz="2000" spc="-1" strike="noStrike">
                <a:solidFill>
                  <a:srgbClr val="ffffff"/>
                </a:solidFill>
                <a:latin typeface="Arial"/>
              </a:rPr>
              <a:t>أنواع الخصم على المشتريات:</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خصم تجاري             </a:t>
            </a:r>
            <a:r>
              <a:rPr b="0" lang="ar-SA" sz="2000" spc="-1" strike="noStrike">
                <a:solidFill>
                  <a:srgbClr val="ffffff"/>
                </a:solidFill>
                <a:latin typeface="Arial"/>
              </a:rPr>
              <a:t>2</a:t>
            </a:r>
            <a:r>
              <a:rPr b="0" lang="ar-SA" sz="2000" spc="-1" strike="noStrike">
                <a:solidFill>
                  <a:srgbClr val="ffffff"/>
                </a:solidFill>
                <a:latin typeface="Arial"/>
              </a:rPr>
              <a:t>- خصم كميه            </a:t>
            </a:r>
            <a:r>
              <a:rPr b="0" lang="ar-SA" sz="2000" spc="-1" strike="noStrike">
                <a:solidFill>
                  <a:srgbClr val="ffffff"/>
                </a:solidFill>
                <a:latin typeface="Arial"/>
              </a:rPr>
              <a:t>3</a:t>
            </a:r>
            <a:r>
              <a:rPr b="0" lang="ar-SA" sz="2000" spc="-1" strike="noStrike">
                <a:solidFill>
                  <a:srgbClr val="ffffff"/>
                </a:solidFill>
                <a:latin typeface="Arial"/>
              </a:rPr>
              <a:t>- خصم نقدي (مكتسب)</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1</a:t>
            </a:r>
            <a:r>
              <a:rPr b="1" lang="ar-SA" sz="2000" spc="-1" strike="noStrike">
                <a:solidFill>
                  <a:srgbClr val="ffffff"/>
                </a:solidFill>
                <a:latin typeface="Arial"/>
              </a:rPr>
              <a:t>-2</a:t>
            </a:r>
            <a:r>
              <a:rPr b="1" lang="ar-SA" sz="2000" spc="-1" strike="noStrike">
                <a:solidFill>
                  <a:srgbClr val="ffffff"/>
                </a:solidFill>
                <a:latin typeface="Arial"/>
              </a:rPr>
              <a:t>الخصم التجاري وخصم الكمية:</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 لهما نفس طريقة المعالجة لايظهران بالدفاتر</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إنما يتم تسجيل البضاعة بكامل المبلغ بعد إستبعاد قيمة الخصم التجاري وخصم الكمية .</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 </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3</a:t>
            </a:r>
            <a:r>
              <a:rPr b="1" lang="ar-SA" sz="2000" spc="-1" strike="noStrike">
                <a:solidFill>
                  <a:srgbClr val="ffffff"/>
                </a:solidFill>
                <a:latin typeface="Arial"/>
              </a:rPr>
              <a:t>-خصم نقدي (مكتسب)</a:t>
            </a:r>
            <a:endParaRPr b="0" lang="en-US" sz="2000" spc="-1" strike="noStrike">
              <a:solidFill>
                <a:srgbClr val="ffffff"/>
              </a:solidFill>
              <a:latin typeface="Arial"/>
            </a:endParaRPr>
          </a:p>
          <a:p>
            <a:pPr algn="r" rtl="1">
              <a:tabLst>
                <a:tab algn="l" pos="0"/>
                <a:tab algn="l" pos="103711320"/>
              </a:tabLst>
            </a:pPr>
            <a:r>
              <a:rPr b="0" lang="ar-SA" sz="2000" spc="-1" strike="noStrike">
                <a:solidFill>
                  <a:srgbClr val="ffffff"/>
                </a:solidFill>
                <a:latin typeface="Arial"/>
              </a:rPr>
              <a:t>هو الخصم الذي يحصل عليه المشتري عند السداد في الفترة الممنوحة له من قبل البائع .أما إذا لم يقم بالسداد خلال الفترة الممنوحة له فلا يستحق الخصم إنما يسدد المبلغ كاملا.</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0" y="1836360"/>
            <a:ext cx="8893080" cy="30200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ردودات ومسموحات المشتريات:</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ردودات هي البضائع التي تقوم بردها المنشأة لوجود بعض العيوب ب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سموحات هي البضائع المعيبة التي تحتفظ بها المنشأة مقابل تنازل البائع عن جزء من الثم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صاريف نقل وتأمين المشتريات:</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ضاف مصاريف النقل في قائمة الدخل من ضمن تكلفة المشتريات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0" y="2409480"/>
            <a:ext cx="9144000" cy="2045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خزون السلعي وأثره على تكلفة المبيعات:</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عمليات البيع والشراء مستمرة لادخل لها في بداية الفترة المحاسبية ونهايتها لذلك يحتم وجود بضائع لدى المنشأة التجارية في المخازن تحصر هذة البضائع وتقوم وتظهر في قائمة المركز المالي ضمن الأصول المتداولة (مخزون سلعي برصيد أخر السنة).</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684360" y="1268280"/>
          <a:ext cx="8127720" cy="5632560"/>
        </p:xfrm>
        <a:graphic>
          <a:graphicData uri="http://schemas.openxmlformats.org/drawingml/2006/table">
            <a:tbl>
              <a:tblPr/>
              <a:tblGrid>
                <a:gridCol w="2031840"/>
                <a:gridCol w="2031840"/>
                <a:gridCol w="2032200"/>
                <a:gridCol w="2031840"/>
              </a:tblGrid>
              <a:tr h="64962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endParaRPr b="0" lang="en-US" sz="2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161616"/>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16161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161616"/>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إيراد المبيعات</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ـــــ</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م المبيعات</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خصم مسموح به</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صافي المبيعات</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ــــ</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كلفة البضاعة المباعة</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خزون سلعي أول المدة</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مشتريات</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ــ</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م المشتريات</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خصم مكتسب</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صافي المشتريات</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صاريف نقل وجمارك</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كلفة المشتري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161616"/>
                    </a:solidFill>
                  </a:tcPr>
                </a:tc>
              </a:tr>
            </a:tbl>
          </a:graphicData>
        </a:graphic>
      </p:graphicFrame>
      <p:sp>
        <p:nvSpPr>
          <p:cNvPr id="108" name="Line 15"/>
          <p:cNvSpPr/>
          <p:nvPr/>
        </p:nvSpPr>
        <p:spPr>
          <a:xfrm flipH="1">
            <a:off x="2050920" y="2421000"/>
            <a:ext cx="64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Line 26"/>
          <p:cNvSpPr/>
          <p:nvPr/>
        </p:nvSpPr>
        <p:spPr>
          <a:xfrm flipH="1">
            <a:off x="6012000" y="5445000"/>
            <a:ext cx="72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Line 31"/>
          <p:cNvSpPr/>
          <p:nvPr/>
        </p:nvSpPr>
        <p:spPr>
          <a:xfrm flipH="1">
            <a:off x="6084360" y="6524640"/>
            <a:ext cx="57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20:32:20Z</dcterms:created>
  <dc:creator>User</dc:creator>
  <dc:description/>
  <dc:language>en-US</dc:language>
  <cp:lastModifiedBy>Administrator</cp:lastModifiedBy>
  <dcterms:modified xsi:type="dcterms:W3CDTF">2014-03-16T07:49:00Z</dcterms:modified>
  <cp:revision>4</cp:revision>
  <dc:subject/>
  <dc:title>الفصل الخامس :المحاسبة في المنشئات التجارية</dc:title>
</cp:coreProperties>
</file>