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933-E094-45A2-842C-9130FC12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71E-80F4-42A7-9F46-DF55F7CD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A94-89AA-4529-905F-4FA4B30C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514-9F82-4803-A8D9-1F656A48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E80-85B3-4A6C-B2C1-6271683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A48-FA9B-43FD-8E32-DB4C76C0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523-0D70-4C56-BB69-A1EC15B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8CD-7F89-4B91-9125-AC2A02C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04E-6589-4061-A4CE-BF8FFCA1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615-0EC4-4D01-BAF1-96C4A34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575-4CB1-4F06-AFFC-5146099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E89-B7D1-4421-BBB3-4FEBCAF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300B-A94E-419F-9E06-A28B2DFFE7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9000" y="2604960"/>
            <a:ext cx="9875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راءات المراجعة الداخلية</a:t>
            </a:r>
            <a:br>
              <a:rPr sz="44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فصل الخامس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252440" y="528480"/>
          <a:ext cx="9375840" cy="5810400"/>
        </p:xfrm>
        <a:graphic>
          <a:graphicData uri="http://schemas.openxmlformats.org/drawingml/2006/table">
            <a:tbl>
              <a:tblPr/>
              <a:tblGrid>
                <a:gridCol w="4579920"/>
                <a:gridCol w="2494080"/>
                <a:gridCol w="2301840"/>
              </a:tblGrid>
              <a:tr h="45756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عمليات والمستند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أدلة أو القرائن المتحصل علي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إجراء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328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جرد المستودعات - جرد العهد النقدية والصناديق - معاينة الأصول والموجودا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وجود الفعلي - الملاحظة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عاينة والجر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صادقات الحسابات المدينة والدائنة - العهد والأمان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قرارات من الغ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طلب المصادق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مارات اعتماد الصرف – المسيرات - أذون التسوية - فواتير المشتر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ستند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راجعة المستند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صحة العمليات الحسابية للمسيرات - صحة العمليات الحسابية على الفوات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قة الحس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راجعة الحس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كشوف البنك - كشوف حسابات الموردين والمقاول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قة الحسا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طابقات والتسوي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قارنة الأرصدة للسنة الحالية مع أرصدة السنة الماضية - مقارنة بنود الصرف الفعلية مع البنود المعتم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دى المعقو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قارن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تفسارات من الموظفين. - الاستفسار من المسئولين. - تقصى كفاءة الموظف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520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ستنتاجات من الاستفسارات والتقص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520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حث والتقص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880">
                      <a:solidFill>
                        <a:srgbClr val="5b9bd5"/>
                      </a:solidFill>
                    </a:lnT>
                    <a:lnB w="2520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علاقة بين الأداء الفعلي والمتوق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520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marL="2286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قرينة) مدى المعقو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520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دراسة العلاقة بين البيانات وبعضه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30600">
                    <a:lnL w="2880">
                      <a:solidFill>
                        <a:srgbClr val="5b9bd5"/>
                      </a:solidFill>
                    </a:lnL>
                    <a:lnR w="2880">
                      <a:solidFill>
                        <a:srgbClr val="5b9bd5"/>
                      </a:solidFill>
                    </a:lnR>
                    <a:lnT w="25200">
                      <a:solidFill>
                        <a:srgbClr val="5b9bd5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457200"/>
            <a:ext cx="10058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أدلة وقرائن الإثبات المراجع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17840" y="1496520"/>
            <a:ext cx="100584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خصائص التي يجب توافرها في الدلي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ثيق الصلة بالموضوع محل الفح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قوة الاقناعية للدلي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كفا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عتمد المراجع الداخلي أو الخارجي على نظام العينة ، حيث يقوم بفحص عينة من المجتمع محل المراجعة للوصول إلى استنتاجات عن المجتمع كك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معاينة في المراج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عملية اختيار وفحص جزء من مجموعة كاملة ومتصلة للحصول على معلومات أو دراسة بعض الصفات عن تلك المجموعة ومن ثم تعميمها على المجموعة التي اختيرت منها كك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المجتمع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وحدات العين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مكن تطبيق هذه العملية إما استنادا إلى التقدير الشخصي للمراجع (معاينة حكمية أو تقديرية) أو باستخدام الأساليب الرياضية والإحصائية (معاينة إحصائ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ا الهدف من استخدام أسلوب العينات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19160" y="1606680"/>
            <a:ext cx="100584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مكن تصنيف أساليب المعاينة بحسب الغرض من استخدامها إل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معاينة الصفات : ( المستخدم هنا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ستخدم لأغراض اختبارات الالتزام بتنفيذ السياسات والإجراءات الرقابية الموضوعة والتي يتضمنها هيكل الرقابة الداخلية لدى عميل المراجعة (أي اختبارات الرقابة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عاينة المتغيرات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ستخدم لأغراض اختبارات التحقق التفصيلية من الأرصدة والعمليات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في هذا النوع من الاختبارات يهتم المراجع بالقيم النقدية التي تعرضها القوائم المال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47360" y="16776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48800" y="1514160"/>
            <a:ext cx="10896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خطر الذي يتعرض له المراجع عن استخدام العينات لأغراض المراجعة نوعا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طر المعاين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حتمال أن تكون النتائج التي يتوصل إليها المراجع من فحصه للعينة ليست هي نفس النتائج التي يمكن أن يتوصل إليها إذا قام بفحص شامل للمجتمع كل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بب 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ر غيرالمرتبط باستخدام العينات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ضمن جميع جوانب مخاطر المراجعة التي لا ترجع إلى استخدام أساليب المعاينة والتي تعرض لها المراجع حتى وأن قام بفحص المجتمع كله أو قام بفحص مفردة واحد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هذه الأخطار مصدرها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استخدام إجراءات مراجعة لا تتناسب مع الهدف محل الفح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استخدام أساليب مراجعة صحيحة ولكن يتم تطبيقها بطريقة خاطئة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أساليب مراجعة صحيحة وتطبيقها بطريقة لكن يتم تفسير النتائج بطريقة خاطئ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ستخدام العينات لأغراض المراجعة الداخلي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66680" y="1690560"/>
            <a:ext cx="10058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طرق اختيار العين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رق الاختيار الحك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طرق الاختيار العشوائ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اختيار على أساس الأرقام العشوائ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اختيار المنتظم مع بداية عشوائ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معاينة الطبق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85800" y="1851120"/>
            <a:ext cx="1005840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خطوات استخدام أساليب المعاينة (الحكمية أو الإحصائية)  لفحص نظام الرقابة الداخل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أولي:  تخطيط وتصميم العي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نية:  اختيار العينة وتنفيذ إجراءات المراجع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لثة: تقويم نتائج العي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رابعة: توثيق إجراءات المعاين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12880" y="1736640"/>
            <a:ext cx="10058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أولى:  تخطيط وتصميم العين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6920" indent="-23652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تضمن هذه الخطوة قيام المراجع بالإجراءات التالي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هدف من الفحص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مجتمع ووحدة المعاين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خطأ والانحراف عن نظام الرقابة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عدل الانحراف المسموح ب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ستوى الثقة المرغوب فيه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عدل الانحراف المتوقع في المجتم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457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تحديد حجم العينة (حكمي او احصائي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96920" y="1846440"/>
            <a:ext cx="10058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نية: اختيار مفردات العينة وتنفيذ إجراءات المراج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ختيار مفردات العينة باستخدام احد الأساليب الإحصائية او الحك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فيذ إجراءات المراجعة مثل الجر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90200" y="1719360"/>
            <a:ext cx="98362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لثة: تقويم نتائج العين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أولا: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قويم الحكمي لنتائج فحص العين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لمقياس الوحيد الذي يمكن حسابه كميا هو معدل الأخطاء أو الانحرافات بالعينة ويحسب كما يلي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cs typeface="Arial"/>
              </a:rPr>
              <a:t>معدل الانحرافات بالعينة = عدد الانحرافات / حجم ال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انيا: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قويم الإحصائي لنتائج فحص العين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أجندة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هذا الفصل سيناقش النقاط التالية و الخاصة بتنفيذ عملية المراجع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خطاب الإعلان عن مهمة ا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كيفية الرقابة على تنفيذ مهام المراج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جراءات المراجعة التي يمكن استخدام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دلة وقرائن المراجعة التي يمكن الاعتماد ع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4572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العينات لأغراض المراجعة الداخ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صفات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06680" y="1538280"/>
            <a:ext cx="100584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رابعة: توثيق إجراءات المعاينة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وصف للإجراء الرقابي الذي تم اختباره والهدف من الاختبار، بما في ذلك علاقته باختبارات التحقق التفصيلية المخطط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حديد للمجتمع ووحدة المعاي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حديد للظروف التي تعبر عن وجود انحرا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أساس الذي استند إليه المراجع في تحديد مستوى الثقة، ومعدل الانحراف المسموح به، والمعدل المتوقع للانحراف في المجتم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طريقة المستخدمة في تحديد حجم العينة، والطريقة المستخدمة في اختيار مفردات العي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وصف لإجراءات المعاينة التي تم اتباعها، وقائمة بالانحرافات التي تم اكتشافها في العين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تقويم العينة وملخص بالاستنتاجات العامة التي توصل إليها المراج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6160" y="2173320"/>
            <a:ext cx="1005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هدف منها التحقق ما اذا كا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قيم النقدية لأرصدة الحسابات تشتمل على خطأ جوهر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للمراجع استخدام أي من أساليب المعاينة الإحصائية أو المعاينة غير الإحص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تطلب تطبيق معاينة المتغيرات ضرورة قيام المراجع بخطوات محددة مثل تلك التي يقوم بها عند استخدام عينات المراجعة لأغراض اختبارات الرقاب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58520" y="231480"/>
            <a:ext cx="999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11280" y="1733040"/>
            <a:ext cx="1016640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أولى: تخطيط العين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هدف من الاختبار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مجتمع ووحدة المعاين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ستوى الثقة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انحراف المعياري المتوقع للمجتم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الخطأ المسموح به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480" indent="-34272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حديد حجم العين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33040" y="1800360"/>
            <a:ext cx="97203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نية: اختيار مفردات العي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راجع استخدام طريقة اختيار العينة التي يترتب عليها اختيار عينة ممثلة ل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فضل في اختبارات التحقق التفصيلية استخدام إحدى طرق الاختيار العشوائ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ثالثة: تنفيذ إجراءات المراجع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تنفيذ إجراءات المراجعة على جميع مفردات العي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إذا لم يتمكن المراجع من تنفيذ إجراءات المراجعة المخططة على بعض مفردات العينة فإن معالجته لهذه المفردات تتوقف على أثرها تقويمه لنتائج العي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ذا وجد المراجع أن تقويمه لنتائج العينة سوف يختلف إذا اعتبر هذه المفردات تحتوي على خطأ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إذا كان يعتبر تلك المفردات التي لم يتمكن من فحصها انها تحتوي على خطأ و لكن لا يغير في تقويم المراجع لنتائج العين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7000" y="1882800"/>
            <a:ext cx="100584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رابعة: تقويم نتائج العي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م يقوم المراجع بمقارنة الخطأ الإجمالي المقدر في المجتمع مع القيمة النقدية للخطأ المسموح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خطوة الخامسة: توثيق إجراءات المعاين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جب على المراجع توثيق جميع الإجراءات التي قام بها عند استخدام عينات المراجعة لأغراض اختبارات التحقق التفصيلية للأرصدة والعملي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معاينة المتغيرات /التحقق من صحة الأرصدة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90760" y="2014560"/>
            <a:ext cx="100584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المعاينة الحكمية في التحقق من صحة الأرص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حديد حجم العينة واختيار مفرداتها وكذلك تقويم نتائج المعاينة يتم وفقا للتقدير الشخصي للمراج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يتطلب تطبيق أسلوب المعاينة الحكمية لفحص العمليات والأرصدة اتباع نفس الخطوات الخاصة بتطبيق المعاينة الإحصائية مع الأخذ في الاعتبار بعض الاختلافات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ختلاف في تحديد حجم العينة: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تحدد حجم العينة حكميا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اختلاف في اختيار مفردات العين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ليس هناك ما يمنع من اختيار مفردات العينة بطريقة عشوائية عند استخدام المعاينة الحكمية ، ولكن عادة يختار المراجع مفردات العينة حكميا بحيث تكون ممثلة للمجتمع المحاسبي الذي سحبت من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واجب -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حل – بصورة منفردة – التمرين الذي سيكون موجودا بعد المحاضرة على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خلال مده أقصاها أسبو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رقابة والمراجعة الداخلية في الأجهزة الحكومية والمؤسسات العامة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C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لاحظات و عروض الاستاذه هناء العق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ما هية المراجعه الداخلية – نايف آل خليف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ساسيات التدقيق الداخلي 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خطاب الإعلان عن مهمة المراجعة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تبدأ مرحلة التنفيذ بإعلام الجهة المراد مراجعتها بمهمة المراجع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عن طريق خطاب الإعلان الصادر عن المسئول الأول بإدارة المراجعة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كون قبل فترة معقولة من تاريخ بدأ المهمة (أسبوع إلى ثلاثة أسابي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حتوي الخطاب على أهداف ونطاق المراجعة، أسماء المراجعين المسئولين عن تنفيذ المهمة، والمعلومات الأخرى ذات العلا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5080" y="252000"/>
            <a:ext cx="10058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4000"/>
            </a:br>
            <a:r>
              <a:rPr b="0" lang="ar-SA" sz="48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الرقابة على تنفيذ مهام المراجعة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47880" y="1692000"/>
            <a:ext cx="105156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أهداف الرقابة على تنفيذ مهام المراج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متابعة والإشراف الدقيق على سير عمل فريق ا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راقبة الوقت الفعلي المستهلك في تنفيذ المهمة لضمان فعالية فريق العمل والالتزام بالخطط والجداول الزمنية للمه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تمكن من اكتشاف أية تجاوزات في تنفيذ مهمة المراجعة والتعامل معها أولاً بأو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3840" y="255600"/>
            <a:ext cx="95612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الرقابة على تنفيذ مهام المراجع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آليات الرقابة على تنفيذ مهام المراجع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جدول ضبط الوقت لكل مراج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ملخص زمني للمه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تقارير درجة التقدم في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4000"/>
            </a:br>
            <a:r>
              <a:rPr b="0" lang="ar-SA" sz="44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إجراءات المراجعة الداخلية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614240"/>
            <a:ext cx="10515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هو الأسلوب أو الوسيلة التي يستخدمها المراجع للحصول على دليل أو قرينة بغرض تحقيق هدف المراجع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أمثلة على أهم إجراءات المراجعة المتعارف عليها والأكثر استخداما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ea typeface="Arial"/>
              </a:rPr>
              <a:t> إجراء المقابلات الشخصية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طلب المصادقات والشهادات والإقرارات من الغي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rial"/>
              </a:rPr>
              <a:t>المراجعة التحليلية والحسابية والمستندية والانتقاد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361440"/>
            <a:ext cx="10058400" cy="10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أدلة وقرائن الإثبات المراجع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مفهوم الإثبا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إثبات في المراجعة هو الحصول على القناعة بصحة أو عدم صحة قضية أو أمر معين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أدلة والقرائ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دلة  : تكون مباشرة على القضية وتتصل بإثباتها مباشرة والدليل يحوز قوة إقناعيه لإثبات الح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قرينة : ترتبط بقضية معينة وتثبت قضية أخرى بصورة غير مباشرة أي أنها تتضمن استنتاج احتمالي بشيء م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3840" y="22176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دلة وقرائن الإثبات المراجع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65440" y="1436400"/>
            <a:ext cx="999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نواع الأدلة والقرائ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ي الوحدات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جار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مليات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حكوم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؟ّ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مثلة على أدلة وقرائن المراجع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وجود الفعلي.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إقرارات من الغي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مستندات الداخلية والخارج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دقة الحساب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تأكيدات الشفهية.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علاقة بين البيانات وبعض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استنتاجات (من الملاحظة والمقابلات والاستفسارات والتقصي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alibri Light"/>
                <a:cs typeface="Times New Roman"/>
              </a:rPr>
              <a:t>أدلة وقرائن الإثبات المراجع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04720" y="1566360"/>
            <a:ext cx="106203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علاقة أدلة الإثبات بالأساليب الفنية للمراج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2600" algn="just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في الجدول التال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10:02:21Z</dcterms:created>
  <dc:creator>hana</dc:creator>
  <dc:description/>
  <dc:language>en-US</dc:language>
  <cp:lastModifiedBy>kayan albalawi</cp:lastModifiedBy>
  <dcterms:modified xsi:type="dcterms:W3CDTF">2017-03-21T20:55:42Z</dcterms:modified>
  <cp:revision>201</cp:revision>
  <dc:subject/>
  <dc:title>PowerPoint Presentation</dc:title>
</cp:coreProperties>
</file>