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188DA-7227-4B5E-953D-D7338514D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B6E84-E37C-4A80-AB98-89A5382D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2E7FB-5AFD-4B97-BC26-D11E8F631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94FF5-EF2F-46A8-9387-A078AE69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A139A-4180-4EB7-964D-B32905842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54406-32D2-400E-BEA2-48D3F32AA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E36CC-86B3-4185-A226-3882CDAA7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DE6F8-E8CF-4BC9-B4F3-2291523C7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08BEF-D29E-4FF8-924F-051DAE471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9AD55-8D17-4C9E-9432-1FD551941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27212-7586-438B-B380-5CD94C687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FC236-112D-48F1-A6E5-B1B1BED4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8B810-93F6-49DA-A978-D935FC439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B68D-26B1-41B3-BAA2-7A775DE1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03D4F-6944-45B2-BFC6-FFAB66AA2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E4D5E-9BB5-46D3-9615-E308DAE76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31BA2-A378-462D-8E4D-345918324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5AF46-F27D-4E69-ABFF-B5909EAE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5EA48-0BDD-44F8-888A-08B94DDEC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19E53-D59C-4939-BF8D-F8EC7482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9B2EB-43CB-464D-BC44-48AB7EB69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E5D0-BD22-4A72-BFCE-D6FCC72E6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35CD-338B-42E7-A7A2-48AA79F0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74ED0-4AE5-4F09-8B0D-43CBDF654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6ACF-1F22-4E8F-9EF6-602B9E9BC05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85C1-CEAF-4B6C-ADE4-A2E7E8910B75}" type="slidenum">
              <a:rPr b="0" lang="ar-SA"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700" spc="-1" strike="noStrike">
                <a:solidFill>
                  <a:srgbClr val="ffffcc"/>
                </a:solidFill>
                <a:latin typeface="Arial"/>
              </a:rPr>
              <a:t>الفصل الرابع : تسوية الحسابات وإقفالها</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سوف يتم التركيز على الموضوعات التالية:</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فهوم الفترة المحاسبية.</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عنى التسويات والحاجة لها.</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عنى أساس الإستحقاق في المحاسبة.</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إعداد قيود التسوي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لماذا الحاجة إلى تسوية بعض الحسابات؟</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حن نقسم حياة المشروع إلى فترات محاسبية وذلك بتحديد نتيجة أعمال كل فترة محاسبية تبعا</a:t>
            </a:r>
            <a:endParaRPr b="0" lang="en-US" sz="2800" spc="-1" strike="noStrike">
              <a:solidFill>
                <a:srgbClr val="eaeaea"/>
              </a:solidFill>
              <a:latin typeface="Verdana"/>
            </a:endParaRPr>
          </a:p>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 لمفهوم الإستحقاق</a:t>
            </a:r>
            <a:endParaRPr b="0" lang="en-US" sz="2800" spc="-1" strike="noStrike">
              <a:solidFill>
                <a:srgbClr val="eaeaea"/>
              </a:solidFill>
              <a:latin typeface="Verdana"/>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يث يتم الإعتراف بالإيرادات والمصروفات متى كانت متعلقة بفترة زمنية معينة بغض النظر عما إذاكانت هذة الإيرادات قبضت أم لا وأن هذة المصروفات دفعت أم لا.</a:t>
            </a:r>
            <a:endParaRPr b="0" lang="en-US" sz="2800" spc="-1" strike="noStrike">
              <a:solidFill>
                <a:srgbClr val="eaeaea"/>
              </a:solidFill>
              <a:latin typeface="Verdana"/>
            </a:endParaRPr>
          </a:p>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أيضا تبعا لمفهوم المقابلة </a:t>
            </a:r>
            <a:endParaRPr b="0" lang="en-US" sz="2800" spc="-1" strike="noStrike">
              <a:solidFill>
                <a:srgbClr val="eaeaea"/>
              </a:solidFill>
              <a:latin typeface="Verdana"/>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م مقابلة إيراد كل فترة محاسبية بالمصاريف الخاصة بتلك الفترة حتى تعبر القوائم المالية بشكل دقيق عن المركزالمالي للمنشأة ونتيجة أعمالها.</a:t>
            </a:r>
            <a:endParaRPr b="0" lang="en-US" sz="2800" spc="-1" strike="noStrike">
              <a:solidFill>
                <a:srgbClr val="eaeaea"/>
              </a:solidFill>
              <a:latin typeface="Verdana"/>
            </a:endParaRPr>
          </a:p>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لذلك لابد من عمل تسوية للحسابات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814320" y="391320"/>
            <a:ext cx="10769760" cy="4178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rtl="1">
              <a:lnSpc>
                <a:spcPct val="100000"/>
              </a:lnSpc>
              <a:tabLst>
                <a:tab algn="l" pos="0"/>
                <a:tab algn="l" pos="103711320"/>
              </a:tabLst>
            </a:pPr>
            <a:r>
              <a:rPr b="1" lang="ar-SA" sz="2800" spc="-1" strike="noStrike">
                <a:solidFill>
                  <a:srgbClr val="eaeaea"/>
                </a:solidFill>
                <a:latin typeface="Arial"/>
              </a:rPr>
              <a:t>*تسوية الحسابات:</a:t>
            </a:r>
            <a:endParaRPr b="0" lang="en-US" sz="2800" spc="-1" strike="noStrike">
              <a:solidFill>
                <a:srgbClr val="eaeaea"/>
              </a:solidFill>
              <a:latin typeface="Verdana"/>
            </a:endParaRPr>
          </a:p>
          <a:p>
            <a:pPr marL="343080" indent="-343080" algn="r" rtl="1">
              <a:lnSpc>
                <a:spcPct val="100000"/>
              </a:lnSpc>
              <a:tabLst>
                <a:tab algn="l" pos="0"/>
                <a:tab algn="l" pos="103711320"/>
              </a:tabLst>
            </a:pPr>
            <a:r>
              <a:rPr b="0" lang="ar-SA" sz="2400" spc="-1" strike="noStrike">
                <a:solidFill>
                  <a:srgbClr val="eaeaea"/>
                </a:solidFill>
                <a:latin typeface="Arial"/>
              </a:rPr>
              <a:t>هوالمعالجة الحسابية التي تؤدي إلى تحديد إيرادات ومصروفات الفترة المحاسبية.</a:t>
            </a:r>
            <a:endParaRPr b="0" lang="en-US" sz="2400" spc="-1" strike="noStrike">
              <a:solidFill>
                <a:srgbClr val="eaeaea"/>
              </a:solidFill>
              <a:latin typeface="Verdana"/>
            </a:endParaRPr>
          </a:p>
          <a:p>
            <a:pPr marL="343080" indent="-343080" algn="r" rtl="1">
              <a:lnSpc>
                <a:spcPct val="100000"/>
              </a:lnSpc>
              <a:tabLst>
                <a:tab algn="l" pos="0"/>
                <a:tab algn="l" pos="103711320"/>
              </a:tabLst>
            </a:pPr>
            <a:endParaRPr b="0" lang="en-US" sz="2400" spc="-1" strike="noStrike">
              <a:solidFill>
                <a:srgbClr val="eaeaea"/>
              </a:solidFill>
              <a:latin typeface="Verdana"/>
            </a:endParaRPr>
          </a:p>
          <a:p>
            <a:pPr marL="343080" indent="-343080" algn="r" rtl="1">
              <a:lnSpc>
                <a:spcPct val="100000"/>
              </a:lnSpc>
              <a:tabLst>
                <a:tab algn="l" pos="0"/>
                <a:tab algn="l" pos="103711320"/>
              </a:tabLst>
            </a:pPr>
            <a:r>
              <a:rPr b="0" lang="ar-SA" sz="2400" spc="-1" strike="noStrike">
                <a:solidFill>
                  <a:srgbClr val="eaeaea"/>
                </a:solidFill>
                <a:latin typeface="Arial"/>
              </a:rPr>
              <a:t>سوف يتم تسوية للحسابات التالية:</a:t>
            </a:r>
            <a:endParaRPr b="0" lang="en-US" sz="2400" spc="-1" strike="noStrike">
              <a:solidFill>
                <a:srgbClr val="eaeaea"/>
              </a:solidFill>
              <a:latin typeface="Verdana"/>
            </a:endParaRPr>
          </a:p>
          <a:p>
            <a:pPr marL="343080" indent="-343080" algn="r" rtl="1">
              <a:lnSpc>
                <a:spcPct val="100000"/>
              </a:lnSpc>
              <a:tabLst>
                <a:tab algn="l" pos="0"/>
                <a:tab algn="l" pos="103711320"/>
              </a:tabLst>
            </a:pP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مصروفات المقدمة.</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مهام واللوازم المكتبية.</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مصاريف الإستهلاك.</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مصاريف المستحقة.</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إيرادات المقدمة .</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إيرادات المستحق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1361520"/>
            <a:ext cx="9144000" cy="4178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03711320"/>
              </a:tabLst>
            </a:pPr>
            <a:r>
              <a:rPr b="1" lang="ar-SA" sz="2800" spc="-1" strike="noStrike">
                <a:solidFill>
                  <a:srgbClr val="ff0000"/>
                </a:solidFill>
                <a:latin typeface="Arial"/>
              </a:rPr>
              <a:t>1</a:t>
            </a:r>
            <a:r>
              <a:rPr b="1" lang="ar-SA" sz="2800" spc="-1" strike="noStrike">
                <a:solidFill>
                  <a:srgbClr val="ff0000"/>
                </a:solidFill>
                <a:latin typeface="Arial"/>
              </a:rPr>
              <a:t>-المصروفات المقدمة:</a:t>
            </a:r>
            <a:endParaRPr b="0" lang="en-US" sz="28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هي تكاليف مسجلة تم إثباتها بالسجلات المحاسبية خلال الفترة المحاسبية الحالية وهي تخص أكثر من فترة محاسبية لذلك ينبغي تخصيصها على فترتين محاسبيتين أوأكثر حسب إستفادة كل فترة فالجزء الذي يخص السنة الحالية يعتبر مصروفا والجزئ الذي يخص السنوات التالية يعتبر من ضمن الأصول المتداولة .</a:t>
            </a:r>
            <a:endParaRPr b="0" lang="en-US" sz="2400" spc="-1" strike="noStrike">
              <a:solidFill>
                <a:srgbClr val="eaeaea"/>
              </a:solidFill>
              <a:latin typeface="Verdana"/>
            </a:endParaRPr>
          </a:p>
          <a:p>
            <a:pPr algn="r" rtl="1">
              <a:lnSpc>
                <a:spcPct val="100000"/>
              </a:lnSpc>
              <a:tabLst>
                <a:tab algn="l" pos="0"/>
                <a:tab algn="l" pos="103711320"/>
              </a:tabLst>
            </a:pPr>
            <a:endParaRPr b="0" lang="en-US" sz="2400" spc="-1" strike="noStrike">
              <a:solidFill>
                <a:srgbClr val="eaeaea"/>
              </a:solidFill>
              <a:latin typeface="Verdana"/>
            </a:endParaRPr>
          </a:p>
          <a:p>
            <a:pPr algn="r" rtl="1">
              <a:lnSpc>
                <a:spcPct val="100000"/>
              </a:lnSpc>
              <a:tabLst>
                <a:tab algn="l" pos="0"/>
                <a:tab algn="l" pos="103711320"/>
              </a:tabLst>
            </a:pPr>
            <a:r>
              <a:rPr b="1" lang="ar-SA" sz="2400" spc="-1" strike="noStrike">
                <a:solidFill>
                  <a:srgbClr val="ff0000"/>
                </a:solidFill>
                <a:latin typeface="Arial"/>
              </a:rPr>
              <a:t>2</a:t>
            </a:r>
            <a:r>
              <a:rPr b="1" lang="ar-SA" sz="2400" spc="-1" strike="noStrike">
                <a:solidFill>
                  <a:srgbClr val="ff0000"/>
                </a:solidFill>
                <a:latin typeface="Arial"/>
              </a:rPr>
              <a:t>-المهام واللوازم المكتبية :</a:t>
            </a:r>
            <a:endParaRPr b="0" lang="en-US" sz="24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هي أصل من الأصول المتداولة يعامل كالتالي ماأستخدم منها يعتبر مصروف يخص السنة الحالية وماتبقى لم يستخدم يعتبر أصل متداول.</a:t>
            </a:r>
            <a:endParaRPr b="0" lang="en-US" sz="2400" spc="-1" strike="noStrike">
              <a:solidFill>
                <a:srgbClr val="eaeaea"/>
              </a:solidFill>
              <a:latin typeface="Verdana"/>
            </a:endParaRPr>
          </a:p>
          <a:p>
            <a:pPr algn="ctr">
              <a:lnSpc>
                <a:spcPct val="100000"/>
              </a:lnSpc>
              <a:tabLst>
                <a:tab algn="l" pos="0"/>
                <a:tab algn="l" pos="10371132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0" y="1333440"/>
            <a:ext cx="9144000" cy="4239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03711320"/>
              </a:tabLst>
            </a:pPr>
            <a:r>
              <a:rPr b="1" lang="ar-SA" sz="2800" spc="-1" strike="noStrike">
                <a:solidFill>
                  <a:srgbClr val="ff0000"/>
                </a:solidFill>
                <a:latin typeface="Arial"/>
              </a:rPr>
              <a:t>3</a:t>
            </a:r>
            <a:r>
              <a:rPr b="1" lang="ar-SA" sz="2800" spc="-1" strike="noStrike">
                <a:solidFill>
                  <a:srgbClr val="ff0000"/>
                </a:solidFill>
                <a:latin typeface="Arial"/>
              </a:rPr>
              <a:t>-مصاريف الإستهلاك</a:t>
            </a:r>
            <a:r>
              <a:rPr b="0" lang="ar-SA" sz="2800" spc="-1" strike="noStrike">
                <a:solidFill>
                  <a:srgbClr val="ff0000"/>
                </a:solidFill>
                <a:latin typeface="Arial"/>
              </a:rPr>
              <a:t>:</a:t>
            </a:r>
            <a:endParaRPr b="0" lang="en-US" sz="28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تشتري المنشأة أصول ثابتة مثل (العقارات – المباني – السيارات ) لتستخدمها أكثر من سنة مالية وبما أن الأصل سيستفيد منة أكثر من فترة محاسبية فيجب أن تحمل هذة الفترات بجزء من تكلفة الأصل وهذا مايعرف بمفهوم الإستهلاك.</a:t>
            </a:r>
            <a:endParaRPr b="0" lang="en-US" sz="2400" spc="-1" strike="noStrike">
              <a:solidFill>
                <a:srgbClr val="eaeaea"/>
              </a:solidFill>
              <a:latin typeface="Verdana"/>
            </a:endParaRPr>
          </a:p>
          <a:p>
            <a:pPr algn="r" rtl="1">
              <a:lnSpc>
                <a:spcPct val="100000"/>
              </a:lnSpc>
              <a:tabLst>
                <a:tab algn="l" pos="0"/>
                <a:tab algn="l" pos="103711320"/>
              </a:tabLst>
            </a:pPr>
            <a:endParaRPr b="0" lang="en-US" sz="2400" spc="-1" strike="noStrike">
              <a:solidFill>
                <a:srgbClr val="eaeaea"/>
              </a:solidFill>
              <a:latin typeface="Verdana"/>
            </a:endParaRPr>
          </a:p>
          <a:p>
            <a:pPr algn="r" rtl="1">
              <a:lnSpc>
                <a:spcPct val="100000"/>
              </a:lnSpc>
              <a:tabLst>
                <a:tab algn="l" pos="0"/>
                <a:tab algn="l" pos="103711320"/>
              </a:tabLst>
            </a:pPr>
            <a:r>
              <a:rPr b="1" lang="ar-SA" sz="2800" spc="-1" strike="noStrike">
                <a:solidFill>
                  <a:srgbClr val="ff0000"/>
                </a:solidFill>
                <a:latin typeface="Arial"/>
              </a:rPr>
              <a:t>4</a:t>
            </a:r>
            <a:r>
              <a:rPr b="1" lang="ar-SA" sz="2800" spc="-1" strike="noStrike">
                <a:solidFill>
                  <a:srgbClr val="ff0000"/>
                </a:solidFill>
                <a:latin typeface="Arial"/>
              </a:rPr>
              <a:t>-المصاريف المستحقة</a:t>
            </a:r>
            <a:r>
              <a:rPr b="0" lang="ar-SA" sz="2400" spc="-1" strike="noStrike">
                <a:solidFill>
                  <a:srgbClr val="ff0000"/>
                </a:solidFill>
                <a:latin typeface="Arial"/>
              </a:rPr>
              <a:t>:</a:t>
            </a:r>
            <a:endParaRPr b="0" lang="en-US" sz="24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تمثل المصروفات التي تخص الفترة المحاسبية الحالية وتمثل قيمة سلع وخدمات استفادت منها المنشأة خلال الفترة ولم تسدد قيمتها بعد حتى نهاية الفترة وعلى ذلك فهي تمثل إلتزام على المنشأة للغير ولم تسجلها بالدفاتر المحاسبية لذلك فلابد من عمل تسوية لها في نهاية السنة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0" y="970200"/>
            <a:ext cx="9144000" cy="4970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5</a:t>
            </a:r>
            <a:r>
              <a:rPr b="1" lang="ar-SA" sz="2800" spc="-1" strike="noStrike">
                <a:solidFill>
                  <a:srgbClr val="ff0000"/>
                </a:solidFill>
                <a:latin typeface="Arial"/>
              </a:rPr>
              <a:t>-الإيرادات المقدمة:</a:t>
            </a:r>
            <a:endParaRPr b="0" lang="en-US" sz="28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Arial"/>
              </a:rPr>
              <a:t>هي تمثل الإيرادت المحصلة مقدما والتي تم إثباتها بالدفاتر قبل تحققها أي قبل تقديم الخدمة فعند تحصيل هذة الإيرادات تعتبر دينا على المنشأة للغير حتى يتم تقديم الخدمة فإذا تم إنجاز جزء من هذة الخدمة يعتبر هذا الجزء فقط إيراد محقق ويظهر في قائمة المركز المالي وعادة يظهر الإيراد المقدم كرصيد في ميزان المراجعة وعلية نقوم بطرح الإيراد الذي يخص السنة منة.</a:t>
            </a:r>
            <a:endParaRPr b="0" lang="en-US" sz="24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6</a:t>
            </a:r>
            <a:r>
              <a:rPr b="1" lang="ar-SA" sz="2800" spc="-1" strike="noStrike">
                <a:solidFill>
                  <a:srgbClr val="ff0000"/>
                </a:solidFill>
                <a:latin typeface="Arial"/>
              </a:rPr>
              <a:t>-الإيرادات المستحقة :</a:t>
            </a:r>
            <a:endParaRPr b="0" lang="en-US" sz="28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Arial"/>
              </a:rPr>
              <a:t>هي إيرادات عن خدمات أديت أو سلع سلمت فعلا خلال السنة المالية ولكنها لم تحصل بعد كما إنها لم تسجل حتى نهاية السنة المالية ويقتضي هذا الأمر عمل تسوية لتحديد الإيرادات المستحقة في نهاية الفترة المالية وتسجيلها بإعتبارها تخص الفترة المحاسبية المنتهية. </a:t>
            </a:r>
            <a:endParaRPr b="0" lang="en-US" sz="24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59:59Z</dcterms:created>
  <dc:creator>User</dc:creator>
  <dc:description/>
  <dc:language>en-US</dc:language>
  <cp:lastModifiedBy>user</cp:lastModifiedBy>
  <dcterms:modified xsi:type="dcterms:W3CDTF">2015-02-23T07:42:34Z</dcterms:modified>
  <cp:revision>3</cp:revision>
  <dc:subject/>
  <dc:title>الفصل الرابع : تسوية الحسابات وإقفالها</dc:title>
</cp:coreProperties>
</file>