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84D-D6E7-4CC6-B566-31C58674B6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D5A6-44B3-4AFF-8821-5006ED32DD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6BB6-3E63-4724-94FA-3F21FA5C02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2A75-E013-4E65-8B23-58635F782A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45F1-EEEA-4E1E-BD8B-2A89CFDAE4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3AB4-77DE-4236-BCDA-4D6CD8AFD4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D038-3E29-494D-8875-426A74F6AD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04C8-EB96-4E6A-BE4B-DD7248087E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C60D-36EB-4952-AB6E-F4A99FD672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2A4D-8C07-4CD9-A574-5E60B557CF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ed7d31"/>
              </a:solidFill>
              <a:latin typeface="Calibri"/>
              <a:ea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7A0-A59B-48D0-A631-7F95C2FBB0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511-AF81-47A7-946E-6148D119D3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1E6-28E0-42C3-B06A-0D26DC13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6D5-D2C3-478C-AC7D-99879756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18E-EBF1-47A1-BCE0-8DCB2A17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D53-E7D3-4359-9E4D-A74CAD84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AC2-4A91-46C5-8196-49669DC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6B5-DCE0-4AA4-8DFD-9CEAE6E6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3BA-9CC8-4652-B470-0390171B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9E0-F78C-442E-94BA-16387B9E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CB7-D584-4FED-B321-EB0E5C65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400-06DF-4E98-A44D-38F5595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CDC-C505-4FD8-9A76-FCA1628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C83-8679-4A83-860F-A7BF849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41F-9FAD-4332-BEBF-D96EC8F1C7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9120" y="3249720"/>
            <a:ext cx="987588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خطيط عملية المراجعة</a:t>
            </a:r>
            <a:br>
              <a:rPr sz="4900"/>
            </a:br>
            <a:br>
              <a:rPr sz="4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فصل الرابع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صدار خطة المراجعة الدا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عد تجهيز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خطة المراجعة الداخلي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عرضها على أعلى مستوى اداري لاعتمادها وقد يتم إجراء تعديلات عليها قبل الموافقة النهائية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د خطة/برنامج مراجعة خاص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بكل مهم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ن قبل المراجع المسؤول عن تنفيذ المهمة ويقوم باعتمادها من مدير المراجعة الداخلية ويجب أن يتم توثي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 التعديلات على خطة المراجعة الدا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ذا حدثت تعديلات على خطة المراجعة التي سبق الموافقة عليها يجب أن تراجع التعديلات ويوافق عليها من أعلى مستوى اداري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4680" y="214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خطة مهمه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ن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خطيط مهمة المراجع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قائم بالتخطيط أن يبني خطته استنادا إلى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مور التالية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هداف المطلوب تحقيقها من تنفيذ المهمة والتي يجب أن تكون متسقة مع  أهداف خطة وحدة المراجعة كك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صول على معلومات كافية عن الأنشطة التي سيتم مراجعت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موارد اللازمة لإنجاز مهمة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بلاغ الأطراف المعنية ببدء عملية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مل دراسة حول الأنشطة والمخاطر ذات الصلة بالمهمة ووسائل الرقابة المستخدمة للحد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راجعة دليل المراجعة لتحديد الإجراءات التي يتعين القيام بها في نطاق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كيف ومتى ولمن سيتم الإبلاغ بنتائج المراجع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صول على موافقة مدير قسم المراجعة الداخلية باعتماد خطة المراجعة للمهمة المعن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ثيق خطة مراجعة المهمة في مذكرة تخطيط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حديد نطاق وأهداف مهمة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58720" y="1609560"/>
            <a:ext cx="947412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همية تحديد أهداف المهم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ركيز الموارد المتاحة للمهمة على الجوانب الضرور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نب ضياع الوقت في مراجعة العمليات غير الضرورية لتحقيق أهداف المراجعة أو التي تحتوي على نسبة تعرض للمخاطر قليلة أو غير ها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 عمليات الاتصال مع الإدارة المراد مراجعتها على جميع المستو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ضمان تغطية كل عمليات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حديد نطاق وأهداف مهمة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55920" y="1601640"/>
            <a:ext cx="9485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تحديد أهداف مهمة المراجعة يمكن إتباع الخطوات الآت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طلاع على خطة المراجعة الشاملة للإدارة ودور المهمة في تحقيق أهداف الخ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مل مناقشة للأهداف العريضة للمهمة بين فريق العمل ومدير إدارة المراجعة الداخ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قيام ببعض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إجراءات التمهيدي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تقدير المخاطر على مستوى المهم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ناقشة فريق عمل المهمة في المخاطر المحيطة بها وتحديد الأهداف على ضوء المراجعة التمهي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تفاق على الأهداف المحددة للمهمة سواء كانت مرتبطة بالتأكيد أو الاستشارات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325520"/>
            <a:ext cx="10515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شمل مراجعه اي معلومات ستساعد فريق مهمة المراجعة الداخلية على الفهم الجيد للمناطق المراد مراجع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هدف 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كوين صورة واضحة عن العمليات في الجهة المراجع عليها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مثال : قسم المشتريات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ن أهدافه الاستخدام الامثل للموار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ن وظائفه : التحقق من الحاجة  - تحديد مواصفات المواد المطلوبة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كوين صورة واضحة عن الرقابة الداخلية المعتمدة داخل الإدارة المراد مراجعت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سؤال الموظفين عن إجراءات تدقيق فاتورة المورد للتأكد من صحة الأسعار ومطابقتها للعرض ( متى و من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حديد عمق وطول المراجعة التمهيدية من ضمن مسؤوليات مدير المراجعة الداخلي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وثيق نتائج المراجعة التمهيدي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تتم باستخدام النماذج التالية و التي تعبئ من قبل أعضاء فريق المهم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قائمة أعمال المراجعة الواجب تنفيذها - مذكرة تخطيط المراجعة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ولا : قائمة أعمال المراجعة الواجب تنفيذ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مثلة على بعض ما تتضمنه قائمة أعمال المراجع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ات التي يجب زيارتها والأشخاص اللذين يجب مناقشته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توثيق المطلوب للعمل الذي ت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كل تقرير نتائج كل مرحل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وقت اللازم للانتهاء من المهمة وشكل التقرير النهائي ل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راجعون المكلفون بكل مرحل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خاطر المرتبطة بكل مرحل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نتائج المتوقع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ثانيا : مذكرة تخطيط المراجع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مثلة على ما يجب أن تتضمنه مذكرة تخطيط المراجعة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لومات عن الإدارات أو الأقسام التي سيتم مراجعة أعمالها وطبيعة تلك الأعمال والمخاطر المرتبطة بكل من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 والمسئولين عن الإدارات أو الأقسام التي سيتم مراجعة أعمالها والمهام المنوطة بكل منه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بيان واضح بنطاق مهمة المراجعة وحدود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وقيت القيام بالمراحل الأساسية للمهم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فريق العمل المكلف بالمهمة ودور كل منهم ومتى يعود إلى رئيس فريق عمل المهم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تي سيتم القيام ب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كل التقرير وتوقيت تقديمه لإدارة المراجع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جب مراجعة وتوثيق الظروف والأوضاع التي قد تؤثر على المهمة أو على أداء فريق العمل في مذكرة تخطيط المراجع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لخص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تفاصيل الاجتماع الافتتاحي المنعق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392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هذه التفاصي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قت ومكان الاجتم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ض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موضوعات التي تم مناقشت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ستنتاجات التي تم التوصل إ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وقات المتوقعة للمراحل الأساسية ل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سجيل المواعيد المناسبة لبداية ونهاية الأمور التالية الخاصة بالمهم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208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خطيط المراجع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 الميدان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اريخ إصدار مسودة التقري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اريخ إصدار التقرير النهائي المؤقت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اجتماع الافتتاحي مع الجهة المراجع عليها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2142720"/>
            <a:ext cx="10515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حضور الاجتماع من قبل أعضاء الإدارة المهتمين بعملية المراجعة والذين يستطيعون تسهيل عمل المراج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دير التنفيذي للمراجعة الداخلية أن يرأس فريق المراجعة في الاجتماع الافتت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تبرز أهمية الإجتماع الافتتاحي من أنه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عتبر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فرصة الأولى للقاء موظفي الإدارة المراد مراجعتها بشكل رسمي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رسم الاتجاهات العامة لباقي مراحل مهمة المراجع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أجندة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طبيعة عملية تخطيط المراجعة الدا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قدير خطر المراج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راحل عملية التخطي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خطة مهمه المراج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ديد نطاق وأهداف مهمة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راجعات التمهي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جتماع الافتتاحي مع الجهة المراجع عل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عداد برنامج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وراق العمل كأداة مساعدة في تخطيط المراجع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اجتماع الافتتاحي مع الجهة المراجع عليها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مور التي يتم مناقشتها في الاجتماع الافتتاحي عادة ه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هدف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مصطلح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تطلبات الجهة المراجع علي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رفع التقار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ات الاختت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هداف برنامج المراجع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م أسس ثابتة لعملية توزيع العمل على فريق المراجعة الداخل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م وسائل للسيطرة على الميزانيات الوقتية لمهمة المراجع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عمل كأداة تدريب للمراجعين الداخليين حديثي الخبر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م سجل تلخيصي بالعمل الذي تم إنجاز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في جعل المهمة مألوفة لدى المراجع الداخ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خفيض الوقت المطلوب للإشراف المباشر على فريق المراجعة الداخلي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494000"/>
            <a:ext cx="10515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شكل ومضمون برنامج المراجع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زئة البرنامج إلى مجموعة من الإجراءات تقوم كل منها بخدمة هدف أو أكثر من أهداف مهمة المراجع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شمل برنامج المراجعة كل التفاصيل الضرورية لتنفيذ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وقع وتؤرخ كل الإجراءات داخل برنامج العمل من قبل المعد مع ضرورة عمل مرجعية لها في أوراق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مل حيز خاص للتوقيع وكتابة مرجعية أوراق العمل داخل البرنام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صف أوراق العمل الفحص الذي تم إنجازه ونتائج هذا الفحص و تعبأ هذه النتائج في برنامج المراجعة وملف أوراق العمل الح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سؤولية تحضير برنامج المراجع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تحضير برنامج المراجعة من مسؤولية رئيس فريق مهمة المراجعة أو المراجع المسؤول بالاعتماد على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9280" indent="-4204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هم طبيعة العمل بالجهة المراجع عليه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سم المشتريات ( الأسواق المتعامل معها – أوقات الطلب – الموردي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9280" indent="-4204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خاطر التي تم تحديدها خلال مرحلة تقويم المخاطر – تعدي الصلاحيات و حدوث عجز الميزانية نتيجة الصرف غير المبر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9280" indent="-4204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خاطر التي تم الإبلاغ عنها عن طريق موظفي الجهة المراجع عليها – تعدي الصلاحيات و عدم وجود نظام يحدد بدقة الحاجه لاستبدال الأصول او الكمية المطلوبة من المواد الخام- الاحتيال من الموردي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راجعة يجب أن يراجع ويعتمد من قبل رئيس المهمة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بل البدء بالعمل الميدا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قوم المدير التنفيذي للمراجعة بمراجعة والموافقة على كل المستندات وذلك لضمان أن إدراك فريق المراجعة كافٍ لإعداد وتنفيذ برنامج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هم طبيعة العمل بالجهة المراجع عل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ابد من تحديد أساليب الرقابة المستخدمة والمخاطر المصاحبة لها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ب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ضع برنامج 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ملية فهم طبيعة العمل بالجهة المراجع عليها تعتبر في الأساس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عملية تقييم لنظام الرقابة الداخ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طرق توثيق فهم طبيعة العمل وبيئة الرقابة بالجهة المراجع علي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28760" indent="-5144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وصف النثري للإجراء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28760" indent="-5144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رائط التدفق البياني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155680"/>
            <a:ext cx="10515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ولا : الوصف النثري للإجراء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وم هذه الطريقة على وصف إجراءات العمل بطريقة نثرية مفصلة، وعلى توثيق الأنظمة والإجراءات في حال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غييرات جذرية في النظام متوقعة الحدوث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دم توفر إجراءات واضحة ومتبعة للرقابة الداخ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ام غير معقد، وبالتالي يمكن توثيقه بسهولة على نماذج وصف الإجراءات كتابي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96920" y="2211120"/>
            <a:ext cx="105156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ثانيا : خرائط التدفق البيا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خرائط ترسم باستخدام الرسوم البيان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صور تدفق الإجراءات وأنظمة الرقابة لتسهيل عملية فهم طبيعة العمل وبيئة الرقابة بالجهة المراجع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برنامج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عد الانتهاء من مهمة المراجعة، يقوم فريق المراجعة الداخلية بتدوين اقتراحاتهم بتغيير وتعديل برنامج المراجعة لاستخدامه في المهمة اللاحق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 التعديلات في برامج المراج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ذا كان من الضروري أن يقوم رئيس الفريق بتطوير أو تعديل فقرات من برنامج المراجعة أثناء العمل الميداني عليه إبلاغ مديرقسم المراجعة بكل هذه التعديلات، قبل البدء بعمل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أوراق العمل كوسيلة لـ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ثيق العمل الذي قامت وحدة المراجعة الداخلية بإنجازه خلال مراحل المه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دوين المعلومات والبيانات والأدلة التي تم تجميع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ثيق الاختبارات والتحاليل التي تم تنفيذها على عينات المراجع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فظ أوراق المراجعة  في ملفين هما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لف المراجعة الدائ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لف مراجعة المهمة (الملف الجاري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46320" y="1890360"/>
            <a:ext cx="999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وراق العمل تستخدم في توثيق الخطوات التالية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طط المراجعة، بما في ذلك برنامج المراج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حص وتقييم كفاءة وفعالية أنظمة الرقابة الداخل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المراجعة المستخدمة، المعلومات التي تم الحصول عليها، والنتائج التي تم التوصل إليها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ارير الإشرا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ارير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ارير المتابعة الخاصة بتطبيق الإجراءات التصحيح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Majalla UI"/>
              </a:rPr>
              <a:t>طبيعة عملية تخطيط المراجعة الداخل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10880"/>
            <a:ext cx="10515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لزمت معايير المراجعة الداخلية مدي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سم المراجعة الداخلية بوضع خطة سنوية لعملية المراجع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ة تكون بناء على قيام المراجع بتقدير المخاط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ولوية اختيار مهام المراجعة الداخلية تكون بناء على قوة تأثيرها في تحسين عملية إدارة المخاطر بالمنشأ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فهرس الموحد لأوراق الع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صمم مدير المراجعة نظام فهرسة لأوراق العمل بالاتفاق مع العاملين بالقس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لماذا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تضمن كل ورقة عمل على نص واضح يبين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حجم وأساليب اختيار العينة (النطا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صادر المعلو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فاصيل الفحص الذي تم إنجاز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تائج الفحص (الاستنتاجات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رجعية برنامج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ائمة تفسيرية لشرح رموز الإشارات التي تستخدمها وحدة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رقيم أوراق العمل وربطها ببعضه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أوراق العمل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تبر أوراق العمل وملفات المراجعة من ملكية وحدة المراجعة الداخلي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ا يسمح بالاحتفاظ بها أو الاطلاع على محتواها إلا من المراجعين الداخليين المعنيين أو من يصرح لهم المسئول الأول بالجه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يجب حفظ أوراق العمل وملفات المراجعة بمكان آمن في الشركة بما يحفظها من التلف، والعبث، أو الاستخدام غير المسموح ب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كون كل الملفات الالكترونية مراقبة ومحفوظة جيدا لتجنب المخاطر المصاحبة لاستخدامها مث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الدخول غير المصرح به وإحداث تغيير غير ملائم على البيانا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إتلاف أو فقدان البيانات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صادر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رقابة والمراجعة الداخلية في الأجهزة الحكومية والمؤسسات العامة 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C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لاحظات وعروض الأستاذة هناء العق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ا هية المراجعة الداخلية – نايف آل خليف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ساسيات التدقيق الداخلي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C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قدير خطر المراجعة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Audit risk assessment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ر المخاطر يعني تقدير احتمالات حدوث أخطاء أو عمليات غش لا تستطيع الإجراءات الرقابية الموضوعة اكتشافها أو منعه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اذا تعتمد هذه العملية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قيق المعرفة الكاملة بعمليات المنشا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ربط هذه المعرفة بالإجراءات الرقابية الموضوعة لمعرفة ما إذا كانت هذه الإجراءات يمكنها منع حدوث أخطاء أو عمليات غش أو اكتشافها حال حدوث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قدير خطر المراجعة 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Audit risk assess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طرق للحصول على معلومات تساعد في تقدير الخط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فحص  نظام العمل بالمنشاة والوحدات الفرعية التابعة ل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 المقابلات مع المسئو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ستقصاء عن الموظفين ودراسة طبيعة عملهم والتعرف على مؤهلاتهم وخبراتهم الوظيف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ستقصاء عن المستفيدين من الخدمة المقدمة و الاستقصاء عن طبيعة احتياجاتهم ومدى الوفاء بهذه الاحتياجا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قدير خطر المراجعة 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Audit risk assess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ليل الخط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دير المراجعة الداخلية - بالتنسيق مع الإدارة و مجلس الإدارة-  يعمل على ترجمة نتائج تقدير المخاطر إلى خطة مراجعة داخ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وزيع جهود قسم المراجعة الداخلية للحصول على أفضل تغطية للمخاطر المحددة مع الأخذ بعين الاعتبار الأهداف العامة للجهة والأولو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خطة المراجعة مرنة وان تستجيب للظروف المتغي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33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8200" indent="-514440" algn="just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وضع استراتيجية خطة المراجع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ستراتيجية تستخدم كدليل إرشادي بالأنشطة والإدارات المراد مراجعتها خلال فترة طويلة نسبي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سم الإستراتيجية إلى خطط سنوية وتقسم كل خطة سنوية إلى عدة مها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راعى عند وضع استراتيجية العمل تحقيق الأهداف التالي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إطار مناسب لاختيار المها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جيه الجهود نحو المجالات الأكثر أه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eri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مجالات التي ستكون محل تركيز أعمال المراجعة الداخلية في المستقب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Term Vi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ضيح طبيعة أعمال المراجعة الداخل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parency and disclosu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ر كمية الموارد المطلوبة لتنفيذ الاستراتيج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188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ختيار مهام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ند اختيار مهام المراجعة يجب مراعاة ما يل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أهم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قابلية للتلاع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دى ارتباط النشاط بأهداف الجهة المراجع علي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اريخ آخر مراجعة ونتيجت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قابلية للتغيي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قائم بتحديد هذه المهام مراعا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يلي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دى كفاية المراجعين الداخليين بوحدة المراجعة الداخ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دى توفر الوقت اللازم لإنجاز المها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دى توفر الموارد الأخرى اللازمة لإنجاز أعمال الفح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يزانية التقديرية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للوق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طلوب للمهمة ال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ماذا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ند إعداد ميزانية الوقت التقديرية للمهمة  يجب أخذ العوامل التالية في الاعتبار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المهمة وأهدا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تدريب والإشراف اللازمة لتنفيذ المهمة في ضوء الخبرات المتوفرة لدى الفريق المعين لأداء مهمة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رجة تعقد مهمة المراجعة ومدى تناسبها مع خبرات الفريق المكلف 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وقت الذي استغرقته نفس المهمة في مراجعات ساب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4:48:40Z</dcterms:created>
  <dc:creator>hana</dc:creator>
  <dc:description/>
  <dc:language>en-US</dc:language>
  <cp:lastModifiedBy>kayan albalawi</cp:lastModifiedBy>
  <dcterms:modified xsi:type="dcterms:W3CDTF">2017-03-08T18:10:36Z</dcterms:modified>
  <cp:revision>344</cp:revision>
  <dc:subject/>
  <dc:title>إجراءات إنشاء وتنظيم وحدات المراجعة الداخلية وإداراتها</dc:title>
</cp:coreProperties>
</file>