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E67-2E04-4E96-B2E8-9C93FE47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5A2-5E4B-4A35-BCDF-A5B59EE2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AE36E-DDB8-4DF5-A91D-A281EF94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DE8A61-52E0-4EF1-AAB0-B4A42EA2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D3E39-6126-48CA-A195-CF007A62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ADC38-1B39-4E88-9C99-D55377E2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70ED9-A4C0-452A-8BE6-3D400FC3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0F855E-0FA3-496B-933B-528E1799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94B40-7E67-4A1E-8298-AFB43AAF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2DF69-FBEF-4A53-A4E1-172C39EC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8DFA0-5B35-49D9-9488-BD9F9160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3DECD-3519-4AFF-B3B7-3766B5F7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9A2D-2E7C-403E-97D0-B95D1710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6921A-F6AF-496E-BC54-82741E10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99C32-5FFA-43C2-AB02-8EA62859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032A6-C757-4392-BE65-F0CB9BAB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BEC8F-C1F1-4F81-A3C0-2A4A7C22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98BFB-D6EA-4446-BFAA-8F94AED2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A7EE5-2399-4408-AC5B-77A9FBC4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4F3D9-3044-43E0-AC8A-F717D1BE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7D7FE-DE0C-4B69-AD35-40FEE583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69DE3-351D-450A-BF03-0BD30CAF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E0FB3-3D93-4929-8371-526C347B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5D1B-5D57-4C78-943F-FECD6246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49955-CD33-4AD4-9E2F-7955E552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5D05B-A11B-47D9-ACC6-B7084235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85B1C-E179-4196-9163-34C0BE8D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C4CA1-E980-40B2-BA34-0C39FE86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4CB1F-438D-4663-A5CC-A1B2A450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77073-785F-4CDC-B344-8B88AB5B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612CD-55D8-4B20-B008-4FCE4A30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1EEBB-0311-4B0C-B101-57A6EBBD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357A5-4FD3-4C4D-9BD8-8EEFCF00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71FB9-0B4B-4D1D-BB6D-B121C5E2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5916B-A36E-445E-A565-54E5B000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E761A-76B6-44D3-8E12-DB6EE187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38062-FC76-4746-A659-99528650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3668D-8279-4A0E-9377-66E38271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D62BD-3A48-4BA8-B68E-85E8D47F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225DE-6217-4EBA-86B0-5548252A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BE405-B77E-43DE-B328-7EEC2D20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116B1-FE4C-495E-8EAF-A8563B0A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CD343-617F-4BAD-B1FA-165FC47C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987E0-E034-47BD-AC3F-E6838F3C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E4718-9A7A-4BAE-B020-D6141372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35DC-B8AD-45E1-8CB6-78B18092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0B4BD-968A-490E-8116-5921C638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23EDC-E78A-47E0-A17B-24B1D619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A4D88-0D03-4200-88B5-B31345E6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757B3-FC3B-44D9-92FF-6D69A2765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5B857-DDCD-40FF-8D4E-BADBD6D4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46FE-6609-41D6-84EA-97196D90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0F4A-8CE4-483E-AFCD-2C08A035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DA66-883E-4618-A324-E3DB98EE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3D74-9A55-46AD-A6AB-91BF256D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ECB3-924E-4BE3-98A0-F0E35E51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FCF6-78D0-4162-AD37-9D310461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FC4D-2DD6-4A98-9A70-FC272311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840D-CAEA-4BBE-9DE1-304CDBE8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932A-3523-4C84-B5DA-96345B66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7449-98C3-4B0A-967B-CC10EA6F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B555-E521-45FE-BF0F-3C5E42A8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6D480-04CA-4C41-9D2B-2DE07D1E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62915-45C1-4BA2-B8C3-37057F32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15546-B2C7-4599-966F-9CBA87DF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48538-6D5F-4FB4-974E-AFE1065C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3E916-1730-49B4-9C06-E78B170D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72C-FF71-4D47-AF57-0E678942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D7D91-1E32-4C7E-9857-8D82E54C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1DF7D-D535-4C07-99BE-4CC9355E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B9691-154E-49EA-AA4F-8FA32CA0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85803-6905-4885-AFBA-0929EDDB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ACC24-01E1-47F0-8B14-746ED910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91503-0927-45D8-9A54-037950B4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AF4E8-1314-4147-82FC-16F68BA5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F243A-9A91-4CD0-97A7-57DA76FD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833D7-981F-448B-9C97-36C70AB1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C0DB2-CB9B-4C26-8378-AB1CC6C0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8D1D-0578-4E4F-8475-58F01F20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D26FD-E8B7-4D2C-B717-23914752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32123-F918-4E9E-A37F-CCA75DB1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C04D4-38DF-4979-B02A-ACB3F201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08CB9-DC33-4270-A9C4-BD1E1CE3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D3120-3B87-4BF2-98F0-D036BA0A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11559-F91E-46BB-B572-AFAD30EE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A0554-A0BE-4F03-A241-9BD0B4BC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23087-EEBC-4B44-9E9A-C7ABD308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E8C13-6616-43F3-80DA-02EFD3C0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1A56F-A177-4575-9733-B3ED8247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CA8-E755-4A03-BF18-3D2C86CB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8C7DE-0075-4834-8994-5DD2F760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ACCD1-DBF7-4F37-9CB3-54B47847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E2DCF-7383-4B57-A052-0F62B1B8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C6CDB-19B6-4EEC-B134-DB7EB24F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4DA41-CF4B-4D04-8B0C-51ED6DCF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A7FD2-A1F2-445D-8AE4-7F023538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A2FED-8239-42BB-97C6-569044BD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20DA5-3FF1-4BB2-891F-FDE78A96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6985E-9D41-4100-9B64-754C00D7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01722-B8FE-428B-B668-79B687FB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181F-0E19-4F79-812A-4F9CC018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B1FAD-A86F-4996-913E-75ACAD34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DD2F5-F391-45AD-820B-5768CF41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9B624-F224-4044-AE00-C7E771F1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CD18B-7E04-458D-9438-72F47768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1B424-CCCF-4DDF-B0E3-EF757A59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54B11-04C1-403D-B6A8-D8185EDF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FD8E0-CB25-4A06-B40C-33ADCBBD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D3FED-ED96-47B1-9D7A-F628421E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3E30F-8271-4D9F-8AC3-B280FB30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F8E98-9E63-4785-B99A-3071D85D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2ED2-9C79-4E2E-9575-5F537CB8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8E7C7-7256-48F7-9584-0CEF833D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C7483-D154-4CB8-B64F-DCD89920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92C5D-6A41-4782-9570-3267002A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2E646-4820-44CD-8918-1C34D226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B0D9B-4D18-42F3-8A06-FC58102F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69BE2-B023-48DE-B036-0A9E8FC4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ECE16-A55B-4980-BE4F-15C5FB50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C5BE5-B7F6-4E5D-8BD7-8B2E357D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D9EA6-81C1-412D-AE77-1D5514A3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1D95D-D8A0-44B6-AAD7-FE728CF5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8913-5D2A-4F06-89A9-E0A577DB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F08D0-745A-4C69-9452-FDA40808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9A91E-5DB7-47A1-8D1F-FB0BAA2E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A452E-DB4F-4448-A55D-B7B18D9B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DCBBD-D189-4645-A15E-816E603F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D8F0E-AD57-41CE-95E2-117FF8E0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8095F-C398-4532-B5E7-7EE4EE91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11FEA-B4FC-4E07-8BFE-4848B3AD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09A75-0FDB-4C93-A091-04D36808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B8C4A-A201-442A-8D3D-FDF77F4F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61EDD-6D2E-4A43-90A5-99C88A68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101D-8C67-4226-A414-07FB0E8F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C9DC6-8F56-4455-A74F-3D8F8668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F629E-616B-4065-BB7F-5F003C01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920E8-E54D-4D18-86A7-5745ADAF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EC188-2ECB-4CC5-BB6D-9D74DA0D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0FB19-04DC-4351-B044-9BCF0055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7505C-BE80-4A5B-90B5-B3BA3C58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204D6-8821-40DD-A8E5-E79D1D4C4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1AA73-AC29-47D5-BF64-3B7A91DB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74652-914C-4165-8388-E77667D3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EB459-44B4-4377-9A23-C6AD2BFA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B4A1-5E80-4C26-AE38-679308C346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EDC8-45CE-4A9A-AF14-5C78278E20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8BAD-A188-479F-8D06-4742C5BF44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9051-A6D5-4C0E-956C-301BC6B400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1812-AEC1-4237-B0F4-6975FAEF1C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8F5C-5A62-4C66-B97B-05C12CBBE6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B44B-D4F3-4B85-892C-7C7455CAEA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95B7-A381-4401-AE3C-7B49DDE9CA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5C5E-FE03-4C74-95D7-D903B3514F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224C-F6A1-4A04-B2EF-F16289067C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6E81-E04F-4CEC-8AC0-0FE0F6443E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F4F5-477E-44BD-8191-9C1683260F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2771640" y="1174680"/>
            <a:ext cx="54435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"/>
                <a:cs typeface="PT Bold Heading"/>
              </a:rPr>
              <a:t>ماهية قنوات التوزي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شكل بيضاوي 5"/>
          <p:cNvSpPr/>
          <p:nvPr/>
        </p:nvSpPr>
        <p:spPr>
          <a:xfrm>
            <a:off x="822240" y="1898640"/>
            <a:ext cx="1714680" cy="1857240"/>
          </a:xfrm>
          <a:prstGeom prst="ellipse">
            <a:avLst/>
          </a:prstGeom>
          <a:solidFill>
            <a:srgbClr val="2da2bf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Lucida Sans Unicode"/>
              </a:rPr>
              <a:t>الفصل الراب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7"/>
          <p:cNvSpPr/>
          <p:nvPr/>
        </p:nvSpPr>
        <p:spPr>
          <a:xfrm>
            <a:off x="1571760" y="345960"/>
            <a:ext cx="62150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a1f28"/>
                </a:solidFill>
                <a:latin typeface="Lucida Sans Unicode"/>
                <a:ea typeface="PT Bold Head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8"/>
          <p:cNvSpPr/>
          <p:nvPr/>
        </p:nvSpPr>
        <p:spPr>
          <a:xfrm>
            <a:off x="0" y="1500120"/>
            <a:ext cx="896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4</a:t>
            </a: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-قناة التسويق ذات المستويات الخمس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تج ........وكيل.........تاجر جملة.......تاجر تجزئة..... 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5</a:t>
            </a: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-قناة التسويق المضاعف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نتجين قد يستخدمون التوزيع المضاعف للوصول إلى أنواع مختلفة من الأسواق وذلك في ظروف معينة مثل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بيع للسلعة نفسهاو للعملاء نفسهم، مجموعة سلعية مختلف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7"/>
          <p:cNvSpPr/>
          <p:nvPr/>
        </p:nvSpPr>
        <p:spPr>
          <a:xfrm>
            <a:off x="1571760" y="345960"/>
            <a:ext cx="62150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a1f28"/>
                </a:solidFill>
                <a:latin typeface="Lucida Sans Unicode"/>
                <a:ea typeface="PT Bold Head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0" y="1500120"/>
            <a:ext cx="89647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r>
              <a:rPr b="1" lang="ar-SA" sz="3600" spc="-1" strike="noStrike">
                <a:solidFill>
                  <a:srgbClr val="da1f28"/>
                </a:solidFill>
                <a:latin typeface="Arial"/>
                <a:cs typeface="PT Bold Heading"/>
              </a:rPr>
              <a:t>أشكال منافذ التوزيع غير المباشر</a:t>
            </a: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9639d"/>
                </a:solidFill>
                <a:latin typeface="Arial"/>
                <a:cs typeface="PT Bold Heading"/>
              </a:rPr>
              <a:t>المنفذ التوزيعي الغير مباشر هو المنفذ الذي توجد به حلقات وسيطة بين الطرفين أو مع المستعمل الصناعي كما يل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نفذ التوزيعي ذو الحلقة الوسيطة الواحد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منفذ التوزيعي ذو الحلقتين الوسيطت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المنفذ التوزيعي ذو الحلقات الوسيطة الثلا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قد يحدث أن يكون المنفذ التوزيعي أطول مما ذكر سابقا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8"/>
          <p:cNvSpPr/>
          <p:nvPr/>
        </p:nvSpPr>
        <p:spPr>
          <a:xfrm>
            <a:off x="857160" y="500040"/>
            <a:ext cx="7643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قناة التوز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مجموعة المؤسسات والأشخاص الذين يشاركون في تحريك السلع والخدمات من مراكز الانتاج الى نقاط الاستهلاك النهائ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8"/>
          <p:cNvSpPr/>
          <p:nvPr/>
        </p:nvSpPr>
        <p:spPr>
          <a:xfrm>
            <a:off x="684360" y="625320"/>
            <a:ext cx="777528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أهمية قنوات التوزي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ليل عدد العمليات بين المنتج و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ليل المخزون السلعي لدى المنتج و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- حصول المستهلك على السلعة في الوقت والمكان وبأقل جهد ممكن وبتكلفة مناسب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8"/>
          <p:cNvSpPr/>
          <p:nvPr/>
        </p:nvSpPr>
        <p:spPr>
          <a:xfrm>
            <a:off x="1285920" y="189000"/>
            <a:ext cx="657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da1f28"/>
                </a:solidFill>
                <a:latin typeface="Arial"/>
                <a:cs typeface="PT Bold Heading"/>
              </a:rPr>
              <a:t>تخطيط قنوات التوزي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  <a:ea typeface="PT Bold Head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ounded Rectangle 2"/>
          <p:cNvSpPr/>
          <p:nvPr/>
        </p:nvSpPr>
        <p:spPr>
          <a:xfrm>
            <a:off x="934920" y="2637000"/>
            <a:ext cx="7272360" cy="27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Lucida Sans Unicode"/>
              </a:rPr>
              <a:t>يعتبر التخطيط للقناة التسويقية الخطوة الاولى في عملية نقل السلعة من المنتج الى المستهلك في محيط الاسواق التي يسعى المصمم في خدمتها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AutoShape 8"/>
          <p:cNvSpPr/>
          <p:nvPr/>
        </p:nvSpPr>
        <p:spPr>
          <a:xfrm>
            <a:off x="1042920" y="1873080"/>
            <a:ext cx="7201080" cy="4770720"/>
          </a:xfrm>
          <a:prstGeom prst="flowChartDocumen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1596960" y="295200"/>
            <a:ext cx="609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Arial"/>
                <a:cs typeface="PT Bold Heading"/>
              </a:rPr>
              <a:t>وظائف قنوات التوزي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900000" y="1357200"/>
            <a:ext cx="7458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ffff"/>
                </a:solidFill>
                <a:latin typeface="Arial"/>
                <a:ea typeface="AL-Mohanad Bold"/>
              </a:rPr>
              <a:t>      </a:t>
            </a:r>
            <a:r>
              <a:rPr b="0" lang="ar-SA" sz="2800" spc="-1" strike="noStrike">
                <a:solidFill>
                  <a:srgbClr val="0d0d0d"/>
                </a:solidFill>
                <a:latin typeface="Arial"/>
                <a:ea typeface="PT Bold Heading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611280" y="1606680"/>
            <a:ext cx="7993080" cy="5037120"/>
          </a:xfrm>
          <a:prstGeom prst="rect">
            <a:avLst/>
          </a:prstGeom>
          <a:solidFill>
            <a:srgbClr val="ffffff"/>
          </a:solidFill>
          <a:ln w="55080">
            <a:solidFill>
              <a:srgbClr val="eb64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فرز:  فصل السلع غير المتجانس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التراكم : تجميع السلع التي ترد من مصدر واحد وجعلها في مكان واح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 التحميل : تجزئة العبوات ذات الاحجام والأوزان الكبيرة وتعبئتها في عبوات أصغ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4</a:t>
            </a:r>
            <a:r>
              <a:rPr b="1" lang="ar-SA" sz="4000" spc="-1" strike="noStrike">
                <a:solidFill>
                  <a:srgbClr val="1d314e"/>
                </a:solidFill>
                <a:latin typeface="Lucida Sans Unicode"/>
              </a:rPr>
              <a:t>-التشكيل : عمل أشكال للسلعة لجذب المستهلك اليه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85840" y="-28584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8"/>
          <p:cNvSpPr/>
          <p:nvPr/>
        </p:nvSpPr>
        <p:spPr>
          <a:xfrm>
            <a:off x="118728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منافع قنوات التوزي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ounded Rectangle 2"/>
          <p:cNvSpPr/>
          <p:nvPr/>
        </p:nvSpPr>
        <p:spPr>
          <a:xfrm>
            <a:off x="934920" y="2349360"/>
            <a:ext cx="7272360" cy="302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نفعة الشكل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نفعة الزمن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المنفعة المكاني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ar-SA" sz="4000" spc="-1" strike="noStrike">
                <a:solidFill>
                  <a:srgbClr val="000000"/>
                </a:solidFill>
                <a:latin typeface="Lucida Sans Unicode"/>
              </a:rPr>
              <a:t>- منفعة التملك والحياز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547560" y="-1000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8"/>
          <p:cNvSpPr/>
          <p:nvPr/>
        </p:nvSpPr>
        <p:spPr>
          <a:xfrm>
            <a:off x="2933640" y="800280"/>
            <a:ext cx="60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"/>
          <p:cNvSpPr/>
          <p:nvPr/>
        </p:nvSpPr>
        <p:spPr>
          <a:xfrm>
            <a:off x="1547640" y="4302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  <a:cs typeface="PT Bold Heading"/>
              </a:rPr>
              <a:t>علاقة قنوات التوزيع بالوسطا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Diagram 2" descr=""/>
          <p:cNvPicPr/>
          <p:nvPr/>
        </p:nvPicPr>
        <p:blipFill>
          <a:blip r:embed="rId2"/>
          <a:stretch/>
        </p:blipFill>
        <p:spPr>
          <a:xfrm>
            <a:off x="1500120" y="1096920"/>
            <a:ext cx="6558120" cy="53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7"/>
          <p:cNvSpPr/>
          <p:nvPr/>
        </p:nvSpPr>
        <p:spPr>
          <a:xfrm>
            <a:off x="1116000" y="60480"/>
            <a:ext cx="72010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أنواع قنوات التوز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Diagram 2" descr=""/>
          <p:cNvPicPr/>
          <p:nvPr/>
        </p:nvPicPr>
        <p:blipFill>
          <a:blip r:embed="rId1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5" descr="show_file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7"/>
          <p:cNvSpPr/>
          <p:nvPr/>
        </p:nvSpPr>
        <p:spPr>
          <a:xfrm>
            <a:off x="1571760" y="345960"/>
            <a:ext cx="7392960" cy="251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da1f28"/>
                </a:solidFill>
                <a:latin typeface="Lucida Sans Unicode"/>
                <a:cs typeface="PT Bold Heading"/>
              </a:rPr>
              <a:t>مميزات قنوات التوزي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da1f28"/>
                </a:solidFill>
                <a:latin typeface="Lucida Sans Unicode"/>
                <a:cs typeface="PT Bold Heading"/>
              </a:rPr>
              <a:t>القنوات المتعددة للتوزيع من قبل الشرك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0" y="1500120"/>
            <a:ext cx="896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1</a:t>
            </a: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-قناة التوزيع ذات المستويين (المباشر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تج ............................. 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2</a:t>
            </a: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-قناة التوزيع ذات المستويات الثلاث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تج ..تجار التجزئة ..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تج ...وكيل .... مشتري صناع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3</a:t>
            </a:r>
            <a:r>
              <a:rPr b="0" lang="ar-SA" sz="3600" spc="-1" strike="noStrike">
                <a:solidFill>
                  <a:srgbClr val="39639d"/>
                </a:solidFill>
                <a:latin typeface="Arial"/>
                <a:ea typeface="PT Bold Heading"/>
              </a:rPr>
              <a:t>-قناة التسويق ذات المستويات الأربع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تج ..تجار الجملة .. تجار التجزئة...المسته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61893"/>
                </a:solidFill>
                <a:latin typeface="Arial"/>
                <a:cs typeface="PT Bold Heading"/>
              </a:rPr>
              <a:t>المنتج ..وكيل .. موزع صناعي .. مشتري صناع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help</cp:lastModifiedBy>
  <dcterms:modified xsi:type="dcterms:W3CDTF">2017-10-24T09:12:33Z</dcterms:modified>
  <cp:revision>911</cp:revision>
  <dc:subject/>
  <dc:title>الشريحة 1</dc:title>
</cp:coreProperties>
</file>