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62D-02C6-40EB-83A8-B0E71F1C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B71-0E39-403D-A547-9B3E245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9E90C-6BA0-4B72-A44D-9721A99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94AD0-FF4C-4C84-92F1-374B402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B54F5-EC33-48B7-A31C-437A511A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AF30D-E9ED-4207-92DB-731056B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0B45B-EF41-412E-B4CC-E099FAF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0ACB5-D31F-4F97-86A2-112BE758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33D32-71EE-4608-8E4B-2430088A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40921-6B7C-4C4D-BDC3-DFD557F0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37423-2A81-4B4C-85B3-B6F6E3AA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AF6BF-B894-4BE4-8209-0143BB4D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05E-3BC9-496F-8061-8AA9BAC3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7986E-6692-4E46-BDB5-734CCFD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E0E35-0028-468B-AFA3-59D63366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37B5A-8917-466D-9DDA-6671216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CAF65-3E94-47DB-A6AE-1847839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C7EEB-8966-4FBA-91A6-7FACD7D6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B43EC-A2F7-4ADA-9EF8-355266E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BCCB8-7725-42E9-96FB-8942B52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E94A2-C5C4-4864-ABC7-65600EE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71351-23AC-4429-A3B9-FD38D211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988E7-2E95-4DC1-AB7C-2AC2429A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D7B-8E48-4699-9A2E-E0C8F905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5DC41-E79B-4292-AD90-FCCB8A84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39F94-B512-482F-9A0B-2B0B16BF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3C4E7-C297-4741-85B2-8CFE4AFC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BE053-41C7-4C7D-90B8-0648221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F6928-3EFF-4AC2-A4F7-8CC52DC5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D1B4-7C32-4931-869D-7DE22079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E2FEA-F336-42BF-BF7B-111FABD0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CDEEF-426C-4DEF-AA8F-AACCAE2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E2F45-45B0-4CA4-A4C3-CBE537D4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D99D7-ED15-4642-B5B7-72DCE0F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2B8D-D0E7-4099-8897-BF77AE55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A53C3-9D0D-4E6A-A990-675371E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C60FD-D009-4B5F-94B5-B55414C3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C2D8C-46C4-45C5-985A-75038813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16343-A5EE-4591-B1EF-24D54853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F1809-BA20-4A72-AEC9-585E8639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2786F-A1ED-4934-BB10-0E1D3C80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40840-FF71-4170-B334-3817EB0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4B784-87B7-4E1A-B456-EA8228CB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81D34-E5CF-49CE-9A78-D75F0B65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6069E-63CC-42D6-A853-B98C1C2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F0F7-D1B8-45AB-8E37-0CA5B6BD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AAB1C-093D-41CB-83EF-91F680D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35CD1-EC8D-410D-B4FC-4A280E01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9E217-37F9-4710-86ED-BF6B8C83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DCE0-C04F-4F4B-824A-78F0DE2E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903DB-A8B5-438B-8A20-381A765A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613E-1A5B-4BEC-9589-74E98562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B4F7-3817-4B16-B195-3A07100F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7C15-C62F-4F90-9F80-92E31D71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FAA8-EC7B-4533-B616-7595ABDC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3D0A-E644-45A5-B73B-CA2E5D8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EBF-C070-4766-A0D7-6121937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B2F7-D5D7-4D16-BB32-FF6B8ED3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350D-E5AA-4031-B86E-E792ABC7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E9D1-CFB1-4C4D-8921-3AF9C5C2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0C0-AE20-4A2F-AA17-46AB1697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03E-C8FE-4552-95BF-0CFA899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B104-D0BC-4D6B-8CC2-5893835C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438D-F3C6-4F64-ABB6-C5469489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38EA-E308-4A52-9CEF-FEFA8D2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BB5B-324D-4A8A-B76A-B9F8DA75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17C6-E5C4-4A7C-A787-2A851E99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00B-4470-4F77-B73D-A40D76C6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2BA5-244B-484A-B86F-C857589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AF54-3379-4B43-BC4C-D6A83A46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F0B7-C32C-4F16-81FF-43762FA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ED39-D266-4753-9303-8F89C2A5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92CA-7057-4752-BADB-4468D568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B073-0C70-40D3-80D9-63C81E06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9BE7-F649-4A07-B1CD-667F423F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8158-6D63-4453-9DA7-473B80B8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32A6-B4CC-4F50-A89A-10E48958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AB7E-E805-4570-9DC0-90EAFFBF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FFC-1CB7-486A-9E6A-ADD4FE6D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4DED-F3B6-44B6-AC75-FA47A0F0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CC67-1975-4FF9-ADB4-10F453D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9A79-8CD3-4AF6-8D73-4C342A97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BC48-F161-4843-961A-F34F539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DB7E-F136-4551-B600-C1F3AE95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A49A-0E1B-40CD-9C75-B9542D6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07B3-65A0-48F5-9473-6E66968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78D4-D71A-47A9-908B-7F14C760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0287D-6055-4B55-A701-9870075E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9AB2-C74B-418B-9B82-C93012A1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71E-ECAC-494F-901E-C330BFF8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A1425-5E56-47F9-B74F-31CF21E9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2AB6-23BA-4D75-8DE0-79D0A857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B31A-788F-4134-8845-16DE529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7845B-4DC6-4E03-BB57-72049C8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F432-C48C-4A06-A65A-C414F589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B2E7A-0A79-4AF3-9466-DA2B5D8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CF1CB-632B-4391-A609-5F2C7BEF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1E63E-C7BB-4F6E-AFE8-4DFF271B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D8CE-22B9-4BC6-AB17-EDABFE3A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0619-FFF2-4741-978D-75D188F1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CF3-3816-4A82-A07B-7032ED6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A107C-DC55-4CA8-8564-4A5BC6CF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96E63-559F-42E5-A315-E0D63C4F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45EE-53AA-46C6-BBDF-60FA081B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52B66-CD8D-49B6-97B2-A828790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46AB-8013-4CFE-A972-BF40A94D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88C32-01CA-45D3-B15A-C5AEAA6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8045C-DDD0-48B8-95BC-60FAE94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61B9-2BB8-46C8-8C86-A5FBCFB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1D413-DBEF-466A-8B3B-0D8D461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460E-08F3-4937-BF07-D5354F1D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848-7EB9-4075-9E4A-ABA3BB9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0A6B-C1E6-4CD8-9726-78C3012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6F9D0-9551-4271-BFD5-94729540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64B4-53C9-4D84-86D2-53B9ED87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B66DF-3726-46E3-A0EF-0B75EAFE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53C9C-D8B6-4057-8677-C8C368E6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73279-FB1D-479D-AC02-5C34C3A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5556C-08C5-4940-91AD-B57EF0C3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2120-FEBB-40D8-84C0-20DCC465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9397-EDF1-4CF6-8EFF-F68BEF2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CEBF0-37F5-41C9-A1EC-4C27B27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DE1-56F8-4130-99B4-EBFDED3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3A1BC-797A-44F7-AD38-BA599E61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4B17-248D-4C56-A35C-2325B684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1CC78-F78C-4B9D-B9A5-96F2B3C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155F-542B-4A38-AA89-6D041D41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4EDE6-392B-4634-BB13-F16FD38B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4050D-09A6-449E-982B-3F9107E3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3A3B1-D2CE-426D-A9BE-108DF5D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B20C-3B66-49D3-8675-F6325325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342EC-F1ED-4E6E-B660-57A2BA5E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8DBFF-07A5-4B23-8740-9E5DCD2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5D2-2756-4733-B25C-139D24D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526D3-5697-4014-BB77-2028D12A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0363-B454-4413-B8B0-CE64B191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18FFB-AE08-4CC9-AAC2-7CF6EB5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886E-B1D3-48CE-8060-9F91EEE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5E714-F491-4152-9DD8-ED14358B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91658-2893-4A64-A5AF-9CD4C333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40B8E-5DC5-4E9D-BE28-E91FB447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3D62B-5110-435F-A74A-BAF191EC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D1D26-1A95-4054-BFD0-A5529469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4E23F-0371-4299-AFB9-00CB33CA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95B-54B6-4893-A15D-AEC0A2A5EC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A657-0114-4FFE-AC63-71C1EF60AE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F25-657D-4FD8-ABF6-4631A1D351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B2B2-DB74-42DB-AF27-906CEEA9D7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D9B3-D037-4FFA-986D-329BF18AC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F9B9-46C8-4C4C-B099-3A34BC028C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5D7-BEA1-4177-A4BA-AB0A41C7DA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3C48-1032-4D15-8945-42C3C8E9AE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ECA-B5CF-4C8B-A384-B268BE8A90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C37-0AC3-4F46-ACED-2D7ABCE0DD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1B57-E7AA-451B-92F9-91ECE1E528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F6D-0650-4DF3-9BC5-E2BF148C39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اهية قنوات التوزي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شكل بيضاوي 5"/>
          <p:cNvSpPr/>
          <p:nvPr/>
        </p:nvSpPr>
        <p:spPr>
          <a:xfrm>
            <a:off x="822240" y="1898640"/>
            <a:ext cx="1714680" cy="185724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Lucida Sans Unicode"/>
              </a:rPr>
              <a:t>الفصل الر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7"/>
          <p:cNvSpPr/>
          <p:nvPr/>
        </p:nvSpPr>
        <p:spPr>
          <a:xfrm>
            <a:off x="1571760" y="345960"/>
            <a:ext cx="6215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0" y="150012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ذات المستويات الخمس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.....وكيل.........تاجر جملة.......تاجر تجزئة..... 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المضاع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تجين قد يستخدمون التوزيع المضاعف للوصول إلى أنواع مختلفة من الأسواق وذلك في ظروف معين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بيع للسلعة نفسهاو للعملاء نفسهم، مجموعة سلع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7"/>
          <p:cNvSpPr/>
          <p:nvPr/>
        </p:nvSpPr>
        <p:spPr>
          <a:xfrm>
            <a:off x="1571760" y="345960"/>
            <a:ext cx="6215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0" y="1500120"/>
            <a:ext cx="8964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أشكال منافذ التوزيع غير المباشر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cs typeface="PT Bold Heading"/>
              </a:rPr>
              <a:t>المنفذ التوزيعي الغير مباشر هو المنفذ الذي توجد به حلقات وسيطة بين الطرفين أو مع المستعمل الصناعي كما ي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فذ التوزيعي ذو الحلقة الوسيطة الواح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نفذ التوزيعي ذو الحلقتين الوسيطت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المنفذ التوزيعي ذو الحلقات الوسيطة الثلا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قد يحدث أن يكون المنفذ التوزيعي أطول مما ذكر سابق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857160" y="50004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قناة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جموعة المؤسسات والأشخاص الذين يشاركون في تحريك السلع والخدمات من مراكز الانتاج الى نقاط الاستهلا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عدد العمليات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المخزون السلعي لدى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صول المستهلك على السلعة في الوقت والمكان وبأقل جهد ممكن وبتكلفة مناسب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تخطيط قنوات التوزي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2"/>
          <p:cNvSpPr/>
          <p:nvPr/>
        </p:nvSpPr>
        <p:spPr>
          <a:xfrm>
            <a:off x="934920" y="2637000"/>
            <a:ext cx="727236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Lucida Sans Unicode"/>
              </a:rPr>
              <a:t>يعتبر التخطيط للقناة التسويقية الخطوة الاولى في عملية نقل السلعة من المنتج الى المستهلك في محيط الاسواق التي يسعى المصمم في خدمت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596960" y="295200"/>
            <a:ext cx="60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قنوات التوز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11280" y="1606680"/>
            <a:ext cx="7993080" cy="503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فرز:  فصل السلع غير المتجان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راكم : تجميع السلع التي ترد من مصدر واحد وجعلها في مكان واح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تحميل : تجزئة العبوات ذات الاحجام والأوزان الكبيرة وتعبئتها في عبوات أصغ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شكيل : عمل أشكال للسلعة لجذب المستهلك اليه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منافع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شكل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زم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مكا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نفعة التملك والحياز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547560" y="-100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8"/>
          <p:cNvSpPr/>
          <p:nvPr/>
        </p:nvSpPr>
        <p:spPr>
          <a:xfrm>
            <a:off x="2933640" y="80028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1547640" y="4302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علاقة قنوات التوزيع بالوسط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Diagram 2" descr=""/>
          <p:cNvPicPr/>
          <p:nvPr/>
        </p:nvPicPr>
        <p:blipFill>
          <a:blip r:embed="rId2"/>
          <a:stretch/>
        </p:blipFill>
        <p:spPr>
          <a:xfrm>
            <a:off x="1500120" y="1096920"/>
            <a:ext cx="655812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7"/>
          <p:cNvSpPr/>
          <p:nvPr/>
        </p:nvSpPr>
        <p:spPr>
          <a:xfrm>
            <a:off x="1116000" y="604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7"/>
          <p:cNvSpPr/>
          <p:nvPr/>
        </p:nvSpPr>
        <p:spPr>
          <a:xfrm>
            <a:off x="1571760" y="345960"/>
            <a:ext cx="7392960" cy="25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مميزات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القنوات المتعددة للتوزيع من قبل الشرك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0" y="150012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ين (المباشر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.......................... 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ات الثلاث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تجزئة 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وكيل ..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ذات المستويات الأربع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جملة .. تجار التجزئة.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وكيل .. موزع صناعي 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help</cp:lastModifiedBy>
  <dcterms:modified xsi:type="dcterms:W3CDTF">2017-10-24T09:12:33Z</dcterms:modified>
  <cp:revision>911</cp:revision>
  <dc:subject/>
  <dc:title>الشريحة 1</dc:title>
</cp:coreProperties>
</file>