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B16-263D-4A8A-B1F0-D9FF09CA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43FE-919F-493A-BDDE-53ADF0F0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A2906-791B-4D40-8E66-B903B3BA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99DD3-EA8E-4D05-9D68-49077CEE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11588-0E18-4CE1-9502-41AE5F1B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CA38B-0913-45C3-A911-62CBEADE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F7B42-5E53-4522-8161-9C3F2A08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22946-7CA6-4CC2-B1D3-ACEFB29A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08D1D-4CE5-4975-9C4F-4873A0C1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DCC7A-E30E-4871-BC3A-49A129B3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FEFFF-D1DC-4FAE-8714-319DA9F8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AF36D-DD02-4A84-8EFC-A555F737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8A1-0EDE-4C99-B576-1D361576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BABFB-AC6A-40E0-AEA2-174B1465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DA903-6C67-4B70-B495-4A649AA9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8FCA1-9137-4C08-8736-47BF99BE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F09E9-F06A-4C07-B29C-F12F605E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426EF-E164-48D3-8E1B-C6DD103C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02B44-0DE1-4278-A958-A5EBC428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849EF-72DA-4DA2-A9CB-E88FF0BF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59EF2-1015-482D-A7F4-3142E1B2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EA068-0B6F-4C6C-B75A-C2A07E48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222B0-D5AB-4D97-AB70-4C25912D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5C4-97CB-42FF-8B9E-2AF20192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8EB66-7FE9-410E-981B-5F35FBAD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5D6C6-790C-4608-B019-85197B8C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DE73D-06C9-4133-B537-C8250497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8D536-2534-4DF1-9BAC-B9824AA4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ADAED-35AE-414F-891D-6C5D3C5E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F7BC9-4DBF-43B7-9869-D169540E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954F1-95BE-4ED6-B2BF-47425140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87169-0B4A-47E4-A76F-5C883ED2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C9BD6-A5A0-4759-821F-B6F5209A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D2E23-EECA-4A9E-BEC4-4CD1D410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2F97-96B8-4DF2-B455-F48CA95E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E4433-CFAF-4C60-BE5A-CBCF9A71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34533-39DC-4B79-859E-8E6F21A4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0D836-9FC0-47E6-B2EA-80021F5A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DF3EF-8D65-4576-A1E7-FEA509A7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96657-91AA-4AC2-85B7-DFF3FC02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B7B77-D815-42FD-A4A6-F48574C0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2B5E6-9A31-47E0-B6AE-CF9EC8E0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31E27-0D5F-454E-AC50-20559586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F3BAF-AE16-455B-8DE0-2FE1574E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6925B-F15F-4FD9-AC1B-05E35462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0443-4E3B-4C87-B609-C0B4D387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66176-158E-4641-A7FD-C358A159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8D263-B523-4501-BD9D-D39FB646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E5F17-7D6E-4FCD-B29C-D2FB6D18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75B1A-1F71-4746-B5AE-486CA71D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065DF-3050-4685-B0CA-C168668E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A3AD-A40E-430A-AABC-54DBA08E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E2F8-5DE5-4C33-BA39-6152DFE5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D388-E134-4F73-82FC-02808498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6EF7-834B-4C7E-870C-B3680A51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5BBC-9113-4FD8-A079-5C8DFE7D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F4C-BE59-448C-A05D-06E10A32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93AB-BC7C-4766-8936-F22A3A6A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9A54-B4BC-4143-AAC2-964745CA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3ABC-B35F-4B35-8071-2F4857FC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C105-DFCA-4E87-B564-61D99019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80FB-5174-4CA9-A2B2-B9D6761F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B0943-4C2C-4613-86A3-4E45AE76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A49EF-9C22-45FD-8611-89DA3198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D232B-A3FB-43E4-BA32-06D12740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B2699-57AD-460B-A0B8-8CD9AE87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6FEF9-743B-4E7A-AB4B-37CA166A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1824-DAF5-4EA2-9DA2-D344D6AD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88879-6B37-41A1-A90A-ADF25E9B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22DCA-3AB9-409B-AE0B-CFE2693A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4AD52-F066-4089-8BFA-79AF17CB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6ECE2-3F01-4A78-961A-9BC68E25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1C0FC-3198-4E40-B868-B2A0EED4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2DA47-5497-41EF-A7E8-D040760D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A43C3-2308-41C8-A11B-FB2569C4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9E94F-7620-43B4-97AF-F0E07641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D7B35-4955-4CCE-B359-0E3E6046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CA1A4-4BBA-4413-8188-E09BD303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5AF-7FD1-4EF1-915A-F69A8272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1D799-E08B-4555-82EE-3ECA7814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2BD10-DE65-4DBB-9C30-D9A4478C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F3AB2-B8BF-49D2-B714-A7EB770F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AD77F-F4F1-48AA-898A-2A92D3F7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45008-989A-4C51-88CB-D9DCDCE5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919C0-BE6F-4FDD-814A-07D219C7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83918-2C88-4B02-A8D4-172E58F0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9ED5C-E0BA-46E9-83DD-1081D217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D561C-823E-432F-BAF8-193F0093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CFFFD-F7BC-433D-B8D2-A3BEE68D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454A-2370-4CDC-9A7B-3784553D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2CB38-84C8-4574-9E68-6DC6735A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7FC01-E849-444A-B12F-527B0677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353CB-B71D-4FC2-B7BF-2EA52F42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2C844-29B7-4F24-AAE9-B4D2DCB6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01AA5-9A38-4928-9B5E-5B2DAEE1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EDA29-6753-4F0D-A8C4-148A1844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14640-48CC-4480-916C-AD5003D4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FFFBE-3517-49DA-BD97-BF72BC36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83E14-9740-4187-95A2-60AC869C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E1F7A-1972-4EE7-BDB4-F2ED6F26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EDEA-5E67-4C9C-B0FD-E3A8E4BF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95FB3-DB3E-4B7D-BB9D-517E8884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6EF79-FB7D-4963-BE6B-2A8D725D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715EC-B9E2-440A-B3AE-407EE79D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C2CC5-37B6-488C-B24F-98581FA7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85413-4321-47F8-92C0-03E3E348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B53E7-1219-4C77-80C4-353568B9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2DD51-D3DB-41EE-B28C-636EE68E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C0C35-818E-4B53-B0A2-14E76FEE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B9B4C-52EC-4144-8DFD-C4C4F271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90714-012E-4C3F-A283-CDD1FDBB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464-CC94-4B80-AA8B-65444675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ED7AC-213F-4C2E-9644-B70EEDF3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3714B-396D-40D4-B768-8666447C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9DB52-00AE-4892-BF42-09E835C7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22998-97CC-40C6-9713-CB3D27CC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C46C5-1F84-4C2C-9862-EFF853A0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2529D-82A3-4CDE-A8A9-F229783D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3B266-01FC-40C4-B907-AE7E08C2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79799-03B7-4BCB-9A8D-3F38D626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55488-663A-4C68-B9AB-986BD2BA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01EEB-EAD9-4FAA-BFD1-023AD688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7152-AC14-4357-94AD-9C45F3BE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524EE-A11A-4D22-BE25-25F31F41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D8445-12E8-4FA2-B825-5772DA32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9AA92-4DE3-44DE-A856-B63BE9CE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DF1A1-10D1-4915-BE88-540556BC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7849B-4C64-4B9D-9612-D8B39D76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C7600-3097-4DAC-BF7E-D134A7F9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D3750-C8FA-4A03-9337-D1CCAD5F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0C3EE-6636-4DBF-A6D1-1DF74BFC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1F211-19DD-42BA-8FAE-444F21E7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AEBF7-AEED-4BDB-88FA-F57D356B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319-0A50-42D4-B302-409A0AAB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AD2F2-D98A-45A6-8407-3A591C9F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7759D-E205-4370-BBEF-76519EF2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E93E9-C6B5-441B-911B-CF2BF27E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19F11-6DAD-48B5-9C95-2585D3DB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B3B5E-34DF-4764-898F-88133549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263B9-3CE1-4897-851F-B1CE6301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3B1D5-2428-4849-A785-0FC1E082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27D5E-DE40-4CE1-A2C0-8E4FB312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F7FD1-6411-4370-A145-4705147F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F5CF8-A949-4560-AB1D-35C98179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B1FA-AA0C-4CB8-8495-B2FA26028D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2F67-0208-4EB8-89A2-E493B27DE0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BF86-F698-4658-8DAC-A1C9B3C478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0A92-37D0-4B40-A21E-0D17FED043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6070-927A-4D20-8F6F-867CCA6B61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BC76-6026-45CC-97F0-2700A9B982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CF67-FB88-4820-B25E-3F02A66312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B565-2924-4EEA-9823-E7628FEDB9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0DCB-6FEB-4AC6-AF8B-EB6EEE388E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9B9A-DB04-4AF9-B310-C379076445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6C29-0357-4210-AD28-3A6E02396C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22F9-22F8-4C7B-A68F-BB78421635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2771640" y="1174680"/>
            <a:ext cx="54435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ماهية قنوات التوزي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شكل بيضاوي 5"/>
          <p:cNvSpPr/>
          <p:nvPr/>
        </p:nvSpPr>
        <p:spPr>
          <a:xfrm>
            <a:off x="822240" y="1898640"/>
            <a:ext cx="1714680" cy="1857240"/>
          </a:xfrm>
          <a:prstGeom prst="ellipse">
            <a:avLst/>
          </a:prstGeom>
          <a:solidFill>
            <a:srgbClr val="2da2bf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Lucida Sans Unicode"/>
              </a:rPr>
              <a:t>الفصل الراب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606" name="Picture 2" descr="C:\Users\User\AppData\Local\Temp\IMG-20171011-WA0035.jpg"/>
          <p:cNvPicPr/>
          <p:nvPr/>
        </p:nvPicPr>
        <p:blipFill>
          <a:blip r:embed="rId2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609" name="Picture 2" descr="C:\Users\User\AppData\Local\Temp\IMG-20171011-WA003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8"/>
          <p:cNvSpPr/>
          <p:nvPr/>
        </p:nvSpPr>
        <p:spPr>
          <a:xfrm>
            <a:off x="857160" y="500040"/>
            <a:ext cx="7643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قناة التوز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مجموعة المؤسسات والأشخاص الذين يشاركون في تحريك السلع والخدمات من مراكز الانتاج الى نقاط الاستهلاك النهائ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8"/>
          <p:cNvSpPr/>
          <p:nvPr/>
        </p:nvSpPr>
        <p:spPr>
          <a:xfrm>
            <a:off x="684360" y="625320"/>
            <a:ext cx="777528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أهمية قنوات التوزي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ليل عدد العمليات بين المنتج و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ليل المخزون السلعي لدى المنتج و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حصول المستهلك على السلعة في الوقت والمكان وبأقل جهد ممكن وبتكلفة مناسب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8"/>
          <p:cNvSpPr/>
          <p:nvPr/>
        </p:nvSpPr>
        <p:spPr>
          <a:xfrm>
            <a:off x="1285920" y="189000"/>
            <a:ext cx="657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a1f28"/>
                </a:solidFill>
                <a:latin typeface="Arial"/>
                <a:cs typeface="PT Bold Heading"/>
              </a:rPr>
              <a:t>تخطيط قنوات التوزي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  <a:ea typeface="PT Bold Head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ounded Rectangle 2"/>
          <p:cNvSpPr/>
          <p:nvPr/>
        </p:nvSpPr>
        <p:spPr>
          <a:xfrm>
            <a:off x="934920" y="2637000"/>
            <a:ext cx="7272360" cy="27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Lucida Sans Unicode"/>
              </a:rPr>
              <a:t>يعتبر التخطيط للقناة التسويقية الخطوة الاولى في عملية نقل السلعة من المنتج الى المستهلك في محيط الاسواق التي يسعى المصمم في خدمته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AutoShape 8"/>
          <p:cNvSpPr/>
          <p:nvPr/>
        </p:nvSpPr>
        <p:spPr>
          <a:xfrm>
            <a:off x="1042920" y="1873080"/>
            <a:ext cx="7201080" cy="4770720"/>
          </a:xfrm>
          <a:prstGeom prst="flowChartDocumen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1596960" y="295200"/>
            <a:ext cx="609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Arial"/>
                <a:cs typeface="PT Bold Heading"/>
              </a:rPr>
              <a:t>وظائف قنوات التوزي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900000" y="1357200"/>
            <a:ext cx="7458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ffff"/>
                </a:solidFill>
                <a:latin typeface="Arial"/>
                <a:ea typeface="AL-Mohanad Bold"/>
              </a:rPr>
              <a:t>      </a:t>
            </a:r>
            <a:r>
              <a:rPr b="0" lang="ar-SA" sz="2800" spc="-1" strike="noStrike">
                <a:solidFill>
                  <a:srgbClr val="0d0d0d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611280" y="1606680"/>
            <a:ext cx="7993080" cy="503712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فرز:  فصل السلع غير المتجانس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التراكم : تجميع السلع التي ترد من مصدر واحد وجعلها في مكان واح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تحميل : تجزئة العبوات ذات الاحجام والأوزان الكبيرة وتعبئتها في عبوات أصغ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4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التشكيل : عمل أشكال للسلعة لجذب المستهلك اليه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8"/>
          <p:cNvSpPr/>
          <p:nvPr/>
        </p:nvSpPr>
        <p:spPr>
          <a:xfrm>
            <a:off x="118728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منافع قنوات التوزي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ounded Rectangle 2"/>
          <p:cNvSpPr/>
          <p:nvPr/>
        </p:nvSpPr>
        <p:spPr>
          <a:xfrm>
            <a:off x="934920" y="2349360"/>
            <a:ext cx="7272360" cy="302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نفعة الشكل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نفعة الزمن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نفعة المكان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منفعة التملك والحياز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547560" y="-100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8"/>
          <p:cNvSpPr/>
          <p:nvPr/>
        </p:nvSpPr>
        <p:spPr>
          <a:xfrm>
            <a:off x="2933640" y="800280"/>
            <a:ext cx="60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"/>
          <p:cNvSpPr/>
          <p:nvPr/>
        </p:nvSpPr>
        <p:spPr>
          <a:xfrm>
            <a:off x="1547640" y="4302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علاقة قنوات التوزيع بالوسطا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Diagram 2" descr=""/>
          <p:cNvPicPr/>
          <p:nvPr/>
        </p:nvPicPr>
        <p:blipFill>
          <a:blip r:embed="rId2"/>
          <a:stretch/>
        </p:blipFill>
        <p:spPr>
          <a:xfrm>
            <a:off x="1500120" y="1096920"/>
            <a:ext cx="6558120" cy="53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7"/>
          <p:cNvSpPr/>
          <p:nvPr/>
        </p:nvSpPr>
        <p:spPr>
          <a:xfrm>
            <a:off x="1116000" y="60480"/>
            <a:ext cx="7201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أنواع قنوات التوز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Diagram 2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7"/>
          <p:cNvSpPr/>
          <p:nvPr/>
        </p:nvSpPr>
        <p:spPr>
          <a:xfrm>
            <a:off x="1571760" y="345960"/>
            <a:ext cx="62150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a1f28"/>
                </a:solidFill>
                <a:latin typeface="Lucida Sans Unicode"/>
                <a:cs typeface="PT Bold Heading"/>
              </a:rPr>
              <a:t>مميزات قنوات التوز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0" y="1500120"/>
            <a:ext cx="896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-قناة التوزيع ذات المستويي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تج ............................. 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-قناة التوزيع ذات المستويات الثلاث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تج ..تجار التجزئة ..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تج ...وكيل .... مشتري صناع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-قناة التسويق ذات المستويات الأرب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تج ..تجار الجملة .. تجار التجزئة...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تج ..وكيل .. موزع صناعي .. مشتري صناع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User</cp:lastModifiedBy>
  <dcterms:modified xsi:type="dcterms:W3CDTF">2017-10-22T17:25:36Z</dcterms:modified>
  <cp:revision>906</cp:revision>
  <dc:subject/>
  <dc:title>الشريحة 1</dc:title>
</cp:coreProperties>
</file>