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CB93-C110-440C-821F-298632C0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8D7-94BB-4E91-89E3-473E5A39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740A9-899C-42B5-94F1-309196A6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1CFA4-1334-4160-923C-A0431D08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684DB-BF5D-4B81-88A2-F53403D0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CB402-0A54-4949-A0A1-8119DD0A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A2D7C-F106-42F8-ACEF-E1E383B1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6DB02-451F-48D7-A90C-D81B732B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F10D5-D885-40BD-B78C-32236146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6AB61-C649-407A-9793-CC7823B8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981E2-0800-41CB-B6E0-D80983E6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7CA50-6A0D-4EEF-93EB-1F6532D1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613-D24C-40E0-8082-48260D06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E877F-18CB-4D5C-B482-70751463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30BB7-246C-453C-9C8B-F81C054D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1EA48-10F3-41D2-AFFF-71E2783F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98224-4502-4BAE-A063-6C9D1D21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FC324-BDAF-4CDF-B086-DA0D2AB6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110FC-0040-4E29-B557-63F358B8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4A96C-AF45-473D-AE05-9440D513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1EBFD-1327-4E13-B100-B6D61539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7F481-CFD3-435F-BF6A-8AF751FE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6C789-C6FC-41D1-9364-4CCBCA81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840-B6D1-4A80-9C61-18CE98A5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81962-AE9A-4FDB-AE61-A50CB4DD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DA550-5D54-4D3A-992E-F74F3496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42E6A-4C94-480C-8037-7B337F50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3336B-712D-47FB-8D18-8E0F0E63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85409-07F0-4804-BB7A-31D038EA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2F3B6-EB0F-4C2D-84D7-D9033FA3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2390D-F2FB-4F4B-AFA0-B299608A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DEB00-B27E-4156-93B4-E18AB972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DB167-46F9-4620-B667-10B254EC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EAF85-8D62-449F-B8B7-0705E470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C1F4-FF24-4BAE-9962-A21555F5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A120F-FB9A-400D-83DA-B340696F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DBB0F-8AEE-4069-8F74-D8DA28D8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C3B0D-F636-452F-AA83-2D7F4E47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5411E-682A-4BCB-A0E5-E3D67D07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166A7-2BB1-4DF4-99E3-A8B4C4F4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23B69-8180-4488-8E95-B41AAA11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E5471-2934-4D43-83DD-E4103776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E39D4-C7C3-418A-ADF9-7C6E4344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5938C-604B-4731-9435-AF8B9F0C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5F3B7-AEB3-4A2B-B925-F03408A9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269E-C6B5-4D9C-967B-B36EB419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8E7DB-0A61-4F29-85C1-1E149194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219FD-D4B5-40D5-A49B-099D2FF6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D1C05-AD4E-4891-8FF3-2AD2D542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361C7-4CFB-452D-9501-399A7BA7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661DB-D708-4777-94C2-E81CF095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1146-5C01-4F26-88BC-B3204790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3085-2A5D-43DF-AD47-455C0172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02D4-4F3A-4779-91AF-6F15CC23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272F-BB38-47A0-AEFA-EB78941F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BDBF-0E98-4165-A51A-86B24B90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F767-74AF-4E7F-806B-7DFDF238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59C0-771E-4041-A207-88AF7CBA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8F3B-3361-4635-9F68-47678114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B910-818B-41FE-A095-E127B2D6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47A9-877E-4863-B63C-9F716CD1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7FDB-6AD9-4042-8704-40CCA6D1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80E30-108C-4E9E-9612-A4973A34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6419B-2103-40D1-8053-7B188571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542A2-B4F3-43FD-A735-5DF3FBBA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531CD-7359-4187-803F-930C5521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1A69A-2D94-4CA6-A4C2-63D94039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B5D-C999-4325-9B68-A36FCFE8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ECB76-56F7-410B-A5D6-DC3FABE7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F1A6C-9895-4076-A787-B70F2AC0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70A72-40CA-45ED-AC44-724F5C09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1B34B-1906-446F-9DE8-E6881CC0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EA7E2-7A04-4F53-BE7D-2C44E154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2111-EE00-4B76-AB64-D03E9090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6510A-CFDF-4084-96D8-2D2A36A7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E7261-526E-4B0D-9FAE-9DE667A2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E4594-D767-4A62-835F-9B2E1E86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C9F3C-B52C-4D57-AAC3-76298F1F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5B6B-51C1-499B-BD1A-36AE96F7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9B00A-8ED8-410E-8CD6-F2D61005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0C61F-77F8-4D0E-9274-3525F846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2B3AC-AF04-44F5-B7D7-BF1D2EE1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06B14-FBE6-4B0D-B531-02AC591B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09ED9-EE5F-4002-9358-0CC7F05F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21D3F-1936-46BC-B39E-6A16F6E4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D4222-089B-4205-83F0-9D27A595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407AE-AB24-4B44-BB78-F065D566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85ECE-AF55-41F6-884C-92C150C1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BF0D2-7739-4F96-B9BF-FC967941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C22-5F97-4FF0-92C8-CEC19A83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B49C4-E7E6-4610-87BB-A37C785A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84E67-8CF5-4C15-B424-1530EEDE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D4E45-D369-4114-A871-9B4EB012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E1037-FB7F-4CEC-84BD-D5F2B02E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0CD3B-9B8F-42E1-A364-03E2ABAC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BFC77-453B-4E76-A8C3-99702635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E0DD1-28D8-421C-8774-2C0F72DC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4A607-3284-4C98-BCF9-38A7C573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E17BD-E8B3-468A-B7F9-58C85A3E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F3C6B-8CA4-416C-BBB7-8BB83B9F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C0D4-D451-4906-9263-78F52D47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3C0E5-EE4E-4405-8200-1233C598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BE3B1-6BAA-48A0-A55E-6662646E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7401E-216B-41B2-8490-5C02D919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B067D-3D25-41B9-B857-6C7947CB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4CB29-D8F1-43ED-82BF-76667F17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8FA67-68A5-4D5E-9143-14E09D91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F9A60-1DC9-4C66-8852-4602186C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58E5A-9715-42D3-97E3-331C9C1D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9BECE-5978-4A99-9044-465FA14D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9E314-3170-4434-BAAF-3A164C43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664-C3F2-4CBD-A5B6-E38EC6D4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17041-465B-4E1B-BF4F-11575A03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C84A4-2A37-4F92-B4ED-6DE67CF9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B90C2-9C32-40CE-ACC8-8FC60740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7D9A4-9337-4017-A741-B4E943AD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6B6DD-EBD3-4051-8B2E-9DB9A2E1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AE4F7-8259-4373-B68C-B94A6BFB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F5C33-6F64-4CE4-BFF0-D10A5CEB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B4427-AF60-4EF8-9F80-FE7733F6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547E2-81D6-4CD6-BA19-39C26F92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4BFD8-F40E-4E35-A93C-E4036F05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8264-57D1-4D24-8D2B-33529AE7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E6D5E-FF04-47C9-89A6-DE61F75B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EDC68-A54C-4C86-8B17-AA442308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C3C59-E9D4-40BB-822E-8A89C199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A8807-71EB-4238-8733-BD48830A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BAD4F-28F9-41E1-9B39-5B7C4EAA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0DB52-B6F1-4DF2-BD02-EFCB568A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077D4-359B-4524-AA10-55AF923C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5FC6E-9C74-4346-B226-77EDBA57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1ADEB-A73D-4FBD-ADDC-F5BDF71D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1FCE5-8412-48D7-838C-9E53EF51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F7B-8963-498A-85A5-590E8943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EEAD0-AC1F-46A4-AF04-4EE46605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348C4-ABDC-44D7-8E53-646BD709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71EA5-E196-4043-A197-F730F733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A0EFD-3DFE-42D7-82E4-B19DDDB4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B6229-F74B-4A8C-A1A4-1DD47544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68235-C0BB-4A58-B3A7-9449017A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AAF4B-BCD5-44FD-BDDD-E1CC2A96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72A7C-C154-4C78-91AA-9D689EB7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41899-87A0-4A44-B3A7-AABCD8F1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7EE2D-A334-4CBD-A07A-8B91B6CB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249C-2B1A-4808-ADEC-002C707C91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5C78-B93E-4519-B9B2-50C9937B5C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2A1F-BEB5-450F-8AED-EA2A65A6C6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E608-4EDB-4F11-87BB-86F6E71429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9C90-EBF9-4FE9-A04D-BBDC54DE5A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0BCC-BB11-44EE-9742-4FCF9FAD8D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552E-0094-42D4-A1B2-6C81E5651E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A8F3-440D-4938-997C-91E1282CC7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F132-4AED-4D19-80B2-03EF15EBEC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1D1C-FD57-40E4-B26F-186D8C69FD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6FB1-C5C3-4282-8113-B5F7CB2D4E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8A8A-D3F1-46EA-950E-48E0DE0D66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2771640" y="1174680"/>
            <a:ext cx="54435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ماهية قنوات التوزي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شكل بيضاوي 5"/>
          <p:cNvSpPr/>
          <p:nvPr/>
        </p:nvSpPr>
        <p:spPr>
          <a:xfrm>
            <a:off x="822240" y="1898640"/>
            <a:ext cx="1714680" cy="1857240"/>
          </a:xfrm>
          <a:prstGeom prst="ellipse">
            <a:avLst/>
          </a:prstGeom>
          <a:solidFill>
            <a:srgbClr val="2da2bf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Lucida Sans Unicode"/>
              </a:rPr>
              <a:t>الفصل الراب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606" name="Picture 2" descr="C:\Users\User\AppData\Local\Temp\IMG-20171011-WA0035.jpg"/>
          <p:cNvPicPr/>
          <p:nvPr/>
        </p:nvPicPr>
        <p:blipFill>
          <a:blip r:embed="rId2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609" name="Picture 2" descr="C:\Users\User\AppData\Local\Temp\IMG-20171011-WA003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8"/>
          <p:cNvSpPr/>
          <p:nvPr/>
        </p:nvSpPr>
        <p:spPr>
          <a:xfrm>
            <a:off x="857160" y="500040"/>
            <a:ext cx="76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قناة التوز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مجموعة المؤسسات والأشخاص الذين يشاركون في تحريك السلع والخدمات من مراكز الانتاج الى نقاط الاستهلاك النهائ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8"/>
          <p:cNvSpPr/>
          <p:nvPr/>
        </p:nvSpPr>
        <p:spPr>
          <a:xfrm>
            <a:off x="684360" y="625320"/>
            <a:ext cx="777528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أهمية قنوات التوز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ليل عدد العمليات بين المنتج و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ليل المخزون السلعي لدى المنتج و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حصول المستهلك على السلعة في الوقت والمكان وبأقل جهد ممكن وبتكلفة مناسب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8"/>
          <p:cNvSpPr/>
          <p:nvPr/>
        </p:nvSpPr>
        <p:spPr>
          <a:xfrm>
            <a:off x="1285920" y="189000"/>
            <a:ext cx="657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a1f28"/>
                </a:solidFill>
                <a:latin typeface="Arial"/>
                <a:cs typeface="PT Bold Heading"/>
              </a:rPr>
              <a:t>تخطيط قنوات التوزي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ea typeface="PT Bold Head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ounded Rectangle 2"/>
          <p:cNvSpPr/>
          <p:nvPr/>
        </p:nvSpPr>
        <p:spPr>
          <a:xfrm>
            <a:off x="934920" y="2637000"/>
            <a:ext cx="7272360" cy="27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Lucida Sans Unicode"/>
              </a:rPr>
              <a:t>يعتبر التخطيط للقناة التسويقية الخطوة الاولى في عملية نقل السلعة من المنتج الى المستهلك في محيط الاسواق التي يسعى المصمم في خدمته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AutoShape 8"/>
          <p:cNvSpPr/>
          <p:nvPr/>
        </p:nvSpPr>
        <p:spPr>
          <a:xfrm>
            <a:off x="1042920" y="1873080"/>
            <a:ext cx="7201080" cy="4770720"/>
          </a:xfrm>
          <a:prstGeom prst="flowChartDocumen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1596960" y="295200"/>
            <a:ext cx="609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Arial"/>
                <a:cs typeface="PT Bold Heading"/>
              </a:rPr>
              <a:t>وظائف قنوات التوزي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900000" y="1357200"/>
            <a:ext cx="745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ffff"/>
                </a:solidFill>
                <a:latin typeface="Arial"/>
                <a:ea typeface="AL-Mohanad Bold"/>
              </a:rPr>
              <a:t>      </a:t>
            </a:r>
            <a:r>
              <a:rPr b="0" lang="ar-SA" sz="2800" spc="-1" strike="noStrike">
                <a:solidFill>
                  <a:srgbClr val="0d0d0d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611280" y="1606680"/>
            <a:ext cx="7993080" cy="503712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فرز:  فصل السلع غير المتجانس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تراكم : تجميع السلع التي ترد من مصدر واحد وجعلها في مكان واح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تحميل : تجزئة العبوات ذات الاحجام والأوزان الكبيرة وتعبئتها في عبوات أصغ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تشكيل : عمل أشكال للسلعة لجذب المستهلك اليه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8"/>
          <p:cNvSpPr/>
          <p:nvPr/>
        </p:nvSpPr>
        <p:spPr>
          <a:xfrm>
            <a:off x="118728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منافع قنوات التوز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ounded Rectangle 2"/>
          <p:cNvSpPr/>
          <p:nvPr/>
        </p:nvSpPr>
        <p:spPr>
          <a:xfrm>
            <a:off x="934920" y="2349360"/>
            <a:ext cx="7272360" cy="302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نفعة الشكل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نفعة الزمن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نفعة المكان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منفعة التملك والحياز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547560" y="-100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8"/>
          <p:cNvSpPr/>
          <p:nvPr/>
        </p:nvSpPr>
        <p:spPr>
          <a:xfrm>
            <a:off x="2933640" y="800280"/>
            <a:ext cx="60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"/>
          <p:cNvSpPr/>
          <p:nvPr/>
        </p:nvSpPr>
        <p:spPr>
          <a:xfrm>
            <a:off x="1547640" y="4302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علاقة قنوات التوزيع بالوسط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Diagram 2" descr=""/>
          <p:cNvPicPr/>
          <p:nvPr/>
        </p:nvPicPr>
        <p:blipFill>
          <a:blip r:embed="rId2"/>
          <a:stretch/>
        </p:blipFill>
        <p:spPr>
          <a:xfrm>
            <a:off x="1500120" y="1096920"/>
            <a:ext cx="6558120" cy="53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7"/>
          <p:cNvSpPr/>
          <p:nvPr/>
        </p:nvSpPr>
        <p:spPr>
          <a:xfrm>
            <a:off x="1116000" y="60480"/>
            <a:ext cx="7201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أنواع قنوات التوز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Diagram 2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7"/>
          <p:cNvSpPr/>
          <p:nvPr/>
        </p:nvSpPr>
        <p:spPr>
          <a:xfrm>
            <a:off x="1571760" y="345960"/>
            <a:ext cx="62150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a1f28"/>
                </a:solidFill>
                <a:latin typeface="Lucida Sans Unicode"/>
                <a:cs typeface="PT Bold Heading"/>
              </a:rPr>
              <a:t>مميزات قنوات التوز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0" y="1500120"/>
            <a:ext cx="89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-قناة التوزيع ذات المستويي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........................... 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-قناة التوزيع ذات المستويات الثلاث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تجار التجزئة ..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.وكيل .... مشتري صناع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-قناة التسويق ذات المستويات الأر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تجار الجملة .. تجار التجزئة...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وكيل .. موزع صناعي .. مشتري صناع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User</cp:lastModifiedBy>
  <dcterms:modified xsi:type="dcterms:W3CDTF">2017-10-22T17:25:36Z</dcterms:modified>
  <cp:revision>906</cp:revision>
  <dc:subject/>
  <dc:title>الشريحة 1</dc:title>
</cp:coreProperties>
</file>