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ABCB2-C861-41E3-B321-240555F6F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7E52D-86AD-4F67-BF0B-FC65C2DE0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00A8B-BCED-4553-A6E3-1D7E621E7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59E7-C36B-4E15-AFA3-7D0B36898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3E05D66-FD68-435E-944E-66533D01A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ECF9BE-B3B7-4ECC-9855-5FF480761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99F2CB-7A70-4BA3-8D13-2DE0EDA25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8E3CC2-AD53-4275-92BA-F31D0AD3F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FA0C3E-A56C-4058-860E-F2C179768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645330-04D8-44CA-9C35-FF56F221B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935F09-FE1C-4608-B3B6-075BE403B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85260-E319-4C60-9F26-CB09860D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EAC9B8-99EF-4E4F-921D-C35B9E70C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FA5734-68E9-48B9-A22C-010A4BFDD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39E1E9-8DCA-4F46-967E-E7E2268B5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42F84E-6940-46E7-A6D3-0C210651B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276C19-7FDE-41F2-A41B-0C503C6FF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3FF2A-3E75-4ADF-BAC0-46594A11F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1CEF-0A4F-49AB-9BEC-2A5104B6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24EAF-B20B-4D8E-8CEF-D44F2A49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EDAA2-A88D-4846-9B64-52E4D4AE1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70F7-9B23-4ABC-B889-B3665D1D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FC79-7E85-4406-8389-3BBE72D65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623C0-A1E8-4790-A069-77093FBEE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A2F7-759A-482E-80DE-7DF95E50F1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DA19-A53A-4F41-B978-30AB406DAA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3e3ff"/>
                </a:solidFill>
                <a:latin typeface="Arial"/>
              </a:rPr>
              <a:t>الفصل الرابع: قواعد المحاسبة الضريبية</a:t>
            </a:r>
            <a:r>
              <a:rPr b="0" lang="en-US"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886200"/>
            <a:ext cx="6400800" cy="24955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سوف يتم التركيز في هذا الفصل على الموضوعات التالية</a:t>
            </a:r>
            <a:r>
              <a:rPr b="0"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أسعار الضريبة</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السنة الضريبية</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طريقة المحاسبة</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قواعد الضرائب على شركات الأشخاص</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قواعد الضرائب على شركات الأموال</a:t>
            </a:r>
            <a:r>
              <a:rPr b="1" lang="ar-SA" sz="2400" spc="-1" strike="noStrike">
                <a:solidFill>
                  <a:srgbClr val="ffffff"/>
                </a:solidFill>
                <a:latin typeface="Arial"/>
              </a:rPr>
              <a: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قواعد ضريبة إستثمار الغازالطبيعي</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187280" y="1049760"/>
            <a:ext cx="777744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Times New Roman"/>
              </a:rPr>
              <a:t>ولحساب مبلغ الضري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نحسب أولا مبلغ الضريبة عن السنة المالية الأولى عبارة عن(صافي الربح ×</a:t>
            </a:r>
            <a:r>
              <a:rPr b="0" lang="ar-SA" sz="2400" spc="-1" strike="noStrike">
                <a:solidFill>
                  <a:srgbClr val="ffffff"/>
                </a:solidFill>
                <a:latin typeface="Arial"/>
                <a:ea typeface="Times New Roman"/>
              </a:rPr>
              <a:t>20</a:t>
            </a:r>
            <a:r>
              <a:rPr b="0" lang="ar-SA" sz="2400" spc="-1" strike="noStrike">
                <a:solidFill>
                  <a:srgbClr val="ffffff"/>
                </a:solidFill>
                <a:latin typeface="Arial"/>
                <a:ea typeface="Times New Roman"/>
              </a:rPr>
              <a:t>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 نحسب مبلغ الضريبة عن السنة المالية الطويلة عبارة عن (صافي الربح عن الفترة الطويلة ×</a:t>
            </a:r>
            <a:r>
              <a:rPr b="0" lang="ar-SA" sz="2400" spc="-1" strike="noStrike">
                <a:solidFill>
                  <a:srgbClr val="ffffff"/>
                </a:solidFill>
                <a:latin typeface="Arial"/>
                <a:ea typeface="Times New Roman"/>
              </a:rPr>
              <a:t>20</a:t>
            </a:r>
            <a:r>
              <a:rPr b="0" lang="ar-SA" sz="2400" spc="-1" strike="noStrike">
                <a:solidFill>
                  <a:srgbClr val="ffffff"/>
                </a:solidFill>
                <a:latin typeface="Arial"/>
                <a:ea typeface="Times New Roman"/>
              </a:rPr>
              <a:t> %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
          <p:cNvSpPr/>
          <p:nvPr/>
        </p:nvSpPr>
        <p:spPr>
          <a:xfrm flipH="1">
            <a:off x="1331640" y="3357720"/>
            <a:ext cx="14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325600" y="2995920"/>
            <a:ext cx="114696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94488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الضريبة السنوية الإفتراضية = ضريبة الفترة المالية الطويلة × </a:t>
            </a:r>
            <a:r>
              <a:rPr b="0" lang="ar-SA" sz="2400" spc="-1" strike="noStrike">
                <a:solidFill>
                  <a:srgbClr val="ffffff"/>
                </a:solidFill>
                <a:latin typeface="Arial"/>
                <a:ea typeface="Times New Roman"/>
              </a:rPr>
              <a:t>12</a:t>
            </a:r>
            <a:r>
              <a:rPr b="0" lang="ar-SA" sz="2400" spc="-1" strike="noStrike">
                <a:solidFill>
                  <a:srgbClr val="ffffff"/>
                </a:solidFill>
                <a:latin typeface="Arial"/>
                <a:ea typeface="Times New Roman"/>
              </a:rPr>
              <a:t> شهرا</a:t>
            </a:r>
            <a:endParaRPr b="0" lang="en-US" sz="2400" spc="-1" strike="noStrike">
              <a:solidFill>
                <a:srgbClr val="ffffff"/>
              </a:solidFill>
              <a:latin typeface="Arial"/>
            </a:endParaRPr>
          </a:p>
          <a:p>
            <a:pPr algn="r" rtl="1">
              <a:tabLst>
                <a:tab algn="l" pos="0"/>
                <a:tab algn="l" pos="394488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عدد أشهرالفترة المالية الطوي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79280" y="620640"/>
            <a:ext cx="896472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نحدد الغرامات إن وجدت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  نحسب الفرق بين الضريبة المستحقة عن السنة الأولى والضريبة السنوية الإفتراض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إذا كان الفرق </a:t>
            </a:r>
            <a:r>
              <a:rPr b="0" lang="en-US" sz="2400" spc="-1" strike="noStrike">
                <a:solidFill>
                  <a:srgbClr val="ffffff"/>
                </a:solidFill>
                <a:latin typeface="Arial"/>
              </a:rPr>
              <a:t>&gt;</a:t>
            </a:r>
            <a:r>
              <a:rPr b="0" lang="ar-SA" sz="2400" spc="-1" strike="noStrike">
                <a:solidFill>
                  <a:srgbClr val="ffffff"/>
                </a:solidFill>
                <a:latin typeface="Arial"/>
              </a:rPr>
              <a:t> الضريبة المستحقة عن السنة الأولى ×</a:t>
            </a:r>
            <a:r>
              <a:rPr b="0" lang="ar-SA" sz="2400" spc="-1" strike="noStrike">
                <a:solidFill>
                  <a:srgbClr val="ffffff"/>
                </a:solidFill>
                <a:latin typeface="Arial"/>
              </a:rPr>
              <a:t>10</a:t>
            </a:r>
            <a:r>
              <a:rPr b="0" lang="ar-SA" sz="2400" spc="-1" strike="noStrike">
                <a:solidFill>
                  <a:srgbClr val="ffffff"/>
                </a:solidFill>
                <a:latin typeface="Arial"/>
              </a:rPr>
              <a:t>%      (لايوجد غرا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إذاكان الفرق</a:t>
            </a:r>
            <a:r>
              <a:rPr b="0" lang="en-US" sz="2400" spc="-1" strike="noStrike">
                <a:solidFill>
                  <a:srgbClr val="ffffff"/>
                </a:solidFill>
                <a:latin typeface="Arial"/>
              </a:rPr>
              <a:t>&lt;</a:t>
            </a:r>
            <a:r>
              <a:rPr b="0" lang="ar-SA" sz="2400" spc="-1" strike="noStrike">
                <a:solidFill>
                  <a:srgbClr val="ffffff"/>
                </a:solidFill>
                <a:latin typeface="Arial"/>
              </a:rPr>
              <a:t> الضريبة المستحقة عن السنة الأولى ×</a:t>
            </a:r>
            <a:r>
              <a:rPr b="0" lang="ar-SA" sz="2400" spc="-1" strike="noStrike">
                <a:solidFill>
                  <a:srgbClr val="ffffff"/>
                </a:solidFill>
                <a:latin typeface="Arial"/>
              </a:rPr>
              <a:t>10</a:t>
            </a:r>
            <a:r>
              <a:rPr b="0" lang="ar-SA" sz="2400" spc="-1" strike="noStrike">
                <a:solidFill>
                  <a:srgbClr val="ffffff"/>
                </a:solidFill>
                <a:latin typeface="Arial"/>
              </a:rPr>
              <a:t>%        (يوجد غرا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نحسب عدد أيام التأخير كالتالي  (عدد الأشهر الطويلة – </a:t>
            </a:r>
            <a:r>
              <a:rPr b="0" lang="ar-SA" sz="2400" spc="-1" strike="noStrike">
                <a:solidFill>
                  <a:srgbClr val="ffffff"/>
                </a:solidFill>
                <a:latin typeface="Arial"/>
              </a:rPr>
              <a:t>12</a:t>
            </a:r>
            <a:r>
              <a:rPr b="0" lang="ar-SA" sz="2400" spc="-1" strike="noStrike">
                <a:solidFill>
                  <a:srgbClr val="ffffff"/>
                </a:solidFill>
                <a:latin typeface="Arial"/>
              </a:rPr>
              <a:t> شه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فترة التأخير أقل من </a:t>
            </a:r>
            <a:r>
              <a:rPr b="0" lang="ar-SA" sz="2400" spc="-1" strike="noStrike">
                <a:solidFill>
                  <a:srgbClr val="ffffff"/>
                </a:solidFill>
                <a:latin typeface="Arial"/>
              </a:rPr>
              <a:t>30</a:t>
            </a:r>
            <a:r>
              <a:rPr b="0" lang="ar-SA" sz="2400" spc="-1" strike="noStrike">
                <a:solidFill>
                  <a:srgbClr val="ffffff"/>
                </a:solidFill>
                <a:latin typeface="Arial"/>
              </a:rPr>
              <a:t> يوم من الموعد النظامي تكون الغرامة  </a:t>
            </a:r>
            <a:r>
              <a:rPr b="0" lang="ar-SA" sz="2400" spc="-1" strike="noStrike">
                <a:solidFill>
                  <a:srgbClr val="ffffff"/>
                </a:solidFill>
                <a:latin typeface="Arial"/>
              </a:rPr>
              <a:t>5</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فترة التأخير أعلى من </a:t>
            </a:r>
            <a:r>
              <a:rPr b="0" lang="ar-SA" sz="2400" spc="-1" strike="noStrike">
                <a:solidFill>
                  <a:srgbClr val="ffffff"/>
                </a:solidFill>
                <a:latin typeface="Arial"/>
              </a:rPr>
              <a:t>30</a:t>
            </a:r>
            <a:r>
              <a:rPr b="0" lang="ar-SA" sz="2400" spc="-1" strike="noStrike">
                <a:solidFill>
                  <a:srgbClr val="ffffff"/>
                </a:solidFill>
                <a:latin typeface="Arial"/>
              </a:rPr>
              <a:t> يوم وأقل من أوتساوي </a:t>
            </a:r>
            <a:r>
              <a:rPr b="0" lang="ar-SA" sz="2400" spc="-1" strike="noStrike">
                <a:solidFill>
                  <a:srgbClr val="ffffff"/>
                </a:solidFill>
                <a:latin typeface="Arial"/>
              </a:rPr>
              <a:t>90</a:t>
            </a:r>
            <a:r>
              <a:rPr b="0" lang="ar-SA" sz="2400" spc="-1" strike="noStrike">
                <a:solidFill>
                  <a:srgbClr val="ffffff"/>
                </a:solidFill>
                <a:latin typeface="Arial"/>
              </a:rPr>
              <a:t> يوم تكون الغرامة  </a:t>
            </a:r>
            <a:r>
              <a:rPr b="0" lang="ar-SA" sz="2400" spc="-1" strike="noStrike">
                <a:solidFill>
                  <a:srgbClr val="ffffff"/>
                </a:solidFill>
                <a:latin typeface="Arial"/>
              </a:rPr>
              <a:t>10</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ذاكانت فترة التأخير أعلى من </a:t>
            </a:r>
            <a:r>
              <a:rPr b="0" lang="ar-SA" sz="2400" spc="-1" strike="noStrike">
                <a:solidFill>
                  <a:srgbClr val="ffffff"/>
                </a:solidFill>
                <a:latin typeface="Arial"/>
              </a:rPr>
              <a:t>90</a:t>
            </a:r>
            <a:r>
              <a:rPr b="0" lang="ar-SA" sz="2400" spc="-1" strike="noStrike">
                <a:solidFill>
                  <a:srgbClr val="ffffff"/>
                </a:solidFill>
                <a:latin typeface="Arial"/>
              </a:rPr>
              <a:t> يوم وأقل من أوتساوي </a:t>
            </a:r>
            <a:r>
              <a:rPr b="0" lang="ar-SA" sz="2400" spc="-1" strike="noStrike">
                <a:solidFill>
                  <a:srgbClr val="ffffff"/>
                </a:solidFill>
                <a:latin typeface="Arial"/>
              </a:rPr>
              <a:t>360</a:t>
            </a:r>
            <a:r>
              <a:rPr b="0" lang="ar-SA" sz="2400" spc="-1" strike="noStrike">
                <a:solidFill>
                  <a:srgbClr val="ffffff"/>
                </a:solidFill>
                <a:latin typeface="Arial"/>
              </a:rPr>
              <a:t> يوم تكون الغرامة </a:t>
            </a:r>
            <a:r>
              <a:rPr b="0" lang="ar-SA" sz="2400" spc="-1" strike="noStrike">
                <a:solidFill>
                  <a:srgbClr val="ffffff"/>
                </a:solidFill>
                <a:latin typeface="Arial"/>
              </a:rPr>
              <a:t>20</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فترة التأخير أعلى من </a:t>
            </a:r>
            <a:r>
              <a:rPr b="0" lang="ar-SA" sz="2400" spc="-1" strike="noStrike">
                <a:solidFill>
                  <a:srgbClr val="ffffff"/>
                </a:solidFill>
                <a:latin typeface="Arial"/>
              </a:rPr>
              <a:t>360</a:t>
            </a:r>
            <a:r>
              <a:rPr b="0" lang="ar-SA" sz="2400" spc="-1" strike="noStrike">
                <a:solidFill>
                  <a:srgbClr val="ffffff"/>
                </a:solidFill>
                <a:latin typeface="Arial"/>
              </a:rPr>
              <a:t> يوم تكون الغرامة </a:t>
            </a:r>
            <a:r>
              <a:rPr b="0" lang="ar-SA" sz="2400" spc="-1" strike="noStrike">
                <a:solidFill>
                  <a:srgbClr val="ffffff"/>
                </a:solidFill>
                <a:latin typeface="Arial"/>
              </a:rPr>
              <a:t>25</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المبلغ الواجب الدفع = الضريبة المستحقة عن الفترة الطويلة – الضريبة المدفوعة عن السنة + الغرامات إن وجد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طريقة المحاسب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كل الشركات التجارية والصناعية بكافة أنواعها سواء شركات أموال أو منشآت فردية أوتوصية أوتضامن جميعها يطبق عليها أساس الإستحقاق.</a:t>
            </a:r>
            <a:endParaRPr b="0" lang="en-US" sz="2800" spc="-1" strike="noStrike">
              <a:solidFill>
                <a:srgbClr val="ffffff"/>
              </a:solidFill>
              <a:latin typeface="Arial"/>
            </a:endParaRPr>
          </a:p>
          <a:p>
            <a:pPr marL="291600" indent="-2916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النسبة للشركات الأخرى (المهن الحرة) يطبق عليها الأساس النقدي المعدل بمعنى أن الإيرادات يطبق عليها الأساس النقدي والمصروفات يطبق عليها أساس الإستحقاق .وإذاكانت المنشأة لايتناسب معها الأساس المتبع لابد لها أن تقدم طلب لمؤسسة النقد ثم إلى مصلحة الزكاة والدخل وموافقة المصلحة على ذلك.</a:t>
            </a:r>
            <a:endParaRPr b="0" lang="en-US" sz="2800" spc="-1" strike="noStrike">
              <a:solidFill>
                <a:srgbClr val="ffffff"/>
              </a:solidFill>
              <a:latin typeface="Arial"/>
            </a:endParaRPr>
          </a:p>
          <a:p>
            <a:pPr marL="291600" indent="-2916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ما الأشخاص الطبيعيين لهم الخيار إماتطبيق الأساس النقدي أوالإستحقاق إلا في حالة واحدة إذا زاد إجمالي الدخل قبل خصم المصروفات عن خمسة مليون لابد من إتباع أساس الإستحق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قواعد الضرائب على شركات الأشخاص</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شركات الأشخاص هي (التضامن- شركات التوصية البسيطة- شركات التوصية بالأسهم)</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فرض الضرائب على الشركاء في شركات الأشخاص وليس على الشركة ذاتها ويجب على كل شريك متضامن أن يقدم إقراره للمصلحة عن كافة دخله من كافة المصادر خلال </a:t>
            </a:r>
            <a:r>
              <a:rPr b="0" lang="en-US" sz="3200" spc="-1" strike="noStrike">
                <a:solidFill>
                  <a:srgbClr val="ffffff"/>
                </a:solidFill>
                <a:latin typeface="Arial"/>
              </a:rPr>
              <a:t>120</a:t>
            </a:r>
            <a:r>
              <a:rPr b="0" lang="en-US" sz="3200" spc="-1" strike="noStrike">
                <a:solidFill>
                  <a:srgbClr val="ffffff"/>
                </a:solidFill>
                <a:latin typeface="Arial"/>
              </a:rPr>
              <a:t> يوم من نهاية سنته المالية.أما بالنسبة للشركا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0" y="2103480"/>
            <a:ext cx="896472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وصين في شركات الأشخاص يعاملون معاملة المساهمين في شركات الأموال فالشركة (التوصية) تقدم الإقرار الضريبي نيابة عنهم وتدفع الضريبة المستحقة عليهم نيابة عنهم ويتم تقديمه خلال </a:t>
            </a:r>
            <a:r>
              <a:rPr b="0" lang="ar-SA" sz="2400" spc="-1" strike="noStrike">
                <a:solidFill>
                  <a:srgbClr val="ffffff"/>
                </a:solidFill>
                <a:latin typeface="Arial"/>
              </a:rPr>
              <a:t>120</a:t>
            </a:r>
            <a:r>
              <a:rPr b="0" lang="ar-SA" sz="2400" spc="-1" strike="noStrike">
                <a:solidFill>
                  <a:srgbClr val="ffffff"/>
                </a:solidFill>
                <a:latin typeface="Arial"/>
              </a:rPr>
              <a:t> يو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 دخول أوخروج شريك أوشركاء في شركة الأشخاص ونتج عن ذلك إعادة تشكيلها تعد جميع أصولها منقولة إلى شركة الأشخاص الجديدة مقابل حصص في هذه الشرك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قواعد الضرائب على شركات الأموال</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وعد تقديم الأقرارالضريبي لشركات الأموال خلال </a:t>
            </a:r>
            <a:r>
              <a:rPr b="0" lang="ar-SA" sz="3200" spc="-1" strike="noStrike">
                <a:solidFill>
                  <a:srgbClr val="ffffff"/>
                </a:solidFill>
                <a:latin typeface="Arial"/>
              </a:rPr>
              <a:t>120</a:t>
            </a:r>
            <a:r>
              <a:rPr b="0" lang="ar-SA" sz="3200" spc="-1" strike="noStrike">
                <a:solidFill>
                  <a:srgbClr val="ffffff"/>
                </a:solidFill>
                <a:latin typeface="Arial"/>
              </a:rPr>
              <a:t> يوم من نهاية السنة المالية للشركة وتدفع الشركة الضريبة نيابة عن المساهمين ويعاملون الشركاء الموصين معاملة الشركاء المساهم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e3e3ff"/>
                </a:solidFill>
                <a:uFillTx/>
                <a:latin typeface="Arial"/>
              </a:rPr>
              <a:t>قواعد ضريبة استثمار الغازالطبيعي</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خضع لضريبة الغازالطبيعي كل شخص طبيعي أوإعتباري سعودي أوغير سعودي يعمل في مجال استثمارالغاز الطبيعي وسوائلة ومكثفات الغاز داخل المملكة أومنطقتها الإقتصادية الخالصة.</a:t>
            </a:r>
            <a:endParaRPr b="0" lang="en-US" sz="2800" spc="-1" strike="noStrike">
              <a:solidFill>
                <a:srgbClr val="ffffff"/>
              </a:solidFill>
              <a:latin typeface="Arial"/>
            </a:endParaRPr>
          </a:p>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دخل الخاضع لضريبة الغاز هو كافة الدخول المتحققة في مجال الغاز الطبيعي بما في ذلك النقل .</a:t>
            </a:r>
            <a:endParaRPr b="0" lang="en-US" sz="2800" spc="-1" strike="noStrike">
              <a:solidFill>
                <a:srgbClr val="ffffff"/>
              </a:solidFill>
              <a:latin typeface="Arial"/>
            </a:endParaRPr>
          </a:p>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وعاء الضريبي = (إجمالي الدخل من كافة المصادر _ المصاريف المتعلقة بالغاز )</a:t>
            </a:r>
            <a:endParaRPr b="0" lang="en-US" sz="2800" spc="-1" strike="noStrike">
              <a:solidFill>
                <a:srgbClr val="ffffff"/>
              </a:solidFill>
              <a:latin typeface="Arial"/>
            </a:endParaRPr>
          </a:p>
          <a:p>
            <a:pPr marL="332640" indent="-3326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عر ضريبة الغاز تبدأ من </a:t>
            </a:r>
            <a:r>
              <a:rPr b="0" lang="ar-SA" sz="2800" spc="-1" strike="noStrike">
                <a:solidFill>
                  <a:srgbClr val="ffffff"/>
                </a:solidFill>
                <a:latin typeface="Arial"/>
              </a:rPr>
              <a:t>30</a:t>
            </a:r>
            <a:r>
              <a:rPr b="0" lang="ar-SA" sz="2800" spc="-1" strike="noStrike">
                <a:solidFill>
                  <a:srgbClr val="ffffff"/>
                </a:solidFill>
                <a:latin typeface="Arial"/>
              </a:rPr>
              <a:t> %  إلى </a:t>
            </a:r>
            <a:r>
              <a:rPr b="0" lang="ar-SA" sz="2800" spc="-1" strike="noStrike">
                <a:solidFill>
                  <a:srgbClr val="ffffff"/>
                </a:solidFill>
                <a:latin typeface="Arial"/>
              </a:rPr>
              <a:t>85</a:t>
            </a:r>
            <a:r>
              <a:rPr b="0" lang="ar-SA" sz="2800" spc="-1" strike="noStrike">
                <a:solidFill>
                  <a:srgbClr val="ffffff"/>
                </a:solidFill>
                <a:latin typeface="Arial"/>
              </a:rPr>
              <a:t> % بناء على العائد الداخ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0" y="616680"/>
            <a:ext cx="889308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لاحظة في حالة السعوديين الذين يدفعون ضريبة وزكاة في نفس الوقت يطبق عليهم الحالات التالية:</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الزكاة = الضريبة  يدفع الزكاة فقط لأنهم متساويين</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الزكاة </a:t>
            </a:r>
            <a:r>
              <a:rPr b="0" lang="en-US" sz="2400" spc="-1" strike="noStrike">
                <a:solidFill>
                  <a:srgbClr val="ffffff"/>
                </a:solidFill>
                <a:latin typeface="Arial"/>
              </a:rPr>
              <a:t>&lt; </a:t>
            </a:r>
            <a:r>
              <a:rPr b="0" lang="ar-SA" sz="2400" spc="-1" strike="noStrike">
                <a:solidFill>
                  <a:srgbClr val="ffffff"/>
                </a:solidFill>
                <a:latin typeface="Arial"/>
              </a:rPr>
              <a:t> الضريبة  يدفع الزكاة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ت الزكاة </a:t>
            </a:r>
            <a:r>
              <a:rPr b="0" lang="en-US" sz="2400" spc="-1" strike="noStrike">
                <a:solidFill>
                  <a:srgbClr val="ffffff"/>
                </a:solidFill>
                <a:latin typeface="Arial"/>
              </a:rPr>
              <a:t>&gt;</a:t>
            </a:r>
            <a:r>
              <a:rPr b="0" lang="ar-SA" sz="2400" spc="-1" strike="noStrike">
                <a:solidFill>
                  <a:srgbClr val="ffffff"/>
                </a:solidFill>
                <a:latin typeface="Arial"/>
              </a:rPr>
              <a:t> الضريبة يدفع الزكاة + الفرق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لى كل مكلف يخضع لضريبة الغاز تقديم إقرار ضريبي واحد عن العقد الواحد وإن إشترك في تنفيذ العقد أكثر من كيان قانوني أوكان للمكلف أوجه نشاط مستقلة مرخص بها فتفصل ويقدم كل كيان قانوني إقرار ضريبي مستقل عنها.</a:t>
            </a:r>
            <a:endParaRPr b="0" lang="en-US" sz="2400" spc="-1" strike="noStrike">
              <a:solidFill>
                <a:srgbClr val="ffffff"/>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أسعار الضريبة</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ضمن مرحلة الربط الضريبي بالإضافة إلى تقدير وعاء الضريبة وتحديد الدخل الضريبي تحديد مقدار الضريبة من خلال تطبيق سعر معين على الماده الخاضعة لها والذي قد يكون سعر نسبي أو تصاعدي وسعر الضريبة هومبلغ الضريبة في علاقته بوعاء الضريبة.والسعر الواجب التطبيق هو السعر الساري وقت حدوث الواقع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0" y="-149040"/>
            <a:ext cx="8820000" cy="5946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لقد حددت المادة السابعة من النظام أسعار الضريبة على النحوالتالي:</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سعرالضريبة على الوعاء الضريبي هو عشرون بالمائة(</a:t>
            </a:r>
            <a:r>
              <a:rPr b="0" lang="ar-SA" sz="2400" spc="-1" strike="noStrike">
                <a:solidFill>
                  <a:srgbClr val="ffffff"/>
                </a:solidFill>
                <a:latin typeface="Arial"/>
              </a:rPr>
              <a:t>20</a:t>
            </a:r>
            <a:r>
              <a:rPr b="0" lang="ar-SA" sz="2400" spc="-1" strike="noStrike">
                <a:solidFill>
                  <a:srgbClr val="ffffff"/>
                </a:solidFill>
                <a:latin typeface="Arial"/>
              </a:rPr>
              <a:t> %) لكل من:</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شركة الأموال المقيمة.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الشخص الطبيعي المقيم غير السعودي الذي يمارس النشاط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الشخص غير المقيم نتيجة لنشاط يمارسه في المملكة من خلال منشأة دائمة.</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ب- سعر الضريبة على الوعاء الضريبي للمكلف الذي يعمل في مجال استثمار الغاز</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طبيعي فقط هوثلاثون بالمئة(</a:t>
            </a:r>
            <a:r>
              <a:rPr b="0" lang="ar-SA" sz="2400" spc="-1" strike="noStrike">
                <a:solidFill>
                  <a:srgbClr val="ffffff"/>
                </a:solidFill>
                <a:latin typeface="Arial"/>
              </a:rPr>
              <a:t>30</a:t>
            </a:r>
            <a:r>
              <a:rPr b="0" lang="ar-SA" sz="2400" spc="-1" strike="noStrike">
                <a:solidFill>
                  <a:srgbClr val="ffffff"/>
                </a:solidFill>
                <a:latin typeface="Arial"/>
              </a:rPr>
              <a:t> %)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ذلك عندما يكون معدل العائد الداخلي للتدفقات النقدية السنوية التراكمية ثمانية بالمئة(</a:t>
            </a:r>
            <a:r>
              <a:rPr b="0" lang="ar-SA" sz="2400" spc="-1" strike="noStrike">
                <a:solidFill>
                  <a:srgbClr val="ffffff"/>
                </a:solidFill>
                <a:latin typeface="Arial"/>
              </a:rPr>
              <a:t>8</a:t>
            </a:r>
            <a:r>
              <a:rPr b="0" lang="ar-SA" sz="2400" spc="-1" strike="noStrike">
                <a:solidFill>
                  <a:srgbClr val="ffffff"/>
                </a:solidFill>
                <a:latin typeface="Arial"/>
              </a:rPr>
              <a:t>%)أوأقل</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ثم يتصاعد سعر الضريبة وفقا لمعدل العائد الداخلي الذي يحققه المستثمر إلى أن يصل إلى نسبة (</a:t>
            </a:r>
            <a:r>
              <a:rPr b="0" lang="ar-SA" sz="2400" spc="-1" strike="noStrike">
                <a:solidFill>
                  <a:srgbClr val="ffffff"/>
                </a:solidFill>
                <a:latin typeface="Arial"/>
              </a:rPr>
              <a:t>85</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سعر الضريبة على الوعاء الضريبي للمكلف الذي يعمل في إنتاج الزيت والمواد الهيدروكربونية هو(</a:t>
            </a:r>
            <a:r>
              <a:rPr b="0" lang="ar-SA" sz="2400" spc="-1" strike="noStrike">
                <a:solidFill>
                  <a:srgbClr val="ffffff"/>
                </a:solidFill>
                <a:latin typeface="Arial"/>
              </a:rPr>
              <a:t>85</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0" y="50976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د- أسعار الضريبة المستقطعة هي أسعار محددة وفق الضوابط التا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يجب على كل مقيم مكلف أوغير المكلف بمقتضى النظام وعلى المنشأة الدائمة في المملكة لغير المقيم ممن يدفعون مبلغا ما لغير مقيم من مصدر في المملكة استقطاع ضريبة من إجمالي المبلغ المدفوع وفقا للأسعار الآتي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28" name=""/>
          <p:cNvGraphicFramePr/>
          <p:nvPr/>
        </p:nvGraphicFramePr>
        <p:xfrm>
          <a:off x="1979640" y="2276640"/>
          <a:ext cx="5788080" cy="4435200"/>
        </p:xfrm>
        <a:graphic>
          <a:graphicData uri="http://schemas.openxmlformats.org/drawingml/2006/table">
            <a:tbl>
              <a:tblPr/>
              <a:tblGrid>
                <a:gridCol w="2894040"/>
                <a:gridCol w="289404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0%</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Times New Roman"/>
                        </a:rPr>
                        <a:t>أتعاب الإدارة.</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Pr>
                        <a:t>إتاوة أوريع دفعات مقابل خدمات مدفوعة للمركز الرئيسي أو شركة مرتبطة.</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Times New Roman"/>
                        </a:rPr>
                        <a:t>خدمات فنية واستشارية ,إيجار,تذاكر طيران,خدمات اتصالات هاتفية,أقساط تأمين,أرباح موزعة</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imes New Roman"/>
                          <a:cs typeface="Times New Roman"/>
                        </a:rPr>
                        <a:t>أي دفعات أخرى</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
          <p:cNvSpPr/>
          <p:nvPr/>
        </p:nvSpPr>
        <p:spPr>
          <a:xfrm>
            <a:off x="-717480" y="4524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e3e3ff"/>
                </a:solidFill>
                <a:uFillTx/>
                <a:latin typeface="Arial"/>
              </a:rPr>
              <a:t>السنة الضريبة</a:t>
            </a:r>
            <a:endParaRPr b="0" lang="en-US" sz="4400" spc="-1" strike="noStrike">
              <a:solidFill>
                <a:srgbClr val="e3e3ff"/>
              </a:solidFill>
              <a:latin typeface="Arial"/>
            </a:endParaRPr>
          </a:p>
        </p:txBody>
      </p:sp>
      <p:sp>
        <p:nvSpPr>
          <p:cNvPr id="131" name=""/>
          <p:cNvSpPr/>
          <p:nvPr/>
        </p:nvSpPr>
        <p:spPr>
          <a:xfrm>
            <a:off x="468360" y="894960"/>
            <a:ext cx="841680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ل أن تكون متمشية مع السنة الهجرية ولقد وضع النظام ضوابط لتحديد السنة الضريبة للمكلف على النحو التا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السنة الضريبية للمكلف الواحد عن جميع أوجه النشاط هي السنة المالية للدولة وتبدأ من تاريخ حصوله على السجل التجاري أوالترخيص ويجوز له استخدام سنة ضريبية مختلفة في الحالة التا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كان المكلف يستخدم سنة مالية ميلاد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إستثناء من سنوية الضريبة قد تحتسب الضريبة عن فترة مالية قصيرة أوفترة مالية طوي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9640" y="1481400"/>
            <a:ext cx="8388360" cy="292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نحصر حالات إحتساب الضريبة عن الفترة المالية القصيرة والتي هي أقل من (</a:t>
            </a:r>
            <a:r>
              <a:rPr b="1" lang="ar-SA" sz="2400" spc="-1" strike="noStrike">
                <a:solidFill>
                  <a:srgbClr val="ffffff"/>
                </a:solidFill>
                <a:latin typeface="Arial"/>
              </a:rPr>
              <a:t>12</a:t>
            </a:r>
            <a:r>
              <a:rPr b="1" lang="ar-SA" sz="2400" spc="-1" strike="noStrike">
                <a:solidFill>
                  <a:srgbClr val="ffffff"/>
                </a:solidFill>
                <a:latin typeface="Arial"/>
              </a:rPr>
              <a:t>) شهر في الآ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 عند بداية النشاط.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عند بدء المكلف فردا أو كان شركة لنشاطه خلال السنة المالية التي إتخذها لنفسه وهي عباره عن جزء من السنة التي زاول فيها النشاط فتحسب الضريبة عن الربح المتحقق في هذه الفترة القصير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0" y="828720"/>
            <a:ext cx="914400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ar-SA" sz="2400" spc="-1" strike="noStrike" u="sng">
                <a:solidFill>
                  <a:srgbClr val="ffffff"/>
                </a:solidFill>
                <a:uFillTx/>
                <a:latin typeface="Arial"/>
              </a:rPr>
              <a:t>ب- عند تغيير بداية السنة المالية للمكلف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ذا عدل المكلف من إتباع السنة المالية التي كان يتبعها من قبل فلابد له من دفع الضريبة في وقتها النظامي ولايقبل بتأجيلها بحجة تغيير السنة المالية ولا يجوز له أن يمد السنة المالية  إلى أكثر من إثني عشر شهرا.لذلك يقدم الميزانية عن الفترة المالية القصيرة ويدفع الضريبة ثم يقدم الميزانية عن السنة المالية الجديدة في الموعد النظامي ويسدد الضريبة بموج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0" y="1468080"/>
            <a:ext cx="9144000" cy="338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ج- عند إنقضاء النشاط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ي حالة إنقضاء النشاط خلال السنة الضريبية لأي سبب من الأسباب مثل الوفاة أو مغادرة البلاد ,أوتصفية الشركة ففي هذة الحالة لابد من تحصيل الضريبة وتكون الفترة المالية القصيرة من تاريخ ابتداء السنة الضريبية إلى تاريخ التوقف عن النشاط .ولابد للمكلف إخطار مصلحة الزكاة والدخل خلال </a:t>
            </a:r>
            <a:r>
              <a:rPr b="0" lang="ar-SA" sz="2400" spc="-1" strike="noStrike">
                <a:solidFill>
                  <a:srgbClr val="ffffff"/>
                </a:solidFill>
                <a:latin typeface="Arial"/>
              </a:rPr>
              <a:t>60</a:t>
            </a:r>
            <a:r>
              <a:rPr b="0" lang="ar-SA" sz="2400" spc="-1" strike="noStrike">
                <a:solidFill>
                  <a:srgbClr val="ffffff"/>
                </a:solidFill>
                <a:latin typeface="Arial"/>
              </a:rPr>
              <a:t> يوم من تاريخ التوقف ويسدد مبلغ الضريبة المستحقة .ويترتب على التأخير في الإخطار, أوتقديم الإقرار, أودفع مبلغ الضريبة عن </a:t>
            </a:r>
            <a:r>
              <a:rPr b="0" lang="ar-SA" sz="2400" spc="-1" strike="noStrike">
                <a:solidFill>
                  <a:srgbClr val="ffffff"/>
                </a:solidFill>
                <a:latin typeface="Arial"/>
              </a:rPr>
              <a:t>60</a:t>
            </a:r>
            <a:r>
              <a:rPr b="0" lang="ar-SA" sz="2400" spc="-1" strike="noStrike">
                <a:solidFill>
                  <a:srgbClr val="ffffff"/>
                </a:solidFill>
                <a:latin typeface="Arial"/>
              </a:rPr>
              <a:t> يوم غرامة تأخير مضافة إلى مبلغ الضري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0" y="1095840"/>
            <a:ext cx="8969400" cy="4117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نحصر حالات إحتساب الضريبة عن الفترة المالية الطويلة التي تزيد عن (</a:t>
            </a:r>
            <a:r>
              <a:rPr b="1" lang="ar-SA" sz="2400" spc="-1" strike="noStrike">
                <a:solidFill>
                  <a:srgbClr val="ffffff"/>
                </a:solidFill>
                <a:latin typeface="Arial"/>
              </a:rPr>
              <a:t>12</a:t>
            </a:r>
            <a:r>
              <a:rPr b="1" lang="ar-SA" sz="2400" spc="-1" strike="noStrike">
                <a:solidFill>
                  <a:srgbClr val="ffffff"/>
                </a:solidFill>
                <a:latin typeface="Arial"/>
              </a:rPr>
              <a:t>) شهر ولاتتعدى (</a:t>
            </a:r>
            <a:r>
              <a:rPr b="1" lang="ar-SA" sz="2400" spc="-1" strike="noStrike">
                <a:solidFill>
                  <a:srgbClr val="ffffff"/>
                </a:solidFill>
                <a:latin typeface="Arial"/>
              </a:rPr>
              <a:t>18</a:t>
            </a:r>
            <a:r>
              <a:rPr b="1" lang="ar-SA" sz="2400" spc="-1" strike="noStrike">
                <a:solidFill>
                  <a:srgbClr val="ffffff"/>
                </a:solidFill>
                <a:latin typeface="Arial"/>
              </a:rPr>
              <a:t> ) شهر في</a:t>
            </a:r>
            <a:r>
              <a:rPr b="0" lang="ar-SA" sz="2400" spc="-1" strike="noStrike">
                <a:solidFill>
                  <a:srgbClr val="ffffff"/>
                </a:solidFill>
                <a:latin typeface="Arial"/>
              </a:rPr>
              <a:t> الآ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عند بداية النشاط            ب- إنقضاء النشاط</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ن لاتتعدى </a:t>
            </a:r>
            <a:r>
              <a:rPr b="0" lang="ar-SA" sz="2400" spc="-1" strike="noStrike">
                <a:solidFill>
                  <a:srgbClr val="ffffff"/>
                </a:solidFill>
                <a:latin typeface="Arial"/>
              </a:rPr>
              <a:t>18</a:t>
            </a:r>
            <a:r>
              <a:rPr b="0" lang="ar-SA" sz="2400" spc="-1" strike="noStrike">
                <a:solidFill>
                  <a:srgbClr val="ffffff"/>
                </a:solidFill>
                <a:latin typeface="Arial"/>
              </a:rPr>
              <a:t> شهر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تكون بناء على طلب المكل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لتزم المكلف بتقديم عن فتره </a:t>
            </a:r>
            <a:r>
              <a:rPr b="0" lang="ar-SA" sz="2400" spc="-1" strike="noStrike">
                <a:solidFill>
                  <a:srgbClr val="ffffff"/>
                </a:solidFill>
                <a:latin typeface="Arial"/>
              </a:rPr>
              <a:t>12</a:t>
            </a:r>
            <a:r>
              <a:rPr b="0" lang="ar-SA" sz="2400" spc="-1" strike="noStrike">
                <a:solidFill>
                  <a:srgbClr val="ffffff"/>
                </a:solidFill>
                <a:latin typeface="Arial"/>
              </a:rPr>
              <a:t> شهرا من بداية سنته المالية خلال (</a:t>
            </a:r>
            <a:r>
              <a:rPr b="0" lang="ar-SA" sz="2400" spc="-1" strike="noStrike">
                <a:solidFill>
                  <a:srgbClr val="ffffff"/>
                </a:solidFill>
                <a:latin typeface="Arial"/>
              </a:rPr>
              <a:t>120</a:t>
            </a:r>
            <a:r>
              <a:rPr b="0" lang="ar-SA" sz="2400" spc="-1" strike="noStrike">
                <a:solidFill>
                  <a:srgbClr val="ffffff"/>
                </a:solidFill>
                <a:latin typeface="Arial"/>
              </a:rPr>
              <a:t>) يوما من نهايتها ويدفع الضريبة المستحق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لتزم المكلف بعد إنتهاء الفتره المالية الطويلة بتقديم إقرار واحد عن هذه الفتره المالية الطويله بأكملها ويدفع الضريبة المستحقة بموجبها بعد خصم ماتم دفعه عن السنة الأول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20:27:40Z</dcterms:created>
  <dc:creator>User</dc:creator>
  <dc:description/>
  <dc:language>en-US</dc:language>
  <cp:lastModifiedBy>User</cp:lastModifiedBy>
  <dcterms:modified xsi:type="dcterms:W3CDTF">2009-12-20T17:25:49Z</dcterms:modified>
  <cp:revision>2</cp:revision>
  <dc:subject/>
  <dc:title>الفصل الرابع: قواعد المحاسبة الضريبية </dc:title>
</cp:coreProperties>
</file>