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BC6-0163-49A6-9DFA-C7580C14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54D-9F89-4AE3-83C2-D8D7FC65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055-9923-4C25-BCE8-AF48E1A9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FAC-8640-4C9D-8802-DCF29367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39AA-6E84-42E9-97BA-20E20B33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62B0-C994-49D5-8D96-6C3E7065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974A-2EF9-45B4-9AC5-4CE4B6F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A720-CB4D-413B-9734-EE8C31C4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9C0-4768-45EE-B1D4-ABBD151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C351-B01C-45CD-81B7-61F3B16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C8FE-73E7-4BE7-985F-1B87966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06A-3D99-474F-9B96-EEA4343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34A-3FD5-442E-A0E2-9467D49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577-9196-409A-B621-F04EE95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DFD3-1415-4E97-BF2E-DB135D6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5C7E-7451-420B-8886-1B78BD89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216-67EE-4ED3-9904-2D4BA711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9E4-0855-42B3-810D-7CE600C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3B0-802F-4901-970D-48EDD7F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9B9-2B19-450C-98D7-D0A42000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077-37E5-4066-8CB2-F05A1F4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3D9-CD19-47B6-9620-D8AD83D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B04-2D06-4C80-AEF3-A3C58F5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66F-3A3D-4DB4-8CA7-22E47EB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F90-40D8-4602-B182-5DE24AC5EAB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E7F-2E55-4763-B837-6DE425FD94B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فصل الرابع:وعاء الزكاة في المملك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428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وف يتم التركيز في هذا الفصل عل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ق تحديد وعاء الزكا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مكلفون لديهم حسابات منتظ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يقة رأس المال العام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يقة مصادر الاموا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كلفون ليس لديهم حسابات منتظ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تحديد وعاء الزكاة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تلف إجراءات تحديد وعاء الزكاة وفقا لطبيعة المعلومات أي في حالة وجود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حسابات منتظمة يمتلكها المكلفون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عدم وجود حسابات منتظمة لدى المكلفو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-1088280" y="1739520"/>
            <a:ext cx="1131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مكلفون الذين لديهم حسابات منتظم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طريقة المتبعة في تحديد وعاء الزكاة وفقا لنظام الجباية هي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 طريقة مصادر الأموال أو مايعرف بطريقة حقوق الملكي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ركز على حصر حقوق الملكية من جانب الإلتزامات وحقوق الملكية ثم تعديل هذة الحقو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ما يحقق الشروط الفقهية ويتضمن هذا التعدي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ستبعاد الأصول الثابتة المملوكة لأنها عروض قن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إستبعاد الزيادة الطارئه على رأس المال خلال العام لأنها تتعارض مع شرط حولان الحو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-1788120" y="821520"/>
            <a:ext cx="1272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بناء على ذلك يشمل وعاء الزكاة لمكلفي الحسابات المنتظمة على العناصر التالي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أس المال المدفوع أول العا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افي الربح السنوي في نهاية العا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رباح المرحلة عن سنوات سابق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افة الإحتياطيات والإستدراكات والمخصصات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انات الحكومية المقبوض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رباح تحت التوزيع والتي مازالت تحت تصرف المكل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صيد الحساب الجاري الدائ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قروض الحكومية والتجارية ومافي حكم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يرادات المقبوضة مقدم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روض الملاك أو الشركاء للمنشأ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ساهمة الشركاء في تغطية الخسائر المرحلة متى حال عليها الح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أي عنصر من عناصر المطلوبات مول أصلا من أصول القن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-1986120" y="1554840"/>
            <a:ext cx="1312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ويتم إستبعاد بعض العناصر من جملة العناصر السابقة حتى يتم الوصول لوعاء الزكا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صافي قيمة الأصول الثابتة بعد خصم الإستهلا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خسائر الحقيق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إستثمارات في منشآت أخرى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مشروعات الرأسمالية تحت التنفيذ والدارة للدخل وليس بغرض إعادة البي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حساب الجاري المد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أي عنصر من عناصر الموجودات التي يثبت أن ملك المنشأة لها غير تا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صاريف التأسي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برعات والأعمال الخي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-1163160" y="2467800"/>
            <a:ext cx="1147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كلفون الذين ليس لديهم حسابات منتظمة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خضعون عند تقدير الوعاء الزكوي إلى التقدير الجزافي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7:04:36Z</dcterms:created>
  <dc:creator>User</dc:creator>
  <dc:description/>
  <dc:language>en-US</dc:language>
  <cp:lastModifiedBy>Amal alfawaz</cp:lastModifiedBy>
  <dcterms:modified xsi:type="dcterms:W3CDTF">2015-10-03T17:42:41Z</dcterms:modified>
  <cp:revision>3</cp:revision>
  <dc:subject/>
  <dc:title>الفصل الثالث:وعاء الزكاة في المملكة</dc:title>
</cp:coreProperties>
</file>