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D09-D26C-4A0C-8B8B-FBFCC6FF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F0B-0B28-47CC-9923-7687DFD2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730-C767-4BF2-AC5A-392AEA31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D6A-4DFE-4EDB-9B73-5684516A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704A-FE41-4B09-BDC3-8F67E97E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0CB5-B23E-4115-8BCD-8537C0C7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0D44-985B-4C65-A85C-86840BAF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B3A-05B3-4FF0-AC8E-AC1161B7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F426-A1F9-4AA2-BBE3-36FFB86E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BDAA-14EB-4FD1-8F1B-82A0AB1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2BE8-747E-4407-9614-4C61221D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C11-4A30-49EB-888F-F40DF9B8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926D-786B-46D1-8724-88F5915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8B0A-4DD8-4119-8DE6-2CE6A111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31D5-6635-47F7-9F11-3D478DA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5222-52B8-43AC-B102-FE938055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8D26-C5D5-47B7-8F0C-92D62981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D52-2A2B-42A5-81D5-EFDBBAB8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D9C-929A-474E-84DF-E41500C9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AD5-C2EE-4222-808D-E502DFD0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CA4-E190-4FB8-A387-0985548A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7CF-D34D-41A4-84BD-3796DE1D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8F9-A108-43C2-B90D-C4D5A032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200-D931-4048-BB0A-37BF7B1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626F-CA00-493F-84DF-7CE1E6D0634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692F-B8DD-48EA-84F6-3529D366691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الفصل الرابع:وعاء الزكاة في المملك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428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وف يتم التركيز في هذا الفصل عل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طرق تحديد وعاء الزكا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مكلفون لديهم حسابات منتظم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طريقة رأس المال العام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طريقة مصادر الاموا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كلفون ليس لديهم حسابات منتظم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تحديد وعاء الزكاة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تلف إجراءات تحديد وعاء الزكاة وفقا لطبيعة المعلومات أي في حالة وجود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حسابات منتظمة يمتلكها المكلفون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عدم وجود حسابات منتظمة لدى المكلفو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-1088280" y="1739520"/>
            <a:ext cx="1131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مكلفون الذين لديهم حسابات منتظمة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طريقة المتبعة في تحديد وعاء الزكاة وفقا لنظام الجباية هي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 طريقة مصادر الأموال أو مايعرف بطريقة حقوق الملكية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تركز على حصر حقوق الملكية من جانب الإلتزامات وحقوق الملكية ثم تعديل هذة الحقو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ما يحقق الشروط الفقهية ويتضمن هذا التعدي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ستبعاد الأصول الثابتة المملوكة لأنها عروض قن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إستبعاد الزيادة الطارئه على رأس المال خلال العام لأنها تتعارض مع شرط حولان الحو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-1788120" y="821520"/>
            <a:ext cx="1272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*بناء على ذلك يشمل وعاء الزكاة لمكلفي الحسابات المنتظمة على العناصر التالية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أس المال المدفوع أول العا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افي الربح السنوي في نهاية العا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رباح المرحلة عن سنوات سابق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كافة الإحتياطيات والإستدراكات والمخصصات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انات الحكومية المقبوض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رباح تحت التوزيع والتي مازالت تحت تصرف المكل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صيد الحساب الجاري الدائ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قروض الحكومية والتجارية ومافي حكم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يرادات المقبوضة مقدم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روض الملاك أو الشركاء للمنشأ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ساهمة الشركاء في تغطية الخسائر المرحلة متى حال عليها الحو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أي عنصر من عناصر المطلوبات مول أصلا من أصول القني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75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-1986120" y="1554840"/>
            <a:ext cx="1312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*ويتم إستبعاد بعض العناصر من جملة العناصر السابقة حتى يتم الوصول لوعاء الزكاة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صافي قيمة الأصول الثابتة بعد خصم الإستهلا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خسائر الحقيق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إستثمارات في منشآت أخرى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مشروعات الرأسمالية تحت التنفيذ والدارة للدخل وليس بغرض إعادة البي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حساب الجاري المد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أي عنصر من عناصر الموجودات التي يثبت أن ملك المنشأة لها غير تا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مصاريف التأسي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ctr" rt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تبرعات والأعمال الخير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-1163160" y="2467800"/>
            <a:ext cx="1147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مكلفون الذين ليس لديهم حسابات منتظمة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يخضعون عند تقدير الوعاء الزكوي إلى التقدير الجزافي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7:04:36Z</dcterms:created>
  <dc:creator>User</dc:creator>
  <dc:description/>
  <dc:language>en-US</dc:language>
  <cp:lastModifiedBy>Amal alfawaz</cp:lastModifiedBy>
  <dcterms:modified xsi:type="dcterms:W3CDTF">2015-10-03T17:42:41Z</dcterms:modified>
  <cp:revision>3</cp:revision>
  <dc:subject/>
  <dc:title>الفصل الثالث:وعاء الزكاة في المملكة</dc:title>
</cp:coreProperties>
</file>