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AFEB-8662-4518-A58F-73899EB84EBF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6B29-0342-4B89-9FF6-8B2017AD98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CBE-F5DD-41A2-AD08-EE643A84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F9F6-0FFD-4D32-98F1-84C3A193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4623-E94E-4433-9C84-523C9364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F0D-15B1-4630-9B23-2AA3C528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C61-0541-43DF-9AD7-8A9F5CB2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3E25-6CF6-4492-9B17-C4C48755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0B65-49E7-445C-90EF-912DB866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6784-BAB9-4DBF-9446-480EC56B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E41-D68A-421A-8EED-68878B66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308-C922-459D-A6C3-EBFE0BC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442F-3AF8-4A48-B728-ADA411B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577-F0F6-456C-9A4B-CB0E65D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E51C-2154-4D82-ACDC-27AD2C0353A2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Calibri"/>
              </a:rPr>
              <a:t>الفصل الساب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4D7-0043-4384-AFBA-B1ABE0DB31A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260280"/>
            <a:ext cx="820872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يف نبني فريق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وضح الشكل التالي الخطوات التي يجب أن تتبع لكفاءة بناء فريق عمل ناج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484280"/>
          <a:ext cx="8713800" cy="4970520"/>
        </p:xfrm>
        <a:graphic>
          <a:graphicData uri="http://schemas.openxmlformats.org/drawingml/2006/table">
            <a:tbl>
              <a:tblPr/>
              <a:tblGrid>
                <a:gridCol w="2117520"/>
                <a:gridCol w="2279880"/>
                <a:gridCol w="2280960"/>
                <a:gridCol w="2035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 الراب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ثالث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ثا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المرحلة الاو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قدم المساعدة باستمر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كون فريق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حدد ظروف الاد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تمه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بعد الافراد الذين لايعملون بروح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زود الفريق بافراد ج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عد النظر في حجم الموار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اعمال واهداف جديده ان امك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كون الفريق رسم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التصميم السليم للوظائف والمه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فهمهم للمها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فهمهم للا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ارفع حماسهم وتعهدهم تجاه الاهد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, ووفر كافة المواد والاجهزة اللاز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تأكد من ان افرادالفريق كامل, وقادر على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معايير تقييم اداء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الاعمال والمهام المطلوب تنفيذ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ماإذا كان الفريق ضرور لتنفيذ هذه الا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السلطة المخولة ل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حدد هدف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- حدد بصفة مبدئية اعضاء الفري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Line 64"/>
          <p:cNvSpPr/>
          <p:nvPr/>
        </p:nvSpPr>
        <p:spPr>
          <a:xfrm flipH="1">
            <a:off x="651636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Line 65"/>
          <p:cNvSpPr/>
          <p:nvPr/>
        </p:nvSpPr>
        <p:spPr>
          <a:xfrm flipH="1">
            <a:off x="421128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66"/>
          <p:cNvSpPr/>
          <p:nvPr/>
        </p:nvSpPr>
        <p:spPr>
          <a:xfrm flipH="1">
            <a:off x="1979280" y="1700280"/>
            <a:ext cx="576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A8EB-3462-45FC-A6F5-F6FCBCCFE1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نصائح عامة في كيفية بناء فريق ذو اداء عالي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76720" y="1197000"/>
            <a:ext cx="35989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نوًع في اعض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صغر حجم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هتم باختيارافراد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درب اعض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الاهد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حدد معايير تحقيق الاهدا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ربط تحقيق الاهداف بالعوائ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ربط اداء الفرد باداء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755640" y="1341360"/>
            <a:ext cx="38876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مشا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روح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اتصال الجماع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شجع المنافس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قواعد العمل في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اجه الفريق باحقائق الجديد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وضح واعترف بانجازات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A4A5-3C23-409F-B219-26A8BB94871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260280"/>
            <a:ext cx="8281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صراع الجماع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كيف ينشأ الصر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وضح الشكل التالي طبيعة ونشأة الصراع  داخل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227640" y="2637000"/>
            <a:ext cx="2087640" cy="115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ارض ب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هتمامات الفرد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واهتمامات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39640" y="2637000"/>
            <a:ext cx="216072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إحساس بأ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آخرين يعو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هذه الاهتما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39640" y="4941720"/>
            <a:ext cx="223200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قيام الآ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بتصرفات فعل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وق تنفي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اهتمام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659640" y="5229360"/>
            <a:ext cx="165564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نشاة الصرا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708360" y="2781360"/>
            <a:ext cx="1584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إحساس بحا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تعار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924360" y="5013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ؤدي إ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5579640" y="321300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3059280" y="321300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2987640" y="5516640"/>
            <a:ext cx="345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عنصر نائب لرقم الشريحة 1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6EAF-503E-41F3-BBA5-DD21A7A73D9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4360" y="189000"/>
            <a:ext cx="81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مراحل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وضح الشكل التالي مراحل الصر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659640" y="2133720"/>
            <a:ext cx="18730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شأة الصر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635280" y="1916280"/>
            <a:ext cx="2017800" cy="12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فكار وانفعا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أطراف الصرا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39640" y="1916280"/>
            <a:ext cx="216072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عقد النية على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تصرف باسلو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عدائي مع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708360" y="4292640"/>
            <a:ext cx="21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رد فعل الطر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آخر ”الخصم</a:t>
            </a: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39640" y="4292640"/>
            <a:ext cx="216072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قيام بالسلو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لعدائى فعلا من اح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5940360" y="256536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2916000" y="2492280"/>
            <a:ext cx="71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1619280" y="321300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13"/>
          <p:cNvSpPr/>
          <p:nvPr/>
        </p:nvSpPr>
        <p:spPr>
          <a:xfrm flipV="1">
            <a:off x="4788000" y="3213000"/>
            <a:ext cx="0" cy="865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2843280" y="4724280"/>
            <a:ext cx="79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E38-CD59-4104-A76D-16D7E10D2F2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646200" y="189000"/>
            <a:ext cx="849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0"/>
            <a:ext cx="9144000" cy="72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أسباب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أسباب الشخص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(الحقد- سوء الاتصال – العلاقة غير الطبيعية – خصائص الفرد وصفات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الأسباب التنظي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( المنافسة - غموض المسؤليات – الاعتمادية - نظام المرتبات - رغبة في التمي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أنواع الصرا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أولا:الصراع داخل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تعارض الدو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عدم إشباع الحا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 أ- أهداف متعارضة ذات مزايا فق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ب- أهداف متعارضة ذات عيوب فق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      ج- أهداف متعارضة ذات عيوب ومزاي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شاكل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6BE-FFD6-415C-9AD9-1FA67BCFF0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179280" y="0"/>
            <a:ext cx="89647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ثانيا:الصراع بين ا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نافذه جوهاري توضح أسباب الصراع بين الافراد داخل نفس الجماع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68360" y="2276640"/>
          <a:ext cx="3814920" cy="3601800"/>
        </p:xfrm>
        <a:graphic>
          <a:graphicData uri="http://schemas.openxmlformats.org/drawingml/2006/table">
            <a:tbl>
              <a:tblPr/>
              <a:tblGrid>
                <a:gridCol w="1949760"/>
                <a:gridCol w="186516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0" name="Rectangle 20"/>
          <p:cNvSpPr/>
          <p:nvPr/>
        </p:nvSpPr>
        <p:spPr>
          <a:xfrm>
            <a:off x="5003640" y="2852640"/>
            <a:ext cx="432000" cy="43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2987640" y="2924280"/>
            <a:ext cx="432000" cy="431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5003640" y="4797360"/>
            <a:ext cx="43200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2987640" y="4724280"/>
            <a:ext cx="43200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5219640" y="1700280"/>
            <a:ext cx="100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2340000" y="33577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556000" y="3573360"/>
            <a:ext cx="151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3995640" y="112536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الآخر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7667640" y="314172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6156360" y="450864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012000" y="26370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4643280" y="1844640"/>
            <a:ext cx="13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2411280" y="184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9A05-0714-4DF9-8773-0948C925CBC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700360" y="1484280"/>
          <a:ext cx="4032360" cy="3745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5" name="Text Box 15"/>
          <p:cNvSpPr/>
          <p:nvPr/>
        </p:nvSpPr>
        <p:spPr>
          <a:xfrm>
            <a:off x="1908000" y="6093000"/>
            <a:ext cx="1727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3721680" y="28260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548760" y="198900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7625880" y="29462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516360" y="4292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4517280" y="98100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2324160" y="98100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2700360" y="1484280"/>
            <a:ext cx="1440000" cy="187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140360" y="1484280"/>
            <a:ext cx="2592360" cy="252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1"/>
          <p:cNvSpPr/>
          <p:nvPr/>
        </p:nvSpPr>
        <p:spPr>
          <a:xfrm>
            <a:off x="4716360" y="4005360"/>
            <a:ext cx="201636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34"/>
          <p:cNvSpPr/>
          <p:nvPr/>
        </p:nvSpPr>
        <p:spPr>
          <a:xfrm>
            <a:off x="5219640" y="2205000"/>
            <a:ext cx="4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3419640" y="4076640"/>
            <a:ext cx="431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3276720" y="2133720"/>
            <a:ext cx="4316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5580000" y="4292640"/>
            <a:ext cx="4320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22F-1C2A-4521-9E9E-52A021AD88E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4020120" y="40176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88560" y="126828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108160" y="13413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6261480" y="2276640"/>
            <a:ext cx="163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7706880" y="2924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6228720" y="4076640"/>
            <a:ext cx="182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411280" y="1844640"/>
          <a:ext cx="4032360" cy="35290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352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20"/>
          <p:cNvSpPr/>
          <p:nvPr/>
        </p:nvSpPr>
        <p:spPr>
          <a:xfrm>
            <a:off x="3924360" y="1844640"/>
            <a:ext cx="251928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2411280" y="1844640"/>
            <a:ext cx="151308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2411280" y="3645000"/>
            <a:ext cx="2089440" cy="172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4500720" y="3645000"/>
            <a:ext cx="1942920" cy="172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003640" y="249228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2916360" y="249228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203640" y="422100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5292720" y="4221000"/>
            <a:ext cx="4334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2DBA-CE34-4D07-9870-C9EEF3E39DD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2268360" y="1628640"/>
            <a:ext cx="424836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635280" y="40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الا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6659640" y="220500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6732720" y="429264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نفس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812000" y="3213000"/>
            <a:ext cx="8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Calibri"/>
              </a:rPr>
              <a:t>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1125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34000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لايعرف الاخر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4427640" y="1628640"/>
            <a:ext cx="2089080" cy="2737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2268360" y="1628640"/>
            <a:ext cx="215928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2268360" y="3429000"/>
            <a:ext cx="2159280" cy="2016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4427640" y="4365720"/>
            <a:ext cx="2089080" cy="1079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292720" y="2565360"/>
            <a:ext cx="50328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3059280" y="2133720"/>
            <a:ext cx="5029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5219640" y="4581360"/>
            <a:ext cx="50328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8"/>
          <p:cNvSpPr/>
          <p:nvPr/>
        </p:nvSpPr>
        <p:spPr>
          <a:xfrm>
            <a:off x="3059280" y="4076640"/>
            <a:ext cx="50292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عنصر نائب لرقم الشريحة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B60-71BD-4E56-A6CC-26E0978B869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"/>
          <p:cNvSpPr/>
          <p:nvPr/>
        </p:nvSpPr>
        <p:spPr>
          <a:xfrm>
            <a:off x="468360" y="404640"/>
            <a:ext cx="8424720" cy="63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ثالثا: الصراع بين الجماع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على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افس في الا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ختلاف بين المستويات التنظيم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بين الادارات وظيفي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صراع بين التنفيذيين والاستشارين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حل النزا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ستخدام القو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ستخدام الوسا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سيق والتك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5BF-7883-4459-8BCA-D788359EC9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3300"/>
                </a:solidFill>
                <a:latin typeface="Calibri"/>
              </a:rPr>
              <a:t>جماعات العم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اولا: ماهية الجماعات وتكوينه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تعريف الجماعة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عبارة عن مجموعة من اثنين او اكثر من الافراد المعتمدين عل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المتفاعلين مع بعضهم البعض في اداء وظائف معينة وذل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لتحقيق اهداف مشترك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نواع الجماع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جماعات الرس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الجماعات الوظيف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ماعات المهام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جماعات الصداقة والاهتمامات الخاص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AB2D-E1C4-4D65-928E-3CD8529CAB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900000" y="260280"/>
            <a:ext cx="806616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طرق اخر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حل المشاك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ستخدام حواج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دريب الحساس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طرق الادارية للتنسيق والتعا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924360" y="3573360"/>
            <a:ext cx="504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تنظيم طرق الاتصا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توفير المعلومات الى الاطراف التي تحتاج ال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ندب ونقل العامل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تخطيط والرقابة المشترك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0" y="3573360"/>
            <a:ext cx="3672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صميم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صميم هياكل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التصميم الداخلي للاقس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إعادة توزيع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FDAF-D926-468A-91DD-4DC0F78487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39640" y="404640"/>
            <a:ext cx="8353440" cy="60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إتخاذ القرارات الجماعي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داخل إتخاذ القرارت الجماعي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فراد الجماعة ينصحون المدير وهو الذي يتخ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فراد الجماعة لابد ان يجمعوا بالموافقة على القرار النهائ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أغلبية الجماعة توافق على القرار النهائ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D631-3440-403E-82C9-983AF1F3AB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539640" y="260280"/>
            <a:ext cx="83534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ساليب الفنية في اتخاذ القرارات الج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- العصف الذهن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765000"/>
          <a:ext cx="6265800" cy="547236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749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تحديد المشكلة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القائد أو المدير بتحديد المشكلة أمام اعضاء الاجتما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بدائل الحل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كل فرد بوضع افكاره عن بدائل الحل على ورقة امام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- يتم تجميع الحلول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بواسطة القائد وكتابتها واحدة تلو الاخرى على سبورة او لوحة ولايلزم ربط اسماء الاعضاء بالحلول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4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مناقشة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دير القائد المناقشة والتحليل على ان يشجع كل الافراد للاشتراك في المناقشة ويتم التوصل لعدة بدائ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اقتراع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كل فرد بالتصويت على هذه البدائل واضعا إياهم في ترتيب فالرتبة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تعنى احسن حل, والرتبة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تعنى المرتبة التالية في الافضلية, والمرتبة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(على اعتبار ان هناك خمس بدائل للحل) تشير الى اسوأ حل او بديل. وقد يقتصر الاقتراع على اختيار انسب بديل فق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6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القرار النهائي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وم القائد بتجميع الرتب لافراد الجماعة وباستخدام الجمع كعملية حسابية يمكن التعرف على نتيجة كل بديل, والبديل الذي يأخذ اقل مجموعة هو احسن بدي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7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ea typeface="Times New Roman"/>
                        </a:rPr>
                        <a:t>- إمعانا في سرية الاقتراع: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مكن طباعة البدائل على ورقة منقطة وعلى عضو الاجتماع وضع علامة على البديل الذي يختار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AE8D-9453-49F3-8FA6-3CC337096F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9280" y="549360"/>
          <a:ext cx="8640720" cy="5830920"/>
        </p:xfrm>
        <a:graphic>
          <a:graphicData uri="http://schemas.openxmlformats.org/drawingml/2006/table">
            <a:tbl>
              <a:tblPr/>
              <a:tblGrid>
                <a:gridCol w="3024360"/>
                <a:gridCol w="3956040"/>
                <a:gridCol w="16603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امث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الخصائ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نوع الجما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ادرات والاقسام التقليدية التي يراسها مدير او رئيس ويعاونه مجموعة من العامل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يتم توصيف العلاقات بين اعضاء الجماعة بشكل رسمي بواسطة هيكل التنظيم او الوصف التنظي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تضمن كل من الرئيس والمرؤو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نصب على اداء العمل الوظيفي للجما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مثل  جماعة رسمية 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الجماعة الوظيفية الرس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لجان ال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جماعات تخطيط المشروعات والبرامج الجديد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لجان حل المشاكل الطارئ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يتم تحديد تشكيلها واجراءاتها بواسطة الوصف التنظيمي او حسب احتياجات العم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تكون قصيرة او طويلة الاج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قد تتضمن الرئيس والمروؤس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مثل جماعة رسمية عاد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جماعات المهام الخا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نقابة العما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نادي الشر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شلل والتحالف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صناديق الزما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لعصاب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تتكون الجماعة لتشابه في خصائص الافراد كالاهتمامات, والسن, والمعتقدات السياسيةوالاجتماع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يمكن ان تكون جماعات رسمية او غير رسم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-اهدافها قد تتمشى مع اهجاف المنظمة وقد تتعارض معها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جماعات الصداقة والاهتمامات الخاص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B875-D0DB-46A8-800B-A7450B33326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Calibri"/>
              </a:rPr>
              <a:t>تكوين الجماعات وتشكيلها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هناك العديد من الاسباب من اهمها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نجاز اعمال ومهام محددة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حل مشاكل يصعب حلها بواسطة ف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لتشابه في الصف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ن في الاتحاد قو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لاشباع الحاجة الى الانتم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تماسك الجماعة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زداد تماسك الجماعة بسب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رغبة الاعضاء في البقاء داخل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نتيجة الضغوط التي تتعرض لها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F29-05DD-401C-9274-965B387724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أسباب تماسك الجماع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Verdana"/>
              </a:rPr>
              <a:t> ( </a:t>
            </a:r>
            <a:r>
              <a:rPr b="1" lang="ar-SA" sz="3600" spc="-1" strike="noStrike">
                <a:solidFill>
                  <a:srgbClr val="003300"/>
                </a:solidFill>
                <a:latin typeface="Verdana"/>
              </a:rPr>
              <a:t>وهي ايضا العوامل التي تؤدي الى إضعاف تماسك الجماعة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الإجماع والاتفاق على أهداف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تناسب هدف الجماعة مع أهداف الأفر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كثافة التفاعلات بين أ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جاذبية الإفر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لتنافس بين الجماع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6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نعزال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7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حجم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8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الضغوط الخار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9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ستقرار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0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مركز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11</a:t>
            </a:r>
            <a:r>
              <a:rPr b="1" lang="ar-SA" sz="2800" spc="-1" strike="noStrike">
                <a:solidFill>
                  <a:srgbClr val="0000ff"/>
                </a:solidFill>
                <a:latin typeface="Verdana"/>
              </a:rPr>
              <a:t>- اعتمادية أفراد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6B3D-83E2-48B0-BC57-61594A46375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189000"/>
            <a:ext cx="8820000" cy="67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نتائج تماسك الجماع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تؤثر الجماعة المتماسكة أكثر من الجماعة المفككة على أعضائها بشكل ملحوظ فالجماع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حدد معايير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ؤثر في الأدوار التي يلعبها الأفر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Verdana"/>
              </a:rPr>
              <a:t>-تؤثر في المكانة والنفو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3300"/>
                </a:solidFill>
                <a:latin typeface="Calibri"/>
              </a:rPr>
              <a:t>معايير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عايير الإنتاج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ملا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لألق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مرونة الوق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F2A9-838A-4AF2-90AB-8CBE5F7FAF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0"/>
            <a:ext cx="9144000" cy="70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الأدوا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الدور المتوق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دور المعمول ل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غموض الد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عارض الد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المرتب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مركز النسبي أو المنزلة التي يتمتع بها الفرد داخل جماع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النتائج الضارة أو السلبية لتماسك الجم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 يستطيع الفرد ان يستقل بذ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أن الجماعة قد تعمل ضد مصلحة المنظم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182F-BDE6-42B7-8637-30AB2EB24F0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47640" y="0"/>
            <a:ext cx="84963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فري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a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نوع خاص من جماعات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ماهية الفري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شخاص مكملين لبعضهم البعض من حيث المها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لتحقيق هدف محد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يعتبرون أنفسهم مسئولين له شخصي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والنموذج التالي يوضح الفرق بين الجماعة والفري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093080" y="3068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جم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492360" y="2781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خصائ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8360" y="306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3300"/>
                </a:solidFill>
                <a:uFillTx/>
                <a:latin typeface="Calibri"/>
              </a:rPr>
              <a:t>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804000" y="3500280"/>
            <a:ext cx="1368360" cy="576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04000" y="4365720"/>
            <a:ext cx="136836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04000" y="5229360"/>
            <a:ext cx="136836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ff"/>
                </a:solidFill>
                <a:latin typeface="Calibri"/>
              </a:rPr>
              <a:t>أهداف مشترك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804000" y="6093000"/>
            <a:ext cx="1368360" cy="574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عليمات بالادا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468360" y="3500280"/>
            <a:ext cx="1655640" cy="578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فرد والتناغ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بين افراد 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68360" y="4365720"/>
            <a:ext cx="165564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ضامن بين افر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الفر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179280" y="5157720"/>
            <a:ext cx="1944720" cy="72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أهداف مشتركة وتعهد م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 الافراد بتنفيذ هذه الأهدا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468360" y="6093000"/>
            <a:ext cx="1655640" cy="576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توجيهات ذات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6"/>
          <p:cNvSpPr/>
          <p:nvPr/>
        </p:nvSpPr>
        <p:spPr>
          <a:xfrm>
            <a:off x="3851280" y="3213000"/>
            <a:ext cx="1297080" cy="935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الأداء يعتم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على..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7"/>
          <p:cNvSpPr/>
          <p:nvPr/>
        </p:nvSpPr>
        <p:spPr>
          <a:xfrm>
            <a:off x="3851280" y="4221000"/>
            <a:ext cx="1297080" cy="863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مسئولية ع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نواتج تعتم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على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18"/>
          <p:cNvSpPr/>
          <p:nvPr/>
        </p:nvSpPr>
        <p:spPr>
          <a:xfrm>
            <a:off x="3851280" y="5157720"/>
            <a:ext cx="1297080" cy="792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أفراد مهتم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بـــ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9"/>
          <p:cNvSpPr/>
          <p:nvPr/>
        </p:nvSpPr>
        <p:spPr>
          <a:xfrm>
            <a:off x="3851280" y="6021360"/>
            <a:ext cx="1368360" cy="836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الأفراد مستجيب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إلى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20"/>
          <p:cNvSpPr/>
          <p:nvPr/>
        </p:nvSpPr>
        <p:spPr>
          <a:xfrm>
            <a:off x="5148360" y="3716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21"/>
          <p:cNvSpPr/>
          <p:nvPr/>
        </p:nvSpPr>
        <p:spPr>
          <a:xfrm>
            <a:off x="5219640" y="6453360"/>
            <a:ext cx="1295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24"/>
          <p:cNvSpPr/>
          <p:nvPr/>
        </p:nvSpPr>
        <p:spPr>
          <a:xfrm>
            <a:off x="5148360" y="45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148360" y="5516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8"/>
          <p:cNvSpPr/>
          <p:nvPr/>
        </p:nvSpPr>
        <p:spPr>
          <a:xfrm flipH="1">
            <a:off x="2556000" y="371628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9"/>
          <p:cNvSpPr/>
          <p:nvPr/>
        </p:nvSpPr>
        <p:spPr>
          <a:xfrm flipH="1">
            <a:off x="2556000" y="4581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30"/>
          <p:cNvSpPr/>
          <p:nvPr/>
        </p:nvSpPr>
        <p:spPr>
          <a:xfrm flipH="1">
            <a:off x="2556000" y="551664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31"/>
          <p:cNvSpPr/>
          <p:nvPr/>
        </p:nvSpPr>
        <p:spPr>
          <a:xfrm flipH="1">
            <a:off x="2556000" y="6453360"/>
            <a:ext cx="1295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صر نائب لرقم الشريحة 2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0FEC-7894-44CA-A45A-947452A0FB2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684360" y="333360"/>
            <a:ext cx="813564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واع فرق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يوضح الشكل التالي أنواع فرق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00080" y="1500120"/>
          <a:ext cx="7058160" cy="5113440"/>
        </p:xfrm>
        <a:graphic>
          <a:graphicData uri="http://schemas.openxmlformats.org/drawingml/2006/table">
            <a:tbl>
              <a:tblPr/>
              <a:tblGrid>
                <a:gridCol w="3024360"/>
                <a:gridCol w="1293840"/>
                <a:gridCol w="2739960"/>
              </a:tblGrid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تطو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هتم بتحسين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Book Antiqua"/>
                          <a:cs typeface="Times New Roman"/>
                        </a:rPr>
                        <a:t>الاداء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 وتطوير الانتاجية (مثل فريق تحسين الجودة, فرق الابداع والابتكا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لغ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تهتم بالانتاج والخدمات التي تقدمها(مثل فريق الصيانة, وفريق خدمة العملاء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دائ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ستمرة مع بقاء واستمرار المنظمة 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ثل لجنة البت في العطاءات, ولجنة الميزاني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وق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مؤقت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موجودة لغرض معين وتنتهي بانتهائه(مثل لجنة التوسعات, ولجنة تصميم نظام الحواج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جماعات 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هي الجماعات العادية وفيها يقوم رئيس الجماعة باتخاذ القر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درج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الاستقل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33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الفرق المستق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يقرر الفريق الاسلوب المناسب لهم في التصرف واتخاذ القرار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اعضائها من مجال واح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ذلك لتحقيق التخصص الدقيق (مثل فريق انتاج بدا الرجال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00"/>
                          </a:solidFill>
                          <a:latin typeface="Book Antiqua"/>
                          <a:cs typeface="Times New Roman"/>
                        </a:rPr>
                        <a:t>هيكل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 u="sng">
                          <a:solidFill>
                            <a:srgbClr val="003300"/>
                          </a:solidFill>
                          <a:uFillTx/>
                          <a:latin typeface="Book Antiqua"/>
                          <a:cs typeface="Times New Roman"/>
                        </a:rPr>
                        <a:t>فرق اعضائها من مجالات مختل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136440"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ff"/>
                          </a:solidFill>
                          <a:latin typeface="Book Antiqua"/>
                          <a:cs typeface="Times New Roman"/>
                        </a:rPr>
                        <a:t>وذلك لاثراء الراي والخبرة(مثل فريق علاج انهيارالمصن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72"/>
          <p:cNvSpPr/>
          <p:nvPr/>
        </p:nvSpPr>
        <p:spPr>
          <a:xfrm>
            <a:off x="4067280" y="981000"/>
            <a:ext cx="1296720" cy="50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بع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9FE-83DB-421B-ABFA-B45F1522F9A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18:53Z</dcterms:modified>
  <cp:revision>6</cp:revision>
  <dc:subject/>
  <dc:title>Slide 1</dc:title>
</cp:coreProperties>
</file>