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D15D-BAF4-4A71-A40C-21516D2CD04D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2360-7AF2-4D5B-B4A3-4317B31B53D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4A0-AC2A-4DFA-BC87-DBC94493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3E9-985C-4522-810A-96F63CB4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32C-6848-468E-A5B2-E751E3C9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75C-0532-49C1-A980-E7EAECDB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F70-F2D1-44C3-89E1-7798C61D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F4A-F620-4C56-969E-EE6072A1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707-F69F-482A-926C-C4C181A7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CD7-DC99-4FD8-B51E-3D2DD152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988-FC11-4CF3-810C-E2122D24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B9E-AD5D-4B23-AD65-9D589C47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57B-F68A-45C8-9397-2877747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914-F08C-4B31-946C-6B49BB31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D4C9-703B-4DE6-96DD-BE3078D12AB3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Calibri"/>
              </a:rPr>
              <a:t>الفصل الساب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4F41-CFB2-4254-81B3-A2842FB2D9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260280"/>
            <a:ext cx="820872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يف نبني فريق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وضح الشكل التالي الخطوات التي يجب أن تتبع لكفاءة بناء فريق عمل ناج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484280"/>
          <a:ext cx="8713800" cy="4970520"/>
        </p:xfrm>
        <a:graphic>
          <a:graphicData uri="http://schemas.openxmlformats.org/drawingml/2006/table">
            <a:tbl>
              <a:tblPr/>
              <a:tblGrid>
                <a:gridCol w="2117520"/>
                <a:gridCol w="2279880"/>
                <a:gridCol w="2280960"/>
                <a:gridCol w="2035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حلة الراب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حل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ثالث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حل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ثا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حلة الاول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قدم المساعدة باستم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كون فريق 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حدد ظروف الاد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تمه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بعد الافراد الذين لايعملون بروح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زود الفريق بافراد ج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عد النظر في حجم الموار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حدد اعمال واهداف جديده ان ام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كون الفريق رسم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تأكد من التصميم السليم للوظائف والمه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تأكد من فهمهم للمه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تأكد من فهمهم للاهد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رفع حماسهم وتعهدهم تجاه الاهد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, ووفر كافة المواد والاجهزة اللاز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تأكد من ان افرادالفريق كامل, وقادر على 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 معايير تقييم اداء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 الاعمال والمهام المطلوب تنفيذ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 ماإذا كان الفريق ضرور لتنفيذ هذه الاع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حدد السلطة المخولة ل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حدد هدف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 بصفة مبدئية اعضاء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Line 64"/>
          <p:cNvSpPr/>
          <p:nvPr/>
        </p:nvSpPr>
        <p:spPr>
          <a:xfrm flipH="1">
            <a:off x="6516360" y="170028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65"/>
          <p:cNvSpPr/>
          <p:nvPr/>
        </p:nvSpPr>
        <p:spPr>
          <a:xfrm flipH="1">
            <a:off x="4211280" y="170028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66"/>
          <p:cNvSpPr/>
          <p:nvPr/>
        </p:nvSpPr>
        <p:spPr>
          <a:xfrm flipH="1">
            <a:off x="1979280" y="170028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صر نائب لرقم الشريحة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37B6-B345-4A9F-AF6E-F8D5599099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نصائح عامة في كيفية بناء فريق ذو اداء عالي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76720" y="1197000"/>
            <a:ext cx="35989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نوًع في اعضاء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صغر حجم الجما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هتم باختيارافراد الجما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درب اعضاء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وضح الاهدا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حدد معايير تحقيق الاهدا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ربط تحقيق الاهداف بالعوائ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ربط اداء الفرد باداء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755640" y="1341360"/>
            <a:ext cx="3887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جع المشا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جع روح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جع الاتصال الجماع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جع المنافس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وضح قواعد العمل في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واجه الفريق باحقائق الجدي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وضح واعترف بانجازات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D1FB-8A5C-4FFE-ACA4-D0E8EB686A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11280" y="260280"/>
            <a:ext cx="8281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صراع الجماع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كيف ينشأ الصر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وضح الشكل التالي طبيعة ونشأة الصراع  داخل 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227640" y="2637000"/>
            <a:ext cx="2087640" cy="115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عارض ب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اهتمامات الفرد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واهتمامات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39640" y="2637000"/>
            <a:ext cx="2160720" cy="12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إحساس بأ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الآخرين يعو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هذه الاهتمام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9640" y="4941720"/>
            <a:ext cx="223200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قيام الآ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بتصرفات فع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عوق تنفي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اهتمام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659640" y="522936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نشاة الصرا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708360" y="2781360"/>
            <a:ext cx="158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إحساس بحا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التعار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924360" y="501336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ؤدي إ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5579640" y="321300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3059280" y="321300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2987640" y="551664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عنصر نائب لرقم الشريحة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E15E-9DEC-48D7-9769-2052F03A079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4360" y="189000"/>
            <a:ext cx="81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مراحل الصر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وضح الشكل التالي مراحل الصر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659640" y="2133720"/>
            <a:ext cx="1873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نشأة الصرا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635280" y="1916280"/>
            <a:ext cx="2017800" cy="12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أفكار وانفعا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أطراف الصرا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39640" y="1916280"/>
            <a:ext cx="216072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عقد النية عل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تصرف باسلو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عدائي مع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708360" y="4292640"/>
            <a:ext cx="21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رد فعل الطر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لآخر ”الخصم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39640" y="4292640"/>
            <a:ext cx="21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قيام بالسلو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عدائى فعلا من اح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5940360" y="256536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2916000" y="249228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1619280" y="321300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4788000" y="3213000"/>
            <a:ext cx="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2843280" y="4724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صر نائب لرقم الشريحة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2A1F-4043-4E20-89F7-A1EAAB234AD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646200" y="189000"/>
            <a:ext cx="849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0"/>
            <a:ext cx="9144000" cy="72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أسباب الصر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أسباب الشخص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(الحقد- سوء الاتصال – العلاقة غير الطبيعية – خصائص الفرد وصفاته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أسباب التنظي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( المنافسة - غموض المسؤليات – الاعتمادية - نظام المرتبات - رغبة في التمي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أنواع الصر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أولا:الصراع داخل 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عارض الدو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عدم إشباع الحا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      أ- أهداف متعارضة ذات مزايا فق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     ب- أهداف متعارضة ذات عيوب فق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     ج- أهداف متعارضة ذات عيوب ومزا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مشاكل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0ECF-E9FB-4CAD-9455-1B536544EB9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79280" y="0"/>
            <a:ext cx="89647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ثانيا:الصراع بين افراد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نافذه جوهاري توضح أسباب الصراع بين الافراد داخل نفس الجما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68360" y="2276640"/>
          <a:ext cx="3814920" cy="3601800"/>
        </p:xfrm>
        <a:graphic>
          <a:graphicData uri="http://schemas.openxmlformats.org/drawingml/2006/table">
            <a:tbl>
              <a:tblPr/>
              <a:tblGrid>
                <a:gridCol w="1949760"/>
                <a:gridCol w="186516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0" name="Rectangle 20"/>
          <p:cNvSpPr/>
          <p:nvPr/>
        </p:nvSpPr>
        <p:spPr>
          <a:xfrm>
            <a:off x="5003640" y="2852640"/>
            <a:ext cx="43200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2987640" y="2924280"/>
            <a:ext cx="432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5003640" y="4797360"/>
            <a:ext cx="43200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987640" y="4724280"/>
            <a:ext cx="43200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5219640" y="1700280"/>
            <a:ext cx="10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2340000" y="33577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2556000" y="3573360"/>
            <a:ext cx="151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995640" y="112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Calibri"/>
              </a:rPr>
              <a:t>الآخر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667640" y="314172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Calibri"/>
              </a:rPr>
              <a:t>الف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6156360" y="450864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6012000" y="26370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643280" y="184464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2411280" y="1844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لايعرف الاخر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E8A4-84CD-4175-B6F8-9E1B04700A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700360" y="1484280"/>
          <a:ext cx="4032360" cy="3745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374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5" name="Text Box 15"/>
          <p:cNvSpPr/>
          <p:nvPr/>
        </p:nvSpPr>
        <p:spPr>
          <a:xfrm>
            <a:off x="1908000" y="6093000"/>
            <a:ext cx="172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721680" y="28260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الآخ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6548760" y="1989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7625880" y="29462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6516360" y="42926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4517280" y="98100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2324160" y="9810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2700360" y="1484280"/>
            <a:ext cx="1440000" cy="187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140360" y="1484280"/>
            <a:ext cx="2592360" cy="252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4716360" y="4005360"/>
            <a:ext cx="2016360" cy="12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4"/>
          <p:cNvSpPr/>
          <p:nvPr/>
        </p:nvSpPr>
        <p:spPr>
          <a:xfrm>
            <a:off x="5219640" y="2205000"/>
            <a:ext cx="4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3419640" y="4076640"/>
            <a:ext cx="431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3276720" y="2133720"/>
            <a:ext cx="431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5580000" y="4292640"/>
            <a:ext cx="4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EC4E-E7B7-43F0-B8DB-9641E278CFD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4020120" y="40176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الآخ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588560" y="126828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108160" y="13413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6261480" y="227664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7706880" y="2924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228720" y="40766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411280" y="1844640"/>
          <a:ext cx="4032360" cy="3529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20"/>
          <p:cNvSpPr/>
          <p:nvPr/>
        </p:nvSpPr>
        <p:spPr>
          <a:xfrm>
            <a:off x="3924360" y="1844640"/>
            <a:ext cx="251928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2411280" y="1844640"/>
            <a:ext cx="151308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2411280" y="3645000"/>
            <a:ext cx="2089440" cy="172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4500720" y="3645000"/>
            <a:ext cx="1942920" cy="172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003640" y="2492280"/>
            <a:ext cx="433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2916360" y="2492280"/>
            <a:ext cx="433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203640" y="4221000"/>
            <a:ext cx="433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5292720" y="4221000"/>
            <a:ext cx="433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E123-9C24-4581-8638-00035D52E9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2268360" y="1628640"/>
            <a:ext cx="424836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635280" y="40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الاخ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659640" y="220500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732720" y="429264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812000" y="3213000"/>
            <a:ext cx="8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788000" y="1125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34000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4427640" y="1628640"/>
            <a:ext cx="2089080" cy="273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2268360" y="1628640"/>
            <a:ext cx="215928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2268360" y="3429000"/>
            <a:ext cx="2159280" cy="20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4427640" y="4365720"/>
            <a:ext cx="2089080" cy="107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292720" y="2565360"/>
            <a:ext cx="50328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3059280" y="2133720"/>
            <a:ext cx="5029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5219640" y="4581360"/>
            <a:ext cx="50328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3059280" y="4076640"/>
            <a:ext cx="50292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D243-D06A-4B49-A053-11E1CB16C0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468360" y="404640"/>
            <a:ext cx="842472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ثالثا: الصراع بين الجماع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صراع على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نافس في الا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اختلاف بين المستويات التنظي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صراع بين الادارات وظيفي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صراع بين التنفيذيين والاستشارين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حل النزا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ستخدام القو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ستخدام الوسا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نسيق والتكا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1BA9-7E9F-4A8D-B49D-59B0A76073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Calibri"/>
              </a:rPr>
              <a:t>جماعات العم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اولا: ماهية الجماعات وتكوينها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تعريف الجماع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عبارة عن مجموعة من اثنين او اكثر من الافراد المعتمدين عل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والمتفاعلين مع بعضهم البعض في اداء وظائف معينة وذل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لتحقيق اهداف مشترك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نواع الجماعات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جماعات الرس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جماعات الوظيف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جماعات المهام ال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جماعات الصداقة والاهتمامات ال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2FED-A41F-49BE-A098-D54367C2DAC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900000" y="260280"/>
            <a:ext cx="806616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طرق ا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حل المشاك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ستخدام حواج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دريب الحساس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طرق الادارية للتنسيق والتعا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924360" y="3573360"/>
            <a:ext cx="5040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تنظيم طرق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توفير المعلومات الى الاطراف التي تحتاج ا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ندب ونقل العامل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لتخطيط والرقابة المشت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0" y="3573360"/>
            <a:ext cx="3672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إعادة تصميم العم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إعادة تصميم هياكل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إعادة التصميم الداخلي للاقسا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إعادة توزيع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8445-892F-4B67-A025-C833DDBB1E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39640" y="404640"/>
            <a:ext cx="8353440" cy="60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إتخاذ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مداخل إتخاذ القرارت الجماع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فراد الجماعة ينصحون المدير وهو الذي يتخ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فراد الجماعة لابد ان يجمعوا بالموافقة على القرار النهائ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أغلبية الجماعة توافق على القرار النهائ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6C23-C18C-4CAE-BBA4-6D4BE12B7CD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539640" y="260280"/>
            <a:ext cx="83534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ساليب الفنية في اتخاذ القرارات الج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- العصف الذه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765000"/>
          <a:ext cx="6265800" cy="547236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749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تحديد المشكلة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وم القائد أو المدير بتحديد المشكلة أمام اعضاء الاجتما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بدائل الحل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وم كل فرد بوضع افكاره عن بدائل الحل على ورقة امام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يتم تجميع الحلول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بواسطة القائد وكتابتها واحدة تلو الاخرى على سبورة او لوحة ولايلزم ربط اسماء الاعضاء بالحلو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المناقشة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دير القائد المناقشة والتحليل على ان يشجع كل الافراد للاشتراك في المناقشة ويتم التوصل لعدة بدائ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الاقتراع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وم كل فرد بالتصويت على هذه البدائل واضعا إياهم في ترتيب فالرتبة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تعنى احسن حل, والرتبة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تعنى المرتبة التالية في الافضلية, والمرتبة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(على اعتبار ان هناك خمس بدائل للحل) تشير الى اسوأ حل او بديل. وقد يقتصر الاقتراع على اختيار انسب بديل فق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6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القرار النهائي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وم القائد بتجميع الرتب لافراد الجماعة وباستخدام الجمع كعملية حسابية يمكن التعرف على نتيجة كل بديل, والبديل الذي يأخذ اقل مجموعة هو احسن بدي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7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إمعانا في سرية الاقتراع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مكن طباعة البدائل على ورقة منقطة وعلى عضو الاجتماع وضع علامة على البديل الذي يختار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20EB-5FB5-49AD-8FCB-73F41521BE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549360"/>
          <a:ext cx="8640720" cy="5830920"/>
        </p:xfrm>
        <a:graphic>
          <a:graphicData uri="http://schemas.openxmlformats.org/drawingml/2006/table">
            <a:tbl>
              <a:tblPr/>
              <a:tblGrid>
                <a:gridCol w="3024360"/>
                <a:gridCol w="3956040"/>
                <a:gridCol w="1660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امث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الخصائ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نوع الجما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ادرات والاقسام التقليدية التي يراسها مدير او رئيس ويعاونه مجموعة من العامل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يتم توصيف العلاقات بين اعضاء الجماعة بشكل رسمي بواسطة هيكل التنظيم او الوصف التنظي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تضمن كل من الرئيس والمرؤوس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نصب على اداء العمل الوظيفي للجما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مثل  جماعة رسمية عا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جماعة الوظيفية الرس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للجان العا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جماعات تخطيط المشروعات والبرامج الجدي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لجان حل المشاكل الطارئ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قد يتم تحديد تشكيلها واجراءاتها بواسطة الوصف التنظيمي او حسب احتياجات ال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قد تكون قصيرة او طويلة الاج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قد تتضمن الرئيس والمروؤس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مثل جماعة رسمية عا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جماعات المهام الخاص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نقابة العم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نادي الشر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لشلل والتحالف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صناديق الزما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لعصاب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تكون الجماعة لتشابه في خصائص الافراد كالاهتمامات, والسن, والمعتقدات السياسيةوالاجتماع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يمكن ان تكون جماعات رسمية او غير رس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هدافها قد تتمشى مع اهجاف المنظمة وقد تتعارض معه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جماعات الصداقة والاهتمامات الخاص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AEA2-2F6B-4FA5-A7D7-B6899F3B4E4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تكوين الجماعات وتشكيلها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هناك العديد من الاسباب من اهمها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نجاز اعمال ومهام محددة.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حل مشاكل يصعب حلها بواسطة ف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للتشابه في الصف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ن في الاتحاد قو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شباع الحاجة الى الانتما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تماسك الجماعة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يزداد تماسك الجماعة بسب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رغبة الاعضاء في البقاء داخل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نتيجة الضغوط التي تتعرض لها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7388-1468-49D4-9ADB-EADEB8D2F7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أسباب تماسك الجماع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Verdana"/>
              </a:rPr>
              <a:t> ( </a:t>
            </a:r>
            <a:r>
              <a:rPr b="1" lang="ar-SA" sz="3600" spc="-1" strike="noStrike">
                <a:solidFill>
                  <a:srgbClr val="003300"/>
                </a:solidFill>
                <a:latin typeface="Verdana"/>
              </a:rPr>
              <a:t>وهي ايضا العوامل التي تؤدي الى إضعاف تماسك الجماعة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الإجماع والاتفاق على أهداف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تناسب هدف الجماعة مع أهداف الأفر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كثافة التفاعلات بين أفراد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جاذبية الإفر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التنافس بين الجما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6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انعزال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7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حجم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8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الضغوط الخارج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9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استقرار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10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مركز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11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اعتمادية أفراد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F43C-F0E2-4BC2-98FD-1AB0081E90E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189000"/>
            <a:ext cx="8820000" cy="67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نتائج تماسك الجماع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Verdana"/>
              </a:rPr>
              <a:t>تؤثر الجماعة المتماسكة أكثر من الجماعة المفككة على أعضائها بشكل ملحوظ فالجما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Verdana"/>
              </a:rPr>
              <a:t>-تحدد معايير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Verdana"/>
              </a:rPr>
              <a:t>-تؤثر في الأدوار التي يلعبها الأفر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Verdana"/>
              </a:rPr>
              <a:t>-تؤثر في المكانة والنفو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00"/>
                </a:solidFill>
                <a:latin typeface="Calibri"/>
              </a:rPr>
              <a:t>معايير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معايير الإنتاج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ملا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ألق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مرونة الوق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FADB-A483-4D15-8EFB-064526ABDDF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9144000" cy="70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أد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لدور المتوق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دور المعمول ل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غموض الد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تعارض الد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المرتب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مركز النسبي أو المنزلة التي يتمتع بها الفرد داخل جماع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النتائج الضارة أو السلبية لتماسك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لا يستطيع الفرد ان يستقل بذ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أن الجماعة قد تعمل ضد مصلحة المنظ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898F-83ED-46A6-B899-C55474A804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47640" y="0"/>
            <a:ext cx="84963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فري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نوع خاص من جماعات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ماهية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أشخاص مكملين لبعضهم البعض من حيث المها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لتحقيق هدف محد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يعتبرون أنفسهم مسئولين له شخص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والنموذج التالي يوضح الفرق بين الجماعة والفري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093080" y="3068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الجم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492360" y="2781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الخصائ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306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الفر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6804000" y="3500280"/>
            <a:ext cx="1368360" cy="5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ف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804000" y="4365720"/>
            <a:ext cx="1368360" cy="57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ف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804000" y="5229360"/>
            <a:ext cx="1368360" cy="57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أهداف مشترك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04000" y="6093000"/>
            <a:ext cx="1368360" cy="574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عليمات بالادا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468360" y="3500280"/>
            <a:ext cx="1655640" cy="578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فرد والتناغ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بين افراد الفر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68360" y="4365720"/>
            <a:ext cx="1655640" cy="57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ضامن بين افر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الفر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179280" y="5157720"/>
            <a:ext cx="1944720" cy="72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أهداف مشتركة وتعهد م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الافراد بتنفيذ هذه الأهدا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468360" y="6093000"/>
            <a:ext cx="1655640" cy="57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وجيهات ذات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3851280" y="3213000"/>
            <a:ext cx="1297080" cy="935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أداء يعتم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على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3851280" y="4221000"/>
            <a:ext cx="1297080" cy="863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مسئولية ع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نواتج تعتم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على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3851280" y="5157720"/>
            <a:ext cx="1297080" cy="792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أفراد مهتم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بـــ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3851280" y="6021360"/>
            <a:ext cx="1368360" cy="836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أفراد مستجيب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إلى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5148360" y="37162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5219640" y="645336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24"/>
          <p:cNvSpPr/>
          <p:nvPr/>
        </p:nvSpPr>
        <p:spPr>
          <a:xfrm>
            <a:off x="5148360" y="458136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148360" y="551664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8"/>
          <p:cNvSpPr/>
          <p:nvPr/>
        </p:nvSpPr>
        <p:spPr>
          <a:xfrm flipH="1">
            <a:off x="2556000" y="37162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9"/>
          <p:cNvSpPr/>
          <p:nvPr/>
        </p:nvSpPr>
        <p:spPr>
          <a:xfrm flipH="1">
            <a:off x="2556000" y="458136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30"/>
          <p:cNvSpPr/>
          <p:nvPr/>
        </p:nvSpPr>
        <p:spPr>
          <a:xfrm flipH="1">
            <a:off x="2556000" y="551664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31"/>
          <p:cNvSpPr/>
          <p:nvPr/>
        </p:nvSpPr>
        <p:spPr>
          <a:xfrm flipH="1">
            <a:off x="2556000" y="645336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2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C326-D8DC-4C4B-A1E2-F91083492F8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84360" y="333360"/>
            <a:ext cx="81356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واع فرق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يوضح الشكل التالي أنواع فرق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00080" y="1500120"/>
          <a:ext cx="7058160" cy="5113440"/>
        </p:xfrm>
        <a:graphic>
          <a:graphicData uri="http://schemas.openxmlformats.org/drawingml/2006/table">
            <a:tbl>
              <a:tblPr/>
              <a:tblGrid>
                <a:gridCol w="3024360"/>
                <a:gridCol w="1293840"/>
                <a:gridCol w="2739960"/>
              </a:tblGrid>
              <a:tr h="15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تطو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تهتم بتحسين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Book Antiqua"/>
                          <a:cs typeface="Times New Roman"/>
                        </a:rPr>
                        <a:t>الاداء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وتطوير الانتاجية (مثل فريق تحسين الجودة, فرق الابداع والابتكا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</a:t>
                      </a: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لغر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تهتم بالانتاج والخدمات التي تقدمها(مثل فريق الصيانة, وفريق خدمة العملاء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دائ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تمرة مع بقاء واستمرار المنظمة 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ثل لجنة البت في العطاءات, ولجنة الميزاني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وق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مؤقت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وجودة لغرض معين وتنتهي بانتهائه(مثل لجنة التوسعات, ولجنة تصميم نظام الحواج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جماعات 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وهي الجماعات العادية وفيها يقوم رئيس الجماعة باتخاذ القرار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درج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استقل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الفرق المستق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رر الفريق الاسلوب المناسب لهم في التصرف واتخاذ القرار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اعضائها من مجال واح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وذلك لتحقيق التخصص الدقيق (مثل فريق انتاج بدا الرجا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هيكل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اعضائها من مجالات مختل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وذلك لاثراء الراي والخبرة(مثل فريق علاج انهيارالمصن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72"/>
          <p:cNvSpPr/>
          <p:nvPr/>
        </p:nvSpPr>
        <p:spPr>
          <a:xfrm>
            <a:off x="4067280" y="981000"/>
            <a:ext cx="1296720" cy="50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ابع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AEB0-A295-450E-B16F-631FA8C7D2C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18:53Z</dcterms:modified>
  <cp:revision>6</cp:revision>
  <dc:subject/>
  <dc:title>Slide 1</dc:title>
</cp:coreProperties>
</file>