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7ACB-BDA8-458E-81B0-C86BF5E55745}"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a typeface="ＭＳ Ｐゴシック"/>
            </a:endParaRPr>
          </a:p>
        </p:txBody>
      </p:sp>
      <p:sp>
        <p:nvSpPr>
          <p:cNvPr id="6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11C1-F70B-422D-A845-9071567013AF}"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F18B2-CD34-46C1-9C5A-E87876847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5135D-02E6-47C3-AD59-D7BF94E1B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B905BFF-56CE-40B5-8AE9-9325FA28C0C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1309B5C-471E-46A4-989D-8742E54E5B4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29B8E8B-CE32-46D6-B9A9-0DD32FBBEC2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32A8877-099B-4AF7-B143-CC1A36ADF7E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10D737F-0214-4CFC-9BDF-0A0840022E5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06408B6-C672-4B08-A9FB-1FC7BB8DF61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A0F915A-AE68-444E-AC59-A3C35E5152B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1F5D411-8E7E-4EB0-A4B5-ABD9C7BE921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5F05C88-01B7-4B86-A0F2-5699E99A0D9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1637F7E-2354-4A47-A882-313AF28143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E0A27-6284-42F0-B1CE-3001BDE47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81F4E06-09FC-4C79-AD9B-D922D0DF85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EF32E6A-F29C-44F1-A0EB-547EA27607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C43864B-C3DE-4981-8A22-0235EB76A0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5516F7EF-39A5-450D-892A-0BC31400C5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8B91EE3-1784-4DF1-A1AB-4B75CB8922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10D5DC8-CD13-48A3-9888-0C3DE71E7C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5ABD27F-1F7C-4C8C-80BE-8EFDE2C66B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4C7E98D-9671-4C18-B044-2964E62388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7ADAC9F-DBF3-45C1-A1B3-9F9A6DB5F6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4324AD7-4BD7-481F-900A-E1C0849E24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10CB9-08DC-4171-8EAC-E267FE386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0E4181B-FEFE-4EEA-8EF7-59D04CF7AAA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E781483-FD80-44F1-BA81-126F5BECF69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43BE00-D4AA-407C-9550-24AAD7E987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43889F-CAF7-4BAD-92EA-0F1E029774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D67391-FE70-4EDB-A253-E6804A42AF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7699EA-5A84-4E62-811F-9A0AB66358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B43750-2445-4D34-82F0-B145DB120B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3A792C-9385-4467-B159-BFCE09FE20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0E9B93-9BFB-4C97-9AB6-676DD11541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51AA93-2ECD-4D22-8A89-0F1B7BD139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EACFB-82A8-46CA-86DF-55347F65AA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38214B-3A2B-4143-80E1-439928E6F5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926939D-62E2-4E2F-93C3-17EC9D101A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EFAB17E-F476-4CFD-9272-75A4573121D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70F5B80-74C5-43C8-87CE-654FDFC5C1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38D7CB7-921A-4541-9D32-899C0A2838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E20E212-2E54-4683-AEE7-4D3396D03E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13A4881-136A-4BE5-A9B6-417D5D1A60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89B6C40-EC3B-4F2A-A5FD-8DF04CE01D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F22ACB6-E98C-4EC8-854F-62FD2FA5A3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CE1A1D9-E5C7-41D7-903F-D3288C3E25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3A503-CE15-414D-B999-CEE23A2DC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A1ACC6A-574C-4E1A-B9EA-ECF8677FDB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638ACA0-A412-4F1B-BF03-43432900DC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15EC7ED-A6F2-423F-BC52-67DA2471F3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F14650F-1CE3-4E24-A88D-A3640A5382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2C8595A-FD34-4288-A013-A4A68D1902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32672-1D2E-44A5-A8F8-265DF3F26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22A44-BD51-4E9E-A2B7-CD98E9627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EAEDD-5550-4792-9BE3-6D2E2C6A8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4B740-EF68-4430-B856-EFD7EAEAE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A032D-F659-45AA-B7CF-BB0C3BD3D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AC632-0AFE-4EC4-A41D-A1F86EF52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73C14-3CF8-4F10-A370-0C98112E3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932F1-7837-43E7-8924-BD92863EE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FAFFA-BCB8-4910-BC8A-F09F6F217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ED470-B2A8-4CA8-985D-5F981456A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8A6065-2B49-4084-96FA-B5AC2A751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DCE17E-7869-48B9-82C5-CF4F659086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549552-121A-40C0-BEC0-473CB21307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A80AF6-7959-4DBB-8E71-230FA5E6CC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DC062A-DD48-406B-8C5B-19A358C53E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80AEDC-E33D-4306-B63C-05BEEA70E0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D0A04-4F75-4160-9645-30F00EB74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BA95B6-6403-4601-A10A-0C2E927948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F76F4D-F91B-484B-8AB8-75482874B9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31025-9DB6-4633-B65E-3C524A7DE6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7CA24D-3433-461C-91E6-667E399C21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C9A3E5-B889-424D-9760-F02CBD335D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5FE0DB-817F-454A-A6BE-49E62DA1CE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202FB0-A1EE-4839-98AB-898171FEA1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0B113F8-CA15-45A7-BEB8-562886E7174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7180CB6-13F8-479A-A9C1-3FC30919AF7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0022582-2165-440C-91E1-AEA40486FF7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24E21-4FEB-4374-A4C0-7093C7ADF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DDDF1B9-3317-4902-A422-AF5FB6C8F1F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7CEA44E-9E93-4C84-83F7-26B8790A9CB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E45BF95-911F-473B-99B2-19FC721CE6F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A59AC0E-CC58-4016-8AD6-4254BFD15C3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279D21A-CCDD-4F4E-8FD3-D968D7CEF8E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3DE441B-B28C-47A5-B385-375AE7EF13C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D0F54CA-5390-4C9A-B525-94CAE63C8E4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14065B0-8F46-4A76-83CE-30DEC5DEBA9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F8470D1-7BA6-4DFF-AB8F-0F3A2F0B207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7E9A8C-C96D-49A5-B113-06A13C9FBD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E847B-EC81-463B-9E5D-602DA513E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BD007F-73AC-440A-9655-B1DD345E38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117A6F-0019-4B0E-B8EC-0CD206E56C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1DE9E-496D-4543-8E7A-8E2E03D8E5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78B0D0-4699-41F7-B5EC-EFA9C896FF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CC8480-DE3A-48ED-8A07-4419A07BA8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9A724B-33DA-4C1A-8B72-1D35296A0F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1EB276-2317-4B5F-A109-6A6E88E46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318420-81E5-48A2-8A80-BBB126B224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BACBA1-4FB8-4E09-9092-E3E8E0DF6E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068862-D37C-4D66-B146-162D5A94F0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34720-87DC-4297-AF55-80C8A6609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4483A4-9F71-44B4-8464-11E15D0217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5B4F26-1027-436A-AAD2-C5C737C2DD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F5164D-951F-4861-AF3B-87BD8B54A1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4C623A-FE96-4281-A993-9C380849DB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8B6A0A-F19A-4913-B882-62D49C981F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8BF911-C9AA-464F-942F-71C294E55C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6180F4-4C51-4310-BBBD-B86B455A15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E22D02-C953-4D00-9B2A-8029385B23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AAD106-CB7F-43C2-B4C5-6080F945F5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05D614-E6CF-429F-87BB-32CB881164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D8C1C-0072-4B5C-B447-D9FC9623B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73E911-8DD7-42E0-8320-2A46DEBF66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914D63-8F1A-47E2-AF7A-65FBC01E26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25C04F-2859-4E09-882D-32F17766B5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647846-679C-4F6A-A2A0-B589910653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EAB4E9-BCB3-4761-BEEE-858C8E2C14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9F7C04-7BB5-44CD-BB93-E4F9AF0303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BAE671-6714-42A8-858B-7583BB16E2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F505B2-57D4-4048-AD3F-47B7DD529C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8E1E93-0C64-45A2-8AB2-B3B62A97F0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D5D88A-8AB7-4D76-B9AC-E55AF1C001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999CF-DF14-46EC-BDA1-89D7F9B5B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DBDF6F-2341-4F05-8242-B335193DDB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2FBCAB-576A-46C7-9FCD-0B11D7F29E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C66E42-9DEB-46C7-8A23-48C7DC1566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45C4AC-6A07-489A-A5A8-ADADEA8CA5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8C1775-FB33-4EE0-B9FE-FBEF1DDDAE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46EDA8-0A7A-45A1-B2AB-EAEAAF8EEC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BFAF8F-3ACD-4315-AB4E-0B106C04CC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304063-E4B1-4DA0-8104-78319001D2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AA11DF-29CF-410C-9952-95BA89AC0F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4AEB1B-38ED-47BD-AC65-43E6584D65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C1E24-037D-4598-928A-9E29BD1FB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3CECFA-48F3-4C3C-AE29-50A6107706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A57FD2-FC35-4780-A26D-12211E8695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1097A7-5ECB-4AC7-BD85-CD571A449A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79E762-5005-4C78-9D85-F93F566E9B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52269A-48F5-43AA-9A7F-B64E9956AF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A8A4F7-ED07-4529-9C8B-EA5E7996CF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2DEF75-1FF0-4577-B546-CE16A62F1A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49446B8A-9460-4671-A7D5-CA710CD7DED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9540E6B-8A38-4095-9929-8F718ED3D6F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8833185-C20A-4496-9F66-7B3792568B8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171F-DCBE-4F74-A54C-3865EE4E417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1F72-0BF0-425C-A8A5-C123B614D30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B9DD1-0568-4616-B1CE-5A4EB7BEAC5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BD340-0DF9-4A51-A67A-D47068E6A12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8A46-C538-4B63-8E89-B91AA9F4A12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CA7C-0C1F-4B61-A3B1-5BECB864D28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6C63C-C173-4DDA-B783-50173CCAC0B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1031B-4C46-46D9-ACC1-B883E80E4E7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E1D9-FFA0-42A4-957B-59FE374A94A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F2C9-62DC-43BD-928B-626EDD3735C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25B9-D0C0-4684-A959-9988B5C06F58}"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CDF1-0845-4308-AB29-09424C6E6C7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itle 1"/>
          <p:cNvSpPr/>
          <p:nvPr/>
        </p:nvSpPr>
        <p:spPr>
          <a:xfrm>
            <a:off x="1143000" y="1143000"/>
            <a:ext cx="7772400" cy="1847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Subtitle 2"/>
          <p:cNvSpPr/>
          <p:nvPr/>
        </p:nvSpPr>
        <p:spPr>
          <a:xfrm>
            <a:off x="2057400" y="3809880"/>
            <a:ext cx="640080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16349"/>
                </a:solidFill>
                <a:latin typeface="Palatino Linotype"/>
                <a:cs typeface="ＭＳ Ｐゴシック"/>
              </a:rPr>
              <a:t>الفصل السابع </a:t>
            </a:r>
            <a:br>
              <a:rPr sz="4400"/>
            </a:br>
            <a:endParaRPr b="0" lang="en-US" sz="4400" spc="-1" strike="noStrike">
              <a:solidFill>
                <a:srgbClr val="7b9899"/>
              </a:solidFill>
              <a:latin typeface="Georgia"/>
            </a:endParaRPr>
          </a:p>
        </p:txBody>
      </p:sp>
      <p:sp>
        <p:nvSpPr>
          <p:cNvPr id="616"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entury Schoolbook"/>
                <a:cs typeface="ＭＳ Ｐゴシック"/>
              </a:rPr>
              <a:t>تقويم المخزون السلعي </a:t>
            </a:r>
            <a:endParaRPr b="0" lang="en-US" sz="2800" spc="-1" strike="noStrike">
              <a:solidFill>
                <a:srgbClr val="000000"/>
              </a:solidFill>
              <a:latin typeface="Georgia"/>
            </a:endParaRPr>
          </a:p>
          <a:p>
            <a:pPr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Schoolbook"/>
                <a:cs typeface="ＭＳ Ｐゴシック"/>
              </a:rPr>
              <a:t>مدخل التكلفة التاريخية</a:t>
            </a:r>
            <a:endParaRPr b="0" lang="en-US" sz="2000" spc="-1" strike="noStrike">
              <a:solidFill>
                <a:srgbClr val="000000"/>
              </a:solidFill>
              <a:latin typeface="Georgia"/>
            </a:endParaRPr>
          </a:p>
          <a:p>
            <a:pPr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11280" y="404280"/>
            <a:ext cx="8229600" cy="792360"/>
          </a:xfrm>
          <a:prstGeom prst="rect">
            <a:avLst/>
          </a:prstGeom>
          <a:noFill/>
          <a:ln w="0">
            <a:noFill/>
          </a:ln>
        </p:spPr>
        <p:txBody>
          <a:bodyPr lIns="90000" rIns="90000" tIns="46800" bIns="46800" anchor="b">
            <a:noAutofit/>
          </a:bodyPr>
          <a:p>
            <a:pPr indent="0" algn="ctr" rtl="1">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Calibri"/>
                <a:ea typeface="Calibri"/>
              </a:rPr>
              <a:t>* طبيعة المخزون </a:t>
            </a:r>
            <a:r>
              <a:rPr b="1" lang="ar-SA" sz="2800" spc="-1" strike="noStrike">
                <a:solidFill>
                  <a:srgbClr val="7b9899"/>
                </a:solidFill>
                <a:latin typeface="Calibri"/>
                <a:ea typeface="Calibri"/>
              </a:rPr>
              <a:t>: يتكون المخزون من البضاعة التي تعتبر من الناحية القانونية مملوكة للمنشأة.</a:t>
            </a:r>
            <a:endParaRPr b="0" lang="en-US" sz="2800" spc="-1" strike="noStrike">
              <a:solidFill>
                <a:srgbClr val="7b9899"/>
              </a:solidFill>
              <a:latin typeface="Georgia"/>
            </a:endParaRPr>
          </a:p>
        </p:txBody>
      </p:sp>
      <p:sp>
        <p:nvSpPr>
          <p:cNvPr id="618" name="Title 1"/>
          <p:cNvSpPr/>
          <p:nvPr/>
        </p:nvSpPr>
        <p:spPr>
          <a:xfrm>
            <a:off x="2857680" y="2500200"/>
            <a:ext cx="3157200" cy="1071720"/>
          </a:xfrm>
          <a:prstGeom prst="rect">
            <a:avLst/>
          </a:prstGeom>
          <a:noFill/>
          <a:ln w="9360">
            <a:solidFill>
              <a:srgbClr val="d16349"/>
            </a:solidFill>
            <a:miter/>
          </a:ln>
        </p:spPr>
        <p:style>
          <a:lnRef idx="0"/>
          <a:fillRef idx="0"/>
          <a:effectRef idx="0"/>
          <a:fontRef idx="minor"/>
        </p:style>
        <p:txBody>
          <a:bodyPr lIns="90000" rIns="90000" tIns="46800" bIns="4680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d16349"/>
                </a:solidFill>
                <a:latin typeface="Calibri"/>
                <a:ea typeface="Times New Roman"/>
              </a:rPr>
              <a:t>* تبويب المخزون</a:t>
            </a:r>
            <a:endParaRPr b="0" lang="en-US" sz="3600" spc="-1" strike="noStrike">
              <a:solidFill>
                <a:srgbClr val="000000"/>
              </a:solidFill>
              <a:latin typeface="Arial"/>
            </a:endParaRPr>
          </a:p>
        </p:txBody>
      </p:sp>
      <p:cxnSp>
        <p:nvCxnSpPr>
          <p:cNvPr id="619" name="رابط كسهم مستقيم 9"/>
          <p:cNvCxnSpPr/>
          <p:nvPr/>
        </p:nvCxnSpPr>
        <p:spPr>
          <a:xfrm flipH="1">
            <a:off x="7857360" y="3785760"/>
            <a:ext cx="2520" cy="857880"/>
          </a:xfrm>
          <a:prstGeom prst="straightConnector1">
            <a:avLst/>
          </a:prstGeom>
          <a:ln w="57240">
            <a:solidFill>
              <a:srgbClr val="435e40"/>
            </a:solidFill>
            <a:miter/>
            <a:tailEnd len="med" type="arrow" w="med"/>
          </a:ln>
        </p:spPr>
      </p:cxnSp>
      <p:cxnSp>
        <p:nvCxnSpPr>
          <p:cNvPr id="620" name="رابط كسهم مستقيم 10"/>
          <p:cNvCxnSpPr/>
          <p:nvPr/>
        </p:nvCxnSpPr>
        <p:spPr>
          <a:xfrm flipH="1">
            <a:off x="1285560" y="3785760"/>
            <a:ext cx="2160" cy="857880"/>
          </a:xfrm>
          <a:prstGeom prst="straightConnector1">
            <a:avLst/>
          </a:prstGeom>
          <a:ln w="57240">
            <a:solidFill>
              <a:srgbClr val="435e40"/>
            </a:solidFill>
            <a:miter/>
            <a:tailEnd len="med" type="arrow" w="med"/>
          </a:ln>
        </p:spPr>
      </p:cxnSp>
      <p:sp>
        <p:nvSpPr>
          <p:cNvPr id="621" name="رابط مستقيم 12"/>
          <p:cNvSpPr/>
          <p:nvPr/>
        </p:nvSpPr>
        <p:spPr>
          <a:xfrm>
            <a:off x="1285920" y="3786120"/>
            <a:ext cx="6572160" cy="1800"/>
          </a:xfrm>
          <a:prstGeom prst="line">
            <a:avLst/>
          </a:prstGeom>
          <a:ln w="57240">
            <a:solidFill>
              <a:srgbClr val="435e4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itle 1"/>
          <p:cNvSpPr/>
          <p:nvPr/>
        </p:nvSpPr>
        <p:spPr>
          <a:xfrm>
            <a:off x="6215040" y="4643280"/>
            <a:ext cx="3157560" cy="1071720"/>
          </a:xfrm>
          <a:prstGeom prst="rect">
            <a:avLst/>
          </a:prstGeom>
          <a:noFill/>
          <a:ln w="0">
            <a:noFill/>
          </a:ln>
        </p:spPr>
        <p:style>
          <a:lnRef idx="0"/>
          <a:fillRef idx="0"/>
          <a:effectRef idx="0"/>
          <a:fontRef idx="minor"/>
        </p:style>
        <p:txBody>
          <a:bodyPr lIns="90000" rIns="90000" tIns="46800" bIns="4680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Calibri"/>
                <a:cs typeface="Times New Roman"/>
              </a:rPr>
              <a:t>المنشآت</a:t>
            </a:r>
            <a:endParaRPr b="0" lang="en-US" sz="28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ea typeface="Times New Roman"/>
              </a:rPr>
              <a:t> </a:t>
            </a:r>
            <a:r>
              <a:rPr b="1" lang="ar-SA" sz="2800" spc="-1" strike="noStrike">
                <a:solidFill>
                  <a:srgbClr val="d16349"/>
                </a:solidFill>
                <a:latin typeface="Calibri"/>
                <a:cs typeface="Times New Roman"/>
              </a:rPr>
              <a:t>التجارية</a:t>
            </a:r>
            <a:endParaRPr b="0" lang="en-US" sz="2800" spc="-1" strike="noStrike">
              <a:solidFill>
                <a:srgbClr val="000000"/>
              </a:solidFill>
              <a:latin typeface="Arial"/>
            </a:endParaRPr>
          </a:p>
        </p:txBody>
      </p:sp>
      <p:sp>
        <p:nvSpPr>
          <p:cNvPr id="623" name="Title 1"/>
          <p:cNvSpPr/>
          <p:nvPr/>
        </p:nvSpPr>
        <p:spPr>
          <a:xfrm>
            <a:off x="-228600" y="4643280"/>
            <a:ext cx="3157560" cy="1071720"/>
          </a:xfrm>
          <a:prstGeom prst="rect">
            <a:avLst/>
          </a:prstGeom>
          <a:noFill/>
          <a:ln w="0">
            <a:noFill/>
          </a:ln>
        </p:spPr>
        <p:style>
          <a:lnRef idx="0"/>
          <a:fillRef idx="0"/>
          <a:effectRef idx="0"/>
          <a:fontRef idx="minor"/>
        </p:style>
        <p:txBody>
          <a:bodyPr lIns="90000" rIns="90000" tIns="46800" bIns="4680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Calibri"/>
                <a:cs typeface="Times New Roman"/>
              </a:rPr>
              <a:t>المنشآت</a:t>
            </a:r>
            <a:endParaRPr b="0" lang="en-US" sz="28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Calibri"/>
                <a:ea typeface="Times New Roman"/>
              </a:rPr>
              <a:t> الصناع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مستطيل 4"/>
          <p:cNvSpPr/>
          <p:nvPr/>
        </p:nvSpPr>
        <p:spPr>
          <a:xfrm>
            <a:off x="0" y="0"/>
            <a:ext cx="9144000" cy="6858000"/>
          </a:xfrm>
          <a:prstGeom prst="rect">
            <a:avLst/>
          </a:prstGeom>
          <a:solidFill>
            <a:srgbClr val="ffffff"/>
          </a:solidFill>
          <a:ln w="11520">
            <a:solidFill>
              <a:srgbClr val="c0000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5" name="Content Placeholder 9" descr=""/>
          <p:cNvPicPr/>
          <p:nvPr/>
        </p:nvPicPr>
        <p:blipFill>
          <a:blip r:embed="rId1"/>
          <a:stretch/>
        </p:blipFill>
        <p:spPr>
          <a:xfrm>
            <a:off x="-573120" y="920880"/>
            <a:ext cx="10144080" cy="549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مستطيل 6"/>
          <p:cNvSpPr/>
          <p:nvPr/>
        </p:nvSpPr>
        <p:spPr>
          <a:xfrm>
            <a:off x="0" y="0"/>
            <a:ext cx="9144000" cy="685800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PlaceHolder 1"/>
          <p:cNvSpPr>
            <a:spLocks noGrp="1"/>
          </p:cNvSpPr>
          <p:nvPr>
            <p:ph type="title"/>
          </p:nvPr>
        </p:nvSpPr>
        <p:spPr>
          <a:xfrm>
            <a:off x="457200" y="-571680"/>
            <a:ext cx="8229600" cy="11433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7b9899"/>
                </a:solidFill>
                <a:latin typeface="Georgia"/>
                <a:cs typeface="ＭＳ Ｐゴシック"/>
              </a:rPr>
              <a:t>المنشآت الصناعية</a:t>
            </a:r>
            <a:endParaRPr b="0" lang="en-US" sz="3300" spc="-1" strike="noStrike">
              <a:solidFill>
                <a:srgbClr val="7b9899"/>
              </a:solidFill>
              <a:latin typeface="Georgia"/>
            </a:endParaRPr>
          </a:p>
        </p:txBody>
      </p:sp>
      <p:sp>
        <p:nvSpPr>
          <p:cNvPr id="628" name="Slide Number Placeholder 4"/>
          <p:cNvSpPr/>
          <p:nvPr/>
        </p:nvSpPr>
        <p:spPr>
          <a:xfrm>
            <a:off x="4362480" y="1027080"/>
            <a:ext cx="457200" cy="441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733C-3129-461F-9F45-D989364B71CB}" type="slidenum">
              <a:rPr b="0" lang="en-US" sz="1600" spc="-1" strike="noStrike">
                <a:solidFill>
                  <a:srgbClr val="7b9899"/>
                </a:solidFill>
                <a:latin typeface="Arial"/>
                <a:ea typeface="Times New Roman"/>
              </a:rPr>
              <a:t>&lt;number&gt;</a:t>
            </a:fld>
            <a:endParaRPr b="0" lang="en-US" sz="1600" spc="-1" strike="noStrike">
              <a:solidFill>
                <a:srgbClr val="000000"/>
              </a:solidFill>
              <a:latin typeface="Arial"/>
            </a:endParaRPr>
          </a:p>
        </p:txBody>
      </p:sp>
      <p:pic>
        <p:nvPicPr>
          <p:cNvPr id="629" name="Content Placeholder 9" descr=""/>
          <p:cNvPicPr/>
          <p:nvPr/>
        </p:nvPicPr>
        <p:blipFill>
          <a:blip r:embed="rId1"/>
          <a:stretch/>
        </p:blipFill>
        <p:spPr>
          <a:xfrm>
            <a:off x="-433440" y="401760"/>
            <a:ext cx="9583920" cy="593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28760" y="785880"/>
            <a:ext cx="8229600" cy="627120"/>
          </a:xfrm>
          <a:prstGeom prst="rect">
            <a:avLst/>
          </a:prstGeom>
          <a:noFill/>
          <a:ln w="0">
            <a:noFill/>
          </a:ln>
        </p:spPr>
        <p:txBody>
          <a:bodyPr lIns="90000" rIns="90000" tIns="46800" bIns="46800" anchor="b">
            <a:noAutofit/>
          </a:bodyPr>
          <a:p>
            <a:pPr indent="0" algn="ctr" rtl="1">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d16349"/>
                </a:solidFill>
                <a:latin typeface="Calibri"/>
                <a:ea typeface="Calibri"/>
              </a:rPr>
              <a:t>* تحديد كمية المخزون السلعي وأنظمة المخزون البديلة :</a:t>
            </a:r>
            <a:br>
              <a:rPr sz="3000"/>
            </a:br>
            <a:r>
              <a:rPr b="1" lang="ar-SA" sz="3000" spc="-1" strike="noStrike">
                <a:solidFill>
                  <a:srgbClr val="d16349"/>
                </a:solidFill>
                <a:latin typeface="Calibri"/>
                <a:ea typeface="Calibri"/>
              </a:rPr>
              <a:t> </a:t>
            </a:r>
            <a:r>
              <a:rPr b="1" lang="ar-SA" sz="3000" spc="-1" strike="noStrike">
                <a:solidFill>
                  <a:srgbClr val="d16349"/>
                </a:solidFill>
                <a:latin typeface="Showcard Gothic"/>
                <a:cs typeface="Calibri"/>
              </a:rPr>
              <a:t>يوجد نظامان وهما</a:t>
            </a:r>
            <a:endParaRPr b="0" lang="en-US" sz="3000" spc="-1" strike="noStrike">
              <a:solidFill>
                <a:srgbClr val="7b9899"/>
              </a:solidFill>
              <a:latin typeface="Georgia"/>
            </a:endParaRPr>
          </a:p>
        </p:txBody>
      </p:sp>
      <p:cxnSp>
        <p:nvCxnSpPr>
          <p:cNvPr id="631" name="رابط كسهم مستقيم 8"/>
          <p:cNvCxnSpPr/>
          <p:nvPr/>
        </p:nvCxnSpPr>
        <p:spPr>
          <a:xfrm flipH="1">
            <a:off x="7857360" y="2785680"/>
            <a:ext cx="2520" cy="857880"/>
          </a:xfrm>
          <a:prstGeom prst="straightConnector1">
            <a:avLst/>
          </a:prstGeom>
          <a:ln w="57240">
            <a:solidFill>
              <a:srgbClr val="435e40"/>
            </a:solidFill>
            <a:miter/>
            <a:tailEnd len="med" type="arrow" w="med"/>
          </a:ln>
        </p:spPr>
      </p:cxnSp>
      <p:cxnSp>
        <p:nvCxnSpPr>
          <p:cNvPr id="632" name="رابط كسهم مستقيم 9"/>
          <p:cNvCxnSpPr/>
          <p:nvPr/>
        </p:nvCxnSpPr>
        <p:spPr>
          <a:xfrm flipH="1">
            <a:off x="1285560" y="2785680"/>
            <a:ext cx="2160" cy="857880"/>
          </a:xfrm>
          <a:prstGeom prst="straightConnector1">
            <a:avLst/>
          </a:prstGeom>
          <a:ln w="57240">
            <a:solidFill>
              <a:srgbClr val="435e40"/>
            </a:solidFill>
            <a:miter/>
            <a:tailEnd len="med" type="arrow" w="med"/>
          </a:ln>
        </p:spPr>
      </p:cxnSp>
      <p:sp>
        <p:nvSpPr>
          <p:cNvPr id="633" name="رابط مستقيم 10"/>
          <p:cNvSpPr/>
          <p:nvPr/>
        </p:nvSpPr>
        <p:spPr>
          <a:xfrm>
            <a:off x="1285920" y="2786040"/>
            <a:ext cx="6572160" cy="1440"/>
          </a:xfrm>
          <a:prstGeom prst="line">
            <a:avLst/>
          </a:prstGeom>
          <a:ln w="57240">
            <a:solidFill>
              <a:srgbClr val="435e4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itle 1"/>
          <p:cNvSpPr/>
          <p:nvPr/>
        </p:nvSpPr>
        <p:spPr>
          <a:xfrm>
            <a:off x="6229440" y="3643200"/>
            <a:ext cx="3157560" cy="1071720"/>
          </a:xfrm>
          <a:prstGeom prst="rect">
            <a:avLst/>
          </a:prstGeom>
          <a:noFill/>
          <a:ln w="0">
            <a:noFill/>
          </a:ln>
        </p:spPr>
        <p:style>
          <a:lnRef idx="0"/>
          <a:fillRef idx="0"/>
          <a:effectRef idx="0"/>
          <a:fontRef idx="minor"/>
        </p:style>
        <p:txBody>
          <a:bodyPr lIns="90000" rIns="90000" tIns="46800" bIns="4680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Calibri"/>
                <a:cs typeface="Times New Roman"/>
              </a:rPr>
              <a:t>نظام المخزون</a:t>
            </a:r>
            <a:endParaRPr b="0" lang="en-US" sz="28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Calibri"/>
                <a:ea typeface="Times New Roman"/>
              </a:rPr>
              <a:t> المستمر</a:t>
            </a:r>
            <a:endParaRPr b="0" lang="en-US" sz="2800" spc="-1" strike="noStrike">
              <a:solidFill>
                <a:srgbClr val="000000"/>
              </a:solidFill>
              <a:latin typeface="Arial"/>
            </a:endParaRPr>
          </a:p>
        </p:txBody>
      </p:sp>
      <p:sp>
        <p:nvSpPr>
          <p:cNvPr id="635" name="Title 1"/>
          <p:cNvSpPr/>
          <p:nvPr/>
        </p:nvSpPr>
        <p:spPr>
          <a:xfrm>
            <a:off x="-214200" y="3643200"/>
            <a:ext cx="3157560" cy="1071720"/>
          </a:xfrm>
          <a:prstGeom prst="rect">
            <a:avLst/>
          </a:prstGeom>
          <a:noFill/>
          <a:ln w="0">
            <a:noFill/>
          </a:ln>
        </p:spPr>
        <p:style>
          <a:lnRef idx="0"/>
          <a:fillRef idx="0"/>
          <a:effectRef idx="0"/>
          <a:fontRef idx="minor"/>
        </p:style>
        <p:txBody>
          <a:bodyPr lIns="90000" rIns="90000" tIns="46800" bIns="4680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Calibri"/>
                <a:cs typeface="Times New Roman"/>
              </a:rPr>
              <a:t>نظام المخزون</a:t>
            </a:r>
            <a:endParaRPr b="0" lang="en-US" sz="2800" spc="-1" strike="noStrike">
              <a:solidFill>
                <a:srgbClr val="000000"/>
              </a:solidFill>
              <a:latin typeface="Arial"/>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Calibri"/>
                <a:cs typeface="Times New Roman"/>
              </a:rPr>
              <a:t>الدور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AutoShape 1"/>
          <p:cNvSpPr/>
          <p:nvPr/>
        </p:nvSpPr>
        <p:spPr>
          <a:xfrm>
            <a:off x="428760" y="1785960"/>
            <a:ext cx="8143920" cy="110016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خزون السلعي في أول الفترة + صافي المشتريات - المخزون السلعي في آخر الفترة = تكلفة البضاعة المباعة</a:t>
            </a:r>
            <a:endParaRPr b="0" lang="en-US" sz="2400" spc="-1" strike="noStrike">
              <a:solidFill>
                <a:srgbClr val="000000"/>
              </a:solidFill>
              <a:latin typeface="Arial"/>
            </a:endParaRPr>
          </a:p>
        </p:txBody>
      </p:sp>
      <p:sp>
        <p:nvSpPr>
          <p:cNvPr id="637" name="AutoShape 2"/>
          <p:cNvSpPr/>
          <p:nvPr/>
        </p:nvSpPr>
        <p:spPr>
          <a:xfrm>
            <a:off x="331920" y="4643280"/>
            <a:ext cx="8240760" cy="9604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gn="r" rtl="1">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خزون السلعي أول الفترة + صافي المشتريات - تكلفة البضاعة المباعة = المخزون السلعي آخر الفترة</a:t>
            </a:r>
            <a:endParaRPr b="0" lang="en-US" sz="2400" spc="-1" strike="noStrike">
              <a:solidFill>
                <a:srgbClr val="000000"/>
              </a:solidFill>
              <a:latin typeface="Arial"/>
            </a:endParaRPr>
          </a:p>
        </p:txBody>
      </p:sp>
      <p:sp>
        <p:nvSpPr>
          <p:cNvPr id="638" name="Rectangle 3"/>
          <p:cNvSpPr/>
          <p:nvPr/>
        </p:nvSpPr>
        <p:spPr>
          <a:xfrm>
            <a:off x="5491440" y="929880"/>
            <a:ext cx="350604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d16349"/>
                </a:solidFill>
                <a:uFillTx/>
                <a:latin typeface="Times New Roman"/>
                <a:cs typeface="Times New Roman"/>
              </a:rPr>
              <a:t>نظام المخزون الدوري:</a:t>
            </a:r>
            <a:endParaRPr b="0" lang="en-US" sz="2400" spc="-1" strike="noStrike">
              <a:solidFill>
                <a:srgbClr val="000000"/>
              </a:solidFill>
              <a:latin typeface="Arial"/>
            </a:endParaRPr>
          </a:p>
        </p:txBody>
      </p:sp>
      <p:sp>
        <p:nvSpPr>
          <p:cNvPr id="639" name="Rectangle 3"/>
          <p:cNvSpPr/>
          <p:nvPr/>
        </p:nvSpPr>
        <p:spPr>
          <a:xfrm>
            <a:off x="5342760" y="3968280"/>
            <a:ext cx="371952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d16349"/>
                </a:solidFill>
                <a:uFillTx/>
                <a:latin typeface="Times New Roman"/>
                <a:cs typeface="Times New Roman"/>
              </a:rPr>
              <a:t>نظام المخزون المستم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1"/>
          <p:cNvSpPr/>
          <p:nvPr/>
        </p:nvSpPr>
        <p:spPr>
          <a:xfrm>
            <a:off x="571680" y="-588600"/>
            <a:ext cx="7643520" cy="5213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Arial Unicode MS"/>
                <a:ea typeface="Akhbar MT"/>
              </a:rPr>
              <a:t>4</a:t>
            </a:r>
            <a:r>
              <a:rPr b="1" lang="ar-SA" sz="2800" spc="-1" strike="noStrike">
                <a:solidFill>
                  <a:srgbClr val="d16349"/>
                </a:solidFill>
                <a:latin typeface="Arial Unicode MS"/>
                <a:ea typeface="Akhbar MT"/>
              </a:rPr>
              <a:t>- إجراءات تقييم المخزون:</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khbar MT"/>
              </a:rPr>
              <a:t>نظرا لندرة تساوي كمية البضاعة المباعه و المستخدمة خلال الفترة المحاسبية مع كمية البضاعة المشتراه أو المنتجة خلال نفس  الفترة  فانه ترتب على ذلك تقلب كمية المخزون السلعي  خلال الفترة إما بالزيادة أو النقص وتتطلب المحاسبة إن يتم احتساب تكلفة البضاعة المتاحة للبيع ثم تخصيص هذه التكلفة على كل من كمية البضاعة المباع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16349"/>
                </a:solidFill>
                <a:latin typeface="Times New Roman"/>
                <a:cs typeface="Akhbar MT"/>
              </a:rPr>
              <a:t>تشتمل اجراءات تقويم المخزون السلعي في نهاية الفتره على:</a:t>
            </a:r>
            <a:endParaRPr b="0" lang="en-US" sz="2800" spc="-1" strike="noStrike">
              <a:solidFill>
                <a:srgbClr val="000000"/>
              </a:solidFill>
              <a:latin typeface="Arial"/>
            </a:endParaRPr>
          </a:p>
        </p:txBody>
      </p:sp>
      <p:sp>
        <p:nvSpPr>
          <p:cNvPr id="641" name="مستطيل 3"/>
          <p:cNvSpPr/>
          <p:nvPr/>
        </p:nvSpPr>
        <p:spPr>
          <a:xfrm>
            <a:off x="6643800" y="4786200"/>
            <a:ext cx="221436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حتويات المخزون السلعي</a:t>
            </a:r>
            <a:endParaRPr b="0" lang="en-US" sz="2800" spc="-1" strike="noStrike">
              <a:solidFill>
                <a:srgbClr val="000000"/>
              </a:solidFill>
              <a:latin typeface="Arial"/>
            </a:endParaRPr>
          </a:p>
        </p:txBody>
      </p:sp>
      <p:sp>
        <p:nvSpPr>
          <p:cNvPr id="642" name="مستطيل 4"/>
          <p:cNvSpPr/>
          <p:nvPr/>
        </p:nvSpPr>
        <p:spPr>
          <a:xfrm>
            <a:off x="2928960" y="4857840"/>
            <a:ext cx="35002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حديد عناصر تكلفة المخزون السلعي</a:t>
            </a:r>
            <a:endParaRPr b="0" lang="en-US" sz="2400" spc="-1" strike="noStrike">
              <a:solidFill>
                <a:srgbClr val="000000"/>
              </a:solidFill>
              <a:latin typeface="Arial"/>
            </a:endParaRPr>
          </a:p>
        </p:txBody>
      </p:sp>
      <p:sp>
        <p:nvSpPr>
          <p:cNvPr id="643" name="مستطيل 5"/>
          <p:cNvSpPr/>
          <p:nvPr/>
        </p:nvSpPr>
        <p:spPr>
          <a:xfrm>
            <a:off x="-285840" y="4857840"/>
            <a:ext cx="38023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a:t>
            </a:r>
            <a:r>
              <a:rPr b="1" lang="ar-SA" sz="2400" spc="-1" strike="noStrike">
                <a:solidFill>
                  <a:srgbClr val="000000"/>
                </a:solidFill>
                <a:latin typeface="Times New Roman"/>
                <a:cs typeface="Times New Roman"/>
              </a:rPr>
              <a:t>اختيار افتراضات تدفق تكلفة المخزون السلعي</a:t>
            </a:r>
            <a:endParaRPr b="0" lang="en-US" sz="2400" spc="-1" strike="noStrike">
              <a:solidFill>
                <a:srgbClr val="000000"/>
              </a:solidFill>
              <a:latin typeface="Arial"/>
            </a:endParaRPr>
          </a:p>
        </p:txBody>
      </p:sp>
      <p:cxnSp>
        <p:nvCxnSpPr>
          <p:cNvPr id="644" name="رابط كسهم مستقيم 6"/>
          <p:cNvCxnSpPr/>
          <p:nvPr/>
        </p:nvCxnSpPr>
        <p:spPr>
          <a:xfrm flipH="1">
            <a:off x="7856280" y="3928680"/>
            <a:ext cx="2160" cy="857880"/>
          </a:xfrm>
          <a:prstGeom prst="straightConnector1">
            <a:avLst/>
          </a:prstGeom>
          <a:ln w="57240">
            <a:solidFill>
              <a:srgbClr val="ff0000"/>
            </a:solidFill>
            <a:miter/>
            <a:tailEnd len="med" type="arrow" w="med"/>
          </a:ln>
        </p:spPr>
      </p:cxnSp>
      <p:cxnSp>
        <p:nvCxnSpPr>
          <p:cNvPr id="645" name="رابط كسهم مستقيم 7"/>
          <p:cNvCxnSpPr/>
          <p:nvPr/>
        </p:nvCxnSpPr>
        <p:spPr>
          <a:xfrm flipH="1">
            <a:off x="1283400" y="3928680"/>
            <a:ext cx="2520" cy="857880"/>
          </a:xfrm>
          <a:prstGeom prst="straightConnector1">
            <a:avLst/>
          </a:prstGeom>
          <a:ln w="57240">
            <a:solidFill>
              <a:srgbClr val="ff0000"/>
            </a:solidFill>
            <a:miter/>
            <a:tailEnd len="med" type="arrow" w="med"/>
          </a:ln>
        </p:spPr>
      </p:cxnSp>
      <p:sp>
        <p:nvSpPr>
          <p:cNvPr id="646" name="رابط مستقيم 8"/>
          <p:cNvSpPr/>
          <p:nvPr/>
        </p:nvSpPr>
        <p:spPr>
          <a:xfrm>
            <a:off x="1284120" y="3929040"/>
            <a:ext cx="657396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7" name="رابط كسهم مستقيم 9"/>
          <p:cNvCxnSpPr/>
          <p:nvPr/>
        </p:nvCxnSpPr>
        <p:spPr>
          <a:xfrm flipH="1">
            <a:off x="4714560" y="3928680"/>
            <a:ext cx="2160" cy="857880"/>
          </a:xfrm>
          <a:prstGeom prst="straightConnector1">
            <a:avLst/>
          </a:prstGeom>
          <a:ln w="5724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9" name="مستطيل 2"/>
          <p:cNvSpPr/>
          <p:nvPr/>
        </p:nvSpPr>
        <p:spPr>
          <a:xfrm>
            <a:off x="0" y="0"/>
            <a:ext cx="9144000" cy="6858000"/>
          </a:xfrm>
          <a:prstGeom prst="rect">
            <a:avLst/>
          </a:prstGeom>
          <a:solidFill>
            <a:srgbClr val="ffffff"/>
          </a:solidFill>
          <a:ln w="11520">
            <a:solidFill>
              <a:srgbClr val="000000"/>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0" name="Content Placeholder 9" descr=""/>
          <p:cNvPicPr/>
          <p:nvPr/>
        </p:nvPicPr>
        <p:blipFill>
          <a:blip r:embed="rId1"/>
          <a:stretch/>
        </p:blipFill>
        <p:spPr>
          <a:xfrm>
            <a:off x="-426960" y="334800"/>
            <a:ext cx="9570960" cy="6523200"/>
          </a:xfrm>
          <a:prstGeom prst="rect">
            <a:avLst/>
          </a:prstGeom>
          <a:ln w="0">
            <a:noFill/>
          </a:ln>
        </p:spPr>
      </p:pic>
      <p:sp>
        <p:nvSpPr>
          <p:cNvPr id="651" name="Rectangle 1"/>
          <p:cNvSpPr/>
          <p:nvPr/>
        </p:nvSpPr>
        <p:spPr>
          <a:xfrm>
            <a:off x="3929040" y="869760"/>
            <a:ext cx="4365720" cy="3751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d163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d16349"/>
                </a:solidFill>
                <a:latin typeface="Times New Roman"/>
                <a:cs typeface="Times New Roman"/>
              </a:rPr>
              <a:t>أولا : محتويات </a:t>
            </a:r>
            <a:endParaRPr b="0" lang="en-US" sz="6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d16349"/>
                </a:solidFill>
                <a:latin typeface="Times New Roman"/>
                <a:cs typeface="Times New Roman"/>
              </a:rPr>
              <a:t>المخزون السلعي</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2" name="Diagram 5" descr=""/>
          <p:cNvPicPr/>
          <p:nvPr/>
        </p:nvPicPr>
        <p:blipFill>
          <a:blip r:embed="rId1"/>
          <a:stretch/>
        </p:blipFill>
        <p:spPr>
          <a:xfrm>
            <a:off x="12600" y="285840"/>
            <a:ext cx="8759880" cy="657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15:36:15Z</dcterms:created>
  <dc:creator>hi</dc:creator>
  <dc:description/>
  <dc:language>en-US</dc:language>
  <cp:lastModifiedBy>نوني</cp:lastModifiedBy>
  <dcterms:modified xsi:type="dcterms:W3CDTF">2015-11-16T14:21:38Z</dcterms:modified>
  <cp:revision>14</cp:revision>
  <dc:subject/>
  <dc:title>الشريحة 1</dc:title>
</cp:coreProperties>
</file>