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DB125-1454-452F-83F9-C6C7E5AF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73E0-BF22-4BEA-8C16-EEBFD7DF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511D8-B25C-4F31-BE16-22003987B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09805-BC9B-43F5-8744-250C5A17C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6A9CC-26D0-4D73-87F6-089BE2631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ABC37-3E32-408A-B17F-9E13DE38C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F39D4-8AE4-4BBF-8086-1F7B78C26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35527-308E-43F1-9ED3-075F90F3D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D4568-2ED9-4857-B41D-CE1758431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5A46-F64A-45E9-8F3A-5F9AD33C5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EE170-E63A-4842-BFCE-6F381D39C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5107-F17E-42C0-8456-4F3166A31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2C01-1913-4F16-A3B2-981B4D787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0F985-D8B8-463D-8424-CEE0465FF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0DD17-540E-4AA4-84DB-A8FFA007C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5EA3C-9415-4AF0-81B5-1BB79C72C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FF7F8-151C-4013-BAEB-CA2C82C82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ED01-1D39-4006-93DD-31F35A0C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D5C7F-1C3F-4644-B4FA-1F98DEEC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3DD28-FFB4-4947-B7DA-FA364CE2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48B9-4118-4C06-A301-E1E791EF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0CD6-E842-4C04-B709-6CBDC25E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A358-0662-4D99-B80E-9FA5811B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4156-6847-437B-9B79-D7A938899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688C-C7D6-4DE4-A764-964254CBB641}"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46D2-85FB-4291-ABB4-D06AE6F825EB}"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9280" y="1464840"/>
            <a:ext cx="87138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الفصل السابع : المخزون السلعي  (البض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عتبر أحد عناصر الأصول المتداولة ويعتبر أكبر الأصول المتداولة في بعض المنشئات التجارية لأنه أساس عمل المنشأة فمن خلال المتاجرة في المخزون السلعي نستطيع تحقيق الأرباح</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عريف المخزون السلعي في المنشئات التجار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و كل ماتملكه المنشأة من بضائع مشتراة بغرض إعادة بيعها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34720"/>
            <a:ext cx="914400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قييم المخزون السلع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قيم المخزون السلعي  آخر المدة بالتكلفة أوالسوق أيهما أقل إستنادا لمبدأ الحيطة والحذر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ولتقييم المخزون لابد من إتباع الخطوات التال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نحدد تكلفة المخزون السلعي أخر المدة حسب إحدى الطرق الأربع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نعرف القيمة السوقية لوحدات المخزون أخر المد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3</a:t>
            </a:r>
            <a:r>
              <a:rPr b="0" lang="ar-SA" sz="2800" spc="-1" strike="noStrike">
                <a:solidFill>
                  <a:srgbClr val="006699"/>
                </a:solidFill>
                <a:latin typeface="Arial"/>
              </a:rPr>
              <a:t>/ نقارن بين تكلفة المخزون والقيمة السوقية ونأخذ الأقل بينهما لتظهر في القوائم المال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281960"/>
            <a:ext cx="9144000" cy="429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ايشمله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كل ماتملكة المنشأة في المخازن أو معارض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البضائع التي تقوم بشرائها المنشأ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المنشأة تتحمل مصاريف النقل أو الشحن  تعتبر البضائع التي بالطريق ملكها ولابد من إظهارها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 كان البائع هو من يتحمل مصاريف النقل أوالشحن فلا تعتبر البضائع التي بالطريق ملك للمنشأة حتى تدخل مخازنها</a:t>
            </a:r>
            <a:r>
              <a:rPr b="0" lang="ar-SA" sz="2400" spc="-1" strike="noStrike">
                <a:solidFill>
                  <a:srgbClr val="006699"/>
                </a:solidFill>
                <a:latin typeface="Arial"/>
              </a:rPr>
              <a:t> .</a:t>
            </a:r>
            <a:endParaRPr b="0" lang="en-US" sz="24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677960"/>
            <a:ext cx="91440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البضائع التي تقوم المنشأة ببيع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هي من تتحمل مصاريف النقل والشحن فتعتبر البضائع التي بالطريق مازالت ملك لها حتى تصل مستودعات المشتري ولابد أن تظهر ضمن مخزونها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كان المشتري يتحمل مصاريف النقل والشحن فتعتبر البضائع التي بالطريق ملك له ولاتظهر ضمن المخزون السلعي للمنشأة .</a:t>
            </a:r>
            <a:endParaRPr b="0" lang="en-US" sz="28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2104560"/>
            <a:ext cx="889308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بضاعة الأمانة يقصد بها البضائع الموجودة لدى الغير من أجل بيعها مقابل الحصول على عمولة فتكون ملك للمنشأة المرسلة للبضاعه ولاتدخل ضمن المخزون السلعي للمنشأة التي أخذت البضاعة على سبيل الأمان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5</a:t>
            </a:r>
            <a:r>
              <a:rPr b="0" lang="ar-SA" sz="2800" spc="-1" strike="noStrike">
                <a:solidFill>
                  <a:srgbClr val="006699"/>
                </a:solidFill>
                <a:latin typeface="Arial"/>
              </a:rPr>
              <a:t>-مردودات المبيعات تعتبر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6</a:t>
            </a:r>
            <a:r>
              <a:rPr b="0" lang="ar-SA" sz="2800" spc="-1" strike="noStrike">
                <a:solidFill>
                  <a:srgbClr val="006699"/>
                </a:solidFill>
                <a:latin typeface="Arial"/>
              </a:rPr>
              <a:t>-أي بضاعة مشتراة وتعرضت للتلف مادامت قابلة للبيع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97440"/>
            <a:ext cx="90486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كمي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أشهر الطرق لتحديد كمية المخزون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دوري (الحصر العددي لوحدات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مستمر (ملغا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تكلف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تم تحديدها على أساس الطريقة التي تم صرف الكميات المباعة من المخازن وطريقة الصرف قد تأخذ احد الأشكال التا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ريقة الوارد أولا صادر أولا (</a:t>
            </a:r>
            <a:r>
              <a:rPr b="0" lang="en-US" sz="2800" spc="-1" strike="noStrike">
                <a:solidFill>
                  <a:srgbClr val="006699"/>
                </a:solidFill>
                <a:latin typeface="Arial"/>
              </a:rPr>
              <a:t>fifo</a:t>
            </a:r>
            <a:r>
              <a:rPr b="0" lang="en-US" sz="2800" spc="-1" strike="noStrike">
                <a:solidFill>
                  <a:srgbClr val="006699"/>
                </a:solidFill>
                <a:latin typeface="Arial"/>
              </a:rPr>
              <a:t> </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طريقة الوارد أخيرا صادر أولا (</a:t>
            </a:r>
            <a:r>
              <a:rPr b="0" lang="en-US" sz="2800" spc="-1" strike="noStrike">
                <a:solidFill>
                  <a:srgbClr val="006699"/>
                </a:solidFill>
                <a:latin typeface="Arial"/>
              </a:rPr>
              <a:t>lifo</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50920" y="1036440"/>
            <a:ext cx="87138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1</a:t>
            </a:r>
            <a:r>
              <a:rPr b="1"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ستخدم إذا كان عدد وحدات المخزون السلعي محدودة نسبيا ومن وحدات غالية الثمن فترتبط كل وحدة من وحدات المخزون بتكلفتها ثم تجمع تكلفة الوحدات لتحديد تكلفة المخزون أخر المد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2</a:t>
            </a:r>
            <a:r>
              <a:rPr b="1" lang="ar-SA" sz="2800" spc="-1" strike="noStrike">
                <a:solidFill>
                  <a:srgbClr val="006699"/>
                </a:solidFill>
                <a:latin typeface="Arial"/>
              </a:rPr>
              <a:t>-طريقة الوارد أولا صادر أولا (</a:t>
            </a:r>
            <a:r>
              <a:rPr b="1" lang="en-US" sz="2800" spc="-1" strike="noStrike">
                <a:solidFill>
                  <a:srgbClr val="006699"/>
                </a:solidFill>
                <a:latin typeface="Arial"/>
              </a:rPr>
              <a:t>f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صرف البضائع من المخازن يتم أولا بأول بمعنى يتم تصريف رصيد المخزون السلعي أول المدة أولا ثم ماتم شراءة أولا يصرف أولا وهكذا فيصبح مخزون أخر المدة الكميات المشتراة أخيرا .</a:t>
            </a:r>
            <a:endParaRPr b="0" lang="en-US" sz="2800" spc="-1" strike="noStrike">
              <a:solidFill>
                <a:srgbClr val="006699"/>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03644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a:t>
            </a:r>
            <a:r>
              <a:rPr b="1" lang="ar-SA" sz="2800" spc="-1" strike="noStrike">
                <a:solidFill>
                  <a:srgbClr val="006699"/>
                </a:solidFill>
                <a:latin typeface="Arial"/>
              </a:rPr>
              <a:t>طريقة الوارد أخيرا صادر أولا (</a:t>
            </a:r>
            <a:r>
              <a:rPr b="1" lang="en-US" sz="2800" spc="-1" strike="noStrike">
                <a:solidFill>
                  <a:srgbClr val="006699"/>
                </a:solidFill>
                <a:latin typeface="Arial"/>
              </a:rPr>
              <a:t>l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ي عكس طريقة الوارد أولا صادر أولا تقوم على فرض أن الصرف من المستودعات للبيع أو الإنتاج مما يتم شراءة أخيرا بينما يكون مخزون أخر المدة من رصيد مخزون أول المدة ومما تم شراءة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1"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الصرف من المخازن للبيع أوالإنتاج غير مقيد بتسلسل معين وتحدد تكلفة البضاعة المباعة وتكلفة المخزون السلعي أخر المدة على أساس متوسط تكلفة الوحدة من البضاعة المتوفرة للبيع خلال السن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8432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زايا وعيوب كل طريقة من الطرق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مزايا طريقة الوارد أول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تفق مع التتابع المنطقي للأمور.</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تكلفة المخزون آخر المدة يعكس الأسعار السائدة في السوق.</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لاتربط بين تكلفة المبيعات وبين الأسعار السائدة في السوق وقت البيع.</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مزايا طريقة الوارد أخير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تظهر تكلفة المبيعات بسعر يقترب من السعر السوق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يظهر مخزون آخر المدة بتكلفة تختلف عن الأسعار السائدة في السوق بشكل ملحوظ خاصة إذا كان هناك تضخم ظاهر في الأسعار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0920" y="1250640"/>
            <a:ext cx="864216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مزايا 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ذيب الفرق الملحوظ بين أسعار وحدات المخزون آخر المدة وأسعار الوحدات التي ساهمت في تكلفة البضاعة المب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لاتتطلب جهد لإمساك سجلات المخزون السلعي وضبط حركة إنسياب البضائع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أن متوسط تكلفة الوحدة لايمثل الأسعار الحقيق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8:26:15Z</dcterms:created>
  <dc:creator>User</dc:creator>
  <dc:description/>
  <dc:language>en-US</dc:language>
  <cp:lastModifiedBy>User</cp:lastModifiedBy>
  <dcterms:modified xsi:type="dcterms:W3CDTF">2009-12-18T08:27:41Z</dcterms:modified>
  <cp:revision>1</cp:revision>
  <dc:subject/>
  <dc:title>Slide 1</dc:title>
</cp:coreProperties>
</file>