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B6ABC-E1AA-443C-89B6-C4F3747D5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592EF-2256-43CF-A30C-D61F21239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C6A71-CB16-44A6-9140-F1EB93B75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3ACF0-15A2-41FA-B1AD-BE0454795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20D0F-F3A9-4F26-884F-79875476B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9305A-CF48-417C-8A8C-EB63BB763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294C1-8B3A-4BA3-BD21-EE3FEEDED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E3E96-EDC5-4E3B-A836-0AE05F340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6E174-5DDC-48AF-80EE-6923DABCF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37AD9-6EE8-40E2-A831-EB5E476BD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DD3F6-5DC0-4294-BD31-7A10C28DE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F764E-818F-4AD8-B90B-EAE99C2FF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9D25C-B089-4C35-AAF2-DAD4AB707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F9747-0ACB-41D9-AF7E-346AC1E73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44FE5-73AF-4DE5-96CF-882812930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930B5-64BA-4DDD-A19D-CB778F740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561A1-58A2-4B28-8CFB-3F85755FE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8FA08-4F52-476C-BD58-464AF0EE7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47998-F137-4BE7-971D-AF6B3C9EE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B1303-F327-4D2C-A55A-33A7249A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F29E2-615A-47D9-8917-E137C2595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5C87-505C-48A8-8D12-A0ABE9A7D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BCBB5-CBB0-433A-98C5-86EE6555A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35F8-502B-4F3C-BD30-607EB2D50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1B66-A079-4FD9-A7DE-C675A2D137A7}" type="slidenum">
              <a:rPr b="0" lang="ar-SA"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4D98-44FF-4C86-92AD-75172F5D534F}" type="slidenum">
              <a:rPr b="0" lang="ar-SA"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79280" y="1464840"/>
            <a:ext cx="8713800" cy="3933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الفصل السابع : المخزون السلعي  (البضاع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عتبر أحد عناصر الأصول المتداولة ويعتبر أكبر الأصول المتداولة في بعض المنشئات التجارية لأنه أساس عمل المنشأة فمن خلال المتاجرة في المخزون السلعي نستطيع تحقيق الأرباح</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عريف المخزون السلعي في المنشئات التجاري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هو كل ماتملكه المنشأة من بضائع مشتراة بغرض إعادة بيعها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1134720"/>
            <a:ext cx="914400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قييم المخزون السلعي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قيم المخزون السلعي  آخر المدة بالتكلفة أوالسوق أيهما أقل إستنادا لمبدأ الحيطة والحذر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ولتقييم المخزون لابد من إتباع الخطوات التالي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نحدد تكلفة المخزون السلعي أخر المدة حسب إحدى الطرق الأربع السابق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 نعرف القيمة السوقية لوحدات المخزون أخر المد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3</a:t>
            </a:r>
            <a:r>
              <a:rPr b="0" lang="ar-SA" sz="2800" spc="-1" strike="noStrike">
                <a:solidFill>
                  <a:srgbClr val="006699"/>
                </a:solidFill>
                <a:latin typeface="Arial"/>
              </a:rPr>
              <a:t>/ نقارن بين تكلفة المخزون والقيمة السوقية ونأخذ الأقل بينهما لتظهر في القوائم المالية .</a:t>
            </a:r>
            <a:endParaRPr b="0" lang="en-US" sz="2800" spc="-1" strike="noStrike">
              <a:solidFill>
                <a:srgbClr val="00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1281960"/>
            <a:ext cx="9144000" cy="429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مايشمله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كل ماتملكة المنشأة في المخازن أو معارضها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البضائع التي تقوم بشرائها المنشأ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أ/ إذا كانت المنشأة تتحمل مصاريف النقل أو الشحن  تعتبر البضائع التي بالطريق ملكها ولابد من إظهارها ضمن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ب/ إذا كان البائع هو من يتحمل مصاريف النقل أوالشحن فلا تعتبر البضائع التي بالطريق ملك للمنشأة حتى تدخل مخازنها</a:t>
            </a:r>
            <a:r>
              <a:rPr b="0" lang="ar-SA" sz="2400" spc="-1" strike="noStrike">
                <a:solidFill>
                  <a:srgbClr val="006699"/>
                </a:solidFill>
                <a:latin typeface="Arial"/>
              </a:rPr>
              <a:t> .</a:t>
            </a:r>
            <a:endParaRPr b="0" lang="en-US" sz="2400" spc="-1" strike="noStrike">
              <a:solidFill>
                <a:srgbClr val="00669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1677960"/>
            <a:ext cx="9144000" cy="3506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البضائع التي تقوم المنشأة ببيعها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أ/ إذا كانت هي من تتحمل مصاريف النقل والشحن فتعتبر البضائع التي بالطريق مازالت ملك لها حتى تصل مستودعات المشتري ولابد أن تظهر ضمن مخزونها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ب/ إذاكان المشتري يتحمل مصاريف النقل والشحن فتعتبر البضائع التي بالطريق ملك له ولاتظهر ضمن المخزون السلعي للمنشأة .</a:t>
            </a:r>
            <a:endParaRPr b="0" lang="en-US" sz="2800" spc="-1" strike="noStrike">
              <a:solidFill>
                <a:srgbClr val="006699"/>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2104560"/>
            <a:ext cx="889308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0" lang="ar-SA" sz="2800" spc="-1" strike="noStrike">
                <a:solidFill>
                  <a:srgbClr val="006699"/>
                </a:solidFill>
                <a:latin typeface="Arial"/>
              </a:rPr>
              <a:t>-بضاعة الأمانة يقصد بها البضائع الموجودة لدى الغير من أجل بيعها مقابل الحصول على عمولة فتكون ملك للمنشأة المرسلة للبضاعه ولاتدخل ضمن المخزون السلعي للمنشأة التي أخذت البضاعة على سبيل الأمان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5</a:t>
            </a:r>
            <a:r>
              <a:rPr b="0" lang="ar-SA" sz="2800" spc="-1" strike="noStrike">
                <a:solidFill>
                  <a:srgbClr val="006699"/>
                </a:solidFill>
                <a:latin typeface="Arial"/>
              </a:rPr>
              <a:t>-مردودات المبيعات تعتبر ضمن المخزون السلعي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6</a:t>
            </a:r>
            <a:r>
              <a:rPr b="0" lang="ar-SA" sz="2800" spc="-1" strike="noStrike">
                <a:solidFill>
                  <a:srgbClr val="006699"/>
                </a:solidFill>
                <a:latin typeface="Arial"/>
              </a:rPr>
              <a:t>-أي بضاعة مشتراة وتعرضت للتلف مادامت قابلة للبيع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397440"/>
            <a:ext cx="9048600" cy="6066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حديد كمية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أشهر الطرق لتحديد كمية المخزون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طريقة الجرد الدوري (الحصر العددي لوحدات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طريقة الجرد المستمر (ملغا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تحديد تكلفة المخزون السلعي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يتم تحديدها على أساس الطريقة التي تم صرف الكميات المباعة من المخازن وطريقة الصرف قد تأخذ احد الأشكال التالي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طريقة التكلفة الفعلية </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ريقة الوارد أولا صادر أولا (</a:t>
            </a:r>
            <a:r>
              <a:rPr b="0" lang="en-US" sz="2800" spc="-1" strike="noStrike">
                <a:solidFill>
                  <a:srgbClr val="006699"/>
                </a:solidFill>
                <a:latin typeface="Arial"/>
              </a:rPr>
              <a:t>fifo</a:t>
            </a:r>
            <a:r>
              <a:rPr b="0" lang="en-US" sz="2800" spc="-1" strike="noStrike">
                <a:solidFill>
                  <a:srgbClr val="006699"/>
                </a:solidFill>
                <a:latin typeface="Arial"/>
              </a:rPr>
              <a:t> </a:t>
            </a:r>
            <a:r>
              <a:rPr b="0"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طريقة الوارد أخيرا صادر أولا (</a:t>
            </a:r>
            <a:r>
              <a:rPr b="0" lang="en-US" sz="2800" spc="-1" strike="noStrike">
                <a:solidFill>
                  <a:srgbClr val="006699"/>
                </a:solidFill>
                <a:latin typeface="Arial"/>
              </a:rPr>
              <a:t>lifo</a:t>
            </a:r>
            <a:r>
              <a:rPr b="0"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0" lang="ar-SA" sz="2800" spc="-1" strike="noStrike">
                <a:solidFill>
                  <a:srgbClr val="006699"/>
                </a:solidFill>
                <a:latin typeface="Arial"/>
              </a:rPr>
              <a:t>-طريقة المتوسط المرجح </a:t>
            </a:r>
            <a:endParaRPr b="0" lang="en-US" sz="2800" spc="-1" strike="noStrike">
              <a:solidFill>
                <a:srgbClr val="006699"/>
              </a:solidFill>
              <a:latin typeface="Arial"/>
            </a:endParaRPr>
          </a:p>
          <a:p>
            <a:pPr algn="r">
              <a:tabLst>
                <a:tab algn="l" pos="0"/>
                <a:tab algn="l" pos="1197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50920" y="1036440"/>
            <a:ext cx="87138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1</a:t>
            </a:r>
            <a:r>
              <a:rPr b="1" lang="ar-SA" sz="2800" spc="-1" strike="noStrike">
                <a:solidFill>
                  <a:srgbClr val="006699"/>
                </a:solidFill>
                <a:latin typeface="Arial"/>
              </a:rPr>
              <a:t>-طريقة التكلفة الفعلي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ستخدم إذا كان عدد وحدات المخزون السلعي محدودة نسبيا ومن وحدات غالية الثمن فترتبط كل وحدة من وحدات المخزون بتكلفتها ثم تجمع تكلفة الوحدات لتحديد تكلفة المخزون أخر المدة .</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2</a:t>
            </a:r>
            <a:r>
              <a:rPr b="1" lang="ar-SA" sz="2800" spc="-1" strike="noStrike">
                <a:solidFill>
                  <a:srgbClr val="006699"/>
                </a:solidFill>
                <a:latin typeface="Arial"/>
              </a:rPr>
              <a:t>-طريقة الوارد أولا صادر أولا (</a:t>
            </a:r>
            <a:r>
              <a:rPr b="1" lang="en-US" sz="2800" spc="-1" strike="noStrike">
                <a:solidFill>
                  <a:srgbClr val="006699"/>
                </a:solidFill>
                <a:latin typeface="Arial"/>
              </a:rPr>
              <a:t>fifo</a:t>
            </a:r>
            <a:r>
              <a:rPr b="1"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قوم على فرض أن صرف البضائع من المخازن يتم أولا بأول بمعنى يتم تصريف رصيد المخزون السلعي أول المدة أولا ثم ماتم شراءة أولا يصرف أولا وهكذا فيصبح مخزون أخر المدة الكميات المشتراة أخيرا .</a:t>
            </a:r>
            <a:endParaRPr b="0" lang="en-US" sz="2800" spc="-1" strike="noStrike">
              <a:solidFill>
                <a:srgbClr val="006699"/>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036440"/>
            <a:ext cx="91440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a:t>
            </a:r>
            <a:r>
              <a:rPr b="1" lang="ar-SA" sz="2800" spc="-1" strike="noStrike">
                <a:solidFill>
                  <a:srgbClr val="006699"/>
                </a:solidFill>
                <a:latin typeface="Arial"/>
              </a:rPr>
              <a:t>طريقة الوارد أخيرا صادر أولا (</a:t>
            </a:r>
            <a:r>
              <a:rPr b="1" lang="en-US" sz="2800" spc="-1" strike="noStrike">
                <a:solidFill>
                  <a:srgbClr val="006699"/>
                </a:solidFill>
                <a:latin typeface="Arial"/>
              </a:rPr>
              <a:t>lifo</a:t>
            </a:r>
            <a:r>
              <a:rPr b="1" lang="ar-SA" sz="2800" spc="-1" strike="noStrike">
                <a:solidFill>
                  <a:srgbClr val="006699"/>
                </a:solidFill>
                <a:latin typeface="Arial"/>
              </a:rPr>
              <a:t>)</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هي عكس طريقة الوارد أولا صادر أولا تقوم على فرض أن الصرف من المستودعات للبيع أو الإنتاج مما يتم شراءة أخيرا بينما يكون مخزون أخر المدة من رصيد مخزون أول المدة ومما تم شراءة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4</a:t>
            </a:r>
            <a:r>
              <a:rPr b="1" lang="ar-SA" sz="2800" spc="-1" strike="noStrike">
                <a:solidFill>
                  <a:srgbClr val="006699"/>
                </a:solidFill>
                <a:latin typeface="Arial"/>
              </a:rPr>
              <a:t>-طريقة المتوسط المرجح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تقوم على فرض أن الصرف من المخازن للبيع أوالإنتاج غير مقيد بتسلسل معين وتحدد تكلفة البضاعة المباعة وتكلفة المخزون السلعي أخر المدة على أساس متوسط تكلفة الوحدة من البضاعة المتوفرة للبيع خلال السن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18432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99"/>
                </a:solidFill>
                <a:latin typeface="Arial"/>
              </a:rPr>
              <a:t>مزايا وعيوب كل طريقة من الطرق السابق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1</a:t>
            </a:r>
            <a:r>
              <a:rPr b="0" lang="ar-SA" sz="2800" spc="-1" strike="noStrike">
                <a:solidFill>
                  <a:srgbClr val="006699"/>
                </a:solidFill>
                <a:latin typeface="Arial"/>
              </a:rPr>
              <a:t>-مزايا طريقة الوارد أولا صادر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تتفق مع التتابع المنطقي للأمور.</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تكلفة المخزون آخر المدة يعكس الأسعار السائدة في السوق.</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لاتربط بين تكلفة المبيعات وبين الأسعار السائدة في السوق وقت البيع.</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2</a:t>
            </a:r>
            <a:r>
              <a:rPr b="0" lang="ar-SA" sz="2800" spc="-1" strike="noStrike">
                <a:solidFill>
                  <a:srgbClr val="006699"/>
                </a:solidFill>
                <a:latin typeface="Arial"/>
              </a:rPr>
              <a:t>-مزايا طريقة الوارد أخيرا صادر أول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تظهر تكلفة المبيعات بسعر يقترب من السعر السوقي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يظهر مخزون آخر المدة بتكلفة تختلف عن الأسعار السائدة في السوق بشكل ملحوظ خاصة إذا كان هناك تضخم ظاهر في الأسعار .</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50920" y="1250640"/>
            <a:ext cx="864216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3</a:t>
            </a:r>
            <a:r>
              <a:rPr b="0" lang="ar-SA" sz="2800" spc="-1" strike="noStrike">
                <a:solidFill>
                  <a:srgbClr val="006699"/>
                </a:solidFill>
                <a:latin typeface="Arial"/>
              </a:rPr>
              <a:t>-مزايا طريقة المتوسط المرجح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تذيب الفرق الملحوظ بين أسعار وحدات المخزون آخر المدة وأسعار الوحدات التي ساهمت في تكلفة البضاعة المباعة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2</a:t>
            </a:r>
            <a:r>
              <a:rPr b="0" lang="ar-SA" sz="2800" spc="-1" strike="noStrike">
                <a:solidFill>
                  <a:srgbClr val="006699"/>
                </a:solidFill>
                <a:latin typeface="Arial"/>
              </a:rPr>
              <a:t>/ لاتتطلب جهد لإمساك سجلات المخزون السلعي وضبط حركة إنسياب البضائع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عيوبها :</a:t>
            </a:r>
            <a:endParaRPr b="0" lang="en-US" sz="2800" spc="-1" strike="noStrike">
              <a:solidFill>
                <a:srgbClr val="00669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99"/>
                </a:solidFill>
                <a:latin typeface="Arial"/>
              </a:rPr>
              <a:t>           </a:t>
            </a:r>
            <a:r>
              <a:rPr b="0" lang="ar-SA" sz="2800" spc="-1" strike="noStrike">
                <a:solidFill>
                  <a:srgbClr val="006699"/>
                </a:solidFill>
                <a:latin typeface="Arial"/>
              </a:rPr>
              <a:t>1</a:t>
            </a:r>
            <a:r>
              <a:rPr b="0" lang="ar-SA" sz="2800" spc="-1" strike="noStrike">
                <a:solidFill>
                  <a:srgbClr val="006699"/>
                </a:solidFill>
                <a:latin typeface="Arial"/>
              </a:rPr>
              <a:t>/ أن متوسط تكلفة الوحدة لايمثل الأسعار الحقيقية .</a:t>
            </a:r>
            <a:endParaRPr b="0" lang="en-US" sz="2800" spc="-1" strike="noStrike">
              <a:solidFill>
                <a:srgbClr val="00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08:26:15Z</dcterms:created>
  <dc:creator>User</dc:creator>
  <dc:description/>
  <dc:language>en-US</dc:language>
  <cp:lastModifiedBy>User</cp:lastModifiedBy>
  <dcterms:modified xsi:type="dcterms:W3CDTF">2009-12-18T08:27:41Z</dcterms:modified>
  <cp:revision>1</cp:revision>
  <dc:subject/>
  <dc:title>Slide 1</dc:title>
</cp:coreProperties>
</file>