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0854-8114-4812-A3DA-858BA851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8D51-A363-4D46-9DE6-22E2634A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C25F0-B58B-4F16-9F4D-AA132461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73576-B53D-4C70-9B68-F7F0BFEA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37DF3-8919-47AF-B72D-6D7EEB9C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2544E-D7B7-4696-AC82-58448358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2D0A2-39CA-44FF-84A4-4581EA9B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C6E27-A7F1-4738-A47F-2B75EEF6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25266-509C-4A5D-89F3-AB412376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5C702-0237-4951-8388-39F689A08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B6D77-132C-490B-95B5-FF7EF0E51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A2459-854C-429E-B996-E3C943D12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7619-FAED-4473-BC2C-DD6B80A02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978A4-1CC9-4B31-843A-086FC5F6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5C9DB-E55E-486B-8A67-AA49CDEA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A9EBA-0834-496B-9054-A9FFB9BE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3BD36-8407-4EE4-81E8-72B69468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DD617-9D48-4F09-92AF-57A70672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6D9C9-CA51-40B0-92C3-24B118A3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2AB8E-F4C7-4836-BAE2-C843D9E9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0DF4B-ABD8-41DB-9B62-F2F29C06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45A6C-5C3E-4BD5-9D43-81CE7EDB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7430B-1D3C-4667-ADD0-8EE62F92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BD44-DDA6-4066-9094-A2D3C8CF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E665C-549F-4693-8476-457735B8A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5D043-1519-41C2-B315-25EB7169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F85EB-58A5-428F-95CD-A06F4076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E1178-C6AD-4690-9D73-8F088433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DB3E8-BFA0-4E0C-B09E-9C8A3B98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D776B-CEC1-4C5C-A6C0-3A9D347F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C9C30-BA4A-4558-986B-44F47321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63ABE-F13A-48AF-BFD0-99758942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CB930-D6C9-4D6C-8A74-DB228198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4EA0C-1DE9-484C-9C44-D12F7C98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D26C-EF9C-45F8-AB04-6E6AD363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7A212-3B26-497F-81C6-5FD9DC6D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77810-88DD-407C-AA68-0F3A645CB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0D2C3-F325-4C26-BA9B-F25505A7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75BA6-25CC-4977-91E8-56F6AC84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07F64-B11D-4739-AD12-7ED67DA8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64BE8-6058-4133-B5DD-EE72D4F3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48FE0-90F1-4FCE-BDCD-1D927494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45D9C-74E1-4597-84E7-64FD7944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8E7E3-12D5-4118-B123-F68F283A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1E888-4AFC-429A-8E99-B6C17CBE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D3FF-BF7D-49CD-AD67-B57B01D4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42487-16D0-4C82-B806-C52EF61E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11B7C8-836C-4DBC-A1FD-F3BEED09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D647FE-0A88-4164-9ED5-947206EB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0D5EF-1618-42D8-A82B-F7672D67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227D6-BF4F-42AC-8917-CE47B5593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10F7-C5DB-4EBC-B025-BD4FE6C4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4241-A502-458A-99CD-A86BC043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3D6D-7E97-4D04-ADB8-477CA1BD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7F56-8C1F-4238-9C2F-D0F7459F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11D7-CA82-4264-AAC2-F117A068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9F40-CA69-46BC-A9E4-BB9C5F02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36D0-57CC-4865-83E7-5C29C10B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B2A1-75C4-4712-AE9C-31743601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A523-D0FA-4FDC-9998-020866F0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A343-4270-4D72-A179-C496C67DF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5BD3-615A-431E-943C-60A9E3AB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48417-E6A9-43E7-B354-14467B0AC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A510D-797E-4E9F-B6F6-B1386D3B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EDC77-21CB-4DB8-81A2-C08D2609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EA9D0-03B6-4090-A429-628676D8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E36DC-49C8-46A2-AB99-81ABCD1B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C49A-244C-4317-8367-41665272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E4BAC-2774-4E9F-911D-23138F73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14A71-7B27-43D2-BA89-685E891B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346DB-4733-4BBD-A441-DAA44EA3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BAD25-AF30-454E-BBB9-580E9D95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FECD8-2B23-4A22-9D80-4DCBC3D6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FFD1F-4B80-4F53-8CBA-F6328B0D6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3F576-47C7-4E47-80C1-DA0D9C3F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B9E93-0BA9-4860-ACC5-6755CFEE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44A49-D9C8-474A-AF6B-5BBDF673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1D3AC-1F8E-4048-9BDE-33F2BECE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0E6E-21C0-43EE-8CD1-6C1F76FC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DF185-3E3E-4519-A98A-4E1395F8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81D0C-3532-4033-84D2-3958B7C5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B3E0B-F48B-4EEC-96AD-EB305DE0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4473E-A0AD-42C9-ADA2-3E6E9824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1EEC4-9DCE-47C7-896F-395DCEEB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D665C-2BDC-4879-8661-5E0C71B9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A163A-C9F1-493B-A884-12C048DC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B0596-542E-4D13-9F02-D6F7472F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CD7A0-DC88-478B-B8D0-1E64AD61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BA84E-D91E-43FF-9FBD-161F8B4B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B6C3-F454-48D2-8172-0465929C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9D143-2319-4BEB-884B-84C316CC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8E3A1-76C9-4BC4-AD76-C6FEA0AA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BA591-6217-4F68-A99F-D7E2D433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1FCAD-E5D2-48A4-8D59-DB0972C0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FA127-BF8D-4921-84BE-962FE5A2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33903-66A1-4773-8B0F-2DFE53A1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DBAD9-0A28-4F17-9FB0-CFE4C86A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FBC9C-76E3-478B-AE8B-F06C9C56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22649-33F4-480A-BADD-280587FC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9B537-39B7-4B85-8084-7CD04ABB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FD7B-1D18-43E7-AB63-51B105BB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1F0DB-50C8-4A11-AD4D-4865FFA51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065D9-3EA0-49F2-9C9D-A0BEF2EF0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59285-C395-4490-BCA0-609091E2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8095C-7805-43DF-ACCC-49752B13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0EE4A-A21A-40DE-89EB-CDF1A515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D12AF-2B97-4FB2-864E-04ACFADC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F6517-931E-446D-8833-E00394C3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D8D62-A97A-483F-BC63-DCF6AAD8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77A96-5AE3-4AEE-8491-10A0EBDE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034FD-4852-4614-A60B-573997FA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B315-6587-468D-910F-D1B4B0A6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DBCEF-0C86-41E5-916B-8012BB5E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1217B-DB5C-465F-89CB-5F5DF4CC9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CFFBB-E49D-46F1-8C0C-0AFE421B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464BB-A955-4EBA-8224-EB550D97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B2BE1-34A6-42F5-B4B2-43FA30B6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B5FE8-D2BA-417D-8093-3363D215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53C43-3430-4609-9A0F-A01165C3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08BFA-FFF2-4745-A837-F354E312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6EEC3-9ADD-4D7E-A894-18716699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E770B-97B5-4B6F-95E2-5A1C9194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7431-C558-4D3E-9B75-3FEE63B2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A4403-99B3-4A82-B311-74EA7C08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72EE9-9979-48E9-BE34-F8FABB92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A2109-B554-4A28-9C30-741AEF9A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A11EF-51F4-435E-B319-713533EC8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79B3C-2834-46E6-8220-24A0B8B56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3337D-85C6-40C4-AC39-966A2177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0766F-1A19-4224-88BA-85D325EC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EF648-DED5-4597-9CE8-ED960AEE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DEBFA-2C90-4BD1-B16C-16A1AFC4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CC1DE-E1C0-45CE-AF31-51082CF9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AD6C-E0EF-41E2-9FDB-6F2DA372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BE15F-6ADE-4DBE-BD0E-95F1BB6A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8B36D-A244-4F95-B906-D6587E74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37684-644C-4927-BB1D-1E0BD36F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BAA28-8E2E-465D-A259-ECF466BF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62599-C054-4840-9CBC-7A6BABA2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95AD2-2814-4D0B-B8A0-0F7593DC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158E0-25F1-4FF3-B716-D9D2D17B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3E399-C2BA-41CE-99BF-A80B706D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28515-5F67-43C7-8215-11599F1C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1C1AA-336D-4049-B9ED-4FAAE761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6CC7-7E84-483D-BBD6-23D97BC68D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36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8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39" name="شكل حر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شكل حر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مثلث قائم الزاوية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42" name="مثلث قائم الزاوية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رابط مستقيم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45" name="شارة رتبة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شارة رتبة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F3C1-4EB0-406C-9FC3-A4B4BED220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9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2618-11FA-4AFE-AAE4-8CF8EC808F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3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8C39-7BCA-4DFC-9BDE-36E96C5A36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مثلث قائم الزاوية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مجموعة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شكل حر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شكل حر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شكل حر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شكل حر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رابط مستقيم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7C79-BA8F-4007-B55F-FE18961352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99AF-A0C9-4BBD-A683-B8C07A63D6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5" name="شارة رتبة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شارة رتبة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5CA2-6F0D-4608-AC4C-057F020090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4AC6-6C22-478B-BBC5-480CF82804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4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374D-3D8A-451F-A2BB-3BECA75F0F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90BC-5FC0-46D4-9352-D85178B4F9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99C0-304B-4B88-AD05-D323922049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89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8FB1-1FB5-4AD1-9EFF-416A0C836C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4"/>
          <p:cNvSpPr/>
          <p:nvPr/>
        </p:nvSpPr>
        <p:spPr>
          <a:xfrm>
            <a:off x="2771640" y="1174680"/>
            <a:ext cx="54435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PT Bold Heading"/>
              </a:rPr>
              <a:t>مؤسسات تجارة الجمل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8"/>
          <p:cNvSpPr/>
          <p:nvPr/>
        </p:nvSpPr>
        <p:spPr>
          <a:xfrm>
            <a:off x="857160" y="500040"/>
            <a:ext cx="76438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ea typeface="PT Bold Heading"/>
              </a:rPr>
              <a:t> هي تلك الانشطة التي تقوم بها بعض المؤسسات والافراد بغرض البيع لتجارة التجزئة أو تجار جملة آخرين أو للمشتري الصناعي أو للمستهلك النهائ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8"/>
          <p:cNvSpPr/>
          <p:nvPr/>
        </p:nvSpPr>
        <p:spPr>
          <a:xfrm>
            <a:off x="684360" y="625320"/>
            <a:ext cx="77752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وجه الاختلاف بين مؤسسات تجار الجملة ومؤسسا تجار التجزئ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نوع الاسواق المتعامل ب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حجم الطلب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اسلوب العمل والتنظيم الادار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8"/>
          <p:cNvSpPr/>
          <p:nvPr/>
        </p:nvSpPr>
        <p:spPr>
          <a:xfrm>
            <a:off x="1285920" y="189000"/>
            <a:ext cx="6572160" cy="75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da1f28"/>
                </a:solidFill>
                <a:latin typeface="Arial"/>
                <a:cs typeface="PT Bold Heading"/>
              </a:rPr>
              <a:t>انواع مؤسسات متاجر الجمل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1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</a:t>
            </a:r>
            <a:r>
              <a:rPr b="1" lang="ar-SA" sz="4800" spc="-1" strike="noStrike">
                <a:solidFill>
                  <a:srgbClr val="002060"/>
                </a:solidFill>
                <a:latin typeface="Arial"/>
                <a:cs typeface="PT Bold Heading"/>
              </a:rPr>
              <a:t>تجار الجملة العاديو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2060"/>
                </a:solidFill>
                <a:latin typeface="Arial"/>
                <a:ea typeface="PT Bold Heading"/>
              </a:rPr>
              <a:t>2</a:t>
            </a:r>
            <a:r>
              <a:rPr b="1" lang="ar-SA" sz="4800" spc="-1" strike="noStrike">
                <a:solidFill>
                  <a:srgbClr val="002060"/>
                </a:solidFill>
                <a:latin typeface="Arial"/>
                <a:ea typeface="PT Bold Heading"/>
              </a:rPr>
              <a:t>- تجار الجملة المتكاملو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2060"/>
                </a:solidFill>
                <a:latin typeface="Arial"/>
                <a:ea typeface="PT Bold Heading"/>
              </a:rPr>
              <a:t>3</a:t>
            </a:r>
            <a:r>
              <a:rPr b="1" lang="ar-SA" sz="4800" spc="-1" strike="noStrike">
                <a:solidFill>
                  <a:srgbClr val="002060"/>
                </a:solidFill>
                <a:latin typeface="Arial"/>
                <a:ea typeface="PT Bold Heading"/>
              </a:rPr>
              <a:t>- تجار الجملة المتخصصو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AutoShape 8"/>
          <p:cNvSpPr/>
          <p:nvPr/>
        </p:nvSpPr>
        <p:spPr>
          <a:xfrm>
            <a:off x="1042920" y="1873080"/>
            <a:ext cx="7201080" cy="4770720"/>
          </a:xfrm>
          <a:prstGeom prst="flowChartDocumen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1596960" y="295200"/>
            <a:ext cx="609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وظائف مؤسسات الجملة لتجار التجزئ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900000" y="1357200"/>
            <a:ext cx="7458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ffffff"/>
                </a:solidFill>
                <a:latin typeface="Arial"/>
                <a:ea typeface="AL-Mohanad Bold"/>
              </a:rPr>
              <a:t>      </a:t>
            </a:r>
            <a:r>
              <a:rPr b="0" lang="ar-SA" sz="2800" spc="-1" strike="noStrike">
                <a:solidFill>
                  <a:srgbClr val="0d0d0d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611280" y="1495440"/>
            <a:ext cx="7993080" cy="514836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1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 الشر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2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البي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3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 الخز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4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النق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5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 الائتمان التجار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6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 تقليل المخاط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7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 تقديم المعلوم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8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 الرقابة على جودة المنتج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8"/>
          <p:cNvSpPr/>
          <p:nvPr/>
        </p:nvSpPr>
        <p:spPr>
          <a:xfrm>
            <a:off x="118728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وظائف مؤسسات الجملة للشرك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ounded Rectangle 2"/>
          <p:cNvSpPr/>
          <p:nvPr/>
        </p:nvSpPr>
        <p:spPr>
          <a:xfrm>
            <a:off x="934920" y="2349360"/>
            <a:ext cx="7272360" cy="302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بي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خز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نق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مساعدات المال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تقديم المعلوم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تحمل المخاط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ar-SA" sz="5400" spc="-1" strike="noStrike">
                <a:solidFill>
                  <a:srgbClr val="000000"/>
                </a:solidFill>
                <a:latin typeface="Lucida Sans Unicode"/>
              </a:rPr>
              <a:t>- فاعلية وتأثير مؤسسات الجملة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ar-SA" sz="5400" spc="-1" strike="noStrike">
                <a:solidFill>
                  <a:srgbClr val="000000"/>
                </a:solidFill>
                <a:latin typeface="Lucida Sans Unicode"/>
              </a:rPr>
              <a:t>- الربحية لمؤسسة الجملة 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Lucida Sans Unicode"/>
              </a:rPr>
              <a:t>ادارة مؤسسات تجار الجملة</a:t>
            </a:r>
            <a:endParaRPr b="1" lang="en-US" sz="48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8:58:44Z</dcterms:created>
  <dc:creator>dokhails</dc:creator>
  <dc:description/>
  <dc:language>en-US</dc:language>
  <cp:lastModifiedBy>User</cp:lastModifiedBy>
  <dcterms:modified xsi:type="dcterms:W3CDTF">2017-11-08T06:52:08Z</dcterms:modified>
  <cp:revision>909</cp:revision>
  <dc:subject/>
  <dc:title>الشريحة 1</dc:title>
</cp:coreProperties>
</file>