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0EE8-5170-4315-AAE7-D9F084691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B1E8-FFAB-4938-A5A3-AFCDC754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1D17F-C8AB-40E8-81E0-FF5BB20E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2B5E69-11B8-4C71-BC8D-945EB9FB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E711EE-2C41-4B35-9802-C115680A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0C5A34-5B60-430C-A889-8C1DD558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90971-DC0C-441D-9CE1-9028D18E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0B824E-83B8-457E-A5CB-6412B41A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DA1040-0277-4EE5-BF73-1AA32D94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6B87C-BE77-4209-9B36-248441F6F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848D7-BC56-47F7-B49A-B5FDF6714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C65D80-C2F0-4240-BE50-7CA7BC8FA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130C-CC4C-43F1-BD06-A365445E3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8D12D0-2DE2-4030-A4E8-77245523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2297EA-73B1-4414-AE59-F9018D62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C05330-6CFC-478B-A160-E9983583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65C487-B637-490F-A926-27E5D3C3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E2E8D6-03B8-4179-8395-7B759C00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18D526-545C-4419-92A9-8213F330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2C42CD-F8B4-4887-AA7E-A73B6BAA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CD8B32-4A21-4F10-ABFE-776BAC03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FCFC1E-15EF-43C2-B9BB-2F64B570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4CE869-8AE3-4C38-B42C-43FBA4BD6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0C11-29BF-4052-96BF-D95430CA7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E843FB-3B00-4E7B-BB47-2EDF14476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FA6AE6-0133-4B45-A77A-725E3B9AE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8F47F-D819-47C0-8963-09E88AFF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71B58-C553-4CB7-9C83-18CF1D19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EE69A-3EBC-41B7-87C3-4A87637D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D95F6-0C2B-4BA3-A6A4-E621719B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7C610-2F82-49A2-A904-1871DFB0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127F6-110A-4A28-919D-24F87B99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1A725-9DB8-48F6-9D50-7E89A862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896ED-99B8-434A-B49F-94DB84F1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0083-412E-4160-9031-4EEBFBF4E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3EF708-6FA7-4DC4-80DA-8A977923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734B39-6E11-4DB3-A64D-EFB68633D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E99AA-CC1F-4369-851F-136391F06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283E49-0D04-4D90-A054-3ABF6AB23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F9DFC5-A2E1-407B-9110-1CE07E96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C821F9-2A3E-4D3C-8617-BA582866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E0DA63-CFFD-4A0F-822A-BA6FAD70A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740EFC-DA56-4846-8B7A-FCB0D455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DF65E8-40A0-4258-9067-48198722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C45BD0-E521-4656-AE1D-66BA63B4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61D5-7498-47C0-A67D-9CEC9751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D5B697-8D74-401A-8941-71507386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6C782C-AEA7-481D-A90A-5B6D7293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26B397-E55F-431D-81C5-9885C23C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E75DE3-8E93-4095-8891-540220C14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C004E2-1108-449E-9CF4-2E7F1B654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D120-08F2-4877-87F0-F714B045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D871-9016-4AB4-8A4B-36AEFE03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8729-EF4E-42A0-B581-1CBD93BE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3EDB-A0A6-4FCE-A349-B537E312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8E3A8-16B9-499E-8C49-F3A48227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9DDD-B3CF-4E6B-8412-9715809C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027E-C099-40F7-8E14-6627FDE2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A1A6-065B-4D66-8847-8178D173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0918E-AED4-4AF6-8B91-92F514B96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9386-B001-40FD-A1CE-9103E2B1C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B9FD-E956-44C1-B8FD-9AE8F4079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5C4F1-7300-4195-ACD8-7CC9EE5DE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04497-2442-4809-BA37-D1A712A0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317BC-2AD3-4DDB-B879-899A9B76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2A06B-ACAD-4ADD-B4F3-2829A35C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F4CB4-9EEA-446C-86B3-C76A4260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48BB-4BA9-4435-9BCC-4119E0F9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06832-C40D-44D2-9A80-B462B623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A0FC4-039B-4819-A144-D8B2176E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F440E-4675-4CFC-A4F1-A656D8A1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2B2D1-6547-4001-A331-7608974C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F59BC-AF09-4772-9188-C8099A25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676A6-2455-4686-A052-CB01C7139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885D6-FBE1-4677-A65F-197632992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51C49-3DA9-4E00-B8CA-E5C84156C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FB0C5-40CB-4EC1-8F21-68D994EA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A4FA8-CCE0-4D72-A453-F0DF8C27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FAB1-EA2A-46CB-B572-6A0D344F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DC672-0CBB-4B12-9723-E13DCCB3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D7ECB-1260-4C0D-950E-0FEB15FC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72363-52A6-4C5C-BC6C-70483D21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CE1A3-447A-46A3-90D1-BFDE522B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CC5C8-D5BA-4FB6-B849-E9179A67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CF1A7-5819-4B81-9898-35526423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2D605-DB2E-4B95-91AA-7926AD1D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D3353-A527-47B9-87E0-D164AFA14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A0423-154D-45A7-BD75-F822B957B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3F6A3-8B83-41C4-828E-D5253EEF2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6122-248E-4566-9E25-04282CE9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E219E-42BF-4D2E-8839-95C3211C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66F2B-0437-4C12-AA55-DF89E38A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BC705-4C45-42DC-BED9-66ED011DB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254A0-1A50-4EAD-A2D6-27C399D8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59967-4237-41FE-AB08-0F61F3BE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BCE57-6445-4A43-9A4D-6F686027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039B8-2CBE-41D3-9BBB-4609A859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02186-8B1A-44E5-9546-1AF418CD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A1410-1940-4A79-BD5C-B71FF84D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A5799-8675-4290-913B-21DBB79B7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D0EE-CC3D-4278-B8AE-9BA7B9CB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99F56-B89B-4E97-8930-D1A5D2AE8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42889-9BFA-4BB1-AD8F-B0E818DBD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489C6-22D7-42A4-90E0-7A404368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F534F-49E1-4B6E-830C-8EC26D5D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1F13E-34CA-4916-921D-3D738FBB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AE580-76DD-4AC8-B73D-F5D610D5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3FAFC-06C3-4C0F-91A2-9B48A85A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754C9-E4BB-47F3-B3D8-71142BD0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5686B-EEE1-47CA-A0F5-3C02C792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3CF4B-64D7-400C-A513-2AFC193B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4360-DE30-4C5F-8BD1-1BE00901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1934F-680A-446F-B006-0F759325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0A599-1759-4C4E-9419-D4A115388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3EA69-0E2A-4FD2-B00D-DFD154CD0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279C7-D598-4972-94C5-D36A9564F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AD3B6-F9B0-4B01-AF64-A85A70CF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15E4C-906B-4073-8714-32427108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5397E-10AF-43F9-8CD6-42E22FB1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0813F-AC79-49A1-ACDB-48A4AFC3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20A51-CAA0-4A11-966D-D47EFE72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2D197-8BF7-48E5-82AC-61A9A994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C2AA-BC07-4A42-98FD-12AA1B10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68213-9692-48A1-8CA2-38DE209F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8064E-173E-43A9-87FA-3C9E91C9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60AA8-5831-4F8E-9233-05B19468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F6FA5-23A2-452E-8D44-E87B5C4B7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6A12E-4B65-49B1-8104-54AFF5C38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B77CC-4F27-45CC-BB10-439FC7085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76704-9E2F-406B-BCAA-3F1B013B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5315A-4113-42FE-9715-872EB8D6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AC459-F1D8-4CF0-97B1-9F499F70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A334B-F2E5-4B41-A0FF-0FEE00B1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AF15-207C-41EC-98E8-58D9BA53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E8ABC-2641-48F8-803F-D3DBBAA3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177D6-2469-4AE7-BD3C-3BCFA375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7165B-B52B-4887-B304-97BE2D0B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B53DD-7618-408E-9A06-CD726390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ECFD0-6065-436F-9E65-4A0DC481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36E3C-9472-4821-BEBF-433B232DB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E9537-3F35-4DA0-AAF1-38DF1966D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081A0B-8EFD-4913-82EA-7EBF81BC7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36D6D1-F484-4BEE-9FEE-FAE52A9B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0A3D43-AFBE-443D-86DA-83F04199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E801-5DD6-4A09-8794-22DAC511E5B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36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8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39" name="شكل حر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شكل حر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مثلث قائم الزاوية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42" name="مثلث قائم الزاوية 16" descr=""/>
            <p:cNvPicPr/>
            <p:nvPr/>
          </p:nvPicPr>
          <p:blipFill>
            <a:blip r:embed="rId4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4" name="رابط مستقيم 18" descr=""/>
          <p:cNvPicPr/>
          <p:nvPr/>
        </p:nvPicPr>
        <p:blipFill>
          <a:blip r:embed="rId5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45" name="شارة رتبة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شارة رتبة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779E-C414-4632-A840-C94E964FFB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9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403B-E258-4EF0-88AC-5928A9325C7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3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8DDA-CC08-40CE-86AB-F4619434E4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مثلث قائم الزاوية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مجموعة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شكل حر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شكل حر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شكل حر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8" name="شكل حر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رابط مستقيم 20" descr=""/>
            <p:cNvPicPr/>
            <p:nvPr/>
          </p:nvPicPr>
          <p:blipFill>
            <a:blip r:embed="rId5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4454-3B67-4420-9792-85A9F14F610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F637-6A7F-4435-A0CF-20BE98FB4A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5" name="شارة رتبة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شارة رتبة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7FE4-EF84-4581-B1DF-239E1F31E89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0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D4BC-C792-424F-9BF7-470A7519D3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4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E53A-1D5A-49C6-A2BD-84051BF46A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9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6FA7-8AB2-41A7-AA2C-8C2D5ECD65E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4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652E-B6E0-4A73-B351-94930017212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89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1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D86C-064C-44D0-A2AC-1E645AA16F2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4"/>
          <p:cNvSpPr/>
          <p:nvPr/>
        </p:nvSpPr>
        <p:spPr>
          <a:xfrm>
            <a:off x="2771640" y="1174680"/>
            <a:ext cx="544356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  <a:cs typeface="PT Bold Heading"/>
              </a:rPr>
              <a:t>مؤسسات تجارة الجمل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8"/>
          <p:cNvSpPr/>
          <p:nvPr/>
        </p:nvSpPr>
        <p:spPr>
          <a:xfrm>
            <a:off x="857160" y="500040"/>
            <a:ext cx="76438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ea typeface="PT Bold Heading"/>
              </a:rPr>
              <a:t> هي تلك الانشطة التي تقوم بها بعض المؤسسات والافراد بغرض البيع لتجارة التجزئة أو تجار جملة آخرين أو للمشتري الصناعي أو للمستهلك النهائ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8"/>
          <p:cNvSpPr/>
          <p:nvPr/>
        </p:nvSpPr>
        <p:spPr>
          <a:xfrm>
            <a:off x="684360" y="625320"/>
            <a:ext cx="77752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وجه الاختلاف بين مؤسسات تجار الجملة ومؤسسا تجار التجزئ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نوع الاسواق المتعامل ب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حجم الطلب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اسلوب العمل والتنظيم الادار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8"/>
          <p:cNvSpPr/>
          <p:nvPr/>
        </p:nvSpPr>
        <p:spPr>
          <a:xfrm>
            <a:off x="1285920" y="189000"/>
            <a:ext cx="6572160" cy="75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da1f28"/>
                </a:solidFill>
                <a:latin typeface="Arial"/>
                <a:cs typeface="PT Bold Heading"/>
              </a:rPr>
              <a:t>انواع مؤسسات متاجر الجمل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1</a:t>
            </a:r>
            <a:r>
              <a:rPr b="1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- </a:t>
            </a:r>
            <a:r>
              <a:rPr b="1" lang="ar-SA" sz="4800" spc="-1" strike="noStrike">
                <a:solidFill>
                  <a:srgbClr val="002060"/>
                </a:solidFill>
                <a:latin typeface="Arial"/>
                <a:cs typeface="PT Bold Heading"/>
              </a:rPr>
              <a:t>تجار الجملة العاديو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2060"/>
                </a:solidFill>
                <a:latin typeface="Arial"/>
                <a:ea typeface="PT Bold Heading"/>
              </a:rPr>
              <a:t>2</a:t>
            </a:r>
            <a:r>
              <a:rPr b="1" lang="ar-SA" sz="4800" spc="-1" strike="noStrike">
                <a:solidFill>
                  <a:srgbClr val="002060"/>
                </a:solidFill>
                <a:latin typeface="Arial"/>
                <a:ea typeface="PT Bold Heading"/>
              </a:rPr>
              <a:t>- تجار الجملة المتكاملو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2060"/>
                </a:solidFill>
                <a:latin typeface="Arial"/>
                <a:ea typeface="PT Bold Heading"/>
              </a:rPr>
              <a:t>3</a:t>
            </a:r>
            <a:r>
              <a:rPr b="1" lang="ar-SA" sz="4800" spc="-1" strike="noStrike">
                <a:solidFill>
                  <a:srgbClr val="002060"/>
                </a:solidFill>
                <a:latin typeface="Arial"/>
                <a:ea typeface="PT Bold Heading"/>
              </a:rPr>
              <a:t>- تجار الجملة المتخصصو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AutoShape 8"/>
          <p:cNvSpPr/>
          <p:nvPr/>
        </p:nvSpPr>
        <p:spPr>
          <a:xfrm>
            <a:off x="1042920" y="1873080"/>
            <a:ext cx="7201080" cy="4770720"/>
          </a:xfrm>
          <a:prstGeom prst="flowChartDocumen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6"/>
          <p:cNvSpPr/>
          <p:nvPr/>
        </p:nvSpPr>
        <p:spPr>
          <a:xfrm>
            <a:off x="1596960" y="295200"/>
            <a:ext cx="609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وظائف مؤسسات الجملة لتجار التجزئ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6"/>
          <p:cNvSpPr/>
          <p:nvPr/>
        </p:nvSpPr>
        <p:spPr>
          <a:xfrm>
            <a:off x="900000" y="1357200"/>
            <a:ext cx="7458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ffffff"/>
                </a:solidFill>
                <a:latin typeface="Arial"/>
                <a:ea typeface="AL-Mohanad Bold"/>
              </a:rPr>
              <a:t>      </a:t>
            </a:r>
            <a:r>
              <a:rPr b="0" lang="ar-SA" sz="2800" spc="-1" strike="noStrike">
                <a:solidFill>
                  <a:srgbClr val="0d0d0d"/>
                </a:solidFill>
                <a:latin typeface="Arial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3"/>
          <p:cNvSpPr/>
          <p:nvPr/>
        </p:nvSpPr>
        <p:spPr>
          <a:xfrm>
            <a:off x="611280" y="1495440"/>
            <a:ext cx="7993080" cy="5148360"/>
          </a:xfrm>
          <a:prstGeom prst="rect">
            <a:avLst/>
          </a:prstGeom>
          <a:solidFill>
            <a:srgbClr val="ffffff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1</a:t>
            </a: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- الشرا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2</a:t>
            </a: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-البي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3</a:t>
            </a: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- الخز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4</a:t>
            </a: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-النق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5</a:t>
            </a: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- الائتمان التجار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6</a:t>
            </a: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- تقليل المخاط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7</a:t>
            </a: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- تقديم المعلوم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8</a:t>
            </a: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- الرقابة على جودة المنتج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8"/>
          <p:cNvSpPr/>
          <p:nvPr/>
        </p:nvSpPr>
        <p:spPr>
          <a:xfrm>
            <a:off x="1187280" y="333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وظائف مؤسسات الجملة للشرك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ounded Rectangle 2"/>
          <p:cNvSpPr/>
          <p:nvPr/>
        </p:nvSpPr>
        <p:spPr>
          <a:xfrm>
            <a:off x="934920" y="2349360"/>
            <a:ext cx="7272360" cy="302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البي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الخز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النق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4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المساعدات المال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تقديم المعلوم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تحمل المخاط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684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ar-SA" sz="5400" spc="-1" strike="noStrike">
                <a:solidFill>
                  <a:srgbClr val="000000"/>
                </a:solidFill>
                <a:latin typeface="Lucida Sans Unicode"/>
              </a:rPr>
              <a:t>- فاعلية وتأثير مؤسسات الجملة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ar-SA" sz="5400" spc="-1" strike="noStrike">
                <a:solidFill>
                  <a:srgbClr val="000000"/>
                </a:solidFill>
                <a:latin typeface="Lucida Sans Unicode"/>
              </a:rPr>
              <a:t>- الربحية لمؤسسة الجملة 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Lucida Sans Unicode"/>
              </a:rPr>
              <a:t>ادارة مؤسسات تجار الجملة</a:t>
            </a:r>
            <a:endParaRPr b="1" lang="en-US" sz="48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08:58:44Z</dcterms:created>
  <dc:creator>dokhails</dc:creator>
  <dc:description/>
  <dc:language>en-US</dc:language>
  <cp:lastModifiedBy>User</cp:lastModifiedBy>
  <dcterms:modified xsi:type="dcterms:W3CDTF">2017-11-08T06:52:08Z</dcterms:modified>
  <cp:revision>909</cp:revision>
  <dc:subject/>
  <dc:title>الشريحة 1</dc:title>
</cp:coreProperties>
</file>