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D63-54C1-4E5A-8428-E080EC99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459-5646-4417-B5CC-ED9672A3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6B3-EB2E-49F0-80FC-E953C3BC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07D-6896-409C-A904-D4BB0F30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3F56-FAE0-48E5-99EC-93E572B8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1365-92F9-4BDE-833A-6EE1EC2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CB49-452B-40E7-8B74-CB4CCA01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F7B4-BD68-4139-97E1-33725848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51DC-0B08-45AF-8527-3708C83E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98A3-7F37-4DF8-93AB-EBD6D061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8ACF-0E46-4968-8D2D-AE5CA47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549-81D7-462A-9FF2-13B0EFE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9D26-99F0-4DE2-AF68-2740ACC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1DFB-30C0-4445-8361-5F89DF7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0D9B-28D0-4691-89C3-C22FA296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15F5-3B44-42BC-AC90-00A2F22D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8745-2CE3-4086-9089-A79E8276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0B9-8A27-4E7A-9162-ED940AA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D49-3EC2-43CC-AEBF-8A10B9A8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AE3-4D15-4755-A1A6-88DE315A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820-1976-4E1B-A715-5A92796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125-4618-49B6-94CB-BBD5ABD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928-689E-4333-9B3F-A533FCF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F4D-24B2-4792-9CFD-C43A634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F7B-FF77-4547-BAFE-1F3541F70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825-BC28-40E7-871A-D9FF3F931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الفصل السابع : إدارة الضريبة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سوف يتم التركيز على النقاط التال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يكل مصلحة الزكاة والدخل التنظيم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حقوق مصلحة الزكاة والدخل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تزامات مصلحة الزكاة والدخ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لا حيات وإختصاصات وإجراءات عمل اللجان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شهادات التي تمنح للمكلف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81080" y="-16560"/>
            <a:ext cx="907416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غرامة عن عدم تقديم الإقرارالضريب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فرض غرامة عدم تقديم الإقرار في الحالات التال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- عدم تقديم الإقرار خلال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يوم من تاريخ نهاية السنة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- عدم تقديم الإقرارطبقا للنموذج المعتمد من المصلح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-عدم تسديد الضريبة المستحقة بموجب الإقرا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- عدم إشعار المصلحة وتقديم الإقرار الضريبي في حالة التوقف عن مزاولة النشاط والسداد خلال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يوم من تاريخ التوق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في كل هذه الحالات تفرض غرامة تأخير ويحصل الأعلى من الغرامتين في البديلين التاليي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بديل الأول : يحصل غرامة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%) من إجمالي الإيرادات على ألا تتجاوز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000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ريا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بديل الثاني : تحصل الغرامة حسب النسب التال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 لم يتجاوز التأخير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0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كانت فترة التأخير تساوي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وأقل أوتساوي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كانت فترة التأخير أعلى من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وأقل أوتساوي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كانت فترة التأخير أعلى من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نأخذ أيهما أكب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الإضافة إلى الغرامات السابقة تفرض غرامة تأخير على المكلف بواقع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%) من الضريبة الغير مسددة عن كل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يوم تأخي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330560"/>
            <a:ext cx="8964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غرامة الغ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غرامة الغش هي التي تفرض بواقع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%) على فرق الضريبة الناتجة عن تقديم المكلف – معلومات غير حقيقة أو الغش بقصد التهرب من الضريبة .ولابد من إثبات الغش بواقع مستندات تثبت ذلك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00560" y="3643560"/>
            <a:ext cx="10941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ملاحقة المحاسبين القانونيي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لمصلحة الحق في ملاحقة أي محاسب قانوني قضائيا يثبت أنه قدم أو شهد على صحة بيانات غير صحيح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03789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6840" y="1045800"/>
            <a:ext cx="947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10378908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لتزامات مصلحة الزكاة والدخل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زام بسرية المعلوم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ات بالإشعار بالربط الضريب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التطبيق الصحيح للنظ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عدم التعسف في إهدار الحساب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عدم التعسف في إستخدام سلطة الربط التقدير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وضع إجراءات ربط مبسطة فيما يتعلق بمنشآت الأعمال الصغي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الإستعلام الضريب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التسديد من خلال البنو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لاحيات وإختصاصات وإجراءات عمل اللج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لاحيات وإختصاصات وإجراءات لجان الإعتراض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لاحيات وإختصاصات وإجراءات لجنة الإستئنا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103789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37376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شهادات التي تمنح للمكل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شهادة تسجي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لم عند تسجيل النشاط لدى المصل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شهادة مقيد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منح لفئة معينة من المكلفين ممن عليهم مستحقات جاري ترتيب تسويتها وسميت بذلك لأنها صالحة لكافة الأغراض ماعدا صرف الأقساط الأخيرة ويسري مفعول الشهادة مدة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شهر ونصف من نهاية الفترة المالية للمكلف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شهادة مطلق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منح للمكلف بعد سداد كافة المستحقات التي عليه من ضريبة أو غرامة إن وجد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b7e7ff"/>
                </a:solidFill>
                <a:uFillTx/>
                <a:latin typeface="Arial"/>
              </a:rPr>
              <a:t>هيكل مصلحة الزكاة والدخل التنظيمي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كون هيكل مصلحة الزكاة والدخل من المركز الرئيسي للمصلحة والموجود في مدينة الرياض ومايتبعها من فروع في كل من الرياض – والقصيم – جدة – الدمام – مكة المكرمة – المدينة المنورة – الطائف – أبها – تبوك –بالإضافة إلى الماليات التابعة لوزارة المالية الموجودة في المناطق التي لا يوجد بها فروع للمصلحة هي التي تتكفل بجباية الزكاة والضريب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b7e7ff"/>
                </a:solidFill>
                <a:uFillTx/>
                <a:latin typeface="Arial"/>
              </a:rPr>
              <a:t>حقوق مصلحة الزكاة والدخل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حق رفض المصروف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ها الحق في ذلك أي تعتبره غير جائز الخصم  إذا رأت الحالات التالي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ما أنه غير حقيقي (إحتمالي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غير مؤيد بالمستند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يس في سبيل تحقق الدخل (الإيرا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بالغ فية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7864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إطلاع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لفاحص الضريبي الحق في الإطلاع على السجلات الخاصة بالمكلف ومستنداته إذاشك في صحة المعلومات المقدمة في الإقرار وله الحق في الإطلاع على مايثبت صحة هذه المعلومات لدى الغير ولكن بشروط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أن يكون الفحص الميداني أثناء وقت العمل الرسمي وله الحق في الإطلاع دون إشعار مسب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يتم الفحص الميداني في موقع المكلف أو مكاتب المصلح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عند إنتهاء الفحص تعاد المستندات إلى صاحبها خلال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يوم من إنتهاء الفح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28800"/>
            <a:ext cx="8964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مصلحة في المعلوم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ن الأشخاص الطبيعيين والإعتباريين ممن تربطهم علاقة بالمكلف  ملتزمين بإعطاء أي معلومات إذا طلبت المصلحة منهم ذلك ومن هؤلاء الأشخاص الهيئات والوحدات الحكومي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ي حالة إخلال الجهات الحكومية  بتزويد المصلحة بالمعلومات اللازمة وخاصة تاريخ التوقف عن النشاط 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كون ملزمة بدفع الضريبة مع المكلف بالتضامن وعن أي غرامة إن وجد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كذلك إذا لم تخطر الجهات الحكومية المصلحة بالتوقف وهرب المكلف تدفع الجهة الحكومية  الضريبة مع الغرامات إن وجد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3789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03120"/>
            <a:ext cx="9144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فحص والربط الإضافي خلال المدة النظام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تقديم الإقرار من  قبل المكلف أو من يفوضة يقوم الفاحص بفحص ذلك الإقرار مكتبيا ومعرفة مدى تطبيق المكلف للأنظمة والتعليمات بهذا الشأن . ويعتبر الإقرار مقبولا من المصلحة إذا مضى على تقديمه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سنوات دون تلقي المكلف إشعار من المصلحة بشأنه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مكافحة التجنب الضريبي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ند وضع نظام ضريبي أن يتفادى أي معاملة تؤدي إلى تجنب دفع الضريبة وذلك بوضع نظام خالي من التغيرات التي تستغل للتجنب الضريب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ستقطاع الضريبة من المنبع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ن تستقطع من غير المكلف ممن تربطهم علاقة بالمكلف إما علاقة دين أو تبعية أو خدمات بحيث يدفع الضريبة بدل المكلف للمصلحة ويكون غير المكلف هذا مسجلا لدى المصلح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الشخص المسؤول عن الإستقطاع من المنبع ملزما بتسديد قيمة الضريبة غير المسددة وغرامات التأخير التي عليها في الحالات التالية :                  أ- إذا لم يستقطع الضريبة كما هو مطلوب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 ب- إذا إستقطعها ولم يسددها للمصلحة كما هو مطلوب .                                                                      ج-إذا لم يقدم بيانات الإستقطاع كما هو مطلو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423720" y="2131920"/>
            <a:ext cx="102603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مصلحة في إجراء أموال وممتلكات المكلف وبيعها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ا الحق للحد من عملية التهرب من دفع الضريبة ومن وسائل منع التهرب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-فرض غرامات مالية سواء على التأخير أوالتهرب وغرامة التهرب =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%  × الضريبة الغير مسدد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-منع المكلف من السفر خارج البلاد ونقل أمواله خارجها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-منع مزاولة المهنة في المملكة سواء منع مؤقت أونهائ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-الحجز على أموال المكلف وممتلكاته المنقولة والغير منقول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ـ-حجز المكلف بالسجن (عقوبة جنائية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6560"/>
            <a:ext cx="83455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imes New Roman"/>
              </a:rPr>
              <a:t>فرض الغرام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مكن حصر الغرامات من الائحة التنفيذية على النحو التا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غرامة عدم التسجيل في الموعد النظام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عندما يتأخر المكلف في إخطار مصلحة الزكاة والدخل في البدء في النشاط تفرض علية غرامة لا تقل عن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) ولاتزيد عن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) ريال على النحو التال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700360" y="4076640"/>
          <a:ext cx="5716440" cy="1735200"/>
        </p:xfrm>
        <a:graphic>
          <a:graphicData uri="http://schemas.openxmlformats.org/drawingml/2006/table">
            <a:tbl>
              <a:tblPr/>
              <a:tblGrid>
                <a:gridCol w="2857320"/>
                <a:gridCol w="2859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ام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فئة المكلف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خص الطبيع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خص الإعتباري (شركات أموال مساهمة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يانات أخر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9:23:38Z</dcterms:created>
  <dc:creator>User</dc:creator>
  <dc:description/>
  <dc:language>en-US</dc:language>
  <cp:lastModifiedBy>User</cp:lastModifiedBy>
  <dcterms:modified xsi:type="dcterms:W3CDTF">2009-05-21T12:22:43Z</dcterms:modified>
  <cp:revision>2</cp:revision>
  <dc:subject/>
  <dc:title>الفصل السابع : إدارة الضريبة</dc:title>
</cp:coreProperties>
</file>