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BCE9-D082-4403-82D6-40A96582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189-E79D-4465-AFDF-1AD52A81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627-6B0B-4B67-9A65-9F3BB438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7F0-AAF6-4F78-9649-B59E81F5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50D6-D8CE-47EA-909D-3A832BF7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BD88-8801-4453-88D1-F32A1B92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7182-AE79-42DC-8580-CA8A802A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E194-7967-4DFD-83AF-7F28DEFB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167E-2B40-4CD9-846A-81DC5CCD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D1EE-CE5A-4747-8A18-479A0BA6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009F-BDC1-453C-A0EF-2FE44270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84B5-2A05-4C25-BA3F-F60D00ED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8176-14AA-4E7E-BB9D-1550F072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DC37-1CC8-431D-A233-0323BFEA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8B97-A796-4D14-B530-C998FFC6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F86B-7D7A-4F4A-A8BA-7CFAB96C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B60D-1100-451D-8198-A2926446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268-E46A-4AF9-B061-112B094B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97A0-6497-4B5B-9DA2-9330EAEB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3AF-3780-4956-9411-4EA733F0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D2D6-4850-4EC0-B8A0-C8220507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96A4-CAE0-4B13-BE29-E77022EB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92A-5375-4662-A894-1031B3C4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FC4-40DE-4268-AA8A-094C2BD8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5482-9828-453C-9ED8-5A2C1A7963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0537-C143-447D-9288-F7B3617A9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7e7ff"/>
                </a:solidFill>
                <a:latin typeface="Arial"/>
              </a:rPr>
              <a:t>الفصل السابع : إدارة الضريبة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سوف يتم التركيز على النقاط التالي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يكل مصلحة الزكاة والدخل التنظيمي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حقوق مصلحة الزكاة والدخل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تزامات مصلحة الزكاة والدخ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صلا حيات وإختصاصات وإجراءات عمل اللجان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شهادات التي تمنح للمكلف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181080" y="-16560"/>
            <a:ext cx="9074160" cy="68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لغرامة عن عدم تقديم الإقرارالضريب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فرض غرامة عدم تقديم الإقرار في الحالات التالي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- عدم تقديم الإقرار خلال 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) يوم من تاريخ نهاية السنة المال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ب- عدم تقديم الإقرارطبقا للنموذج المعتمد من المصلحة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ج-عدم تسديد الضريبة المستحقة بموجب الإقرار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د- عدم إشعار المصلحة وتقديم الإقرار الضريبي في حالة التوقف عن مزاولة النشاط والسداد خلال 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) يوم من تاريخ التوق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ففي كل هذه الحالات تفرض غرامة تأخير ويحصل الأعلى من الغرامتين في البديلين التاليين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بديل الأول : يحصل غرامة 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%) من إجمالي الإيرادات على ألا تتجاوز 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000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) ريا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بديل الثاني : تحصل الغرامة حسب النسب التالي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5%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من الضريبة الغير مسددة إذا لم يتجاوز التأخير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 من الموعد النظامي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0%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من الضريبة الغير مسددة إذاكانت فترة التأخير تساوي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 وأقل أوتساوي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 من الموعد النظامي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0%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من الضريبة الغير مسددة إذاكانت فترة التأخير أعلى من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 وأقل أوتساوي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6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 من الموعد النظامي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5%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من الضريبة الغير مسددة إذاكانت فترة التأخير أعلى من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6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 من الموعد النظامي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ونأخذ أيهما أكب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بالإضافة إلى الغرامات السابقة تفرض غرامة تأخير على المكلف بواقع 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%) من الضريبة الغير مسددة عن كل 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يوم تأخير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1330560"/>
            <a:ext cx="8964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غرامة الغ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غرامة الغش هي التي تفرض بواقع 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%) على فرق الضريبة الناتجة عن تقديم المكلف – معلومات غير حقيقة أو الغش بقصد التهرب من الضريبة .ولابد من إثبات الغش بواقع مستندات تثبت ذلك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700560" y="3643560"/>
            <a:ext cx="10941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10378908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حق ملاحقة المحاسبين القانونيين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لمصلحة الحق في ملاحقة أي محاسب قانوني قضائيا يثبت أنه قدم أو شهد على صحة بيانات غير صحيحة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103789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66840" y="1045800"/>
            <a:ext cx="9472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10378908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إلتزامات مصلحة الزكاة والدخل</a:t>
            </a:r>
            <a:r>
              <a:rPr b="1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زام بسرية المعلومات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لتزامات بالإشعار بالربط الضريبي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لتزام بالتطبيق الصحيح للنظام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لتزام بعدم التعسف في إهدار الحسابات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لتزام بعدم التعسف في إستخدام سلطة الربط التقدير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لتزام بوضع إجراءات ربط مبسطة فيما يتعلق بمنشآت الأعمال الصغير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لتزام بالإستعلام الضريب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لتزام بالتسديد من خلال البنو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صلاحيات وإختصاصات وإجراءات عمل اللجا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صلاحيات وإختصاصات وإجراءات لجان الإعتراض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صلاحيات وإختصاصات وإجراءات لجنة الإستئنا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103789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373760"/>
            <a:ext cx="89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10378908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شهادات التي تمنح للمكل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شهادة تسجيل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لم عند تسجيل النشاط لدى المصلح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شهادة مقيد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منح لفئة معينة من المكلفين ممن عليهم مستحقات جاري ترتيب تسويتها وسميت بذلك لأنها صالحة لكافة الأغراض ماعدا صرف الأقساط الأخيرة ويسري مفعول الشهادة مدة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أشهر ونصف من نهاية الفترة المالية للمكلف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شهادة مطلق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منح للمكلف بعد سداد كافة المستحقات التي عليه من ضريبة أو غرامة إن وجد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b7e7ff"/>
                </a:solidFill>
                <a:uFillTx/>
                <a:latin typeface="Arial"/>
              </a:rPr>
              <a:t>هيكل مصلحة الزكاة والدخل التنظيمي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تكون هيكل مصلحة الزكاة والدخل من المركز الرئيسي للمصلحة والموجود في مدينة الرياض ومايتبعها من فروع في كل من الرياض – والقصيم – جدة – الدمام – مكة المكرمة – المدينة المنورة – الطائف – أبها – تبوك –بالإضافة إلى الماليات التابعة لوزارة المالية الموجودة في المناطق التي لا يوجد بها فروع للمصلحة هي التي تتكفل بجباية الزكاة والضريبة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b7e7ff"/>
                </a:solidFill>
                <a:uFillTx/>
                <a:latin typeface="Arial"/>
              </a:rPr>
              <a:t>حقوق مصلحة الزكاة والدخل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حق رفض المصروف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ها الحق في ذلك أي تعتبره غير جائز الخصم  إذا رأت الحالات التالية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إما أنه غير حقيقي (إحتمالي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غير مؤيد بالمستندات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يس في سبيل تحقق الدخل (الإيراد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بالغ فية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9280" y="1178640"/>
            <a:ext cx="849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10378908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حق الإطلاع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لفاحص الضريبي الحق في الإطلاع على السجلات الخاصة بالمكلف ومستنداته إذاشك في صحة المعلومات المقدمة في الإقرار وله الحق في الإطلاع على مايثبت صحة هذه المعلومات لدى الغير ولكن بشروط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أن يكون الفحص الميداني أثناء وقت العمل الرسمي وله الحق في الإطلاع دون إشعار مسبق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يتم الفحص الميداني في موقع المكلف أو مكاتب المصلح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عند إنتهاء الفحص تعاد المستندات إلى صاحبها خلال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يوم من إنتهاء الفح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28800"/>
            <a:ext cx="896472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10378908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حق المصلحة في المعلومات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ن الأشخاص الطبيعيين والإعتباريين ممن تربطهم علاقة بالمكلف  ملتزمين بإعطاء أي معلومات إذا طلبت المصلحة منهم ذلك ومن هؤلاء الأشخاص الهيئات والوحدات الحكومية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في حالة إخلال الجهات الحكومية  بتزويد المصلحة بالمعلومات اللازمة وخاصة تاريخ التوقف عن النشاط 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كون ملزمة بدفع الضريبة مع المكلف بالتضامن وعن أي غرامة إن وجد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كذلك إذا لم تخطر الجهات الحكومية المصلحة بالتوقف وهرب المكلف تدفع الجهة الحكومية  الضريبة مع الغرامات إن وجد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03789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103120"/>
            <a:ext cx="91440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10378908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حق الفحص والربط الإضافي خلال المدة النظام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بعد تقديم الإقرار من  قبل المكلف أو من يفوضة يقوم الفاحص بفحص ذلك الإقرار مكتبيا ومعرفة مدى تطبيق المكلف للأنظمة والتعليمات بهذا الشأن . ويعتبر الإقرار مقبولا من المصلحة إذا مضى على تقديمه 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سنوات دون تلقي المكلف إشعار من المصلحة بشأنه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حق مكافحة التجنب الضريبي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جب عند وضع نظام ضريبي أن يتفادى أي معاملة تؤدي إلى تجنب دفع الضريبة وذلك بوضع نظام خالي من التغيرات التي تستغل للتجنب الضريبي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979640"/>
            <a:ext cx="91440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10378908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حق استقطاع الضريبة من المنبع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ن تستقطع من غير المكلف ممن تربطهم علاقة بالمكلف إما علاقة دين أو تبعية أو خدمات بحيث يدفع الضريبة بدل المكلف للمصلحة ويكون غير المكلف هذا مسجلا لدى المصلحة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10378908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والشخص المسؤول عن الإستقطاع من المنبع ملزما بتسديد قيمة الضريبة غير المسددة وغرامات التأخير التي عليها في الحالات التالية :                  أ- إذا لم يستقطع الضريبة كما هو مطلوب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10378908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       ب- إذا إستقطعها ولم يسددها للمصلحة كما هو مطلوب .                                                                      ج-إذا لم يقدم بيانات الإستقطاع كما هو مطلوب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423720" y="2131920"/>
            <a:ext cx="102603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-حق المصلحة في إجراء أموال وممتلكات المكلف وبيعها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ا الحق للحد من عملية التهرب من دفع الضريبة ومن وسائل منع التهرب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-فرض غرامات مالية سواء على التأخير أوالتهرب وغرامة التهرب =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%  × الضريبة الغير مسدد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ب-منع المكلف من السفر خارج البلاد ونقل أمواله خارجها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ج-منع مزاولة المهنة في المملكة سواء منع مؤقت أونهائي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د-الحجز على أموال المكلف وممتلكاته المنقولة والغير منقولة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ـ-حجز المكلف بالسجن (عقوبة جنائية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906560"/>
            <a:ext cx="83455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  <a:cs typeface="Times New Roman"/>
              </a:rPr>
              <a:t>فرض الغرام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يمكن حصر الغرامات من الائحة التنفيذية على النحو التالي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*غرامة عدم التسجيل في الموعد النظامي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عندما يتأخر المكلف في إخطار مصلحة الزكاة والدخل في البدء في النشاط تفرض علية غرامة لا تقل عن 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0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) ولاتزيد عن 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000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) ريال على النحو التالي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700360" y="4076640"/>
          <a:ext cx="5716440" cy="1735200"/>
        </p:xfrm>
        <a:graphic>
          <a:graphicData uri="http://schemas.openxmlformats.org/drawingml/2006/table">
            <a:tbl>
              <a:tblPr/>
              <a:tblGrid>
                <a:gridCol w="2857320"/>
                <a:gridCol w="2859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غرام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فئة المكلفي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شخص الطبيعي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شخص الإعتباري (شركات أموال مساهمة 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كيانات أخر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9:23:38Z</dcterms:created>
  <dc:creator>User</dc:creator>
  <dc:description/>
  <dc:language>en-US</dc:language>
  <cp:lastModifiedBy>User</cp:lastModifiedBy>
  <dcterms:modified xsi:type="dcterms:W3CDTF">2009-05-21T12:22:43Z</dcterms:modified>
  <cp:revision>2</cp:revision>
  <dc:subject/>
  <dc:title>الفصل السابع : إدارة الضريبة</dc:title>
</cp:coreProperties>
</file>