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9C3-12F9-437D-B631-180089C0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FA7-01C1-406E-A8DF-12B7583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2E0-EC81-4EFA-BF0B-E4FA0ACA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A8B-2B7E-4EC6-885D-6AFD1385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004-33E8-4C9A-A62C-D56838DD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14DE-09FD-4445-8F7F-758D326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82B-B145-4DAE-937F-93364C06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6C6-8430-4399-A750-45B6B40D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0F83-87EF-4B0F-A23D-5BD7DCD1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E034-4DCF-42C5-AC73-D0369BA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AC99-DE19-4DAF-A608-19F18EB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3CC-B5AB-48A6-9211-8CDBAAAA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FD4C-BAD1-4E0A-9360-3942D85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EF5-5E66-4231-BEF0-6B329BC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ED0B-80C3-4DD4-B5B9-C22A370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45F8-6B75-4B1A-973F-D4F8624C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A7D-1BF5-46FA-996D-59E556CF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E800-01E8-4137-A1DB-B6D2C859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9DC1-4C53-4E90-9EAA-CE1F046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4EF2-0007-4430-93A7-30CA3B0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DC06-DEE3-48DB-8C5A-8E3BC17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18B9-F0EB-4A93-8295-BF372C6F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BBE-A553-4411-AE2D-5611907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7FA0-3098-4CD5-AD94-B14AABCA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473F-8217-49D4-A421-ECD489A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A798-3ECD-472B-8ECE-621A908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36FA-5314-47DC-B0F6-FFCC9758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B777-CA90-4548-BE38-A8B54737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1924-8C6E-4B1B-82FE-C65E771D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C97B-E1C4-4AEA-9786-1B46E044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8E5B-C9B1-4568-8443-77999867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8F1B-4F71-4B65-BE5B-C8C6AE51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66397-7160-44A7-8952-A5F2AFE8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E20-7826-462F-850F-1BA34391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814F3-13FC-4232-A83F-DF8A54FC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69BA-63CB-4BB2-90D0-70DC618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67A4-A5F8-4E39-890E-83E49119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3D04-9A87-4165-9183-05EA85C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D53B-89D7-4416-B430-33C297FC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0DA8-0A73-476C-934F-1DD4B22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FE74-1DA6-41F3-BE6E-DEA3A4A4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7D80-6EB6-4591-B984-CC99C3A9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9B0C-D91B-4464-925E-57587014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4E24-B12B-4154-9EB8-E8086781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C5A-790F-4A96-B37A-4173320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DD65-3F23-49E4-B42F-99B6CF33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58A3-C2DD-4E01-BB26-10856B7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7AB9-7EC0-46F0-814B-D161751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CD4B-C84F-4D45-92D6-2487600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09BC-F706-43F8-AECE-BA2C57A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48B9E-D107-4500-B38D-E79A791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B2B36-1661-4792-9CAB-2D432D7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CE8D-EAE4-4FFC-9FD9-22AA5AD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EA5F-AF79-4C4F-B014-D84E15FC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9572F-C4B7-4C55-A1AB-3E4E2F8A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B82-3B13-4277-8C19-41FEA96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9091-73B8-4155-A236-B081A7E1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B69D-06EE-4500-AD92-FF77F5E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6A11-96BF-4371-9E07-B5321EA2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0115-4B8B-44B5-9E32-C898101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C620-9FE6-45DC-AD6A-CA1C1195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5D07-9A7D-4CE2-86F7-7E9FF3D3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6281D-5F34-439B-9816-4885883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2E9B-DD2E-4F06-932C-B436318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E156A-4834-4597-A538-DDC4EC6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3B5E-9526-49A5-95FB-F3A47C1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25F-983B-4724-B237-3542436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14C4-39BB-4028-A532-90C2A28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F16A-CCDE-4353-B2F3-730C490A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1D57-37E0-4970-AF0F-6853AC9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DB18F-72C2-4A2C-9BAC-74753CA5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53BCE-2F9C-44A1-8C05-207DA978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2B2C3-FD45-4A86-B23B-006D999F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496D-0210-46E1-96EB-476D1CB3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C3019-33DD-4596-B53D-39BF13BA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56CC-D266-4C07-8933-80878C1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17C58-F36A-47F0-91E7-893B362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88B-CDAD-455E-A366-ED941C3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FE3C-1628-4EE1-B804-C5A1540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6F9C9-EF27-4EE4-879D-A09BB83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37BD7-B790-4081-9DD5-578EAD7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FE62-F68E-4628-B92F-00AC4196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445B-58F9-452A-AC9A-DB8D437D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EDEB3-22E0-4484-AE33-0A5510CA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4DB0-6D82-43AF-B5B5-0085FF8F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2A1EF-8304-4191-918C-0FA909B8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EA82D-E7ED-4690-BE73-7142D9E7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F35BA-9380-4550-9CDC-4D73AAB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3F4-BC68-4134-8C26-4F5152D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94AF-E4D2-4A98-8869-F8D7899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CE03B-B07A-4F17-B820-E0D475C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68361-5426-4370-9E67-EF75FCA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5979-0658-4C69-89E3-B39644A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F04A9-0930-4101-B4EA-4C49664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6BE9-EC9F-49FC-AE81-C818E135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E1331-10E7-4180-8888-8BF27817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16B2-52A1-47B8-ACFB-46FE4AAC8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E04A-7A92-4B6F-A82F-DF126B5B5C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B2EA-EFC9-469B-982E-D83C6BE0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535-7333-4C3E-B10F-D398B658E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16AB-00FE-4EA6-A3C5-40FD4181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35A-102C-4B9A-AABB-66FBA029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F55-C5F2-4752-B8E0-975BC9FBE67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972-B712-40B4-88CA-3D979C195DB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31528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تعريف القيادة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ition of Leadership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تأثير في سلوك الآخرين كافراد وجماعات نحو انجاز وتحيق الاهداف المرغوبة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ادر قوة القائد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urce of Leadership’s Pow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تاثير النابع من استخدام اساليب الضغط (العقاب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تأثير الشخصي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سلطة النظامي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منح التقدير المالي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مصدر الخبرة والمهار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29840" indent="-367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551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/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نظرية سلسلة السلوك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تعالج هذه النظرية بعدين مهمين لتحديد النموذج القيادي للقائد هما مقدار السلطة التي يمتلكها القائد ومقدار الحرية الممنوحة للمرؤوسين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قائد الذي يصنع القرار ويعلن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القائد الذي يبيع قرار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قدم افكاره ويدعو إلى الاسئلة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عرض قرار غير نهائي يخضع للتغيي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عرض مشكلة ويحصل على مشاركة في عمل قرا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عرف ويحاول ويسأل المجموعة لتصنيع القرا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alibri"/>
                <a:cs typeface="Times New Roman"/>
              </a:rPr>
              <a:t>قائد يسمح للمرؤوسين بأن يعملوا ضمن حدود عُرفت لهم بواسطته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3840" indent="-336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48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/ نظرية القيادة الفعالة:(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edler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تعالج هذه النظرية نوعين من انواع القادة هما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دكتاتوري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ديمقراطي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/ دراسات جامعة اوهايووالشبكة الادارية:(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Blake-Mouton</a:t>
            </a:r>
            <a:r>
              <a:rPr b="0" lang="ar-SA" sz="27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حددت هذه النظرية خمسة نماذج من الانماط القيادية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معتدل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انساني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مهتم بالانتاج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مشارك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alibri"/>
                <a:cs typeface="Arial"/>
              </a:rPr>
              <a:t>القائد السلبي(الخامل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/ نظرية الطريق الى الهدف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: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tchell-ho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توضح هذه النظرية ان هناك اربعة انواع من القيادة وهي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قيادة الموجه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قيادة الداعم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قيادة المشارك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قيادة المهتمة بالانجا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34128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تعريف الدافعية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finition of Motivatio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ar-SA" sz="3000" spc="-1" strike="noStrike">
                <a:solidFill>
                  <a:srgbClr val="ffffff"/>
                </a:solidFill>
                <a:latin typeface="Calibri"/>
                <a:ea typeface="Arial"/>
              </a:rPr>
              <a:t>      سلسلة من الاستجابات تبدا بالحاجات التي يشعر بها الفرد وينتج عنها رغبات مما يؤدي الى احداث السلوك لتحقيق الرضا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47840" indent="-3826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هي المحركات والمؤثرات الخارجية التي تستخدمها الادارة لاثارة دوافع الانجاز لدى الافراد العاملين 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36504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دوافع الاولية والدوافع الثانوية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دوافع الفردية والدوافع الاجتماعية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الدوافع الشعورية والدوافع اللاشعورية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ة تدرج الحاجات (إبراهام ماسلو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ة عوامل الوقاية وعوامل الدفع (هيرزبرج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ات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 (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X,Y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ar-SA" sz="3000" spc="-1" strike="noStrike">
                <a:solidFill>
                  <a:srgbClr val="ffffff"/>
                </a:solidFill>
                <a:latin typeface="Calibri"/>
                <a:ea typeface="Arial"/>
              </a:rPr>
              <a:t> (ماكجريجور) (وليم اوشي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alibri"/>
                <a:cs typeface="Arial"/>
              </a:rPr>
              <a:t>نظرية دافع الانجاز (ماكيلاند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4" descr=""/>
          <p:cNvPicPr/>
          <p:nvPr/>
        </p:nvPicPr>
        <p:blipFill>
          <a:blip r:embed="rId1"/>
          <a:stretch/>
        </p:blipFill>
        <p:spPr>
          <a:xfrm>
            <a:off x="433440" y="262080"/>
            <a:ext cx="825984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52480"/>
            <a:ext cx="82296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ماد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معنو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فرد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buClr>
                <a:srgbClr val="ff388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حوافز الجماع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88c"/>
                </a:solidFill>
                <a:latin typeface="Calibri"/>
                <a:cs typeface="Arial"/>
              </a:rPr>
              <a:t>الحوافز الايجابية والسلبية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780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2:25:37Z</dcterms:created>
  <dc:creator>ksu</dc:creator>
  <dc:description/>
  <dc:language>en-US</dc:language>
  <cp:lastModifiedBy>ksu</cp:lastModifiedBy>
  <dcterms:modified xsi:type="dcterms:W3CDTF">2013-03-03T18:32:11Z</dcterms:modified>
  <cp:revision>22</cp:revision>
  <dc:subject/>
  <dc:title>الفصل السابع القيادة الاداريةManagement Leadershi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92E6EB162D26242AB454A8238D7A482</vt:lpwstr>
  </property>
</Properties>
</file>