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670-F6C1-49B5-8A44-030177AF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5F3-C4B3-448E-B685-C461D0B2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077-5BB5-439F-B474-A39DBC3A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548-4A0D-4DF7-AD24-106D4E87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B2BF-E588-476D-B229-FF36D6CD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ADB-208F-45EC-B0DC-570D7A80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CB29-FD3A-4422-9FC5-9AB211BF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C814-E54D-4FD3-A5AE-13A4BF09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41FF-42DF-4F21-99D0-5050DC67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F828-7404-4F86-ABD1-22BEBF4B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C09D-AD33-49D8-9572-B0F46FD4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8EB-4A8A-4EDE-AA3B-B201979E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D01B-C69B-42BF-8260-5C1C142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1879-1185-4A88-97A9-84BEE45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89A-456C-492D-AA47-DACB94A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4D5A-940E-4BB0-BDA4-7728622B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9CB7-F650-4348-A67A-2A9B5512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7009-4624-44B2-90F5-9B335C48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398B-4EB2-44BB-8BF2-74FA0C2A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A837-8826-4E99-9A6D-B4429F47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2D11-0C7B-4A9F-9237-90476D77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93EF-02E2-4EA7-98A1-A5ECA528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EEF-05D7-474E-AB0F-CC2CD8FC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469C7-7ACF-4C90-BB0B-12DF2F8D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2C55-9C75-43FB-85FA-EB62AC2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78D9-8A31-464D-B631-AB9285E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8A7D-C405-4244-96D9-40A11262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4E85-6E54-425F-ACEC-3BC3503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665A-86A9-49CE-8BEE-3273108B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AF7E-7634-42FE-B544-8DF2E3EC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C42B-B376-4FDA-A74B-E36183D6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BFC1B-DEDA-49EC-8D37-38821AFC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7846-C6C8-4DA4-8CE6-70AFE23B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843-B2AC-4E02-8BB3-548872D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ED99-06B6-4F3C-8368-F051A647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698F-FE4C-4140-A56D-F984C9BB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457F-B4E7-4E4B-A24E-3038EC5D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005D-47FF-412B-9C01-8E02F2A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13EC-E58D-44A8-96E0-FED8379F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6E279-DB85-4410-B57B-5946516D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086C-12C3-46D3-99D8-AAD7312C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8F34-37FA-4A70-A44E-7C8D7D1A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9976-51EB-4F30-8B84-50FB4A30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E7E87-F250-4305-86EA-55FC1D8D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1FF-F20F-465D-A47F-F119B520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6018-6D3F-4F1C-B8A0-E1B6B001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A1A00-5F10-4CB0-84B4-DA22F23F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83E06-3D51-44CE-B70D-017C4D73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0DF37-377D-4590-992B-6E4D08D7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6B24B-CBD1-4515-BD56-CACEF470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D9D3A-2131-41AE-8573-76423F5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C59C0-4DB7-48F4-97F9-CC1C99F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18E38-CE57-4B30-906E-11B6FAE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A0F9-B779-4196-B2A6-157CCF0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4F88E-105A-4AFE-B262-36AEA8AB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20B-ABCF-4C2F-9E08-9FC2BEB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EBD98-8F7C-4980-8C86-3B6DD41A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0643B-BC91-45B5-BD68-81136636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6C7D-D857-4618-AE2A-26177083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22390-431B-41F3-BF23-9825F8D7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16BA-A0A7-4C02-B4A7-F306A3C3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AFEC-2B81-4060-9263-A882C288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11A97-2912-400F-BBE7-5037B3D8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6AA78-665F-4CE8-A960-5C596C19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2F40-9318-4DBF-B983-DCD4DC1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34762-6325-4096-BAF2-DF8080E9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38E-40AF-4D29-AB83-BED8CA51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87823-EA2F-4B87-BA7E-E216EC4F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DBED-A717-4BE7-8F02-76C41F70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E8A4-BA71-48AD-95D0-6DA32AC0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913B2-A265-4A4A-A55A-C265D898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6CDE-7A72-4EE0-869D-F903253A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14340-95C8-49E4-BE48-3357BA7A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21C44-3A2F-485A-AA36-1A7848A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C3AF-6E0A-4301-B187-F6047545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9450-E6C9-41E6-8929-5DC56E1B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AE834-981A-4DD1-B98A-B7B97ED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F0F-94DC-457C-8068-E1E12037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4A81A-2ABD-4271-9089-41C1DB4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06B8-7D7C-4606-A409-AD94EF8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942B3-10A5-4AE9-B61D-68BFA72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B985-0C00-4523-9FD2-06A0F2F5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EC90-BBC9-4BFF-BB41-A778130A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4779F-B277-4CB8-90E6-47E74160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3319-7DA9-422E-8EC2-18FF62DD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2A9BF-535C-4580-8481-7BCFBB47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3F8BD-DDD2-4459-A485-A311B501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A77A3-5379-4960-B418-597EEC7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541-6265-4C4D-9E6C-1A3C3FE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EDD33-D539-456A-BF03-52046661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86C92-5F93-4A0F-9922-FEA2925A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26840-4AE5-4C53-BEDD-B955D4E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58406-9B67-4636-A497-DF00A9F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52D12-4759-46AA-8864-5E829CFE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3FE8B-AE47-4D99-871B-DF95E948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D7561-D4B3-46A6-A444-5DB3B1A4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63E0-157B-4FEA-A387-237D6AEFA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F553-D719-4E12-92AF-31CB7BB25A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1C06-F9D8-4993-89E9-74C5ED9E2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A10C-108E-43EA-AD6E-EDA83C3F7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71FF-DBAB-4F40-A805-B20233D0F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609F-726F-4224-B4BE-48FC2B01C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5A49-65FA-48F5-84D5-AC9645ACD87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7354-D893-4FB0-8EBD-91BE7BF2231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31528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تعريف القيادة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ition of Leadership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تأثير في سلوك الآخرين كافراد وجماعات نحو انجاز وتحيق الاهداف المرغوبة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ادر قوة القائد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urce of Leadership’s Pow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التاثير النابع من استخدام اساليب الضغط (العقاب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التأثير الشخصي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السلطة النظامي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منح التقدير المالي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الخبرة والمهار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551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/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نظرية سلسلة السلوك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تعالج هذه النظرية بعدين مهمين لتحديد النموذج القيادي للقائد هما مقدار السلطة التي يمتلكها القائد ومقدار الحرية الممنوحة للمرؤوسين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قائد الذي يصنع القرار ويعلنه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قائد الذي يبيع قراره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قدم افكاره ويدعو إلى الاسئلة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عرض قرار غير نهائي يخضع للتغيي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عرض مشكلة ويحصل على مشاركة في عمل قرا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عرف ويحاول ويسأل المجموعة لتصنيع القرا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سمح للمرؤوسين بأن يعملوا ضمن حدود عُرفت لهم بواسطته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48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/ نظرية القيادة الفعالة:(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edler</a:t>
            </a: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تعالج هذه النظرية نوعين من انواع القادة هما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دكتاتوري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ديمقراطي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/ دراسات جامعة اوهايووالشبكة الادارية:(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Blake-Mouton</a:t>
            </a: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حددت هذه النظرية خمسة نماذج من الانماط القيادية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معتدل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انساني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مهتم بالانتاج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مشارك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سلبي(الخامل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/ نظرية الطريق الى الهدف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: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tchell-ho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توضح هذه النظرية ان هناك اربعة انواع من القيادة وهي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قيادة الموجه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قيادة الداعم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قيادة المشارك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قيادة المهتمة بالانجا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34128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تعريف الدافعية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finition of Motivatio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ar-SA" sz="3000" spc="-1" strike="noStrike">
                <a:solidFill>
                  <a:srgbClr val="ffffff"/>
                </a:solidFill>
                <a:latin typeface="Calibri"/>
                <a:ea typeface="Arial"/>
              </a:rPr>
              <a:t>      سلسلة من الاستجابات تبدا بالحاجات التي يشعر بها الفرد وينتج عنها رغبات مما يؤدي الى احداث السلوك لتحقيق الرضا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هي المحركات والمؤثرات الخارجية التي تستخدمها الادارة لاثارة دوافع الانجاز لدى الافراد العاملين 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365040" y="262080"/>
            <a:ext cx="832824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الدوافع الاولية والدوافع الثانوية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الدوافع الفردية والدوافع الاجتماعية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الدوافع الشعورية والدوافع اللاشعورية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نظرية تدرج الحاجات (إبراهام ماسلو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نظرية عوامل الوقاية وعوامل الدفع (هيرزبرج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نظريات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  (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X,Y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ar-SA" sz="3000" spc="-1" strike="noStrike">
                <a:solidFill>
                  <a:srgbClr val="ffffff"/>
                </a:solidFill>
                <a:latin typeface="Calibri"/>
                <a:ea typeface="Arial"/>
              </a:rPr>
              <a:t> (ماكجريجور) (وليم اوشي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نظرية دافع الانجاز (ماكيلاند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4" descr=""/>
          <p:cNvPicPr/>
          <p:nvPr/>
        </p:nvPicPr>
        <p:blipFill>
          <a:blip r:embed="rId1"/>
          <a:stretch/>
        </p:blipFill>
        <p:spPr>
          <a:xfrm>
            <a:off x="433440" y="262080"/>
            <a:ext cx="825984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5248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الماد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المعنو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الفرد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الجماع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88c"/>
                </a:solidFill>
                <a:latin typeface="Calibri"/>
                <a:cs typeface="Arial"/>
              </a:rPr>
              <a:t>الحوافز الايجابية والسلب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2:25:37Z</dcterms:created>
  <dc:creator>ksu</dc:creator>
  <dc:description/>
  <dc:language>en-US</dc:language>
  <cp:lastModifiedBy>ksu</cp:lastModifiedBy>
  <dcterms:modified xsi:type="dcterms:W3CDTF">2013-03-03T18:32:11Z</dcterms:modified>
  <cp:revision>22</cp:revision>
  <dc:subject/>
  <dc:title>الفصل السابع القيادة الاداريةManagement Leadershi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92E6EB162D26242AB454A8238D7A482</vt:lpwstr>
  </property>
</Properties>
</file>