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4CF7-8087-4E94-AD60-1113BC304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63D6-6F9E-4409-9F9A-BDC9C940A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9D05-4261-4EDD-872D-9AC688E01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0123-D5A8-499E-8212-6CD3F425B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19DD-528D-4A01-808A-592ED0D3D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11F7-482F-4354-AA33-5697ACB3A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7AC5-4F0D-4D51-8A88-D9277B334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8379-9AD1-40BD-84C6-E6FECEC9A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3335-26A3-442F-83A1-3770FC033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2D43-DFD5-464C-B0DC-631EC5A31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81D8-ED29-4AAE-9130-3C023108D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7422-D889-4369-83CE-A2A1CCD1B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J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J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1B6E1-15CD-43B6-A63E-36DC23A702EB}" type="slidenum">
              <a:rPr b="0" lang="ar-J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Calibri"/>
              </a:rPr>
              <a:t>الفصل السادس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43A9F-C5DF-4E22-8F2A-73CF415E93DE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0" y="0"/>
            <a:ext cx="9144000" cy="56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 u="sng">
                <a:solidFill>
                  <a:srgbClr val="003300"/>
                </a:solidFill>
                <a:uFillTx/>
                <a:latin typeface="Calibri"/>
              </a:rPr>
              <a:t>الاتجاهات النفسية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ff"/>
                </a:solidFill>
                <a:latin typeface="Calibri"/>
              </a:rPr>
              <a:t>- </a:t>
            </a: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يندر أن تجد شخصا محايدا حول موضوع معين او اشخاص          محددين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buClr>
                <a:srgbClr val="0000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 ما تفضله وتميل اليه في  العمل سيؤدي الى التأثير على سلوكك وتصرفاتك في العمل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ff"/>
                </a:solidFill>
                <a:latin typeface="Calibri"/>
              </a:rPr>
              <a:t>   </a:t>
            </a: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 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-</a:t>
            </a: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 اتجاهات و تفضيلات العاملين ايضا يؤثر على سلوكهم في العمل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عنصر نائب لرقم الشريحة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C3AB9-7526-4711-AF04-CC2EBA41AEAD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 u="sng">
                <a:solidFill>
                  <a:srgbClr val="000000"/>
                </a:solidFill>
                <a:uFillTx/>
                <a:latin typeface="Calibri"/>
              </a:rPr>
              <a:t>ماهية الاتجاهات النفسية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3300"/>
                </a:solidFill>
                <a:latin typeface="Calibri"/>
              </a:rPr>
              <a:t>مكونات الاتجاه النفسي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-المعرفة والمعلوما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-الوجدان والمشاعر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-الميل السلوكي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3300"/>
                </a:solidFill>
                <a:latin typeface="Calibri"/>
              </a:rPr>
              <a:t>-يمكن تعريف الاتجاه النفسي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”تكوينات ثابتة نسبيا من المعتقدات والمشاعر والنوايا السلوكي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 حول اشياء موجودة في البيئ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-تظهر اهمية الاتجاهات النفسية  في السلوك التنظيمي لسببين هما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Calibri"/>
              </a:rPr>
              <a:t>أ- تؤثر في سلوك الفرد داخل العمل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Calibri"/>
              </a:rPr>
              <a:t>ب- هدف مطلوب تحقيقه بشكل ايجابي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CB211-F84F-4FA7-A9F3-80DE76F57288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 u="sng">
                <a:solidFill>
                  <a:srgbClr val="000000"/>
                </a:solidFill>
                <a:uFillTx/>
                <a:latin typeface="Calibri"/>
              </a:rPr>
              <a:t>تغيير الاتجاهات النفسية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(تغيير الاتجاهات النفسية كوسيلة للتاثير في سلوك الناس داخل المنظمات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وسائل تغيير الاتجاهات النفسي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003300"/>
                </a:solidFill>
                <a:uFillTx/>
                <a:latin typeface="Calibri"/>
              </a:rPr>
              <a:t>اولا: الاقنا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-قدرة القائم بالارتفا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Calibri"/>
              </a:rPr>
              <a:t>أ-الجاذبي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Calibri"/>
              </a:rPr>
              <a:t>ب- الثق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Calibri"/>
              </a:rPr>
              <a:t>ج- الاسلو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2</a:t>
            </a: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- محتوى الاتصال والاقنا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Calibri"/>
              </a:rPr>
              <a:t>1</a:t>
            </a:r>
            <a:r>
              <a:rPr b="1" lang="ar-SA" sz="2400" spc="-1" strike="noStrike">
                <a:solidFill>
                  <a:srgbClr val="003300"/>
                </a:solidFill>
                <a:latin typeface="Calibri"/>
              </a:rPr>
              <a:t>-سهولة المعنى ومحددة منطقيت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Calibri"/>
              </a:rPr>
              <a:t>2</a:t>
            </a:r>
            <a:r>
              <a:rPr b="1" lang="ar-SA" sz="2400" spc="-1" strike="noStrike">
                <a:solidFill>
                  <a:srgbClr val="003300"/>
                </a:solidFill>
                <a:latin typeface="Calibri"/>
              </a:rPr>
              <a:t>-يجب ان يكون تغيير الاتجاهبحجم قليل ماامك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003300"/>
                </a:solidFill>
                <a:uFillTx/>
                <a:latin typeface="Calibri"/>
              </a:rPr>
              <a:t>ثانيا:التنافر الوجداني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-يساعد على  تغيير الاتجا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-غسيل المخ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08E61-2147-4CDC-B338-AC0B0DFC1AA4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395280" y="189000"/>
            <a:ext cx="8748720" cy="66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 u="sng">
                <a:solidFill>
                  <a:srgbClr val="000000"/>
                </a:solidFill>
                <a:uFillTx/>
                <a:latin typeface="Calibri"/>
              </a:rPr>
              <a:t>الرضا عن العمل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 u="sng">
                <a:solidFill>
                  <a:srgbClr val="003300"/>
                </a:solidFill>
                <a:uFillTx/>
                <a:latin typeface="Calibri"/>
              </a:rPr>
              <a:t>نظريات الرضا عن العمل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ff"/>
                </a:solidFill>
                <a:latin typeface="Calibri"/>
              </a:rPr>
              <a:t>أولا : نظرية ذات العاملين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3300"/>
                </a:solidFill>
                <a:latin typeface="Calibri"/>
              </a:rPr>
              <a:t>- الفصل بين الرضا والاستياء(العوامل المؤدية الى الرضا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3300"/>
                </a:solidFill>
                <a:latin typeface="Calibri"/>
              </a:rPr>
              <a:t>تختلف عن العوامل المؤدية الى الاستياء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عنصر نائب لرقم الشريحة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62E95-209E-480D-A3B9-50146CF32395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 u="sng">
                <a:solidFill>
                  <a:srgbClr val="003300"/>
                </a:solidFill>
                <a:uFillTx/>
                <a:latin typeface="Calibri"/>
              </a:rPr>
              <a:t>-العوامل الدافعة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توفرها يؤدي الى الرضا وعدم توفرها يؤدي الى عدم الرضا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(الانجاز, المسؤلية, التقدير, التقدم والنمو, اهمية العمل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buClr>
                <a:srgbClr val="0033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 u="sng">
                <a:solidFill>
                  <a:srgbClr val="003300"/>
                </a:solidFill>
                <a:uFillTx/>
                <a:latin typeface="Calibri"/>
              </a:rPr>
              <a:t>العوامل الوقائية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عدم توفرها يؤدي الى الاستياء (عدم الرضا) وتوفرها يؤدي الى حياد الاستياء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(ظروف العمل, الاشراف, العلاقات, سياسات المنظمة, الاجر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C6E71-D33E-44AA-8BD9-781BE189B048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250920" y="0"/>
            <a:ext cx="8893080" cy="73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003300"/>
                </a:solidFill>
                <a:uFillTx/>
                <a:latin typeface="Calibri"/>
              </a:rPr>
              <a:t>التطبيق العملي لنظرية ذات العاملين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ff"/>
                </a:solidFill>
                <a:latin typeface="Calibri"/>
              </a:rPr>
              <a:t>- </a:t>
            </a: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مهما قامت المنظمة بتحسين العوامل الوقائية فان ذلك لن يؤدي الى تحسين رضا ودافعية الافراد بل تحيد من مشاعر الافراد بالاستياء او تمنع ظهور مشاعر عدم الرض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- العوامل الوقائية شرط اساسي لظهور اثر العوامل الدافعة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- تصميم العمل بطريقة تسمح للعوامل الدافعة ان يتم تمثيلها (اثراء الوظيفة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عنصر نائب لرقم الشريحة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22435-B39D-4CBB-9B58-D4EA6A964B88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 u="sng">
                <a:solidFill>
                  <a:srgbClr val="0000ff"/>
                </a:solidFill>
                <a:uFillTx/>
                <a:latin typeface="Calibri"/>
              </a:rPr>
              <a:t>ثانيا: نظرية القيمة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- كلما استطاع العمل توفير العوائد ذات القيمة للفرد كلما كان راضيا عن العم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-الفرد هو الذي يحدد العوائد ذات القيم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 u="sng">
                <a:solidFill>
                  <a:srgbClr val="003300"/>
                </a:solidFill>
                <a:uFillTx/>
                <a:latin typeface="Calibri"/>
              </a:rPr>
              <a:t>مسببات الرضا عن العمل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4500720" y="2924280"/>
            <a:ext cx="3095640" cy="372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003300"/>
                </a:solidFill>
                <a:uFillTx/>
                <a:latin typeface="Calibri"/>
              </a:rPr>
              <a:t>المسببات التنظيمي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ff"/>
                </a:solidFill>
                <a:latin typeface="Calibri"/>
              </a:rPr>
              <a:t>1</a:t>
            </a:r>
            <a:r>
              <a:rPr b="0" lang="ar-SA" sz="2400" spc="-1" strike="noStrike">
                <a:solidFill>
                  <a:srgbClr val="0000ff"/>
                </a:solidFill>
                <a:latin typeface="Calibri"/>
              </a:rPr>
              <a:t>-نظام العوائ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ff"/>
                </a:solidFill>
                <a:latin typeface="Calibri"/>
              </a:rPr>
              <a:t>2</a:t>
            </a:r>
            <a:r>
              <a:rPr b="0" lang="ar-SA" sz="2400" spc="-1" strike="noStrike">
                <a:solidFill>
                  <a:srgbClr val="0000ff"/>
                </a:solidFill>
                <a:latin typeface="Calibri"/>
              </a:rPr>
              <a:t>-الاشرا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ff"/>
                </a:solidFill>
                <a:latin typeface="Calibri"/>
              </a:rPr>
              <a:t>3</a:t>
            </a:r>
            <a:r>
              <a:rPr b="0" lang="ar-SA" sz="2400" spc="-1" strike="noStrike">
                <a:solidFill>
                  <a:srgbClr val="0000ff"/>
                </a:solidFill>
                <a:latin typeface="Calibri"/>
              </a:rPr>
              <a:t>-سياسة المنظم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ff"/>
                </a:solidFill>
                <a:latin typeface="Calibri"/>
              </a:rPr>
              <a:t>4</a:t>
            </a:r>
            <a:r>
              <a:rPr b="0" lang="ar-SA" sz="2400" spc="-1" strike="noStrike">
                <a:solidFill>
                  <a:srgbClr val="0000ff"/>
                </a:solidFill>
                <a:latin typeface="Calibri"/>
              </a:rPr>
              <a:t>-تصميم العم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ff"/>
                </a:solidFill>
                <a:latin typeface="Calibri"/>
              </a:rPr>
              <a:t>5</a:t>
            </a:r>
            <a:r>
              <a:rPr b="0" lang="ar-SA" sz="2400" spc="-1" strike="noStrike">
                <a:solidFill>
                  <a:srgbClr val="0000ff"/>
                </a:solidFill>
                <a:latin typeface="Calibri"/>
              </a:rPr>
              <a:t>-ظروف عمل جيد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971640" y="2924280"/>
            <a:ext cx="3024000" cy="40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003300"/>
                </a:solidFill>
                <a:uFillTx/>
                <a:latin typeface="Calibri"/>
              </a:rPr>
              <a:t>المسببات الشخصي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ff"/>
                </a:solidFill>
                <a:latin typeface="Calibri"/>
              </a:rPr>
              <a:t>1</a:t>
            </a:r>
            <a:r>
              <a:rPr b="0" lang="ar-SA" sz="2400" spc="-1" strike="noStrike">
                <a:solidFill>
                  <a:srgbClr val="0000ff"/>
                </a:solidFill>
                <a:latin typeface="Calibri"/>
              </a:rPr>
              <a:t>-احترام الذات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ff"/>
                </a:solidFill>
                <a:latin typeface="Calibri"/>
              </a:rPr>
              <a:t>2</a:t>
            </a:r>
            <a:r>
              <a:rPr b="0" lang="ar-SA" sz="2400" spc="-1" strike="noStrike">
                <a:solidFill>
                  <a:srgbClr val="0000ff"/>
                </a:solidFill>
                <a:latin typeface="Calibri"/>
              </a:rPr>
              <a:t>-تحمل الضغو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ff"/>
                </a:solidFill>
                <a:latin typeface="Calibri"/>
              </a:rPr>
              <a:t>3</a:t>
            </a:r>
            <a:r>
              <a:rPr b="0" lang="ar-SA" sz="2400" spc="-1" strike="noStrike">
                <a:solidFill>
                  <a:srgbClr val="0000ff"/>
                </a:solidFill>
                <a:latin typeface="Calibri"/>
              </a:rPr>
              <a:t>-المكانة الاجتماعي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ff"/>
                </a:solidFill>
                <a:latin typeface="Calibri"/>
              </a:rPr>
              <a:t>4</a:t>
            </a:r>
            <a:r>
              <a:rPr b="0" lang="ar-SA" sz="2400" spc="-1" strike="noStrike">
                <a:solidFill>
                  <a:srgbClr val="0000ff"/>
                </a:solidFill>
                <a:latin typeface="Calibri"/>
              </a:rPr>
              <a:t>-الرضا العام عن الحيا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صر نائب لرقم الشريحة 6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EC2C9-4A9F-4BBB-9A12-85846BDEFE5E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03300"/>
                </a:solidFill>
                <a:uFillTx/>
                <a:latin typeface="Calibri"/>
              </a:rPr>
              <a:t>-الرضا يؤثر بدرجة واضحة في معدل الغياب والتاخير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-اما من حيث تاثير الرضا على الاداء والكفاءة فالعلاقة غير واضحة.....لماذا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Calibri"/>
              </a:rPr>
              <a:t>1</a:t>
            </a:r>
            <a:r>
              <a:rPr b="1" lang="ar-SA" sz="2400" spc="-1" strike="noStrike">
                <a:solidFill>
                  <a:srgbClr val="003300"/>
                </a:solidFill>
                <a:latin typeface="Calibri"/>
              </a:rPr>
              <a:t>- ان هيكل العمل يفرض على الفرد ان يعمل بجد واجتهاد      </a:t>
            </a:r>
            <a:r>
              <a:rPr b="1" lang="ar-SA" sz="2400" spc="-1" strike="noStrike">
                <a:solidFill>
                  <a:srgbClr val="003300"/>
                </a:solidFill>
                <a:latin typeface="Calibri"/>
              </a:rPr>
              <a:t>	</a:t>
            </a:r>
            <a:r>
              <a:rPr b="1" lang="ar-SA" sz="2400" spc="-1" strike="noStrike">
                <a:solidFill>
                  <a:srgbClr val="003300"/>
                </a:solidFill>
                <a:latin typeface="Calibri"/>
              </a:rPr>
              <a:t>	</a:t>
            </a:r>
            <a:r>
              <a:rPr b="1" lang="ar-SA" sz="2400" spc="-1" strike="noStrike">
                <a:solidFill>
                  <a:srgbClr val="003300"/>
                </a:solidFill>
                <a:latin typeface="Calibri"/>
              </a:rPr>
              <a:t>	</a:t>
            </a:r>
            <a:r>
              <a:rPr b="1" lang="ar-SA" sz="2400" spc="-1" strike="noStrike">
                <a:solidFill>
                  <a:srgbClr val="003300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Calibri"/>
              </a:rPr>
              <a:t>2</a:t>
            </a:r>
            <a:r>
              <a:rPr b="1" lang="ar-SA" sz="2400" spc="-1" strike="noStrike">
                <a:solidFill>
                  <a:srgbClr val="003300"/>
                </a:solidFill>
                <a:latin typeface="Calibri"/>
              </a:rPr>
              <a:t>-  في حالة وجود علاقة بين الرضا والاداء فذلك بسبب عنصر ثالث وهو وجود العوائ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- الرضا يؤدي الى تكوين الانتماء الى المنظم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- الرضا يؤدي الى الالتزام الوظيفي</a:t>
            </a: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- الرضا يؤدي الى التعهد التنظيمي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- المواطنة التنظيمية   </a:t>
            </a: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6BA1D-DC21-4A6E-85BF-625047CEAA03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3T07:04:25Z</dcterms:created>
  <dc:creator>Murad</dc:creator>
  <dc:description/>
  <dc:language>en-US</dc:language>
  <cp:lastModifiedBy>Murad</cp:lastModifiedBy>
  <dcterms:modified xsi:type="dcterms:W3CDTF">2013-10-13T07:16:56Z</dcterms:modified>
  <cp:revision>5</cp:revision>
  <dc:subject/>
  <dc:title>Slide 1</dc:title>
</cp:coreProperties>
</file>