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AA2-01EE-4F8A-AA86-2D2D591D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4464-336C-4DDC-9C95-1E8C6F2F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176-B2ED-414B-83DD-8B0DED1F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2D5-17ED-40ED-A922-853FCE77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FF2-891B-452E-8115-65F91A5F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AC1-15C0-43F4-AD34-F261A94A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14C-BB51-4A63-B039-F28F0B4F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F3D-3D8F-4A49-B5A8-C7C38812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9326-5AB9-4863-AD4C-80F50274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890-CA52-4D2C-8AB9-D10EC432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8D1-51FD-4842-B46B-E8C1D1CC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AFF-0726-4EBB-AA48-F49FA214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D2D4-B689-45BD-AC86-81146CD504E2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Calibri"/>
              </a:rPr>
              <a:t>الفصل السادس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CC41-1CAC-458A-BB4D-CE6E4964F75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0" y="0"/>
            <a:ext cx="9144000" cy="56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3300"/>
                </a:solidFill>
                <a:uFillTx/>
                <a:latin typeface="Calibri"/>
              </a:rPr>
              <a:t>الاتجاهات النفسي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يندر أن تجد شخصا محايدا حول موضوع معين او اشخاص          محدد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 ما تفضله وتميل اليه في  العمل سيؤدي الى التأثير على سلوكك وتصرفاتك في العم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 اتجاهات و تفضيلات العاملين ايضا يؤثر على سلوكهم في العمل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AC71-34B0-4272-949F-ADFCBF05031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Calibri"/>
              </a:rPr>
              <a:t>ماهية الاتجاهات النفسي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مكونات الاتجاه النفسي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لمعرفة والمعلو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لوجدان والمشاع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لميل السلوك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-يمكن تعريف الاتجاه النفس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”تكوينات ثابتة نسبيا من المعتقدات والمشاعر والنوايا السلوك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حول اشياء موجودة في البيئ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تظهر اهمية الاتجاهات النفسية  في السلوك التنظيمي لسببي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أ- تؤثر في سلوك الفرد داخل الع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ب- هدف مطلوب تحقيقه بشكل ايجا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5BDE-CD04-4955-9057-8E11532F9C0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تغيير الاتجاهات النفسي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(تغيير الاتجاهات النفسية كوسيلة للتاثير في سلوك الناس داخل المنظمات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سائل تغيير الاتجاهات النفس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اولا: الاقن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قدرة القائم بالارتف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أ-الجاذب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ب- الثق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ج- الاسلو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محتوى الاتصال والاقن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سهولة المعنى ومحددة منطقيت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يجب ان يكون تغيير الاتجاهبحجم قليل ماامك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ثانيا:التنافر الوجدا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يساعد على  تغيير الاتج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غسيل الم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B0C1-98A6-4B5D-80CA-F4164373113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95280" y="189000"/>
            <a:ext cx="8748720" cy="66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الرضا عن العم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3300"/>
                </a:solidFill>
                <a:uFillTx/>
                <a:latin typeface="Calibri"/>
              </a:rPr>
              <a:t>نظريات الرضا عن العم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أولا : نظرية ذات العاملي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- الفصل بين الرضا والاستياء(العوامل المؤدية الى الرضا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تختلف عن العوامل المؤدية الى الاستياء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F9FC-3EAC-4042-8927-300C539932B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3300"/>
                </a:solidFill>
                <a:uFillTx/>
                <a:latin typeface="Calibri"/>
              </a:rPr>
              <a:t>-العوامل الدافع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توفرها يؤدي الى الرضا وعدم توفرها يؤدي الى عدم الرض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(الانجاز, المسؤلية, التقدير, التقدم والنمو, اهمية العمل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3300"/>
                </a:solidFill>
                <a:uFillTx/>
                <a:latin typeface="Calibri"/>
              </a:rPr>
              <a:t>العوامل الوقائ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عدم توفرها يؤدي الى الاستياء (عدم الرضا) وتوفرها يؤدي الى حياد الاستي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(ظروف العمل, الاشراف, العلاقات, سياسات المنظمة, الاج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5C2C-0809-4087-B3E7-1610B151016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50920" y="0"/>
            <a:ext cx="8893080" cy="73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التطبيق العملي لنظرية ذات العاملي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مهما قامت المنظمة بتحسين العوامل الوقائية فان ذلك لن يؤدي الى تحسين رضا ودافعية الافراد بل تحيد من مشاعر الافراد بالاستياء او تمنع ظهور مشاعر عدم الرض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عوامل الوقائية شرط اساسي لظهور اثر العوامل الداف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تصميم العمل بطريقة تسمح للعوامل الدافعة ان يتم تمثيلها (اثراء الوظيفة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1EC2-28D1-496B-BB0D-EC7208D2BCB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ff"/>
                </a:solidFill>
                <a:uFillTx/>
                <a:latin typeface="Calibri"/>
              </a:rPr>
              <a:t>ثانيا: نظرية القيم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كلما استطاع العمل توفير العوائد ذات القيمة للفرد كلما كان راضيا عن العم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الفرد هو الذي يحدد العوائد ذات القيم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3300"/>
                </a:solidFill>
                <a:uFillTx/>
                <a:latin typeface="Calibri"/>
              </a:rPr>
              <a:t>مسببات الرضا عن العمل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500720" y="2924280"/>
            <a:ext cx="309564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المسببات التنظي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نظام العوائ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الاشرا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سياسة المنظم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تصميم الع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ظروف عمل جي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71640" y="2924280"/>
            <a:ext cx="3024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المسببات الشخص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احترام الذ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تحمل الضغو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المكانة الاجتما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الرضا العام عن الحيا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5567-3DE7-4AE2-AF2C-92FBDC2D338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-الرضا يؤثر بدرجة واضحة في معدل الغياب والتاخي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ما من حيث تاثير الرضا على الاداء والكفاءة فالعلاقة غير واضحة.....لماذا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 ان هيكل العمل يفرض على الفرد ان يعمل بجد واجتهاد      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  في حالة وجود علاقة بين الرضا والاداء فذلك بسبب عنصر ثالث وهو وجود العوائ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رضا يؤدي الى تكوين الانتماء الى المنظم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رضا يؤدي الى الالتزام الوظيفي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رضا يؤدي الى التعهد التنظيمي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مواطنة التنظيمية  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D847-3CA5-40F8-B109-F2CE995AB95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0-13T07:16:56Z</dcterms:modified>
  <cp:revision>5</cp:revision>
  <dc:subject/>
  <dc:title>Slide 1</dc:title>
</cp:coreProperties>
</file>