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0CB5E-44C3-41FB-9B45-0B82A0886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2E5B-D5BD-4CBB-9725-2E20A83B3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36040-1639-48E9-90BF-4F92F8963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B5739-2DAC-4B13-BE1A-1046E0B4C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3CD5C-179B-4D2C-8C31-FFF1BB6BD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7E5CD-8C75-49E8-9866-98AB227B0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7558-0CAE-41C3-9F16-43761AAAD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5AF0B-52EB-4F7D-9176-6E5CE045D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F7F0F-CC4E-4554-A3A2-4BC65BC36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676A-3BE3-46D3-8E22-E3C1099C8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0EB64-2D13-4C9C-94DD-1DA234C36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81867-A8A6-4865-B134-88D0A4EE0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7239-D517-4B01-8B39-A95E35DD79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Light"/>
                <a:cs typeface="Times New Roman"/>
              </a:rPr>
              <a:t>تقارير المراجعة الداخلية</a:t>
            </a:r>
            <a:br>
              <a:rPr sz="4800"/>
            </a:br>
            <a:endParaRPr b="0" lang="en-US" sz="48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صل الساد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6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حالـة: </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بيان حقيقي يصف:</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نتائج الفحص والمراجعة أي ما تم اكتشافه خلال المهمة</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ا الذي يقوم بفعله المراجع عليه بالمقارنة مع القواعد والأنظمة (المعايير)</a:t>
            </a:r>
            <a:endParaRPr b="0" lang="en-US" sz="1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وافق إدارة الجهة التي تم مراجعتها على حقيقة الوضع الذي توصل إليه فريق المراجعة كما أن لها الحق في الموافقة أو الاعتراض على نتائج المراجعة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تى تعتبر الملاحظة معدة بطريقة غير ملائمة ؟ و ما الحل لها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62" name=""/>
          <p:cNvSpPr txBox="1"/>
          <p:nvPr/>
        </p:nvSpPr>
        <p:spPr>
          <a:xfrm>
            <a:off x="580680" y="1752480"/>
            <a:ext cx="11030040" cy="436104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سبب: </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ية معرفة لماذا وكيف حصلت الحالة يكون عند إعداد التوصيات التي ستصحح المشكلة بعد قبولها من جانب الجهة المراجع عليها.</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قد يكون لكل حالة أكثر من سبب لكن السبب الأساسي عادة يكون القرارات الإدارية التي اتخذتها إدارة الجهة المراجع عليها.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م توضيح السبب إلى الدرجة التي يصبح فيها من الواضح أن تصحيح الحالة سيعالج أو سيمنع إعادة تكرار حدوث مثل هذه الحالة مستقبلاً.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هم الواضح لأسباب الحالة يحدد أسلوب واتجاه التوصيات وفعاليتها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صياغة ملاحظات المراجعة</a:t>
            </a:r>
            <a:endParaRPr b="0" lang="en-US" sz="3600" spc="-1" strike="noStrike">
              <a:solidFill>
                <a:srgbClr val="000000"/>
              </a:solidFill>
              <a:latin typeface="Calibri Light"/>
            </a:endParaRPr>
          </a:p>
        </p:txBody>
      </p:sp>
      <p:sp>
        <p:nvSpPr>
          <p:cNvPr id="64"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a:t>
            </a:r>
            <a:r>
              <a:rPr b="1" lang="ar-SA" sz="2800" spc="-1" strike="noStrike">
                <a:solidFill>
                  <a:srgbClr val="000000"/>
                </a:solidFill>
                <a:latin typeface="Calibri"/>
                <a:cs typeface="Arial"/>
              </a:rPr>
              <a:t>لأثــر</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على فريق المراجعة تحديد التأثير الذي نجم أو سينجم عن الانحراف على الجهة ككل أو على الإدارة التي يتم المراجعة عليها أو على النشاط أو الوظيفة محل المراجعة.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ية الحالة عادة ما يتم الحكم عليها من خلال التأثير الذي تحدثه </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د يتمثل في قياس كمي لتأثير الحالة على الفعالية الاقتصادية والكفاءة معبرا عنه بمصطلحات كمية مثل الريالات السعودية، الوقت، وحدات الإنتاج، عدد الإجراءات والعمليات، أو التعاملات. </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أثر هو العنصر الأساسي لإقناع إدارة الجهة المراجع عليها والإدارة العليا بأن الحالة القائمة غير مرغوب بها، وإذا استمرت فإنها ستتسبب بأذى ذا تكلفة أعلى من  تكلفة التصحي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66" name=""/>
          <p:cNvSpPr txBox="1"/>
          <p:nvPr/>
        </p:nvSpPr>
        <p:spPr>
          <a:xfrm>
            <a:off x="580680" y="1923840"/>
            <a:ext cx="11030040" cy="36781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وصيات:</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إعداد فقرة مستقلة للتوصيات التى تقدمها المراجعة الداخلية بناءً على نتائج الفحص والملاحظات التي تم استنتاجها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قترح أساليب التصحيح اللازمة بما يساعد علي تحقيق النتائج المرغوب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م فصل التوصيات بوضوح عن الملاحظات كما يجب </a:t>
            </a:r>
            <a:r>
              <a:rPr b="0" lang="ar-SA" sz="2400" spc="-1" strike="noStrike" u="sng">
                <a:solidFill>
                  <a:srgbClr val="000000"/>
                </a:solidFill>
                <a:uFillTx/>
                <a:latin typeface="Calibri"/>
                <a:cs typeface="Arial"/>
              </a:rPr>
              <a:t>أن لا تحتوي على معلومات جديد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كون التوصيات على علاقة مباشرة ومحددة بسبب الملاحظ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جهة المراجع عليها لها الحق في الموافقة أو الاعتراض على نتائج المراجعة أو التوصيات المقترحة. </a:t>
            </a:r>
            <a:endParaRPr b="0" lang="en-US" sz="24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68"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صنيف ملاحظات المراجعة</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نخفض</a:t>
            </a:r>
            <a:r>
              <a:rPr b="0" lang="ar-SA" sz="2400" spc="-1" strike="noStrike">
                <a:solidFill>
                  <a:srgbClr val="000000"/>
                </a:solidFill>
                <a:latin typeface="Calibri"/>
                <a:ea typeface="Arial"/>
              </a:rPr>
              <a:t> :لا تشكل خطراً يذكر على نشاط الجهة المراجع عليها ,على الإدارة تصحيح الحالة المذكورة.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توسط : </a:t>
            </a:r>
            <a:r>
              <a:rPr b="0" lang="ar-SA" sz="2400" spc="-1" strike="noStrike">
                <a:solidFill>
                  <a:srgbClr val="000000"/>
                </a:solidFill>
                <a:latin typeface="Calibri"/>
                <a:cs typeface="Arial"/>
              </a:rPr>
              <a:t>الملاحظة ليس لها تأثيراً كبيراً على سير عمل أو إنتاجية الجهة المراجع عليها ولكن إن تم تجاهل تصحيح الخطأ فإن تأثير الخطر سيتضاعف ويكون أكبر على المدى الطويل.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عالي : </a:t>
            </a:r>
            <a:r>
              <a:rPr b="0" lang="ar-SA" sz="2400" spc="-1" strike="noStrike">
                <a:solidFill>
                  <a:srgbClr val="000000"/>
                </a:solidFill>
                <a:latin typeface="Calibri"/>
                <a:cs typeface="Arial"/>
              </a:rPr>
              <a:t>هذه الملاحظة تشير الى ان مستوى المخاطر غير مقبول.</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ثال :  الأساليب الرقابية داخل الجهة التشغيلية غير فعالة والمخاطر يجب أن يعاد تقديرها ويتم العمل على تخفيضها بأسرع وقت ممكن.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7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سؤولية تجاه المذكرات الميدان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ن المسؤولية النهائية على صحة المذكرات الميدانية تعود إلى المدير التنفيذي لقسم المراجعة الداخلية فكل المذكرات الميدانية تحتاج لموافقته قبل أن ترسل إلى إدارة القسم المراجع عليه</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سؤولية التأكد من أن كل المذكرات الميدانية قد تم توثيقها بطريقة ملائمة تقع على رئيس فريق المراجعة الخاص بالمهم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72"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راجعة وتنقيح الملاحظات:</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على إدارة المراجعة الداخلية مراجعة وتنقيح الملاحظات قبل إرسالها إلى الجهة المراجع عليها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إحداث تغييرات على الملاحظات الميدانية:</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عين مراجعة ومناقشة الملاحظات على مستوى فريق المراجعة وقسم المراجعة الداخلية قبل إرسالها إلى الجهة المعنية</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إذا أسفرت عمليات المراجعة والمناقشة عن استبعاد لبعض هذه الملاحظات فإنه يجب توثيق ذلك بعناية فائقة لما لذلك من مسئولية على إدارة المراجعة الداخلية</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وافق مدير المراجعة الداخلية على استبعاد أى من الملاحظات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74"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إرسال الملاحظات إلى الجهة المراجع عليها:</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عد موافقة مدير المراجعة الداخلية على المذكرات الميدانية </a:t>
            </a:r>
            <a:r>
              <a:rPr b="0" lang="en-US" sz="2400" spc="-1" strike="noStrike">
                <a:solidFill>
                  <a:srgbClr val="000000"/>
                </a:solidFill>
                <a:latin typeface="Calibri"/>
              </a:rPr>
              <a:t> &lt;</a:t>
            </a:r>
            <a:r>
              <a:rPr b="0" lang="ar-SA" sz="2400" spc="-1" strike="noStrike">
                <a:solidFill>
                  <a:srgbClr val="000000"/>
                </a:solidFill>
                <a:latin typeface="Calibri"/>
                <a:cs typeface="Arial"/>
              </a:rPr>
              <a:t>حفظ هذه المذكرات في ملف أوراق عمل المهمة للاعتماد عليه لاحقاً عند إعداد مسودة التقرير</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في نهاية العمل الميداني يتم إرسال قائمة بالملاحظات التي تضمنتها هذه المذكرات إلى مدير الجهة المراجع عليها قبل مدة كافية ( </a:t>
            </a: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أيام مثلا) من الاجتماع الختامي، وذلك لإخباره بكل الملاحظات التي تم تحديدها خلال مهمة المراجعة الداخلي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fontScale="97000"/>
          </a:bodyPr>
          <a:p>
            <a:pPr marL="221400" indent="-2214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لاحظات المكررة:</a:t>
            </a:r>
            <a:endParaRPr b="0" lang="en-US" sz="2800" spc="-1" strike="noStrike">
              <a:solidFill>
                <a:srgbClr val="000000"/>
              </a:solidFill>
              <a:latin typeface="Calibri"/>
            </a:endParaRPr>
          </a:p>
          <a:p>
            <a:pPr lvl="1" marL="739080" indent="-2955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توثيق ملاحظات المراجعة يجب بيان حالة الملاحظات فيما إذا كانت جديدة أو متكررة الحدوث. </a:t>
            </a:r>
            <a:endParaRPr b="0" lang="en-US" sz="2400" spc="-1" strike="noStrike">
              <a:solidFill>
                <a:srgbClr val="000000"/>
              </a:solidFill>
              <a:latin typeface="Calibri"/>
            </a:endParaRPr>
          </a:p>
          <a:p>
            <a:pPr lvl="1" marL="739080" indent="-2955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وجود ملاحظات متكررة لم يتم حلها بعد أو تتخذ الإجراءات التصحيحية حيالها، يجب على فريق المراجعة :</a:t>
            </a:r>
            <a:endParaRPr b="0" lang="en-US" sz="2400" spc="-1" strike="noStrike">
              <a:solidFill>
                <a:srgbClr val="000000"/>
              </a:solidFill>
              <a:latin typeface="Calibri"/>
            </a:endParaRPr>
          </a:p>
          <a:p>
            <a:pPr lvl="2" marL="1182600" indent="-2955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ن يوثق عدم موافقة الإدارة المسئولة على تنفيذ التوصية وأنها توافق على تحمل المخاطر المترتبة على استمرار الملاحظة أو أن الإدارة غير مدركة لحقيقة عدم التزامها بالمعايير والأنظمة التي تحكم الجهة</a:t>
            </a:r>
            <a:endParaRPr b="0" lang="en-US" sz="2000" spc="-1" strike="noStrike">
              <a:solidFill>
                <a:srgbClr val="000000"/>
              </a:solidFill>
              <a:latin typeface="Calibri"/>
            </a:endParaRPr>
          </a:p>
          <a:p>
            <a:pPr lvl="1" marL="739080" indent="-2955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ذا لم يتم اتخاذ إجراء بعد تقرير المتابعة الثالث وتم كتابة التقرير للمرة الرابعة أو أكثر؟</a:t>
            </a:r>
            <a:endParaRPr b="0" lang="en-US" sz="2400" spc="-1" strike="noStrike">
              <a:solidFill>
                <a:srgbClr val="000000"/>
              </a:solidFill>
              <a:latin typeface="Calibri"/>
            </a:endParaRPr>
          </a:p>
          <a:p>
            <a:pPr lvl="2" marL="1182600" indent="-2955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فترض أن تكون التوصيات لم تطبق نتيجة لموافقة الإدارة على تقبل المخاطر التي تم ذكرها داخل الملاحظة.</a:t>
            </a:r>
            <a:endParaRPr b="0" lang="en-US" sz="2000" spc="-1" strike="noStrike">
              <a:solidFill>
                <a:srgbClr val="000000"/>
              </a:solidFill>
              <a:latin typeface="Calibri"/>
            </a:endParaRPr>
          </a:p>
          <a:p>
            <a:pPr lvl="2" marL="1182600" indent="-29556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نتائج ستعرض على أعضاء من مجلس الإدارة خلال الاجتماع الختامي.</a:t>
            </a:r>
            <a:endParaRPr b="0" lang="en-US" sz="2000" spc="-1" strike="noStrike">
              <a:solidFill>
                <a:srgbClr val="000000"/>
              </a:solidFill>
              <a:latin typeface="Calibri"/>
            </a:endParaRPr>
          </a:p>
          <a:p>
            <a:pPr marL="221400" indent="-2214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اجتماع الختامي</a:t>
            </a:r>
            <a:endParaRPr b="0" lang="en-US" sz="4000" spc="-1" strike="noStrike">
              <a:solidFill>
                <a:srgbClr val="000000"/>
              </a:solidFill>
              <a:latin typeface="Calibri Light"/>
            </a:endParaRPr>
          </a:p>
        </p:txBody>
      </p:sp>
      <p:sp>
        <p:nvSpPr>
          <p:cNvPr id="78" name=""/>
          <p:cNvSpPr txBox="1"/>
          <p:nvPr/>
        </p:nvSpPr>
        <p:spPr>
          <a:xfrm>
            <a:off x="838080" y="1825200"/>
            <a:ext cx="10515600" cy="4351320"/>
          </a:xfrm>
          <a:prstGeom prst="rect">
            <a:avLst/>
          </a:prstGeom>
          <a:noFill/>
          <a:ln w="0">
            <a:noFill/>
          </a:ln>
        </p:spPr>
        <p:txBody>
          <a:bodyPr anchor="t">
            <a:normAutofit/>
          </a:bodyPr>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و الفرصة الأخيرة لفريق المرجعة لتعريف الجهة المراجع عليها بطبيعة مهنتهم داخل القسم وبقواعد قسم المراجعة الداخلية والمهنة بشكل عام</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يح الفرصة لبناء العلاقات الإيجابية مع إدارة الجهة المراجع عليها.</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نصح عادة بأن لا يتخلل الاجتماع أية مفاجآت وبأن يتم حل كل القضايا قبل ذلك.</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كون الاجتماع مختصراً على عرض ومناقشة عملية ونتائج المراجعة</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الأخذ في الاعتبار أن الاجتماع الختامي قد يعقد بحضور أعضاء من الإدارة العليا والذين لم يشاركوا مباشرة في عملية المراجعة. </a:t>
            </a: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تواصل مع المستويات الإدارية العليا</a:t>
            </a:r>
            <a:endParaRPr b="0" lang="en-US" sz="4000" spc="-1" strike="noStrike">
              <a:solidFill>
                <a:srgbClr val="000000"/>
              </a:solidFill>
              <a:latin typeface="Calibri Light"/>
            </a:endParaRPr>
          </a:p>
        </p:txBody>
      </p:sp>
      <p:sp>
        <p:nvSpPr>
          <p:cNvPr id="44" name=""/>
          <p:cNvSpPr txBox="1"/>
          <p:nvPr/>
        </p:nvSpPr>
        <p:spPr>
          <a:xfrm>
            <a:off x="580680" y="1740960"/>
            <a:ext cx="11030040" cy="411804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م من خلال تقارير + لقاءات دورية مع مدير قسم المراجعة الداخلية </a:t>
            </a:r>
            <a:endParaRPr b="0" lang="en-US" sz="28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واضيع التي تطرح على أعلى مستوى إداري العليا بشكل دوري تتضمن :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رض لخطة  قسم المراجعة الداخلية (الاستراتيج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تقدير المخاطر السنو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أعمال المراجعة الداخل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قارير السنوية لإنجازات وأداء قسم المراجعة الداخل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نزاعات القائمة مع الإدارة العليا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اجتماع الختامي</a:t>
            </a:r>
            <a:endParaRPr b="0" lang="en-US" sz="4000" spc="-1" strike="noStrike">
              <a:solidFill>
                <a:srgbClr val="000000"/>
              </a:solidFill>
              <a:latin typeface="Calibri Light"/>
            </a:endParaRPr>
          </a:p>
        </p:txBody>
      </p:sp>
      <p:sp>
        <p:nvSpPr>
          <p:cNvPr id="80" name=""/>
          <p:cNvSpPr txBox="1"/>
          <p:nvPr/>
        </p:nvSpPr>
        <p:spPr>
          <a:xfrm>
            <a:off x="580680" y="1955520"/>
            <a:ext cx="11030040" cy="3987720"/>
          </a:xfrm>
          <a:prstGeom prst="rect">
            <a:avLst/>
          </a:prstGeom>
          <a:noFill/>
          <a:ln w="0">
            <a:noFill/>
          </a:ln>
        </p:spPr>
        <p:txBody>
          <a:bodyPr anchor="t">
            <a:normAutofit/>
          </a:bodyPr>
          <a:p>
            <a:pPr marL="228600" indent="-228600" algn="just" rtl="1">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خلال الاجتماع الختامي</a:t>
            </a:r>
            <a:r>
              <a:rPr b="0" lang="en-US" sz="2800" spc="-1" strike="noStrike">
                <a:solidFill>
                  <a:srgbClr val="000000"/>
                </a:solidFill>
                <a:latin typeface="Calibri"/>
              </a:rPr>
              <a:t> </a:t>
            </a:r>
            <a:r>
              <a:rPr b="0" lang="ar-SA" sz="2800" spc="-1" strike="noStrike">
                <a:solidFill>
                  <a:srgbClr val="000000"/>
                </a:solidFill>
                <a:latin typeface="Calibri"/>
                <a:ea typeface="Arial"/>
              </a:rPr>
              <a:t> لابد من مراعاه:</a:t>
            </a:r>
            <a:endParaRPr b="0" lang="en-US" sz="2800" spc="-1" strike="noStrike">
              <a:solidFill>
                <a:srgbClr val="000000"/>
              </a:solidFill>
              <a:latin typeface="Calibri"/>
            </a:endParaRPr>
          </a:p>
          <a:p>
            <a:pPr lvl="1" marL="762120" indent="-3049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ازن في كتابة التقارير</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دم التركيز على النتائج السلبية في المهمة بل يجب الموازنة عن بذكر النتائج الإيجابية.</a:t>
            </a:r>
            <a:endParaRPr b="0" lang="en-US" sz="2000" spc="-1" strike="noStrike">
              <a:solidFill>
                <a:srgbClr val="000000"/>
              </a:solidFill>
              <a:latin typeface="Calibri"/>
            </a:endParaRPr>
          </a:p>
          <a:p>
            <a:pPr lvl="1" marL="762120" indent="-3049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حاضرون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جب أن يشمل :مدير المراجعة - رئيس فريق المراجعة - مدير الإدارة التي تمت مراجعتها. </a:t>
            </a:r>
            <a:endParaRPr b="0" lang="en-US" sz="20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مكن لإدارة هذه الجهة دعوة أي شخص سيكون مسئولا عن تنفيذ الإجراءات التصحيحية المقترحة، أو أنه سيكون متأثراً بها</a:t>
            </a:r>
            <a:endParaRPr b="0" lang="en-US" sz="2000" spc="-1" strike="noStrike">
              <a:solidFill>
                <a:srgbClr val="000000"/>
              </a:solidFill>
              <a:latin typeface="Calibri"/>
            </a:endParaRPr>
          </a:p>
          <a:p>
            <a:pPr lvl="1" marL="762120" indent="-3049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جنب عملية المواجهة </a:t>
            </a:r>
            <a:r>
              <a:rPr b="0" lang="ar-SA" sz="2400" spc="-1" strike="noStrike">
                <a:solidFill>
                  <a:srgbClr val="000000"/>
                </a:solidFill>
                <a:latin typeface="Calibri"/>
                <a:ea typeface="Arial"/>
              </a:rPr>
              <a:t>: ولتحقيق ذلك يجب عليهم :</a:t>
            </a:r>
            <a:endParaRPr b="0" lang="en-US" sz="24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ستخدام العادات الحميدة للحوار مع الأطراف الأخرى </a:t>
            </a:r>
            <a:endParaRPr b="0" lang="en-US" sz="20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جنب استخدام العبارات الشخصية </a:t>
            </a:r>
            <a:endParaRPr b="0" lang="en-US" sz="2000" spc="-1" strike="noStrike">
              <a:solidFill>
                <a:srgbClr val="000000"/>
              </a:solidFill>
              <a:latin typeface="Calibri"/>
            </a:endParaRPr>
          </a:p>
          <a:p>
            <a:pPr lvl="2" marL="1219320" indent="-304920" algn="just"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جب أن يسعى منسوبي قسم المراجعة الداخلية إلى الحصول على وجهة نظر مشتركة مع المراجع عليهم لتأييد ملاحظاتهم وتوصياتهم. </a:t>
            </a:r>
            <a:endParaRPr b="0" lang="en-US" sz="2000" spc="-1" strike="noStrike">
              <a:solidFill>
                <a:srgbClr val="000000"/>
              </a:solidFill>
              <a:latin typeface="Calibri"/>
            </a:endParaRPr>
          </a:p>
          <a:p>
            <a:pPr marL="228600" indent="-228600" algn="just" rtl="1">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82" name=""/>
          <p:cNvSpPr txBox="1"/>
          <p:nvPr/>
        </p:nvSpPr>
        <p:spPr>
          <a:xfrm>
            <a:off x="580680" y="1999800"/>
            <a:ext cx="11030040" cy="45291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نواع التقارير</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ية تقرير المراجعة الداخلية</a:t>
            </a:r>
            <a:r>
              <a:rPr b="0" lang="en-US" sz="2400" spc="-1" strike="noStrike">
                <a:solidFill>
                  <a:srgbClr val="000000"/>
                </a:solidFill>
                <a:latin typeface="Calibri"/>
              </a:rPr>
              <a:t> </a:t>
            </a:r>
            <a:r>
              <a:rPr b="0" lang="ar-SA" sz="2400" spc="-1" strike="noStrike">
                <a:solidFill>
                  <a:srgbClr val="000000"/>
                </a:solidFill>
                <a:latin typeface="Calibri"/>
                <a:cs typeface="Arial"/>
              </a:rPr>
              <a:t>؟</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جب أن تكون محتويات التقرير موثقة وكافية لتكون قادرة على التعجيل بتفعيل الإجراءت التي يتضمنها من قبل إدارة الجهة المراجع علي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إعداد تقارير المراجعة الداخلية على مرحلتين/نوعين :</a:t>
            </a:r>
            <a:endParaRPr b="0" lang="en-US" sz="2400" spc="-1" strike="noStrike">
              <a:solidFill>
                <a:srgbClr val="000000"/>
              </a:solidFill>
              <a:latin typeface="Calibri"/>
            </a:endParaRPr>
          </a:p>
          <a:p>
            <a:pPr lvl="2" marL="1371600" indent="-457200" algn="just"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سودة التقرير.</a:t>
            </a:r>
            <a:endParaRPr b="0" lang="en-US" sz="2000" spc="-1" strike="noStrike">
              <a:solidFill>
                <a:srgbClr val="000000"/>
              </a:solidFill>
              <a:latin typeface="Calibri"/>
            </a:endParaRPr>
          </a:p>
          <a:p>
            <a:pPr lvl="2" marL="1371600" indent="-457200" algn="just"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رير النهائي.</a:t>
            </a:r>
            <a:endParaRPr b="0" lang="en-US" sz="2000" spc="-1" strike="noStrike">
              <a:solidFill>
                <a:srgbClr val="000000"/>
              </a:solidFill>
              <a:latin typeface="Calibri"/>
            </a:endParaRPr>
          </a:p>
          <a:p>
            <a:pPr lvl="1" marL="685800" indent="-22860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84" name=""/>
          <p:cNvSpPr txBox="1"/>
          <p:nvPr/>
        </p:nvSpPr>
        <p:spPr>
          <a:xfrm>
            <a:off x="580680" y="1690560"/>
            <a:ext cx="11030040" cy="39880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ولا :مسودة التقرير</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كون عند الانتهاء من العمل الميداني وحصر الملاحظات والحصول على ردود من الجهة المراجع عليها حول الأمور التي لا يوجد اتفاق عليها.</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لخص فيها كل الملاحظات والنتائج والتوصيات الخاصة بعملية المراجعة.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غيير في مسودة التقرير:</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ناقشات داخل قسم المراجعة أو مع إدارة الجهة المراجع عليها حيث ان الاقتراحات لتعديل التقرير في هذه المرحلة يجب أن تكون مقبولة وتطرح للنقاش وتؤخذ بصدر رحب</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86" name=""/>
          <p:cNvSpPr txBox="1"/>
          <p:nvPr/>
        </p:nvSpPr>
        <p:spPr>
          <a:xfrm>
            <a:off x="580680" y="1690560"/>
            <a:ext cx="11030040" cy="39880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نقيح مسودة التقرير:</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أن يراجع ويوافق مدير على نسخه</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ابد من وجود استعداد لقبول التغييرات في صياغة التقرير وأي اقتراحات أخرى قد تكون مناسبة ما دامت لا تؤثر على: </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أفكار الرئيسة</a:t>
            </a:r>
            <a:endParaRPr b="0" lang="en-US" sz="20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هتمامات قسم المراجعة الداخلية</a:t>
            </a:r>
            <a:endParaRPr b="0" lang="en-US" sz="20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إجراءات التصحيحية</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وجود حالة من عدم الاتفاق أو التناقض في تفسير الحقائق، فإن فريق المهمة يجب أن يشير في مسودة التقرير إلى وجهة نظر فريق المراجعة ويتم إرفاق وجهة نظر ورد الجهة المراجع عليها.</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رفع التقارير</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ردود الإدارة</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ل الاجتماع الختامي يتم مناقشة جميع الملاحظات مع إدارة الجهة المرجع عليها وبناءاً عليه قد يتم أخذ بعض الردود خلال الاجتماع</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لى مدير المراجعة التأكد من أن جميع الردود قد تم توثيقها وبناء عليه يمكن إرسال مسودة التقرير إلى إدارة الجهة المراجع عليها متضمناً الردود التي حصل عليها فريق المراجعة خلال الاجتماع الختامي </a:t>
            </a:r>
            <a:r>
              <a:rPr b="0" lang="ar-SA" sz="2400" spc="-1" strike="noStrike" u="sng">
                <a:solidFill>
                  <a:srgbClr val="000000"/>
                </a:solidFill>
                <a:uFillTx/>
                <a:latin typeface="Calibri"/>
                <a:cs typeface="Arial"/>
              </a:rPr>
              <a:t>أو</a:t>
            </a:r>
            <a:r>
              <a:rPr b="0" lang="ar-SA" sz="2400" spc="-1" strike="noStrike">
                <a:solidFill>
                  <a:srgbClr val="000000"/>
                </a:solidFill>
                <a:latin typeface="Calibri"/>
                <a:ea typeface="Arial"/>
              </a:rPr>
              <a:t> يرسل التقرير بلا أي رد لتقوم الإدارة في الجهة المراجع عليها بالرد بعد الدراسة. </a:t>
            </a:r>
            <a:endParaRPr b="0" lang="en-US" sz="2400" spc="-1" strike="noStrike">
              <a:solidFill>
                <a:srgbClr val="000000"/>
              </a:solidFill>
              <a:latin typeface="Calibri"/>
            </a:endParaRPr>
          </a:p>
          <a:p>
            <a:pPr marL="228600" indent="-228600" algn="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0"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ثانيا :التقرير النهائي</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ثل التقرير النهائي المنتج الأساسي لعملية المراجعة ويجب أن يحفظ في ملف أوراق العمل. </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ن كل مهمة يقوم بتنفيذها المراجع الداخلي قد يكون لها هدف مختلف عن المهام الأخرى ولذلك لم تحدد المعايير المهنية شكل محدد لتقرير المراجع الداخلي.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2" name=""/>
          <p:cNvSpPr txBox="1"/>
          <p:nvPr/>
        </p:nvSpPr>
        <p:spPr>
          <a:xfrm>
            <a:off x="580680" y="2000160"/>
            <a:ext cx="11030040" cy="3678480"/>
          </a:xfrm>
          <a:prstGeom prst="rect">
            <a:avLst/>
          </a:prstGeom>
          <a:noFill/>
          <a:ln w="0">
            <a:noFill/>
          </a:ln>
        </p:spPr>
        <p:txBody>
          <a:bodyPr anchor="t">
            <a:normAutofit/>
          </a:bodyPr>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كلة تقرير المراجعة الداخلية النهائي الأكثر شيوعا:</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صفحة غلاف التقرير النهائي </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نوان التقرير والجهة المقدم إليها التقرير </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قدمة</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لخص التنفيذي</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خلفية عن مهمة المراجعة</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هدف والنطاق</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لاحظات والتوصيات وردود الادارة</a:t>
            </a:r>
            <a:endParaRPr b="0" lang="en-US" sz="2000" spc="-1" strike="noStrike">
              <a:solidFill>
                <a:srgbClr val="000000"/>
              </a:solidFill>
              <a:latin typeface="Calibri"/>
            </a:endParaRPr>
          </a:p>
          <a:p>
            <a:pPr marL="304920" indent="-30492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4"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غيرات التي تطرأ على التقرير النهائي</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رير المراجعة النهائي هو من مسؤولية مدير قسم المراجعة الداخلية لذا لا يجب إجراء أي تغيير على التقرير إلا في ظروف استثنائية وبعد الحصول على موافقة خطية مسبقة من مدير قسم المراجعة</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يجب توثيق الموافقة الخطية وحفظها في ملف أوراق عمل المهمة.</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6"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سليم التقرير النهائي:</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إرسال نسخة من تقرير المراجعة النهائي إلى الجهة المراجع عليها لتبليغها بالنتائج والتوصيات</a:t>
            </a:r>
            <a:endParaRPr b="0" lang="en-US" sz="24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طلب منها الرد خلال مدة معقولة من تاريخ التسليم (مثال ثلاثين يوما)</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98"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تابعة التقرير:</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ا بد من عملية المتابعة التي تحدد ما إذا كان قد تم تفعيل الإجراءات التصحيحية المناسبة بحسب ما ورد في تقرير ملاحظات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م عملية المتابعة من خلال التأكد من استلام الرد على تقرير المراجعة خلال المدة المحدد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ذا لم يتم استلام الرد خلال المدة المحددة يتم رفع الأمر إلى المستوى الإداري الأعلى من الجهة المراجع عليها فإن تأخر الرد مرة أخرى أو اعترض المستوى الإداري الأعلى فيجب رفع الأمر إلى المسئول الأول بالجه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إعداد ورفع تقارير المراجعة الداخلية</a:t>
            </a:r>
            <a:endParaRPr b="0" lang="en-US" sz="4000" spc="-1" strike="noStrike">
              <a:solidFill>
                <a:srgbClr val="000000"/>
              </a:solidFill>
              <a:latin typeface="Calibri Light"/>
            </a:endParaRPr>
          </a:p>
        </p:txBody>
      </p:sp>
      <p:sp>
        <p:nvSpPr>
          <p:cNvPr id="46"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عد الانتهاء من تنفيذ عملية المراجعة وتنفيذ جميع الإجراءات المخططة وتجميع القدر الكافي من الأدلة تبدأ مرحلة أخرى هي مرحلة إعداد تقرير المراجعة</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على قسم المراجعة الداخلية تقديم تقرير:</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قب الانتهاء من كل مهمة مراجعة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قرير ربع سنوي عن ما تم تنفيذه خلال الربع المنقضي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قرير سنوي يعكس نتائج نشاط المراجعة خلال السنة المنته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قديم تقرير متى دعت الحاجة إلى ذلك</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حتوى هذه التقارير تعتمد بالدرجة الأولى على النتائج التي يتم التوصل إليها من تنفيذ مهام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ي تقرير هو الأساس في إعداد باقي التقاري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100" name=""/>
          <p:cNvSpPr txBox="1"/>
          <p:nvPr/>
        </p:nvSpPr>
        <p:spPr>
          <a:xfrm>
            <a:off x="580680" y="2000160"/>
            <a:ext cx="11030040" cy="3678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عايير اكتمال تقارير المراجعة الداخل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وضوعي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دق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وضوح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يجاز</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ناء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اكتما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صيغة المناسبة للفع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وقيت المناس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رفع التقارير</a:t>
            </a:r>
            <a:endParaRPr b="0" lang="en-US" sz="4000" spc="-1" strike="noStrike">
              <a:solidFill>
                <a:srgbClr val="000000"/>
              </a:solidFill>
              <a:latin typeface="Calibri Light"/>
            </a:endParaRPr>
          </a:p>
        </p:txBody>
      </p:sp>
      <p:sp>
        <p:nvSpPr>
          <p:cNvPr id="102" name=""/>
          <p:cNvSpPr txBox="1"/>
          <p:nvPr/>
        </p:nvSpPr>
        <p:spPr>
          <a:xfrm>
            <a:off x="580680" y="1614600"/>
            <a:ext cx="11030040" cy="48513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قارير المراجعة الداخلية لأطراف خارج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م يتم تحديد تقارير معينة للاستخدام الخارجي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قسم المراجعة الداخلية ألزمت بالتعاون التام مع بعض الجهات الرقابية والإشرافية وذلك بوضع كافة البيانات والإيضاحات والنتائج التي تم التوصل اليها للمساعدة في أداء مهمة الإشراف والرقابة التي تقوم بها تلك الجهات</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جهات المعنية بالإشراف والرقابة على الجهات الحكومي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راقبين الماليين التابعين لوزارة المال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راقبي الحسابات التابعين لديوان المراقبة العام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راقبي الحسابات من المراجعين الخارجيين.</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راقبين والمسئولين التابعين لهيئة الرقابة والتحقيق</a:t>
            </a:r>
            <a:endParaRPr b="0" lang="en-US" sz="2000" spc="-1" strike="noStrike">
              <a:solidFill>
                <a:srgbClr val="000000"/>
              </a:solidFill>
              <a:latin typeface="Calibri"/>
            </a:endParaRPr>
          </a:p>
          <a:p>
            <a:pPr marL="228600" indent="-22860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لمراجع </a:t>
            </a:r>
            <a:endParaRPr b="0" lang="en-US" sz="4400" spc="-1" strike="noStrike">
              <a:solidFill>
                <a:srgbClr val="000000"/>
              </a:solidFill>
              <a:latin typeface="Calibri Light"/>
            </a:endParaRPr>
          </a:p>
        </p:txBody>
      </p:sp>
      <p:sp>
        <p:nvSpPr>
          <p:cNvPr id="104"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عروض الأستاذة هناء العقيل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ا هية المراجعة الداخلية – نايف آل خليفه</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أساسيات التدقيق الداخلي- </a:t>
            </a:r>
            <a:r>
              <a:rPr b="0" lang="en-US" sz="2800" spc="-1" strike="noStrike">
                <a:solidFill>
                  <a:srgbClr val="000000"/>
                </a:solidFill>
                <a:latin typeface="Calibri"/>
              </a:rPr>
              <a:t>PRC</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تقارير مهام المراجعة</a:t>
            </a:r>
            <a:endParaRPr b="0" lang="en-US" sz="40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إعداد تقرير المراجعة بشكل جيد يتطلب الأمر تجهيز التالي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قوائم الملاحظات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ذكرات الميدان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تقارير مهام المراجعة</a:t>
            </a:r>
            <a:endParaRPr b="0" lang="en-US" sz="4000" spc="-1" strike="noStrike">
              <a:solidFill>
                <a:srgbClr val="000000"/>
              </a:solidFill>
              <a:latin typeface="Calibri Light"/>
            </a:endParaRPr>
          </a:p>
        </p:txBody>
      </p:sp>
      <p:sp>
        <p:nvSpPr>
          <p:cNvPr id="5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قوائم الملاحظات</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إعداد قائمة الملاحظات </a:t>
            </a:r>
            <a:r>
              <a:rPr b="0" lang="ar-SA" sz="2400" spc="-1" strike="noStrike" u="sng">
                <a:solidFill>
                  <a:srgbClr val="000000"/>
                </a:solidFill>
                <a:uFillTx/>
                <a:latin typeface="Calibri"/>
                <a:cs typeface="Arial"/>
              </a:rPr>
              <a:t>قبل</a:t>
            </a:r>
            <a:r>
              <a:rPr b="0" lang="ar-SA" sz="2400" spc="-1" strike="noStrike">
                <a:solidFill>
                  <a:srgbClr val="000000"/>
                </a:solidFill>
                <a:latin typeface="Calibri"/>
                <a:ea typeface="Arial"/>
              </a:rPr>
              <a:t> إصدار مسودة التقرير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تضمن مرجعاً لأوراق العمل، بالإضافة إلى مرجع لخطوات برنامج المراجعة ذات العلاق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غرض استخدامها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لتلخيص كل الملاحظات التي تم ملاحظتها من قبل كل عضو في فريق المراجعة </a:t>
            </a:r>
            <a:r>
              <a:rPr b="0" lang="ar-SA" sz="2000" spc="-1" strike="noStrike" u="sng">
                <a:solidFill>
                  <a:srgbClr val="000000"/>
                </a:solidFill>
                <a:uFillTx/>
                <a:latin typeface="Calibri"/>
                <a:cs typeface="Arial"/>
              </a:rPr>
              <a:t>قبل</a:t>
            </a:r>
            <a:r>
              <a:rPr b="0" lang="ar-SA" sz="2000" spc="-1" strike="noStrike">
                <a:solidFill>
                  <a:srgbClr val="000000"/>
                </a:solidFill>
                <a:latin typeface="Calibri"/>
                <a:ea typeface="Arial"/>
              </a:rPr>
              <a:t> الانتهاء من عمل المذكرات الميداني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ستخدم كوسيلة للرقابة تضمن أن كل المذكرات الميدانية والملاحظات الأساسية قد تم الحصول عليها والإبلاغ عنها. </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تقارير مهام المراجعة</a:t>
            </a:r>
            <a:endParaRPr b="0" lang="en-US" sz="40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ذكرات الميداني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لتوثيق الملاحظات التي تم اكتشافها خلال فترة تنفيذ مهمة المراجعة</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ا الفرق بينها و بين أوراق العمل ؟</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54" name=""/>
          <p:cNvSpPr txBox="1"/>
          <p:nvPr/>
        </p:nvSpPr>
        <p:spPr>
          <a:xfrm>
            <a:off x="742680" y="1690200"/>
            <a:ext cx="11030040" cy="39927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عريف الملاحظات</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المراجعة هي وصف للظروف أو الأفعال التي وجدت على غير الطريقة التي يجب أن تكون عليها.</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مكن تصنيفها الى ثلاثة أنواع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تتعلق بأفعال تم انجازها ولم يكن من المطلوب القيام ب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تتعلق بأفعال كان من الواجب تنفيذها ولكن لم يتم تنفيذ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تتعلق بأفعال وتصرفات تم انجازها بصورة لا تتفق مع مقتضيات العمل</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56" name=""/>
          <p:cNvSpPr txBox="1"/>
          <p:nvPr/>
        </p:nvSpPr>
        <p:spPr>
          <a:xfrm>
            <a:off x="580680" y="1690560"/>
            <a:ext cx="11030040" cy="4181760"/>
          </a:xfrm>
          <a:prstGeom prst="rect">
            <a:avLst/>
          </a:prstGeom>
          <a:noFill/>
          <a:ln w="0">
            <a:noFill/>
          </a:ln>
        </p:spPr>
        <p:txBody>
          <a:bodyPr anchor="t">
            <a:normAutofit/>
          </a:bodyPr>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عناصر ملاحظات المراجعة</a:t>
            </a:r>
            <a:r>
              <a:rPr b="0" lang="ar-SA" sz="2800" spc="-1" strike="noStrike">
                <a:solidFill>
                  <a:srgbClr val="000000"/>
                </a:solidFill>
                <a:latin typeface="Calibri"/>
                <a:ea typeface="Arial"/>
              </a:rPr>
              <a:t>:</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حتوي ملاحظات المراجعة الجيدة على العناصر الأساسية التالية والتي يتم توثيقها في المذكرات الميدانية: </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معايير</a:t>
            </a:r>
            <a:r>
              <a:rPr b="0" lang="ar-SA" sz="1800" spc="-1" strike="noStrike">
                <a:solidFill>
                  <a:srgbClr val="000000"/>
                </a:solidFill>
                <a:latin typeface="Calibri"/>
                <a:ea typeface="Arial"/>
              </a:rPr>
              <a:t>: ما الذي يجب أن يكون</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حالات</a:t>
            </a:r>
            <a:r>
              <a:rPr b="0" lang="ar-SA" sz="1800" spc="-1" strike="noStrike">
                <a:solidFill>
                  <a:srgbClr val="000000"/>
                </a:solidFill>
                <a:latin typeface="Calibri"/>
                <a:ea typeface="Arial"/>
              </a:rPr>
              <a:t>: ما الموجود فعلاً</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أسباب</a:t>
            </a:r>
            <a:r>
              <a:rPr b="0" lang="ar-SA" sz="1800" spc="-1" strike="noStrike">
                <a:solidFill>
                  <a:srgbClr val="000000"/>
                </a:solidFill>
                <a:latin typeface="Calibri"/>
                <a:ea typeface="Arial"/>
              </a:rPr>
              <a:t>:  لماذا حصلت مثل تلك الحالة</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تأثير</a:t>
            </a:r>
            <a:r>
              <a:rPr b="0" lang="ar-SA" sz="1800" spc="-1" strike="noStrike">
                <a:solidFill>
                  <a:srgbClr val="000000"/>
                </a:solidFill>
                <a:latin typeface="Calibri"/>
                <a:ea typeface="Arial"/>
              </a:rPr>
              <a:t>:  الفرق والأهمية بين ما الموجود فعلاً وما الذي يجب أن يكون</a:t>
            </a:r>
            <a:endParaRPr b="0" lang="en-US" sz="18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لتوصية</a:t>
            </a:r>
            <a:r>
              <a:rPr b="0" lang="ar-SA" sz="1800" spc="-1" strike="noStrike">
                <a:solidFill>
                  <a:srgbClr val="000000"/>
                </a:solidFill>
                <a:latin typeface="Calibri"/>
                <a:ea typeface="Arial"/>
              </a:rPr>
              <a:t>:  ما هو الإجراء الذي يجب اتخاذه</a:t>
            </a:r>
            <a:endParaRPr b="0" lang="en-US" sz="1800" spc="-1" strike="noStrike">
              <a:solidFill>
                <a:srgbClr val="000000"/>
              </a:solidFill>
              <a:latin typeface="Calibri"/>
            </a:endParaRPr>
          </a:p>
          <a:p>
            <a:pPr marL="304920" indent="-30492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صياغة ملاحظات المراجعة</a:t>
            </a:r>
            <a:endParaRPr b="0" lang="en-US" sz="40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عايـير: </a:t>
            </a:r>
            <a:endParaRPr b="0" lang="en-US" sz="28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مجموعة القواعد والأنظمة التي على أساسها يقوم فريق المراجعة الداخلية بتقييم أداء الجهة المراجع عليها. </a:t>
            </a:r>
            <a:endParaRPr b="0" lang="en-US" sz="2400" spc="-1" strike="noStrike">
              <a:solidFill>
                <a:srgbClr val="000000"/>
              </a:solidFill>
              <a:latin typeface="Calibri"/>
            </a:endParaRPr>
          </a:p>
          <a:p>
            <a:pPr lvl="2" marL="1219320" indent="-30492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ثال ؟</a:t>
            </a:r>
            <a:endParaRPr b="0" lang="en-US" sz="2000" spc="-1" strike="noStrike">
              <a:solidFill>
                <a:srgbClr val="000000"/>
              </a:solidFill>
              <a:latin typeface="Calibri"/>
            </a:endParaRPr>
          </a:p>
          <a:p>
            <a:pPr lvl="1" marL="762120" indent="-3049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 يمكن معرفه "الوضع النموذجي"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1:17:14Z</dcterms:created>
  <dc:creator>hana</dc:creator>
  <dc:description/>
  <dc:language>en-US</dc:language>
  <cp:lastModifiedBy>kayan albalawi</cp:lastModifiedBy>
  <dcterms:modified xsi:type="dcterms:W3CDTF">2017-04-08T17:18:15Z</dcterms:modified>
  <cp:revision>153</cp:revision>
  <dc:subject/>
  <dc:title>إعداد ورفع تقارير المراجعة الداخلية</dc:title>
</cp:coreProperties>
</file>