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3A917-6DA2-47C3-8AFD-97783F2A8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4215-36AD-4257-B1AE-BDFE6612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9C31-CF36-4B54-968C-0FBD04237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C518-A166-4801-8176-3D4CCDED7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705D-B880-4E01-A91B-B5B2D47C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2A5B-4202-41D7-A7F6-567530BEB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12E5-DD7E-419D-A9D6-EB824F8BC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4DC7-BA71-4D10-94BB-4A1D5EE9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3168-4C16-4B27-9F42-667E317B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C8D6-C567-487D-963D-9B566E91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730C-BFC8-4F9B-8E29-74CBD35E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E147-C010-469D-BD00-9ED0F7A5E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8333-3777-4CDD-B56B-D44B411C82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Light"/>
                <a:cs typeface="Times New Roman"/>
              </a:rPr>
              <a:t>تقارير المراجعة الداخلية</a:t>
            </a:r>
            <a:br>
              <a:rPr sz="4800"/>
            </a:br>
            <a:endParaRPr b="0" lang="en-US" sz="48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صل الساد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حالـة: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بيان حقيقي يصف:</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نتائج الفحص والمراجعة أي ما تم اكتشافه خلال المهمة</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ا الذي يقوم بفعله المراجع عليه بالمقارنة مع القواعد والأنظمة (المعايير)</a:t>
            </a:r>
            <a:endParaRPr b="0" lang="en-US" sz="1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وافق إدارة الجهة التي تم مراجعتها على حقيقة الوضع الذي توصل إليه فريق المراجعة كما أن لها الحق في الموافقة أو الاعتراض على نتائج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تى تعتبر الملاحظة معدة بطريقة غير ملائمة ؟ و ما الحل ل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2" name=""/>
          <p:cNvSpPr txBox="1"/>
          <p:nvPr/>
        </p:nvSpPr>
        <p:spPr>
          <a:xfrm>
            <a:off x="580680" y="1752480"/>
            <a:ext cx="11030040" cy="43610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بب: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معرفة لماذا وكيف حصلت الحالة يكون عند إعداد التوصيات التي ستصحح المشكلة بعد قبولها من جانب الجهة المراجع عليه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قد يكون لكل حالة أكثر من سبب لكن السبب الأساسي عادة يكون القرارات الإدارية التي اتخذتها إدارة الجهة المراجع عليها.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هم الواضح لأسباب الحالة يحدد أسلوب واتجاه التوصيات وفعاليت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صياغة ملاحظات المراجعة</a:t>
            </a:r>
            <a:endParaRPr b="0" lang="en-US" sz="3600" spc="-1" strike="noStrike">
              <a:solidFill>
                <a:srgbClr val="000000"/>
              </a:solidFill>
              <a:latin typeface="Calibri Light"/>
            </a:endParaRPr>
          </a:p>
        </p:txBody>
      </p:sp>
      <p:sp>
        <p:nvSpPr>
          <p:cNvPr id="6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a:t>
            </a:r>
            <a:r>
              <a:rPr b="1" lang="ar-SA" sz="2800" spc="-1" strike="noStrike">
                <a:solidFill>
                  <a:srgbClr val="000000"/>
                </a:solidFill>
                <a:latin typeface="Calibri"/>
                <a:cs typeface="Arial"/>
              </a:rPr>
              <a:t>لأثــر</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فريق المراجعة تحديد التأثير الذي نجم أو سينجم عن الانحراف على الجهة ككل أو على الإدارة التي يتم المراجعة عليها أو على النشاط أو الوظيفة محل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الحالة عادة ما يتم الحكم عليها من خلال التأثير الذي تحدثه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ثر هو العنصر الأساسي لإقناع إدارة الجهة المراجع عليها والإدارة العليا بأن الحالة القائمة غير مرغوب بها، وإذا استمرت فإنها ستتسبب بأذى ذا تكلفة أعلى من  تكلفة التصحي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6" name=""/>
          <p:cNvSpPr txBox="1"/>
          <p:nvPr/>
        </p:nvSpPr>
        <p:spPr>
          <a:xfrm>
            <a:off x="580680" y="1923840"/>
            <a:ext cx="11030040" cy="36781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وصيات:</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إعداد فقرة مستقلة للتوصيات التى تقدمها المراجعة الداخلية بناءً على نتائج الفحص والملاحظات التي تم استنتاجها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قترح أساليب التصحيح اللازمة بما يساعد علي تحقيق النتائج المرغوب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م فصل التوصيات بوضوح عن الملاحظات كما يجب </a:t>
            </a:r>
            <a:r>
              <a:rPr b="0" lang="ar-SA" sz="2400" spc="-1" strike="noStrike" u="sng">
                <a:solidFill>
                  <a:srgbClr val="000000"/>
                </a:solidFill>
                <a:uFillTx/>
                <a:latin typeface="Calibri"/>
                <a:cs typeface="Arial"/>
              </a:rPr>
              <a:t>أن لا تحتوي على معلومات جديد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كون التوصيات على علاقة مباشرة ومحددة بسبب الملاحظ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هة المراجع عليها لها الحق في الموافقة أو الاعتراض على نتائج المراجعة أو التوصيات المقترحة. </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صنيف ملاحظات المراجعة</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نخفض</a:t>
            </a:r>
            <a:r>
              <a:rPr b="0" lang="ar-SA" sz="2400" spc="-1" strike="noStrike">
                <a:solidFill>
                  <a:srgbClr val="000000"/>
                </a:solidFill>
                <a:latin typeface="Calibri"/>
                <a:ea typeface="Arial"/>
              </a:rPr>
              <a:t> :لا تشكل خطراً يذكر على نشاط الجهة المراجع عليها ,على الإدارة تصحيح الحالة المذكور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توسط : </a:t>
            </a:r>
            <a:r>
              <a:rPr b="0" lang="ar-SA" sz="2400" spc="-1" strike="noStrike">
                <a:solidFill>
                  <a:srgbClr val="000000"/>
                </a:solidFill>
                <a:latin typeface="Calibri"/>
                <a:cs typeface="Arial"/>
              </a:rPr>
              <a:t>الملاحظة ليس لها تأثيراً كبيراً على سير عمل أو إنتاجية الجهة المراجع عليها ولكن إن تم تجاهل تصحيح الخطأ فإن تأثير الخطر سيتضاعف ويكون أكبر على المدى الطويل.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الي : </a:t>
            </a:r>
            <a:r>
              <a:rPr b="0" lang="ar-SA" sz="2400" spc="-1" strike="noStrike">
                <a:solidFill>
                  <a:srgbClr val="000000"/>
                </a:solidFill>
                <a:latin typeface="Calibri"/>
                <a:cs typeface="Arial"/>
              </a:rPr>
              <a:t>هذه الملاحظة تشير الى ان مستوى المخاطر غير مقبول.</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ثال :  الأساليب الرقابية داخل الجهة التشغيلية غير فعالة والمخاطر يجب أن يعاد تقديرها ويتم العمل على تخفيضها بأسرع وقت ممكن.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سؤولية تجاه المذكرات الميدان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لمسؤولية النهائية على صحة المذكرات الميدانية تعود إلى المدير التنفيذي لقسم المراجعة الداخلية فكل المذكرات الميدانية تحتاج لموافقته قبل أن ترسل إلى إدارة القسم المراجع عليه</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ؤولية التأكد من أن كل المذكرات الميدانية قد تم توثيقها بطريقة ملائمة تقع على رئيس فريق المراجعة الخاص بالمهم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راجعة وتنقيح الملاحظات:</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إدارة المراجعة الداخلية مراجعة وتنقيح الملاحظات قبل إرسالها إلى الجهة المراجع علي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إحداث تغييرات على الملاحظات الميدانية:</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عين مراجعة ومناقشة الملاحظات على مستوى فريق المراجعة وقسم المراجعة الداخلية قبل إرسالها إلى الجهة المعني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إذا أسفرت عمليات المراجعة والمناقشة عن استبعاد لبعض هذه الملاحظات فإنه يجب توثيق ذلك بعناية فائقة لما لذلك من مسئولية على إدارة المراجعة الداخلي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وافق مدير المراجعة الداخلية على استبعاد أى من الملاحظ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إرسال الملاحظات إلى الجهة المراجع عليها:</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موافقة مدير المراجعة الداخلية على المذكرات الميدانية </a:t>
            </a:r>
            <a:r>
              <a:rPr b="0" lang="en-US" sz="2400" spc="-1" strike="noStrike">
                <a:solidFill>
                  <a:srgbClr val="000000"/>
                </a:solidFill>
                <a:latin typeface="Calibri"/>
              </a:rPr>
              <a:t> &lt;</a:t>
            </a:r>
            <a:r>
              <a:rPr b="0" lang="ar-SA" sz="2400" spc="-1" strike="noStrike">
                <a:solidFill>
                  <a:srgbClr val="000000"/>
                </a:solidFill>
                <a:latin typeface="Calibri"/>
                <a:cs typeface="Arial"/>
              </a:rPr>
              <a:t>حفظ هذه المذكرات في ملف أوراق عمل المهمة للاعتماد عليه لاحقاً عند إعداد مسودة التقرير</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في نهاية العمل الميداني يتم إرسال قائمة بالملاحظات التي تضمنتها هذه المذكرات إلى مدير الجهة المراجع عليها قبل مدة كافية (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أيام مثلا) من الاجتماع الختامي، وذلك لإخباره بكل الملاحظات التي تم تحديدها خلال مهمة المراجعة الداخلي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fontScale="97000"/>
          </a:bodyPr>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لاحظات المكررة:</a:t>
            </a:r>
            <a:endParaRPr b="0" lang="en-US" sz="28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توثيق ملاحظات المراجعة يجب بيان حالة الملاحظات فيما إذا كانت جديدة أو متكررة الحدوث. </a:t>
            </a:r>
            <a:endParaRPr b="0" lang="en-US" sz="24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وجود ملاحظات متكررة لم يتم حلها بعد أو تتخذ الإجراءات التصحيحية حيالها، يجب على فريق المراجعة :</a:t>
            </a:r>
            <a:endParaRPr b="0" lang="en-US" sz="24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جهة</a:t>
            </a:r>
            <a:endParaRPr b="0" lang="en-US" sz="20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ذا لم يتم اتخاذ إجراء بعد تقرير المتابعة الثالث وتم كتابة التقرير للمرة الرابعة أو أكثر؟</a:t>
            </a:r>
            <a:endParaRPr b="0" lang="en-US" sz="24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فترض أن تكون التوصيات لم تطبق نتيجة لموافقة الإدارة على تقبل المخاطر التي تم ذكرها داخل الملاحظة.</a:t>
            </a:r>
            <a:endParaRPr b="0" lang="en-US" sz="20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نتائج ستعرض على أعضاء من مجلس الإدارة خلال الاجتماع الختامي.</a:t>
            </a:r>
            <a:endParaRPr b="0" lang="en-US" sz="2000" spc="-1" strike="noStrike">
              <a:solidFill>
                <a:srgbClr val="000000"/>
              </a:solidFill>
              <a:latin typeface="Calibri"/>
            </a:endParaRPr>
          </a:p>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اجتماع الختامي</a:t>
            </a:r>
            <a:endParaRPr b="0" lang="en-US" sz="40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و الفرصة الأخيرة لفريق المرجعة لتعريف الجهة المراجع عليها بطبيعة مهنتهم داخل القسم وبقواعد قسم المراجعة الداخلية والمهنة بشكل عام</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يح الفرصة لبناء العلاقات الإيجابية مع إدارة الجهة المراجع عليها.</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نصح عادة بأن لا يتخلل الاجتماع أية مفاجآت وبأن يتم حل كل القضايا قبل ذلك.</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الاجتماع مختصراً على عرض ومناقشة عملية ونتائج المراجعة</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تواصل مع المستويات الإدارية العليا</a:t>
            </a:r>
            <a:endParaRPr b="0" lang="en-US" sz="4000" spc="-1" strike="noStrike">
              <a:solidFill>
                <a:srgbClr val="000000"/>
              </a:solidFill>
              <a:latin typeface="Calibri Light"/>
            </a:endParaRPr>
          </a:p>
        </p:txBody>
      </p:sp>
      <p:sp>
        <p:nvSpPr>
          <p:cNvPr id="44" name=""/>
          <p:cNvSpPr txBox="1"/>
          <p:nvPr/>
        </p:nvSpPr>
        <p:spPr>
          <a:xfrm>
            <a:off x="580680" y="1740960"/>
            <a:ext cx="11030040" cy="41180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من خلال تقارير + لقاءات دورية مع مدير قسم المراجعة الداخلية </a:t>
            </a:r>
            <a:endParaRPr b="0" lang="en-US" sz="28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واضيع التي تطرح على أعلى مستوى إداري العليا بشكل دوري تتضمن :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قسم المراجعة الداخلية (الاستراتيج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قسم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اجتماع الختامي</a:t>
            </a:r>
            <a:endParaRPr b="0" lang="en-US" sz="4000" spc="-1" strike="noStrike">
              <a:solidFill>
                <a:srgbClr val="000000"/>
              </a:solidFill>
              <a:latin typeface="Calibri Light"/>
            </a:endParaRPr>
          </a:p>
        </p:txBody>
      </p:sp>
      <p:sp>
        <p:nvSpPr>
          <p:cNvPr id="80" name=""/>
          <p:cNvSpPr txBox="1"/>
          <p:nvPr/>
        </p:nvSpPr>
        <p:spPr>
          <a:xfrm>
            <a:off x="580680" y="1955520"/>
            <a:ext cx="11030040" cy="3987720"/>
          </a:xfrm>
          <a:prstGeom prst="rect">
            <a:avLst/>
          </a:prstGeom>
          <a:noFill/>
          <a:ln w="0">
            <a:noFill/>
          </a:ln>
        </p:spPr>
        <p:txBody>
          <a:bodyPr anchor="t">
            <a:normAutofit/>
          </a:bodyPr>
          <a:p>
            <a:pPr marL="228600" indent="-228600" algn="just" rtl="1">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لال الاجتماع الختامي</a:t>
            </a:r>
            <a:r>
              <a:rPr b="0" lang="en-US" sz="2800" spc="-1" strike="noStrike">
                <a:solidFill>
                  <a:srgbClr val="000000"/>
                </a:solidFill>
                <a:latin typeface="Calibri"/>
              </a:rPr>
              <a:t> </a:t>
            </a:r>
            <a:r>
              <a:rPr b="0" lang="ar-SA" sz="2800" spc="-1" strike="noStrike">
                <a:solidFill>
                  <a:srgbClr val="000000"/>
                </a:solidFill>
                <a:latin typeface="Calibri"/>
                <a:ea typeface="Arial"/>
              </a:rPr>
              <a:t> لابد من مراعاه:</a:t>
            </a:r>
            <a:endParaRPr b="0" lang="en-US" sz="28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زن في كتابة التقارير</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التركيز على النتائج السلبية في المهمة بل يجب الموازنة عن بذكر النتائج الإيجابية.</a:t>
            </a:r>
            <a:endParaRPr b="0" lang="en-US" sz="20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حاضرون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جب أن يشمل :مدير المراجعة - رئيس فريق المراجعة - مدير الإدارة التي تمت مراجعتها.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لإدارة هذه الجهة دعوة أي شخص سيكون مسئولا عن تنفيذ الإجراءات التصحيحية المقترحة، أو أنه سيكون متأثراً بها</a:t>
            </a:r>
            <a:endParaRPr b="0" lang="en-US" sz="20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جنب عملية المواجهة </a:t>
            </a:r>
            <a:r>
              <a:rPr b="0" lang="ar-SA" sz="2400" spc="-1" strike="noStrike">
                <a:solidFill>
                  <a:srgbClr val="000000"/>
                </a:solidFill>
                <a:latin typeface="Calibri"/>
                <a:ea typeface="Arial"/>
              </a:rPr>
              <a:t>: ولتحقيق ذلك يجب عليهم :</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العادات الحميدة للحوار مع الأطراف الأخرى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جنب استخدام العبارات الشخصية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جب أن يسعى منسوبي قسم المراجعة الداخلية إلى الحصول على وجهة نظر مشتركة مع المراجع عليهم لتأييد ملاحظاتهم وتوصياتهم. </a:t>
            </a:r>
            <a:endParaRPr b="0" lang="en-US" sz="2000" spc="-1" strike="noStrike">
              <a:solidFill>
                <a:srgbClr val="000000"/>
              </a:solidFill>
              <a:latin typeface="Calibri"/>
            </a:endParaRPr>
          </a:p>
          <a:p>
            <a:pPr marL="228600" indent="-228600" algn="just" rtl="1">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2" name=""/>
          <p:cNvSpPr txBox="1"/>
          <p:nvPr/>
        </p:nvSpPr>
        <p:spPr>
          <a:xfrm>
            <a:off x="580680" y="1999800"/>
            <a:ext cx="11030040" cy="45291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نواع التقارير</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تقرير المراجعة الداخلية</a:t>
            </a:r>
            <a:r>
              <a:rPr b="0" lang="en-US" sz="2400" spc="-1" strike="noStrike">
                <a:solidFill>
                  <a:srgbClr val="000000"/>
                </a:solidFill>
                <a:latin typeface="Calibri"/>
              </a:rPr>
              <a:t> </a:t>
            </a:r>
            <a:r>
              <a:rPr b="0" lang="ar-SA" sz="2400" spc="-1" strike="noStrike">
                <a:solidFill>
                  <a:srgbClr val="000000"/>
                </a:solidFill>
                <a:latin typeface="Calibri"/>
                <a:cs typeface="Arial"/>
              </a:rPr>
              <a:t>؟</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جب أن تكون محتويات التقرير موثقة وكافية لتكون قادرة على التعجيل بتفعيل الإجراءت التي يتضمنها من قبل إدارة الجهة المراجع علي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تقارير المراجعة الداخلية على مرحلتين/نوعين :</a:t>
            </a:r>
            <a:endParaRPr b="0" lang="en-US" sz="24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سودة التقرير.</a:t>
            </a:r>
            <a:endParaRPr b="0" lang="en-US" sz="20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رير النهائي.</a:t>
            </a:r>
            <a:endParaRPr b="0" lang="en-US" sz="20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4" name=""/>
          <p:cNvSpPr txBox="1"/>
          <p:nvPr/>
        </p:nvSpPr>
        <p:spPr>
          <a:xfrm>
            <a:off x="580680" y="1690560"/>
            <a:ext cx="11030040" cy="39880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ولا :مسودة التقرير</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ون عند الانتهاء من العمل الميداني وحصر الملاحظات والحصول على ردود من الجهة المراجع عليها حول الأمور التي لا يوجد اتفاق عليه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لخص فيها كل الملاحظات والنتائج والتوصيات الخاصة بعملية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غيير في مسودة التقرير:</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ناقشات داخل قسم المراجعة أو مع إدارة الجهة المراجع عليها حيث ان الاقتراحات لتعديل التقرير في هذه المرحلة يجب أن تكون مقبولة وتطرح للنقاش وتؤخذ بصدر رح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6" name=""/>
          <p:cNvSpPr txBox="1"/>
          <p:nvPr/>
        </p:nvSpPr>
        <p:spPr>
          <a:xfrm>
            <a:off x="580680" y="1690560"/>
            <a:ext cx="11030040" cy="39880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نقيح مسودة التقرير:</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أن يراجع ويوافق مدير على نسخه</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بد من وجود استعداد لقبول التغييرات في صياغة التقرير وأي اقتراحات أخرى قد تكون مناسبة ما دامت لا تؤثر على: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فكار الرئيسة</a:t>
            </a:r>
            <a:endParaRPr b="0" lang="en-US" sz="20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هتمامات قسم المراجعة الداخلية</a:t>
            </a:r>
            <a:endParaRPr b="0" lang="en-US" sz="20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جراءات التصحيحي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رفع التقارير</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ردود الإدارة</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ل الاجتماع الختامي يتم مناقشة جميع الملاحظات مع إدارة الجهة المرجع عليها وبناءاً عليه قد يتم أخذ بعض الردود خلال الاجتماع</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لى مدير المراجعة التأكد من أن جميع الردود قد تم توثيقها وبناء عليه يمكن إرسال مسودة التقرير إلى إدارة الجهة المراجع عليها متضمناً الردود التي حصل عليها فريق المراجعة خلال الاجتماع الختامي </a:t>
            </a:r>
            <a:r>
              <a:rPr b="0" lang="ar-SA" sz="2400" spc="-1" strike="noStrike" u="sng">
                <a:solidFill>
                  <a:srgbClr val="000000"/>
                </a:solidFill>
                <a:uFillTx/>
                <a:latin typeface="Calibri"/>
                <a:cs typeface="Arial"/>
              </a:rPr>
              <a:t>أو</a:t>
            </a:r>
            <a:r>
              <a:rPr b="0" lang="ar-SA" sz="2400" spc="-1" strike="noStrike">
                <a:solidFill>
                  <a:srgbClr val="000000"/>
                </a:solidFill>
                <a:latin typeface="Calibri"/>
                <a:ea typeface="Arial"/>
              </a:rPr>
              <a:t> يرسل التقرير بلا أي رد لتقوم الإدارة في الجهة المراجع عليها بالرد بعد الدراسة. </a:t>
            </a:r>
            <a:endParaRPr b="0" lang="en-US" sz="2400" spc="-1" strike="noStrike">
              <a:solidFill>
                <a:srgbClr val="000000"/>
              </a:solidFill>
              <a:latin typeface="Calibri"/>
            </a:endParaRPr>
          </a:p>
          <a:p>
            <a:pPr marL="228600" indent="-228600" algn="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0"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ثل التقرير النهائي المنتج الأساسي لعملية المراجعة ويجب أن يحفظ في ملف أوراق العمل.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2" name=""/>
          <p:cNvSpPr txBox="1"/>
          <p:nvPr/>
        </p:nvSpPr>
        <p:spPr>
          <a:xfrm>
            <a:off x="580680" y="2000160"/>
            <a:ext cx="11030040" cy="367848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كلة تقرير المراجعة الداخلية النهائي الأكثر شيوع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صفحة غلاف التقرير النهائي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نوان التقرير والجهة المقدم إليها التقرير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دم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خص التنفيذي</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خلفية عن مهمة المراجع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هدف والنطاق</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احظات والتوصيات وردود الادارة</a:t>
            </a:r>
            <a:endParaRPr b="0" lang="en-US" sz="2000" spc="-1" strike="noStrike">
              <a:solidFill>
                <a:srgbClr val="000000"/>
              </a:solidFill>
              <a:latin typeface="Calibri"/>
            </a:endParaRPr>
          </a:p>
          <a:p>
            <a:pPr marL="304920" indent="-30492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4"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غيرات التي تطرأ على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رير المراجعة النهائي هو من مسؤولية مدير قسم المراجعة الداخلية لذا لا يجب إجراء أي تغيير على التقرير إلا في ظروف استثنائية وبعد الحصول على موافقة خطية مسبقة من مدير قسم المراجع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جب توثيق الموافقة الخطية وحفظها في ملف أوراق عمل المهم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6"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سليم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رسال نسخة من تقرير المراجعة النهائي إلى الجهة المراجع عليها لتبليغها بالنتائج والتوصيات</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طلب منها الرد خلال مدة معقولة من تاريخ التسليم (مثال ثلاثين يوم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8"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تابعة التقرير:</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بد من عملية المتابعة التي تحدد ما إذا كان قد تم تفعيل الإجراءات التصحيحية المناسبة بحسب ما ورد في تقرير ملاحظات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م عملية المتابعة من خلال التأكد من استلام الرد على تقرير المراجعة خلال المدة المحد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ذا لم يتم استلام الرد خلال المدة المحددة يتم رفع الأمر إلى المستوى الإداري الأعلى من الجهة المراجع عليها فإن تأخر الرد مرة أخرى أو اعترض المستوى الإداري الأعلى فيجب رفع الأمر إلى المسئول الأول بالجه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إعداد ورفع تقارير المراجعة الداخلية</a:t>
            </a:r>
            <a:endParaRPr b="0" lang="en-US" sz="40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الانتهاء من تنفيذ عملية المراجعة وتنفيذ جميع الإجراءات المخططة وتجميع القدر الكافي من الأدلة تبدأ مرحلة أخرى هي مرحلة إعداد تقرير المراجع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قسم المراجعة الداخلية تقديم تقرير:</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قب الانتهاء من كل مهمة مراجع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رير ربع سنوي عن ما تم تنفيذه خلال الربع المنقضي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رير سنوي يعكس نتائج نشاط المراجعة خلال السنة المنته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ديم تقرير متى دعت الحاجة إلى ذلك</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حتوى هذه التقارير تعتمد بالدرجة الأولى على النتائج التي يتم التوصل إليها من تنفيذ مهام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ي تقرير هو الأساس في إعداد باقي التقاري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100"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عايير اكتمال تقارير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وضوع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دق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وح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يجاز</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ناء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كتما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صيغة المناسبة للفع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وقيت المناس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102" name=""/>
          <p:cNvSpPr txBox="1"/>
          <p:nvPr/>
        </p:nvSpPr>
        <p:spPr>
          <a:xfrm>
            <a:off x="580680" y="1614600"/>
            <a:ext cx="11030040" cy="48513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قارير المراجعة الداخلية لأطراف خارج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م يتم تحديد تقارير معينة للاستخدام الخارج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قسم المراجعة الداخلية ألزمت بالتعاون التام مع بعض الجهات الرقابية والإشرافية وذلك بوضع كافة البيانات والإيضاحات والنتائج التي تم التوصل اليها للمساعدة في أداء مهمة الإشراف والرقابة التي تقوم بها تلك الجهات</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جهات المعنية بالإشراف والرقابة على الجهات الحكوم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قبين الماليين التابعين لوزارة المال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قبي الحسابات التابعين لديوان المراقبة العام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قبي الحسابات من المراجعين الخارجيين.</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قبين والمسئولين التابعين لهيئة الرقابة والتحقيق</a:t>
            </a:r>
            <a:endParaRPr b="0" lang="en-US" sz="2000" spc="-1" strike="noStrike">
              <a:solidFill>
                <a:srgbClr val="000000"/>
              </a:solidFill>
              <a:latin typeface="Calibri"/>
            </a:endParaRPr>
          </a:p>
          <a:p>
            <a:pPr marL="228600" indent="-22860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 </a:t>
            </a:r>
            <a:endParaRPr b="0" lang="en-US" sz="44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عروض الأستاذة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هية المراجعة الداخلية – نايف آل خليف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ساسيات التدقيق الداخلي- </a:t>
            </a:r>
            <a:r>
              <a:rPr b="0" lang="en-US" sz="2800" spc="-1" strike="noStrike">
                <a:solidFill>
                  <a:srgbClr val="000000"/>
                </a:solidFill>
                <a:latin typeface="Calibri"/>
              </a:rPr>
              <a:t>PRC</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إعداد تقرير المراجعة بشكل جيد يتطلب الأمر تجهيز التال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قوائم الملاحظات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ذكرات الميدا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قوائم الملاحظات</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قائمة الملاحظات </a:t>
            </a:r>
            <a:r>
              <a:rPr b="0" lang="ar-SA" sz="2400" spc="-1" strike="noStrike" u="sng">
                <a:solidFill>
                  <a:srgbClr val="000000"/>
                </a:solidFill>
                <a:uFillTx/>
                <a:latin typeface="Calibri"/>
                <a:cs typeface="Arial"/>
              </a:rPr>
              <a:t>قبل</a:t>
            </a:r>
            <a:r>
              <a:rPr b="0" lang="ar-SA" sz="2400" spc="-1" strike="noStrike">
                <a:solidFill>
                  <a:srgbClr val="000000"/>
                </a:solidFill>
                <a:latin typeface="Calibri"/>
                <a:ea typeface="Arial"/>
              </a:rPr>
              <a:t> إصدار مسودة التقرير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ضمن مرجعاً لأوراق العمل، بالإضافة إلى مرجع لخطوات برنامج المراجعة ذات العلاق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غرض استخدامه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تلخيص كل الملاحظات التي تم ملاحظتها من قبل كل عضو في فريق المراجعة </a:t>
            </a:r>
            <a:r>
              <a:rPr b="0" lang="ar-SA" sz="2000" spc="-1" strike="noStrike" u="sng">
                <a:solidFill>
                  <a:srgbClr val="000000"/>
                </a:solidFill>
                <a:uFillTx/>
                <a:latin typeface="Calibri"/>
                <a:cs typeface="Arial"/>
              </a:rPr>
              <a:t>قبل</a:t>
            </a:r>
            <a:r>
              <a:rPr b="0" lang="ar-SA" sz="2000" spc="-1" strike="noStrike">
                <a:solidFill>
                  <a:srgbClr val="000000"/>
                </a:solidFill>
                <a:latin typeface="Calibri"/>
                <a:ea typeface="Arial"/>
              </a:rPr>
              <a:t> الانتهاء من عمل المذكرات الميدان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ستخدم كوسيلة للرقابة تضمن أن كل المذكرات الميدانية والملاحظات الأساسية قد تم الحصول عليها والإبلاغ عنها.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ذكرات الميدان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لتوثيق الملاحظات التي تم اكتشافها خلال فترة تنفيذ مهمة المراجعة</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ا الفرق بينها و بين أوراق العمل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4" name=""/>
          <p:cNvSpPr txBox="1"/>
          <p:nvPr/>
        </p:nvSpPr>
        <p:spPr>
          <a:xfrm>
            <a:off x="742680" y="1690200"/>
            <a:ext cx="11030040" cy="39927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ملاحظات</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المراجعة هي وصف للظروف أو الأفعال التي وجدت على غير الطريقة التي يجب أن تكون عليه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مكن تصنيفها الى ثلاثة أنواع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تم انجازها ولم يكن من المطلوب القيام ب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كان من الواجب تنفيذها ولكن لم يتم تنفيذ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وتصرفات تم انجازها بصورة لا تتفق مع مقتضيات العمل</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6" name=""/>
          <p:cNvSpPr txBox="1"/>
          <p:nvPr/>
        </p:nvSpPr>
        <p:spPr>
          <a:xfrm>
            <a:off x="580680" y="1690560"/>
            <a:ext cx="11030040" cy="418176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ناصر ملاحظات المراجعة</a:t>
            </a:r>
            <a:r>
              <a:rPr b="0" lang="ar-SA" sz="2800" spc="-1" strike="noStrike">
                <a:solidFill>
                  <a:srgbClr val="000000"/>
                </a:solidFill>
                <a:latin typeface="Calibri"/>
                <a:ea typeface="Arial"/>
              </a:rPr>
              <a:t>:</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معايير</a:t>
            </a:r>
            <a:r>
              <a:rPr b="0" lang="ar-SA" sz="1800" spc="-1" strike="noStrike">
                <a:solidFill>
                  <a:srgbClr val="000000"/>
                </a:solidFill>
                <a:latin typeface="Calibri"/>
                <a:ea typeface="Arial"/>
              </a:rPr>
              <a:t>: ما الذي يجب أن يكون</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حالات</a:t>
            </a:r>
            <a:r>
              <a:rPr b="0" lang="ar-SA" sz="1800" spc="-1" strike="noStrike">
                <a:solidFill>
                  <a:srgbClr val="000000"/>
                </a:solidFill>
                <a:latin typeface="Calibri"/>
                <a:ea typeface="Arial"/>
              </a:rPr>
              <a:t>: ما الموجود فعلاً</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أسباب</a:t>
            </a:r>
            <a:r>
              <a:rPr b="0" lang="ar-SA" sz="1800" spc="-1" strike="noStrike">
                <a:solidFill>
                  <a:srgbClr val="000000"/>
                </a:solidFill>
                <a:latin typeface="Calibri"/>
                <a:ea typeface="Arial"/>
              </a:rPr>
              <a:t>:  لماذا حصلت مثل تلك الحالة</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تأثير</a:t>
            </a:r>
            <a:r>
              <a:rPr b="0" lang="ar-SA" sz="1800" spc="-1" strike="noStrike">
                <a:solidFill>
                  <a:srgbClr val="000000"/>
                </a:solidFill>
                <a:latin typeface="Calibri"/>
                <a:ea typeface="Arial"/>
              </a:rPr>
              <a:t>:  الفرق والأهمية بين ما الموجود فعلاً وما الذي يجب أن يكون</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توصية</a:t>
            </a:r>
            <a:r>
              <a:rPr b="0" lang="ar-SA" sz="1800" spc="-1" strike="noStrike">
                <a:solidFill>
                  <a:srgbClr val="000000"/>
                </a:solidFill>
                <a:latin typeface="Calibri"/>
                <a:ea typeface="Arial"/>
              </a:rPr>
              <a:t>:  ما هو الإجراء الذي يجب اتخاذه</a:t>
            </a:r>
            <a:endParaRPr b="0" lang="en-US" sz="18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عايـير: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مجموعة القواعد والأنظمة التي على أساسها يقوم فريق المراجعة الداخلية بتقييم أداء الجهة المراجع عليها.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ثال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 يمكن معرفه "الوضع النموذج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kayan albalawi</cp:lastModifiedBy>
  <dcterms:modified xsi:type="dcterms:W3CDTF">2017-04-08T17:18:15Z</dcterms:modified>
  <cp:revision>153</cp:revision>
  <dc:subject/>
  <dc:title>إعداد ورفع تقارير المراجعة الداخلية</dc:title>
</cp:coreProperties>
</file>