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79E50-396F-442B-B1D8-61192D19E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3DBA-327D-4D1F-B6FD-B9B6C3C1E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7841E-8632-471C-978B-FC0487EE1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D52D4-744C-4ACD-8DA4-717870352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9A56F21-5106-4A7D-8D8E-F3280FAC7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974939-6217-417E-A3C3-2A0A14A09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BA79AE-30DF-493B-8402-480F9B3E5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57DA32-6D12-4170-9C38-D25D73DBC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0E9813-EB89-40BB-8238-E71B07335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97B995-8752-427D-8CBA-C4535AE11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F65038-9B23-4DB9-B22A-7FC033712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0EE7-823C-4117-AEFA-2CA90CCC4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4BFF28-940A-4DF7-BF27-368CED374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1D70E7-73AE-4F48-A275-D223CCF97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8CAB11-0D1B-4B85-9E70-03F1A243B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FA2042-1320-4A7D-A0C1-582E53EDD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163115-A344-4FA2-8FD2-13473F5C5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8154E-3CA9-4FCA-BAF7-12AF360C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AC8F3-04B5-430D-9344-BD7F09425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5CE41-67F8-4ACE-8925-D0DAAA9BC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082A-02AB-4B20-9769-1D45ED472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D483-BED4-4F8E-8662-F420443C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84A6-9F8A-4952-92F5-7FFC90D6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C31E-C279-4F4F-B7FA-4C5F4C2B9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792B-5BD8-49B2-AD30-8E48F98BAD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7CCC-FA60-4444-B43C-9EFD5FF398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e3e3ff"/>
                </a:solidFill>
                <a:latin typeface="Arial"/>
              </a:rPr>
              <a:t>الفصل السادس :النقدية وأوراق القبض والمدينين</a:t>
            </a:r>
            <a:r>
              <a:rPr b="0" lang="en-US"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0" y="3886200"/>
            <a:ext cx="9144000" cy="24955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 في هذا الفصل على الموضوعات التالية</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النقدية ومافي حكمها</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أوراق القبض</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المدينين</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مخصص الديون المشكوك في تحصيلها</a:t>
            </a:r>
            <a:r>
              <a:rPr b="1" lang="ar-SA" sz="2400" spc="-1" strike="noStrike">
                <a:solidFill>
                  <a:srgbClr val="ffffff"/>
                </a:solidFill>
                <a:latin typeface="Arial"/>
              </a:rPr>
              <a:t> </a:t>
            </a:r>
            <a:r>
              <a:rPr b="1" lang="ar-SA" sz="2400" spc="-1" strike="noStrike">
                <a:solidFill>
                  <a:srgbClr val="ffffff"/>
                </a:solidFill>
                <a:latin typeface="Arial"/>
              </a:rPr>
              <a:t>.</a:t>
            </a:r>
            <a:endParaRPr b="0" lang="en-US" sz="2400" spc="-1" strike="noStrike">
              <a:solidFill>
                <a:srgbClr val="ffffff"/>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0" y="610920"/>
            <a:ext cx="8827920" cy="5641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03939920"/>
              </a:tabLst>
            </a:pPr>
            <a:r>
              <a:rPr b="1" lang="ar-SA" sz="2800" spc="-1" strike="noStrike">
                <a:solidFill>
                  <a:srgbClr val="ffffff"/>
                </a:solidFill>
                <a:latin typeface="Arial"/>
              </a:rPr>
              <a:t>أولا : النقديــــــــــــــــــــة</a:t>
            </a:r>
            <a:endParaRPr b="0" lang="en-US" sz="28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هي النقود الورقية والعملات المعدنية والشيكات وأوامر الدفع الآنية غير المقيدة بقيود زمنية</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تعتبر النقدية من أهم أصول المنشأة التي يجب المحافظة عليها لأنها أصل موجود منذ بدء نشاط المنشأة إلى تصفيتها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تنقسم النقدية إلى نوعين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1</a:t>
            </a:r>
            <a:r>
              <a:rPr b="0" lang="ar-SA" sz="2400" spc="-1" strike="noStrike">
                <a:solidFill>
                  <a:srgbClr val="ffffff"/>
                </a:solidFill>
                <a:latin typeface="Arial"/>
              </a:rPr>
              <a:t>-نقدية مقبوضة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هي النقدية التي يتم الحصول عليها من مبيعات نقدية أو متحصلات من المدينين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2</a:t>
            </a:r>
            <a:r>
              <a:rPr b="0" lang="ar-SA" sz="2400" spc="-1" strike="noStrike">
                <a:solidFill>
                  <a:srgbClr val="ffffff"/>
                </a:solidFill>
                <a:latin typeface="Arial"/>
              </a:rPr>
              <a:t>-نقدية مدفوعة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هي التي يتم دفعها وإما تكون مبالغ كبيرة مثل (مشتريات نقدية أو سداد الدائنين )</a:t>
            </a:r>
            <a:endParaRPr b="0" lang="en-US" sz="2400" spc="-1" strike="noStrike">
              <a:solidFill>
                <a:srgbClr val="ffffff"/>
              </a:solidFill>
              <a:latin typeface="Arial"/>
            </a:endParaRPr>
          </a:p>
          <a:p>
            <a:pPr algn="r" rtl="1">
              <a:tabLst>
                <a:tab algn="l" pos="0"/>
                <a:tab algn="l" pos="103939920"/>
              </a:tabLst>
            </a:pPr>
            <a:r>
              <a:rPr b="0" lang="ar-SA" sz="2400" spc="-1" strike="noStrike">
                <a:solidFill>
                  <a:srgbClr val="ffffff"/>
                </a:solidFill>
                <a:latin typeface="Arial"/>
              </a:rPr>
              <a:t>وإما تكون مبالغ صغيرة وهي التي يتم صرفها عن طريق صندوق المصروفات النثرية .</a:t>
            </a:r>
            <a:endParaRPr b="0" lang="en-US" sz="2400" spc="-1" strike="noStrike">
              <a:solidFill>
                <a:srgbClr val="ffffff"/>
              </a:solidFill>
              <a:latin typeface="Arial"/>
            </a:endParaRPr>
          </a:p>
          <a:p>
            <a:pPr algn="r">
              <a:tabLst>
                <a:tab algn="l" pos="0"/>
                <a:tab algn="l" pos="1039399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0" y="1922400"/>
            <a:ext cx="9144000" cy="3020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ن أنواع النقدية : صندوق المصروفات النقد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حتوي هذا الصندوق على مبالغ صغيرة يستدعي أمر صرفها بسرعة ولا تستحق أن تدفع بشيكات مثل صرف إكرامية  أوإيجار سيارة أجر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جراءات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يوضع مبلغ معين بعهدة موظف موثوق به يسمى (أمين صندوق المصروفات النثرية) في شكل سلفة يتولى الصرف منها وتسمى هذه العملية عملية إنشاء الصندوق للمصروفات النث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0" y="100476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33cccc"/>
                </a:solidFill>
                <a:latin typeface="Arial"/>
              </a:rPr>
              <a:t>من حـ / صندوق المصروفات النثر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إلى حـ / البنك  أوالصندوق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عندما تقارب السلفة على النهاية يطلب أمين الصندوق تعويضه من خلال تقديمة إقرار مفصلا عن ماتم صرفه فإذا تم تعويضه  لا بد من عمل قيد إستعاض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33cccc"/>
                </a:solidFill>
                <a:latin typeface="Arial"/>
              </a:rPr>
              <a:t>من مذكور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حـ / م إدار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حـ  /م بيعي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حـ   / م لوازم مكتب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cccc"/>
                </a:solidFill>
                <a:latin typeface="Arial"/>
              </a:rPr>
              <a:t>                          إلى حـ / البنك  أو الصندوق</a:t>
            </a:r>
            <a:r>
              <a:rPr b="0" lang="en-US" sz="2400" spc="-1" strike="noStrike">
                <a:solidFill>
                  <a:srgbClr val="33cccc"/>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سوية حساب البنك  (كشف حساب البنك وكيفية تسويته):</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رسل البنك عادة في نهاية كل شهر كشف حساب لكل صاحب حساب جاري لدى البنك ويتضمن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رصيد الحساب من واقع سجلات البنك أول الشهر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المبالغ التي سحبت من ذلك الحساب إما بشيكات حررها العميل أو نتيجة لمستندات حررها البنك للخصم من ذلك الحساب حسب الإتفاق مع العميل مثل فوائد البنكية المترتبة للبنك عن رصيد مدين للحساب الجاري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المبالغ المضافة لذلك الحساب نتيجة الإيداع قام بها صاحب الحساب أو قام بها طرف ثالث </a:t>
            </a:r>
            <a:endParaRPr b="0" lang="en-US" sz="2400" spc="-1" strike="noStrike">
              <a:solidFill>
                <a:srgbClr val="ffffff"/>
              </a:solidFill>
              <a:latin typeface="Arial"/>
            </a:endParaRPr>
          </a:p>
          <a:p>
            <a:pPr algn="r" rtl="1">
              <a:tabLst>
                <a:tab algn="l" pos="0"/>
                <a:tab algn="l" pos="6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رصيد الحساب آخر الشهر كما تظهره سجلات البنك</a:t>
            </a:r>
            <a:r>
              <a:rPr b="0" lang="ar-SA"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0" y="1920600"/>
            <a:ext cx="9144000" cy="3020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عندما يرد ذلك التقرير للمنشأة تتم مطابقته مع حساب البنك الظاهر في الأستاذ العام ويفترض تطابق الرصيدان إلا أنه يندر التطابق للأسباب التال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وجود شيكات حررتها المنشأة وسلمتها للمستفيد إلا أنه لم يتقدم للبنك لصرفها وبالتالي لم يتم خصمها من حساب المنشأة لدى البنك وتسمى شيكات قائم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وجود مبالغ أودعتها المنشأة في البنك وتأثرت بها سجلاتها إلا أنه تأخر ظهورها في كشف حساب البنك وتسمى ودائع بالطري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0" y="155340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وجود مبالغ أودعها طرف ثالث بحساب المنشأة أو حصلها البنك نيابة عن المنشأة وأودعها بحساب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وجود مصاريف بنكية خصمها البنك من حساب المنشأة ولم يصل إشعار الخصم للمنشأ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وجود أخطاء إما في حساب المنشأة لدى البنك تأثر بها كشف الحساب أووجود أخطاء بحساب البنك لدى المنشأة مما أدى إلى عدم تطابق الرصيد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ل هذة الأسباب دعت إلى ضرورة إعداد مذكرة تسوية بمقارنة كشف حساب البنك مع حساب البنك لدى سجلات المنشأة للوصول إلى تطابق الرصيدي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5T17:38:47Z</dcterms:created>
  <dc:creator>User</dc:creator>
  <dc:description/>
  <dc:language>en-US</dc:language>
  <cp:lastModifiedBy>User</cp:lastModifiedBy>
  <dcterms:modified xsi:type="dcterms:W3CDTF">2009-12-05T17:41:00Z</dcterms:modified>
  <cp:revision>2</cp:revision>
  <dc:subject/>
  <dc:title>الفصل السادس :النقدية وأوراق القبض والمدينين </dc:title>
</cp:coreProperties>
</file>