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92E-1A1B-4C9D-854D-B948545B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8C2-411F-46DD-855D-B7CC37DB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8B3C5-5DE0-47B3-90FA-0A4CA6ED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35E48-363A-40BA-904F-2CAFB794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55F05-3539-4785-8C10-931F2564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BD9E1-32C7-4883-9D7F-A343AF10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DAE80-4644-4461-900E-B4853EB2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B1AF6-53F0-4BB7-A29B-D923C96A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EDA16-D731-4F51-9B82-95D3FACC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F43E1-2E2E-40A9-9166-47829782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47910-F5CE-433B-9653-842C605B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AAF60-6649-44ED-A2B9-4BC2C117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941-4009-4BEA-86EE-BB2C3F0C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32879-4300-4308-83C1-60E2908E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D230B-078A-4D94-AE21-934F56C3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E8CEA-596B-4CAE-8BDA-0EAD16C5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D3BE0-059B-4A80-9B56-BF2466A5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86AFA-3B16-4524-89EA-BBFC33BE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35B25-D775-4709-A565-93AC0343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DD9B4-9F75-4A10-9E70-795B439D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90717-4255-4FD8-8BE3-8FFFDF38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B7D43-D656-4972-A924-88362594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7E75E-2F5F-46CC-AED4-6E8F925F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9FE-B9CB-4D21-A79B-2B1307A5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D6909-BED3-4741-B139-FD4D1F8C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53165-434A-4342-A287-A55EEC15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89A1C-9A6F-414A-AB70-00308400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C6A79-6111-472D-94CE-C41FC236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2861C-9426-49AC-82FA-A81E33F1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17397-7E0F-446F-B525-83EF102B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AF8D7-D89C-4197-AF6F-C9C2697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4531D-89D0-4BA7-9908-7052082A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0AECA-4981-4F34-BCB6-22F49B29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85C27-3FE3-44B5-9E6F-205CEDB6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235A-582A-4EF4-9E64-FDF04FB2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A9C8B-8D56-44DC-9182-07BFA70A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EB543-FE5B-4C17-8CF2-A08CB608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2268A-3301-4E0A-B616-89F89605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C0A84-B26F-44E8-8275-533467FC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E09B3-CFDC-4AFA-83EE-27D65DFE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AE9DF-38A9-4D09-9C3B-5BA20015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2B4C2-E5D5-400C-823E-EB381CBD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2E393-4E43-428A-8B1E-024A0D13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BB297-48D9-4ED0-9D07-C8D1F187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94764-1ED4-4ACE-AA63-240D0019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90B0-030E-4FA0-B129-8C5D3B59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CBA31-AA23-4567-B785-EE9AEA96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8A046-B53D-48B6-88FD-585EAC37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5F3DE-A57B-46F7-BA46-92A87E50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C729B-A463-4C5B-B95B-6BF62A1C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3D47F-6CA3-472A-B7B5-E63DE46A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6ED3-226F-4622-9ABC-67190FDD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20EF-2281-416A-9191-3EE06AEB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076F-C73F-4F92-8FAB-73B921EA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4E7C-019F-48F0-B0F8-04AE74FE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BCD8-BD4C-42E6-B9FA-AD1F4CDA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C2F-3972-4552-9981-F3626916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CB1E-E667-4B0A-82FB-A4DDD762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1E5C-9B53-4969-A999-08A1E83E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E370-AD9B-48CE-8631-1235EE93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1DF6-E315-484E-B819-FC906B0B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FC39-38C9-4DC7-A659-C054B43E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5ED37-B68B-44FA-8ED5-3FA1A1B9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F84E-CE41-463D-ADD6-7826FA9A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D4CC-AB3C-4886-A7BD-A89E2B1D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4BE82-AA75-452F-B5E3-027F91FE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5AF15-E5EB-4564-899A-20E32798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739-4A9D-4D96-BD10-855A5826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AEC9-2EEF-476C-9A54-6C0D87DC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E1FD8-B516-4C2F-8670-0859C964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28EEA-AD59-463B-AA22-0E18211F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5E01D-8B6F-47FF-A8BF-9C7FE4B5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14586-C52C-4F75-8897-278A0206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F1CB-28BE-4030-98DB-FB4C0AED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F8BB-9D25-4ACD-B711-267EDD70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17EB6-0093-48D3-ABDB-F2F88BF4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5DAB1-71C0-46A6-9CB3-DAAC687D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4AA3-5123-40CC-B594-3625DBF0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53E-B755-43F6-84D8-1CA792A6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E399F-1503-4518-A15C-81D9EBE8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887E9-19DA-4234-B3C2-0E53B5A4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6043F-D370-4F39-A597-50FA8FE8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1F4E4-1B1C-495D-B866-9E4F6DEB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51D78-1906-4E99-AFCC-5AD297C4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DF8E6-BF6D-452A-B426-5DFDB593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DAEF3-04F7-40B1-84C2-FA0B4F0C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4521C-904C-44B8-84A3-05A58BA6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0864C-563C-4260-97D5-141C235A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B8813-73C8-4BAD-9F51-29C5DC1D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94C-A4D6-44E5-BC1C-033FF841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C6FA7-3C4F-4C2D-A090-F0C1CBE3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810AA-5AD3-4657-8A4B-D444FFE0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8407D-51A5-4A02-A667-B2148039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0B0A9-712C-4927-BCA5-0F5CFB93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2B84E-6AAF-46E2-9DB9-3B0337EE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C0C3C-65AE-40B5-93CF-E64FEAB0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23C6E-4D9E-44B1-BC04-33A2DD5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4ADE4-AC2D-4BDE-A8BE-889EBE34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5CCC7-3FDC-43B4-880F-04E9C1DB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BAB37-EC15-4019-B016-32E75230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C16-9CAD-42EB-8142-C06BFE5F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CBD2B-B2A1-4D0E-8F42-EEA2F291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B9ADE-C1DA-476B-B10E-27BF9D6D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EBD5E-EE2A-46E4-90C7-EA34E272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0884E-FD44-4D8A-9E8E-C1B3F53C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74FED-F4AB-4BC9-9B44-3A4D4650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AEA32-5180-4156-9B28-1BD18C7C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5F53C-D4D6-4C5B-A0F1-3E3B0E93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45E49-2704-4152-A881-20840352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1F5D-FF2F-4422-9ADC-D8D7EB08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857C2-7373-4C58-B20F-01B5261F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335-D9AB-43B5-8739-E65F88E3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77EC7-7C2B-4590-BE3F-E6F3F450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C7BB6-F3D8-44B5-BB74-32DE1CEB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BE9DF-02D6-4305-8DB2-96CB4FEE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DA68E-EFBF-4996-89F4-90039EE7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AB616-FFF3-4DA8-BA60-45AD9A33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D0D81-4EC5-4F23-873B-990E12DC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33E9F-0EE4-41EE-80F2-481C42DB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FA8F1-31AD-4904-9A05-B1985B87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DBB5F-91D5-4EF6-BE73-A0F0C7CB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E6993-E5D2-462F-ADE3-2498EB16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C12-DE28-4251-B5C8-413BA7BB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C76C8-11B6-4003-982A-FDC1CA8D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C93AB-2342-4EAF-A6A9-C2B711D3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28A06-47EF-4EB5-8E87-34269A44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46BD0-99D2-4B88-9C27-02FD518F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B6AE8-C0A1-4E0B-9ED3-AE3C5337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7DA8A-7598-44BE-8CC5-18B1B364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99B26-0878-49AF-86B1-810245EC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741C9-6BF0-4716-8960-F7CDE019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1ECCD-540E-4FDA-B505-A22D8E4F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F1092-4843-466B-9A30-7D5286C3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4B5-D689-41E8-9609-948E2D19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E3BBB-713C-4C8D-A323-F767DA69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11197-7FFE-4F22-A0DF-3A22C36F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896AB-F3DE-4B6C-B624-3DD2EE0C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C4819-E223-468C-A447-69A14A74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B973D-DD58-488A-8CA3-91FEA0DA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2E5C3-3690-4F03-9D49-C280531E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25EA5-D1A3-4AB4-93A9-1B4160F0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9C8CC-D7C4-4427-BCD5-409F9042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EBAD9-4249-4CB0-B10A-97EA2E49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82361-D429-46CA-9A54-D759B28F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D761-F411-4A36-91BB-A57ED8BC2E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FF97-4E55-4809-A5AE-99EA1E5647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4E3D-399B-4DBC-B707-50FB6B566E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E04B-F2FA-4A2E-B5E5-B27C720E19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F2EF-95C3-4BD1-A13E-1A0D2E5207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9E72-1E75-46E8-BCE9-E69EEBE6BA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D3DD-6B57-4A12-A844-EFDD1B8DDF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43DF-FB12-48AA-B651-0829433966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EE10-9BAD-421C-A0FB-BEBCE16BAE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DC10-CD72-4C16-997F-3801CF87E5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F06B-F41A-4947-B5BD-53DA087C27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354F-D1B2-44FA-A33B-FB6A98D8AA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1908000" y="1341360"/>
            <a:ext cx="5443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ؤسسات تجارة التجزئ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8"/>
          <p:cNvSpPr/>
          <p:nvPr/>
        </p:nvSpPr>
        <p:spPr>
          <a:xfrm>
            <a:off x="857160" y="500040"/>
            <a:ext cx="764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هي كل العمليات والأنشطة التسويقية المرتبطة بشراء المنتجات لإشباع حاجات المستهلكين النهائيين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8"/>
          <p:cNvSpPr/>
          <p:nvPr/>
        </p:nvSpPr>
        <p:spPr>
          <a:xfrm>
            <a:off x="684360" y="625320"/>
            <a:ext cx="77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مؤسسات التجزئة نحو المنت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جميع والتصني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خدمات مابعد الب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م المعلوم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ب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ز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مساعدة الموردين الصغ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684360" y="6253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مؤسسات التجزئة نحو الزبو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وفير احتياجات المستهلكين من السلع والخدمات في المكان المنا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وفير الاحتياجات من السلع والخدمات في الوقت المنا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وفير الاحتياجات من السلع والخدمات بالشراء بكميات صغي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م خدمات مابعد الب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مساعدة المستهلكين على الشراء بالتقسي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1285920" y="189000"/>
            <a:ext cx="657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مقومات مؤسسات متاجر التجزئة الناجح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ختيار الموقع المنا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ختيار السلع المنا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تنظيم الداخلي للمتاج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4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ختيار رجال البيع الاكف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5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جذب الزبائ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6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احتفاظ بنظام السجل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596960" y="295200"/>
            <a:ext cx="609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وامل المؤثرة على نمو وتطور مؤسسات متاج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900000" y="1357200"/>
            <a:ext cx="745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ffff"/>
                </a:solidFill>
                <a:latin typeface="Arial"/>
                <a:ea typeface="AL-Mohanad Bold"/>
              </a:rPr>
              <a:t>      </a:t>
            </a:r>
            <a:r>
              <a:rPr b="0" lang="ar-SA" sz="2800" spc="-1" strike="noStrike">
                <a:solidFill>
                  <a:srgbClr val="0d0d0d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611280" y="1495440"/>
            <a:ext cx="7993080" cy="51483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عوامل البيئ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عوامل الاقتصادية والاجتماع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عوامل التكنولوج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نواع مؤسسات متاج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ounded Rectangle 2"/>
          <p:cNvSpPr/>
          <p:nvPr/>
        </p:nvSpPr>
        <p:spPr>
          <a:xfrm>
            <a:off x="934920" y="1341360"/>
            <a:ext cx="7740720" cy="551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متاجر التجزئة الصغيرة المستق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تاجر التجزئة الكبيرة المتكام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ؤسسات الاستهلاكية والجمعيات التعا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تاجر السوبر مارك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متاجر بيوت الخص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تاجر التجزئة المختلط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تاجر المتخصص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نواع مؤسسات متاج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ounded Rectangle 2"/>
          <p:cNvSpPr/>
          <p:nvPr/>
        </p:nvSpPr>
        <p:spPr>
          <a:xfrm>
            <a:off x="934920" y="1341360"/>
            <a:ext cx="7740720" cy="551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متاجرالبيع بالبريد الكتالو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طواف على المناز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بيع بالهات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بيع الاوتوماتيك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نماذج المتطورة لمتاجر التجزئة السلاسل التطوع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39640" y="148428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اختيار الموفق للاسواق المستهدفة وتطوير المزيج التسويقي المناسب 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موقف التنافسي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تحديات في نشاط التجزئة ( البيئة )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Lucida Sans Unicode"/>
              </a:rPr>
              <a:t>ادارة مؤسسات متاجر التجزئة</a:t>
            </a:r>
            <a:endParaRPr b="1" lang="en-US" sz="4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User</cp:lastModifiedBy>
  <dcterms:modified xsi:type="dcterms:W3CDTF">2017-11-08T06:51:50Z</dcterms:modified>
  <cp:revision>910</cp:revision>
  <dc:subject/>
  <dc:title>الشريحة 1</dc:title>
</cp:coreProperties>
</file>