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D18-9F84-4E54-BC83-724C9DFA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8A7-99E1-4B9A-A952-EA55CD64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AEC79-1D75-4344-9592-85161D19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C5747-E67B-4394-925E-A475B49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AF2B4-5673-405F-8B3A-6B071C6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7204F-B5E4-42A7-B039-446936C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B659C-D49B-44A6-B288-5192F7CC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735E6-CEB3-49CC-A77D-68BEBBC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9FEC-2444-41BE-8FC4-1B5A471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8DB8C-16B6-492E-82E3-58B9E181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4E53E-82F9-4DC5-B8D6-91BEBD34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64D66-655D-4AFF-A8C1-1998DAB8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983-6ECE-4CA9-9C40-91C3E015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49E0F-24B3-4E7E-B8E4-6AFCC05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3A89F-D064-4AD9-8311-C8C5CCA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6C4C7-BA6B-4179-9CC3-6D181B0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1FAA6-D756-4967-BC0E-408AFC86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9D8E6-E798-49C8-9FBC-A6934F5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4591A-634D-415C-AFE8-0F1C6C6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14E45-3D0F-44F7-BD04-85261F0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62625-0042-47C9-AE94-E0961DA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E61A0-2A63-4988-B45A-2CCCB3A6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ED1F8-B45A-41B7-AC6A-98CD456E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640-E347-4A62-9578-5FFB346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72580-5728-4CB0-B91B-CE4A3EE7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E03A8-7897-4953-80C7-6C8218DE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C73A3-747B-44B5-A396-BECC5CEC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8C04-20AD-4325-9151-A732034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4F4B-EA7A-408F-8A80-4F0021C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A5555-0E68-48C0-8D74-C7D167E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055B-1194-4509-B3AE-FF50DED1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5600B-9BAB-416E-9715-F6F83C3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37E30-E521-4A6A-B864-FB680B6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F090-76A8-497F-8BBD-27BFFDF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A127-59B1-4357-BAD8-78FF266B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FCB6-4A1F-4901-80D3-8BD3101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CF639-44A6-486A-AAF1-4972102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430C3-A12E-40B9-9DE1-FB570F8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2D213-F065-499C-ACE4-16059E01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17356-8D7D-44C6-B234-4927422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AF0CC-2006-462F-B8BE-C0BE123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8896-FF8B-43B4-8DFF-07B455E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9A25A-5DE9-4824-9708-7A0E8F2B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35F20-AFBD-44AD-9561-799FAB2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50B82-5AA7-42E8-8246-CAD5950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ABC4-EBE2-4D5B-AE90-1F794C6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9873B-72A1-425D-BFA2-542D492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13103-F5B4-40FC-AED4-036FF1B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13353-2DEE-462D-9AC8-1F5B6B3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C4345-1647-44D6-AB03-9303515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D6F3-EDA0-49E4-B3AC-8A3C5AE0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8817-4115-4CBC-A271-520BB93A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BD6F-3CF9-49DE-86E0-5EB719B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53AA-48B7-4198-BC47-62B25E2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8DB-2724-42B6-9826-B0F93F6F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360-882F-4783-A28E-FFFD3EE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75B-1108-4419-A538-BF5A82D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B1F7-1C9D-424C-B4BD-D64033B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6040-5292-4E73-A5CE-B5A41D9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6810-D794-4608-961F-2A47DB85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73F9-9CA3-4421-BEEB-E92615A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8C30-5FCF-413B-BE93-7EB2F7F1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F8AA-52F7-43E3-94A9-92D8F597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4905-026F-4169-B4C0-8CA482B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C19E-0B55-4502-88B1-B2D02244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C1FF-55CC-4A1C-A341-30B6C094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63F0-DEBA-4F30-9347-FEE5E40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55D-7C23-4342-B20C-A3BB2CFA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ED09-1DC2-44D6-88EC-F5D05680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4B42-0DD4-451E-A356-7D7DF7A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D500-928A-42F9-8D40-F622697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271D-A43F-4D57-B6BD-152D28A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DD63-5171-4A69-8C18-87EBA01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26BE-B891-4131-9197-A804D273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5C99-C66A-418F-9575-F097ECA7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250B-565F-4722-8D9A-CFAFBA4A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1D8B-26E2-43FD-82B9-216B6F1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F839-6740-4423-A3C7-6C7068A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B21-4718-42C0-822D-0857E92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2AA1-06AB-422F-81CC-36984B9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1C12-DE1A-4AAC-9E46-86B8563D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7CD7-0A62-4B66-B181-446349E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5530-E52D-4356-9FD1-31236C0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ACF9-4564-4215-95FD-0469FB8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1F07-A24C-44E0-A106-8FB093B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E925-F026-48AB-B8A1-7888E13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D7DD-BE14-4E40-A15F-B82BD657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455B-B7AE-42D5-82AA-EAC63DE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1EC4-2F76-40EA-B0CE-98740AC2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4F4-8012-4327-B19A-D7FEF62E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70EF-94D5-4302-B26E-2B3E508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A0DE-1EDF-483B-8F5D-5AB4E1D9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3C9D-3A9B-4886-91E7-53F33566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BBAC-67A1-47E5-83E4-36D12F2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8614-AEAE-4C4A-8BB5-96C9706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04CA-37E0-41EB-97C7-31D9C76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A791A-1A8A-4CDF-90B1-443C167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A0E1-47D0-474F-8985-B6FF5A7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D7A6-6C6F-4583-93AD-E8CD83FC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668B-4BBD-4FD4-84FA-3C7A213C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273-F651-46E9-8F29-EEA57A0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C07E-5BCE-41EB-B159-9EE0AF0A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F250E-5426-4CC1-8E57-71F25756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26BC-6478-46B1-88A2-9587EE7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C9F25-527F-4F61-9252-2C59693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E0EC-B5E4-4B70-804C-6A676B8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1C75-2785-4BF7-B1EA-198CB0F7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C469-763D-4E75-9BF2-5F9FF12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1201-98EB-46F4-9CF7-7AF1ABA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DE66-E7E3-4DFA-9D04-F8CCACA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EA1BA-D548-41A6-9577-9D81170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295-5E89-4599-9E23-5D99EE33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8A48-41CE-4000-B480-C2A00A47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C02C-4705-4473-866E-3DE3EAC2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1990-F269-46B4-94CC-54B799DB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9C2D-2F71-40FB-8118-ABC8685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4FC1-8374-4083-A186-B42C342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22EE-F1A6-450F-B485-BDED4A2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E3BB-9CC8-45FA-A174-59D4E8C7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F36C-B0F9-4E02-8D91-40DBEBB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34AE1-D554-4BB4-97C3-0BFDC79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4FCD-0E2A-4B40-956C-1347913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F38-F231-4931-AAA8-A4B3BBC6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0AF9C-6D27-4B79-B495-86E330B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2C25-62AA-475B-8B64-06F9176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4994-04D9-44F6-9315-B1236DF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7DF5-F277-479F-A1C9-071146FB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EC12-5761-45D6-9A52-9789F33D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8F58-D201-4FA1-9F2F-2CEE9DD2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BB56-2F6B-48F9-A65C-D608AB5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4DE5-B9B7-4EC1-8305-D9978B1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AE44-2CF4-4166-9DCD-47C48D2F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2AA0-928C-4823-8D9F-6E73BC9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04A-8CBE-4560-8048-7B19AD0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670B-7F47-469A-8F74-8B71E51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1E586-7C8A-407D-BDA1-92B087D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099E-0566-4E9D-9017-18486B5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3763-103F-4753-8730-319766B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9C176-AACA-40B9-9E32-8DF323A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90EB7-A839-4DC4-B6BC-1BAC2AAF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2FA2-09E3-436E-AFCF-23A9A4CA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66E6-ECA8-46DF-9A76-86BF125B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CCC96-118A-4C7A-A6D8-C93418D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ED1A9-C854-481A-A7F5-28428C5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1C5-82E5-4297-AB40-8510E3C24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8C2-5ECA-4C44-AF92-35D53C1F0F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478-6501-4715-81EF-309CCE0CF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A0C4-3FEE-42DC-BAE6-45E5D04099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909-FBF5-445F-A159-BC96A918CE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6E4-1F74-4961-88A4-BACA99C974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E5AA-7273-4391-A4A9-F8C7605AA5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044-DAB3-465F-97D2-A41BF4B227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B30B-C7CA-4792-96EA-F7641B555F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312-26D7-4550-ABDF-4F5911428A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10C-8888-4AC6-A07A-51AE22E16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3F0F-51FD-4C3C-9087-53DD37404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1908000" y="134136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تجزئ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كل العمليات والأنشطة التسويقية المرتبطة بشراء المنتجات لإشباع حاجات المستهلكين النهائيي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منت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جميع والتصن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ز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وردين الصغ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زب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حتياجات المستهلكين من السلع والخدمات في المكان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في الوقت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بالشراء بكميات صغي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ستهلكين على الشراء بالتقس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مقومات مؤسسات متاجر التجزئة الناج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موقع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سلع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نظيم الداخلي للمتاج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رجال البيع الاك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جذب الزبائ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احتفاظ بنظام السج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596960" y="295200"/>
            <a:ext cx="60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مؤثرة على نمو وتطور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بي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عوامل الاقتصادية والاجتماع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تكنولوج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التجزئة الصغيرة المستق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كبيرة المتكام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ؤسسات الاستهلاكية والجمعيات التعا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سوبر مارك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بيوت الخص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مختلط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تاجر المتخصص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البيع بالبريد الكتالو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طواف على المناز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بالهات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الاوتوماتيك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ماذج المتطورة لمتاجر التجزئة السلاسل التطوع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3964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اختيار الموفق للاسواق المستهدفة وتطوير المزيج التسويقي المناسب 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موقف التنافسي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تحديات في نشاط التجزئة ( البيئة )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متاجر التجزئ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1:50Z</dcterms:modified>
  <cp:revision>910</cp:revision>
  <dc:subject/>
  <dc:title>الشريحة 1</dc:title>
</cp:coreProperties>
</file>